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E00-C748-4379-92EC-567D0B68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FD7-D31C-4818-A3FA-7904CD1C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A9A-4E15-4DC9-BA38-B38E2072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739-0566-456E-AEC2-76AFFDB3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DADC-261B-4651-8948-FBCD7914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1C0E-6C3C-4466-9FD6-43E29F29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BDDF-FD6E-44AA-8C79-C8C2E631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3D29-860D-451C-A0EA-7BEE7C2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FEA6-AB87-436E-A8E7-06FB65CC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2595-1EE0-4FB2-BD31-B9C26B10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1DB1-D9E5-4EE3-9F91-7F0D2121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40B-1AE0-462E-93DD-F44B4B78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4908-F703-4181-BD72-3C375B3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0488-7F33-45B3-BF62-411FE5B2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72E6-BEB7-482A-B9FE-C3907AA9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6B0C-5A7C-42B9-B216-8AD33B40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21FF-C60A-4F7F-B667-588D5646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BF7C-BECF-4FC9-B385-5F8C3082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49DD-F566-4401-A82F-57FA7B6B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167B-6115-4192-A574-42C1E87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0779-E528-4A48-99BB-6176F4CF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CBD2-E722-4DF3-BFFF-814A64E7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784-D0B7-44D9-913B-834A6083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8FB8-5078-4C82-AD4E-674FCCB6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8481F-3E19-440F-9A64-9A60837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EE6E-8167-4ACC-A172-47B6423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2BA0-42BB-4E6C-BC04-7C41B55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ED20-3562-4CA8-8531-DD6FEC90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85F19-4EAE-4662-9675-170FF763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EAB7-DB40-4526-A36E-2FE59E68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ED46-0B48-45B3-9E21-F6AC67F0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C261-3F77-448B-9031-C34BCE4A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5053F-DDB8-4231-A2C8-30AC0F5E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A98-3360-4513-A6BA-3159AFBF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1F44-613B-40FC-802B-606009A1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47CA-5BAA-47F3-B36A-99474719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FC9E3-B06B-49B2-A476-62B0F9FD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8DC85-46F2-4EF1-A7E2-53DD9FB8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04D7F-B9FE-44D4-8E6C-94BB7399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847D-ED15-4EAD-94AB-89AC9FB8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E6C1-35C2-4604-8800-14F704F3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C114A-802B-421D-A5CE-4C471294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6B598-AA37-47F2-9CC3-991A5284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E81A0-8ED9-40A8-B212-84DC6315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E34-7FE6-4D3E-A798-D240DC1D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99026-F601-4B6A-93F5-E0BEE8FB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2C829-1327-4170-A209-C26AC72D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09838-FE3F-4252-9782-192D89BB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E72B-9C09-47A9-9485-95449346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83EBB-C3C4-47C7-A364-DB5EF338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921C8-7FD6-4837-837B-68906046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98347-63DE-47C7-A9FD-28E191D4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9B0C-1F24-426C-A2B0-37606005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5ACD-B07C-4FFC-922B-877CDF2B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B3928-AE2D-4095-8005-E42A6999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853-CDFB-43D2-80CF-71F0840B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B7E2-B874-4D47-851A-F45BCA64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D4C-5157-45B9-BEB9-3D345DEC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2AD-35A4-454E-ABE6-1A210AE5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F0E-75AB-46C5-8D62-F5FF81F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logotip.png"/>
          <p:cNvPicPr/>
          <p:nvPr/>
        </p:nvPicPr>
        <p:blipFill>
          <a:blip r:embed="rId3"/>
          <a:stretch/>
        </p:blipFill>
        <p:spPr>
          <a:xfrm>
            <a:off x="0" y="142920"/>
            <a:ext cx="12175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4128-351E-45C7-BD9D-342F7FF91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Рамка 6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7" name="Рамка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9" descr="logotip.png"/>
          <p:cNvPicPr/>
          <p:nvPr/>
        </p:nvPicPr>
        <p:blipFill>
          <a:blip r:embed="rId3"/>
          <a:stretch/>
        </p:blipFill>
        <p:spPr>
          <a:xfrm>
            <a:off x="0" y="142920"/>
            <a:ext cx="12175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6" name="Рамка 6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47" name="Рамка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Рисунок 8" descr="images.png"/>
          <p:cNvPicPr/>
          <p:nvPr/>
        </p:nvPicPr>
        <p:blipFill>
          <a:blip r:embed="rId5"/>
          <a:stretch/>
        </p:blipFill>
        <p:spPr>
          <a:xfrm>
            <a:off x="8072280" y="4000680"/>
            <a:ext cx="785880" cy="947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logotip.png"/>
          <p:cNvPicPr/>
          <p:nvPr/>
        </p:nvPicPr>
        <p:blipFill>
          <a:blip r:embed="rId6"/>
          <a:stretch/>
        </p:blipFill>
        <p:spPr>
          <a:xfrm>
            <a:off x="0" y="0"/>
            <a:ext cx="137016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D551-52A9-4F6A-B1CA-9CBF031FF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9" descr="logotip.png"/>
          <p:cNvPicPr/>
          <p:nvPr/>
        </p:nvPicPr>
        <p:blipFill>
          <a:blip r:embed="rId3"/>
          <a:stretch/>
        </p:blipFill>
        <p:spPr>
          <a:xfrm>
            <a:off x="0" y="142920"/>
            <a:ext cx="12175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3" name="Рамка 6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94" name="Рамка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8" descr="shkolnye-prinadlezhnosti.jpg"/>
          <p:cNvPicPr/>
          <p:nvPr/>
        </p:nvPicPr>
        <p:blipFill>
          <a:blip r:embed="rId5"/>
          <a:srcRect l="70877" t="25340" r="7750" b="40884"/>
          <a:stretch/>
        </p:blipFill>
        <p:spPr>
          <a:xfrm>
            <a:off x="142920" y="4214880"/>
            <a:ext cx="745920" cy="785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12DE-F9D1-4F62-B7B9-D92060482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9" descr="logotip.png"/>
          <p:cNvPicPr/>
          <p:nvPr/>
        </p:nvPicPr>
        <p:blipFill>
          <a:blip r:embed="rId3"/>
          <a:stretch/>
        </p:blipFill>
        <p:spPr>
          <a:xfrm>
            <a:off x="0" y="142920"/>
            <a:ext cx="12175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9" name="Рамка 6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140" name="Рамка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Рисунок 8" descr="mainheader-img.png"/>
          <p:cNvPicPr/>
          <p:nvPr/>
        </p:nvPicPr>
        <p:blipFill>
          <a:blip r:embed="rId5"/>
          <a:stretch/>
        </p:blipFill>
        <p:spPr>
          <a:xfrm>
            <a:off x="7829640" y="4202280"/>
            <a:ext cx="1314360" cy="941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128A-7066-4955-AED1-50A8BAF596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9" descr="logotip.png"/>
          <p:cNvPicPr/>
          <p:nvPr/>
        </p:nvPicPr>
        <p:blipFill>
          <a:blip r:embed="rId3"/>
          <a:stretch/>
        </p:blipFill>
        <p:spPr>
          <a:xfrm>
            <a:off x="0" y="142920"/>
            <a:ext cx="12175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85" name="Рамка 6"/>
          <p:cNvGrpSpPr/>
          <p:nvPr/>
        </p:nvGrpSpPr>
        <p:grpSpPr>
          <a:xfrm>
            <a:off x="-60480" y="-36360"/>
            <a:ext cx="9259920" cy="5254560"/>
            <a:chOff x="-60480" y="-36360"/>
            <a:chExt cx="9259920" cy="5254560"/>
          </a:xfrm>
        </p:grpSpPr>
        <p:pic>
          <p:nvPicPr>
            <p:cNvPr id="186" name="Рамка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Рисунок 8" descr="2798947.png"/>
          <p:cNvPicPr/>
          <p:nvPr/>
        </p:nvPicPr>
        <p:blipFill>
          <a:blip r:embed="rId5"/>
          <a:stretch/>
        </p:blipFill>
        <p:spPr>
          <a:xfrm>
            <a:off x="8001000" y="4286160"/>
            <a:ext cx="1011240" cy="857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FE9A-DA16-4D63-87B2-C15753902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оект  «Корм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357440" y="3071520"/>
            <a:ext cx="47862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Выполни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Валиуллин Султан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ученик 4а клас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МБОУ «Гимназия №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им.Р. Фахретдин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этапная сбо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Содержимое 6" descr="WhatsApp Image 2017-03-06 at 10.57.50.jpeg"/>
          <p:cNvPicPr/>
          <p:nvPr/>
        </p:nvPicPr>
        <p:blipFill>
          <a:blip r:embed="rId1"/>
          <a:stretch/>
        </p:blipFill>
        <p:spPr>
          <a:xfrm>
            <a:off x="3298680" y="1200240"/>
            <a:ext cx="254664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Содержимое 3" descr="WhatsApp Image 2017-03-06 at 10.57.57.jpeg"/>
          <p:cNvPicPr/>
          <p:nvPr/>
        </p:nvPicPr>
        <p:blipFill>
          <a:blip r:embed="rId1"/>
          <a:stretch/>
        </p:blipFill>
        <p:spPr>
          <a:xfrm>
            <a:off x="2309760" y="120024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Содержимое 3" descr="WhatsApp Image 2017-03-06 at 10.57.58.jpeg"/>
          <p:cNvPicPr/>
          <p:nvPr/>
        </p:nvPicPr>
        <p:blipFill>
          <a:blip r:embed="rId1"/>
          <a:stretch/>
        </p:blipFill>
        <p:spPr>
          <a:xfrm>
            <a:off x="2309760" y="120024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Содержимое 3" descr="WhatsApp Image 2017-03-06 at 10.58.01.jpeg"/>
          <p:cNvPicPr/>
          <p:nvPr/>
        </p:nvPicPr>
        <p:blipFill>
          <a:blip r:embed="rId1"/>
          <a:stretch/>
        </p:blipFill>
        <p:spPr>
          <a:xfrm>
            <a:off x="2309760" y="120024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Содержимое 3" descr="WhatsApp Image 2017-03-06 at 10.58.03.jpeg"/>
          <p:cNvPicPr/>
          <p:nvPr/>
        </p:nvPicPr>
        <p:blipFill>
          <a:blip r:embed="rId1"/>
          <a:stretch/>
        </p:blipFill>
        <p:spPr>
          <a:xfrm>
            <a:off x="3298680" y="1200240"/>
            <a:ext cx="254664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мушка в сбо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Содержимое 3" descr="WhatsApp Image 2017-03-06 at 10.58.07.jpeg"/>
          <p:cNvPicPr/>
          <p:nvPr/>
        </p:nvPicPr>
        <p:blipFill>
          <a:blip r:embed="rId1"/>
          <a:stretch/>
        </p:blipFill>
        <p:spPr>
          <a:xfrm>
            <a:off x="3298680" y="1200240"/>
            <a:ext cx="254664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а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Содержимое 3" descr="WhatsApp Image 2017-03-06 at 10.58.08.jpeg"/>
          <p:cNvPicPr/>
          <p:nvPr/>
        </p:nvPicPr>
        <p:blipFill>
          <a:blip r:embed="rId1"/>
          <a:stretch/>
        </p:blipFill>
        <p:spPr>
          <a:xfrm>
            <a:off x="1285920" y="1214280"/>
            <a:ext cx="2544840" cy="3394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E:\фото ФЗ\WhatsApp Image 2017-03-06 at 10.58.10.jpeg"/>
          <p:cNvPicPr/>
          <p:nvPr/>
        </p:nvPicPr>
        <p:blipFill>
          <a:blip r:embed="rId2"/>
          <a:stretch/>
        </p:blipFill>
        <p:spPr>
          <a:xfrm>
            <a:off x="5143680" y="1214280"/>
            <a:ext cx="2500200" cy="33339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1T08:30:43Z</dcterms:created>
  <dc:creator>Lenovo</dc:creator>
  <dc:description/>
  <dc:language>en-US</dc:language>
  <cp:lastModifiedBy>Фируза</cp:lastModifiedBy>
  <dcterms:modified xsi:type="dcterms:W3CDTF">2017-03-06T07:23:34Z</dcterms:modified>
  <cp:revision>7</cp:revision>
  <dc:subject/>
  <dc:title>Слайд 1</dc:title>
</cp:coreProperties>
</file>