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555-0B63-4D20-A2CB-166B9AAB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004-42D9-4800-969A-BFD8BB29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278-BC35-45B8-8964-E5DCF512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4B0-FD96-4524-8D6C-EB31C3D0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3B1F-FAEC-4F40-B3D1-0F9EC2C7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45C2-BF4D-4958-975B-2021BDC5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3942-F4D8-4F44-96D4-0FD464A7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57C1-833B-41D5-8ECE-1FEDC68E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5CB9-2BF7-4A02-8621-78F78AE1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1376-F2DA-4430-B4E3-F8709FB3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2794-DDC6-4B48-B477-47574C65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06E-25A5-48CB-BD84-7ABA0673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C68B-8B11-45D8-8548-3442D454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E643-5BA3-4237-87BF-FFCEB06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DBD9-A1A7-4FFE-91A9-8B143EBD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DB8E-6E87-4124-A655-9671F11E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DEB3-82BE-48E5-A62C-A42DDD81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A85A-6AC5-4A70-9566-A8B686A3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4F82-EEB9-4472-ACBC-A2E96EC4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074A-C932-4DA1-9B9C-AB6FFD69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23F9-1700-40AA-A03C-FC4F3142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08B6-CF46-4927-8AEB-C35A34A2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BCC-5946-468E-B30D-E0D9389D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C5B1-CE8B-4EDE-AFE1-7968F225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2266-CD78-456E-ACE4-DA56AAD8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661A-C8BF-4A46-8B9A-7D2DC166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6CF32-7AB0-4D27-B204-EE498277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5D88-0955-4111-B245-5DB515F2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F782-D2BB-43F0-810B-866A7797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2912-95FA-4352-9725-CE5F6D13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7FE4-08E4-46E5-B4DC-525BB2D0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C4B6-6B83-4826-A91E-0635BED7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46C4-CA7B-476F-A57A-56613B20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C31-F21C-485A-A396-DCEC9FD4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00EA-9571-429B-B5EC-7395A599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1AF33-672A-4CAB-86BE-072F3F02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6631-62FD-4269-BADB-796DCB23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13C82-411B-469D-9C9F-8285C289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233D-0FD6-450A-9B36-6060435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4237-6019-42E5-9281-14273AFA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20B43-A7A2-4FD8-9CE4-0A327DF6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CACA2-FA92-4A4C-B2D9-39876BD3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F871-8F9C-4A12-946B-F2C2D1B4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FCA4-CF05-41FE-BAA7-136FA9E4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505-304B-4515-B71F-5EEA85CB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274BD-BCDC-490E-BCC7-4C48EF0C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CD625-438F-4692-BD33-F647E4D6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148A0-16C6-4314-A15F-9F45D764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7F5DF-23E0-45B5-90F8-5880E348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8309C-4D66-4ED0-9403-9BA67F4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02C3-0CD3-4F07-8548-F590DE82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2EBE-4334-4116-964C-264E5A34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64CD6-4685-4827-B37B-589D064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5A64-82B0-4F2A-A9A3-FFC5EC35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7E1F6-DCA9-42EB-BF34-F20D8D8F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929-E0E5-4356-80A8-A8C810EF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981C5-B7B4-4DD6-8CB2-086BD6E9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E1E-3362-40AD-8515-AF15AA1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7B0-0FC1-43D5-AF7D-2CD19342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800-2401-4A57-838C-DBFFA81E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logotip.png"/>
          <p:cNvPicPr/>
          <p:nvPr/>
        </p:nvPicPr>
        <p:blipFill>
          <a:blip r:embed="rId3"/>
          <a:stretch/>
        </p:blipFill>
        <p:spPr>
          <a:xfrm>
            <a:off x="0" y="142920"/>
            <a:ext cx="12175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6C77-27D9-4000-B19A-6EC05FCA0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Рамка 6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7" name="Рамка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9" descr="logotip.png"/>
          <p:cNvPicPr/>
          <p:nvPr/>
        </p:nvPicPr>
        <p:blipFill>
          <a:blip r:embed="rId3"/>
          <a:stretch/>
        </p:blipFill>
        <p:spPr>
          <a:xfrm>
            <a:off x="0" y="142920"/>
            <a:ext cx="12175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6" name="Рамка 6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47" name="Рамка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Рисунок 8" descr="images.png"/>
          <p:cNvPicPr/>
          <p:nvPr/>
        </p:nvPicPr>
        <p:blipFill>
          <a:blip r:embed="rId5"/>
          <a:stretch/>
        </p:blipFill>
        <p:spPr>
          <a:xfrm>
            <a:off x="8072280" y="4000680"/>
            <a:ext cx="785880" cy="947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logotip.png"/>
          <p:cNvPicPr/>
          <p:nvPr/>
        </p:nvPicPr>
        <p:blipFill>
          <a:blip r:embed="rId6"/>
          <a:stretch/>
        </p:blipFill>
        <p:spPr>
          <a:xfrm>
            <a:off x="0" y="0"/>
            <a:ext cx="137016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8E72-C25B-43A5-8130-14BEC742A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9" descr="logotip.png"/>
          <p:cNvPicPr/>
          <p:nvPr/>
        </p:nvPicPr>
        <p:blipFill>
          <a:blip r:embed="rId3"/>
          <a:stretch/>
        </p:blipFill>
        <p:spPr>
          <a:xfrm>
            <a:off x="0" y="142920"/>
            <a:ext cx="12175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3" name="Рамка 6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94" name="Рамка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8" descr="shkolnye-prinadlezhnosti.jpg"/>
          <p:cNvPicPr/>
          <p:nvPr/>
        </p:nvPicPr>
        <p:blipFill>
          <a:blip r:embed="rId5"/>
          <a:srcRect l="70877" t="25340" r="7750" b="40884"/>
          <a:stretch/>
        </p:blipFill>
        <p:spPr>
          <a:xfrm>
            <a:off x="142920" y="4214880"/>
            <a:ext cx="745920" cy="785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EA22-AEB4-403A-B83A-3978B59BB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9" descr="logotip.png"/>
          <p:cNvPicPr/>
          <p:nvPr/>
        </p:nvPicPr>
        <p:blipFill>
          <a:blip r:embed="rId3"/>
          <a:stretch/>
        </p:blipFill>
        <p:spPr>
          <a:xfrm>
            <a:off x="0" y="142920"/>
            <a:ext cx="12175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9" name="Рамка 6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140" name="Рамка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Рисунок 8" descr="mainheader-img.png"/>
          <p:cNvPicPr/>
          <p:nvPr/>
        </p:nvPicPr>
        <p:blipFill>
          <a:blip r:embed="rId5"/>
          <a:stretch/>
        </p:blipFill>
        <p:spPr>
          <a:xfrm>
            <a:off x="7829640" y="4202280"/>
            <a:ext cx="1314360" cy="941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B7CB-6CBE-40C1-BCF2-721B0F93C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9" descr="logotip.png"/>
          <p:cNvPicPr/>
          <p:nvPr/>
        </p:nvPicPr>
        <p:blipFill>
          <a:blip r:embed="rId3"/>
          <a:stretch/>
        </p:blipFill>
        <p:spPr>
          <a:xfrm>
            <a:off x="0" y="142920"/>
            <a:ext cx="12175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85" name="Рамка 6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186" name="Рамка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Рисунок 8" descr="2798947.png"/>
          <p:cNvPicPr/>
          <p:nvPr/>
        </p:nvPicPr>
        <p:blipFill>
          <a:blip r:embed="rId5"/>
          <a:stretch/>
        </p:blipFill>
        <p:spPr>
          <a:xfrm>
            <a:off x="8001000" y="4286160"/>
            <a:ext cx="1011240" cy="857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B0AD-92BD-4B6B-B45F-81294F8E8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оект  «Корм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357440" y="3071520"/>
            <a:ext cx="47862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Выполни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Валиуллин Султан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ученик 4а клас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МБОУ «Гимназия №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им.Р. Фахретдин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этапная сбо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Содержимое 6" descr="WhatsApp Image 2017-03-06 at 10.57.50.jpeg"/>
          <p:cNvPicPr/>
          <p:nvPr/>
        </p:nvPicPr>
        <p:blipFill>
          <a:blip r:embed="rId1"/>
          <a:stretch/>
        </p:blipFill>
        <p:spPr>
          <a:xfrm>
            <a:off x="3298680" y="1200240"/>
            <a:ext cx="254664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Содержимое 3" descr="WhatsApp Image 2017-03-06 at 10.57.57.jpeg"/>
          <p:cNvPicPr/>
          <p:nvPr/>
        </p:nvPicPr>
        <p:blipFill>
          <a:blip r:embed="rId1"/>
          <a:stretch/>
        </p:blipFill>
        <p:spPr>
          <a:xfrm>
            <a:off x="2309760" y="120024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Содержимое 3" descr="WhatsApp Image 2017-03-06 at 10.57.58.jpeg"/>
          <p:cNvPicPr/>
          <p:nvPr/>
        </p:nvPicPr>
        <p:blipFill>
          <a:blip r:embed="rId1"/>
          <a:stretch/>
        </p:blipFill>
        <p:spPr>
          <a:xfrm>
            <a:off x="2309760" y="120024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Содержимое 3" descr="WhatsApp Image 2017-03-06 at 10.58.01.jpeg"/>
          <p:cNvPicPr/>
          <p:nvPr/>
        </p:nvPicPr>
        <p:blipFill>
          <a:blip r:embed="rId1"/>
          <a:stretch/>
        </p:blipFill>
        <p:spPr>
          <a:xfrm>
            <a:off x="2309760" y="120024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Содержимое 3" descr="WhatsApp Image 2017-03-06 at 10.58.03.jpeg"/>
          <p:cNvPicPr/>
          <p:nvPr/>
        </p:nvPicPr>
        <p:blipFill>
          <a:blip r:embed="rId1"/>
          <a:stretch/>
        </p:blipFill>
        <p:spPr>
          <a:xfrm>
            <a:off x="3298680" y="1200240"/>
            <a:ext cx="254664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мушка в сбо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Содержимое 3" descr="WhatsApp Image 2017-03-06 at 10.58.07.jpeg"/>
          <p:cNvPicPr/>
          <p:nvPr/>
        </p:nvPicPr>
        <p:blipFill>
          <a:blip r:embed="rId1"/>
          <a:stretch/>
        </p:blipFill>
        <p:spPr>
          <a:xfrm>
            <a:off x="3298680" y="1200240"/>
            <a:ext cx="254664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а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Содержимое 3" descr="WhatsApp Image 2017-03-06 at 10.58.08.jpeg"/>
          <p:cNvPicPr/>
          <p:nvPr/>
        </p:nvPicPr>
        <p:blipFill>
          <a:blip r:embed="rId1"/>
          <a:stretch/>
        </p:blipFill>
        <p:spPr>
          <a:xfrm>
            <a:off x="1285920" y="1214280"/>
            <a:ext cx="2544840" cy="3394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E:\фото ФЗ\WhatsApp Image 2017-03-06 at 10.58.10.jpeg"/>
          <p:cNvPicPr/>
          <p:nvPr/>
        </p:nvPicPr>
        <p:blipFill>
          <a:blip r:embed="rId2"/>
          <a:stretch/>
        </p:blipFill>
        <p:spPr>
          <a:xfrm>
            <a:off x="5143680" y="1214280"/>
            <a:ext cx="2500200" cy="33339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1T08:30:43Z</dcterms:created>
  <dc:creator>Lenovo</dc:creator>
  <dc:description/>
  <dc:language>en-US</dc:language>
  <cp:lastModifiedBy>Фируза</cp:lastModifiedBy>
  <dcterms:modified xsi:type="dcterms:W3CDTF">2017-03-06T07:23:34Z</dcterms:modified>
  <cp:revision>7</cp:revision>
  <dc:subject/>
  <dc:title>Слайд 1</dc:title>
</cp:coreProperties>
</file>