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C2D-0C1F-486E-B4D9-493B2E03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D69-61B1-42B4-9487-BEE167A0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951-835F-4136-A03D-433FCCC5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BE1-B3C7-4704-909A-0B82791C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9B4-4703-4D3C-96F9-189948E6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F89-005C-44F6-B5C9-4FEC4532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B87-098C-45A3-B995-53205283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47C-6C57-474C-9288-487D20E4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F75-CE4D-4756-AEF8-E53F892E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DD1-44A8-4642-AA85-7754DB95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94B-5C01-4FEB-A990-1332D030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60C-724B-42A1-AD12-1EA367DC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A729-E01B-4C57-A057-4B7D852B4936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Дан круглый стадион его радиус равен 50 метров. Вопрос сколько метров равен стадион?"/>
          <p:cNvPicPr/>
          <p:nvPr/>
        </p:nvPicPr>
        <p:blipFill>
          <a:blip r:embed="rId1"/>
          <a:stretch/>
        </p:blipFill>
        <p:spPr>
          <a:xfrm>
            <a:off x="5102280" y="657360"/>
            <a:ext cx="3736800" cy="3770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468360" y="846000"/>
            <a:ext cx="4651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Окружность —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ножество точек плоскости, расположенных на заданном расстоянии от данной точк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220320" y="31399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Круг —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асть плоскости внутри окружност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5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По аналогии с окружностью объясните, что такое: а)радиус; б)…"/>
          <p:cNvPicPr/>
          <p:nvPr/>
        </p:nvPicPr>
        <p:blipFill>
          <a:blip r:embed="rId1"/>
          <a:stretch/>
        </p:blipFill>
        <p:spPr>
          <a:xfrm>
            <a:off x="4711680" y="639720"/>
            <a:ext cx="3809880" cy="38768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96720" y="1592280"/>
            <a:ext cx="435132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фера —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верхность, состоящая из всех точек пространства, расположенных на заданном расстоянии от данной точк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 1"/>
          <p:cNvSpPr/>
          <p:nvPr/>
        </p:nvSpPr>
        <p:spPr>
          <a:xfrm>
            <a:off x="5364000" y="1131840"/>
            <a:ext cx="2951280" cy="295272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2dcdb"/>
              </a:gs>
            </a:gsLst>
            <a:lin ang="5400000"/>
          </a:gradFill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Овал 2"/>
          <p:cNvSpPr/>
          <p:nvPr/>
        </p:nvSpPr>
        <p:spPr>
          <a:xfrm>
            <a:off x="5364000" y="2036880"/>
            <a:ext cx="2951280" cy="107928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Прямая соединительная линия 4"/>
          <p:cNvSpPr/>
          <p:nvPr/>
        </p:nvSpPr>
        <p:spPr>
          <a:xfrm flipH="1">
            <a:off x="6838560" y="2576520"/>
            <a:ext cx="147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Прямая соединительная линия 7"/>
          <p:cNvSpPr/>
          <p:nvPr/>
        </p:nvSpPr>
        <p:spPr>
          <a:xfrm flipH="1">
            <a:off x="5795640" y="1563840"/>
            <a:ext cx="2089080" cy="208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Овал 10"/>
          <p:cNvSpPr/>
          <p:nvPr/>
        </p:nvSpPr>
        <p:spPr>
          <a:xfrm flipV="1">
            <a:off x="6824520" y="2541600"/>
            <a:ext cx="76320" cy="76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Полилиния 13"/>
          <p:cNvSpPr/>
          <p:nvPr/>
        </p:nvSpPr>
        <p:spPr>
          <a:xfrm>
            <a:off x="5356080" y="2414520"/>
            <a:ext cx="2971800" cy="692280"/>
          </a:xfrm>
          <a:custGeom>
            <a:avLst/>
            <a:gdLst/>
            <a:ahLst/>
            <a:rect l="l" t="t" r="r" b="b"/>
            <a:pathLst>
              <a:path w="2971205" h="691520">
                <a:moveTo>
                  <a:pt x="72408" y="0"/>
                </a:moveTo>
                <a:cubicBezTo>
                  <a:pt x="39467" y="37306"/>
                  <a:pt x="6526" y="74612"/>
                  <a:pt x="970" y="119062"/>
                </a:cubicBezTo>
                <a:cubicBezTo>
                  <a:pt x="-4586" y="163512"/>
                  <a:pt x="14464" y="222250"/>
                  <a:pt x="39070" y="266700"/>
                </a:cubicBezTo>
                <a:cubicBezTo>
                  <a:pt x="63676" y="311150"/>
                  <a:pt x="98602" y="346868"/>
                  <a:pt x="148608" y="385762"/>
                </a:cubicBezTo>
                <a:cubicBezTo>
                  <a:pt x="198614" y="424656"/>
                  <a:pt x="247827" y="461962"/>
                  <a:pt x="339108" y="500062"/>
                </a:cubicBezTo>
                <a:cubicBezTo>
                  <a:pt x="430389" y="538162"/>
                  <a:pt x="565326" y="584200"/>
                  <a:pt x="696295" y="614362"/>
                </a:cubicBezTo>
                <a:cubicBezTo>
                  <a:pt x="827264" y="644524"/>
                  <a:pt x="992364" y="668337"/>
                  <a:pt x="1124920" y="681037"/>
                </a:cubicBezTo>
                <a:cubicBezTo>
                  <a:pt x="1257476" y="693737"/>
                  <a:pt x="1385271" y="689768"/>
                  <a:pt x="1491633" y="690562"/>
                </a:cubicBezTo>
                <a:cubicBezTo>
                  <a:pt x="1597996" y="691356"/>
                  <a:pt x="1655939" y="693737"/>
                  <a:pt x="1763095" y="685800"/>
                </a:cubicBezTo>
                <a:cubicBezTo>
                  <a:pt x="1870251" y="677863"/>
                  <a:pt x="1997251" y="669924"/>
                  <a:pt x="2134570" y="642937"/>
                </a:cubicBezTo>
                <a:cubicBezTo>
                  <a:pt x="2271889" y="615950"/>
                  <a:pt x="2465564" y="571500"/>
                  <a:pt x="2587008" y="523875"/>
                </a:cubicBezTo>
                <a:cubicBezTo>
                  <a:pt x="2708452" y="476250"/>
                  <a:pt x="2799733" y="417512"/>
                  <a:pt x="2863233" y="357187"/>
                </a:cubicBezTo>
                <a:cubicBezTo>
                  <a:pt x="2926733" y="296862"/>
                  <a:pt x="2954514" y="207962"/>
                  <a:pt x="2968008" y="161925"/>
                </a:cubicBezTo>
                <a:cubicBezTo>
                  <a:pt x="2981502" y="115888"/>
                  <a:pt x="2948164" y="90487"/>
                  <a:pt x="2944195" y="80962"/>
                </a:cubicBezTo>
              </a:path>
            </a:pathLst>
          </a:custGeom>
          <a:noFill/>
          <a:ln w="69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7867800" y="1133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6535440" y="2077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7461000" y="20937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5454360" y="35607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Прямоугольник 18"/>
          <p:cNvSpPr/>
          <p:nvPr/>
        </p:nvSpPr>
        <p:spPr>
          <a:xfrm>
            <a:off x="577800" y="135576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 — центр сфер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Прямоугольник 19"/>
          <p:cNvSpPr/>
          <p:nvPr/>
        </p:nvSpPr>
        <p:spPr>
          <a:xfrm>
            <a:off x="577800" y="2033640"/>
            <a:ext cx="381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 — радиус сферы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Прямоугольник 20"/>
          <p:cNvSpPr/>
          <p:nvPr/>
        </p:nvSpPr>
        <p:spPr>
          <a:xfrm>
            <a:off x="577800" y="2725560"/>
            <a:ext cx="39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C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— диаметр сферы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" name="Прямоугольник 21" descr=""/>
          <p:cNvPicPr/>
          <p:nvPr/>
        </p:nvPicPr>
        <p:blipFill>
          <a:blip r:embed="rId1"/>
          <a:stretch/>
        </p:blipFill>
        <p:spPr>
          <a:xfrm>
            <a:off x="450720" y="3352680"/>
            <a:ext cx="1670040" cy="7495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22"/>
          <p:cNvSpPr/>
          <p:nvPr/>
        </p:nvSpPr>
        <p:spPr>
          <a:xfrm flipH="1">
            <a:off x="6862680" y="1563840"/>
            <a:ext cx="1022400" cy="101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158760" y="2038320"/>
            <a:ext cx="4557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Шар радиуса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с центром в точке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—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ло, содержащее все точки пространства, расположенные от точки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на расстоянии, не превышающем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(включая О)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и не содержит других точек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6640" y="268200"/>
            <a:ext cx="3692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Шар —</a:t>
            </a: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ло, ограниченное сферо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38240" y="4495680"/>
            <a:ext cx="88563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ентр, радиус, диаметр сферы — центр, радиус, диаметр шар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64" name="Овал 14"/>
          <p:cNvGrpSpPr/>
          <p:nvPr/>
        </p:nvGrpSpPr>
        <p:grpSpPr>
          <a:xfrm>
            <a:off x="4840200" y="438120"/>
            <a:ext cx="3925800" cy="3921120"/>
            <a:chOff x="4840200" y="438120"/>
            <a:chExt cx="3925800" cy="3921120"/>
          </a:xfrm>
        </p:grpSpPr>
        <p:pic>
          <p:nvPicPr>
            <p:cNvPr id="65" name="Овал 14" descr=""/>
            <p:cNvPicPr/>
            <p:nvPr/>
          </p:nvPicPr>
          <p:blipFill>
            <a:blip r:embed="rId1"/>
            <a:stretch/>
          </p:blipFill>
          <p:spPr>
            <a:xfrm>
              <a:off x="4840200" y="438120"/>
              <a:ext cx="3925800" cy="39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435640" y="1028880"/>
              <a:ext cx="273996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67" name="Овал 15"/>
          <p:cNvSpPr/>
          <p:nvPr/>
        </p:nvSpPr>
        <p:spPr>
          <a:xfrm>
            <a:off x="4867200" y="1951200"/>
            <a:ext cx="3876840" cy="141912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Овал 17"/>
          <p:cNvSpPr/>
          <p:nvPr/>
        </p:nvSpPr>
        <p:spPr>
          <a:xfrm flipV="1">
            <a:off x="6754680" y="2426400"/>
            <a:ext cx="101880" cy="101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Полилиния 18"/>
          <p:cNvSpPr/>
          <p:nvPr/>
        </p:nvSpPr>
        <p:spPr>
          <a:xfrm>
            <a:off x="4865760" y="2446200"/>
            <a:ext cx="3862440" cy="917640"/>
          </a:xfrm>
          <a:custGeom>
            <a:avLst/>
            <a:gdLst/>
            <a:ahLst/>
            <a:rect l="l" t="t" r="r" b="b"/>
            <a:pathLst>
              <a:path w="2971205" h="691520">
                <a:moveTo>
                  <a:pt x="72408" y="0"/>
                </a:moveTo>
                <a:cubicBezTo>
                  <a:pt x="39467" y="37306"/>
                  <a:pt x="6526" y="74612"/>
                  <a:pt x="970" y="119062"/>
                </a:cubicBezTo>
                <a:cubicBezTo>
                  <a:pt x="-4586" y="163512"/>
                  <a:pt x="14464" y="222250"/>
                  <a:pt x="39070" y="266700"/>
                </a:cubicBezTo>
                <a:cubicBezTo>
                  <a:pt x="63676" y="311150"/>
                  <a:pt x="98602" y="346868"/>
                  <a:pt x="148608" y="385762"/>
                </a:cubicBezTo>
                <a:cubicBezTo>
                  <a:pt x="198614" y="424656"/>
                  <a:pt x="247827" y="461962"/>
                  <a:pt x="339108" y="500062"/>
                </a:cubicBezTo>
                <a:cubicBezTo>
                  <a:pt x="430389" y="538162"/>
                  <a:pt x="565326" y="584200"/>
                  <a:pt x="696295" y="614362"/>
                </a:cubicBezTo>
                <a:cubicBezTo>
                  <a:pt x="827264" y="644524"/>
                  <a:pt x="992364" y="668337"/>
                  <a:pt x="1124920" y="681037"/>
                </a:cubicBezTo>
                <a:cubicBezTo>
                  <a:pt x="1257476" y="693737"/>
                  <a:pt x="1385271" y="689768"/>
                  <a:pt x="1491633" y="690562"/>
                </a:cubicBezTo>
                <a:cubicBezTo>
                  <a:pt x="1597996" y="691356"/>
                  <a:pt x="1655939" y="693737"/>
                  <a:pt x="1763095" y="685800"/>
                </a:cubicBezTo>
                <a:cubicBezTo>
                  <a:pt x="1870251" y="677863"/>
                  <a:pt x="1997251" y="669924"/>
                  <a:pt x="2134570" y="642937"/>
                </a:cubicBezTo>
                <a:cubicBezTo>
                  <a:pt x="2271889" y="615950"/>
                  <a:pt x="2465564" y="571500"/>
                  <a:pt x="2587008" y="523875"/>
                </a:cubicBezTo>
                <a:cubicBezTo>
                  <a:pt x="2708452" y="476250"/>
                  <a:pt x="2799733" y="417512"/>
                  <a:pt x="2863233" y="357187"/>
                </a:cubicBezTo>
                <a:cubicBezTo>
                  <a:pt x="2926733" y="296862"/>
                  <a:pt x="2954514" y="207962"/>
                  <a:pt x="2968008" y="161925"/>
                </a:cubicBezTo>
                <a:cubicBezTo>
                  <a:pt x="2981502" y="115888"/>
                  <a:pt x="2948164" y="90487"/>
                  <a:pt x="2944195" y="80962"/>
                </a:cubicBezTo>
              </a:path>
            </a:pathLst>
          </a:custGeom>
          <a:noFill/>
          <a:ln w="698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6431040" y="201600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Овал 1"/>
          <p:cNvGrpSpPr/>
          <p:nvPr/>
        </p:nvGrpSpPr>
        <p:grpSpPr>
          <a:xfrm>
            <a:off x="4552920" y="633240"/>
            <a:ext cx="3925800" cy="3926160"/>
            <a:chOff x="4552920" y="633240"/>
            <a:chExt cx="3925800" cy="3926160"/>
          </a:xfrm>
        </p:grpSpPr>
        <p:pic>
          <p:nvPicPr>
            <p:cNvPr id="72" name="Овал 1" descr=""/>
            <p:cNvPicPr/>
            <p:nvPr/>
          </p:nvPicPr>
          <p:blipFill>
            <a:blip r:embed="rId1"/>
            <a:stretch/>
          </p:blipFill>
          <p:spPr>
            <a:xfrm>
              <a:off x="4552920" y="633240"/>
              <a:ext cx="3925800" cy="392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146560" y="1225440"/>
              <a:ext cx="274176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74" name="Овал 2"/>
          <p:cNvSpPr/>
          <p:nvPr/>
        </p:nvSpPr>
        <p:spPr>
          <a:xfrm>
            <a:off x="4579920" y="2147760"/>
            <a:ext cx="3875040" cy="141768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Прямая соединительная линия 4"/>
          <p:cNvSpPr/>
          <p:nvPr/>
        </p:nvSpPr>
        <p:spPr>
          <a:xfrm>
            <a:off x="6516720" y="657360"/>
            <a:ext cx="0" cy="3876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Овал 5"/>
          <p:cNvSpPr/>
          <p:nvPr/>
        </p:nvSpPr>
        <p:spPr>
          <a:xfrm flipV="1">
            <a:off x="6465960" y="2624040"/>
            <a:ext cx="101520" cy="101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Полилиния 6"/>
          <p:cNvSpPr/>
          <p:nvPr/>
        </p:nvSpPr>
        <p:spPr>
          <a:xfrm>
            <a:off x="4572000" y="2647800"/>
            <a:ext cx="3900600" cy="908280"/>
          </a:xfrm>
          <a:custGeom>
            <a:avLst/>
            <a:gdLst/>
            <a:ahLst/>
            <a:rect l="l" t="t" r="r" b="b"/>
            <a:pathLst>
              <a:path w="2971205" h="691520">
                <a:moveTo>
                  <a:pt x="72408" y="0"/>
                </a:moveTo>
                <a:cubicBezTo>
                  <a:pt x="39467" y="37306"/>
                  <a:pt x="6526" y="74612"/>
                  <a:pt x="970" y="119062"/>
                </a:cubicBezTo>
                <a:cubicBezTo>
                  <a:pt x="-4586" y="163512"/>
                  <a:pt x="14464" y="222250"/>
                  <a:pt x="39070" y="266700"/>
                </a:cubicBezTo>
                <a:cubicBezTo>
                  <a:pt x="63676" y="311150"/>
                  <a:pt x="98602" y="346868"/>
                  <a:pt x="148608" y="385762"/>
                </a:cubicBezTo>
                <a:cubicBezTo>
                  <a:pt x="198614" y="424656"/>
                  <a:pt x="247827" y="461962"/>
                  <a:pt x="339108" y="500062"/>
                </a:cubicBezTo>
                <a:cubicBezTo>
                  <a:pt x="430389" y="538162"/>
                  <a:pt x="565326" y="584200"/>
                  <a:pt x="696295" y="614362"/>
                </a:cubicBezTo>
                <a:cubicBezTo>
                  <a:pt x="827264" y="644524"/>
                  <a:pt x="992364" y="668337"/>
                  <a:pt x="1124920" y="681037"/>
                </a:cubicBezTo>
                <a:cubicBezTo>
                  <a:pt x="1257476" y="693737"/>
                  <a:pt x="1385271" y="689768"/>
                  <a:pt x="1491633" y="690562"/>
                </a:cubicBezTo>
                <a:cubicBezTo>
                  <a:pt x="1597996" y="691356"/>
                  <a:pt x="1655939" y="693737"/>
                  <a:pt x="1763095" y="685800"/>
                </a:cubicBezTo>
                <a:cubicBezTo>
                  <a:pt x="1870251" y="677863"/>
                  <a:pt x="1997251" y="669924"/>
                  <a:pt x="2134570" y="642937"/>
                </a:cubicBezTo>
                <a:cubicBezTo>
                  <a:pt x="2271889" y="615950"/>
                  <a:pt x="2465564" y="571500"/>
                  <a:pt x="2587008" y="523875"/>
                </a:cubicBezTo>
                <a:cubicBezTo>
                  <a:pt x="2708452" y="476250"/>
                  <a:pt x="2799733" y="417512"/>
                  <a:pt x="2863233" y="357187"/>
                </a:cubicBezTo>
                <a:cubicBezTo>
                  <a:pt x="2926733" y="296862"/>
                  <a:pt x="2954514" y="207962"/>
                  <a:pt x="2968008" y="161925"/>
                </a:cubicBezTo>
                <a:cubicBezTo>
                  <a:pt x="2981502" y="115888"/>
                  <a:pt x="2948164" y="90487"/>
                  <a:pt x="2944195" y="80962"/>
                </a:cubicBezTo>
              </a:path>
            </a:pathLst>
          </a:custGeom>
          <a:noFill/>
          <a:ln w="698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342120" y="4497480"/>
            <a:ext cx="5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6141960" y="221292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5319720" y="223344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6321600" y="1126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Полилиния 13"/>
          <p:cNvSpPr/>
          <p:nvPr/>
        </p:nvSpPr>
        <p:spPr>
          <a:xfrm rot="5340000">
            <a:off x="4202640" y="2139120"/>
            <a:ext cx="3900600" cy="907920"/>
          </a:xfrm>
          <a:custGeom>
            <a:avLst/>
            <a:gdLst/>
            <a:ahLst/>
            <a:rect l="l" t="t" r="r" b="b"/>
            <a:pathLst>
              <a:path w="2971205" h="691520">
                <a:moveTo>
                  <a:pt x="72408" y="0"/>
                </a:moveTo>
                <a:cubicBezTo>
                  <a:pt x="39467" y="37306"/>
                  <a:pt x="6526" y="74612"/>
                  <a:pt x="970" y="119062"/>
                </a:cubicBezTo>
                <a:cubicBezTo>
                  <a:pt x="-4586" y="163512"/>
                  <a:pt x="14464" y="222250"/>
                  <a:pt x="39070" y="266700"/>
                </a:cubicBezTo>
                <a:cubicBezTo>
                  <a:pt x="63676" y="311150"/>
                  <a:pt x="98602" y="346868"/>
                  <a:pt x="148608" y="385762"/>
                </a:cubicBezTo>
                <a:cubicBezTo>
                  <a:pt x="198614" y="424656"/>
                  <a:pt x="247827" y="461962"/>
                  <a:pt x="339108" y="500062"/>
                </a:cubicBezTo>
                <a:cubicBezTo>
                  <a:pt x="430389" y="538162"/>
                  <a:pt x="565326" y="584200"/>
                  <a:pt x="696295" y="614362"/>
                </a:cubicBezTo>
                <a:cubicBezTo>
                  <a:pt x="827264" y="644524"/>
                  <a:pt x="992364" y="668337"/>
                  <a:pt x="1124920" y="681037"/>
                </a:cubicBezTo>
                <a:cubicBezTo>
                  <a:pt x="1257476" y="693737"/>
                  <a:pt x="1385271" y="689768"/>
                  <a:pt x="1491633" y="690562"/>
                </a:cubicBezTo>
                <a:cubicBezTo>
                  <a:pt x="1597996" y="691356"/>
                  <a:pt x="1655939" y="693737"/>
                  <a:pt x="1763095" y="685800"/>
                </a:cubicBezTo>
                <a:cubicBezTo>
                  <a:pt x="1870251" y="677863"/>
                  <a:pt x="1997251" y="669924"/>
                  <a:pt x="2134570" y="642937"/>
                </a:cubicBezTo>
                <a:cubicBezTo>
                  <a:pt x="2271889" y="615950"/>
                  <a:pt x="2465564" y="571500"/>
                  <a:pt x="2587008" y="523875"/>
                </a:cubicBezTo>
                <a:cubicBezTo>
                  <a:pt x="2708452" y="476250"/>
                  <a:pt x="2799733" y="417512"/>
                  <a:pt x="2863233" y="357187"/>
                </a:cubicBezTo>
                <a:cubicBezTo>
                  <a:pt x="2926733" y="296862"/>
                  <a:pt x="2954514" y="207962"/>
                  <a:pt x="2968008" y="161925"/>
                </a:cubicBezTo>
                <a:cubicBezTo>
                  <a:pt x="2981502" y="115888"/>
                  <a:pt x="2948164" y="90487"/>
                  <a:pt x="2944195" y="80962"/>
                </a:cubicBezTo>
              </a:path>
            </a:pathLst>
          </a:custGeom>
          <a:noFill/>
          <a:ln w="698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39640" y="1779480"/>
            <a:ext cx="338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фера получена вращением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луокружности АСВ вокруг её диаметра А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Овал 1"/>
          <p:cNvSpPr/>
          <p:nvPr/>
        </p:nvSpPr>
        <p:spPr>
          <a:xfrm>
            <a:off x="4781520" y="711360"/>
            <a:ext cx="3772080" cy="3770280"/>
          </a:xfrm>
          <a:prstGeom prst="ellipse">
            <a:avLst/>
          </a:prstGeom>
          <a:gradFill rotWithShape="0">
            <a:gsLst>
              <a:gs pos="0">
                <a:srgbClr val="e46c0a"/>
              </a:gs>
              <a:gs pos="50000">
                <a:srgbClr val="fac090"/>
              </a:gs>
              <a:gs pos="100000">
                <a:srgbClr val="e46c0a"/>
              </a:gs>
            </a:gsLst>
            <a:lin ang="5400000"/>
          </a:gradFill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Овал 2"/>
          <p:cNvSpPr/>
          <p:nvPr/>
        </p:nvSpPr>
        <p:spPr>
          <a:xfrm>
            <a:off x="4781520" y="2324160"/>
            <a:ext cx="3772080" cy="79056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Прямая соединительная линия 3"/>
          <p:cNvSpPr/>
          <p:nvPr/>
        </p:nvSpPr>
        <p:spPr>
          <a:xfrm>
            <a:off x="4781520" y="265896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Прямая соединительная линия 4"/>
          <p:cNvSpPr/>
          <p:nvPr/>
        </p:nvSpPr>
        <p:spPr>
          <a:xfrm flipH="1">
            <a:off x="6716520" y="1263600"/>
            <a:ext cx="1284120" cy="1395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Овал 5"/>
          <p:cNvSpPr/>
          <p:nvPr/>
        </p:nvSpPr>
        <p:spPr>
          <a:xfrm flipV="1">
            <a:off x="6667560" y="2609280"/>
            <a:ext cx="98280" cy="98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Полилиния 6"/>
          <p:cNvSpPr/>
          <p:nvPr/>
        </p:nvSpPr>
        <p:spPr>
          <a:xfrm>
            <a:off x="4788000" y="2612880"/>
            <a:ext cx="3757680" cy="500040"/>
          </a:xfrm>
          <a:custGeom>
            <a:avLst/>
            <a:gdLst/>
            <a:ahLst/>
            <a:rect l="l" t="t" r="r" b="b"/>
            <a:pathLst>
              <a:path w="2971205" h="691520">
                <a:moveTo>
                  <a:pt x="72408" y="0"/>
                </a:moveTo>
                <a:cubicBezTo>
                  <a:pt x="39467" y="37306"/>
                  <a:pt x="6526" y="74612"/>
                  <a:pt x="970" y="119062"/>
                </a:cubicBezTo>
                <a:cubicBezTo>
                  <a:pt x="-4586" y="163512"/>
                  <a:pt x="14464" y="222250"/>
                  <a:pt x="39070" y="266700"/>
                </a:cubicBezTo>
                <a:cubicBezTo>
                  <a:pt x="63676" y="311150"/>
                  <a:pt x="98602" y="346868"/>
                  <a:pt x="148608" y="385762"/>
                </a:cubicBezTo>
                <a:cubicBezTo>
                  <a:pt x="198614" y="424656"/>
                  <a:pt x="247827" y="461962"/>
                  <a:pt x="339108" y="500062"/>
                </a:cubicBezTo>
                <a:cubicBezTo>
                  <a:pt x="430389" y="538162"/>
                  <a:pt x="565326" y="584200"/>
                  <a:pt x="696295" y="614362"/>
                </a:cubicBezTo>
                <a:cubicBezTo>
                  <a:pt x="827264" y="644524"/>
                  <a:pt x="992364" y="668337"/>
                  <a:pt x="1124920" y="681037"/>
                </a:cubicBezTo>
                <a:cubicBezTo>
                  <a:pt x="1257476" y="693737"/>
                  <a:pt x="1385271" y="689768"/>
                  <a:pt x="1491633" y="690562"/>
                </a:cubicBezTo>
                <a:cubicBezTo>
                  <a:pt x="1597996" y="691356"/>
                  <a:pt x="1655939" y="693737"/>
                  <a:pt x="1763095" y="685800"/>
                </a:cubicBezTo>
                <a:cubicBezTo>
                  <a:pt x="1870251" y="677863"/>
                  <a:pt x="1997251" y="669924"/>
                  <a:pt x="2134570" y="642937"/>
                </a:cubicBezTo>
                <a:cubicBezTo>
                  <a:pt x="2271889" y="615950"/>
                  <a:pt x="2465564" y="571500"/>
                  <a:pt x="2587008" y="523875"/>
                </a:cubicBezTo>
                <a:cubicBezTo>
                  <a:pt x="2708452" y="476250"/>
                  <a:pt x="2799733" y="417512"/>
                  <a:pt x="2863233" y="357187"/>
                </a:cubicBezTo>
                <a:cubicBezTo>
                  <a:pt x="2926733" y="296862"/>
                  <a:pt x="2954514" y="207962"/>
                  <a:pt x="2968008" y="161925"/>
                </a:cubicBezTo>
                <a:cubicBezTo>
                  <a:pt x="2981502" y="115888"/>
                  <a:pt x="2948164" y="90487"/>
                  <a:pt x="2944195" y="80962"/>
                </a:cubicBezTo>
              </a:path>
            </a:pathLst>
          </a:custGeom>
          <a:noFill/>
          <a:ln w="7920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8005680" y="67644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6696000" y="251784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6093000" y="1449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4341960" y="2322360"/>
            <a:ext cx="5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ая соединительная линия 12"/>
          <p:cNvSpPr/>
          <p:nvPr/>
        </p:nvSpPr>
        <p:spPr>
          <a:xfrm flipH="1">
            <a:off x="4789080" y="1263600"/>
            <a:ext cx="3211560" cy="1435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ая соединительная линия 20"/>
          <p:cNvSpPr/>
          <p:nvPr/>
        </p:nvSpPr>
        <p:spPr>
          <a:xfrm flipH="1" flipV="1">
            <a:off x="6319800" y="1925640"/>
            <a:ext cx="349200" cy="660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TextBox 30" descr=""/>
          <p:cNvPicPr/>
          <p:nvPr/>
        </p:nvPicPr>
        <p:blipFill>
          <a:blip r:embed="rId1"/>
          <a:stretch/>
        </p:blipFill>
        <p:spPr>
          <a:xfrm>
            <a:off x="85680" y="884160"/>
            <a:ext cx="4608720" cy="6462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1" descr=""/>
          <p:cNvPicPr/>
          <p:nvPr/>
        </p:nvPicPr>
        <p:blipFill>
          <a:blip r:embed="rId2"/>
          <a:stretch/>
        </p:blipFill>
        <p:spPr>
          <a:xfrm>
            <a:off x="85680" y="1335240"/>
            <a:ext cx="4662360" cy="6458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2"/>
          <p:cNvSpPr/>
          <p:nvPr/>
        </p:nvSpPr>
        <p:spPr>
          <a:xfrm>
            <a:off x="179280" y="190188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9" name="Прямоугольник 33" descr=""/>
          <p:cNvPicPr/>
          <p:nvPr/>
        </p:nvPicPr>
        <p:blipFill>
          <a:blip r:embed="rId3"/>
          <a:stretch/>
        </p:blipFill>
        <p:spPr>
          <a:xfrm>
            <a:off x="103320" y="2408400"/>
            <a:ext cx="2725560" cy="5364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4" descr=""/>
          <p:cNvPicPr/>
          <p:nvPr/>
        </p:nvPicPr>
        <p:blipFill>
          <a:blip r:embed="rId4"/>
          <a:stretch/>
        </p:blipFill>
        <p:spPr>
          <a:xfrm>
            <a:off x="115920" y="3664080"/>
            <a:ext cx="6224400" cy="536400"/>
          </a:xfrm>
          <a:prstGeom prst="rect">
            <a:avLst/>
          </a:prstGeom>
          <a:ln w="0">
            <a:noFill/>
          </a:ln>
        </p:spPr>
      </p:pic>
      <p:sp>
        <p:nvSpPr>
          <p:cNvPr id="101" name="zadacha+"/>
          <p:cNvSpPr/>
          <p:nvPr/>
        </p:nvSpPr>
        <p:spPr>
          <a:xfrm>
            <a:off x="179280" y="-44280"/>
            <a:ext cx="340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 Math"/>
                <a:ea typeface="Cambria Math"/>
              </a:rPr>
              <a:t>Задача</a:t>
            </a:r>
            <a:r>
              <a:rPr b="1" lang="en-US" sz="4800" spc="-1" strike="noStrike">
                <a:solidFill>
                  <a:srgbClr val="ff0000"/>
                </a:solidFill>
                <a:latin typeface="Cambria Math"/>
                <a:ea typeface="Cambria Math"/>
              </a:rPr>
              <a:t> 1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2" name="Прямоугольник 37" descr=""/>
          <p:cNvPicPr/>
          <p:nvPr/>
        </p:nvPicPr>
        <p:blipFill>
          <a:blip r:embed="rId5"/>
          <a:stretch/>
        </p:blipFill>
        <p:spPr>
          <a:xfrm>
            <a:off x="463680" y="2859120"/>
            <a:ext cx="3279600" cy="5364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8"/>
          <p:cNvSpPr/>
          <p:nvPr/>
        </p:nvSpPr>
        <p:spPr>
          <a:xfrm>
            <a:off x="354240" y="328284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△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ОВ — равнобедренны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4" name="Прямоугольник 39" descr=""/>
          <p:cNvPicPr/>
          <p:nvPr/>
        </p:nvPicPr>
        <p:blipFill>
          <a:blip r:embed="rId6"/>
          <a:stretch/>
        </p:blipFill>
        <p:spPr>
          <a:xfrm>
            <a:off x="2395440" y="4029120"/>
            <a:ext cx="1335240" cy="5364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42" descr=""/>
          <p:cNvPicPr/>
          <p:nvPr/>
        </p:nvPicPr>
        <p:blipFill>
          <a:blip r:embed="rId7"/>
          <a:stretch/>
        </p:blipFill>
        <p:spPr>
          <a:xfrm>
            <a:off x="407880" y="4022640"/>
            <a:ext cx="2163960" cy="5367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2"/>
          <p:cNvSpPr/>
          <p:nvPr/>
        </p:nvSpPr>
        <p:spPr>
          <a:xfrm>
            <a:off x="157320" y="4462560"/>
            <a:ext cx="35748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то  требовалось доказать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59040" y="166680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) Д.п. проведём плоскость АВО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66600" y="1096920"/>
            <a:ext cx="51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асстояние от центра сферы до А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9" name="TextBox 3" descr=""/>
          <p:cNvPicPr/>
          <p:nvPr/>
        </p:nvPicPr>
        <p:blipFill>
          <a:blip r:embed="rId1"/>
          <a:stretch/>
        </p:blipFill>
        <p:spPr>
          <a:xfrm>
            <a:off x="122400" y="768240"/>
            <a:ext cx="4456080" cy="5367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143280" y="138744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18960" y="193680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ечение — окружность радиуса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2" name="TextBox 6" descr=""/>
          <p:cNvPicPr/>
          <p:nvPr/>
        </p:nvPicPr>
        <p:blipFill>
          <a:blip r:embed="rId2"/>
          <a:stretch/>
        </p:blipFill>
        <p:spPr>
          <a:xfrm>
            <a:off x="139680" y="2176560"/>
            <a:ext cx="5327640" cy="493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379080" y="25020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.п. ОМ — высота, медиан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91960" y="281304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М — расстояние от  точки О до прямой АВ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5" name="TextBox 9" descr=""/>
          <p:cNvPicPr/>
          <p:nvPr/>
        </p:nvPicPr>
        <p:blipFill>
          <a:blip r:embed="rId3"/>
          <a:stretch/>
        </p:blipFill>
        <p:spPr>
          <a:xfrm>
            <a:off x="152280" y="3097080"/>
            <a:ext cx="4591080" cy="493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0"/>
          <p:cNvSpPr/>
          <p:nvPr/>
        </p:nvSpPr>
        <p:spPr>
          <a:xfrm>
            <a:off x="81720" y="349740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△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ОМ — прямоугольный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3019680" y="346716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 теореме Пифагора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8" name="TextBox 12" descr=""/>
          <p:cNvPicPr/>
          <p:nvPr/>
        </p:nvPicPr>
        <p:blipFill>
          <a:blip r:embed="rId4"/>
          <a:stretch/>
        </p:blipFill>
        <p:spPr>
          <a:xfrm>
            <a:off x="420840" y="3803760"/>
            <a:ext cx="4779720" cy="6588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3" descr=""/>
          <p:cNvPicPr/>
          <p:nvPr/>
        </p:nvPicPr>
        <p:blipFill>
          <a:blip r:embed="rId5"/>
          <a:stretch/>
        </p:blipFill>
        <p:spPr>
          <a:xfrm>
            <a:off x="390600" y="4419720"/>
            <a:ext cx="2663640" cy="658800"/>
          </a:xfrm>
          <a:prstGeom prst="rect">
            <a:avLst/>
          </a:prstGeom>
          <a:ln w="0">
            <a:noFill/>
          </a:ln>
        </p:spPr>
      </p:pic>
      <p:sp>
        <p:nvSpPr>
          <p:cNvPr id="120" name="zadacha+"/>
          <p:cNvSpPr/>
          <p:nvPr/>
        </p:nvSpPr>
        <p:spPr>
          <a:xfrm>
            <a:off x="179280" y="-44280"/>
            <a:ext cx="340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 Math"/>
                <a:ea typeface="Cambria Math"/>
              </a:rPr>
              <a:t>Задача</a:t>
            </a:r>
            <a:r>
              <a:rPr b="1" lang="en-US" sz="4800" spc="-1" strike="noStrike">
                <a:solidFill>
                  <a:srgbClr val="ff0000"/>
                </a:solidFill>
                <a:latin typeface="Cambria Math"/>
                <a:ea typeface="Cambria Math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21" name="Овал 15"/>
          <p:cNvGrpSpPr/>
          <p:nvPr/>
        </p:nvGrpSpPr>
        <p:grpSpPr>
          <a:xfrm>
            <a:off x="5724360" y="957240"/>
            <a:ext cx="3144960" cy="3151080"/>
            <a:chOff x="5724360" y="957240"/>
            <a:chExt cx="3144960" cy="3151080"/>
          </a:xfrm>
        </p:grpSpPr>
        <p:pic>
          <p:nvPicPr>
            <p:cNvPr id="122" name="Овал 15" descr=""/>
            <p:cNvPicPr/>
            <p:nvPr/>
          </p:nvPicPr>
          <p:blipFill>
            <a:blip r:embed="rId6"/>
            <a:stretch/>
          </p:blipFill>
          <p:spPr>
            <a:xfrm>
              <a:off x="5724360" y="957240"/>
              <a:ext cx="3144960" cy="31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202440" y="1438200"/>
              <a:ext cx="2190600" cy="21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24" name="Овал 16"/>
          <p:cNvSpPr/>
          <p:nvPr/>
        </p:nvSpPr>
        <p:spPr>
          <a:xfrm flipH="1">
            <a:off x="7228800" y="2498760"/>
            <a:ext cx="114120" cy="1141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Прямая соединительная линия 18"/>
          <p:cNvSpPr/>
          <p:nvPr/>
        </p:nvSpPr>
        <p:spPr>
          <a:xfrm flipH="1">
            <a:off x="6202080" y="1438200"/>
            <a:ext cx="21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Прямая соединительная линия 19"/>
          <p:cNvSpPr/>
          <p:nvPr/>
        </p:nvSpPr>
        <p:spPr>
          <a:xfrm flipH="1">
            <a:off x="7327440" y="1438200"/>
            <a:ext cx="1065240" cy="10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Прямая соединительная линия 23"/>
          <p:cNvSpPr/>
          <p:nvPr/>
        </p:nvSpPr>
        <p:spPr>
          <a:xfrm flipH="1" flipV="1">
            <a:off x="6202080" y="1438200"/>
            <a:ext cx="1044360" cy="10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Прямая соединительная линия 29"/>
          <p:cNvSpPr/>
          <p:nvPr/>
        </p:nvSpPr>
        <p:spPr>
          <a:xfrm>
            <a:off x="7286760" y="1438200"/>
            <a:ext cx="0" cy="10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5864040" y="101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7058160" y="1019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TextBox 21"/>
          <p:cNvSpPr/>
          <p:nvPr/>
        </p:nvSpPr>
        <p:spPr>
          <a:xfrm>
            <a:off x="8364240" y="10303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TextBox 22"/>
          <p:cNvSpPr/>
          <p:nvPr/>
        </p:nvSpPr>
        <p:spPr>
          <a:xfrm>
            <a:off x="6446880" y="18842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7113600" y="252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TextBox 26"/>
          <p:cNvSpPr/>
          <p:nvPr/>
        </p:nvSpPr>
        <p:spPr>
          <a:xfrm>
            <a:off x="7815240" y="1887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Прямая соединительная линия 27"/>
          <p:cNvSpPr/>
          <p:nvPr/>
        </p:nvSpPr>
        <p:spPr>
          <a:xfrm flipV="1">
            <a:off x="7791480" y="133632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Прямая соединительная линия 30"/>
          <p:cNvSpPr/>
          <p:nvPr/>
        </p:nvSpPr>
        <p:spPr>
          <a:xfrm flipV="1">
            <a:off x="6804000" y="134784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Прямая соединительная линия 31"/>
          <p:cNvSpPr/>
          <p:nvPr/>
        </p:nvSpPr>
        <p:spPr>
          <a:xfrm flipV="1">
            <a:off x="7112160" y="14400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Прямая соединительная линия 32"/>
          <p:cNvSpPr/>
          <p:nvPr/>
        </p:nvSpPr>
        <p:spPr>
          <a:xfrm>
            <a:off x="7097760" y="1600200"/>
            <a:ext cx="17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14:08:02Z</dcterms:created>
  <dc:creator>Пользователь</dc:creator>
  <dc:description/>
  <dc:language>en-US</dc:language>
  <cp:lastModifiedBy>Пользователь</cp:lastModifiedBy>
  <dcterms:modified xsi:type="dcterms:W3CDTF">2014-09-26T14:48:38Z</dcterms:modified>
  <cp:revision>174</cp:revision>
  <dc:subject/>
  <dc:title>Презентация PowerPoint</dc:title>
</cp:coreProperties>
</file>