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5186-D268-433E-A297-888D06AC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D3CC-BBEA-4224-B154-1EAD8D23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EF0B-1232-4374-9BBA-98D36677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56DB-8772-435A-8B98-B6E1A0C4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6F50-D8CA-4998-A125-3549E0ED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2ABD-9F3A-4B35-BFE8-2AB52345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1790-7CDE-42F9-A4B7-587C06D9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29B4-966C-4F89-B631-9E2EEB4E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842E-4749-4A81-80EF-A438508B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4C3F-A6B9-4062-B58D-C0F2ABF3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EFB1-404A-4778-BD82-15CD1680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5338-F359-4DD9-A6E7-4027D034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7525-63E9-4121-8C85-4258D14F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8DF7-0361-48F1-BE86-BECC7734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7D95-FDC5-4F5F-8C3B-FDCA1628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099D-79CB-4FE3-AAE5-220A7505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3CDB-CB40-43F2-855C-3BD140C5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93B1D-E58E-4F4F-B9E8-797EABC9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BE111-E004-4397-A605-A579DC0D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AD798-CC71-4843-B5B7-58F91F1D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4E15F-DC67-427E-9B69-345BA396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B0DB1-085B-41C0-A69F-D6FA783F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FA11-3CB2-4A49-93FE-F8F3E32C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CB554-FAA8-44D2-B741-9C8A7BD0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B0240-5393-4767-8E11-6408529D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CC9A1-703B-4174-9D25-FD047F48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BE241-6A58-48B3-A9B2-61038885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D8246-E15C-4CB6-8D41-450B7E4B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0E060-EB6C-4885-A866-C804DD52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A8F0A-FB4C-466C-8A4E-29327D84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9B763-3355-462A-828D-375F7D9D8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2E5A1-B84B-44F2-A9D6-8EBD5739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FEC3C-8A4E-4389-A23D-9384F6DC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5E5B-EA33-48EC-840B-8C1F902E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F48B0-19E0-42D5-A558-4A6B5AC7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95F90-B31B-4699-B0F7-03636100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7D097-C625-4D42-A9AF-F8A30E52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F87AB-2155-45BC-B414-92E3AF2F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8FBFE-D178-47FD-A3EC-DB5C58A4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73C2A-4ABC-4E3D-B832-AA5B2B30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12BCA-0718-47F5-8FBA-A742BD35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23232-5BB7-4498-9F59-8A91D4C9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449A2-C2B1-4600-B8E8-0716FAD7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1F0E-E9DB-4ADA-B031-55D7EB42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8B7F-B885-4C08-BF32-A061DE06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CDE2-14A1-4FCE-87AF-93F969BD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5780-4A70-4824-BB67-F83D3CEC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A1AA-A084-4246-9227-BE7DB8A9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2977-FE8F-4BA4-A642-BE7FC7C749E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F1A3-4117-49B7-B6A4-4BBE7B3143E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D7A5-405A-4BAA-8167-4D3E2476D43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C49B-CCD8-47F2-A43C-E59A5FA0097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103320" y="-23760"/>
            <a:ext cx="1030320" cy="17971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87440" y="3228480"/>
            <a:ext cx="46080" cy="572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11520" bIns="11520" anchor="t">
            <a:noAutofit/>
          </a:bodyPr>
          <a:p>
            <a:pPr algn="r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Constantia"/>
              </a:rPr>
              <a:t>…</a:t>
            </a:r>
            <a:r>
              <a:rPr b="0" lang="en-US" sz="2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Прямоугольник 3" descr=""/>
          <p:cNvPicPr/>
          <p:nvPr/>
        </p:nvPicPr>
        <p:blipFill>
          <a:blip r:embed="rId2"/>
          <a:stretch/>
        </p:blipFill>
        <p:spPr>
          <a:xfrm>
            <a:off x="476280" y="133200"/>
            <a:ext cx="7948440" cy="43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F:\23 февраля\моряки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F:\23 февраля\открытка 6.jpg"/>
          <p:cNvPicPr/>
          <p:nvPr/>
        </p:nvPicPr>
        <p:blipFill>
          <a:blip r:embed="rId1"/>
          <a:stretch/>
        </p:blipFill>
        <p:spPr>
          <a:xfrm>
            <a:off x="2500200" y="1357200"/>
            <a:ext cx="3778200" cy="3778200"/>
          </a:xfrm>
          <a:prstGeom prst="rect">
            <a:avLst/>
          </a:prstGeom>
          <a:ln w="0">
            <a:noFill/>
          </a:ln>
        </p:spPr>
      </p:pic>
      <p:pic>
        <p:nvPicPr>
          <p:cNvPr id="229" name="Trio bayanistov - Matrosskij 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77168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F:\23 февраля\сапёр.jpeg"/>
          <p:cNvPicPr/>
          <p:nvPr/>
        </p:nvPicPr>
        <p:blipFill>
          <a:blip r:embed="rId1"/>
          <a:stretch/>
        </p:blipFill>
        <p:spPr>
          <a:xfrm>
            <a:off x="1428840" y="0"/>
            <a:ext cx="635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F:\23 февраля\открытка 11.jpg"/>
          <p:cNvPicPr/>
          <p:nvPr/>
        </p:nvPicPr>
        <p:blipFill>
          <a:blip r:embed="rId1"/>
          <a:stretch/>
        </p:blipFill>
        <p:spPr>
          <a:xfrm>
            <a:off x="857160" y="0"/>
            <a:ext cx="762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Picture 2" descr="F:\23 февраля\открытка 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Picture 2" descr="F:\23 февраля\открытка 8.jpg"/>
          <p:cNvPicPr/>
          <p:nvPr/>
        </p:nvPicPr>
        <p:blipFill>
          <a:blip r:embed="rId1"/>
          <a:stretch/>
        </p:blipFill>
        <p:spPr>
          <a:xfrm>
            <a:off x="1643040" y="285840"/>
            <a:ext cx="62866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Picture 2" descr="F:\23 февраля\разведчики.jpeg"/>
          <p:cNvPicPr/>
          <p:nvPr/>
        </p:nvPicPr>
        <p:blipFill>
          <a:blip r:embed="rId1"/>
          <a:stretch/>
        </p:blipFill>
        <p:spPr>
          <a:xfrm>
            <a:off x="0" y="0"/>
            <a:ext cx="916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3"/>
          <p:cNvSpPr/>
          <p:nvPr/>
        </p:nvSpPr>
        <p:spPr>
          <a:xfrm>
            <a:off x="571680" y="64296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ать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2571840" y="114300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d0d0d"/>
                </a:solidFill>
                <a:latin typeface="Constantia"/>
              </a:rPr>
              <a:t>постоя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6357960" y="214308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d0d0d"/>
                </a:solidFill>
                <a:latin typeface="Constantia"/>
              </a:rPr>
              <a:t>ум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571680" y="2143080"/>
            <a:ext cx="300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d0d0d"/>
                </a:solidFill>
                <a:latin typeface="Constantia"/>
              </a:rPr>
              <a:t>Родина -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4071960" y="3143160"/>
            <a:ext cx="16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d0d0d"/>
                </a:solidFill>
                <a:latin typeface="Constantia"/>
              </a:rPr>
              <a:t>неё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6715080" y="1071720"/>
            <a:ext cx="17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d0d0d"/>
                </a:solidFill>
                <a:latin typeface="Constantia"/>
              </a:rPr>
              <a:t>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25624E-006 L -0.05729 0.00462 E">
                                      <p:cBhvr>
                                        <p:cTn id="6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07216E-006 L 0.24931 0.22318 E">
                                      <p:cBhvr>
                                        <p:cTn id="9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86772E-007 L -0.21789 0.00463 E">
                                      <p:cBhvr>
                                        <p:cTn id="12" dur="1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25532E-006 L -0.07204 0.16074 E">
                                      <p:cBhvr>
                                        <p:cTn id="15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79371E-006 L 0.31389 -0.13644 E">
                                      <p:cBhvr>
                                        <p:cTn id="18" dur="1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8585E-006 L -0.075 0.28677 E">
                                      <p:cBhvr>
                                        <p:cTn id="21" dur="1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3"/>
          <p:cNvSpPr/>
          <p:nvPr/>
        </p:nvSpPr>
        <p:spPr>
          <a:xfrm>
            <a:off x="1928880" y="15001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любимую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4929120" y="107172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Бере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357120" y="2857680"/>
            <a:ext cx="250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м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4286160" y="2714760"/>
            <a:ext cx="32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родимую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58000" y="5000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ка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8"/>
          <p:cNvSpPr/>
          <p:nvPr/>
        </p:nvSpPr>
        <p:spPr>
          <a:xfrm>
            <a:off x="6286680" y="2000160"/>
            <a:ext cx="235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земл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25532E-006 L -0.54931 0.13969 E">
                                      <p:cBhvr>
                                        <p:cTn id="27" dur="1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524 0.00462 L -0.41076 0.00439 E">
                                      <p:cBhvr>
                                        <p:cTn id="30" dur="1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-0.03122 L 0.05226 -0.09945 E">
                                      <p:cBhvr>
                                        <p:cTn id="33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9.80574E-007 L 0.11302 0.22294 E">
                                      <p:cBhvr>
                                        <p:cTn id="36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16281E-007 L 0.06302 -4.16281E-007 E">
                                      <p:cBhvr>
                                        <p:cTn id="39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37743E-006 L 0.09358 0.20306 E">
                                      <p:cBhvr>
                                        <p:cTn id="42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Picture 2" descr="F:\23 февраля\радисты.jpeg"/>
          <p:cNvPicPr/>
          <p:nvPr/>
        </p:nvPicPr>
        <p:blipFill>
          <a:blip r:embed="rId1"/>
          <a:stretch/>
        </p:blipFill>
        <p:spPr>
          <a:xfrm>
            <a:off x="1071720" y="857160"/>
            <a:ext cx="69260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642960" y="714240"/>
            <a:ext cx="77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, 18, 1, 2, 3, 11, 6, 17, 19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 11, 6, 3, 1, 14, 18, 4, 14, 16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 21, 16, 1, 13, 30, 29, 18, 5, 3, 6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, 19, 24, 10, 9, 14, 5, 9, 13, 18, 1, 13,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857160" y="2928960"/>
            <a:ext cx="8001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Б  В  Г  Д  Е  Ж  З  И  К   Л  М   Н   О   П   Р    С    Т   У    Ф    Х   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2  3  4   5   6   7   8  9  10  11 12  13  14  15  16  17  18   19   20  21  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    Ш   Щ     Ъ    Ь     Э    Ю    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 24    25    26   27   28   29  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6" name="Picture 2" descr="F:\23 февраля\7десантники.jpg"/>
          <p:cNvPicPr/>
          <p:nvPr/>
        </p:nvPicPr>
        <p:blipFill>
          <a:blip r:embed="rId1"/>
          <a:stretch/>
        </p:blipFill>
        <p:spPr>
          <a:xfrm>
            <a:off x="-81000" y="0"/>
            <a:ext cx="922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0:26:29Z</dcterms:created>
  <dc:creator>Nout-Nat</dc:creator>
  <dc:description/>
  <dc:language>en-US</dc:language>
  <cp:lastModifiedBy>Nout-Nat</cp:lastModifiedBy>
  <dcterms:modified xsi:type="dcterms:W3CDTF">2012-02-18T06:42:16Z</dcterms:modified>
  <cp:revision>11</cp:revision>
  <dc:subject/>
  <dc:title>..</dc:title>
</cp:coreProperties>
</file>