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D4FC-22DB-4F5D-B6E3-CBD37934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B683-0D81-4046-ACAB-2D456CC9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94B8-66BF-41DB-9D83-7DE2FE51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67F0-A7F3-4C7A-9A55-D2045B46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2159-486D-4984-AEDF-9C417AAA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B87E-DA94-433C-BFCE-4DEE5728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4BCC-F7A0-4B83-89ED-1450A435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9DF9-CEEE-485D-AD03-A031DB97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4605-8605-4EDE-8197-F415CADB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24C1-D05E-4158-A0E3-2E0E5F2C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6DF3-C66F-4768-8696-A2C910AA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F0D5-5AD8-4AAC-AFD3-21DA509F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C631-8CE5-4FF5-B213-4DC0BD8B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0FC6-E87E-4BA7-B1B4-FCFDD1FE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8A40-739E-4088-95ED-717280B7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7CB6-0404-4B32-BB25-0DDAB846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D455-2242-413E-A373-2D0F5804B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38C64-84EC-490F-9F70-BC9F79AC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D0E2A-40CF-4D95-B29F-CCD41BD1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C10BB-22B1-4924-92CF-C1441A72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C6203-A61A-48AE-845D-C3D90F1C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A96F8-9CB0-4396-8F41-9731C7A8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189D-02AC-474B-B27F-B8471463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55351-689C-4CF6-BCE3-888CC60A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B00C2-8C30-4CF2-8AD7-30822636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0F633-13DF-40BB-ADB1-2C792080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67270-060C-44C1-8599-ABD7F47B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E529A-6B9C-4C68-ABD9-A13DC514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95F5C-583D-419E-AE03-D3F32E70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937AF-338D-4549-89C8-115349B0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C6CE6-EF84-406A-8E25-C1C5A757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0768C-5EAD-4D1A-BD35-4C53F5CC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B4708-9392-436C-ADBE-1E609A2D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B2D7-B83D-4CAC-B9C7-CCA5202E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E5C2B-EF99-4CF5-BFA8-1B48FCBC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3AE5F-0A57-4484-9310-D0435B81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2619F-353B-4A5D-86FD-07F91397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36E78-CD85-4872-89D9-358E7C79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E6930-879F-49EE-8B7D-2E299431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71E0D-4B7A-4F84-8116-CBD078B4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D6777-A931-476A-9B92-8B0FDCC6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AFF25-EC76-4D53-9AAC-B657C0B2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C8AF5-E634-45CB-A447-89587ADD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1719-094B-4590-A60B-74DD1879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8D91-DBAF-47F7-9816-FA4B056E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6683-6AC3-4D4E-9B43-5E47A2DB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6E54-8AA6-427E-AB48-9A36C605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06BE-CCFD-4258-8814-71B54C18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0074-4437-4770-B70F-EFED7C87C15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DBFA-AB64-43D0-A3AC-187BE72B1DE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55DD-18EE-4595-A160-B6A94ACFE80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FDE5-70AE-431E-9188-A97EBE8A089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103320" y="-23760"/>
            <a:ext cx="1030320" cy="17971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87440" y="3228480"/>
            <a:ext cx="46080" cy="572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11520" bIns="11520" anchor="t">
            <a:noAutofit/>
          </a:bodyPr>
          <a:p>
            <a:pPr algn="r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Constantia"/>
              </a:rPr>
              <a:t>…</a:t>
            </a:r>
            <a:r>
              <a:rPr b="0" lang="en-US" sz="2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Прямоугольник 3" descr=""/>
          <p:cNvPicPr/>
          <p:nvPr/>
        </p:nvPicPr>
        <p:blipFill>
          <a:blip r:embed="rId2"/>
          <a:stretch/>
        </p:blipFill>
        <p:spPr>
          <a:xfrm>
            <a:off x="476280" y="133200"/>
            <a:ext cx="7948440" cy="43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F:\23 февраля\моряки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F:\23 февраля\открытка 6.jpg"/>
          <p:cNvPicPr/>
          <p:nvPr/>
        </p:nvPicPr>
        <p:blipFill>
          <a:blip r:embed="rId1"/>
          <a:stretch/>
        </p:blipFill>
        <p:spPr>
          <a:xfrm>
            <a:off x="2500200" y="1357200"/>
            <a:ext cx="3778200" cy="3778200"/>
          </a:xfrm>
          <a:prstGeom prst="rect">
            <a:avLst/>
          </a:prstGeom>
          <a:ln w="0">
            <a:noFill/>
          </a:ln>
        </p:spPr>
      </p:pic>
      <p:pic>
        <p:nvPicPr>
          <p:cNvPr id="229" name="Trio bayanistov - Matrosskij 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77168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F:\23 февраля\сапёр.jpeg"/>
          <p:cNvPicPr/>
          <p:nvPr/>
        </p:nvPicPr>
        <p:blipFill>
          <a:blip r:embed="rId1"/>
          <a:stretch/>
        </p:blipFill>
        <p:spPr>
          <a:xfrm>
            <a:off x="1428840" y="0"/>
            <a:ext cx="635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F:\23 февраля\открытка 11.jpg"/>
          <p:cNvPicPr/>
          <p:nvPr/>
        </p:nvPicPr>
        <p:blipFill>
          <a:blip r:embed="rId1"/>
          <a:stretch/>
        </p:blipFill>
        <p:spPr>
          <a:xfrm>
            <a:off x="857160" y="0"/>
            <a:ext cx="762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Picture 2" descr="F:\23 февраля\открытка 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Picture 2" descr="F:\23 февраля\открытка 8.jpg"/>
          <p:cNvPicPr/>
          <p:nvPr/>
        </p:nvPicPr>
        <p:blipFill>
          <a:blip r:embed="rId1"/>
          <a:stretch/>
        </p:blipFill>
        <p:spPr>
          <a:xfrm>
            <a:off x="1643040" y="285840"/>
            <a:ext cx="62866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Picture 2" descr="F:\23 февраля\разведчики.jpeg"/>
          <p:cNvPicPr/>
          <p:nvPr/>
        </p:nvPicPr>
        <p:blipFill>
          <a:blip r:embed="rId1"/>
          <a:stretch/>
        </p:blipFill>
        <p:spPr>
          <a:xfrm>
            <a:off x="0" y="0"/>
            <a:ext cx="916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3"/>
          <p:cNvSpPr/>
          <p:nvPr/>
        </p:nvSpPr>
        <p:spPr>
          <a:xfrm>
            <a:off x="571680" y="64296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ать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2571840" y="114300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d0d0d"/>
                </a:solidFill>
                <a:latin typeface="Constantia"/>
              </a:rPr>
              <a:t>постоя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6357960" y="214308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d0d0d"/>
                </a:solidFill>
                <a:latin typeface="Constantia"/>
              </a:rPr>
              <a:t>ум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571680" y="2143080"/>
            <a:ext cx="300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d0d0d"/>
                </a:solidFill>
                <a:latin typeface="Constantia"/>
              </a:rPr>
              <a:t>Родина -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4071960" y="3143160"/>
            <a:ext cx="16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d0d0d"/>
                </a:solidFill>
                <a:latin typeface="Constantia"/>
              </a:rPr>
              <a:t>неё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6715080" y="1071720"/>
            <a:ext cx="17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d0d0d"/>
                </a:solidFill>
                <a:latin typeface="Constantia"/>
              </a:rPr>
              <a:t>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25624E-006 L -0.05729 0.00462 E">
                                      <p:cBhvr>
                                        <p:cTn id="6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07216E-006 L 0.24931 0.22318 E">
                                      <p:cBhvr>
                                        <p:cTn id="9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86772E-007 L -0.21789 0.00463 E">
                                      <p:cBhvr>
                                        <p:cTn id="12" dur="1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25532E-006 L -0.07204 0.16074 E">
                                      <p:cBhvr>
                                        <p:cTn id="15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79371E-006 L 0.31389 -0.13644 E">
                                      <p:cBhvr>
                                        <p:cTn id="18" dur="1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8585E-006 L -0.075 0.28677 E">
                                      <p:cBhvr>
                                        <p:cTn id="21" dur="1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3"/>
          <p:cNvSpPr/>
          <p:nvPr/>
        </p:nvSpPr>
        <p:spPr>
          <a:xfrm>
            <a:off x="1928880" y="15001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любимую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4929120" y="107172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Бере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357120" y="2857680"/>
            <a:ext cx="250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м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4286160" y="2714760"/>
            <a:ext cx="32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родимую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58000" y="5000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ка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8"/>
          <p:cNvSpPr/>
          <p:nvPr/>
        </p:nvSpPr>
        <p:spPr>
          <a:xfrm>
            <a:off x="6286680" y="2000160"/>
            <a:ext cx="235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земл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25532E-006 L -0.54931 0.13969 E">
                                      <p:cBhvr>
                                        <p:cTn id="27" dur="1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524 0.00462 L -0.41076 0.00439 E">
                                      <p:cBhvr>
                                        <p:cTn id="30" dur="1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-0.03122 L 0.05226 -0.09945 E">
                                      <p:cBhvr>
                                        <p:cTn id="33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9.80574E-007 L 0.11302 0.22294 E">
                                      <p:cBhvr>
                                        <p:cTn id="36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16281E-007 L 0.06302 -4.16281E-007 E">
                                      <p:cBhvr>
                                        <p:cTn id="39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37743E-006 L 0.09358 0.20306 E">
                                      <p:cBhvr>
                                        <p:cTn id="42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Picture 2" descr="F:\23 февраля\радисты.jpeg"/>
          <p:cNvPicPr/>
          <p:nvPr/>
        </p:nvPicPr>
        <p:blipFill>
          <a:blip r:embed="rId1"/>
          <a:stretch/>
        </p:blipFill>
        <p:spPr>
          <a:xfrm>
            <a:off x="1071720" y="857160"/>
            <a:ext cx="69260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642960" y="714240"/>
            <a:ext cx="77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, 18, 1, 2, 3, 11, 6, 17, 19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 11, 6, 3, 1, 14, 18, 4, 14, 16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 21, 16, 1, 13, 30, 29, 18, 5, 3, 6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, 19, 24, 10, 9, 14, 5, 9, 13, 18, 1, 13,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857160" y="2928960"/>
            <a:ext cx="8001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Б  В  Г  Д  Е  Ж  З  И  К   Л  М   Н   О   П   Р    С    Т   У    Ф    Х   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2  3  4   5   6   7   8  9  10  11 12  13  14  15  16  17  18   19   20  21  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    Ш   Щ     Ъ    Ь     Э    Ю    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 24    25    26   27   28   29  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6" name="Picture 2" descr="F:\23 февраля\7десантники.jpg"/>
          <p:cNvPicPr/>
          <p:nvPr/>
        </p:nvPicPr>
        <p:blipFill>
          <a:blip r:embed="rId1"/>
          <a:stretch/>
        </p:blipFill>
        <p:spPr>
          <a:xfrm>
            <a:off x="-81000" y="0"/>
            <a:ext cx="922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0:26:29Z</dcterms:created>
  <dc:creator>Nout-Nat</dc:creator>
  <dc:description/>
  <dc:language>en-US</dc:language>
  <cp:lastModifiedBy>Nout-Nat</cp:lastModifiedBy>
  <dcterms:modified xsi:type="dcterms:W3CDTF">2012-02-18T06:42:16Z</dcterms:modified>
  <cp:revision>11</cp:revision>
  <dc:subject/>
  <dc:title>..</dc:title>
</cp:coreProperties>
</file>