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E6F3-03F4-4E55-A275-A73833416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EAD8-42AB-464E-9E74-6B7D37289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58BB-9D87-41FF-83B8-25B571E55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6E30-776B-4DF0-9B74-3812BC2F5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DE4A-25F8-454E-AEE1-D6251A2D8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F0BF-3E36-4A0A-858A-FF9241FEF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BC51-3D7D-46A9-B0EB-CB0B956ED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915D-B92E-4BB3-8101-4E52E4C5B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E605-6BCC-4721-8804-5523EA10F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7646-3706-4BF6-82F9-B89E32BAE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A6B5-F0C0-4D82-9BFC-971FE9901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BF57-4878-47C5-BFB2-A5A263358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mbr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4835F-6EBC-453C-942A-63A21D7D1860}" type="slidenum">
              <a:rPr b="0" lang="ru-RU" sz="12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3"/>
          <p:cNvSpPr/>
          <p:nvPr/>
        </p:nvSpPr>
        <p:spPr>
          <a:xfrm>
            <a:off x="1258920" y="3086280"/>
            <a:ext cx="273672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Прямая соединительная линия 4"/>
          <p:cNvSpPr/>
          <p:nvPr/>
        </p:nvSpPr>
        <p:spPr>
          <a:xfrm>
            <a:off x="1258920" y="3086280"/>
            <a:ext cx="758880" cy="960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" name="Прямая соединительная линия 5"/>
          <p:cNvSpPr/>
          <p:nvPr/>
        </p:nvSpPr>
        <p:spPr>
          <a:xfrm flipH="1">
            <a:off x="2017800" y="3086280"/>
            <a:ext cx="1977840" cy="960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" name="Прямая соединительная линия 6"/>
          <p:cNvSpPr/>
          <p:nvPr/>
        </p:nvSpPr>
        <p:spPr>
          <a:xfrm flipH="1">
            <a:off x="1258920" y="1069920"/>
            <a:ext cx="1117440" cy="201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 flipV="1">
            <a:off x="2011320" y="1069920"/>
            <a:ext cx="365040" cy="2976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 flipV="1">
            <a:off x="2351160" y="1079640"/>
            <a:ext cx="1644480" cy="2006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" name="Овал 11"/>
          <p:cNvSpPr/>
          <p:nvPr/>
        </p:nvSpPr>
        <p:spPr>
          <a:xfrm>
            <a:off x="2340000" y="106992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" name="Овал 12"/>
          <p:cNvSpPr/>
          <p:nvPr/>
        </p:nvSpPr>
        <p:spPr>
          <a:xfrm>
            <a:off x="3959280" y="3049560"/>
            <a:ext cx="730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" name="Овал 13"/>
          <p:cNvSpPr/>
          <p:nvPr/>
        </p:nvSpPr>
        <p:spPr>
          <a:xfrm>
            <a:off x="1974960" y="40100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Овал 14"/>
          <p:cNvSpPr/>
          <p:nvPr/>
        </p:nvSpPr>
        <p:spPr>
          <a:xfrm>
            <a:off x="1224000" y="305748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" name="Прямая соединительная линия 17"/>
          <p:cNvSpPr/>
          <p:nvPr/>
        </p:nvSpPr>
        <p:spPr>
          <a:xfrm flipH="1">
            <a:off x="5327280" y="1492200"/>
            <a:ext cx="360360" cy="15940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5327640" y="3086280"/>
            <a:ext cx="24480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3" name="Прямая соединительная линия 21"/>
          <p:cNvSpPr/>
          <p:nvPr/>
        </p:nvSpPr>
        <p:spPr>
          <a:xfrm flipV="1">
            <a:off x="4836960" y="3086280"/>
            <a:ext cx="490680" cy="4572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" name="Полилиния 22"/>
          <p:cNvSpPr/>
          <p:nvPr/>
        </p:nvSpPr>
        <p:spPr>
          <a:xfrm>
            <a:off x="4836960" y="1504800"/>
            <a:ext cx="3295800" cy="2038680"/>
          </a:xfrm>
          <a:custGeom>
            <a:avLst/>
            <a:gdLst/>
            <a:ahLst/>
            <a:rect l="l" t="t" r="r" b="b"/>
            <a:pathLst>
              <a:path w="3295650" h="2038350">
                <a:moveTo>
                  <a:pt x="2495550" y="2038350"/>
                </a:moveTo>
                <a:lnTo>
                  <a:pt x="0" y="2038350"/>
                </a:lnTo>
                <a:lnTo>
                  <a:pt x="381000" y="466725"/>
                </a:lnTo>
                <a:lnTo>
                  <a:pt x="838200" y="0"/>
                </a:lnTo>
                <a:lnTo>
                  <a:pt x="3295650" y="9525"/>
                </a:lnTo>
                <a:lnTo>
                  <a:pt x="2962275" y="1571625"/>
                </a:lnTo>
                <a:lnTo>
                  <a:pt x="2495550" y="203835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5218200" y="1971720"/>
            <a:ext cx="2414520" cy="23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" name="Прямая соединительная линия 26"/>
          <p:cNvSpPr/>
          <p:nvPr/>
        </p:nvSpPr>
        <p:spPr>
          <a:xfrm flipH="1">
            <a:off x="7632360" y="1523880"/>
            <a:ext cx="500040" cy="470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7" name="Прямая соединительная линия 28"/>
          <p:cNvSpPr/>
          <p:nvPr/>
        </p:nvSpPr>
        <p:spPr>
          <a:xfrm flipH="1">
            <a:off x="7332480" y="1995480"/>
            <a:ext cx="299880" cy="154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Скругленный прямоугольник 1"/>
          <p:cNvSpPr/>
          <p:nvPr/>
        </p:nvSpPr>
        <p:spPr>
          <a:xfrm>
            <a:off x="868320" y="404640"/>
            <a:ext cx="7429680" cy="11671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Прямоугольник 2"/>
          <p:cNvSpPr/>
          <p:nvPr/>
        </p:nvSpPr>
        <p:spPr>
          <a:xfrm>
            <a:off x="2311560" y="358920"/>
            <a:ext cx="240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mbria"/>
              </a:rPr>
              <a:t>Определение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" name="Прямоугольник 3"/>
          <p:cNvSpPr/>
          <p:nvPr/>
        </p:nvSpPr>
        <p:spPr>
          <a:xfrm>
            <a:off x="2151000" y="673200"/>
            <a:ext cx="568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Многогранником называется поверхность, которая составлена из </a:t>
            </a: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многоугольников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 и ограничивает некоторое</a:t>
            </a: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 геометрическое тело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671400" y="395280"/>
            <a:ext cx="1260720" cy="1187280"/>
          </a:xfrm>
          <a:prstGeom prst="rect">
            <a:avLst/>
          </a:prstGeom>
          <a:ln w="0">
            <a:noFill/>
          </a:ln>
        </p:spPr>
      </p:pic>
      <p:sp>
        <p:nvSpPr>
          <p:cNvPr id="62" name="Полилиния 8"/>
          <p:cNvSpPr/>
          <p:nvPr/>
        </p:nvSpPr>
        <p:spPr>
          <a:xfrm>
            <a:off x="4976640" y="2479680"/>
            <a:ext cx="652680" cy="2252520"/>
          </a:xfrm>
          <a:custGeom>
            <a:avLst/>
            <a:gdLst/>
            <a:ahLst/>
            <a:rect l="l" t="t" r="r" b="b"/>
            <a:pathLst>
              <a:path w="512989" h="1902279">
                <a:moveTo>
                  <a:pt x="0" y="1902279"/>
                </a:moveTo>
                <a:lnTo>
                  <a:pt x="509360" y="1322160"/>
                </a:lnTo>
                <a:cubicBezTo>
                  <a:pt x="510570" y="860878"/>
                  <a:pt x="511779" y="461282"/>
                  <a:pt x="512989" y="0"/>
                </a:cubicBezTo>
                <a:lnTo>
                  <a:pt x="8164" y="602457"/>
                </a:lnTo>
              </a:path>
            </a:pathLst>
          </a:custGeom>
          <a:solidFill>
            <a:srgbClr val="639729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3" name="Прямоугольник 7"/>
          <p:cNvSpPr/>
          <p:nvPr/>
        </p:nvSpPr>
        <p:spPr>
          <a:xfrm>
            <a:off x="3346560" y="3184560"/>
            <a:ext cx="1649160" cy="1535040"/>
          </a:xfrm>
          <a:prstGeom prst="rect">
            <a:avLst/>
          </a:prstGeom>
          <a:solidFill>
            <a:srgbClr val="b4de8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Полилиния 9"/>
          <p:cNvSpPr/>
          <p:nvPr/>
        </p:nvSpPr>
        <p:spPr>
          <a:xfrm>
            <a:off x="3338640" y="2479680"/>
            <a:ext cx="2293920" cy="709560"/>
          </a:xfrm>
          <a:custGeom>
            <a:avLst/>
            <a:gdLst/>
            <a:ahLst/>
            <a:rect l="l" t="t" r="r" b="b"/>
            <a:pathLst>
              <a:path w="1803400" h="600075">
                <a:moveTo>
                  <a:pt x="0" y="600075"/>
                </a:moveTo>
                <a:lnTo>
                  <a:pt x="1300957" y="597694"/>
                </a:lnTo>
                <a:lnTo>
                  <a:pt x="1803400" y="0"/>
                </a:lnTo>
                <a:lnTo>
                  <a:pt x="469900" y="9525"/>
                </a:lnTo>
                <a:lnTo>
                  <a:pt x="0" y="600075"/>
                </a:lnTo>
                <a:close/>
              </a:path>
            </a:pathLst>
          </a:custGeom>
          <a:solidFill>
            <a:srgbClr val="7ec234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Полилиния 10"/>
          <p:cNvSpPr/>
          <p:nvPr/>
        </p:nvSpPr>
        <p:spPr>
          <a:xfrm>
            <a:off x="4678200" y="1978200"/>
            <a:ext cx="303480" cy="1014120"/>
          </a:xfrm>
          <a:custGeom>
            <a:avLst/>
            <a:gdLst/>
            <a:ahLst/>
            <a:rect l="l" t="t" r="r" b="b"/>
            <a:pathLst>
              <a:path w="524118" h="1880021">
                <a:moveTo>
                  <a:pt x="0" y="1880021"/>
                </a:moveTo>
                <a:lnTo>
                  <a:pt x="509360" y="1299902"/>
                </a:lnTo>
                <a:cubicBezTo>
                  <a:pt x="510570" y="838620"/>
                  <a:pt x="522908" y="461282"/>
                  <a:pt x="524118" y="0"/>
                </a:cubicBezTo>
                <a:lnTo>
                  <a:pt x="8163" y="602456"/>
                </a:lnTo>
              </a:path>
            </a:pathLst>
          </a:custGeom>
          <a:solidFill>
            <a:srgbClr val="639729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" name="Прямоугольник 11"/>
          <p:cNvSpPr/>
          <p:nvPr/>
        </p:nvSpPr>
        <p:spPr>
          <a:xfrm>
            <a:off x="3930480" y="2290680"/>
            <a:ext cx="750960" cy="700200"/>
          </a:xfrm>
          <a:prstGeom prst="rect">
            <a:avLst/>
          </a:prstGeom>
          <a:solidFill>
            <a:srgbClr val="b4de8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" name="Полилиния 12"/>
          <p:cNvSpPr/>
          <p:nvPr/>
        </p:nvSpPr>
        <p:spPr>
          <a:xfrm>
            <a:off x="3929040" y="1976400"/>
            <a:ext cx="1054080" cy="320760"/>
          </a:xfrm>
          <a:custGeom>
            <a:avLst/>
            <a:gdLst/>
            <a:ahLst/>
            <a:rect l="l" t="t" r="r" b="b"/>
            <a:pathLst>
              <a:path w="1819427" h="610870">
                <a:moveTo>
                  <a:pt x="0" y="610870"/>
                </a:moveTo>
                <a:lnTo>
                  <a:pt x="1309038" y="605639"/>
                </a:lnTo>
                <a:lnTo>
                  <a:pt x="1819427" y="0"/>
                </a:lnTo>
                <a:lnTo>
                  <a:pt x="480363" y="15089"/>
                </a:lnTo>
                <a:lnTo>
                  <a:pt x="0" y="610870"/>
                </a:lnTo>
                <a:close/>
              </a:path>
            </a:pathLst>
          </a:custGeom>
          <a:solidFill>
            <a:srgbClr val="7ec234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Прямая соединительная линия 15"/>
          <p:cNvSpPr/>
          <p:nvPr/>
        </p:nvSpPr>
        <p:spPr>
          <a:xfrm flipH="1">
            <a:off x="3338640" y="2992320"/>
            <a:ext cx="591840" cy="196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cxnSp>
        <p:nvCxnSpPr>
          <p:cNvPr id="69" name="Прямая со стрелкой 17"/>
          <p:cNvCxnSpPr>
            <a:stCxn id="64" idx="2"/>
            <a:endCxn id="62" idx="0"/>
          </p:cNvCxnSpPr>
          <p:nvPr/>
        </p:nvCxnSpPr>
        <p:spPr>
          <a:xfrm flipH="1">
            <a:off x="4976280" y="2479320"/>
            <a:ext cx="656640" cy="22532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0" name="Прямая со стрелкой 23"/>
          <p:cNvCxnSpPr>
            <a:stCxn id="62" idx="2"/>
          </p:cNvCxnSpPr>
          <p:nvPr/>
        </p:nvCxnSpPr>
        <p:spPr>
          <a:xfrm flipH="1">
            <a:off x="3345840" y="2479320"/>
            <a:ext cx="2283480" cy="225324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  <a:tailEnd len="med" type="arrow" w="med"/>
          </a:ln>
        </p:spPr>
      </p:cxnSp>
      <p:sp>
        <p:nvSpPr>
          <p:cNvPr id="71" name="Прямая соединительная линия 26"/>
          <p:cNvSpPr/>
          <p:nvPr/>
        </p:nvSpPr>
        <p:spPr>
          <a:xfrm>
            <a:off x="2868480" y="2448000"/>
            <a:ext cx="1403640" cy="136440"/>
          </a:xfrm>
          <a:prstGeom prst="line">
            <a:avLst/>
          </a:prstGeom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TextBox 27"/>
          <p:cNvSpPr/>
          <p:nvPr/>
        </p:nvSpPr>
        <p:spPr>
          <a:xfrm>
            <a:off x="2053800" y="2263680"/>
            <a:ext cx="84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грань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Прямая соединительная линия 28"/>
          <p:cNvSpPr/>
          <p:nvPr/>
        </p:nvSpPr>
        <p:spPr>
          <a:xfrm>
            <a:off x="2550960" y="3346560"/>
            <a:ext cx="795600" cy="604800"/>
          </a:xfrm>
          <a:prstGeom prst="line">
            <a:avLst/>
          </a:prstGeom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Прямая соединительная линия 31"/>
          <p:cNvSpPr/>
          <p:nvPr/>
        </p:nvSpPr>
        <p:spPr>
          <a:xfrm flipH="1">
            <a:off x="3350880" y="3187800"/>
            <a:ext cx="4680" cy="1535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" name="TextBox 32"/>
          <p:cNvSpPr/>
          <p:nvPr/>
        </p:nvSpPr>
        <p:spPr>
          <a:xfrm>
            <a:off x="1727640" y="3162240"/>
            <a:ext cx="84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ребро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Прямая соединительная линия 38"/>
          <p:cNvSpPr/>
          <p:nvPr/>
        </p:nvSpPr>
        <p:spPr>
          <a:xfrm flipH="1" flipV="1">
            <a:off x="2416320" y="4368600"/>
            <a:ext cx="947520" cy="376200"/>
          </a:xfrm>
          <a:prstGeom prst="line">
            <a:avLst/>
          </a:prstGeom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Овал 39"/>
          <p:cNvSpPr/>
          <p:nvPr/>
        </p:nvSpPr>
        <p:spPr>
          <a:xfrm>
            <a:off x="3303720" y="4683240"/>
            <a:ext cx="71280" cy="7128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TextBox 40"/>
          <p:cNvSpPr/>
          <p:nvPr/>
        </p:nvSpPr>
        <p:spPr>
          <a:xfrm>
            <a:off x="3074400" y="4354560"/>
            <a:ext cx="29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mbri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TextBox 41"/>
          <p:cNvSpPr/>
          <p:nvPr/>
        </p:nvSpPr>
        <p:spPr>
          <a:xfrm>
            <a:off x="1240560" y="4184640"/>
            <a:ext cx="123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вершина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Прямая соединительная линия 46"/>
          <p:cNvSpPr/>
          <p:nvPr/>
        </p:nvSpPr>
        <p:spPr>
          <a:xfrm flipV="1">
            <a:off x="5407200" y="2690640"/>
            <a:ext cx="1325520" cy="587520"/>
          </a:xfrm>
          <a:prstGeom prst="line">
            <a:avLst/>
          </a:prstGeom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TextBox 54"/>
          <p:cNvSpPr/>
          <p:nvPr/>
        </p:nvSpPr>
        <p:spPr>
          <a:xfrm>
            <a:off x="6674400" y="2368440"/>
            <a:ext cx="145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диагональ 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грани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Прямая соединительная линия 57"/>
          <p:cNvSpPr/>
          <p:nvPr/>
        </p:nvSpPr>
        <p:spPr>
          <a:xfrm>
            <a:off x="4172040" y="3919680"/>
            <a:ext cx="2415960" cy="338040"/>
          </a:xfrm>
          <a:prstGeom prst="line">
            <a:avLst/>
          </a:prstGeom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TextBox 58"/>
          <p:cNvSpPr/>
          <p:nvPr/>
        </p:nvSpPr>
        <p:spPr>
          <a:xfrm>
            <a:off x="6588000" y="3935520"/>
            <a:ext cx="191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диагональ многогранника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Полилиния 6"/>
          <p:cNvSpPr/>
          <p:nvPr/>
        </p:nvSpPr>
        <p:spPr>
          <a:xfrm>
            <a:off x="879480" y="628560"/>
            <a:ext cx="1463760" cy="2192400"/>
          </a:xfrm>
          <a:custGeom>
            <a:avLst/>
            <a:gdLst/>
            <a:ahLst/>
            <a:rect l="l" t="t" r="r" b="b"/>
            <a:pathLst>
              <a:path w="1464734" h="2192866">
                <a:moveTo>
                  <a:pt x="0" y="1557866"/>
                </a:moveTo>
                <a:lnTo>
                  <a:pt x="1464734" y="0"/>
                </a:lnTo>
                <a:lnTo>
                  <a:pt x="829734" y="2192866"/>
                </a:lnTo>
                <a:lnTo>
                  <a:pt x="0" y="1557866"/>
                </a:lnTo>
                <a:close/>
              </a:path>
            </a:pathLst>
          </a:custGeom>
          <a:solidFill>
            <a:srgbClr val="c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Полилиния 7"/>
          <p:cNvSpPr/>
          <p:nvPr/>
        </p:nvSpPr>
        <p:spPr>
          <a:xfrm>
            <a:off x="1692360" y="638280"/>
            <a:ext cx="2349360" cy="2168280"/>
          </a:xfrm>
          <a:custGeom>
            <a:avLst/>
            <a:gdLst/>
            <a:ahLst/>
            <a:rect l="l" t="t" r="r" b="b"/>
            <a:pathLst>
              <a:path w="2350333" h="2168945">
                <a:moveTo>
                  <a:pt x="0" y="2168945"/>
                </a:moveTo>
                <a:lnTo>
                  <a:pt x="2350333" y="1790478"/>
                </a:lnTo>
                <a:lnTo>
                  <a:pt x="654508" y="0"/>
                </a:lnTo>
                <a:lnTo>
                  <a:pt x="0" y="2168945"/>
                </a:lnTo>
                <a:close/>
              </a:path>
            </a:pathLst>
          </a:custGeom>
          <a:solidFill>
            <a:srgbClr val="ff2d2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Полилиния 8"/>
          <p:cNvSpPr/>
          <p:nvPr/>
        </p:nvSpPr>
        <p:spPr>
          <a:xfrm>
            <a:off x="1689120" y="2424240"/>
            <a:ext cx="2355840" cy="1368360"/>
          </a:xfrm>
          <a:custGeom>
            <a:avLst/>
            <a:gdLst/>
            <a:ahLst/>
            <a:rect l="l" t="t" r="r" b="b"/>
            <a:pathLst>
              <a:path w="2356095" h="1368184">
                <a:moveTo>
                  <a:pt x="643466" y="1368184"/>
                </a:moveTo>
                <a:lnTo>
                  <a:pt x="2356095" y="0"/>
                </a:lnTo>
                <a:lnTo>
                  <a:pt x="0" y="369117"/>
                </a:lnTo>
                <a:lnTo>
                  <a:pt x="643466" y="1368184"/>
                </a:lnTo>
                <a:close/>
              </a:path>
            </a:pathLst>
          </a:custGeom>
          <a:solidFill>
            <a:srgbClr val="ee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Полилиния 9"/>
          <p:cNvSpPr/>
          <p:nvPr/>
        </p:nvSpPr>
        <p:spPr>
          <a:xfrm>
            <a:off x="878040" y="2182680"/>
            <a:ext cx="1457280" cy="1613160"/>
          </a:xfrm>
          <a:custGeom>
            <a:avLst/>
            <a:gdLst/>
            <a:ahLst/>
            <a:rect l="l" t="t" r="r" b="b"/>
            <a:pathLst>
              <a:path w="1456648" h="1612721">
                <a:moveTo>
                  <a:pt x="0" y="0"/>
                </a:moveTo>
                <a:lnTo>
                  <a:pt x="1456648" y="1612721"/>
                </a:lnTo>
                <a:lnTo>
                  <a:pt x="813182" y="622121"/>
                </a:lnTo>
                <a:lnTo>
                  <a:pt x="0" y="0"/>
                </a:lnTo>
                <a:close/>
              </a:path>
            </a:pathLst>
          </a:custGeom>
          <a:solidFill>
            <a:srgbClr val="63252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Прямоугольник 10"/>
          <p:cNvSpPr/>
          <p:nvPr/>
        </p:nvSpPr>
        <p:spPr>
          <a:xfrm>
            <a:off x="898200" y="4084560"/>
            <a:ext cx="31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Выпуклый многогранник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89" name="Рисунок 64" descr=""/>
          <p:cNvPicPr/>
          <p:nvPr/>
        </p:nvPicPr>
        <p:blipFill>
          <a:blip r:embed="rId1"/>
          <a:stretch/>
        </p:blipFill>
        <p:spPr>
          <a:xfrm>
            <a:off x="5148360" y="608040"/>
            <a:ext cx="2684520" cy="3184560"/>
          </a:xfrm>
          <a:prstGeom prst="rect">
            <a:avLst/>
          </a:prstGeom>
          <a:ln w="0">
            <a:noFill/>
          </a:ln>
        </p:spPr>
      </p:pic>
      <p:sp>
        <p:nvSpPr>
          <p:cNvPr id="90" name="Прямоугольник 65"/>
          <p:cNvSpPr/>
          <p:nvPr/>
        </p:nvSpPr>
        <p:spPr>
          <a:xfrm>
            <a:off x="4734360" y="4084560"/>
            <a:ext cx="351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Невыпуклый многогранник 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 spd="med">
    <p:fade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Box 9"/>
          <p:cNvSpPr/>
          <p:nvPr/>
        </p:nvSpPr>
        <p:spPr>
          <a:xfrm>
            <a:off x="2651760" y="31104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Cambria"/>
              </a:rPr>
              <a:t>φ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Cambri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2" name="TextBox 14"/>
          <p:cNvSpPr/>
          <p:nvPr/>
        </p:nvSpPr>
        <p:spPr>
          <a:xfrm>
            <a:off x="1914840" y="1065240"/>
            <a:ext cx="447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Cambria"/>
              </a:rPr>
              <a:t>φ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Cambri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3" name="TextBox 16"/>
          <p:cNvSpPr/>
          <p:nvPr/>
        </p:nvSpPr>
        <p:spPr>
          <a:xfrm>
            <a:off x="2408400" y="1000080"/>
            <a:ext cx="447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Cambria"/>
              </a:rPr>
              <a:t>φ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Cambri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94" name="Группа 25"/>
          <p:cNvGrpSpPr/>
          <p:nvPr/>
        </p:nvGrpSpPr>
        <p:grpSpPr>
          <a:xfrm>
            <a:off x="625320" y="283320"/>
            <a:ext cx="3521160" cy="3367800"/>
            <a:chOff x="625320" y="283320"/>
            <a:chExt cx="3521160" cy="3367800"/>
          </a:xfrm>
        </p:grpSpPr>
        <p:sp>
          <p:nvSpPr>
            <p:cNvPr id="95" name="Полилиния 7"/>
            <p:cNvSpPr/>
            <p:nvPr/>
          </p:nvSpPr>
          <p:spPr>
            <a:xfrm>
              <a:off x="636480" y="3000600"/>
              <a:ext cx="3508560" cy="644400"/>
            </a:xfrm>
            <a:custGeom>
              <a:avLst/>
              <a:gdLst/>
              <a:ahLst/>
              <a:rect l="l" t="t" r="r" b="b"/>
              <a:pathLst>
                <a:path w="2703443" h="496956">
                  <a:moveTo>
                    <a:pt x="1341782" y="496956"/>
                  </a:moveTo>
                  <a:lnTo>
                    <a:pt x="2703443" y="9939"/>
                  </a:lnTo>
                  <a:lnTo>
                    <a:pt x="0" y="0"/>
                  </a:lnTo>
                  <a:lnTo>
                    <a:pt x="1341782" y="496956"/>
                  </a:lnTo>
                  <a:close/>
                </a:path>
              </a:pathLst>
            </a:custGeom>
            <a:solidFill>
              <a:srgbClr val="ffc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96" name="Полилиния 2"/>
            <p:cNvSpPr/>
            <p:nvPr/>
          </p:nvSpPr>
          <p:spPr>
            <a:xfrm>
              <a:off x="625320" y="518760"/>
              <a:ext cx="3521160" cy="3132360"/>
            </a:xfrm>
            <a:custGeom>
              <a:avLst/>
              <a:gdLst/>
              <a:ahLst/>
              <a:rect l="l" t="t" r="r" b="b"/>
              <a:pathLst>
                <a:path w="2713383" h="2415209">
                  <a:moveTo>
                    <a:pt x="0" y="1918252"/>
                  </a:moveTo>
                  <a:lnTo>
                    <a:pt x="1371600" y="0"/>
                  </a:lnTo>
                  <a:lnTo>
                    <a:pt x="2713383" y="1928191"/>
                  </a:lnTo>
                  <a:lnTo>
                    <a:pt x="1361661" y="2415209"/>
                  </a:lnTo>
                  <a:lnTo>
                    <a:pt x="0" y="1918252"/>
                  </a:lnTo>
                  <a:close/>
                </a:path>
              </a:pathLst>
            </a:custGeom>
            <a:noFill/>
            <a:ln w="1908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97" name="Прямая соединительная линия 4"/>
            <p:cNvSpPr/>
            <p:nvPr/>
          </p:nvSpPr>
          <p:spPr>
            <a:xfrm flipH="1">
              <a:off x="2391840" y="518760"/>
              <a:ext cx="12600" cy="3132360"/>
            </a:xfrm>
            <a:prstGeom prst="line">
              <a:avLst/>
            </a:prstGeom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98" name="Прямая соединительная линия 6"/>
            <p:cNvSpPr/>
            <p:nvPr/>
          </p:nvSpPr>
          <p:spPr>
            <a:xfrm>
              <a:off x="625320" y="3006720"/>
              <a:ext cx="3521160" cy="12600"/>
            </a:xfrm>
            <a:prstGeom prst="line">
              <a:avLst/>
            </a:prstGeom>
            <a:ln w="19080">
              <a:solidFill>
                <a:srgbClr val="00206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99" name="Дуга 8"/>
            <p:cNvSpPr/>
            <p:nvPr/>
          </p:nvSpPr>
          <p:spPr>
            <a:xfrm rot="7698000">
              <a:off x="2154960" y="354960"/>
              <a:ext cx="421560" cy="492120"/>
            </a:xfrm>
            <a:custGeom>
              <a:avLst/>
              <a:gdLst/>
              <a:ahLst/>
              <a:rect l="l" t="t" r="r" b="b"/>
              <a:pathLst>
                <a:path stroke="0" w="482585" h="563016">
                  <a:moveTo>
                    <a:pt x="241292" y="0"/>
                  </a:moveTo>
                  <a:cubicBezTo>
                    <a:pt x="374554" y="0"/>
                    <a:pt x="482585" y="126035"/>
                    <a:pt x="482585" y="281508"/>
                  </a:cubicBezTo>
                  <a:lnTo>
                    <a:pt x="241293" y="281508"/>
                  </a:lnTo>
                  <a:cubicBezTo>
                    <a:pt x="241293" y="187672"/>
                    <a:pt x="241292" y="93836"/>
                    <a:pt x="241292" y="0"/>
                  </a:cubicBezTo>
                  <a:close/>
                </a:path>
                <a:path fill="none" w="482585" h="563016">
                  <a:moveTo>
                    <a:pt x="241292" y="0"/>
                  </a:moveTo>
                  <a:cubicBezTo>
                    <a:pt x="374554" y="0"/>
                    <a:pt x="482585" y="126035"/>
                    <a:pt x="482585" y="281508"/>
                  </a:cubicBezTo>
                </a:path>
              </a:pathLst>
            </a:custGeom>
            <a:noFill/>
            <a:ln w="19080">
              <a:solidFill>
                <a:srgbClr val="002060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100" name="Дуга 11"/>
            <p:cNvSpPr/>
            <p:nvPr/>
          </p:nvSpPr>
          <p:spPr>
            <a:xfrm rot="9618000">
              <a:off x="2138760" y="622440"/>
              <a:ext cx="380880" cy="398520"/>
            </a:xfrm>
            <a:custGeom>
              <a:avLst/>
              <a:gdLst/>
              <a:ahLst/>
              <a:rect l="l" t="t" r="r" b="b"/>
              <a:pathLst>
                <a:path stroke="0" w="435662" h="455916">
                  <a:moveTo>
                    <a:pt x="217831" y="0"/>
                  </a:moveTo>
                  <a:cubicBezTo>
                    <a:pt x="338136" y="0"/>
                    <a:pt x="435662" y="102060"/>
                    <a:pt x="435662" y="227958"/>
                  </a:cubicBezTo>
                  <a:lnTo>
                    <a:pt x="217831" y="227958"/>
                  </a:lnTo>
                  <a:lnTo>
                    <a:pt x="217831" y="0"/>
                  </a:lnTo>
                  <a:close/>
                </a:path>
                <a:path fill="none" w="435662" h="455916">
                  <a:moveTo>
                    <a:pt x="217831" y="0"/>
                  </a:moveTo>
                  <a:cubicBezTo>
                    <a:pt x="338136" y="0"/>
                    <a:pt x="435662" y="102060"/>
                    <a:pt x="435662" y="227958"/>
                  </a:cubicBezTo>
                </a:path>
              </a:pathLst>
            </a:custGeom>
            <a:noFill/>
            <a:ln w="1908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101" name="Дуга 12"/>
            <p:cNvSpPr/>
            <p:nvPr/>
          </p:nvSpPr>
          <p:spPr>
            <a:xfrm rot="5569800">
              <a:off x="2216880" y="641520"/>
              <a:ext cx="403560" cy="486000"/>
            </a:xfrm>
            <a:custGeom>
              <a:avLst/>
              <a:gdLst/>
              <a:ahLst/>
              <a:rect l="l" t="t" r="r" b="b"/>
              <a:pathLst>
                <a:path stroke="0" w="461681" h="555858">
                  <a:moveTo>
                    <a:pt x="230840" y="0"/>
                  </a:moveTo>
                  <a:cubicBezTo>
                    <a:pt x="358330" y="0"/>
                    <a:pt x="461681" y="124433"/>
                    <a:pt x="461681" y="277929"/>
                  </a:cubicBezTo>
                  <a:lnTo>
                    <a:pt x="230841" y="277929"/>
                  </a:lnTo>
                  <a:cubicBezTo>
                    <a:pt x="230841" y="185286"/>
                    <a:pt x="230840" y="92643"/>
                    <a:pt x="230840" y="0"/>
                  </a:cubicBezTo>
                  <a:close/>
                </a:path>
                <a:path fill="none" w="461681" h="555858">
                  <a:moveTo>
                    <a:pt x="230840" y="0"/>
                  </a:moveTo>
                  <a:cubicBezTo>
                    <a:pt x="358330" y="0"/>
                    <a:pt x="461681" y="124433"/>
                    <a:pt x="461681" y="277929"/>
                  </a:cubicBezTo>
                </a:path>
              </a:pathLst>
            </a:custGeom>
            <a:noFill/>
            <a:ln w="1908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102" name="Прямая соединительная линия 17"/>
            <p:cNvSpPr/>
            <p:nvPr/>
          </p:nvSpPr>
          <p:spPr>
            <a:xfrm flipH="1">
              <a:off x="2438640" y="619200"/>
              <a:ext cx="189360" cy="9216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grpSp>
        <p:nvGrpSpPr>
          <p:cNvPr id="103" name="Группа 2047"/>
          <p:cNvGrpSpPr/>
          <p:nvPr/>
        </p:nvGrpSpPr>
        <p:grpSpPr>
          <a:xfrm>
            <a:off x="4732200" y="467280"/>
            <a:ext cx="2998800" cy="2855520"/>
            <a:chOff x="4732200" y="467280"/>
            <a:chExt cx="2998800" cy="2855520"/>
          </a:xfrm>
        </p:grpSpPr>
        <p:sp>
          <p:nvSpPr>
            <p:cNvPr id="104" name="Равнобедренный треугольник 23"/>
            <p:cNvSpPr/>
            <p:nvPr/>
          </p:nvSpPr>
          <p:spPr>
            <a:xfrm>
              <a:off x="5484960" y="736560"/>
              <a:ext cx="1500120" cy="1293120"/>
            </a:xfrm>
            <a:prstGeom prst="triangle">
              <a:avLst>
                <a:gd name="adj" fmla="val 50000"/>
              </a:avLst>
            </a:prstGeom>
            <a:noFill/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105" name="Равнобедренный треугольник 27"/>
            <p:cNvSpPr/>
            <p:nvPr/>
          </p:nvSpPr>
          <p:spPr>
            <a:xfrm flipV="1">
              <a:off x="4732200" y="731520"/>
              <a:ext cx="1500120" cy="1293120"/>
            </a:xfrm>
            <a:prstGeom prst="triangle">
              <a:avLst>
                <a:gd name="adj" fmla="val 50000"/>
              </a:avLst>
            </a:prstGeom>
            <a:noFill/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106" name="Равнобедренный треугольник 28"/>
            <p:cNvSpPr/>
            <p:nvPr/>
          </p:nvSpPr>
          <p:spPr>
            <a:xfrm flipV="1">
              <a:off x="6230880" y="729720"/>
              <a:ext cx="1500120" cy="1293120"/>
            </a:xfrm>
            <a:prstGeom prst="triangle">
              <a:avLst>
                <a:gd name="adj" fmla="val 50000"/>
              </a:avLst>
            </a:prstGeom>
            <a:noFill/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107" name="Равнобедренный треугольник 29"/>
            <p:cNvSpPr/>
            <p:nvPr/>
          </p:nvSpPr>
          <p:spPr>
            <a:xfrm flipV="1">
              <a:off x="5475600" y="2029680"/>
              <a:ext cx="1500120" cy="1293120"/>
            </a:xfrm>
            <a:prstGeom prst="triangle">
              <a:avLst>
                <a:gd name="adj" fmla="val 50000"/>
              </a:avLst>
            </a:prstGeom>
            <a:solidFill>
              <a:srgbClr val="ffc000">
                <a:alpha val="70000"/>
              </a:srgbClr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108" name="Дуга 30"/>
            <p:cNvSpPr/>
            <p:nvPr/>
          </p:nvSpPr>
          <p:spPr>
            <a:xfrm rot="11253600">
              <a:off x="5887080" y="514080"/>
              <a:ext cx="465480" cy="486720"/>
            </a:xfrm>
            <a:custGeom>
              <a:avLst/>
              <a:gdLst/>
              <a:ahLst/>
              <a:rect l="l" t="t" r="r" b="b"/>
              <a:pathLst>
                <a:path stroke="0" w="551058" h="576676">
                  <a:moveTo>
                    <a:pt x="275529" y="0"/>
                  </a:moveTo>
                  <a:cubicBezTo>
                    <a:pt x="427699" y="0"/>
                    <a:pt x="551058" y="129093"/>
                    <a:pt x="551058" y="288338"/>
                  </a:cubicBezTo>
                  <a:lnTo>
                    <a:pt x="275529" y="288338"/>
                  </a:lnTo>
                  <a:lnTo>
                    <a:pt x="275529" y="0"/>
                  </a:lnTo>
                  <a:close/>
                </a:path>
                <a:path fill="none" w="551058" h="576676">
                  <a:moveTo>
                    <a:pt x="275529" y="0"/>
                  </a:moveTo>
                  <a:cubicBezTo>
                    <a:pt x="427699" y="0"/>
                    <a:pt x="551058" y="129093"/>
                    <a:pt x="551058" y="288338"/>
                  </a:cubicBezTo>
                </a:path>
              </a:pathLst>
            </a:custGeom>
            <a:noFill/>
            <a:ln w="1908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109" name="Дуга 31"/>
            <p:cNvSpPr/>
            <p:nvPr/>
          </p:nvSpPr>
          <p:spPr>
            <a:xfrm rot="4942200">
              <a:off x="6114600" y="471960"/>
              <a:ext cx="493200" cy="593640"/>
            </a:xfrm>
            <a:custGeom>
              <a:avLst/>
              <a:gdLst/>
              <a:ahLst/>
              <a:rect l="l" t="t" r="r" b="b"/>
              <a:pathLst>
                <a:path stroke="0" w="583968" h="703090">
                  <a:moveTo>
                    <a:pt x="291984" y="0"/>
                  </a:moveTo>
                  <a:cubicBezTo>
                    <a:pt x="453242" y="0"/>
                    <a:pt x="583968" y="157392"/>
                    <a:pt x="583968" y="351545"/>
                  </a:cubicBezTo>
                  <a:lnTo>
                    <a:pt x="291984" y="351545"/>
                  </a:lnTo>
                  <a:lnTo>
                    <a:pt x="291984" y="0"/>
                  </a:lnTo>
                  <a:close/>
                </a:path>
                <a:path fill="none" w="583968" h="703090">
                  <a:moveTo>
                    <a:pt x="291984" y="0"/>
                  </a:moveTo>
                  <a:cubicBezTo>
                    <a:pt x="453242" y="0"/>
                    <a:pt x="583968" y="157392"/>
                    <a:pt x="583968" y="351545"/>
                  </a:cubicBezTo>
                </a:path>
              </a:pathLst>
            </a:custGeom>
            <a:noFill/>
            <a:ln w="1908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110" name="Дуга 32"/>
            <p:cNvSpPr/>
            <p:nvPr/>
          </p:nvSpPr>
          <p:spPr>
            <a:xfrm rot="7590000">
              <a:off x="5937480" y="545040"/>
              <a:ext cx="493200" cy="593640"/>
            </a:xfrm>
            <a:custGeom>
              <a:avLst/>
              <a:gdLst/>
              <a:ahLst/>
              <a:rect l="l" t="t" r="r" b="b"/>
              <a:pathLst>
                <a:path stroke="0" w="583968" h="703090">
                  <a:moveTo>
                    <a:pt x="291984" y="0"/>
                  </a:moveTo>
                  <a:cubicBezTo>
                    <a:pt x="453242" y="0"/>
                    <a:pt x="583968" y="157392"/>
                    <a:pt x="583968" y="351545"/>
                  </a:cubicBezTo>
                  <a:lnTo>
                    <a:pt x="291984" y="351545"/>
                  </a:lnTo>
                  <a:lnTo>
                    <a:pt x="291984" y="0"/>
                  </a:lnTo>
                  <a:close/>
                </a:path>
                <a:path fill="none" w="583968" h="703090">
                  <a:moveTo>
                    <a:pt x="291984" y="0"/>
                  </a:moveTo>
                  <a:cubicBezTo>
                    <a:pt x="453242" y="0"/>
                    <a:pt x="583968" y="157392"/>
                    <a:pt x="583968" y="351545"/>
                  </a:cubicBezTo>
                </a:path>
              </a:pathLst>
            </a:custGeom>
            <a:noFill/>
            <a:ln w="1908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111" name="TextBox 33"/>
          <p:cNvSpPr/>
          <p:nvPr/>
        </p:nvSpPr>
        <p:spPr>
          <a:xfrm>
            <a:off x="5572440" y="757080"/>
            <a:ext cx="447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Cambria"/>
              </a:rPr>
              <a:t>φ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Cambri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" name="TextBox 34"/>
          <p:cNvSpPr/>
          <p:nvPr/>
        </p:nvSpPr>
        <p:spPr>
          <a:xfrm>
            <a:off x="6586920" y="800280"/>
            <a:ext cx="447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Cambria"/>
              </a:rPr>
              <a:t>φ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Cambri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" name="TextBox 35"/>
          <p:cNvSpPr/>
          <p:nvPr/>
        </p:nvSpPr>
        <p:spPr>
          <a:xfrm>
            <a:off x="6037920" y="101772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Cambria"/>
              </a:rPr>
              <a:t>φ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Cambri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4" name="TextBox 38"/>
          <p:cNvSpPr/>
          <p:nvPr/>
        </p:nvSpPr>
        <p:spPr>
          <a:xfrm>
            <a:off x="3075480" y="4095720"/>
            <a:ext cx="3344040" cy="648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Cambria"/>
              </a:rPr>
              <a:t>φ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ambria"/>
              </a:rPr>
              <a:t>1 </a:t>
            </a: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+ </a:t>
            </a:r>
            <a:r>
              <a:rPr b="0" lang="el-GR" sz="3200" spc="-1" strike="noStrike">
                <a:solidFill>
                  <a:srgbClr val="000000"/>
                </a:solidFill>
                <a:latin typeface="Cambria"/>
              </a:rPr>
              <a:t>φ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ambria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 + </a:t>
            </a:r>
            <a:r>
              <a:rPr b="0" lang="el-GR" sz="3200" spc="-1" strike="noStrike">
                <a:solidFill>
                  <a:srgbClr val="000000"/>
                </a:solidFill>
                <a:latin typeface="Cambria"/>
              </a:rPr>
              <a:t>φ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ambria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 &lt; 360°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 spd="med">
    <p:fade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Рисунок 6" descr=""/>
          <p:cNvPicPr/>
          <p:nvPr/>
        </p:nvPicPr>
        <p:blipFill>
          <a:blip r:embed="rId1"/>
          <a:stretch/>
        </p:blipFill>
        <p:spPr>
          <a:xfrm>
            <a:off x="3300480" y="747720"/>
            <a:ext cx="2712960" cy="2819520"/>
          </a:xfrm>
          <a:prstGeom prst="rect">
            <a:avLst/>
          </a:prstGeom>
          <a:ln w="0">
            <a:noFill/>
          </a:ln>
        </p:spPr>
      </p:pic>
      <p:sp>
        <p:nvSpPr>
          <p:cNvPr id="116" name="Прямая соединительная линия 2"/>
          <p:cNvSpPr/>
          <p:nvPr/>
        </p:nvSpPr>
        <p:spPr>
          <a:xfrm>
            <a:off x="4294080" y="770040"/>
            <a:ext cx="0" cy="181296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Прямая соединительная линия 3"/>
          <p:cNvSpPr/>
          <p:nvPr/>
        </p:nvSpPr>
        <p:spPr>
          <a:xfrm flipH="1">
            <a:off x="3348000" y="2616120"/>
            <a:ext cx="922320" cy="5875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8" name="Прямая соединительная линия 4"/>
          <p:cNvSpPr/>
          <p:nvPr/>
        </p:nvSpPr>
        <p:spPr>
          <a:xfrm>
            <a:off x="4334040" y="2592360"/>
            <a:ext cx="1658880" cy="3398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9" name="Полилиния 23"/>
          <p:cNvSpPr/>
          <p:nvPr/>
        </p:nvSpPr>
        <p:spPr>
          <a:xfrm>
            <a:off x="4797360" y="1535040"/>
            <a:ext cx="436680" cy="181080"/>
          </a:xfrm>
          <a:custGeom>
            <a:avLst/>
            <a:gdLst/>
            <a:ahLst/>
            <a:rect l="l" t="t" r="r" b="b"/>
            <a:pathLst>
              <a:path w="436811" h="180871">
                <a:moveTo>
                  <a:pt x="0" y="130629"/>
                </a:moveTo>
                <a:lnTo>
                  <a:pt x="231113" y="0"/>
                </a:lnTo>
                <a:lnTo>
                  <a:pt x="436811" y="45260"/>
                </a:lnTo>
                <a:lnTo>
                  <a:pt x="221064" y="180871"/>
                </a:lnTo>
                <a:lnTo>
                  <a:pt x="0" y="130629"/>
                </a:lnTo>
                <a:close/>
              </a:path>
            </a:pathLst>
          </a:custGeom>
          <a:solidFill>
            <a:srgbClr val="a6a6a6">
              <a:alpha val="44000"/>
            </a:srgbClr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Полилиния 24"/>
          <p:cNvSpPr/>
          <p:nvPr/>
        </p:nvSpPr>
        <p:spPr>
          <a:xfrm>
            <a:off x="4775040" y="1676520"/>
            <a:ext cx="250920" cy="382320"/>
          </a:xfrm>
          <a:custGeom>
            <a:avLst/>
            <a:gdLst/>
            <a:ahLst/>
            <a:rect l="l" t="t" r="r" b="b"/>
            <a:pathLst>
              <a:path w="251209" h="381837">
                <a:moveTo>
                  <a:pt x="241161" y="50241"/>
                </a:moveTo>
                <a:lnTo>
                  <a:pt x="251209" y="381837"/>
                </a:lnTo>
                <a:lnTo>
                  <a:pt x="0" y="321547"/>
                </a:lnTo>
                <a:lnTo>
                  <a:pt x="0" y="0"/>
                </a:lnTo>
                <a:lnTo>
                  <a:pt x="241161" y="50241"/>
                </a:lnTo>
                <a:close/>
              </a:path>
            </a:pathLst>
          </a:custGeom>
          <a:solidFill>
            <a:srgbClr val="a6a6a6">
              <a:alpha val="44000"/>
            </a:srgbClr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Полилиния 22"/>
          <p:cNvSpPr/>
          <p:nvPr/>
        </p:nvSpPr>
        <p:spPr>
          <a:xfrm>
            <a:off x="5037120" y="1606680"/>
            <a:ext cx="181080" cy="417240"/>
          </a:xfrm>
          <a:custGeom>
            <a:avLst/>
            <a:gdLst/>
            <a:ahLst/>
            <a:rect l="l" t="t" r="r" b="b"/>
            <a:pathLst>
              <a:path w="180871" h="417633">
                <a:moveTo>
                  <a:pt x="84" y="417632"/>
                </a:moveTo>
                <a:cubicBezTo>
                  <a:pt x="56" y="418300"/>
                  <a:pt x="28" y="216331"/>
                  <a:pt x="0" y="115680"/>
                </a:cubicBezTo>
                <a:lnTo>
                  <a:pt x="180871" y="0"/>
                </a:lnTo>
                <a:cubicBezTo>
                  <a:pt x="180843" y="103044"/>
                  <a:pt x="180816" y="206088"/>
                  <a:pt x="180788" y="309132"/>
                </a:cubicBezTo>
                <a:lnTo>
                  <a:pt x="0" y="417131"/>
                </a:lnTo>
                <a:lnTo>
                  <a:pt x="0" y="417131"/>
                </a:lnTo>
                <a:lnTo>
                  <a:pt x="0" y="417131"/>
                </a:lnTo>
              </a:path>
            </a:pathLst>
          </a:custGeom>
          <a:solidFill>
            <a:srgbClr val="a6a6a6">
              <a:alpha val="44000"/>
            </a:srgbClr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2" name="Овал 25"/>
          <p:cNvSpPr/>
          <p:nvPr/>
        </p:nvSpPr>
        <p:spPr>
          <a:xfrm>
            <a:off x="4979880" y="1679400"/>
            <a:ext cx="71640" cy="7308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3" name="Прямоугольник 26"/>
          <p:cNvSpPr/>
          <p:nvPr/>
        </p:nvSpPr>
        <p:spPr>
          <a:xfrm>
            <a:off x="2084040" y="3973680"/>
            <a:ext cx="4961520" cy="5814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90° + 90° + 90° = 270° &lt; 360°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 spd="med">
    <p:fade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Рисунок 23" descr=""/>
          <p:cNvPicPr/>
          <p:nvPr/>
        </p:nvPicPr>
        <p:blipFill>
          <a:blip r:embed="rId1"/>
          <a:stretch/>
        </p:blipFill>
        <p:spPr>
          <a:xfrm>
            <a:off x="1214280" y="366840"/>
            <a:ext cx="1730520" cy="1515960"/>
          </a:xfrm>
          <a:prstGeom prst="rect">
            <a:avLst/>
          </a:prstGeom>
          <a:ln w="0">
            <a:noFill/>
          </a:ln>
        </p:spPr>
      </p:pic>
      <p:pic>
        <p:nvPicPr>
          <p:cNvPr id="125" name="Рисунок 24" descr=""/>
          <p:cNvPicPr/>
          <p:nvPr/>
        </p:nvPicPr>
        <p:blipFill>
          <a:blip r:embed="rId2"/>
          <a:stretch/>
        </p:blipFill>
        <p:spPr>
          <a:xfrm>
            <a:off x="3851280" y="458640"/>
            <a:ext cx="1625760" cy="1332000"/>
          </a:xfrm>
          <a:prstGeom prst="rect">
            <a:avLst/>
          </a:prstGeom>
          <a:ln w="0">
            <a:noFill/>
          </a:ln>
        </p:spPr>
      </p:pic>
      <p:pic>
        <p:nvPicPr>
          <p:cNvPr id="126" name="Рисунок 25" descr=""/>
          <p:cNvPicPr/>
          <p:nvPr/>
        </p:nvPicPr>
        <p:blipFill>
          <a:blip r:embed="rId3"/>
          <a:stretch/>
        </p:blipFill>
        <p:spPr>
          <a:xfrm>
            <a:off x="6443640" y="341280"/>
            <a:ext cx="1560600" cy="1565280"/>
          </a:xfrm>
          <a:prstGeom prst="rect">
            <a:avLst/>
          </a:prstGeom>
          <a:ln w="0">
            <a:noFill/>
          </a:ln>
        </p:spPr>
      </p:pic>
      <p:pic>
        <p:nvPicPr>
          <p:cNvPr id="127" name="Рисунок 26" descr=""/>
          <p:cNvPicPr/>
          <p:nvPr/>
        </p:nvPicPr>
        <p:blipFill>
          <a:blip r:embed="rId4"/>
          <a:stretch/>
        </p:blipFill>
        <p:spPr>
          <a:xfrm>
            <a:off x="2268360" y="2859120"/>
            <a:ext cx="1449720" cy="150012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27" descr=""/>
          <p:cNvPicPr/>
          <p:nvPr/>
        </p:nvPicPr>
        <p:blipFill>
          <a:blip r:embed="rId5"/>
          <a:stretch/>
        </p:blipFill>
        <p:spPr>
          <a:xfrm>
            <a:off x="5364000" y="2859120"/>
            <a:ext cx="1471680" cy="1554120"/>
          </a:xfrm>
          <a:prstGeom prst="rect">
            <a:avLst/>
          </a:prstGeom>
          <a:ln w="0">
            <a:noFill/>
          </a:ln>
        </p:spPr>
      </p:pic>
      <p:sp>
        <p:nvSpPr>
          <p:cNvPr id="129" name="Прямоугольник 28"/>
          <p:cNvSpPr/>
          <p:nvPr/>
        </p:nvSpPr>
        <p:spPr>
          <a:xfrm>
            <a:off x="1473840" y="187488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Тетраэдр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0" name="TextBox 30"/>
          <p:cNvSpPr/>
          <p:nvPr/>
        </p:nvSpPr>
        <p:spPr>
          <a:xfrm>
            <a:off x="4363560" y="1882800"/>
            <a:ext cx="60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Куб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1" name="Прямоугольник 31"/>
          <p:cNvSpPr/>
          <p:nvPr/>
        </p:nvSpPr>
        <p:spPr>
          <a:xfrm>
            <a:off x="6660360" y="187488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Октаэдр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Прямоугольник 33"/>
          <p:cNvSpPr/>
          <p:nvPr/>
        </p:nvSpPr>
        <p:spPr>
          <a:xfrm>
            <a:off x="2304000" y="4413240"/>
            <a:ext cx="137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Додекаэдр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Прямоугольник 34"/>
          <p:cNvSpPr/>
          <p:nvPr/>
        </p:nvSpPr>
        <p:spPr>
          <a:xfrm>
            <a:off x="5468760" y="4413240"/>
            <a:ext cx="126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Икосаэдр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 spd="med">
    <p:fade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Box 2"/>
          <p:cNvSpPr/>
          <p:nvPr/>
        </p:nvSpPr>
        <p:spPr>
          <a:xfrm>
            <a:off x="395280" y="230040"/>
            <a:ext cx="165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mbria"/>
              </a:rPr>
              <a:t>Задача</a:t>
            </a:r>
            <a:r>
              <a:rPr b="1" lang="en-US" sz="2800" spc="-1" strike="noStrike">
                <a:solidFill>
                  <a:srgbClr val="ff0000"/>
                </a:solidFill>
                <a:latin typeface="Cambria"/>
              </a:rPr>
              <a:t> 1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Прямоугольник 12"/>
          <p:cNvSpPr/>
          <p:nvPr/>
        </p:nvSpPr>
        <p:spPr>
          <a:xfrm>
            <a:off x="415800" y="971640"/>
            <a:ext cx="379584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АВС</a:t>
            </a:r>
            <a:r>
              <a:rPr b="0" lang="en-US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А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mbria Math"/>
                <a:ea typeface="Cambria Math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В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mbria Math"/>
                <a:ea typeface="Cambria Math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С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mbria Math"/>
                <a:ea typeface="Cambria Math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D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mbria Math"/>
                <a:ea typeface="Cambria Math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 — прямоугольный параллелепипед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TextBox 13"/>
          <p:cNvSpPr/>
          <p:nvPr/>
        </p:nvSpPr>
        <p:spPr>
          <a:xfrm>
            <a:off x="400680" y="663480"/>
            <a:ext cx="91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Дано: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7" name="TextBox 17"/>
          <p:cNvSpPr/>
          <p:nvPr/>
        </p:nvSpPr>
        <p:spPr>
          <a:xfrm>
            <a:off x="313560" y="1795320"/>
            <a:ext cx="2113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АС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mbria Math"/>
                <a:ea typeface="Cambria Math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^</a:t>
            </a:r>
            <a:r>
              <a:rPr b="0" lang="ru-RU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(АВС)</a:t>
            </a:r>
            <a:r>
              <a:rPr b="0" lang="en-US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= 45°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8" name="TextBox 19"/>
          <p:cNvSpPr/>
          <p:nvPr/>
        </p:nvSpPr>
        <p:spPr>
          <a:xfrm>
            <a:off x="369720" y="2065320"/>
            <a:ext cx="1508400" cy="4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Найти: </a:t>
            </a:r>
            <a:r>
              <a:rPr b="0" lang="ru-RU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ВВ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mbria Math"/>
                <a:ea typeface="Cambria Math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9" name="TextBox 24"/>
          <p:cNvSpPr/>
          <p:nvPr/>
        </p:nvSpPr>
        <p:spPr>
          <a:xfrm>
            <a:off x="307440" y="2709720"/>
            <a:ext cx="3155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) </a:t>
            </a:r>
            <a:r>
              <a:rPr b="0" lang="ru-RU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СС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mbria Math"/>
                <a:ea typeface="Cambria Math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 ⏊ (АВС) ⇒ АС ⏊ СС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mbria Math"/>
                <a:ea typeface="Cambria Math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0" name="TextBox 25"/>
          <p:cNvSpPr/>
          <p:nvPr/>
        </p:nvSpPr>
        <p:spPr>
          <a:xfrm>
            <a:off x="425520" y="2986200"/>
            <a:ext cx="48337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АС - проекция АС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mbria Math"/>
                <a:ea typeface="Cambria Math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 на (АВС) ⇒ САС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mbria Math"/>
                <a:ea typeface="Cambria Math"/>
              </a:rPr>
              <a:t>1 </a:t>
            </a:r>
            <a:r>
              <a:rPr b="0" lang="ru-RU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= 45°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1" name="TextBox 34"/>
          <p:cNvSpPr/>
          <p:nvPr/>
        </p:nvSpPr>
        <p:spPr>
          <a:xfrm>
            <a:off x="264960" y="1521000"/>
            <a:ext cx="271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АВ = 12 см, ВС = 5 см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2" name="Прямоугольник 51"/>
          <p:cNvSpPr/>
          <p:nvPr/>
        </p:nvSpPr>
        <p:spPr>
          <a:xfrm>
            <a:off x="438120" y="3262320"/>
            <a:ext cx="4952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2) ∠САС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mbria"/>
              </a:rPr>
              <a:t>1 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= 90°,  ∠САС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mbria"/>
              </a:rPr>
              <a:t>1 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= 45° ⇒ ∠СС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mbria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А = 45° 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Прямоугольник 54"/>
          <p:cNvSpPr/>
          <p:nvPr/>
        </p:nvSpPr>
        <p:spPr>
          <a:xfrm>
            <a:off x="172080" y="3540240"/>
            <a:ext cx="4893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Δ</a:t>
            </a:r>
            <a:r>
              <a:rPr b="0" lang="ru-RU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АСС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mbria Math"/>
                <a:ea typeface="Cambria Math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 — прямоуг. и равноб.  ⇒ АС = СС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mbria Math"/>
                <a:ea typeface="Cambria Math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4" name="Прямоугольник 56"/>
          <p:cNvSpPr/>
          <p:nvPr/>
        </p:nvSpPr>
        <p:spPr>
          <a:xfrm>
            <a:off x="436680" y="3817800"/>
            <a:ext cx="406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) </a:t>
            </a:r>
            <a:r>
              <a:rPr b="0" lang="ru-RU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СС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mbria Math"/>
                <a:ea typeface="Cambria Math"/>
              </a:rPr>
              <a:t>1 </a:t>
            </a:r>
            <a:r>
              <a:rPr b="0" lang="ru-RU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= ВВ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mbria Math"/>
                <a:ea typeface="Cambria Math"/>
              </a:rPr>
              <a:t>1 </a:t>
            </a:r>
            <a:r>
              <a:rPr b="0" lang="ru-RU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= АС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5" name="Полилиния 28"/>
          <p:cNvSpPr/>
          <p:nvPr/>
        </p:nvSpPr>
        <p:spPr>
          <a:xfrm>
            <a:off x="5526000" y="3081240"/>
            <a:ext cx="3160800" cy="847800"/>
          </a:xfrm>
          <a:custGeom>
            <a:avLst/>
            <a:gdLst/>
            <a:ahLst/>
            <a:rect l="l" t="t" r="r" b="b"/>
            <a:pathLst>
              <a:path w="2598702" h="848536">
                <a:moveTo>
                  <a:pt x="0" y="546370"/>
                </a:moveTo>
                <a:lnTo>
                  <a:pt x="921989" y="0"/>
                </a:lnTo>
                <a:lnTo>
                  <a:pt x="2598702" y="330943"/>
                </a:lnTo>
                <a:lnTo>
                  <a:pt x="1672917" y="848536"/>
                </a:lnTo>
                <a:lnTo>
                  <a:pt x="0" y="546370"/>
                </a:lnTo>
                <a:close/>
              </a:path>
            </a:pathLst>
          </a:custGeom>
          <a:solidFill>
            <a:srgbClr val="ffc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6" name="Прямая соединительная линия 30"/>
          <p:cNvSpPr/>
          <p:nvPr/>
        </p:nvSpPr>
        <p:spPr>
          <a:xfrm>
            <a:off x="6669000" y="1525680"/>
            <a:ext cx="0" cy="15462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7" name="Прямая соединительная линия 31"/>
          <p:cNvSpPr/>
          <p:nvPr/>
        </p:nvSpPr>
        <p:spPr>
          <a:xfrm flipH="1">
            <a:off x="5583240" y="3090960"/>
            <a:ext cx="1076400" cy="5014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8" name="Прямая соединительная линия 32"/>
          <p:cNvSpPr/>
          <p:nvPr/>
        </p:nvSpPr>
        <p:spPr>
          <a:xfrm>
            <a:off x="6649920" y="3086280"/>
            <a:ext cx="2036880" cy="2998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9" name="Прямая соединительная линия 23"/>
          <p:cNvSpPr/>
          <p:nvPr/>
        </p:nvSpPr>
        <p:spPr>
          <a:xfrm flipH="1">
            <a:off x="5586480" y="1851120"/>
            <a:ext cx="3100320" cy="1780920"/>
          </a:xfrm>
          <a:prstGeom prst="line">
            <a:avLst/>
          </a:prstGeom>
          <a:ln w="28440">
            <a:solidFill>
              <a:srgbClr val="a13b3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0" name="Прямая соединительная линия 35"/>
          <p:cNvSpPr/>
          <p:nvPr/>
        </p:nvSpPr>
        <p:spPr>
          <a:xfrm flipV="1">
            <a:off x="5586480" y="3393720"/>
            <a:ext cx="3100320" cy="237960"/>
          </a:xfrm>
          <a:prstGeom prst="line">
            <a:avLst/>
          </a:prstGeom>
          <a:ln w="28440">
            <a:solidFill>
              <a:srgbClr val="a13b3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151" name="Рисунок 37" descr=""/>
          <p:cNvPicPr/>
          <p:nvPr/>
        </p:nvPicPr>
        <p:blipFill>
          <a:blip r:embed="rId1"/>
          <a:stretch/>
        </p:blipFill>
        <p:spPr>
          <a:xfrm>
            <a:off x="5535720" y="1525680"/>
            <a:ext cx="3184560" cy="2425680"/>
          </a:xfrm>
          <a:prstGeom prst="rect">
            <a:avLst/>
          </a:prstGeom>
          <a:ln w="0">
            <a:noFill/>
          </a:ln>
        </p:spPr>
      </p:pic>
      <p:sp>
        <p:nvSpPr>
          <p:cNvPr id="152" name="TextBox 41"/>
          <p:cNvSpPr/>
          <p:nvPr/>
        </p:nvSpPr>
        <p:spPr>
          <a:xfrm>
            <a:off x="5222880" y="351000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3" name="TextBox 42"/>
          <p:cNvSpPr/>
          <p:nvPr/>
        </p:nvSpPr>
        <p:spPr>
          <a:xfrm>
            <a:off x="6146640" y="264636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4" name="TextBox 43"/>
          <p:cNvSpPr/>
          <p:nvPr/>
        </p:nvSpPr>
        <p:spPr>
          <a:xfrm>
            <a:off x="8613720" y="3444840"/>
            <a:ext cx="35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5" name="TextBox 44"/>
          <p:cNvSpPr/>
          <p:nvPr/>
        </p:nvSpPr>
        <p:spPr>
          <a:xfrm>
            <a:off x="7021440" y="395136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mbria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6" name="TextBox 45"/>
          <p:cNvSpPr/>
          <p:nvPr/>
        </p:nvSpPr>
        <p:spPr>
          <a:xfrm>
            <a:off x="5081760" y="1735200"/>
            <a:ext cx="504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ambri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TextBox 46"/>
          <p:cNvSpPr/>
          <p:nvPr/>
        </p:nvSpPr>
        <p:spPr>
          <a:xfrm>
            <a:off x="6456240" y="1108080"/>
            <a:ext cx="503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ambri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" name="TextBox 49"/>
          <p:cNvSpPr/>
          <p:nvPr/>
        </p:nvSpPr>
        <p:spPr>
          <a:xfrm>
            <a:off x="8467560" y="1395360"/>
            <a:ext cx="503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ambri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9" name="TextBox 50"/>
          <p:cNvSpPr/>
          <p:nvPr/>
        </p:nvSpPr>
        <p:spPr>
          <a:xfrm>
            <a:off x="7548480" y="2351160"/>
            <a:ext cx="503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ambri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160" name="Прямоугольник 80" descr=""/>
          <p:cNvPicPr/>
          <p:nvPr/>
        </p:nvPicPr>
        <p:blipFill>
          <a:blip r:embed="rId2"/>
          <a:stretch/>
        </p:blipFill>
        <p:spPr>
          <a:xfrm>
            <a:off x="384120" y="4091040"/>
            <a:ext cx="5267520" cy="493560"/>
          </a:xfrm>
          <a:prstGeom prst="rect">
            <a:avLst/>
          </a:prstGeom>
          <a:ln w="0">
            <a:noFill/>
          </a:ln>
        </p:spPr>
      </p:pic>
      <p:sp>
        <p:nvSpPr>
          <p:cNvPr id="161" name="TextBox 82"/>
          <p:cNvSpPr/>
          <p:nvPr/>
        </p:nvSpPr>
        <p:spPr>
          <a:xfrm>
            <a:off x="325800" y="4403880"/>
            <a:ext cx="2469960" cy="4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Ответ: </a:t>
            </a:r>
            <a:r>
              <a:rPr b="0" lang="ru-RU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ВВ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mbria Math"/>
                <a:ea typeface="Cambria Math"/>
              </a:rPr>
              <a:t>1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mbria Math"/>
                <a:ea typeface="Cambria Math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13 см</a:t>
            </a:r>
            <a:r>
              <a:rPr b="1" lang="ru-RU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Прямоугольник 21"/>
          <p:cNvSpPr/>
          <p:nvPr/>
        </p:nvSpPr>
        <p:spPr>
          <a:xfrm>
            <a:off x="6099480" y="3830760"/>
            <a:ext cx="65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mbria"/>
              </a:rPr>
              <a:t>12 см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3" name="Прямоугольник 52"/>
          <p:cNvSpPr/>
          <p:nvPr/>
        </p:nvSpPr>
        <p:spPr>
          <a:xfrm>
            <a:off x="8038080" y="3632040"/>
            <a:ext cx="5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mbria"/>
              </a:rPr>
              <a:t>5 </a:t>
            </a:r>
            <a:r>
              <a:rPr b="0" lang="ru-RU" sz="1600" spc="-1" strike="noStrike">
                <a:solidFill>
                  <a:srgbClr val="000000"/>
                </a:solidFill>
                <a:latin typeface="Cambria"/>
              </a:rPr>
              <a:t>см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4" name="Дуга 40"/>
          <p:cNvSpPr/>
          <p:nvPr/>
        </p:nvSpPr>
        <p:spPr>
          <a:xfrm rot="1434600">
            <a:off x="5846400" y="3292200"/>
            <a:ext cx="420840" cy="377640"/>
          </a:xfrm>
          <a:custGeom>
            <a:avLst/>
            <a:gdLst/>
            <a:ahLst/>
            <a:rect l="l" t="t" r="r" b="b"/>
            <a:pathLst>
              <a:path stroke="0" w="421402" h="379204">
                <a:moveTo>
                  <a:pt x="210701" y="0"/>
                </a:moveTo>
                <a:cubicBezTo>
                  <a:pt x="327068" y="0"/>
                  <a:pt x="421402" y="84888"/>
                  <a:pt x="421402" y="189602"/>
                </a:cubicBezTo>
                <a:lnTo>
                  <a:pt x="210701" y="189602"/>
                </a:lnTo>
                <a:lnTo>
                  <a:pt x="210701" y="0"/>
                </a:lnTo>
                <a:close/>
              </a:path>
              <a:path fill="none" w="421402" h="379204">
                <a:moveTo>
                  <a:pt x="210701" y="0"/>
                </a:moveTo>
                <a:cubicBezTo>
                  <a:pt x="327068" y="0"/>
                  <a:pt x="421402" y="84888"/>
                  <a:pt x="421402" y="189602"/>
                </a:cubicBezTo>
              </a:path>
            </a:pathLst>
          </a:custGeom>
          <a:noFill/>
          <a:ln w="28440">
            <a:solidFill>
              <a:srgbClr val="a13b39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Прямоугольник 47"/>
          <p:cNvSpPr/>
          <p:nvPr/>
        </p:nvSpPr>
        <p:spPr>
          <a:xfrm>
            <a:off x="6238800" y="3243240"/>
            <a:ext cx="4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mbria"/>
              </a:rPr>
              <a:t>45°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Прямая соединительная линия 53"/>
          <p:cNvSpPr/>
          <p:nvPr/>
        </p:nvSpPr>
        <p:spPr>
          <a:xfrm>
            <a:off x="7569360" y="2351160"/>
            <a:ext cx="0" cy="1577880"/>
          </a:xfrm>
          <a:prstGeom prst="line">
            <a:avLst/>
          </a:prstGeom>
          <a:ln w="38160">
            <a:solidFill>
              <a:srgbClr val="a13b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7" name="Полилиния 55"/>
          <p:cNvSpPr/>
          <p:nvPr/>
        </p:nvSpPr>
        <p:spPr>
          <a:xfrm>
            <a:off x="8418600" y="3143160"/>
            <a:ext cx="279360" cy="281160"/>
          </a:xfrm>
          <a:custGeom>
            <a:avLst/>
            <a:gdLst/>
            <a:ahLst/>
            <a:rect l="l" t="t" r="r" b="b"/>
            <a:pathLst>
              <a:path w="278879" h="280974">
                <a:moveTo>
                  <a:pt x="273269" y="0"/>
                </a:moveTo>
                <a:lnTo>
                  <a:pt x="0" y="21021"/>
                </a:lnTo>
                <a:lnTo>
                  <a:pt x="6319" y="280974"/>
                </a:lnTo>
                <a:lnTo>
                  <a:pt x="278879" y="256439"/>
                </a:lnTo>
                <a:lnTo>
                  <a:pt x="273269" y="0"/>
                </a:lnTo>
                <a:close/>
              </a:path>
            </a:pathLst>
          </a:custGeom>
          <a:solidFill>
            <a:srgbClr val="a6a6a6">
              <a:alpha val="44000"/>
            </a:srgbClr>
          </a:solidFill>
          <a:ln w="1908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8" name="Дуга 63"/>
          <p:cNvSpPr/>
          <p:nvPr/>
        </p:nvSpPr>
        <p:spPr>
          <a:xfrm rot="10800000">
            <a:off x="8448480" y="1833480"/>
            <a:ext cx="422280" cy="379440"/>
          </a:xfrm>
          <a:custGeom>
            <a:avLst/>
            <a:gdLst/>
            <a:ahLst/>
            <a:rect l="l" t="t" r="r" b="b"/>
            <a:pathLst>
              <a:path stroke="0" w="421402" h="379204">
                <a:moveTo>
                  <a:pt x="210701" y="0"/>
                </a:moveTo>
                <a:cubicBezTo>
                  <a:pt x="327068" y="0"/>
                  <a:pt x="421402" y="84888"/>
                  <a:pt x="421402" y="189602"/>
                </a:cubicBezTo>
                <a:lnTo>
                  <a:pt x="210701" y="189602"/>
                </a:lnTo>
                <a:lnTo>
                  <a:pt x="210701" y="0"/>
                </a:lnTo>
                <a:close/>
              </a:path>
              <a:path fill="none" w="421402" h="379204">
                <a:moveTo>
                  <a:pt x="210701" y="0"/>
                </a:moveTo>
                <a:cubicBezTo>
                  <a:pt x="327068" y="0"/>
                  <a:pt x="421402" y="84888"/>
                  <a:pt x="421402" y="189602"/>
                </a:cubicBezTo>
              </a:path>
            </a:pathLst>
          </a:custGeom>
          <a:noFill/>
          <a:ln w="28440">
            <a:solidFill>
              <a:srgbClr val="a13b39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Прямоугольник 64"/>
          <p:cNvSpPr/>
          <p:nvPr/>
        </p:nvSpPr>
        <p:spPr>
          <a:xfrm>
            <a:off x="8206200" y="2128680"/>
            <a:ext cx="4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mbria"/>
              </a:rPr>
              <a:t>45°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0" name="Прямая соединительная линия 58"/>
          <p:cNvSpPr/>
          <p:nvPr/>
        </p:nvSpPr>
        <p:spPr>
          <a:xfrm flipH="1">
            <a:off x="7107120" y="3414600"/>
            <a:ext cx="28800" cy="166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1" name="Прямая соединительная линия 67"/>
          <p:cNvSpPr/>
          <p:nvPr/>
        </p:nvSpPr>
        <p:spPr>
          <a:xfrm>
            <a:off x="8613720" y="2595600"/>
            <a:ext cx="179280" cy="147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" name="TextBox 69"/>
          <p:cNvSpPr/>
          <p:nvPr/>
        </p:nvSpPr>
        <p:spPr>
          <a:xfrm>
            <a:off x="347400" y="2368440"/>
            <a:ext cx="140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Решение: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Прямая соединительная линия 70"/>
          <p:cNvSpPr/>
          <p:nvPr/>
        </p:nvSpPr>
        <p:spPr>
          <a:xfrm flipV="1">
            <a:off x="7458120" y="2918880"/>
            <a:ext cx="179280" cy="155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 spd="med">
    <p:fade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Box 2"/>
          <p:cNvSpPr/>
          <p:nvPr/>
        </p:nvSpPr>
        <p:spPr>
          <a:xfrm>
            <a:off x="395280" y="230040"/>
            <a:ext cx="165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mbria"/>
              </a:rPr>
              <a:t>Задача</a:t>
            </a:r>
            <a:r>
              <a:rPr b="1" lang="en-US" sz="28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Cambri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5" name="Прямоугольник 12"/>
          <p:cNvSpPr/>
          <p:nvPr/>
        </p:nvSpPr>
        <p:spPr>
          <a:xfrm>
            <a:off x="415800" y="971640"/>
            <a:ext cx="37958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АВС</a:t>
            </a:r>
            <a:r>
              <a:rPr b="0" lang="en-US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А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mbria Math"/>
                <a:ea typeface="Cambria Math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В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mbria Math"/>
                <a:ea typeface="Cambria Math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С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mbria Math"/>
                <a:ea typeface="Cambria Math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D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mbria Math"/>
                <a:ea typeface="Cambria Math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 — прямой параллелепипед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6" name="TextBox 13"/>
          <p:cNvSpPr/>
          <p:nvPr/>
        </p:nvSpPr>
        <p:spPr>
          <a:xfrm>
            <a:off x="400680" y="663480"/>
            <a:ext cx="91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Дано: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TextBox 17"/>
          <p:cNvSpPr/>
          <p:nvPr/>
        </p:nvSpPr>
        <p:spPr>
          <a:xfrm>
            <a:off x="349560" y="1795320"/>
            <a:ext cx="144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АС</a:t>
            </a:r>
            <a:r>
              <a:rPr b="0" lang="en-US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24 см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TextBox 19"/>
          <p:cNvSpPr/>
          <p:nvPr/>
        </p:nvSpPr>
        <p:spPr>
          <a:xfrm>
            <a:off x="344160" y="2065320"/>
            <a:ext cx="148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В</a:t>
            </a:r>
            <a:r>
              <a:rPr b="0" lang="en-US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D </a:t>
            </a:r>
            <a:r>
              <a:rPr b="0" lang="ru-RU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10 см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9" name="TextBox 24"/>
          <p:cNvSpPr/>
          <p:nvPr/>
        </p:nvSpPr>
        <p:spPr>
          <a:xfrm>
            <a:off x="216000" y="2614680"/>
            <a:ext cx="5099040" cy="4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Найти: </a:t>
            </a:r>
            <a:r>
              <a:rPr b="0" lang="ru-RU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большую диагональ АВС</a:t>
            </a:r>
            <a:r>
              <a:rPr b="0" lang="en-US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А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mbria Math"/>
                <a:ea typeface="Cambria Math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В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mbria Math"/>
                <a:ea typeface="Cambria Math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С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mbria Math"/>
                <a:ea typeface="Cambria Math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D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mbria Math"/>
                <a:ea typeface="Cambria Math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TextBox 25"/>
          <p:cNvSpPr/>
          <p:nvPr/>
        </p:nvSpPr>
        <p:spPr>
          <a:xfrm>
            <a:off x="425520" y="3224160"/>
            <a:ext cx="4833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1) А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mbria Math"/>
                <a:ea typeface="Cambria Math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С — большая диагональ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TextBox 34"/>
          <p:cNvSpPr/>
          <p:nvPr/>
        </p:nvSpPr>
        <p:spPr>
          <a:xfrm>
            <a:off x="349200" y="1521000"/>
            <a:ext cx="17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АВС</a:t>
            </a:r>
            <a:r>
              <a:rPr b="0" lang="en-US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D — </a:t>
            </a:r>
            <a:r>
              <a:rPr b="0" lang="ru-RU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ромб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2" name="Прямоугольник 51"/>
          <p:cNvSpPr/>
          <p:nvPr/>
        </p:nvSpPr>
        <p:spPr>
          <a:xfrm>
            <a:off x="438120" y="3500280"/>
            <a:ext cx="4952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2) ΔАА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mbria Math"/>
                <a:ea typeface="Cambria Math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С — прямоугольный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183" name="Прямоугольник 54" descr=""/>
          <p:cNvPicPr/>
          <p:nvPr/>
        </p:nvPicPr>
        <p:blipFill>
          <a:blip r:embed="rId1"/>
          <a:stretch/>
        </p:blipFill>
        <p:spPr>
          <a:xfrm>
            <a:off x="384120" y="3736800"/>
            <a:ext cx="5462640" cy="659160"/>
          </a:xfrm>
          <a:prstGeom prst="rect">
            <a:avLst/>
          </a:prstGeom>
          <a:ln w="0">
            <a:noFill/>
          </a:ln>
        </p:spPr>
      </p:pic>
      <p:sp>
        <p:nvSpPr>
          <p:cNvPr id="184" name="Полилиния 28"/>
          <p:cNvSpPr/>
          <p:nvPr/>
        </p:nvSpPr>
        <p:spPr>
          <a:xfrm>
            <a:off x="5929200" y="2787480"/>
            <a:ext cx="2722680" cy="847800"/>
          </a:xfrm>
          <a:custGeom>
            <a:avLst/>
            <a:gdLst/>
            <a:ahLst/>
            <a:rect l="l" t="t" r="r" b="b"/>
            <a:pathLst>
              <a:path w="2238516" h="848536">
                <a:moveTo>
                  <a:pt x="0" y="555895"/>
                </a:moveTo>
                <a:lnTo>
                  <a:pt x="788877" y="0"/>
                </a:lnTo>
                <a:lnTo>
                  <a:pt x="2238516" y="321418"/>
                </a:lnTo>
                <a:lnTo>
                  <a:pt x="1438013" y="848536"/>
                </a:lnTo>
                <a:lnTo>
                  <a:pt x="0" y="555895"/>
                </a:lnTo>
                <a:close/>
              </a:path>
            </a:pathLst>
          </a:custGeom>
          <a:solidFill>
            <a:srgbClr val="92d05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5" name="Прямая соединительная линия 30"/>
          <p:cNvSpPr/>
          <p:nvPr/>
        </p:nvSpPr>
        <p:spPr>
          <a:xfrm>
            <a:off x="6913440" y="1260360"/>
            <a:ext cx="0" cy="15462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6" name="Прямая соединительная линия 31"/>
          <p:cNvSpPr/>
          <p:nvPr/>
        </p:nvSpPr>
        <p:spPr>
          <a:xfrm flipH="1">
            <a:off x="5952600" y="2800440"/>
            <a:ext cx="908280" cy="5349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7" name="Прямая соединительная линия 32"/>
          <p:cNvSpPr/>
          <p:nvPr/>
        </p:nvSpPr>
        <p:spPr>
          <a:xfrm>
            <a:off x="6924600" y="2803680"/>
            <a:ext cx="1760760" cy="3142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8" name="Прямая соединительная линия 23"/>
          <p:cNvSpPr/>
          <p:nvPr/>
        </p:nvSpPr>
        <p:spPr>
          <a:xfrm flipH="1" flipV="1">
            <a:off x="5905440" y="1766880"/>
            <a:ext cx="2710080" cy="1333440"/>
          </a:xfrm>
          <a:prstGeom prst="line">
            <a:avLst/>
          </a:prstGeom>
          <a:ln w="28440">
            <a:solidFill>
              <a:srgbClr val="a13b3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Прямая соединительная линия 35"/>
          <p:cNvSpPr/>
          <p:nvPr/>
        </p:nvSpPr>
        <p:spPr>
          <a:xfrm flipV="1">
            <a:off x="5952960" y="3090960"/>
            <a:ext cx="2698920" cy="250560"/>
          </a:xfrm>
          <a:prstGeom prst="line">
            <a:avLst/>
          </a:prstGeom>
          <a:ln w="28440">
            <a:solidFill>
              <a:srgbClr val="a13b3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0" name="Прямая соединительная линия 48"/>
          <p:cNvSpPr/>
          <p:nvPr/>
        </p:nvSpPr>
        <p:spPr>
          <a:xfrm>
            <a:off x="6877080" y="2787480"/>
            <a:ext cx="839880" cy="844560"/>
          </a:xfrm>
          <a:prstGeom prst="line">
            <a:avLst/>
          </a:prstGeom>
          <a:ln w="28440">
            <a:solidFill>
              <a:srgbClr val="a13b3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191" name="Рисунок 37" descr=""/>
          <p:cNvPicPr/>
          <p:nvPr/>
        </p:nvPicPr>
        <p:blipFill>
          <a:blip r:embed="rId2"/>
          <a:stretch/>
        </p:blipFill>
        <p:spPr>
          <a:xfrm>
            <a:off x="5905440" y="1220760"/>
            <a:ext cx="2779920" cy="2427480"/>
          </a:xfrm>
          <a:prstGeom prst="rect">
            <a:avLst/>
          </a:prstGeom>
          <a:ln w="0">
            <a:noFill/>
          </a:ln>
        </p:spPr>
      </p:pic>
      <p:sp>
        <p:nvSpPr>
          <p:cNvPr id="192" name="TextBox 41"/>
          <p:cNvSpPr/>
          <p:nvPr/>
        </p:nvSpPr>
        <p:spPr>
          <a:xfrm>
            <a:off x="5548320" y="309096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3" name="TextBox 42"/>
          <p:cNvSpPr/>
          <p:nvPr/>
        </p:nvSpPr>
        <p:spPr>
          <a:xfrm>
            <a:off x="6531120" y="237816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4" name="TextBox 43"/>
          <p:cNvSpPr/>
          <p:nvPr/>
        </p:nvSpPr>
        <p:spPr>
          <a:xfrm>
            <a:off x="8578800" y="3141720"/>
            <a:ext cx="35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5" name="TextBox 44"/>
          <p:cNvSpPr/>
          <p:nvPr/>
        </p:nvSpPr>
        <p:spPr>
          <a:xfrm>
            <a:off x="7432560" y="363528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6" name="TextBox 45"/>
          <p:cNvSpPr/>
          <p:nvPr/>
        </p:nvSpPr>
        <p:spPr>
          <a:xfrm>
            <a:off x="5454720" y="1401840"/>
            <a:ext cx="503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ambria Math"/>
                <a:ea typeface="Cambria Math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7" name="TextBox 46"/>
          <p:cNvSpPr/>
          <p:nvPr/>
        </p:nvSpPr>
        <p:spPr>
          <a:xfrm>
            <a:off x="6624720" y="792000"/>
            <a:ext cx="504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ambri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TextBox 49"/>
          <p:cNvSpPr/>
          <p:nvPr/>
        </p:nvSpPr>
        <p:spPr>
          <a:xfrm>
            <a:off x="8432640" y="1092240"/>
            <a:ext cx="503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ambri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9" name="TextBox 50"/>
          <p:cNvSpPr/>
          <p:nvPr/>
        </p:nvSpPr>
        <p:spPr>
          <a:xfrm>
            <a:off x="7716960" y="2006640"/>
            <a:ext cx="503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ambri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0" name="TextBox 82"/>
          <p:cNvSpPr/>
          <p:nvPr/>
        </p:nvSpPr>
        <p:spPr>
          <a:xfrm>
            <a:off x="320760" y="4381560"/>
            <a:ext cx="2462040" cy="4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Ответ: </a:t>
            </a:r>
            <a:r>
              <a:rPr b="0" lang="ru-RU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А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mbria Math"/>
                <a:ea typeface="Cambria Math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С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mbria Math"/>
                <a:ea typeface="Cambria Math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26 см</a:t>
            </a:r>
            <a:r>
              <a:rPr b="1" lang="ru-RU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1" name="Полилиния 55"/>
          <p:cNvSpPr/>
          <p:nvPr/>
        </p:nvSpPr>
        <p:spPr>
          <a:xfrm>
            <a:off x="5943600" y="3067200"/>
            <a:ext cx="277920" cy="280800"/>
          </a:xfrm>
          <a:custGeom>
            <a:avLst/>
            <a:gdLst/>
            <a:ahLst/>
            <a:rect l="l" t="t" r="r" b="b"/>
            <a:pathLst>
              <a:path w="278879" h="280974">
                <a:moveTo>
                  <a:pt x="273269" y="0"/>
                </a:moveTo>
                <a:lnTo>
                  <a:pt x="0" y="21021"/>
                </a:lnTo>
                <a:lnTo>
                  <a:pt x="6319" y="280974"/>
                </a:lnTo>
                <a:lnTo>
                  <a:pt x="278879" y="256439"/>
                </a:lnTo>
                <a:lnTo>
                  <a:pt x="273269" y="0"/>
                </a:lnTo>
                <a:close/>
              </a:path>
            </a:pathLst>
          </a:custGeom>
          <a:solidFill>
            <a:srgbClr val="a6a6a6">
              <a:alpha val="44000"/>
            </a:srgbClr>
          </a:solidFill>
          <a:ln w="1908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2" name="TextBox 69"/>
          <p:cNvSpPr/>
          <p:nvPr/>
        </p:nvSpPr>
        <p:spPr>
          <a:xfrm>
            <a:off x="362520" y="2340000"/>
            <a:ext cx="1496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АА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mbria Math"/>
                <a:ea typeface="Cambria Math"/>
              </a:rPr>
              <a:t>1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mbria Math"/>
                <a:ea typeface="Cambria Math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10 см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TextBox 7"/>
          <p:cNvSpPr/>
          <p:nvPr/>
        </p:nvSpPr>
        <p:spPr>
          <a:xfrm>
            <a:off x="6534000" y="2994120"/>
            <a:ext cx="6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mbria"/>
              </a:rPr>
              <a:t>24 см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" name="TextBox 57"/>
          <p:cNvSpPr/>
          <p:nvPr/>
        </p:nvSpPr>
        <p:spPr>
          <a:xfrm>
            <a:off x="7120080" y="2901960"/>
            <a:ext cx="60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mbria"/>
              </a:rPr>
              <a:t>10 см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5" name="Прямая соединительная линия 59"/>
          <p:cNvSpPr/>
          <p:nvPr/>
        </p:nvSpPr>
        <p:spPr>
          <a:xfrm>
            <a:off x="5929200" y="1762200"/>
            <a:ext cx="0" cy="1579320"/>
          </a:xfrm>
          <a:prstGeom prst="line">
            <a:avLst/>
          </a:prstGeom>
          <a:ln w="38160">
            <a:solidFill>
              <a:srgbClr val="a13b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6" name="TextBox 60"/>
          <p:cNvSpPr/>
          <p:nvPr/>
        </p:nvSpPr>
        <p:spPr>
          <a:xfrm>
            <a:off x="5256360" y="2206800"/>
            <a:ext cx="68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mbria Math"/>
                <a:ea typeface="Cambria Math"/>
              </a:rPr>
              <a:t>10 см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TextBox 61"/>
          <p:cNvSpPr/>
          <p:nvPr/>
        </p:nvSpPr>
        <p:spPr>
          <a:xfrm>
            <a:off x="425520" y="2913120"/>
            <a:ext cx="48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Решение: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8" name="TextBox 62"/>
          <p:cNvSpPr/>
          <p:nvPr/>
        </p:nvSpPr>
        <p:spPr>
          <a:xfrm>
            <a:off x="7037640" y="2093760"/>
            <a:ext cx="61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mbria"/>
              </a:rPr>
              <a:t>26 см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 spd="med">
    <p:fade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8T14:41:40Z</dcterms:created>
  <dc:creator>Пользователь</dc:creator>
  <dc:description/>
  <dc:language>en-US</dc:language>
  <cp:lastModifiedBy>Пользователь</cp:lastModifiedBy>
  <dcterms:modified xsi:type="dcterms:W3CDTF">2014-09-10T10:39:16Z</dcterms:modified>
  <cp:revision>40</cp:revision>
  <dc:subject/>
  <dc:title>Презентация PowerPoint</dc:title>
</cp:coreProperties>
</file>