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5EC2-390A-4056-8F4D-79ED84C1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1CA-596B-49C2-B8CE-40062989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41B8-90EE-4222-9676-76DF6709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7F84-15C5-4E47-893C-584F5486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7FC1-72E5-4404-834E-A9BEA324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20B0-A69B-4B08-9E6C-8CE876C3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5C08-8EC0-45DD-AE94-7FFCAD01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1EC6-C55A-4C3F-94B7-33176C5E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8200-A073-4213-AB3D-DB24500D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AC19-EC96-460F-9C47-FEFFB264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770D-E019-4346-A01C-B3DFA6FA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FC66-A91D-49E2-8847-86827907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FBCF-5E02-42DC-A884-8C95E654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A515-6C86-457D-98FB-61BDA062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5F23-8045-4404-A972-B36A7FA9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D09B-03B9-46FB-B9F8-FD521B91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37E0-9936-4244-88D2-8274B624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F2AA-2ADC-46FC-8490-3C7E95FB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9C9-6ECA-427F-9748-FD4F125C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3E2-5DC1-4EB4-8722-50BC9756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C52B-CFF7-48F1-BC08-53D01A6C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298-320A-4E98-B133-2526B93E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6E9-A673-4167-A319-4743ABE1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5F22-4028-486A-886C-4E4DCC43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C172-FABF-421B-9CEA-63EA2C3B1BEC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250A-6905-435D-9942-2B86CBFCBD70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92360" y="1413000"/>
            <a:ext cx="6696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Анализ 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урока математики 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в 5 классе</a:t>
            </a:r>
            <a:br>
              <a:rPr sz="4000"/>
            </a:br>
            <a:r>
              <a:rPr b="1" i="1" lang="en-US" sz="4000" spc="-1" strike="noStrike">
                <a:solidFill>
                  <a:srgbClr val="336699"/>
                </a:solidFill>
                <a:latin typeface="Arial"/>
              </a:rPr>
              <a:t>Тема: «Площадь прямоугольника»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51640" y="5229360"/>
            <a:ext cx="29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Синельникова Е.Г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учитель математик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МОУ гимназии №4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Психологическое поле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Мотивы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Игра – познавательный мотив, который отвечает ведущей деятельности данного возраст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Наглядность, технические средства - познавательный мотив, который отвечает за эмоциональное восприятие урок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учебно-познавательные мотивы — самостоятельные действия по поиску разных способов решения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Arial"/>
              </a:rPr>
              <a:t>Индивидуализаци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Применение фронтальной, индивидуальной, групповой работы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Arial"/>
              </a:rPr>
              <a:t>Психологическая атмосфер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Обстановка доверительная, деловой настрой, учащиеся чувствовали себя комфортно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ff"/>
                </a:solidFill>
                <a:uFillTx/>
                <a:latin typeface="Times New Roman"/>
              </a:rPr>
              <a:t>Система целей-результатов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19280" y="1341360"/>
            <a:ext cx="640080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Предметные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Учащиеся должны знать термины «длина», «ширина», вывести правило вычисления площади прямоугольника, знать формулу для нахождения площади прямоугольника, уметь вычислять площадь  прямоугольника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Метапредметные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Познавательные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Уметь определять какая именно информация необходима для решения конкретной задачи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Анализировать, сравнивать и обобщать факты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Регулятивные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Составлять план действий по решению проблемы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Действовать согласно плану, намеченному в совместной работе с другими учащимися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Коммуникативные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Формировать умение работать с научным текстом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Уметь аргументировать свое мнение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Личностные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Ответственно относиться к учению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Уметь грамотно и аккуратно выполнять чертежи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Уметь использовать грамотную математическую речь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ff"/>
                </a:solidFill>
                <a:uFillTx/>
                <a:latin typeface="Times New Roman"/>
              </a:rPr>
              <a:t>Организационно-содержательное поле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Логическая структура урока обоснованна возрастными особенностями обучающихся характером предметного содержания материала и целями уро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920" y="-38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Этапы урока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8360" y="765000"/>
          <a:ext cx="8280360" cy="5883480"/>
        </p:xfrm>
        <a:graphic>
          <a:graphicData uri="http://schemas.openxmlformats.org/drawingml/2006/table">
            <a:tbl>
              <a:tblPr/>
              <a:tblGrid>
                <a:gridCol w="2087640"/>
                <a:gridCol w="619272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Этап урока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Организационный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роверка готовности обучающихся, настрой на работу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роблемная ситуация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Заинтересовать, удивить обучающихся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становка темы и цели урока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дведение детей к формулированию темы и постановке задач на урок.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Актуализация знаний 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дведение детей к самостоятельному выводу площади прямоугольника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ервичное закрепление нового материала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роверка понимания формулы площади прямоугольника 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каз образца решения задач на нахождение площади прямоугольника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Умение решать практико-ориентированные задания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Работа в парах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Уметь применять новые знания в нестандартных ситуациях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редставление работ с целью умения говорить, отстаивать свое мнение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самопроверка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Осознание каждым обучающимся степени овладения новым материалом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дведение итогов,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рефлексия 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Соотнесение поставленных задач с достигнутым результатом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ff"/>
                </a:solidFill>
                <a:uFillTx/>
                <a:latin typeface="Times New Roman"/>
              </a:rPr>
              <a:t>Методологическое поле</a:t>
            </a:r>
            <a:br>
              <a:rPr sz="4000"/>
            </a:b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Методы обучения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Проблемный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метод – умение анализировать, сравнивать и обобщать факты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Игровые технологии –развитие познавательного интереса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Проектный метод- умение определять какая именно информация необходима для решения конкретной задачи, умение работать по намеченному плану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Перекодирование – способствует пониманию учебного материала, его запоминанию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Групповая работа – умение аргументировать свое мнение, умение слышать своего собеседника, умение работать по намеченному плану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44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Рефлекси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Формы рефлексии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задания, вопросы, рисунки, образы, словесна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Рефлексия по отношению к ЗУНам, личностная саморефлекси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Творчество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Проблемные задани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Практико-ориентированные задани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Креативные задани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7T15:45:49Z</dcterms:created>
  <dc:creator>Катя</dc:creator>
  <dc:description/>
  <dc:language>en-US</dc:language>
  <cp:lastModifiedBy>Катя</cp:lastModifiedBy>
  <dcterms:modified xsi:type="dcterms:W3CDTF">2014-02-07T17:30:06Z</dcterms:modified>
  <cp:revision>3</cp:revision>
  <dc:subject/>
  <dc:title>Система целей-результатов</dc:title>
</cp:coreProperties>
</file>