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3AD-A996-48F8-A40A-FE9A308C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C4A-9785-4FFA-9EE6-3463288C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064-A5FB-49D3-9760-23E6F627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49A-5DA6-4790-A9F5-EF8C82E2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9CAA-7A71-4B6F-B7BD-ACB0606F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E330-4BEB-46FC-A671-D2F3CDBE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A865-4561-40DF-A5CE-0D4C93AA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2E6C-B7E2-41FE-858F-093B3C37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CB41-899C-486F-9EB4-56936498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E6F4-A5FF-4E20-A320-1F472551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3316-9524-4BC3-9067-1456A2BF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EA5-2A0A-4E54-B9C9-C0587964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5B49-871A-43B6-8FF0-07B2ED64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BDC0-2DC0-4767-B76F-205902FD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EE96-4A5F-4EE2-AD0E-9CE71927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F361-6958-4075-A3C9-021EDE1F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3B98-3041-4C20-A5BB-A8729774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80D-4758-47B0-8F27-A69ADDD6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732-5603-42BA-8154-B717F9EF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F85-4B78-420F-B38C-7D94CC41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3AD-E417-4D65-B271-52CE5EBC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A85-5160-479F-9386-FAA0A246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B7B-260C-4223-8E2E-25DC054C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62A-2EFA-46BD-994C-E76B00EB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96A4-9045-4813-B79B-A2B32EC9A977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61D6-6C83-4924-B9A6-23FC24565F63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2360" y="1413000"/>
            <a:ext cx="669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Анализ 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урока математики 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в 5 классе</a:t>
            </a:r>
            <a:br>
              <a:rPr sz="4000"/>
            </a:br>
            <a:r>
              <a:rPr b="1" i="1" lang="en-US" sz="4000" spc="-1" strike="noStrike">
                <a:solidFill>
                  <a:srgbClr val="336699"/>
                </a:solidFill>
                <a:latin typeface="Arial"/>
              </a:rPr>
              <a:t>Тема: «Площадь прямоугольника»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5229360"/>
            <a:ext cx="29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Синельникова Е.Г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учитель математи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МОУ гимназии №4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Психологическое пол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Мотивы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Игра – познавательный мотив, который отвечает ведущей деятельности данного возраст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Наглядность, технические средства - познавательный мотив, который отвечает за эмоциональное восприятие уро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учебно-познавательные мотивы — самостоятельные действия по поиску разных способов решения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Индивидуализац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Применение фронтальной, индивидуальной, групповой работы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Психологическая атмосфер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Обстановка доверительная, деловой настрой, учащиеся чувствовали себя комфортно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ff"/>
                </a:solidFill>
                <a:uFillTx/>
                <a:latin typeface="Times New Roman"/>
              </a:rPr>
              <a:t>Система целей-результатов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19280" y="134136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редметные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Учащиеся должны знать термины «длина», «ширина», вывести правило вычисления площади прямоугольника, знать формулу для нахождения площади прямоугольника, уметь вычислять площадь  прямоугольника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Метапредметные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Познавательные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Уметь определять какая именно информация необходима для решения конкретной задач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Анализировать, сравнивать и обобщать факт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Регулятивные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Составлять план действий по решению проблем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Действовать согласно плану, намеченному в совместной работе с другими учащимися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Коммуникативные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Формировать умение работать с научным текстом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Уметь аргументировать свое мнение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Личностные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Ответственно относиться к учению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Уметь грамотно и аккуратно выполнять чертеж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Уметь использовать грамотную математическую речь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ff"/>
                </a:solidFill>
                <a:uFillTx/>
                <a:latin typeface="Times New Roman"/>
              </a:rPr>
              <a:t>Организационно-содержательное поле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Логическая структура урока обоснованна возрастными особенностями обучающихся характером предметного содержания материала и целями уро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920" y="-38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Этапы урока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765000"/>
          <a:ext cx="8280360" cy="5883480"/>
        </p:xfrm>
        <a:graphic>
          <a:graphicData uri="http://schemas.openxmlformats.org/drawingml/2006/table">
            <a:tbl>
              <a:tblPr/>
              <a:tblGrid>
                <a:gridCol w="2087640"/>
                <a:gridCol w="619272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Этап урока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Организационный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оверка готовности обучающихся, настрой на работу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облемная ситуация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Заинтересовать, удивить обучающихся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становка темы и цели урока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дведение детей к формулированию темы и постановке задач на урок.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Актуализация знаний 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дведение детей к самостоятельному выводу площади прямоугольника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ервичное закрепление нового материала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оверка понимания формулы площади прямоугольника 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каз образца решения задач на нахождение площади прямоугольника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Умение решать практико-ориентированные задания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Работа в парах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Уметь применять новые знания в нестандартных ситуациях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едставление работ с целью умения говорить, отстаивать свое мнение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амопроверка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Осознание каждым обучающимся степени овладения новым материалом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дведение итогов,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рефлексия 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оотнесение поставленных задач с достигнутым результатом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ff"/>
                </a:solidFill>
                <a:uFillTx/>
                <a:latin typeface="Times New Roman"/>
              </a:rPr>
              <a:t>Методологическое поле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Методы обучения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Проблемный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метод – умение анализировать, сравнивать и обобщать факты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Игровые технологии –развитие познавательного интереса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Проектный метод- умение определять какая именно информация необходима для решения конкретной задачи, умение работать по намеченному плану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Перекодирование – способствует пониманию учебного материала, его запоминанию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Групповая работа – умение аргументировать свое мнение, умение слышать своего собеседника, умение работать по намеченному плану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44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Рефлекс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Формы рефлексии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задания, вопросы, рисунки, образы, словесна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Рефлексия по отношению к ЗУНам, личностная саморефлекс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Творчество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Проблемные задан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Практико-ориентированные задан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Креативные задан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7T15:45:49Z</dcterms:created>
  <dc:creator>Катя</dc:creator>
  <dc:description/>
  <dc:language>en-US</dc:language>
  <cp:lastModifiedBy>Катя</cp:lastModifiedBy>
  <dcterms:modified xsi:type="dcterms:W3CDTF">2014-02-07T17:30:06Z</dcterms:modified>
  <cp:revision>3</cp:revision>
  <dc:subject/>
  <dc:title>Система целей-результатов</dc:title>
</cp:coreProperties>
</file>