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479-B22A-4FEF-9CBE-2577AD2A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E9FD-7B3B-4B10-9F2E-F05EFD44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8F1-DDA1-4D45-B768-286F7607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44D5-C316-4AA9-9FFF-77BAB1A6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A04-EF11-40AF-9DE9-9599922B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E5B2-23CA-46B3-90B8-73C3AA7D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40E5-38C0-45AC-A532-52AAEA54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C93-D88C-4ACA-83DB-AB818B69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671E-7054-4547-BC8B-81C89C69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14C6-9A49-4B8D-A631-BACED3BF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4BAC-23DC-44EC-B5D2-E2256A17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0E2-8B7B-49FF-A836-36B54084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3630-5896-46F4-8CBB-2DFF715011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1.xml"/><Relationship Id="rId7" Type="http://schemas.openxmlformats.org/officeDocument/2006/relationships/slide" Target="slide10.xml"/><Relationship Id="rId8" Type="http://schemas.openxmlformats.org/officeDocument/2006/relationships/slide" Target="slide9.xml"/><Relationship Id="rId9" Type="http://schemas.openxmlformats.org/officeDocument/2006/relationships/slide" Target="slide8.xml"/><Relationship Id="rId10" Type="http://schemas.openxmlformats.org/officeDocument/2006/relationships/slide" Target="slide7.xml"/><Relationship Id="rId11" Type="http://schemas.openxmlformats.org/officeDocument/2006/relationships/slide" Target="slide12.xml"/><Relationship Id="rId12" Type="http://schemas.openxmlformats.org/officeDocument/2006/relationships/slide" Target="slide17.xml"/><Relationship Id="rId13" Type="http://schemas.openxmlformats.org/officeDocument/2006/relationships/slide" Target="slide2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8.xml"/><Relationship Id="rId19" Type="http://schemas.openxmlformats.org/officeDocument/2006/relationships/slide" Target="slide19.xml"/><Relationship Id="rId20" Type="http://schemas.openxmlformats.org/officeDocument/2006/relationships/slide" Target="slide20.xml"/><Relationship Id="rId21" Type="http://schemas.openxmlformats.org/officeDocument/2006/relationships/slide" Target="slide21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9.xml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6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7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8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0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1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6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7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8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9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50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51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1646280"/>
                <a:gridCol w="884160"/>
                <a:gridCol w="762120"/>
                <a:gridCol w="1542960"/>
                <a:gridCol w="431640"/>
                <a:gridCol w="1316160"/>
                <a:gridCol w="1646280"/>
              </a:tblGrid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83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1671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ж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ложненные предло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о-сочет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Text Box 56"/>
          <p:cNvSpPr/>
          <p:nvPr/>
        </p:nvSpPr>
        <p:spPr>
          <a:xfrm>
            <a:off x="1042920" y="333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7"/>
          <p:cNvSpPr/>
          <p:nvPr/>
        </p:nvSpPr>
        <p:spPr>
          <a:xfrm>
            <a:off x="2700360" y="333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2" action="ppaction://hlinksldjump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8"/>
          <p:cNvSpPr/>
          <p:nvPr/>
        </p:nvSpPr>
        <p:spPr>
          <a:xfrm>
            <a:off x="4356000" y="333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3" action="ppaction://hlinksldjump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9"/>
          <p:cNvSpPr/>
          <p:nvPr/>
        </p:nvSpPr>
        <p:spPr>
          <a:xfrm>
            <a:off x="6012000" y="333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4" action="ppaction://hlinksldjump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0"/>
          <p:cNvSpPr/>
          <p:nvPr/>
        </p:nvSpPr>
        <p:spPr>
          <a:xfrm>
            <a:off x="7596360" y="333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5" action="ppaction://hlinksldjump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1"/>
          <p:cNvSpPr/>
          <p:nvPr/>
        </p:nvSpPr>
        <p:spPr>
          <a:xfrm>
            <a:off x="7451640" y="119700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6" action="ppaction://hlinksldjump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2"/>
          <p:cNvSpPr/>
          <p:nvPr/>
        </p:nvSpPr>
        <p:spPr>
          <a:xfrm>
            <a:off x="6012000" y="1197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7" action="ppaction://hlinksldjump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9"/>
          <p:cNvSpPr/>
          <p:nvPr/>
        </p:nvSpPr>
        <p:spPr>
          <a:xfrm>
            <a:off x="435600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8" action="ppaction://hlinksldjump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3"/>
          <p:cNvSpPr/>
          <p:nvPr/>
        </p:nvSpPr>
        <p:spPr>
          <a:xfrm>
            <a:off x="2700360" y="112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9" action="ppaction://hlinksldjump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7"/>
          <p:cNvSpPr/>
          <p:nvPr/>
        </p:nvSpPr>
        <p:spPr>
          <a:xfrm>
            <a:off x="104292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10" action="ppaction://hlinksldjump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1"/>
          <p:cNvSpPr/>
          <p:nvPr/>
        </p:nvSpPr>
        <p:spPr>
          <a:xfrm>
            <a:off x="900000" y="198900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11" action="ppaction://hlinksldjump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2"/>
          <p:cNvSpPr/>
          <p:nvPr/>
        </p:nvSpPr>
        <p:spPr>
          <a:xfrm>
            <a:off x="900000" y="285264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12" action="ppaction://hlinksldjump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3"/>
          <p:cNvSpPr/>
          <p:nvPr/>
        </p:nvSpPr>
        <p:spPr>
          <a:xfrm>
            <a:off x="900000" y="371628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13" action="ppaction://hlinksldjump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4"/>
          <p:cNvSpPr/>
          <p:nvPr/>
        </p:nvSpPr>
        <p:spPr>
          <a:xfrm>
            <a:off x="2556000" y="198900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14" action="ppaction://hlinksldjump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5"/>
          <p:cNvSpPr/>
          <p:nvPr/>
        </p:nvSpPr>
        <p:spPr>
          <a:xfrm>
            <a:off x="4140360" y="198900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15" action="ppaction://hlinksldjump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6"/>
          <p:cNvSpPr/>
          <p:nvPr/>
        </p:nvSpPr>
        <p:spPr>
          <a:xfrm>
            <a:off x="5867280" y="198900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16" action="ppaction://hlinksldjump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7"/>
          <p:cNvSpPr/>
          <p:nvPr/>
        </p:nvSpPr>
        <p:spPr>
          <a:xfrm>
            <a:off x="7451640" y="198900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17" action="ppaction://hlinksldjump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8"/>
          <p:cNvSpPr/>
          <p:nvPr/>
        </p:nvSpPr>
        <p:spPr>
          <a:xfrm>
            <a:off x="2556000" y="285264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18" action="ppaction://hlinksldjump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9"/>
          <p:cNvSpPr/>
          <p:nvPr/>
        </p:nvSpPr>
        <p:spPr>
          <a:xfrm>
            <a:off x="4140360" y="285264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19" action="ppaction://hlinksldjump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0"/>
          <p:cNvSpPr/>
          <p:nvPr/>
        </p:nvSpPr>
        <p:spPr>
          <a:xfrm>
            <a:off x="5867280" y="278136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20" action="ppaction://hlinksldjump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1"/>
          <p:cNvSpPr/>
          <p:nvPr/>
        </p:nvSpPr>
        <p:spPr>
          <a:xfrm>
            <a:off x="7451640" y="285264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21" action="ppaction://hlinksldjump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2"/>
          <p:cNvSpPr/>
          <p:nvPr/>
        </p:nvSpPr>
        <p:spPr>
          <a:xfrm>
            <a:off x="2556000" y="371628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22" action="ppaction://hlinksldjump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3"/>
          <p:cNvSpPr/>
          <p:nvPr/>
        </p:nvSpPr>
        <p:spPr>
          <a:xfrm>
            <a:off x="4211640" y="371628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23" action="ppaction://hlinksldjump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4"/>
          <p:cNvSpPr/>
          <p:nvPr/>
        </p:nvSpPr>
        <p:spPr>
          <a:xfrm>
            <a:off x="5867280" y="364500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24" action="ppaction://hlinksldjump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5"/>
          <p:cNvSpPr/>
          <p:nvPr/>
        </p:nvSpPr>
        <p:spPr>
          <a:xfrm>
            <a:off x="7451640" y="364500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3300"/>
                </a:solidFill>
                <a:uFillTx/>
                <a:latin typeface="Arial"/>
                <a:hlinkClick r:id="rId25" action="ppaction://hlinksldjump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6">
            <a:hlinkClick r:id="rId26" action="ppaction://hlinksldjump"/>
          </p:cNvPr>
          <p:cNvSpPr/>
          <p:nvPr/>
        </p:nvSpPr>
        <p:spPr>
          <a:xfrm>
            <a:off x="7956720" y="6093000"/>
            <a:ext cx="718920" cy="50292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9" y="3794"/>
                </a:moveTo>
                <a:lnTo>
                  <a:pt x="22442" y="10800"/>
                </a:lnTo>
                <a:lnTo>
                  <a:pt x="8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выражаются смысловые отношения между простыми предложениями в бессоюзных сложных предложени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характеризуйте предложение и объясните постановку запя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ыны Земли совершали фантастические межпланетные перелеты, возносились на небо с помощью птиц и диковинных аппаратов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не ставится запятая в сложносочинённом предложении между простыми предложени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968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ясните постановку зна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68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пинания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68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ша Земля – средняя по размерам и массе планета с воздушной оболочкой, кружащая не слишком далеко и не слишком близко от Солн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 тип связи в словосочета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здавна мани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словосочетание со связью СОГЛАС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ир звез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шельцы из космос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ежпланетные перелет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тделяются простые предложения в сложносочинённом предложе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ясните постановку зап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шу планету, как писали в прессе, посещали пришельцы из космоса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варианте ответа правильно указаны все цифры. На месте которых в предложении должны  стоять запятые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 понял (1) что я не мыслитель (2) и не философ (3) и что Бог просто дал мне здоровый, сильный русский мозг с задатками тала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1      2) 1, 2, 3        3) 1, 2       4) 1,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варианте ответа правильно указаны все цифры. На месте которых в предложении должны  стоять запятые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ждал его рассказа и молчал (1) боясь (2) что (3) если спрошу о чем-либо (4) он опять отвлечется в сторо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1, 2, 3, 4       2) 2, 3,  4       3) 1, 4       4) 2,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такое простое осложненное предлож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з данных предложений образуйте простое осложненное предложение. Объясните постановку знаков препи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агарин проложил людям дорогу в космическое пространство. Он совершил первый полет в истории человеч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00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ъясните постановку запятых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работки Королёва позволили впервые в мире осуществить запуски искусственных спутников Земли и Солнца, полёты автоматических межпланетных станций к Луне, Венере и Марсу, произвести мягкую посадку на поверхность Лу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данных предложений, используя союзы и союзные слова, образуйте  сложноподчинённые предложения с несколькими придаточными. Запишите их, расставьте знаки препин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ступил апрель. Установились тёплые дни. Такие дни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ывают только ле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62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ъясните постановку запятой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 –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нее земных –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идали теб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имя бессмертья и славы твое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я!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.Рождественский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словосочетание со связ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смическая эр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) пришельцы из космо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) в необъятной Вселенн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не является словосочетан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) посещали пришельц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) пришельцы из космос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) планету посещ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бозначаются простые предложения в схеме бессоюзного сложного предлож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тое предложение может осложняться однородными членами, вводными словами, обращением, приложением, уточняющими и обособленными членами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ессоюзными называются сложные предложения, в которых простые предложения связываются друг с другом без помощи союзов и союзных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381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534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дложение осложнено деепричастным оборо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или обособленным обстоятельств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8"/>
          <p:cNvSpPr/>
          <p:nvPr/>
        </p:nvSpPr>
        <p:spPr>
          <a:xfrm>
            <a:off x="471636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7"/>
          <p:cNvSpPr/>
          <p:nvPr/>
        </p:nvSpPr>
        <p:spPr>
          <a:xfrm>
            <a:off x="730872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730872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300"/>
              </a:spcBef>
              <a:buNone/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799"/>
              </a:spcBef>
              <a:buNone/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799"/>
              </a:spcBef>
              <a:buNone/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799"/>
              </a:spcBef>
              <a:buNone/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 сложные предложения называются бессоюзн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4643280" y="260280"/>
            <a:ext cx="424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0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оглас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имык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оглас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мысловые отношения в бессоюзных сложных предложениях зависят от содержания входящих в них простых предложений и выражаются в устной речи интонацией, а на письме различными знаками препи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стое предлож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ложнено однородными член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 сложносочинённом предложении с одиночным соединительным или разделительным союзом имеется общий второстепенный член, относящийся к обоим предложениям, то запятая между ними не став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42472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344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е предложение с обособленным определением (причастным оборот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ре стоит между подлежащим и сказуемым, выраженными существите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имык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осложнено данное предлож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2 апреля 1961 года Юрий Алексеевич Гагарин проложил людям дорогу в космическое пространство, совершив первый полет в истории человечеств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ежпланетные перелет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тые предложения, входящие в сложносочинённое предложение, отделяются друг от друга запят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Запятые выделяют вводны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 1, 2, 3,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агарин проложил людям дорогу в космическое пространство, совершая первый полет в истории человеч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ятые в предложении выполняют разделительную функцию между однородными членами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гда наступил апре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становились тёплые дни, какие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ывают только ле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ятая стоит перед обращ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3995640" y="260280"/>
            <a:ext cx="49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611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1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1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1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Б) пришельцы из космо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называется тип связи в словосочетании, при котором главное и зависимое слово стоит в одном и том же роде, числе, падеже? Главное слово чаще всего существительное. Зависимое слово отвечает на вопрос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ой? чей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выражается частями речи, отвечающими на эти вопро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) посещали пришель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№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тые предложения в составе бессоюзного сложного на схеме обозначаются квадратными скоб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 связи, при котором главное слово требует постановки зависимого слова в определенном падеже, т. е от главного к зависимому слову ставятся вопросы косвенных падежей: кого? чего? кому? чему? чего? что? кем? чем? о ком? о чём? и др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зовите тип связи.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 связи, при котором главное и зависимое слова связаны только по смыслу, отвечают чаще всего на вопросы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де?, когда?, куда?, откуда?, почему?, зачем?, как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качестве зависимых слов выступаю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изменяемые части реч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 тип связи в словосочета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новоположник космонав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 тип связи в словосочета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ежпланетный пол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4643280" y="260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соче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>
            <a:hlinkClick r:id="rId2" action="ppaction://hlinksldjump"/>
          </p:cNvPr>
          <p:cNvSpPr/>
          <p:nvPr/>
        </p:nvSpPr>
        <p:spPr>
          <a:xfrm>
            <a:off x="468360" y="566100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8:02:13Z</dcterms:created>
  <dc:creator>Ирина</dc:creator>
  <dc:description/>
  <dc:language>en-US</dc:language>
  <cp:lastModifiedBy>Илиса</cp:lastModifiedBy>
  <dcterms:modified xsi:type="dcterms:W3CDTF">2012-02-14T09:09:17Z</dcterms:modified>
  <cp:revision>133</cp:revision>
  <dc:subject/>
  <dc:title>Правовые нормы  в современном обществе</dc:title>
</cp:coreProperties>
</file>