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866F-0661-4B9A-9998-14B9C9A72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AAAF-EB1E-4D2C-9731-F883A8E4B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C131-F498-48E1-818A-19F563C4B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BE36-68C9-440F-AC32-44FAD5E45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BFCAB-FD05-4449-82B4-C56634F73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798EF-9C40-492D-8777-D0A8673F8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02404-1DBD-4AD9-8FC2-A206D1FB7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77C3F-9F60-46A9-AFD3-820423EA2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9BEF0-08AC-4F66-97F8-F13DB8411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AA014-9F43-44B2-8A24-16CFFADF7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81400-C653-49B0-AD6D-BB72CD8CC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8A69-9A93-4FF2-8070-7546BA259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A78B5-D34B-47B4-89BA-BA594E5A7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511BE-BFD9-4645-9374-8059A0948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245EB-7D59-4886-8DD4-3DF6531A2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E5697-2E8A-4180-8A36-98C2FA8DB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746D1-27B7-4201-A0BF-6A8F692D0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27A1E-92EA-404A-B9EA-BE496FC2C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2C536-FFAD-46F3-9217-C85F72B1B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E1764-CC0B-48B2-B74A-4D33FD9EC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00BB6-1A6F-4BCF-BFA9-C6ACB2229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F7212-01F5-4092-9524-C4261CC5B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2FF2-558C-4B8C-BCAC-521A499CF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9D7AC-7FF8-47D2-96B8-932B14745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1CC01-6163-4982-B548-D6E1DD00F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329B8-45EF-4BC7-8706-640473D25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838DD-37E9-4E59-BFB3-A3C5D7794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82AD7-8340-4DE1-B63F-2140E854C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22CCC-038D-40B3-B608-F36D2DAC7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F625C-D4A0-4616-BBC1-90F4ACAF5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002FF-5A64-422A-980D-18D13986E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3ACD3-EAC3-4CB9-9150-78D91D9B3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C6989-C5F1-425E-A70A-B254D298A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E411-8745-4A60-B7E3-51391CE35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6B855-678B-45E1-B6F1-3B7DF85CB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2F18B-DCFF-488F-97F0-24F3F65DF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AAAE5-9E8F-4E6B-A206-CE4A6986E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1228B-7FFD-486A-B659-78F597648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3D05B-6843-4A20-912C-B8CBED968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D94C7C-39DB-49EE-AAB7-73903C583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9EB16-9211-4D9A-A5C4-D9B078F0A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9C611-88F5-4BA9-BCE2-767EDCE70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5EC84-01E7-43A6-8CAC-9C6079D8C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9ACB-6AAD-4EC6-AC1B-D0DA4C7E3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618A-C678-4E82-889E-21A7821DA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889B-0002-4210-9F80-D8F58E43B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5F62-7D09-460F-97EC-DF412810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AF83-1A75-49BF-B688-E727CC9B9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27535-4F6D-418A-9AD3-DFC426A15E88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Text Box 11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13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14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5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6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8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8E503-84BE-49AC-8508-119EFC7CA1FF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13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14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6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8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03B94-617A-4505-871C-46639DBC92A6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8739A-1B44-4E36-B141-53CB4403591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7864560" cy="19083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80952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ДЕКОРАТИВНЫЙ ПЕЙЗАЖ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Прямоугольник 1"/>
          <p:cNvSpPr/>
          <p:nvPr/>
        </p:nvSpPr>
        <p:spPr>
          <a:xfrm>
            <a:off x="0" y="381168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Нарисуйте в нижней левой части листа белым цветом круг, в двух других местах два круга поменьше - это будут морские обитатели. Сначала круги можно наметить тонкой полусухой кисточкой, а затем обвести их более толстой кисть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2" descr="Море и его обитатели, гуашь"/>
          <p:cNvPicPr/>
          <p:nvPr/>
        </p:nvPicPr>
        <p:blipFill>
          <a:blip r:embed="rId1"/>
          <a:stretch/>
        </p:blipFill>
        <p:spPr>
          <a:xfrm>
            <a:off x="1752480" y="176040"/>
            <a:ext cx="579132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Море и его обитатели, гуашь"/>
          <p:cNvPicPr/>
          <p:nvPr/>
        </p:nvPicPr>
        <p:blipFill>
          <a:blip r:embed="rId1"/>
          <a:stretch/>
        </p:blipFill>
        <p:spPr>
          <a:xfrm>
            <a:off x="838080" y="1066680"/>
            <a:ext cx="7710480" cy="49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4" descr="Море и его обитатели, гуашь"/>
          <p:cNvPicPr/>
          <p:nvPr/>
        </p:nvPicPr>
        <p:blipFill>
          <a:blip r:embed="rId1"/>
          <a:stretch/>
        </p:blipFill>
        <p:spPr>
          <a:xfrm>
            <a:off x="609480" y="1143000"/>
            <a:ext cx="819000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Море и его обитатели, гуашь"/>
          <p:cNvPicPr/>
          <p:nvPr/>
        </p:nvPicPr>
        <p:blipFill>
          <a:blip r:embed="rId1"/>
          <a:stretch/>
        </p:blipFill>
        <p:spPr>
          <a:xfrm>
            <a:off x="228600" y="914400"/>
            <a:ext cx="865332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Море и его обитатели, гуашь"/>
          <p:cNvPicPr/>
          <p:nvPr/>
        </p:nvPicPr>
        <p:blipFill>
          <a:blip r:embed="rId1"/>
          <a:stretch/>
        </p:blipFill>
        <p:spPr>
          <a:xfrm>
            <a:off x="457200" y="990720"/>
            <a:ext cx="828216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Море и его обитатели, гуашь"/>
          <p:cNvPicPr/>
          <p:nvPr/>
        </p:nvPicPr>
        <p:blipFill>
          <a:blip r:embed="rId1"/>
          <a:stretch/>
        </p:blipFill>
        <p:spPr>
          <a:xfrm>
            <a:off x="380880" y="838080"/>
            <a:ext cx="83822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Море и его обитатели, гуашь"/>
          <p:cNvPicPr/>
          <p:nvPr/>
        </p:nvPicPr>
        <p:blipFill>
          <a:blip r:embed="rId1"/>
          <a:stretch/>
        </p:blipFill>
        <p:spPr>
          <a:xfrm>
            <a:off x="533520" y="1143000"/>
            <a:ext cx="8173800" cy="53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4" descr="Море и его обитатели, гуашь"/>
          <p:cNvPicPr/>
          <p:nvPr/>
        </p:nvPicPr>
        <p:blipFill>
          <a:blip r:embed="rId1"/>
          <a:stretch/>
        </p:blipFill>
        <p:spPr>
          <a:xfrm>
            <a:off x="533520" y="1143000"/>
            <a:ext cx="8181720" cy="5295960"/>
          </a:xfrm>
          <a:prstGeom prst="rect">
            <a:avLst/>
          </a:prstGeom>
          <a:ln w="0">
            <a:noFill/>
          </a:ln>
        </p:spPr>
      </p:pic>
      <p:sp>
        <p:nvSpPr>
          <p:cNvPr id="221" name="Прямоугольник 3"/>
          <p:cNvSpPr/>
          <p:nvPr/>
        </p:nvSpPr>
        <p:spPr>
          <a:xfrm>
            <a:off x="418320" y="228600"/>
            <a:ext cx="797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Украшать начинаем с жёлтого цве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Море и его обитатели, гуашь"/>
          <p:cNvPicPr/>
          <p:nvPr/>
        </p:nvPicPr>
        <p:blipFill>
          <a:blip r:embed="rId1"/>
          <a:stretch/>
        </p:blipFill>
        <p:spPr>
          <a:xfrm>
            <a:off x="533520" y="1371600"/>
            <a:ext cx="8056440" cy="5229360"/>
          </a:xfrm>
          <a:prstGeom prst="rect">
            <a:avLst/>
          </a:prstGeom>
          <a:ln w="0">
            <a:noFill/>
          </a:ln>
        </p:spPr>
      </p:pic>
      <p:sp>
        <p:nvSpPr>
          <p:cNvPr id="223" name="Прямоугольник 2"/>
          <p:cNvSpPr/>
          <p:nvPr/>
        </p:nvSpPr>
        <p:spPr>
          <a:xfrm>
            <a:off x="304920" y="0"/>
            <a:ext cx="845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Затем добавляем оранжевый и красный цвет. Траву можно украсить зелён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Море и его обитатели, гуашь"/>
          <p:cNvPicPr/>
          <p:nvPr/>
        </p:nvPicPr>
        <p:blipFill>
          <a:blip r:embed="rId1"/>
          <a:stretch/>
        </p:blipFill>
        <p:spPr>
          <a:xfrm>
            <a:off x="-304920" y="0"/>
            <a:ext cx="9748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Море и его обитатели, гуашь"/>
          <p:cNvPicPr/>
          <p:nvPr/>
        </p:nvPicPr>
        <p:blipFill>
          <a:blip r:embed="rId1"/>
          <a:stretch/>
        </p:blipFill>
        <p:spPr>
          <a:xfrm>
            <a:off x="457200" y="804960"/>
            <a:ext cx="8381880" cy="56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Прямоугольник 1"/>
          <p:cNvSpPr/>
          <p:nvPr/>
        </p:nvSpPr>
        <p:spPr>
          <a:xfrm>
            <a:off x="0" y="381168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Сначала нарисуем воду – фон для наших морских обитателей. Нарисуйте синей краской на листе три круга разной величины. Располагаться они должны на разной высоте и не в коем случае не на одной вертикальной ли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2" descr="Море и его обитатели, гуашь"/>
          <p:cNvPicPr/>
          <p:nvPr/>
        </p:nvPicPr>
        <p:blipFill>
          <a:blip r:embed="rId1"/>
          <a:stretch/>
        </p:blipFill>
        <p:spPr>
          <a:xfrm>
            <a:off x="1676520" y="111240"/>
            <a:ext cx="5638680" cy="38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Прямоугольник 1"/>
          <p:cNvSpPr/>
          <p:nvPr/>
        </p:nvSpPr>
        <p:spPr>
          <a:xfrm>
            <a:off x="0" y="528804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Затем выберите из красок все синие, голубые, фиолетовые оттенки, а так же белый, бордовый и изумрудный цве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2" descr="Море и его обитатели, гуашь"/>
          <p:cNvPicPr/>
          <p:nvPr/>
        </p:nvPicPr>
        <p:blipFill>
          <a:blip r:embed="rId1"/>
          <a:stretch/>
        </p:blipFill>
        <p:spPr>
          <a:xfrm>
            <a:off x="1295280" y="906480"/>
            <a:ext cx="617220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"/>
          <p:cNvSpPr/>
          <p:nvPr/>
        </p:nvSpPr>
        <p:spPr>
          <a:xfrm>
            <a:off x="0" y="5288040"/>
            <a:ext cx="8991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Другим оттенком синего цвета обведите круги с внутренней или внешней стороны. Поставьте ещё три пят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2" descr="Море и его обитатели, гуашь"/>
          <p:cNvPicPr/>
          <p:nvPr/>
        </p:nvPicPr>
        <p:blipFill>
          <a:blip r:embed="rId1"/>
          <a:stretch/>
        </p:blipFill>
        <p:spPr>
          <a:xfrm>
            <a:off x="1066680" y="844560"/>
            <a:ext cx="6858000" cy="44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Прямоугольник 1"/>
          <p:cNvSpPr/>
          <p:nvPr/>
        </p:nvSpPr>
        <p:spPr>
          <a:xfrm>
            <a:off x="0" y="430380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Для дальнейшей работы попробуем изменить синий цвет. Для этого воспользуемся палитрой. Попробуйте смешать синий цвет с белым. Получившимся оттенком обведите некоторые круги и точки ещё ра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2" descr="Море и его обитатели, гуашь"/>
          <p:cNvPicPr/>
          <p:nvPr/>
        </p:nvPicPr>
        <p:blipFill>
          <a:blip r:embed="rId1"/>
          <a:stretch/>
        </p:blipFill>
        <p:spPr>
          <a:xfrm>
            <a:off x="1295280" y="369720"/>
            <a:ext cx="5943600" cy="39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Прямоугольник 1"/>
          <p:cNvSpPr/>
          <p:nvPr/>
        </p:nvSpPr>
        <p:spPr>
          <a:xfrm>
            <a:off x="0" y="4303800"/>
            <a:ext cx="89154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Далее пробуйте смешать синий с другими выбранными цветами. Варьируйте количество добавляемого цвета. Дополняйте смешанные цвета другими оттеками. Желательно каждым новым цветом обводить не более трёх круг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2" descr="Море и его обитатели, гуашь"/>
          <p:cNvPicPr/>
          <p:nvPr/>
        </p:nvPicPr>
        <p:blipFill>
          <a:blip r:embed="rId1"/>
          <a:stretch/>
        </p:blipFill>
        <p:spPr>
          <a:xfrm>
            <a:off x="1295280" y="276120"/>
            <a:ext cx="6324840" cy="41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Море и его обитатели, гуашь"/>
          <p:cNvPicPr/>
          <p:nvPr/>
        </p:nvPicPr>
        <p:blipFill>
          <a:blip r:embed="rId1"/>
          <a:stretch/>
        </p:blipFill>
        <p:spPr>
          <a:xfrm>
            <a:off x="228600" y="228600"/>
            <a:ext cx="5238720" cy="3429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" descr="Море и его обитатели, гуашь"/>
          <p:cNvPicPr/>
          <p:nvPr/>
        </p:nvPicPr>
        <p:blipFill>
          <a:blip r:embed="rId2"/>
          <a:stretch/>
        </p:blipFill>
        <p:spPr>
          <a:xfrm>
            <a:off x="3657600" y="3200400"/>
            <a:ext cx="523872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Море и его обитатели, гуашь"/>
          <p:cNvPicPr/>
          <p:nvPr/>
        </p:nvPicPr>
        <p:blipFill>
          <a:blip r:embed="rId1"/>
          <a:stretch/>
        </p:blipFill>
        <p:spPr>
          <a:xfrm>
            <a:off x="533520" y="1066680"/>
            <a:ext cx="795312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alka</dc:creator>
  <dc:description/>
  <dc:language>en-US</dc:language>
  <cp:lastModifiedBy>1</cp:lastModifiedBy>
  <dcterms:modified xsi:type="dcterms:W3CDTF">2015-02-06T08:56:00Z</dcterms:modified>
  <cp:revision>9</cp:revision>
  <dc:subject/>
  <dc:title>Слайд 1</dc:title>
</cp:coreProperties>
</file>