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B82-D6F0-4394-A596-B81C8BD6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2FD-86A6-4EE5-95B6-EC754253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4C1-4796-48E0-9AD3-25B6BF87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214-1004-463F-B9A8-142A1EF4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DCDB-0903-4FCD-946D-7DBAB05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7EB6-46A5-4D8E-95CC-020A50B7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F97A-873F-4D26-83B9-72BA429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041F-8E5D-4373-BCE1-E9AE6D8A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3CEA-B3CA-4FA1-9C6A-295DC3BE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2AF9-EF12-4087-A778-732A5E19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027B-D935-4666-8780-3D11AF4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E12-31D0-4FCE-9C38-ECCDE09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FE37-B55C-44CF-B611-4972930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67D0-6EBF-4448-8F1F-0B2DAC1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E09-25EC-4C21-B5F8-86B494DB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6956-B4FD-4B18-AD2A-0E23D10E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9309-8620-4CA1-9FE6-FFDC7B63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0976-A720-4EF2-AE25-DAB67589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8E44-C48E-4C85-ABFF-C952723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A48A-6BB3-4A5C-8997-B9E241B9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B300-75BB-4490-BFA2-C9892ABA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4721-C326-4373-A454-40682468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0CE-7090-4748-B1E8-4C9BAE02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92CB-C39A-4641-ADCD-794BE90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81EB-F65B-4734-AF76-2F4DF162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BBEB-4FAA-4D35-8901-29EF5AB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E310-2BBC-4520-B98E-7E5E4F8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7534-132D-4418-9C79-B371A13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82BF-7099-41A5-AE55-CFCB619D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23BE-46CA-4C54-B764-294B7DB1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8373-8417-4666-8F93-F502DF5F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BF82-F972-4C7E-8D61-947D6D0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E783-81C9-4EFB-B695-2A0BBE1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0AE-4DE5-4367-851F-121DDD38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7CA3-0D84-4DD1-AC91-927DF47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5A72-279E-459A-8D71-0AAAD115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DF655-BF4F-4513-9478-C6F6045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7C45-2759-4AE3-AB9A-0406360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0250-8DA2-4658-BDFC-2B1A52F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962B-DE8B-4A6C-8EEF-67E610BF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1BF7-B8A0-478C-BAE8-1D4DE9B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F4EE-3D2A-4DB7-BA82-D6294CAD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8400-AD40-4C13-9C50-401006C5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3DA-E091-415C-B64B-EF9E79E0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EAB-FEB7-42AB-818C-F6CC2B6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146-5C8A-4EB4-B58C-D7590CE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263-A726-45EF-871A-FC51697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359-1EC2-4D26-ADBD-5179968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5281-7B6B-4C68-BEF3-82AE3D5C65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20E-5995-44A7-869C-2AE6D3B8100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A41-FC84-4FD6-9D92-667C6EF9869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7B8-3007-4321-A0B0-3FF748CF34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8095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КОРАТИВНЫЙ ПЕЙЗАЖ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0" y="3811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рисуйте в нижней левой части листа белым цветом круг, в двух других местах два круга поменьше - это будут морские обитатели. Сначала круги можно наметить тонкой полусухой кисточкой, а затем обвести их более толстой ки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752480" y="176040"/>
            <a:ext cx="57913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838080" y="1066680"/>
            <a:ext cx="771048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609480" y="1143000"/>
            <a:ext cx="8190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228600" y="914400"/>
            <a:ext cx="8653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457200" y="990720"/>
            <a:ext cx="82821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143000"/>
            <a:ext cx="817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143000"/>
            <a:ext cx="8181720" cy="52959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418320" y="228600"/>
            <a:ext cx="79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крашать начинаем с жёлт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371600"/>
            <a:ext cx="8056440" cy="52293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2"/>
          <p:cNvSpPr/>
          <p:nvPr/>
        </p:nvSpPr>
        <p:spPr>
          <a:xfrm>
            <a:off x="30492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тем добавляем оранжевый и красный цвет. Траву можно украсить зелё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-304920" y="0"/>
            <a:ext cx="974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457200" y="804960"/>
            <a:ext cx="83818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0" y="3811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начала нарисуем воду – фон для наших морских обитателей. Нарисуйте синей краской на листе три круга разной величины. Располагаться они должны на разной высоте и не в коем случае не на одной вертикальн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676520" y="111240"/>
            <a:ext cx="563868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0" y="5288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тем выберите из красок все синие, голубые, фиолетовые оттенки, а так же белый, бордовый и изумрудный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295280" y="906480"/>
            <a:ext cx="61722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0" y="528804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ругим оттенком синего цвета обведите круги с внутренней или внешней стороны. Поставьте ещё три пя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066680" y="844560"/>
            <a:ext cx="68580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0" y="4303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ля дальнейшей работы попробуем изменить синий цвет. Для этого воспользуемся палитрой. Попробуйте смешать синий цвет с белым. Получившимся оттенком обведите некоторые круги и точки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295280" y="36972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0" y="430380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алее пробуйте смешать синий с другими выбранными цветами. Варьируйте количество добавляемого цвета. Дополняйте смешанные цвета другими оттеками. Желательно каждым новым цветом обводить не более трёх к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295280" y="276120"/>
            <a:ext cx="63248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228600" y="228600"/>
            <a:ext cx="523872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Море и его обитатели, гуашь"/>
          <p:cNvPicPr/>
          <p:nvPr/>
        </p:nvPicPr>
        <p:blipFill>
          <a:blip r:embed="rId2"/>
          <a:stretch/>
        </p:blipFill>
        <p:spPr>
          <a:xfrm>
            <a:off x="3657600" y="3200400"/>
            <a:ext cx="5238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066680"/>
            <a:ext cx="7953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lka</dc:creator>
  <dc:description/>
  <dc:language>en-US</dc:language>
  <cp:lastModifiedBy>1</cp:lastModifiedBy>
  <dcterms:modified xsi:type="dcterms:W3CDTF">2015-02-06T08:56:00Z</dcterms:modified>
  <cp:revision>9</cp:revision>
  <dc:subject/>
  <dc:title>Слайд 1</dc:title>
</cp:coreProperties>
</file>