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EC6-3607-4F58-BBC8-925D38D8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F6E-E666-4CEE-A3FE-C060E12C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D6E-E895-41D1-ABCC-113C8116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A6E-2760-410D-8CA1-7EE27156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540-9002-45A8-A856-EBBF5CF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9E2-0732-4416-ABA8-C1FC835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1C3-69B5-417C-B709-8D194EC6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287-971A-4E2E-B9B2-ED2D86DA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420-60F7-4C72-9FD0-431FEE4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084-E421-417A-86A3-620C14D9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E5F-0D48-429B-8353-4E5A1E4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64F-464C-4EB6-96C2-B32CA6C3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54D710-14A5-49FB-A84C-D358E89B0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56000" y="6500880"/>
            <a:ext cx="2800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2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интерес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 похвалить себя за то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всего 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показалось важным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еня было открытием то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Закончен урок, и выполнен пла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Спасибо, ребята, огромное в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За то, что упорно и дружно труд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Что на уроке вы не ленили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SOfficePNG(7)"/>
          <p:cNvPicPr/>
          <p:nvPr/>
        </p:nvPicPr>
        <p:blipFill>
          <a:blip r:embed="rId1"/>
          <a:stretch/>
        </p:blipFill>
        <p:spPr>
          <a:xfrm>
            <a:off x="1835280" y="333360"/>
            <a:ext cx="56894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..  р .. 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.. 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.. 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.. 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жж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жж 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75px-Passer_domesticus_m"/>
          <p:cNvPicPr/>
          <p:nvPr/>
        </p:nvPicPr>
        <p:blipFill>
          <a:blip r:embed="rId1"/>
          <a:stretch/>
        </p:blipFill>
        <p:spPr>
          <a:xfrm>
            <a:off x="3059280" y="1268280"/>
            <a:ext cx="1871640" cy="137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b_16"/>
          <p:cNvPicPr/>
          <p:nvPr/>
        </p:nvPicPr>
        <p:blipFill>
          <a:blip r:embed="rId2"/>
          <a:stretch/>
        </p:blipFill>
        <p:spPr>
          <a:xfrm>
            <a:off x="5003640" y="1989000"/>
            <a:ext cx="3527640" cy="192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4741"/>
          <p:cNvPicPr/>
          <p:nvPr/>
        </p:nvPicPr>
        <p:blipFill>
          <a:blip r:embed="rId3">
            <a:lum bright="-12000"/>
          </a:blip>
          <a:stretch/>
        </p:blipFill>
        <p:spPr>
          <a:xfrm rot="20440800">
            <a:off x="2556000" y="2997000"/>
            <a:ext cx="2089080" cy="109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HLD354"/>
          <p:cNvPicPr/>
          <p:nvPr/>
        </p:nvPicPr>
        <p:blipFill>
          <a:blip r:embed="rId4"/>
          <a:stretch/>
        </p:blipFill>
        <p:spPr>
          <a:xfrm>
            <a:off x="4284720" y="3645000"/>
            <a:ext cx="1173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5" descr=""/>
          <p:cNvPicPr/>
          <p:nvPr/>
        </p:nvPicPr>
        <p:blipFill>
          <a:blip r:embed="rId1"/>
          <a:stretch/>
        </p:blipFill>
        <p:spPr>
          <a:xfrm>
            <a:off x="706320" y="360360"/>
            <a:ext cx="78091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SOfficePNG(3)"/>
          <p:cNvPicPr/>
          <p:nvPr/>
        </p:nvPicPr>
        <p:blipFill>
          <a:blip r:embed="rId1"/>
          <a:stretch/>
        </p:blipFill>
        <p:spPr>
          <a:xfrm>
            <a:off x="3419640" y="907920"/>
            <a:ext cx="5205240" cy="32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Владимир Иванович Даль"/>
          <p:cNvPicPr/>
          <p:nvPr/>
        </p:nvPicPr>
        <p:blipFill>
          <a:blip r:embed="rId2"/>
          <a:stretch/>
        </p:blipFill>
        <p:spPr>
          <a:xfrm>
            <a:off x="755640" y="404640"/>
            <a:ext cx="2170080" cy="2840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826920" y="3213000"/>
            <a:ext cx="208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Bookman Old Style"/>
              </a:rPr>
              <a:t>В.И. Даль</a:t>
            </a:r>
            <a:endParaRPr b="0" lang="en-US" sz="25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87280" y="4149720"/>
            <a:ext cx="7056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"ГЛАГ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, речь, мысль…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голъ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азвание буквы Г в славянской и русской азбуке."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ковый словарь живого великорусского языка.</a:t>
            </a: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AutoShape 6">
            <a:hlinkClick r:id="" action="ppaction://hlinkshowjump?jump=nextslide"/>
          </p:cNvPr>
          <p:cNvSpPr/>
          <p:nvPr/>
        </p:nvSpPr>
        <p:spPr>
          <a:xfrm>
            <a:off x="810108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ые глаг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часть речи, которая   обозначает действие предмета. Задумывались ли вы о том, почему у этой части речи такое название? Оказывается, в древнерусском языке было слово </a:t>
            </a: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и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говорить. А часть речи, которая обозначает действие предмета, назвали </a:t>
            </a: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едь она рассказывает, «глаголит» о предмете: что он делает, что делал или что будет делать. Глаголы бывают настоящего, прошедшего и будущего времени. По частоте употребления эта часть речи занимает второе месть после имён 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028000" y="595008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3794"/>
                </a:moveTo>
                <a:lnTo>
                  <a:pt x="23218" y="10800"/>
                </a:lnTo>
                <a:lnTo>
                  <a:pt x="9205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обозначает действие предм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Глагол, ИСПРАВЛ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16360" y="2205000"/>
            <a:ext cx="3582720" cy="392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g7"/>
          <p:cNvPicPr/>
          <p:nvPr/>
        </p:nvPicPr>
        <p:blipFill>
          <a:blip r:embed="rId2"/>
          <a:stretch/>
        </p:blipFill>
        <p:spPr>
          <a:xfrm>
            <a:off x="7286760" y="1071720"/>
            <a:ext cx="135252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5"/>
          <p:cNvPicPr/>
          <p:nvPr/>
        </p:nvPicPr>
        <p:blipFill>
          <a:blip r:embed="rId3"/>
          <a:stretch/>
        </p:blipFill>
        <p:spPr>
          <a:xfrm>
            <a:off x="642960" y="1285920"/>
            <a:ext cx="92880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Слово потеряло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яте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ьфин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гушк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нгуру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ме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– очень вкусный пи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656280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хотел устроить б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я гостей к себе 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ил муку, купил твор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ёк рассыпчатый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рог, ножи и вилки ту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что-то гости не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ждал, пока хватило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подвинул стул и 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есь пирог в минуту 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же гости подош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даже крошек не _________.      Д.Хар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08720" y="1599840"/>
            <a:ext cx="13766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Times New Roman"/>
              </a:rPr>
              <a:t>поз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380360" y="2060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иду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310880" y="1197000"/>
            <a:ext cx="111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нашл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382520" y="2637000"/>
            <a:ext cx="96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пирог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359840" y="3214800"/>
            <a:ext cx="87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съел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23 -0.00555 L -0.41823 -0.00555 E">
                                      <p:cBhvr>
                                        <p:cTn id="8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95 0.00092 L -0.39149 -0.04093 E">
                                      <p:cBhvr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0.00879 L -0.41337 0.14497 E">
                                      <p:cBhvr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0347 L -0.34687 0.1607 E">
                                      <p:cBhvr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0.00092 L -0.38385 0.56716 E">
                                      <p:cBhvr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720"/>
            <a:ext cx="8228160" cy="1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7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лагол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действие предмета, отвечает на вопросы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 делать?,    что сделать?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дложении чаще других частей речи употребляется с существи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hoto"/>
          <p:cNvPicPr/>
          <p:nvPr/>
        </p:nvPicPr>
        <p:blipFill>
          <a:blip r:embed="rId1"/>
          <a:stretch/>
        </p:blipFill>
        <p:spPr>
          <a:xfrm>
            <a:off x="6300720" y="3284640"/>
            <a:ext cx="223380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hld014"/>
          <p:cNvPicPr/>
          <p:nvPr/>
        </p:nvPicPr>
        <p:blipFill>
          <a:blip r:embed="rId2"/>
          <a:stretch/>
        </p:blipFill>
        <p:spPr>
          <a:xfrm>
            <a:off x="395280" y="3500280"/>
            <a:ext cx="2592360" cy="245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HLD637"/>
          <p:cNvPicPr/>
          <p:nvPr/>
        </p:nvPicPr>
        <p:blipFill>
          <a:blip r:embed="rId3"/>
          <a:stretch/>
        </p:blipFill>
        <p:spPr>
          <a:xfrm>
            <a:off x="3348000" y="3357720"/>
            <a:ext cx="2519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/>
  <dc:description/>
  <dc:language>en-US</dc:language>
  <cp:lastModifiedBy>Windows User</cp:lastModifiedBy>
  <dcterms:modified xsi:type="dcterms:W3CDTF">2017-03-23T22:05:13Z</dcterms:modified>
  <cp:revision>28</cp:revision>
  <dc:subject/>
  <dc:title>Слайд 1</dc:title>
</cp:coreProperties>
</file>