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799-1AE5-4C79-864D-5EC5C333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5FD-8929-4E00-93B9-7C72CBE7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544-F748-4260-A9D0-520022DA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E43-26D0-4D38-97C6-8E047B4D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B709-EBEC-4907-B7AC-CD352490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A221-381A-42AF-950B-F4FA8362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9C2B-DAE9-4899-A51B-70EE8465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D75E-43F0-4C76-9770-0B681EE5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4FBA-BCA7-4208-9AF1-B4CF1F9E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BC9B-5B56-43DC-81B8-6A5E59B4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0AEF-7051-4F8C-8886-EABC8ED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C42-9CB3-458F-BAC7-AC2564D6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F67E-4FB7-454B-A56F-58262028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628C-B1CE-4543-974F-AA14EA24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D9E0-821B-423F-985B-88E955F6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2631-5B08-47B6-94B3-82B81917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B40C-95FF-4D9E-9264-4B0D5ED4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AB8-F075-4B00-B14D-D60BB67A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CEA-8316-4671-A122-44921F17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FCB-E8CD-460B-A5BE-F2D854EB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161-9CB5-4348-9FF3-75643B81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3C7-66AA-47D7-BF7B-4DCA55DE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6B3-A538-4891-8C26-840528A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615-25A9-4AED-B8B3-8C26C400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3F1E-3505-4AB9-AE74-12771C3C05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216F-B9B8-4C4D-94D1-F7F885FA650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>
            <a:off x="1258920" y="1268280"/>
            <a:ext cx="6624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1eb2ae"/>
                    </a:gs>
                  </a:gsLst>
                  <a:lin ang="5400000"/>
                </a:gradFill>
                <a:latin typeface="Impact"/>
              </a:rPr>
              <a:t>Мои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1eb2ae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1eb2ae"/>
                    </a:gs>
                  </a:gsLst>
                  <a:lin ang="5400000"/>
                </a:gradFill>
                <a:latin typeface="Impact"/>
              </a:rPr>
              <a:t>домашние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1eb2ae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1eb2ae"/>
                    </a:gs>
                  </a:gsLst>
                  <a:lin ang="5400000"/>
                </a:gradFill>
                <a:latin typeface="Impact"/>
              </a:rPr>
              <a:t>животные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1eb2ae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" name="WordArt 7"/>
          <p:cNvSpPr txBox="1"/>
          <p:nvPr/>
        </p:nvSpPr>
        <p:spPr>
          <a:xfrm>
            <a:off x="1332000" y="4724280"/>
            <a:ext cx="662616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выполнила ученица 1-Б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Иванова Дар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0" y="404640"/>
            <a:ext cx="81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ого попугая Ксюшу съела Соня.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убенький Кеша упал в суп и тоже погиб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стался у нас один желтенький Никит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6" descr="P70517-205138"/>
          <p:cNvPicPr/>
          <p:nvPr/>
        </p:nvPicPr>
        <p:blipFill>
          <a:blip r:embed="rId1"/>
          <a:stretch/>
        </p:blipFill>
        <p:spPr>
          <a:xfrm>
            <a:off x="1187280" y="2781360"/>
            <a:ext cx="59058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250920" y="404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ита смело защищает свою клетк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идит палец в опасной близости – сразу бежит кусат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24000" y="177336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если вылетает из клетки – ищет на кого бы напасть. Никита - охотник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9" descr="P70517-205241"/>
          <p:cNvPicPr/>
          <p:nvPr/>
        </p:nvPicPr>
        <p:blipFill>
          <a:blip r:embed="rId1"/>
          <a:stretch/>
        </p:blipFill>
        <p:spPr>
          <a:xfrm>
            <a:off x="1476360" y="2852640"/>
            <a:ext cx="5113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P70517-221335"/>
          <p:cNvPicPr/>
          <p:nvPr/>
        </p:nvPicPr>
        <p:blipFill>
          <a:blip r:embed="rId1"/>
          <a:stretch/>
        </p:blipFill>
        <p:spPr>
          <a:xfrm>
            <a:off x="3132000" y="115920"/>
            <a:ext cx="4608720" cy="6572160"/>
          </a:xfrm>
          <a:prstGeom prst="rect">
            <a:avLst/>
          </a:prstGeom>
          <a:ln w="0">
            <a:noFill/>
          </a:ln>
        </p:spPr>
      </p:pic>
      <p:sp>
        <p:nvSpPr>
          <p:cNvPr id="227" name="WordArt 7"/>
          <p:cNvSpPr txBox="1"/>
          <p:nvPr/>
        </p:nvSpPr>
        <p:spPr>
          <a:xfrm rot="19695600">
            <a:off x="539640" y="981000"/>
            <a:ext cx="3673440" cy="23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8bd0"/>
                    </a:gs>
                  </a:gsLst>
                  <a:lin ang="916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ша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8bd0"/>
                  </a:gs>
                </a:gsLst>
                <a:lin ang="916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8bd0"/>
                    </a:gs>
                  </a:gsLst>
                  <a:lin ang="916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ня 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8bd0"/>
                  </a:gs>
                </a:gsLst>
                <a:lin ang="916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8bd0"/>
                    </a:gs>
                  </a:gsLst>
                  <a:lin ang="916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ики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8bd0"/>
                  </a:gs>
                </a:gsLst>
                <a:lin ang="916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468360" y="1341360"/>
            <a:ext cx="33829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094280" cy="6078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187280" y="260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 меня дома есть животны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5" descr="1495044049"/>
          <p:cNvPicPr/>
          <p:nvPr/>
        </p:nvPicPr>
        <p:blipFill>
          <a:blip r:embed="rId1"/>
          <a:stretch/>
        </p:blipFill>
        <p:spPr>
          <a:xfrm>
            <a:off x="539640" y="907920"/>
            <a:ext cx="3210120" cy="5715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4211640" y="393372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накомьтесь, кошка Сон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284720" y="5229360"/>
            <a:ext cx="2808360" cy="576000"/>
          </a:xfrm>
          <a:prstGeom prst="leftArrow">
            <a:avLst>
              <a:gd name="adj1" fmla="val 50000"/>
              <a:gd name="adj2" fmla="val 121891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3419640" y="1197000"/>
            <a:ext cx="2592360" cy="1440000"/>
          </a:xfrm>
          <a:prstGeom prst="wedgeRoundRectCallout">
            <a:avLst>
              <a:gd name="adj1" fmla="val -86865"/>
              <a:gd name="adj2" fmla="val 55291"/>
              <a:gd name="adj3" fmla="val 16667"/>
            </a:avLst>
          </a:prstGeom>
          <a:solidFill>
            <a:srgbClr val="d5b781">
              <a:alpha val="23000"/>
            </a:srgbClr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Мяу, здравствуй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187280" y="333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 попугай по имени Ники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7" descr="P70517-205724"/>
          <p:cNvPicPr/>
          <p:nvPr/>
        </p:nvPicPr>
        <p:blipFill>
          <a:blip r:embed="rId1"/>
          <a:stretch/>
        </p:blipFill>
        <p:spPr>
          <a:xfrm>
            <a:off x="468360" y="981000"/>
            <a:ext cx="6759360" cy="50119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6"/>
          <p:cNvSpPr/>
          <p:nvPr/>
        </p:nvSpPr>
        <p:spPr>
          <a:xfrm>
            <a:off x="250920" y="3573360"/>
            <a:ext cx="2592360" cy="935280"/>
          </a:xfrm>
          <a:prstGeom prst="wedgeRoundRectCallout">
            <a:avLst>
              <a:gd name="adj1" fmla="val 31750"/>
              <a:gd name="adj2" fmla="val -150171"/>
              <a:gd name="adj3" fmla="val 16667"/>
            </a:avLst>
          </a:prstGeom>
          <a:solidFill>
            <a:srgbClr val="d5b781">
              <a:alpha val="23000"/>
            </a:srgbClr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Пррррривет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70880" y="333360"/>
            <a:ext cx="506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ша кошка персидской пород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Этим летом ей исполнится 4 г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435640" y="220500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т такая она была маленькая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гда мы ее принесли дом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4751640" cy="40478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9"/>
          <p:cNvSpPr/>
          <p:nvPr/>
        </p:nvSpPr>
        <p:spPr>
          <a:xfrm>
            <a:off x="5435640" y="220500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т такая она была маленькая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гда мы ее принесли дом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233880" cy="46609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7"/>
          <p:cNvSpPr/>
          <p:nvPr/>
        </p:nvSpPr>
        <p:spPr>
          <a:xfrm>
            <a:off x="611280" y="522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ак Соня гуля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3924360" y="782640"/>
            <a:ext cx="3816360" cy="3724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4140360" y="4508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ервая спешит проверить пакеты с покупк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1495045194"/>
          <p:cNvPicPr/>
          <p:nvPr/>
        </p:nvPicPr>
        <p:blipFill>
          <a:blip r:embed="rId1"/>
          <a:stretch/>
        </p:blipFill>
        <p:spPr>
          <a:xfrm>
            <a:off x="250920" y="1952640"/>
            <a:ext cx="4105080" cy="30798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324000" y="26028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Так как у кошки длинная шерсть, ее раз в год нужно стрич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403280" y="566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ня после парикмахерских процеду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7" descr="1495044615"/>
          <p:cNvPicPr/>
          <p:nvPr/>
        </p:nvPicPr>
        <p:blipFill>
          <a:blip r:embed="rId2"/>
          <a:stretch/>
        </p:blipFill>
        <p:spPr>
          <a:xfrm>
            <a:off x="4427640" y="1341360"/>
            <a:ext cx="3078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ня - демон с рожкам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9" descr="Безимени-1"/>
          <p:cNvPicPr/>
          <p:nvPr/>
        </p:nvPicPr>
        <p:blipFill>
          <a:blip r:embed="rId1"/>
          <a:stretch/>
        </p:blipFill>
        <p:spPr>
          <a:xfrm>
            <a:off x="1332000" y="1413000"/>
            <a:ext cx="4825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213000" cy="6264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24000" y="404640"/>
            <a:ext cx="33116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ня -половая тряпочк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300800" cy="34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пугаев у нас одно время жило аж 5 штук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 волнистых попугая – Кеша, Никита и Ксюша и два неразлучника – Клава и…. забыла, как звали мальчика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3789360"/>
            <a:ext cx="7272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лдеж в квартире был неимоверный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апа подарил знакомым неразлучников.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7T18:09:53Z</dcterms:created>
  <dc:creator>Andrey</dc:creator>
  <dc:description/>
  <dc:language>en-US</dc:language>
  <cp:lastModifiedBy>Светлана</cp:lastModifiedBy>
  <dcterms:modified xsi:type="dcterms:W3CDTF">2017-05-31T13:13:45Z</dcterms:modified>
  <cp:revision>4</cp:revision>
  <dc:subject/>
  <dc:title>Мои домашние животные</dc:title>
</cp:coreProperties>
</file>