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314-8E8D-4631-A4D8-8C92C03F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66F-F4C0-49A1-BE27-E826CFB5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7CC-E3C5-4ADC-B13D-3399A21F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CAC-3BC0-4FA3-A167-9BC98337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7FAE-883B-4FD3-80B4-2AEB4E8E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9C9B-906F-4CD1-B1DB-D3DC7924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384B-21E8-4A83-89F0-42AA6BD6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8E13-1BBF-4360-A530-554629E9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7661-9390-4CBC-B566-F6E8F3D4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B581-986D-4278-82F4-27745DDB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C4FF-0463-44C8-B8E2-1A6CB60A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4AF-623C-4F55-88D3-ECEB9235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E2F1-8495-461A-82BD-5975C3A3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8497-CA4A-4E77-8154-2FC73F22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C34B-E1FF-47C7-B674-5F05DE90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0DB5-A920-4B6D-9BC2-E90868A2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B3FA-6E13-487F-9310-D41604F6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B65-39A2-45E0-BFDA-D4E08942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350-95E0-44D3-8543-20C35F2F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CBF-C733-4E0A-BDFD-4DA7DACB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8DD-C809-43AE-A146-C493FB31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737-6598-4D47-AF40-0C3A99F1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386-97B7-4CFD-AAA8-A82249C2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B83-52EA-4C39-B416-6F89B98D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8EA4-6FD3-4853-AACD-CA8F52C195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BBA9-DE3A-498C-A9D3-6CB1C73DECB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93" name="WordArt 5"/>
          <p:cNvSpPr txBox="1"/>
          <p:nvPr/>
        </p:nvSpPr>
        <p:spPr>
          <a:xfrm>
            <a:off x="1258920" y="1268280"/>
            <a:ext cx="6624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1eb2ae"/>
                    </a:gs>
                  </a:gsLst>
                  <a:lin ang="5400000"/>
                </a:gradFill>
                <a:latin typeface="Impact"/>
              </a:rPr>
              <a:t>Мои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1eb2ae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1eb2ae"/>
                    </a:gs>
                  </a:gsLst>
                  <a:lin ang="5400000"/>
                </a:gradFill>
                <a:latin typeface="Impact"/>
              </a:rPr>
              <a:t>домашние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1eb2ae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1eb2ae"/>
                    </a:gs>
                  </a:gsLst>
                  <a:lin ang="5400000"/>
                </a:gradFill>
                <a:latin typeface="Impact"/>
              </a:rPr>
              <a:t>животные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1eb2ae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4" name="WordArt 7"/>
          <p:cNvSpPr txBox="1"/>
          <p:nvPr/>
        </p:nvSpPr>
        <p:spPr>
          <a:xfrm>
            <a:off x="1332000" y="4724280"/>
            <a:ext cx="662616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выполнила ученица 1-Б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Иванова Дар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0" y="404640"/>
            <a:ext cx="81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ого попугая Ксюшу съела Соня.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убенький Кеша упал в суп и тоже погиб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стался у нас один желтенький Никит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6" descr="P70517-205138"/>
          <p:cNvPicPr/>
          <p:nvPr/>
        </p:nvPicPr>
        <p:blipFill>
          <a:blip r:embed="rId1"/>
          <a:stretch/>
        </p:blipFill>
        <p:spPr>
          <a:xfrm>
            <a:off x="1187280" y="2781360"/>
            <a:ext cx="59058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250920" y="404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ита смело защищает свою клетку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идит палец в опасной близости – сразу бежит кусат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24000" y="177336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если вылетает из клетки – ищет на кого бы напасть. Никита - охотник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Picture 9" descr="P70517-205241"/>
          <p:cNvPicPr/>
          <p:nvPr/>
        </p:nvPicPr>
        <p:blipFill>
          <a:blip r:embed="rId1"/>
          <a:stretch/>
        </p:blipFill>
        <p:spPr>
          <a:xfrm>
            <a:off x="1476360" y="2852640"/>
            <a:ext cx="5113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P70517-221335"/>
          <p:cNvPicPr/>
          <p:nvPr/>
        </p:nvPicPr>
        <p:blipFill>
          <a:blip r:embed="rId1"/>
          <a:stretch/>
        </p:blipFill>
        <p:spPr>
          <a:xfrm>
            <a:off x="3132000" y="115920"/>
            <a:ext cx="4608720" cy="6572160"/>
          </a:xfrm>
          <a:prstGeom prst="rect">
            <a:avLst/>
          </a:prstGeom>
          <a:ln w="0">
            <a:noFill/>
          </a:ln>
        </p:spPr>
      </p:pic>
      <p:sp>
        <p:nvSpPr>
          <p:cNvPr id="227" name="WordArt 7"/>
          <p:cNvSpPr txBox="1"/>
          <p:nvPr/>
        </p:nvSpPr>
        <p:spPr>
          <a:xfrm rot="19695600">
            <a:off x="539640" y="981000"/>
            <a:ext cx="3673440" cy="23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8bd0"/>
                    </a:gs>
                  </a:gsLst>
                  <a:lin ang="9162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аша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008bd0"/>
                  </a:gs>
                </a:gsLst>
                <a:lin ang="9162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8bd0"/>
                    </a:gs>
                  </a:gsLst>
                  <a:lin ang="9162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ня 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008bd0"/>
                  </a:gs>
                </a:gsLst>
                <a:lin ang="9162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8bd0"/>
                    </a:gs>
                  </a:gsLst>
                  <a:lin ang="9162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ики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008bd0"/>
                  </a:gs>
                </a:gsLst>
                <a:lin ang="9162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468360" y="1341360"/>
            <a:ext cx="33829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094280" cy="6078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1187280" y="260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 меня дома есть животны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5" descr="1495044049"/>
          <p:cNvPicPr/>
          <p:nvPr/>
        </p:nvPicPr>
        <p:blipFill>
          <a:blip r:embed="rId1"/>
          <a:stretch/>
        </p:blipFill>
        <p:spPr>
          <a:xfrm>
            <a:off x="539640" y="907920"/>
            <a:ext cx="3210120" cy="5715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4211640" y="3933720"/>
            <a:ext cx="33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накомьтесь, кошка Сон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284720" y="5229360"/>
            <a:ext cx="2808360" cy="576000"/>
          </a:xfrm>
          <a:prstGeom prst="leftArrow">
            <a:avLst>
              <a:gd name="adj1" fmla="val 50000"/>
              <a:gd name="adj2" fmla="val 121891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3419640" y="1197000"/>
            <a:ext cx="2592360" cy="1440000"/>
          </a:xfrm>
          <a:prstGeom prst="wedgeRoundRectCallout">
            <a:avLst>
              <a:gd name="adj1" fmla="val -86865"/>
              <a:gd name="adj2" fmla="val 55291"/>
              <a:gd name="adj3" fmla="val 16667"/>
            </a:avLst>
          </a:prstGeom>
          <a:solidFill>
            <a:srgbClr val="d5b781">
              <a:alpha val="23000"/>
            </a:srgbClr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Мяу, здравствуйт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187280" y="333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 попугай по имени Ники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7" descr="P70517-205724"/>
          <p:cNvPicPr/>
          <p:nvPr/>
        </p:nvPicPr>
        <p:blipFill>
          <a:blip r:embed="rId1"/>
          <a:stretch/>
        </p:blipFill>
        <p:spPr>
          <a:xfrm>
            <a:off x="468360" y="981000"/>
            <a:ext cx="6759360" cy="50119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6"/>
          <p:cNvSpPr/>
          <p:nvPr/>
        </p:nvSpPr>
        <p:spPr>
          <a:xfrm>
            <a:off x="250920" y="3573360"/>
            <a:ext cx="2592360" cy="935280"/>
          </a:xfrm>
          <a:prstGeom prst="wedgeRoundRectCallout">
            <a:avLst>
              <a:gd name="adj1" fmla="val 31750"/>
              <a:gd name="adj2" fmla="val -150171"/>
              <a:gd name="adj3" fmla="val 16667"/>
            </a:avLst>
          </a:prstGeom>
          <a:solidFill>
            <a:srgbClr val="d5b781">
              <a:alpha val="23000"/>
            </a:srgbClr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Пррррривет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470880" y="333360"/>
            <a:ext cx="506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аша кошка персидской пород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Этим летом ей исполнится 4 г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435640" y="220500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от такая она была маленькая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гда мы ее принесли дом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4751640" cy="40478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9"/>
          <p:cNvSpPr/>
          <p:nvPr/>
        </p:nvSpPr>
        <p:spPr>
          <a:xfrm>
            <a:off x="5435640" y="220500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от такая она была маленькая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гда мы ее принесли дом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233880" cy="46609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7"/>
          <p:cNvSpPr/>
          <p:nvPr/>
        </p:nvSpPr>
        <p:spPr>
          <a:xfrm>
            <a:off x="611280" y="522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ак Соня гуля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3924360" y="782640"/>
            <a:ext cx="3816360" cy="37242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4140360" y="4508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ервая спешит проверить пакеты с покупк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1495045194"/>
          <p:cNvPicPr/>
          <p:nvPr/>
        </p:nvPicPr>
        <p:blipFill>
          <a:blip r:embed="rId1"/>
          <a:stretch/>
        </p:blipFill>
        <p:spPr>
          <a:xfrm>
            <a:off x="250920" y="1952640"/>
            <a:ext cx="4105080" cy="30798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324000" y="26028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Так как у кошки длинная шерсть, ее раз в год нужно стрич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403280" y="566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ня после парикмахерских процеду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7" descr="1495044615"/>
          <p:cNvPicPr/>
          <p:nvPr/>
        </p:nvPicPr>
        <p:blipFill>
          <a:blip r:embed="rId2"/>
          <a:stretch/>
        </p:blipFill>
        <p:spPr>
          <a:xfrm>
            <a:off x="4427640" y="1341360"/>
            <a:ext cx="3078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оня - демон с рожкам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9" descr="Безимени-1"/>
          <p:cNvPicPr/>
          <p:nvPr/>
        </p:nvPicPr>
        <p:blipFill>
          <a:blip r:embed="rId1"/>
          <a:stretch/>
        </p:blipFill>
        <p:spPr>
          <a:xfrm>
            <a:off x="1332000" y="1413000"/>
            <a:ext cx="4825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213000" cy="6264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24000" y="404640"/>
            <a:ext cx="33116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оня -половая тряпочк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300800" cy="34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пугаев у нас одно время жило аж 5 штук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и волнистых попугая – Кеша, Никита и Ксюша и два неразлучника – Клава и…. забыла, как звали мальчика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3789360"/>
            <a:ext cx="72723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лдеж в квартире был неимоверный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апа подарил знакомым неразлучников.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7T18:09:53Z</dcterms:created>
  <dc:creator>Andrey</dc:creator>
  <dc:description/>
  <dc:language>en-US</dc:language>
  <cp:lastModifiedBy>Светлана</cp:lastModifiedBy>
  <dcterms:modified xsi:type="dcterms:W3CDTF">2017-05-31T13:13:45Z</dcterms:modified>
  <cp:revision>4</cp:revision>
  <dc:subject/>
  <dc:title>Мои домашние животные</dc:title>
</cp:coreProperties>
</file>