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.wmf" ContentType="image/x-wmf"/>
  <Override PartName="/ppt/media/image15.jpeg" ContentType="image/jpeg"/>
  <Override PartName="/ppt/media/image13.jpeg" ContentType="image/jpeg"/>
  <Override PartName="/ppt/media/image20.gif" ContentType="image/gif"/>
  <Override PartName="/ppt/media/image5.jpeg" ContentType="image/jpeg"/>
  <Override PartName="/ppt/media/image10.jpeg" ContentType="image/jpeg"/>
  <Override PartName="/ppt/media/image12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4.wmf" ContentType="image/x-wmf"/>
  <Override PartName="/ppt/media/image7.jpeg" ContentType="image/jpeg"/>
  <Override PartName="/ppt/media/image1.wmf" ContentType="image/x-wmf"/>
  <Override PartName="/ppt/media/image28.gif" ContentType="image/gif"/>
  <Override PartName="/ppt/media/image24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wmf" ContentType="image/x-wmf"/>
  <Override PartName="/ppt/media/image22.wmf" ContentType="image/x-wmf"/>
  <Override PartName="/ppt/media/image19.jpeg" ContentType="image/jpeg"/>
  <Override PartName="/ppt/media/image25.png" ContentType="image/png"/>
  <Override PartName="/ppt/media/image27.jpeg" ContentType="image/jpeg"/>
  <Override PartName="/ppt/media/image29.png" ContentType="image/png"/>
  <Override PartName="/ppt/media/image6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1904-CCC1-4C11-9B25-2D99E3AFBC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0D58-BBAB-4310-A3E7-7761116B3A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2C5F-A859-4B99-AA35-33AD6A6A4B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B678-D6AA-49F3-8727-AA71643BC2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D132-97C2-4BB3-B980-DBDCC7F83A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1531-91B4-46DA-A75E-5D410280E5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256C-E561-4B88-A27D-F2FD10F094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0797-25EF-417F-912E-099CCFD93A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BA91-E698-45D8-8374-67B8C3B0F0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1A1-9150-4ACE-87EF-F6273B6E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2DC-762F-49DD-B568-D2710F9B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B35-7AF6-4955-9879-A2D41309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F40-659A-499F-9FE7-DA212469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E96F-3071-493B-B48A-8B6DF9FC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CA2B-02CC-4C59-B615-FE169330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997F-A831-480B-BA02-C155C240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B337-7054-4C49-A297-9B568AF9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07EF-0D0B-4989-BFF9-3501530C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FA16-8995-4056-91FA-6FB25DA1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CD8F-DD86-48F8-BC0A-E4E057E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C07-D372-4009-AE01-7F107531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DC1A-B542-400A-81A4-17EB93B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FC6E-9EA6-4999-A023-20F3470E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2BCA-BC07-44CA-80C8-7C38FB75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6768-9E1E-42EB-8902-F03141FB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E97D-B8A4-4A75-8B84-007A14BA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59D-9E31-4E4B-8F04-2450E870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96A-97C9-4CEE-BA4F-2C5687F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C72-0690-48B6-9B8C-A9B5E4F6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9C9-0FD9-45A0-AF61-FC854BEF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D78-B8E6-4542-A57E-EC255EB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DDF-71D5-4E02-9567-74DFB5D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58B-5D58-4DF3-9842-853A7C4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0DFD-977B-4BD0-A299-D1CC48283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0CAD-276B-43D2-A3A1-DCFC1C02B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image" Target="../media/image11.jpeg"/><Relationship Id="rId4" Type="http://schemas.openxmlformats.org/officeDocument/2006/relationships/slide" Target="slide5.xml"/><Relationship Id="rId5" Type="http://schemas.openxmlformats.org/officeDocument/2006/relationships/image" Target="../media/image12.jpeg"/><Relationship Id="rId6" Type="http://schemas.openxmlformats.org/officeDocument/2006/relationships/slide" Target="slide11.xml"/><Relationship Id="rId7" Type="http://schemas.openxmlformats.org/officeDocument/2006/relationships/image" Target="../media/image13.jpeg"/><Relationship Id="rId8" Type="http://schemas.openxmlformats.org/officeDocument/2006/relationships/slide" Target="slide10.xml"/><Relationship Id="rId9" Type="http://schemas.openxmlformats.org/officeDocument/2006/relationships/image" Target="../media/image14.jpeg"/><Relationship Id="rId10" Type="http://schemas.openxmlformats.org/officeDocument/2006/relationships/slide" Target="slide9.xml"/><Relationship Id="rId11" Type="http://schemas.openxmlformats.org/officeDocument/2006/relationships/image" Target="../media/image15.jpeg"/><Relationship Id="rId12" Type="http://schemas.openxmlformats.org/officeDocument/2006/relationships/slide" Target="slide7.xml"/><Relationship Id="rId13" Type="http://schemas.openxmlformats.org/officeDocument/2006/relationships/image" Target="../media/image16.jpeg"/><Relationship Id="rId14" Type="http://schemas.openxmlformats.org/officeDocument/2006/relationships/slide" Target="slide6.xml"/><Relationship Id="rId15" Type="http://schemas.openxmlformats.org/officeDocument/2006/relationships/image" Target="../media/image17.jpeg"/><Relationship Id="rId16" Type="http://schemas.openxmlformats.org/officeDocument/2006/relationships/slide" Target="slide6.xml"/><Relationship Id="rId17" Type="http://schemas.openxmlformats.org/officeDocument/2006/relationships/image" Target="../media/image18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706400" cy="1824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4360" y="981000"/>
            <a:ext cx="7848360" cy="446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Здоровый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аз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и»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1798920" cy="13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195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962"/>
          <p:cNvPicPr/>
          <p:nvPr/>
        </p:nvPicPr>
        <p:blipFill>
          <a:blip r:embed="rId2"/>
          <a:stretch/>
        </p:blipFill>
        <p:spPr>
          <a:xfrm>
            <a:off x="428760" y="2022480"/>
            <a:ext cx="4719600" cy="45021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6"/>
          <p:cNvSpPr txBox="1"/>
          <p:nvPr/>
        </p:nvSpPr>
        <p:spPr>
          <a:xfrm>
            <a:off x="1547640" y="333360"/>
            <a:ext cx="676944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доровье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 Black"/>
              </a:rPr>
              <a:t>Пословицы о здоровье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920" y="1268280"/>
            <a:ext cx="406872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В здоровом теле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Кто излишне полне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вигайся больш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Кто день начинает с заряд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Arial"/>
              </a:rPr>
              <a:t>Чистота 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7480" y="1268280"/>
            <a:ext cx="40035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Arial"/>
              </a:rPr>
              <a:t>залог здоров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оживёшь доль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тот старе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у того дела в поряд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здоровый ду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3851280" y="1628640"/>
            <a:ext cx="1152360" cy="468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2411280" y="2708280"/>
            <a:ext cx="2521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"/>
          <p:cNvSpPr/>
          <p:nvPr/>
        </p:nvSpPr>
        <p:spPr>
          <a:xfrm flipV="1">
            <a:off x="3780000" y="2707920"/>
            <a:ext cx="1152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3276720" y="5084640"/>
            <a:ext cx="15825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 flipV="1">
            <a:off x="2411280" y="1557360"/>
            <a:ext cx="2521080" cy="49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е-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 это отсутствие болезней.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Это физическое, психологическое состояние человека.</a:t>
            </a: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Факторы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я-</a:t>
            </a: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 движение, питание, режим, закаливание.</a:t>
            </a:r>
            <a:br>
              <a:rPr sz="4000"/>
            </a:b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earth"/>
          <p:cNvPicPr/>
          <p:nvPr/>
        </p:nvPicPr>
        <p:blipFill>
          <a:blip r:embed="rId2"/>
          <a:stretch/>
        </p:blipFill>
        <p:spPr>
          <a:xfrm>
            <a:off x="2500200" y="2781360"/>
            <a:ext cx="4016520" cy="36003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1"/>
          <p:cNvSpPr txBox="1"/>
          <p:nvPr/>
        </p:nvSpPr>
        <p:spPr>
          <a:xfrm>
            <a:off x="684360" y="765000"/>
            <a:ext cx="79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2"/>
          <p:cNvSpPr txBox="1"/>
          <p:nvPr/>
        </p:nvSpPr>
        <p:spPr>
          <a:xfrm>
            <a:off x="571680" y="571680"/>
            <a:ext cx="82864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Зем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Arial Black"/>
              </a:rPr>
              <a:t>Заповеди здорового образа жизни</a:t>
            </a:r>
            <a:r>
              <a:rPr b="1" lang="en-US" sz="4000" spc="-1" strike="noStrike">
                <a:solidFill>
                  <a:srgbClr val="6600ff"/>
                </a:solidFill>
                <a:latin typeface="Arial Black"/>
              </a:rPr>
              <a:t> </a:t>
            </a:r>
            <a:r>
              <a:rPr b="1" i="1" lang="en-US" sz="4000" spc="-1" strike="noStrike">
                <a:solidFill>
                  <a:srgbClr val="6600ff"/>
                </a:solidFill>
                <a:latin typeface="Arial Black"/>
              </a:rPr>
              <a:t>для детей:</a:t>
            </a: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Рано ложиться и рано вставать – горя и хвори не будешь ты знат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Прогони остатки сна, одеяло в сторону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Вам гимнастика нужна – помогает здоро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С шумом струйка водяная на руках дробится. Никогда не забывай по утрам умытьс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Дети должны усвоить, а также их родители, что горячий завтрак, обед, полдник – просто необходим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Ешь спокойно за столом, не надо торопиться. Это вредно и при том можно подавитьс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Неряшливость не только не красива, но и опасна. Чистота – залог  здоровья – это знают все прекрас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Чтобы ночью крепко спать, видеть сон хороший, мы советуем гулять вечером погожим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«Мы за здоровый образ жизни!»</a:t>
            </a:r>
            <a:endParaRPr b="0" lang="en-US" sz="6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58" name="Picture 4" descr="смайл"/>
          <p:cNvPicPr/>
          <p:nvPr/>
        </p:nvPicPr>
        <p:blipFill>
          <a:blip r:embed="rId1"/>
          <a:stretch/>
        </p:blipFill>
        <p:spPr>
          <a:xfrm>
            <a:off x="1500120" y="2428920"/>
            <a:ext cx="6429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479736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5"/>
          <p:cNvSpPr txBox="1"/>
          <p:nvPr/>
        </p:nvSpPr>
        <p:spPr>
          <a:xfrm>
            <a:off x="1332000" y="692280"/>
            <a:ext cx="6408720" cy="410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пасибо за работу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540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0" t="0" r="0" b="76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arth"/>
          <p:cNvPicPr/>
          <p:nvPr/>
        </p:nvPicPr>
        <p:blipFill>
          <a:blip r:embed="rId2"/>
          <a:stretch/>
        </p:blipFill>
        <p:spPr>
          <a:xfrm>
            <a:off x="6227640" y="393372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55640" y="2852640"/>
            <a:ext cx="767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Моё здоровье - в моих руках!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9"/>
          <p:cNvPicPr/>
          <p:nvPr/>
        </p:nvPicPr>
        <p:blipFill>
          <a:blip r:embed="rId2"/>
          <a:stretch/>
        </p:blipFill>
        <p:spPr>
          <a:xfrm>
            <a:off x="468360" y="2852640"/>
            <a:ext cx="3600360" cy="36007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7"/>
          <p:cNvSpPr txBox="1"/>
          <p:nvPr/>
        </p:nvSpPr>
        <p:spPr>
          <a:xfrm>
            <a:off x="684360" y="476280"/>
            <a:ext cx="792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2"/>
          <p:cNvSpPr txBox="1"/>
          <p:nvPr/>
        </p:nvSpPr>
        <p:spPr>
          <a:xfrm>
            <a:off x="428760" y="723960"/>
            <a:ext cx="8286480" cy="29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спех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500040" y="2071800"/>
            <a:ext cx="428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ежим дн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э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предел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емен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основ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зне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елове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0" descr="фото3"/>
          <p:cNvPicPr/>
          <p:nvPr/>
        </p:nvPicPr>
        <p:blipFill>
          <a:blip r:embed="rId1"/>
          <a:stretch/>
        </p:blipFill>
        <p:spPr>
          <a:xfrm>
            <a:off x="5078520" y="1628640"/>
            <a:ext cx="3814560" cy="504036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жим, одно из главных слагаемых  здорового образа жизни.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333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Режим д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3" descr="фото18"/>
          <p:cNvPicPr/>
          <p:nvPr/>
        </p:nvPicPr>
        <p:blipFill>
          <a:blip r:embed="rId1"/>
          <a:stretch/>
        </p:blipFill>
        <p:spPr>
          <a:xfrm>
            <a:off x="611280" y="189000"/>
            <a:ext cx="227628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5" name="Picture 37" descr="фото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135000"/>
            <a:ext cx="2016360" cy="1914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6" name="Picture 39" descr="фото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72360" y="189000"/>
            <a:ext cx="2089080" cy="204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7" name="Picture 51" descr="фото17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79280" y="2349360"/>
            <a:ext cx="192096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8" name="Picture 50" descr="фото1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79280" y="4581360"/>
            <a:ext cx="1979640" cy="188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9" name="Picture 52" descr="фото1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556000" y="5013360"/>
            <a:ext cx="1871640" cy="163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0" name="Picture 48" descr="фото14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43280" y="5013360"/>
            <a:ext cx="1944720" cy="1623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1" name="Picture 45" descr="фото12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877080" y="4508640"/>
            <a:ext cx="2076480" cy="1895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2" name="Picture 42" descr="фото1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7020000" y="2421000"/>
            <a:ext cx="1941480" cy="187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3" name="Прямоугольник 10"/>
          <p:cNvSpPr/>
          <p:nvPr/>
        </p:nvSpPr>
        <p:spPr>
          <a:xfrm>
            <a:off x="2286000" y="2786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РЕЖИМ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Д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214280" y="26028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1125360"/>
            <a:ext cx="864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учи себя просыпаться и вставать каждый день в одно и то же врем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олняй каждый день утреннюю зарядку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леди за чистотой тела, волос, ногтей и полостью 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арайся есть в одно и то же врем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3"/>
          <p:cNvPicPr/>
          <p:nvPr/>
        </p:nvPicPr>
        <p:blipFill>
          <a:blip r:embed="rId2"/>
          <a:stretch/>
        </p:blipFill>
        <p:spPr>
          <a:xfrm>
            <a:off x="539640" y="2276640"/>
            <a:ext cx="4537080" cy="40338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500040" y="620640"/>
            <a:ext cx="82152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2"/>
          <p:cNvSpPr txBox="1"/>
          <p:nvPr/>
        </p:nvSpPr>
        <p:spPr>
          <a:xfrm>
            <a:off x="1085760" y="500040"/>
            <a:ext cx="7629480" cy="35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портивная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547640" y="476280"/>
            <a:ext cx="49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ор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«депорт»- развл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38512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  <a:ea typeface="Arial"/>
              </a:rPr>
              <a:t>Спорт</a:t>
            </a:r>
            <a:endParaRPr b="0" lang="en-US" sz="5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932360" y="6237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" descr="BD13764_"/>
          <p:cNvPicPr/>
          <p:nvPr/>
        </p:nvPicPr>
        <p:blipFill>
          <a:blip r:embed="rId1"/>
          <a:stretch/>
        </p:blipFill>
        <p:spPr>
          <a:xfrm>
            <a:off x="3929040" y="2143080"/>
            <a:ext cx="140328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PE02601_"/>
          <p:cNvPicPr/>
          <p:nvPr/>
        </p:nvPicPr>
        <p:blipFill>
          <a:blip r:embed="rId2"/>
          <a:stretch/>
        </p:blipFill>
        <p:spPr>
          <a:xfrm>
            <a:off x="5572080" y="785880"/>
            <a:ext cx="2357640" cy="27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PE01776_"/>
          <p:cNvPicPr/>
          <p:nvPr/>
        </p:nvPicPr>
        <p:blipFill>
          <a:blip r:embed="rId3"/>
          <a:stretch/>
        </p:blipFill>
        <p:spPr>
          <a:xfrm>
            <a:off x="826920" y="4292640"/>
            <a:ext cx="2737080" cy="241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PE02595_"/>
          <p:cNvPicPr/>
          <p:nvPr/>
        </p:nvPicPr>
        <p:blipFill>
          <a:blip r:embed="rId4"/>
          <a:stretch/>
        </p:blipFill>
        <p:spPr>
          <a:xfrm>
            <a:off x="6804000" y="3500280"/>
            <a:ext cx="2082960" cy="314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SY00630_"/>
          <p:cNvPicPr/>
          <p:nvPr/>
        </p:nvPicPr>
        <p:blipFill>
          <a:blip r:embed="rId5"/>
          <a:stretch/>
        </p:blipFill>
        <p:spPr>
          <a:xfrm>
            <a:off x="0" y="500040"/>
            <a:ext cx="2948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1:14:51Z</dcterms:created>
  <dc:creator>st1-9</dc:creator>
  <dc:description/>
  <dc:language>en-US</dc:language>
  <cp:lastModifiedBy>Admin</cp:lastModifiedBy>
  <dcterms:modified xsi:type="dcterms:W3CDTF">2011-11-20T13:24:43Z</dcterms:modified>
  <cp:revision>141</cp:revision>
  <dc:subject/>
  <dc:title>Презентация PowerPoint</dc:title>
</cp:coreProperties>
</file>