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.wmf" ContentType="image/x-wmf"/>
  <Override PartName="/ppt/media/image15.jpeg" ContentType="image/jpeg"/>
  <Override PartName="/ppt/media/image13.jpeg" ContentType="image/jpeg"/>
  <Override PartName="/ppt/media/image20.gif" ContentType="image/gif"/>
  <Override PartName="/ppt/media/image5.jpeg" ContentType="image/jpeg"/>
  <Override PartName="/ppt/media/image10.jpeg" ContentType="image/jpeg"/>
  <Override PartName="/ppt/media/image12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4.wmf" ContentType="image/x-wmf"/>
  <Override PartName="/ppt/media/image7.jpeg" ContentType="image/jpeg"/>
  <Override PartName="/ppt/media/image1.wmf" ContentType="image/x-wmf"/>
  <Override PartName="/ppt/media/image28.gif" ContentType="image/gif"/>
  <Override PartName="/ppt/media/image24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wmf" ContentType="image/x-wmf"/>
  <Override PartName="/ppt/media/image22.wmf" ContentType="image/x-wmf"/>
  <Override PartName="/ppt/media/image19.jpeg" ContentType="image/jpeg"/>
  <Override PartName="/ppt/media/image25.png" ContentType="image/png"/>
  <Override PartName="/ppt/media/image27.jpeg" ContentType="image/jpeg"/>
  <Override PartName="/ppt/media/image29.png" ContentType="image/pn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754D-FB9E-4066-A0E5-F5F40A9153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4ED-CCE1-4687-9A11-5BC121F0FE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B09F-C326-4FE0-B0CE-84AB6E023C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515F-9282-4C0A-AB86-B39F07B2A3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213A-3266-4CB1-B77E-AD25405E2E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236A-5F60-47E3-83DD-EF29DB10A8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9B4D-09FB-4CAE-BBD6-3D8179CAE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7010-6B48-46D9-88B4-26A9EA3486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C06D-7517-438A-B3C2-366A3AFE4E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B24-4FE0-4573-9D45-C76AA369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E4D-F403-41A3-B8A8-7C1FB700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F53-ABEA-4DBC-8E57-7D0F69BB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4F8-CA2E-4C69-A798-2874D3A6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C27D-00DD-4F16-87FB-3480A14A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6C6E-A218-4881-95E4-7CFAD66E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27DD-5208-44A7-88D7-C0ED9653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4229-0E9D-4562-BF20-CC62630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2B37-4292-424B-BB6D-F58B1C37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9A7-19EA-4EF5-B840-5A662AC1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20E3-41B8-4106-9CD6-99DBBBE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BD5-3633-42E2-98D7-7DB1583F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29C9-B35A-49BF-ABE1-710FA5DF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B135-5A9B-4D72-B126-B6462E3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0DF5-8C44-4984-ADEE-98B187F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4DD2-53A4-4FF4-99A7-16B477CE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FDC0-E171-4035-92DB-2B8F068A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2B3-696E-4424-A04E-BF9410F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DEC-AACB-46B9-8FEE-511A3962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BBD-B5B9-48B4-B005-BCBD54BE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498-2F06-41FD-A120-086F18A8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62D-7166-4312-87AD-F787742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534-8507-4B1B-9C46-0AACD617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98E-A453-461C-8DA0-A03B8F0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F71-62C5-4432-9C68-9541201AD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33B-FA14-400A-8291-CC756A954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jpeg"/><Relationship Id="rId6" Type="http://schemas.openxmlformats.org/officeDocument/2006/relationships/slide" Target="slide11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9.xml"/><Relationship Id="rId11" Type="http://schemas.openxmlformats.org/officeDocument/2006/relationships/image" Target="../media/image15.jpeg"/><Relationship Id="rId12" Type="http://schemas.openxmlformats.org/officeDocument/2006/relationships/slide" Target="slide7.xml"/><Relationship Id="rId13" Type="http://schemas.openxmlformats.org/officeDocument/2006/relationships/image" Target="../media/image16.jpeg"/><Relationship Id="rId14" Type="http://schemas.openxmlformats.org/officeDocument/2006/relationships/slide" Target="slide6.xml"/><Relationship Id="rId15" Type="http://schemas.openxmlformats.org/officeDocument/2006/relationships/image" Target="../media/image17.jpeg"/><Relationship Id="rId16" Type="http://schemas.openxmlformats.org/officeDocument/2006/relationships/slide" Target="slide6.xml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706400" cy="1824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981000"/>
            <a:ext cx="7848360" cy="44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Здоровый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1798920" cy="13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195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962"/>
          <p:cNvPicPr/>
          <p:nvPr/>
        </p:nvPicPr>
        <p:blipFill>
          <a:blip r:embed="rId2"/>
          <a:stretch/>
        </p:blipFill>
        <p:spPr>
          <a:xfrm>
            <a:off x="428760" y="2022480"/>
            <a:ext cx="4719600" cy="45021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6"/>
          <p:cNvSpPr txBox="1"/>
          <p:nvPr/>
        </p:nvSpPr>
        <p:spPr>
          <a:xfrm>
            <a:off x="1547640" y="333360"/>
            <a:ext cx="67694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доровье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Пословицы о здоровье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920" y="1268280"/>
            <a:ext cx="40687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В здоровом теле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Кто излишне полне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вигайся больш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Кто день начинает с заряд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Чистота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7480" y="1268280"/>
            <a:ext cx="40035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залог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оживёшь доль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тот стар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у того дела в поряд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здоровый ду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3851280" y="1628640"/>
            <a:ext cx="1152360" cy="46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2411280" y="2708280"/>
            <a:ext cx="2521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 flipV="1">
            <a:off x="3780000" y="2707920"/>
            <a:ext cx="1152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3276720" y="5084640"/>
            <a:ext cx="1582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 flipV="1">
            <a:off x="2411280" y="1557360"/>
            <a:ext cx="2521080" cy="49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е-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это отсутствие болезней.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Это физическое, психологическое состояние человека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Факторы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я-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движение, питание, режим, закаливание.</a:t>
            </a:r>
            <a:br>
              <a:rPr sz="4000"/>
            </a:b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earth"/>
          <p:cNvPicPr/>
          <p:nvPr/>
        </p:nvPicPr>
        <p:blipFill>
          <a:blip r:embed="rId2"/>
          <a:stretch/>
        </p:blipFill>
        <p:spPr>
          <a:xfrm>
            <a:off x="2500200" y="2781360"/>
            <a:ext cx="401652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1"/>
          <p:cNvSpPr txBox="1"/>
          <p:nvPr/>
        </p:nvSpPr>
        <p:spPr>
          <a:xfrm>
            <a:off x="684360" y="76500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2"/>
          <p:cNvSpPr txBox="1"/>
          <p:nvPr/>
        </p:nvSpPr>
        <p:spPr>
          <a:xfrm>
            <a:off x="571680" y="571680"/>
            <a:ext cx="8286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Зем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Заповеди здорового образа жизни</a:t>
            </a: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для детей:</a:t>
            </a: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Рано ложиться и рано вставать – горя и хвори не будешь ты зн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Прогони остатки сна, одеяло в сторону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Вам гимнастика нужна – помогает здоро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С шумом струйка водяная на руках дробится. Никогда не забывай по утрам умы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Дети должны усвоить, а также их родители, что горячий завтрак, обед, полдник – просто необходим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Ешь спокойно за столом, не надо торопиться. Это вредно и при том можно подави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Неряшливость не только не красива, но и опасна. Чистота – залог  здоровья – это знают все прекрас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Чтобы ночью крепко спать, видеть сон хороший, мы советуем гулять вечером погожи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«Мы за здоровый образ жизни!»</a:t>
            </a:r>
            <a:endParaRPr b="0" lang="en-US" sz="6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8" name="Picture 4" descr="смайл"/>
          <p:cNvPicPr/>
          <p:nvPr/>
        </p:nvPicPr>
        <p:blipFill>
          <a:blip r:embed="rId1"/>
          <a:stretch/>
        </p:blipFill>
        <p:spPr>
          <a:xfrm>
            <a:off x="1500120" y="2428920"/>
            <a:ext cx="6429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4797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5"/>
          <p:cNvSpPr txBox="1"/>
          <p:nvPr/>
        </p:nvSpPr>
        <p:spPr>
          <a:xfrm>
            <a:off x="1332000" y="692280"/>
            <a:ext cx="6408720" cy="410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асибо за работу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54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0" t="0" r="0" b="76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arth"/>
          <p:cNvPicPr/>
          <p:nvPr/>
        </p:nvPicPr>
        <p:blipFill>
          <a:blip r:embed="rId2"/>
          <a:stretch/>
        </p:blipFill>
        <p:spPr>
          <a:xfrm>
            <a:off x="6227640" y="393372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55640" y="2852640"/>
            <a:ext cx="767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Моё здоровье - в моих руках!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9"/>
          <p:cNvPicPr/>
          <p:nvPr/>
        </p:nvPicPr>
        <p:blipFill>
          <a:blip r:embed="rId2"/>
          <a:stretch/>
        </p:blipFill>
        <p:spPr>
          <a:xfrm>
            <a:off x="468360" y="285264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684360" y="476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2"/>
          <p:cNvSpPr txBox="1"/>
          <p:nvPr/>
        </p:nvSpPr>
        <p:spPr>
          <a:xfrm>
            <a:off x="428760" y="723960"/>
            <a:ext cx="8286480" cy="29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спех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500040" y="2071800"/>
            <a:ext cx="428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ежим дн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э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ен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сно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зне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0" descr="фото3"/>
          <p:cNvPicPr/>
          <p:nvPr/>
        </p:nvPicPr>
        <p:blipFill>
          <a:blip r:embed="rId1"/>
          <a:stretch/>
        </p:blipFill>
        <p:spPr>
          <a:xfrm>
            <a:off x="5078520" y="1628640"/>
            <a:ext cx="3814560" cy="504036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жим, одно из главных слагаемых  здорового образа жизни.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333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3" descr="фото18"/>
          <p:cNvPicPr/>
          <p:nvPr/>
        </p:nvPicPr>
        <p:blipFill>
          <a:blip r:embed="rId1"/>
          <a:stretch/>
        </p:blipFill>
        <p:spPr>
          <a:xfrm>
            <a:off x="611280" y="189000"/>
            <a:ext cx="227628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5" name="Picture 37" descr="фото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135000"/>
            <a:ext cx="2016360" cy="1914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6" name="Picture 39" descr="фото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72360" y="189000"/>
            <a:ext cx="2089080" cy="204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Picture 51" descr="фото17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79280" y="2349360"/>
            <a:ext cx="19209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8" name="Picture 50" descr="фото1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79280" y="4581360"/>
            <a:ext cx="197964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9" name="Picture 52" descr="фото1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556000" y="5013360"/>
            <a:ext cx="1871640" cy="163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0" name="Picture 48" descr="фото1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43280" y="5013360"/>
            <a:ext cx="1944720" cy="162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1" name="Picture 45" descr="фото12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77080" y="4508640"/>
            <a:ext cx="2076480" cy="1895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2" name="Picture 42" descr="фото1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020000" y="2421000"/>
            <a:ext cx="1941480" cy="18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Прямоугольник 10"/>
          <p:cNvSpPr/>
          <p:nvPr/>
        </p:nvSpPr>
        <p:spPr>
          <a:xfrm>
            <a:off x="2286000" y="278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РЕЖИМ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Д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214280" y="26028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1125360"/>
            <a:ext cx="864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учи себя просыпаться и вставать каждый день в одно и то же врем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олняй каждый день утреннюю зарядку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леди за чистотой тела, волос, ногтей и полостью 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арайся есть в одно и то же врем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3"/>
          <p:cNvPicPr/>
          <p:nvPr/>
        </p:nvPicPr>
        <p:blipFill>
          <a:blip r:embed="rId2"/>
          <a:stretch/>
        </p:blipFill>
        <p:spPr>
          <a:xfrm>
            <a:off x="539640" y="227664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500040" y="620640"/>
            <a:ext cx="8215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1085760" y="500040"/>
            <a:ext cx="7629480" cy="35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портивная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547640" y="476280"/>
            <a:ext cx="49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ор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«депорт»- развл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  <a:ea typeface="Arial"/>
              </a:rPr>
              <a:t>Спорт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932360" y="6237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" descr="BD13764_"/>
          <p:cNvPicPr/>
          <p:nvPr/>
        </p:nvPicPr>
        <p:blipFill>
          <a:blip r:embed="rId1"/>
          <a:stretch/>
        </p:blipFill>
        <p:spPr>
          <a:xfrm>
            <a:off x="3929040" y="214308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PE02601_"/>
          <p:cNvPicPr/>
          <p:nvPr/>
        </p:nvPicPr>
        <p:blipFill>
          <a:blip r:embed="rId2"/>
          <a:stretch/>
        </p:blipFill>
        <p:spPr>
          <a:xfrm>
            <a:off x="5572080" y="785880"/>
            <a:ext cx="2357640" cy="27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PE01776_"/>
          <p:cNvPicPr/>
          <p:nvPr/>
        </p:nvPicPr>
        <p:blipFill>
          <a:blip r:embed="rId3"/>
          <a:stretch/>
        </p:blipFill>
        <p:spPr>
          <a:xfrm>
            <a:off x="826920" y="4292640"/>
            <a:ext cx="2737080" cy="241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PE02595_"/>
          <p:cNvPicPr/>
          <p:nvPr/>
        </p:nvPicPr>
        <p:blipFill>
          <a:blip r:embed="rId4"/>
          <a:stretch/>
        </p:blipFill>
        <p:spPr>
          <a:xfrm>
            <a:off x="6804000" y="3500280"/>
            <a:ext cx="2082960" cy="314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SY00630_"/>
          <p:cNvPicPr/>
          <p:nvPr/>
        </p:nvPicPr>
        <p:blipFill>
          <a:blip r:embed="rId5"/>
          <a:stretch/>
        </p:blipFill>
        <p:spPr>
          <a:xfrm>
            <a:off x="0" y="500040"/>
            <a:ext cx="2948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14:51Z</dcterms:created>
  <dc:creator>st1-9</dc:creator>
  <dc:description/>
  <dc:language>en-US</dc:language>
  <cp:lastModifiedBy>Admin</cp:lastModifiedBy>
  <dcterms:modified xsi:type="dcterms:W3CDTF">2011-11-20T13:24:43Z</dcterms:modified>
  <cp:revision>141</cp:revision>
  <dc:subject/>
  <dc:title>Презентация PowerPoint</dc:title>
</cp:coreProperties>
</file>