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4905-5369-4A92-BCF1-9EFB83857443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AAD-08C8-4744-91F5-F6A01C26414B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58E-3916-4F62-B16E-F2CCBD38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153-6518-468D-A810-1E2A472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8A4-5F09-4247-9495-6DDD5BF8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9CC-7406-4D0F-9308-DB0FF438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42EE-A9D6-4B62-9A0A-C569EF57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2FF-B206-445E-8B36-5536044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A90E-B0E4-4895-B36A-4A1C35E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CA42-C069-4586-90B8-295562C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F49E-E48D-4864-B54A-5051971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E15-F47F-484E-A398-98AA263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B987-92AA-4769-99A5-6CB0939B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2A3-86C2-4301-AC74-22858783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0D7-ACAD-4F88-85DD-8A28BD4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258-BB59-48D4-BE3B-7CA0510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8BB-771D-465D-BF98-D66C763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FFEA-CFAD-4B4C-BC29-0AF4D5B7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C29D-EAD3-425E-A2C9-04AC2246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A4E-5A62-4B44-99A2-2BE1F12A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849-BF0F-4AC3-A634-970E0BC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3CF-85ED-4466-8B4D-3A799BC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AB-1D0F-4775-A629-F8FA2A2F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8A3-1524-46F0-A36C-FC440AD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069-F9C0-4B9D-BD89-2981C11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70E-11D4-4BF3-94D5-434CB99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7f6f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3a4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a5b5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8BD9-4D4C-40D4-8A9A-D1D25EF2FD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FB08-484A-44B8-85B7-6FD261EE9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195640" y="476280"/>
            <a:ext cx="64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Гр  за, р  ка,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з  ма, л  са,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н  жин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3571920" y="1071720"/>
            <a:ext cx="428760" cy="502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357960" y="1071720"/>
            <a:ext cx="428760" cy="502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857920" y="24289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786040" y="24289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500280" y="37861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2214720" y="571680"/>
            <a:ext cx="4537080" cy="12254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286000" y="2571840"/>
            <a:ext cx="4465800" cy="14396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 со зна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- МАЛ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429080" y="192888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4" descr="AG00098_"/>
          <p:cNvPicPr/>
          <p:nvPr/>
        </p:nvPicPr>
        <p:blipFill>
          <a:blip r:embed="rId1"/>
          <a:stretch/>
        </p:blipFill>
        <p:spPr>
          <a:xfrm>
            <a:off x="2214720" y="571680"/>
            <a:ext cx="4537080" cy="80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AG00098_"/>
          <p:cNvPicPr/>
          <p:nvPr/>
        </p:nvPicPr>
        <p:blipFill>
          <a:blip r:embed="rId2"/>
          <a:stretch/>
        </p:blipFill>
        <p:spPr>
          <a:xfrm>
            <a:off x="2214720" y="1714680"/>
            <a:ext cx="4537080" cy="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195640" y="476280"/>
            <a:ext cx="6480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Р  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  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  рн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т  кло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85768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64312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64312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21480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143160" y="492912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"/>
          <p:cNvSpPr/>
          <p:nvPr/>
        </p:nvSpPr>
        <p:spPr>
          <a:xfrm>
            <a:off x="2500200" y="785880"/>
            <a:ext cx="3961080" cy="1079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1428840" y="278604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4786200" y="2786040"/>
            <a:ext cx="2880000" cy="1152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3"/>
          <p:cNvSpPr/>
          <p:nvPr/>
        </p:nvSpPr>
        <p:spPr>
          <a:xfrm flipH="1">
            <a:off x="3214440" y="2143080"/>
            <a:ext cx="36036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5143680" y="2143080"/>
            <a:ext cx="43164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7" descr="AG00098_"/>
          <p:cNvPicPr/>
          <p:nvPr/>
        </p:nvPicPr>
        <p:blipFill>
          <a:blip r:embed="rId1"/>
          <a:stretch/>
        </p:blipFill>
        <p:spPr>
          <a:xfrm>
            <a:off x="2500200" y="785880"/>
            <a:ext cx="3961080" cy="6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AG00098_"/>
          <p:cNvPicPr/>
          <p:nvPr/>
        </p:nvPicPr>
        <p:blipFill>
          <a:blip r:embed="rId2"/>
          <a:stretch/>
        </p:blipFill>
        <p:spPr>
          <a:xfrm>
            <a:off x="2500200" y="1857240"/>
            <a:ext cx="396108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6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2286000" y="57168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Г  р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м  ч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т  л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  тно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928960" y="100008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000240" y="200016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214800" y="30002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286080" y="40006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2857680" y="50007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4"/>
          <p:cNvSpPr/>
          <p:nvPr/>
        </p:nvSpPr>
        <p:spPr>
          <a:xfrm>
            <a:off x="2268360" y="260280"/>
            <a:ext cx="4032360" cy="17272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rc 6"/>
          <p:cNvSpPr/>
          <p:nvPr/>
        </p:nvSpPr>
        <p:spPr>
          <a:xfrm rot="19185600">
            <a:off x="3708000" y="18864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24000" y="2492280"/>
            <a:ext cx="367344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427640" y="2492280"/>
            <a:ext cx="453708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4211640" y="549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324000" y="3716280"/>
            <a:ext cx="287964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↔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5"/>
          <p:cNvSpPr/>
          <p:nvPr/>
        </p:nvSpPr>
        <p:spPr>
          <a:xfrm>
            <a:off x="324000" y="5229360"/>
            <a:ext cx="2879640" cy="93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4716360" y="5084640"/>
            <a:ext cx="3961080" cy="648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4716360" y="429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4427640" y="5929200"/>
            <a:ext cx="4465440" cy="739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 со зна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- МАЛ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19"/>
          <p:cNvSpPr/>
          <p:nvPr/>
        </p:nvSpPr>
        <p:spPr>
          <a:xfrm>
            <a:off x="4716360" y="357336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7"/>
          <p:cNvSpPr/>
          <p:nvPr/>
        </p:nvSpPr>
        <p:spPr>
          <a:xfrm flipH="1">
            <a:off x="2411280" y="1916280"/>
            <a:ext cx="43200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5580000" y="1916280"/>
            <a:ext cx="36036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1928880" y="571680"/>
            <a:ext cx="5643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ЗА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21"/>
          <p:cNvSpPr/>
          <p:nvPr/>
        </p:nvSpPr>
        <p:spPr>
          <a:xfrm>
            <a:off x="6643800" y="3214800"/>
            <a:ext cx="2376360" cy="93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0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22"/>
          <p:cNvSpPr/>
          <p:nvPr/>
        </p:nvSpPr>
        <p:spPr>
          <a:xfrm>
            <a:off x="6215040" y="521496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rc 63"/>
          <p:cNvSpPr/>
          <p:nvPr/>
        </p:nvSpPr>
        <p:spPr>
          <a:xfrm rot="19127400">
            <a:off x="6885000" y="5525640"/>
            <a:ext cx="1074600" cy="9190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rc 64"/>
          <p:cNvSpPr/>
          <p:nvPr/>
        </p:nvSpPr>
        <p:spPr>
          <a:xfrm rot="19185600">
            <a:off x="7240320" y="331128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0"/>
          <p:cNvSpPr/>
          <p:nvPr/>
        </p:nvSpPr>
        <p:spPr>
          <a:xfrm flipH="1">
            <a:off x="2071800" y="3214800"/>
            <a:ext cx="35712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91"/>
          <p:cNvSpPr/>
          <p:nvPr/>
        </p:nvSpPr>
        <p:spPr>
          <a:xfrm flipH="1">
            <a:off x="2571840" y="4643280"/>
            <a:ext cx="28584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3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4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5"/>
          <p:cNvSpPr/>
          <p:nvPr/>
        </p:nvSpPr>
        <p:spPr>
          <a:xfrm flipH="1" flipV="1">
            <a:off x="2356920" y="1499760"/>
            <a:ext cx="1150920" cy="58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6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7"/>
          <p:cNvSpPr/>
          <p:nvPr/>
        </p:nvSpPr>
        <p:spPr>
          <a:xfrm flipH="1">
            <a:off x="7429680" y="5286240"/>
            <a:ext cx="7128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17"/>
          <p:cNvSpPr/>
          <p:nvPr/>
        </p:nvSpPr>
        <p:spPr>
          <a:xfrm>
            <a:off x="214200" y="9288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18"/>
          <p:cNvSpPr/>
          <p:nvPr/>
        </p:nvSpPr>
        <p:spPr>
          <a:xfrm>
            <a:off x="142920" y="29289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19"/>
          <p:cNvSpPr/>
          <p:nvPr/>
        </p:nvSpPr>
        <p:spPr>
          <a:xfrm>
            <a:off x="428760" y="507204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6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7715160" y="39290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8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9"/>
          <p:cNvSpPr/>
          <p:nvPr/>
        </p:nvSpPr>
        <p:spPr>
          <a:xfrm>
            <a:off x="6072120" y="28584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ижний колонтитул 40"/>
          <p:cNvSpPr/>
          <p:nvPr/>
        </p:nvSpPr>
        <p:spPr>
          <a:xfrm>
            <a:off x="307188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>
            <a:off x="357120" y="1643040"/>
            <a:ext cx="857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Способы проверки безударных гласных в корне слов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4429080" y="557208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АОУ СОШ №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пад Ольга Юр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103480" y="8841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214720" y="642960"/>
            <a:ext cx="4537080" cy="1150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500200" y="2643120"/>
            <a:ext cx="3961080" cy="1224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4357800" y="200016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3214800" y="4857840"/>
            <a:ext cx="2449440" cy="71892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4429080" y="39290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4" descr="AG00098_"/>
          <p:cNvPicPr/>
          <p:nvPr/>
        </p:nvPicPr>
        <p:blipFill>
          <a:blip r:embed="rId1"/>
          <a:stretch/>
        </p:blipFill>
        <p:spPr>
          <a:xfrm>
            <a:off x="2214720" y="64296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AG00098_"/>
          <p:cNvPicPr/>
          <p:nvPr/>
        </p:nvPicPr>
        <p:blipFill>
          <a:blip r:embed="rId2"/>
          <a:stretch/>
        </p:blipFill>
        <p:spPr>
          <a:xfrm>
            <a:off x="2286000" y="1785960"/>
            <a:ext cx="4537080" cy="81000"/>
          </a:xfrm>
          <a:prstGeom prst="rect">
            <a:avLst/>
          </a:prstGeom>
          <a:ln w="0">
            <a:noFill/>
          </a:ln>
        </p:spPr>
      </p:pic>
      <p:sp>
        <p:nvSpPr>
          <p:cNvPr id="220" name="Нижний колонтитул 15"/>
          <p:cNvSpPr/>
          <p:nvPr/>
        </p:nvSpPr>
        <p:spPr>
          <a:xfrm>
            <a:off x="292896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Цв  т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  лодны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  лены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  ч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л  с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71476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42900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71476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8604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786040" y="492912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2071800" y="428760"/>
            <a:ext cx="453708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2357280" y="2643120"/>
            <a:ext cx="3961080" cy="1368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214880" y="1857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6372000" y="5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4214880" y="4143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2428920" y="4929120"/>
            <a:ext cx="3744720" cy="1008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? Какая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е? Как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0" descr="AG00098_"/>
          <p:cNvPicPr/>
          <p:nvPr/>
        </p:nvPicPr>
        <p:blipFill>
          <a:blip r:embed="rId1"/>
          <a:stretch/>
        </p:blipFill>
        <p:spPr>
          <a:xfrm>
            <a:off x="2071800" y="157176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2" descr="AG00098_"/>
          <p:cNvPicPr/>
          <p:nvPr/>
        </p:nvPicPr>
        <p:blipFill>
          <a:blip r:embed="rId2"/>
          <a:stretch/>
        </p:blipFill>
        <p:spPr>
          <a:xfrm>
            <a:off x="2071800" y="42876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195640" y="476280"/>
            <a:ext cx="6480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  мно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ж  лтизн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ч  рно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  шин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  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85768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92896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78604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71476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786040" y="4929120"/>
            <a:ext cx="28908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2357280" y="500040"/>
            <a:ext cx="453708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2428920" y="2500200"/>
            <a:ext cx="3960720" cy="1008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286160" y="1857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357800" y="37148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928960" y="4500720"/>
            <a:ext cx="3025800" cy="10810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сдела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8" descr="AG00098_"/>
          <p:cNvPicPr/>
          <p:nvPr/>
        </p:nvPicPr>
        <p:blipFill>
          <a:blip r:embed="rId1"/>
          <a:stretch/>
        </p:blipFill>
        <p:spPr>
          <a:xfrm>
            <a:off x="2357280" y="164304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AG00098_"/>
          <p:cNvPicPr/>
          <p:nvPr/>
        </p:nvPicPr>
        <p:blipFill>
          <a:blip r:embed="rId2"/>
          <a:stretch/>
        </p:blipFill>
        <p:spPr>
          <a:xfrm>
            <a:off x="2357280" y="50004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195640" y="476280"/>
            <a:ext cx="64800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  с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  ди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л  с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п  в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п  ав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786040" y="1928880"/>
            <a:ext cx="28908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000240" y="928800"/>
            <a:ext cx="2858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86080" y="2928960"/>
            <a:ext cx="2858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571920" y="3929040"/>
            <a:ext cx="2858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571920" y="4929120"/>
            <a:ext cx="2858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5:15Z</dcterms:created>
  <dc:creator>Таня</dc:creator>
  <dc:description/>
  <dc:language>en-US</dc:language>
  <cp:lastModifiedBy>Ольга</cp:lastModifiedBy>
  <dcterms:modified xsi:type="dcterms:W3CDTF">2017-02-05T07:36:05Z</dcterms:modified>
  <cp:revision>70</cp:revision>
  <dc:subject/>
  <dc:title>Слайд 1</dc:title>
</cp:coreProperties>
</file>