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5F94-5645-4049-8F8C-0649A2130B2C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1CCB-CE00-4A6F-AE29-B6BDBC557EB3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FA1-40D0-4D67-9395-0D1D84AA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C90-8419-4292-9E4A-F658E2A9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8CB-0250-4B26-BC08-2B809B7F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8D7-D653-486C-9E72-3C882B64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DBC5-8340-4928-B392-FFB159B8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F136-50C5-408C-9CD7-D6B47D8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C655-8BB4-480B-BB39-7501104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47E4-C468-415F-AF69-4EA899D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DC8-309D-4E18-83F0-5F4D217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61C5-1E70-486C-8A5C-39A1F54B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02B-87AD-4840-BBFF-95BF41D5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886-B9B1-47A6-810A-78F3709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C124-89F7-40E1-9645-A653EB1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95CF-E382-43F9-A060-1D93CCC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2BEE-82FA-4780-83DD-975252F4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7EC3-2C00-42F0-81B7-DEE23F46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6D58-3CA7-4FB8-BC74-86829020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841-57DC-4F48-9853-AC8171C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B9E-F1E6-459E-9E75-7B9DF9A8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F2C-E76B-4BCE-9DE7-D5B8B434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244-65B6-4B85-B8C0-D6BB4A61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F3B-000A-4C10-96D8-B6DD2F30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678-8ED6-4C9E-A978-C99CA15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25D-2C45-4291-81FD-12B3DD8A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7f6f6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3a4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f3a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f3a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f3a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a5b5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6B3-E573-4362-8A77-9FF3B5916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a5b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9438-7CD6-4BD6-9EFD-772372E5B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195640" y="476280"/>
            <a:ext cx="64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Гр  за, р  ка,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з  ма, л  са,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н  жин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3571920" y="1071720"/>
            <a:ext cx="428760" cy="50292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6357960" y="1071720"/>
            <a:ext cx="428760" cy="50292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857920" y="2428920"/>
            <a:ext cx="42876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786040" y="2428920"/>
            <a:ext cx="42876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3500280" y="3786120"/>
            <a:ext cx="42876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2214720" y="571680"/>
            <a:ext cx="4537080" cy="12254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286000" y="2571840"/>
            <a:ext cx="4465800" cy="14396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 со знач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Й - МАЛЕНЬ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429080" y="192888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4" descr="AG00098_"/>
          <p:cNvPicPr/>
          <p:nvPr/>
        </p:nvPicPr>
        <p:blipFill>
          <a:blip r:embed="rId1"/>
          <a:stretch/>
        </p:blipFill>
        <p:spPr>
          <a:xfrm>
            <a:off x="2214720" y="571680"/>
            <a:ext cx="4537080" cy="80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AG00098_"/>
          <p:cNvPicPr/>
          <p:nvPr/>
        </p:nvPicPr>
        <p:blipFill>
          <a:blip r:embed="rId2"/>
          <a:stretch/>
        </p:blipFill>
        <p:spPr>
          <a:xfrm>
            <a:off x="2214720" y="1714680"/>
            <a:ext cx="4537080" cy="8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195640" y="476280"/>
            <a:ext cx="6480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Р  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  м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  рн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  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т  кло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857680" y="92880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643120" y="19288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643120" y="29289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214800" y="39290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143160" y="492912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"/>
          <p:cNvSpPr/>
          <p:nvPr/>
        </p:nvSpPr>
        <p:spPr>
          <a:xfrm>
            <a:off x="2500200" y="785880"/>
            <a:ext cx="3961080" cy="107928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1428840" y="2786040"/>
            <a:ext cx="2879640" cy="1224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4786200" y="2786040"/>
            <a:ext cx="2880000" cy="1152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3"/>
          <p:cNvSpPr/>
          <p:nvPr/>
        </p:nvSpPr>
        <p:spPr>
          <a:xfrm flipH="1">
            <a:off x="3214440" y="2143080"/>
            <a:ext cx="36036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5143680" y="2143080"/>
            <a:ext cx="43164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7" descr="AG00098_"/>
          <p:cNvPicPr/>
          <p:nvPr/>
        </p:nvPicPr>
        <p:blipFill>
          <a:blip r:embed="rId1"/>
          <a:stretch/>
        </p:blipFill>
        <p:spPr>
          <a:xfrm>
            <a:off x="2500200" y="785880"/>
            <a:ext cx="3961080" cy="6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AG00098_"/>
          <p:cNvPicPr/>
          <p:nvPr/>
        </p:nvPicPr>
        <p:blipFill>
          <a:blip r:embed="rId2"/>
          <a:stretch/>
        </p:blipFill>
        <p:spPr>
          <a:xfrm>
            <a:off x="2500200" y="1857240"/>
            <a:ext cx="396108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6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2286000" y="57168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Г  р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м  ч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т  л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р  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  тно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928960" y="100008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000240" y="200016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214800" y="30002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286080" y="40006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2857680" y="50007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4"/>
          <p:cNvSpPr/>
          <p:nvPr/>
        </p:nvSpPr>
        <p:spPr>
          <a:xfrm>
            <a:off x="2268360" y="260280"/>
            <a:ext cx="4032360" cy="172728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rc 6"/>
          <p:cNvSpPr/>
          <p:nvPr/>
        </p:nvSpPr>
        <p:spPr>
          <a:xfrm rot="19185600">
            <a:off x="3708000" y="188640"/>
            <a:ext cx="107640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24000" y="2492280"/>
            <a:ext cx="3673440" cy="79236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427640" y="2492280"/>
            <a:ext cx="4537080" cy="79236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4211640" y="549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324000" y="3716280"/>
            <a:ext cx="2879640" cy="936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↔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5"/>
          <p:cNvSpPr/>
          <p:nvPr/>
        </p:nvSpPr>
        <p:spPr>
          <a:xfrm>
            <a:off x="324000" y="5229360"/>
            <a:ext cx="2879640" cy="93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4716360" y="5084640"/>
            <a:ext cx="3961080" cy="648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4716360" y="429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4427640" y="5929200"/>
            <a:ext cx="4465440" cy="7398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 со знач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Й - МАЛЕНЬ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19"/>
          <p:cNvSpPr/>
          <p:nvPr/>
        </p:nvSpPr>
        <p:spPr>
          <a:xfrm>
            <a:off x="4716360" y="357336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7"/>
          <p:cNvSpPr/>
          <p:nvPr/>
        </p:nvSpPr>
        <p:spPr>
          <a:xfrm flipH="1">
            <a:off x="2411280" y="1916280"/>
            <a:ext cx="43200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5580000" y="1916280"/>
            <a:ext cx="36036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1928880" y="571680"/>
            <a:ext cx="5643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Gabriola"/>
                <a:ea typeface="Adobe Devanagari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Gabriola"/>
                <a:ea typeface="Adobe Devanagari"/>
              </a:rPr>
              <a:t>ЗА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Gabriola"/>
                <a:ea typeface="Adobe Devanagari"/>
              </a:rPr>
              <a:t>ВНИМА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21"/>
          <p:cNvSpPr/>
          <p:nvPr/>
        </p:nvSpPr>
        <p:spPr>
          <a:xfrm>
            <a:off x="6643800" y="3214800"/>
            <a:ext cx="2376360" cy="936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0"/>
          <p:cNvSpPr/>
          <p:nvPr/>
        </p:nvSpPr>
        <p:spPr>
          <a:xfrm>
            <a:off x="6084720" y="26028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22"/>
          <p:cNvSpPr/>
          <p:nvPr/>
        </p:nvSpPr>
        <p:spPr>
          <a:xfrm>
            <a:off x="6215040" y="521496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rc 63"/>
          <p:cNvSpPr/>
          <p:nvPr/>
        </p:nvSpPr>
        <p:spPr>
          <a:xfrm rot="19127400">
            <a:off x="6885000" y="5525640"/>
            <a:ext cx="1074600" cy="9190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rc 64"/>
          <p:cNvSpPr/>
          <p:nvPr/>
        </p:nvSpPr>
        <p:spPr>
          <a:xfrm rot="19185600">
            <a:off x="7240320" y="3311280"/>
            <a:ext cx="107640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6012000" y="3573360"/>
            <a:ext cx="504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2556000" y="2060640"/>
            <a:ext cx="3528720" cy="21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д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я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0"/>
          <p:cNvSpPr/>
          <p:nvPr/>
        </p:nvSpPr>
        <p:spPr>
          <a:xfrm flipH="1">
            <a:off x="2071800" y="3214800"/>
            <a:ext cx="35712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91"/>
          <p:cNvSpPr/>
          <p:nvPr/>
        </p:nvSpPr>
        <p:spPr>
          <a:xfrm flipH="1">
            <a:off x="2571840" y="4643280"/>
            <a:ext cx="28584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93"/>
          <p:cNvSpPr/>
          <p:nvPr/>
        </p:nvSpPr>
        <p:spPr>
          <a:xfrm>
            <a:off x="5003640" y="4292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4"/>
          <p:cNvSpPr/>
          <p:nvPr/>
        </p:nvSpPr>
        <p:spPr>
          <a:xfrm flipV="1">
            <a:off x="5003640" y="836640"/>
            <a:ext cx="936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5"/>
          <p:cNvSpPr/>
          <p:nvPr/>
        </p:nvSpPr>
        <p:spPr>
          <a:xfrm flipH="1" flipV="1">
            <a:off x="2356920" y="1499760"/>
            <a:ext cx="1150920" cy="58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0"/>
          <p:cNvSpPr/>
          <p:nvPr/>
        </p:nvSpPr>
        <p:spPr>
          <a:xfrm flipH="1">
            <a:off x="6300360" y="62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6516720" y="62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3"/>
          <p:cNvSpPr/>
          <p:nvPr/>
        </p:nvSpPr>
        <p:spPr>
          <a:xfrm flipH="1">
            <a:off x="7308720" y="6206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4"/>
          <p:cNvSpPr/>
          <p:nvPr/>
        </p:nvSpPr>
        <p:spPr>
          <a:xfrm flipH="1">
            <a:off x="7885080" y="62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6"/>
          <p:cNvSpPr/>
          <p:nvPr/>
        </p:nvSpPr>
        <p:spPr>
          <a:xfrm>
            <a:off x="8244000" y="62064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7"/>
          <p:cNvSpPr/>
          <p:nvPr/>
        </p:nvSpPr>
        <p:spPr>
          <a:xfrm flipH="1">
            <a:off x="7429680" y="5286240"/>
            <a:ext cx="7128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17"/>
          <p:cNvSpPr/>
          <p:nvPr/>
        </p:nvSpPr>
        <p:spPr>
          <a:xfrm>
            <a:off x="214200" y="9288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18"/>
          <p:cNvSpPr/>
          <p:nvPr/>
        </p:nvSpPr>
        <p:spPr>
          <a:xfrm>
            <a:off x="142920" y="292896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19"/>
          <p:cNvSpPr/>
          <p:nvPr/>
        </p:nvSpPr>
        <p:spPr>
          <a:xfrm>
            <a:off x="428760" y="5072040"/>
            <a:ext cx="1800000" cy="7905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6"/>
          <p:cNvSpPr/>
          <p:nvPr/>
        </p:nvSpPr>
        <p:spPr>
          <a:xfrm>
            <a:off x="7596360" y="2708280"/>
            <a:ext cx="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7"/>
          <p:cNvSpPr/>
          <p:nvPr/>
        </p:nvSpPr>
        <p:spPr>
          <a:xfrm>
            <a:off x="7715160" y="39290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8"/>
          <p:cNvSpPr/>
          <p:nvPr/>
        </p:nvSpPr>
        <p:spPr>
          <a:xfrm>
            <a:off x="7143840" y="8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29"/>
          <p:cNvSpPr/>
          <p:nvPr/>
        </p:nvSpPr>
        <p:spPr>
          <a:xfrm>
            <a:off x="6072120" y="285840"/>
            <a:ext cx="27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  о    я    е   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6227640" y="260280"/>
            <a:ext cx="792360" cy="43200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7667640" y="260280"/>
            <a:ext cx="792000" cy="43200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ижний колонтитул 40"/>
          <p:cNvSpPr/>
          <p:nvPr/>
        </p:nvSpPr>
        <p:spPr>
          <a:xfrm>
            <a:off x="307188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2"/>
          <p:cNvSpPr/>
          <p:nvPr/>
        </p:nvSpPr>
        <p:spPr>
          <a:xfrm>
            <a:off x="357120" y="1643040"/>
            <a:ext cx="857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Способы проверки безударных гласных в корне слов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4429080" y="557208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АОУ СОШ №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пад Ольга Юр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103480" y="8841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214720" y="642960"/>
            <a:ext cx="4537080" cy="115092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500200" y="2643120"/>
            <a:ext cx="3961080" cy="1224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4357800" y="200016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3214800" y="4857840"/>
            <a:ext cx="2449440" cy="71892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4429080" y="39290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4" descr="AG00098_"/>
          <p:cNvPicPr/>
          <p:nvPr/>
        </p:nvPicPr>
        <p:blipFill>
          <a:blip r:embed="rId1"/>
          <a:stretch/>
        </p:blipFill>
        <p:spPr>
          <a:xfrm>
            <a:off x="2214720" y="64296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AG00098_"/>
          <p:cNvPicPr/>
          <p:nvPr/>
        </p:nvPicPr>
        <p:blipFill>
          <a:blip r:embed="rId2"/>
          <a:stretch/>
        </p:blipFill>
        <p:spPr>
          <a:xfrm>
            <a:off x="2286000" y="1785960"/>
            <a:ext cx="4537080" cy="81000"/>
          </a:xfrm>
          <a:prstGeom prst="rect">
            <a:avLst/>
          </a:prstGeom>
          <a:ln w="0">
            <a:noFill/>
          </a:ln>
        </p:spPr>
      </p:pic>
      <p:sp>
        <p:nvSpPr>
          <p:cNvPr id="220" name="Нижний колонтитул 15"/>
          <p:cNvSpPr/>
          <p:nvPr/>
        </p:nvSpPr>
        <p:spPr>
          <a:xfrm>
            <a:off x="292896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Цв  тн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х  лодны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  лены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  чн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л  сн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714760" y="29289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429000" y="92880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714760" y="19288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786040" y="39290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786040" y="492912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2071800" y="428760"/>
            <a:ext cx="4537080" cy="1224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2357280" y="2643120"/>
            <a:ext cx="3961080" cy="1368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зна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214880" y="18572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6372000" y="5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4214880" y="41432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2428920" y="4929120"/>
            <a:ext cx="3744720" cy="100800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? Какая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е? Как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0" descr="AG00098_"/>
          <p:cNvPicPr/>
          <p:nvPr/>
        </p:nvPicPr>
        <p:blipFill>
          <a:blip r:embed="rId1"/>
          <a:stretch/>
        </p:blipFill>
        <p:spPr>
          <a:xfrm>
            <a:off x="2071800" y="157176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2" descr="AG00098_"/>
          <p:cNvPicPr/>
          <p:nvPr/>
        </p:nvPicPr>
        <p:blipFill>
          <a:blip r:embed="rId2"/>
          <a:stretch/>
        </p:blipFill>
        <p:spPr>
          <a:xfrm>
            <a:off x="2071800" y="42876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195640" y="476280"/>
            <a:ext cx="6480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  мно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ж  лтизн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ч  рно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т  шин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  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857680" y="92880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928960" y="192888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786040" y="2928960"/>
            <a:ext cx="360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714760" y="3929040"/>
            <a:ext cx="360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786040" y="4929120"/>
            <a:ext cx="28908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"/>
          <p:cNvSpPr/>
          <p:nvPr/>
        </p:nvSpPr>
        <p:spPr>
          <a:xfrm>
            <a:off x="2357280" y="500040"/>
            <a:ext cx="4537080" cy="1224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2428920" y="2500200"/>
            <a:ext cx="3960720" cy="1008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286160" y="18572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357800" y="37148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928960" y="4500720"/>
            <a:ext cx="3025800" cy="1081080"/>
          </a:xfrm>
          <a:prstGeom prst="ellipse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сдела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8" descr="AG00098_"/>
          <p:cNvPicPr/>
          <p:nvPr/>
        </p:nvPicPr>
        <p:blipFill>
          <a:blip r:embed="rId1"/>
          <a:stretch/>
        </p:blipFill>
        <p:spPr>
          <a:xfrm>
            <a:off x="2357280" y="164304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9" descr="AG00098_"/>
          <p:cNvPicPr/>
          <p:nvPr/>
        </p:nvPicPr>
        <p:blipFill>
          <a:blip r:embed="rId2"/>
          <a:stretch/>
        </p:blipFill>
        <p:spPr>
          <a:xfrm>
            <a:off x="2357280" y="50004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195640" y="476280"/>
            <a:ext cx="64800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  с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х  ди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пл  с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п  в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п  ав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786040" y="1928880"/>
            <a:ext cx="28908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000240" y="928800"/>
            <a:ext cx="2858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286080" y="2928960"/>
            <a:ext cx="2858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571920" y="3929040"/>
            <a:ext cx="2858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571920" y="4929120"/>
            <a:ext cx="2858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5:15Z</dcterms:created>
  <dc:creator>Таня</dc:creator>
  <dc:description/>
  <dc:language>en-US</dc:language>
  <cp:lastModifiedBy>Ольга</cp:lastModifiedBy>
  <dcterms:modified xsi:type="dcterms:W3CDTF">2017-02-05T07:36:05Z</dcterms:modified>
  <cp:revision>70</cp:revision>
  <dc:subject/>
  <dc:title>Слайд 1</dc:title>
</cp:coreProperties>
</file>