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gif" ContentType="image/gi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D2C-A4BA-4DB7-9980-137D8748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9C4-5449-447B-82EF-6C87548D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1E67F-725D-45FC-B763-0B18D8B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A5FC6-5E45-498E-A89B-B067690F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C3EDA-9B88-4FFC-B1F8-4E97F633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1378E-B205-4045-B2C5-1FD0CD54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E3FC0-7DC5-42E9-B8BC-D5A0218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79DAF-9468-4E59-8E4A-32FF1220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D2574-A9EE-4C54-9ED0-CD9994E4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133DF-FE60-461F-A76A-5D2586A3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5A7D7-DF63-4038-8C66-E6517A14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EA070-1D80-42B5-9123-BAE49831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8C8-4727-4042-A001-CA47CC68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D5D6A-2CE5-4FD5-9BD4-51DF8282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EB4F4-B322-4271-B961-319A8668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73333-BAB0-4823-926F-BC078DAA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34B00-38BD-445C-BD19-17D1FAE5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C1384-D248-47F5-80D9-1E5615BF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B4060-4971-4C27-9389-BBA99A1B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ADBDC-84E7-4420-AEBF-F1155FD1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2ED55-98D7-434A-B632-8CA0B401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385FA-F2F5-4D91-ABA4-99D3B447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F29C9-3D4C-486D-B9BB-7B366B00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280-17C4-4FB8-8D05-EE9A5EBE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59C40-905F-4F9E-8F74-DB699CBB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FF777-C456-44E5-A4E0-99582265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49E6C-F0C3-4F12-81B1-9CAC972F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19C14-22E6-4F84-9824-E53603AF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7A343-3960-4FDF-BABC-AE865D4F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43589-0CBA-4593-B091-226B1BEC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17EE6-4BCD-4A19-A05B-D210E439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CA111-FF08-4208-9400-B9B7BCF9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818F7-562C-47DA-B545-48DE4D27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4A073-BF86-4F1E-A6EE-57F1339B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405F-D069-4268-A7A1-6A51DF39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6E656-0635-44E0-A39B-2384191B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741FC-2CB3-458F-8241-2F177E2B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69A30-3986-48BC-ACDE-F20A7713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62039-0BBE-483B-8297-8F07BA2B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7EF7A-4910-48D2-AE2C-496243D9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61C18-38C8-4A96-B69B-C5EBB1DA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15B9E-4CDC-4A73-99B0-940FF963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4D6D4-82BE-4B04-8983-5222A230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5D5FC-4175-42E6-9FC3-F8059920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463DE-5A70-4543-ACEB-F14B6164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4E7F-B1E8-4851-84DC-7BB9C60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953A1-8EEA-40FC-AF5C-3CA9477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1C554-1427-49DC-9053-3A1C0D9D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2E8B7-A360-493E-B4C0-B092EB65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EF636-F3F9-40AB-97A0-4D4B1E01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CFE5C-493E-4992-9D4F-4930FD18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0E186-8E74-42B7-9B4F-51BEE730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AF8ED-A93F-4A0F-AB0F-30478CA3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6D663-37BD-4656-9B15-5466A180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13D92-20F3-4A39-9A48-2F15A291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89AD2-2D64-4E94-AAF1-E9BF6185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B361-15C8-41C9-9E2F-2AC05F12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C8E5D-6F5A-461E-B119-FBAD5231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B3207-8CAE-4D21-807C-B1D6644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5B082-154E-4F15-8232-E5E630C1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736E0-1DC6-4E99-9517-8DED6459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2B247-A783-42A0-B5BB-A7CBB2D2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57CCB-56F2-4A01-8184-79C1DB22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3433E-47FC-4E84-BA18-A0B744A5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C3BC9-C48C-42D7-B707-8495D9F9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75869-BE53-4523-ABB1-A4F0271A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15D3B-E876-4262-9C59-318A2D49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582-C1CE-4E7F-8474-1342D71B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088FF-9BB4-44BA-B84F-E56A07CF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8828A-4535-4FAE-9405-D165FDFC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E4106-B0C6-4DE6-AACD-AC416A7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454FB-C114-4839-BA6A-400BCA0E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BAA6C-BED1-4005-ABFF-72B52F3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02C3E-5763-4835-96C9-2294BE71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EB10A-830D-477A-A8FD-40A6732D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D22C9-F997-4E45-925D-38399191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5CC2B-0DD7-45A9-9CD2-0C2D1502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25A32-E456-4028-AFF2-259BDAFF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E349-0D16-499F-BA4B-CFA6BC8F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C8F7B-00ED-4C1C-B335-32F77B36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6C320-5171-4A06-8EE3-8C073B9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C1EDA-1768-47D7-9319-EF6F0EF7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36E79-4CE5-4CEE-9146-A3A4CD7B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B6CBA-37F0-4B40-9425-410D94B9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3B209-9AB8-4626-AFD3-AC1E2A3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C051F-4132-468F-B1E6-E4644348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EEFEF-5B94-4CF1-AA4E-C4CEA42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EB9EF-BB84-49CE-9702-BCFC3252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BDE3D-F6F5-44DC-9406-0A5A0132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2342-F015-4678-8505-8A785AB2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6FC45-7C8C-4F01-85E5-901F1559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A5398-1DC5-4B57-9071-932095D2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3A679-A677-4AE5-9B49-B1340654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98317-B56A-4111-A9EF-A7B4844B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2D509-B3F6-4A53-BA41-6F9E49E5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710E9-F22A-479C-8FFA-37E8BE32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5DB81-117B-4804-B85B-05469693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FDD76-E908-480A-BA10-B0C67C8E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28513-108C-4832-A0F8-4484D4A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A8821-3AAA-4A55-A61A-BE8F640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12CB-F752-4BC1-A878-68C0C07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BDC76-62E6-4D7E-9398-2527EBB7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B98AA-8985-4DF9-9482-C2FDF1CC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A1E0A-FC1E-4C31-9AA2-D0185C6E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9671E-275E-44C0-993E-5CDFD57E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FFDE3-B279-46DA-92A2-5B9C6C95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43679-5E0C-482D-9499-1861C8F7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F39B4-76A4-49D7-BC85-DA4007A7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4A9536-4057-4E5E-BB32-1C5DD466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5F74C-9AE2-4660-93E7-FB6BBE6C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F0B13-60C5-4208-AB7E-E9055B3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735-E3D0-4C76-B513-D5808D27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6881-39F3-4862-AE7C-60C6636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99E26-CF64-4B1C-BB21-2FE9915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01053-BFCA-476E-8486-0746243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2D052-1E30-4DB7-B3A9-B9EFE90A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E7883D-EE07-4962-846C-2B21E88A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BAEF2-0F7A-40AD-9BC6-E7A33831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4100E-D987-4459-84F6-A024A51A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C170B-047F-4D2C-90C9-73020260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C4A53-4072-4ED7-B53A-9362E3F1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8752C-2925-441F-9DEC-5818F1D4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60DA2-3767-4E57-A0E8-9EF30B6C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9DAD-1765-4B36-B3E0-BDCA991E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3EC7F-E42B-4463-BAAA-055AC7FF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E448A7-1C3C-47DF-9D43-ED2F46E8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400BA-EE81-4A1A-8226-17654A91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F5EA7-0FCD-4896-9DB1-C2BD34DF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4A8EE-DB30-4700-BE5F-A2600493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87B1B9-A521-4FC6-840D-5D98E091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A9846-89B3-4833-9BBB-C1DF9CF8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83FBF-039E-4425-B316-3053A3F6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11C0F7-40B1-4A1B-A97E-F55FB437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C0421-745A-4457-8AEA-558A6D22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E81F-23AC-4F84-B3FE-9A795E28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95E12B-4143-4BB6-BE57-3EAB808A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6660A-80A2-4753-ABA7-A08C2623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78A9C-86A8-427D-8B11-4141E6A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DAB71-5CF3-4E19-BBB3-07D31E3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F88BF-9DDD-4173-8297-3FEAE21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CF828-455E-4379-8553-177D3D8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B824C-24B0-4258-B822-B9ADABA6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147A4-E28F-4243-A4E7-83B06B98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13FAD-ECB1-492C-8B12-7F009013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8E445C-B50A-400E-A725-BE56A699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2644-F7CE-45A6-8725-8E7D2E09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B451E-0B9B-4C06-B3C6-1B9DEDD4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57F2B-6F32-44E3-B734-F5C91AC3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B5CE3-32C4-4F0B-B308-D1D7E2C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705878-92EC-463C-8040-3FC70DA9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B2293-2307-426B-9EA3-487EFAB3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B0F26-E5F0-470F-AFD0-61FC171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C3D56-1053-4DA3-A190-004CF19F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A7CC4-E623-4652-8091-0DAB1F8A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D2684-E6EC-4152-A3F1-5B0D9C6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1A004-7AE7-4607-9D27-93516E07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6820-1D34-44FE-A03C-23AA9F1C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2A34C2-F669-4F9D-A5DB-F67575D3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D484-1E31-41E2-8D00-81C0D4DD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87C2-E1DA-4EFE-8591-C87BAB36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114C-A446-4D76-B297-E5085948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4F18-A453-43F2-AE43-2D6F193E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2BD1-9481-46C1-8386-A1BFD1A9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11E-D02D-4CD6-B37E-79ABFA36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A999-F37F-438C-BF31-89C1354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1A4B-C2FA-48CC-BBB5-96C53D8A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94F9-2024-4DCD-8992-2CE33469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410D-EF85-424A-AE1D-91452E1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0D55-8A33-40A9-97B2-E78B5C92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F9DC-666F-43F6-849C-33F9CB8C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9382-F8C5-477E-833E-33848025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8FBF-452A-4989-A6C5-D0B2351D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D5EE-5FC9-4281-96BA-E007E8E4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61CD-3CE2-42A5-838F-8478ED56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368-6367-4F01-B4F5-80FC26A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478C-1573-4CC8-A8CE-33A8E1B4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9723-F7EF-4233-8F78-200474C4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ADF3E-1767-456C-8B57-D421AE3A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2739B-AC11-47E3-8D06-7266CCA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1492C-1B24-4501-8BA2-4C42E2BC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BA4C9-1A40-481A-B140-D426914B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FDB4-D189-459F-9B13-1E519142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CB0B-CB96-498C-816C-35E877DF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FBB8-A0F4-41C8-9194-8744838C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A215-474C-4AFD-ACBC-65A55426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75D-D643-42C7-B9BF-92BB7A7A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6D95-7EF1-44E8-9ECC-787640D4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058A-D7B7-4813-BB66-D7685A95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93DCB-78BD-4605-A5B2-73787B2C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860F-6EDB-4D70-8458-A9131206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D4C2-E19B-460E-9355-14E69F22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6E3B-D6E0-47EC-84FD-AE0CB726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AD584-30FC-4CCC-B72C-C825839D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A2705-2E60-4488-B06E-F6C3D56F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84C05-D0F9-40ED-84CF-40AB3F5D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BC0C7-4433-4A17-AA5D-6EF9F57C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FA7-3AD3-4763-A4E3-CC098798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FE053-9C86-4618-BD6A-5C62EE8E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6D829-1D2C-470C-8455-08AAE15F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B50C6-A8E2-490B-A469-34FA5AE6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36DCF-4A00-4656-95CB-98C7918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C20BA-CFEC-49E4-ABDF-75964743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44F61-27EE-45A5-8C42-B99A0C25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AA5A6-893F-4990-A67C-7248E5E7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3D233-3DBE-4420-9E33-B75027EE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2FBB-ED44-4140-AF9A-27D177C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E0AF6-E3B0-4784-B17A-E6387732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824-59B9-4F04-BDFA-7636150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9847D-1B78-4165-9AEB-EB9CF2A5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77618-59BC-4C06-A180-52EA5FD4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F63D-36DA-4394-8591-6F8664C5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9F99-98EC-4F10-983F-F198CD46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206F4-C94C-4F65-8B06-B7CE976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65E62-B8C7-4A4E-A868-DABB76FC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18D53-DDEF-458B-A698-E76C7675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EA82E-D5AF-411F-984D-4E295BDA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8EB9A-2C9A-49DD-B953-072EAD93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0D83-11FA-4C8C-A99F-304858C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883-BB2F-4FB4-BF22-BBEF679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AE497-411A-4C22-BF86-D92BE92A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81215-EE1A-4A2D-98B6-65764BFF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F6BDA-286F-4E25-9937-5BC6F04F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827B6-946E-40D2-8BB6-6C1A94C2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F8032-30DB-4E3A-8677-C92B0D05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7A2F8-E7B5-49D2-9E36-3E7B665D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F3F61-4984-418E-86CD-05B8100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F2D5F-7F30-42E8-BA6B-F373143D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F67B-F647-4F2F-AA23-53D0B128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2406-7D99-444C-875C-DE227BB0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11A-30EE-4659-B4D9-F0D2054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A3405-4E9B-423A-A8A5-BDD31762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6AD4-F44A-4BC2-962D-7F748879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C62C-1AF7-47DC-8A05-CD154F55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36236-929D-4192-8CA4-0E47E3F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F9CDE-5721-4A2F-A8DC-D19699BA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D4631-111C-45E6-BD77-12038D45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591A6-B8AA-41C8-B6B4-07A4E144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44B45-017F-4DA6-B4B6-A76BB499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8A7D8-F05C-4C12-98FE-D189D0CF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AC5C3-3E21-4B32-BF40-4186B757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6FC2-8FB7-442D-9BF4-219651934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D73D-E4BF-45C3-A0B2-7CD37478F2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D72A-94C4-46DE-A3E3-55E467B4CF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FC99-2EFB-44F5-91CB-3E6E03C614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8324-C4EF-4E46-ADC2-02C5A95025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3260-1E9C-4B6B-BE2F-14F6E9AA29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94A0-2823-451C-BD83-A0D25D178D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5769-B713-4044-AF9C-B6C656BD77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A1C4-4EBB-4662-922F-B442B0540B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F07-80B1-4286-836A-1037C46A12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5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5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5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3F37-1B11-45EC-AA24-3A3389C3E2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809-D8B2-46AF-93B5-CD3466272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D:\клипарты\школа\01f31e9621df.png"/>
          <p:cNvPicPr/>
          <p:nvPr/>
        </p:nvPicPr>
        <p:blipFill>
          <a:blip r:embed="rId3"/>
          <a:stretch/>
        </p:blipFill>
        <p:spPr>
          <a:xfrm>
            <a:off x="7215120" y="4786200"/>
            <a:ext cx="1677960" cy="18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9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4F5C-2A05-4356-BC79-C17D28A553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1D86-E5C4-4C6F-B6EA-937A76D1E48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40A0-430F-438F-A8EC-25556BDA10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7" descr="4aacc0cbe69a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EDD7-8D42-4E6C-ADA5-87F36A747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D:\клипарты\школа\01f31e9621df.png"/>
          <p:cNvPicPr/>
          <p:nvPr/>
        </p:nvPicPr>
        <p:blipFill>
          <a:blip r:embed="rId3"/>
          <a:stretch/>
        </p:blipFill>
        <p:spPr>
          <a:xfrm>
            <a:off x="7215120" y="4786200"/>
            <a:ext cx="1677960" cy="1889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D:\клипарты\школа\6746844630a4.jpg"/>
          <p:cNvPicPr/>
          <p:nvPr/>
        </p:nvPicPr>
        <p:blipFill>
          <a:blip r:embed="rId4"/>
          <a:stretch/>
        </p:blipFill>
        <p:spPr>
          <a:xfrm>
            <a:off x="428760" y="500040"/>
            <a:ext cx="8429400" cy="4929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D:\клипарты\школа\01f31e9621df.png"/>
          <p:cNvPicPr/>
          <p:nvPr/>
        </p:nvPicPr>
        <p:blipFill>
          <a:blip r:embed="rId5"/>
          <a:stretch/>
        </p:blipFill>
        <p:spPr>
          <a:xfrm>
            <a:off x="7000920" y="4643280"/>
            <a:ext cx="1677960" cy="1889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BF04-7CE0-475E-86D3-CFCE9077C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7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7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27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8EAA-CA39-49BD-8924-A5FC293E845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DBBB-FBBE-4C59-921F-9454BDBF93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c9b1"/>
            </a:gs>
            <a:gs pos="100000">
              <a:srgbClr val="fff3c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3181-7AB4-4FC1-84AE-1929681B8E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38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ножение и деление чисе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подготовила учитель начальных классов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кова И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4140000" y="7794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Прямоугольник 2"/>
          <p:cNvSpPr/>
          <p:nvPr/>
        </p:nvSpPr>
        <p:spPr>
          <a:xfrm>
            <a:off x="2286000" y="779400"/>
            <a:ext cx="457200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 * 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8 : 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*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* 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 *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7 : 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  * 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-108000" y="-316080"/>
            <a:ext cx="95043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Прямоугольник 6"/>
          <p:cNvSpPr/>
          <p:nvPr/>
        </p:nvSpPr>
        <p:spPr>
          <a:xfrm>
            <a:off x="2286000" y="6127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0л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0лица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ме100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100рия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0рона;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00л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0" name="Разминка.mp3" descr=""/>
          <p:cNvPicPr/>
          <p:nvPr/>
        </p:nvPicPr>
        <p:blipFill>
          <a:blip r:embed="rId1"/>
          <a:stretch/>
        </p:blipFill>
        <p:spPr>
          <a:xfrm>
            <a:off x="4764240" y="3770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C:\Users\Ира\Downloads\Зарядка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2" name="Разминка.mp3" descr=""/>
          <p:cNvPicPr/>
          <p:nvPr/>
        </p:nvPicPr>
        <p:blipFill>
          <a:blip r:embed="rId3"/>
          <a:stretch/>
        </p:blipFill>
        <p:spPr>
          <a:xfrm>
            <a:off x="831708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141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9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92141" fill="hold"/>
                                        <p:tgtEl>
                                          <p:spTgt spid="9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47fd"/>
              </a:gs>
              <a:gs pos="100000">
                <a:srgbClr val="4721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8eaafa"/>
              </a:gs>
              <a:gs pos="100000">
                <a:srgbClr val="424f7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7" dur="2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1" dur="2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5" dur="2000" fill="hold"/>
                                        <p:tgtEl>
                                          <p:spTgt spid="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29" dur="2000" fill="hold"/>
                                        <p:tgtEl>
                                          <p:spTgt spid="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Прямоугольник 6"/>
          <p:cNvSpPr/>
          <p:nvPr/>
        </p:nvSpPr>
        <p:spPr>
          <a:xfrm>
            <a:off x="696960" y="1125360"/>
            <a:ext cx="7705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уд кормит, а лень порти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ленькое дело лучше большого безделья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езами делу не поможеш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чил дело — гуляй см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15000"/>
              </a:lnSpc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урок мне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ельны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я узнал, что…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мне было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ымянны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настроени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…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зинец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я лучше стал…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Спасибо за урок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Прямоугольник 1"/>
          <p:cNvSpPr/>
          <p:nvPr/>
        </p:nvSpPr>
        <p:spPr>
          <a:xfrm>
            <a:off x="900000" y="177336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Заниматика»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8" name="Picture 3" descr=""/>
          <p:cNvPicPr/>
          <p:nvPr/>
        </p:nvPicPr>
        <p:blipFill>
          <a:blip r:embed="rId1"/>
          <a:stretch/>
        </p:blipFill>
        <p:spPr>
          <a:xfrm>
            <a:off x="1692360" y="222120"/>
            <a:ext cx="554364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«Миром управляют числа».</a:t>
            </a:r>
            <a:br>
              <a:rPr sz="6000"/>
            </a:b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Пифагор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2" name="Picture 4" descr="Прописная цифра два"/>
          <p:cNvPicPr/>
          <p:nvPr/>
        </p:nvPicPr>
        <p:blipFill>
          <a:blip r:embed="rId1"/>
          <a:stretch/>
        </p:blipFill>
        <p:spPr>
          <a:xfrm>
            <a:off x="1116000" y="4762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6" descr="Прописная цифра восемь"/>
          <p:cNvPicPr/>
          <p:nvPr/>
        </p:nvPicPr>
        <p:blipFill>
          <a:blip r:embed="rId2"/>
          <a:stretch/>
        </p:blipFill>
        <p:spPr>
          <a:xfrm>
            <a:off x="4427640" y="4762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чисе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27:25Z</dcterms:created>
  <dc:creator>Helen</dc:creator>
  <dc:description/>
  <dc:language>en-US</dc:language>
  <cp:lastModifiedBy>comp 3</cp:lastModifiedBy>
  <dcterms:modified xsi:type="dcterms:W3CDTF">2017-03-10T10:40:46Z</dcterms:modified>
  <cp:revision>6</cp:revision>
  <dc:subject/>
  <dc:title>Слайд 1</dc:title>
</cp:coreProperties>
</file>