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3.gif" ContentType="image/gif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0063-1F5F-4882-B07B-EE7DB201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0C37-059F-4F3C-9CF0-A3470DFF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F3F63-CC07-4F39-8542-55485BCA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AAB1D-3D05-4B95-9351-EB31BB47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F00CA-2B2E-4DF9-96D2-A8C5DB67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0632B-F394-4EA5-87BF-AF28ABD9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CFE08-E988-490C-AA21-71CD1912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14608-5707-49D0-A6A6-E0877128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C767B-0A4A-48E1-A8DB-3F266448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456DC-0623-4E76-9820-427A526B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5AFF1-439B-4F0A-A59F-EA53E5CB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88410-09C9-492E-A276-0681F5DB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138-B831-49F8-B926-5AEFB06A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6B2D1-76A7-433A-99A5-84470A88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6523E-3834-4077-B64A-F86935A3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51095-E7C6-4E23-8DD6-82DE2778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EF226-81CC-43AA-BF7C-5A62D09F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B4CEC-838A-4418-AC15-2CBD2912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6576E-ADCA-46ED-BA0E-35729A44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99D7D-DCAB-4463-A3F6-ABF0FA6D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A40FD-F2BF-4737-8F2C-F2F62807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BABFB-AC1E-4E3C-8535-C647E18A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6DF30-1AA1-4F31-A4E1-3613C489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FEC-EA3F-4FFC-834B-5435EA6E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FED12-3708-47EF-BFE0-C83468BB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05EA2-AD2A-45A0-B6FF-14D78953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97041-7D06-47E9-88F7-B16E3615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5205F-792C-4395-A79A-C044833F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CFEFD-8B42-478B-9603-7514042F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BAB08-F4A5-4D20-AC8B-70F438F5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73A37-EA8B-4E70-8C7F-8D15ABB1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9AD81-0EE1-499D-92D1-0CBB577F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2619E-09EE-42AA-9E72-76B908F6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52E30-993D-4505-A770-21AC3E98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643E-7884-482F-9C6E-2645F054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B9CFF-F47A-4206-8C8F-68BDA8EA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C2EBD-96F9-4D5C-BA02-708744E3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F1E62-181A-4594-95C4-8FAB8A56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04CC6-5D2B-4D22-A92C-4F2B7266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57ED2-B65F-4EB3-B0BC-9BC4C5AF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2AD3F-8C48-4610-B368-8F7AD955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C4D68-9210-498E-8677-6F7457AF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EB514-221B-484E-A991-EF6D3751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738B6-F811-44E9-A325-0BE6B29E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15F18-E487-457B-8709-3D6E240A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D91A-BC81-425B-99BE-99C4ABC1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9D3ED-7FDA-4340-96BC-0367249B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3BEB2-36BB-4DAC-9221-8F028791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85F3F-1E54-4376-8D8D-F6B740F9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AE2D8-F55D-4BF6-8ED0-7FD5EAA4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38990-E929-4D90-B68C-D0A711B5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C60F3-58EA-4313-BA63-819BF447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372B5C-5B90-4B57-906A-6373FF73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4B1A8-B0EA-4FA3-9792-DB5DC429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AA665D-2367-4068-8D55-B7900130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E1805-06BD-400F-AF2B-4791ECA5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3101-80EE-4282-8F1F-102FEE6C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396BB5-6023-4E68-A88A-6B0FE46A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FA952-8AD3-4C4F-A066-899EFABD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F38E23-C03B-4ACB-9F8C-8C69378F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FD35D1-B2A2-415F-B7A1-E466AEC7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73E6E-41C2-4966-AE34-445EDDD1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EE7E2-4B59-4A9B-9F44-BB8A2155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7E91F4-8208-488D-9533-0C2CCEDB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04F948-0337-482B-8279-5F9099EB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E40D11-0114-4C70-A45F-C06A92F1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5C32A8-5FF0-43A1-8730-60178EF0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C19F-A9ED-44B4-8844-FA788D21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D8EA4C-A4DE-4933-B9E1-1A5E6D3D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5A140D-E54C-466D-9C0E-1B78E325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3CB646-3639-4A63-A808-D0B89106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BDEB85-6EDE-4DD2-873C-2E829938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E515BC-0B95-4C49-8135-6D4EE937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E85FB4-2AA1-48EA-9678-DCC0C2FA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D15FEC-41EC-49B7-987A-2E50E8B9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483452-4169-4793-B48E-97A50C76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37EC3-3AF9-4BAC-B1C0-1203119A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6E27E5-6A1B-4EA4-96BF-48971B40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567C-6AF3-4835-9B69-AC6A842E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D39BAD-71AC-450C-B222-697B8336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0D0A00-CC58-4D4A-B97A-DC523CE9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8EAF2D-8D96-4E25-B2EF-3713E6F2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93B11B-49A2-4D9E-B070-54C1266E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787CB1-D270-4555-8E4F-EBB90A6B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C55F56-1BA5-4F31-8CFB-64C3C413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9153FB-D30B-4603-A598-7E399F4A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16609E-43B8-4C76-8C4F-4FE82128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E25C24-DD2C-4BCD-91AD-1827EA8E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4917FA-EF6D-4383-8CC6-CD7147A6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F924-F806-467D-8EE7-C402B49B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00821E-B370-4F9E-8342-E5BF722F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85A7F4-28F1-4733-B505-9025DA13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B34BEA-18BB-4551-B2A4-9B75CF1F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228D67-6FCC-4B29-AF3B-690BD2DE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5721C4-9FC5-4E55-B0BF-6FBECF26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6FFD9D-86E5-4262-B795-4E762CD1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B27E53-D3E7-4F7C-82C3-DBEAA3E8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5696BD-A272-4E9D-A7FF-711AA4D0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1E37DF-44C3-40E4-98D6-D0DA75F9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DEDB36-A522-4982-A492-9B418DB2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304E-EA12-4FF8-9D2A-965654FA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E357C8-C41E-4B37-A04F-5A75F9E3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FAA81A-C072-4425-8744-909F8835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3CC2D6-4D3A-4108-B002-7A21DFCF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D86025-E22B-46D5-9A09-553DB83C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84DF8A-EC0E-4747-9439-23E5576B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3B3CF2-3AD4-4C80-865B-D04D4844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D5E32D-8A69-445A-BF04-AA9945CA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31F846-4FCC-49D7-BAC1-DCE59666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DD470C-81FF-45A0-B9D3-7BFED8AE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540B40-2C64-447B-BB5F-6EC97A28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82E-2141-4AD1-AF72-53EC3AF1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2991-2F6A-4A7A-AD15-4C22908B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7916BB-1A7A-4E63-A7EC-474516D0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B18B3F-A502-4351-9B32-90DFEFF9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4BF41E-0E7E-4450-9489-87F8DDDE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0A852E-72C7-46A9-A8F1-593C9A3E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870AEB-F08E-4653-9736-67F9AA1E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D27CAD-E056-41D9-B57C-4F337949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DA878E-C060-4C3E-A116-A0D0A783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A75F76-5529-4135-9B82-AF186214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4A16F3-BACF-4384-A8E4-81126DA3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514803-352D-4003-8D34-D7D75554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64F6-CEC4-46E6-B6D7-4EFF4FB5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97AF2F-BCD4-4D08-B5F8-F8E2441C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142FCC-49A4-4B47-95E6-05FA8AB6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7AA698-4509-4821-937B-55B5AFE8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393797-C0F8-41F5-AC0C-C3454534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5FECF6-5DBB-4D76-9561-C1EBA939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66A4DB-3D23-4D4C-91A3-87E5EF0E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0A1FB4-7663-4C98-85BD-AC724011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A6EC6A-18B1-4AF1-871F-6873FD64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66BBFF-59AD-4102-9848-88F2DA7A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9D0D09-0EAE-4DF1-AA94-1D7C0DAD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6CAE-C05A-42D9-9F46-0258EC7D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1B43DF-4F6A-49F0-ABD3-2A13C3BD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2BE4E9-968B-4358-9FE7-C904B6D9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539A2C-D58D-47D0-9046-CDF2305D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ED3481-FE63-4C26-BEA0-FE0E28CB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BC5721-C57A-4D1D-AED7-FB076880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2B0F5B-3BD4-4E68-8AFB-D37A3D77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A1BCD9-27CA-4C5E-A0D2-A42BF69B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5459B5-F0B9-4680-A95C-8622B55C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D1FD09-958E-49FB-BA38-C48A89BE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D3A8D4-A317-4166-A57A-832FF76B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39C1-111B-4FDF-BB24-156D6BE6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E4839A-483D-431E-9DA3-EB515E84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A2B8C5-2369-4C21-A2C9-196941B8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61CA6B-E8BA-4E1D-9950-7C0BE682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0C1271-9D37-407D-B77B-6944ED7C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944AEA-3C36-49E3-9399-946FC279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AD147D-6FDA-411A-A384-16496567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913C8E-9BD7-4D1B-A2B1-98E83935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40A133-20A3-4FAC-AB00-6F2ED376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EAD919-656B-4A2B-A54B-A41FD272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03FBDB-9635-43D6-9DB7-27207BEC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FA61-CB80-476D-A807-9983319A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7C7F3B-2C21-4847-9474-09CFBF19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65143-FE62-4FF6-923C-6AC25B49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31682-74F3-4520-8ABF-F42CA1CA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C7221-C884-4AE9-A48C-A0D68D91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92E99-F2F0-4FC7-9668-281251DC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F70F9-54DE-4471-B269-1B0784DB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4834-8EC4-4B1D-B485-7DA4CD4B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23FD0-5367-433F-8702-96C0FF3A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F8F20-07C1-4D7E-A944-CB5DE8EC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D5157-B49C-4D83-8C7B-972479BA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B03A9-CF25-4E2F-BCDA-A1ECF217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B9E76-9997-4387-A63F-61C5AE3F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B91D1-D9F9-4380-89D1-EC35ACF3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AD1FE-7D9B-4C7D-8951-0B1F2E11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80618-98ED-4222-BDC1-2B4E3407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0A227-2A12-46DF-B28E-C252365C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E2741-85EE-413C-B4F9-6AA6DF01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57A7-BAFB-4255-80D9-3025DF98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E03EA-28FE-4889-862E-61FABCD4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82865-839C-4946-AB6D-2BB3E265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65BB5-5FD0-4058-B52B-A48B2BD1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E09C0-8096-44C7-9E0D-638D9B7F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76EB5-A08E-480F-BF6A-D8FF1A35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7B602-4D78-45BF-9874-0AB70623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8867D-C92E-4CB3-B398-BD90FB1F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7A818-1D17-4FA0-9175-DD79033F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8BE02-F255-4A60-AF93-D97C0F60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78E6F-FEBA-42FD-8792-259C2140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AD35-AD5E-4FD6-A0C5-80EBE8AD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F95B8-24F7-4DCD-9E69-336AB959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53BB3-8EB9-43E6-9FC4-C06581A7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8B55E-3621-4B76-9E88-B9CB5241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44943-D4DF-45CF-BA51-D5EBFD69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E8CE8-672C-4B19-96A7-769343B1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93163-8A2B-4DBD-9CA0-84BCE686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3A2C4-A8B0-43FE-88CA-C60E72B5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9AE9E-BE2C-4FCC-B309-0E3DCAA6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2A4F6-0B4F-49DF-9DE6-F6521703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C854C-390F-43D7-B347-4D604252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2C3-E5F4-4C90-8A79-026D4664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F2DBD-78FD-4F2B-9622-97E471D4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A03B5-E7EE-48B9-9376-EBE88FEA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D2AC6-7BC5-43BD-A545-5F0CE1BB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B7576-1C3A-4FA3-B6E5-8FEE5238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CF89D-1294-4A08-B4B0-9C7BF435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9E572-04C9-4499-87AD-8DDF7FD8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E9A8B-8892-4E0F-AC87-AAEDDB2B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625BA-2A5D-4167-B8C6-646DA1E7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8E206-0D31-4C9F-AA41-78413942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72701-C6B2-4B65-95CB-E5A75111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52EE-A181-44D6-8B18-800B11CD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12225-B011-46E2-A9BC-EF084125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53120-1AED-431E-839E-63862452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889AD-E8E2-4C70-AFD5-A14DDFD4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8851D-CE66-43C0-A93D-B929E682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7784D-4FF1-45A6-A4F7-5C0073A3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4CDCC-6783-4965-876D-4618213C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400D6-B0A4-470E-B86C-6CEE7780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F9145-BEDE-428A-8C51-37907395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44937-BEB8-4DB5-8226-391C9B79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39C47-F7F4-4493-9AFC-111B8139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28B5-9E37-4AC7-AB5B-06F9D03F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7EFA3-DBFA-4585-B6A8-F54F72AB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45B56-5F6F-48A6-AE6A-C761E971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039DA-F328-4B50-B49E-EBCEE5F6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49E30-E0D3-4F5B-A1BB-54A6D7EF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BB4C2-B5BD-40E1-BCD1-F73E939A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4227D-9152-49DB-8B8D-5C9E8696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A9AD3-FF52-4BC5-8F2C-7DB3FD9A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21196-B85E-4B08-A86E-84A12A36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2A975-409F-4CAF-97EB-30D07E04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CA98B-F17C-4985-9EEA-AB8E0212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B0CB-7A33-49ED-913B-3574253C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0D62E-8F9E-41A0-BA22-CC06681A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703DE-7B66-44CF-B85B-70189DD3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B7C1B-1654-4822-AB82-F97FC8E5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FC952-303A-4948-82DB-01DD44E0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20F6B-93A6-4A80-87D2-11D75F8E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E90D5-BFD3-42F3-B0F4-A78874A6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77ADB-6CFD-4D0C-ACFD-0AEB64DA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A5203-5A56-4E60-B22B-44CB531E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B394A-0DAF-4C17-BA91-BD979BCA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11258-F9E6-487B-A86F-32C27779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70b42962396a.png"/>
          <p:cNvPicPr/>
          <p:nvPr/>
        </p:nvPicPr>
        <p:blipFill>
          <a:blip r:embed="rId3"/>
          <a:stretch/>
        </p:blipFill>
        <p:spPr>
          <a:xfrm>
            <a:off x="7701120" y="5391000"/>
            <a:ext cx="1442880" cy="146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4B8D-7889-4240-8551-ED7389D3B3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4488-02BD-4A90-89B0-E786F90C92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A689-0914-4352-BE1E-F3AE9912CF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26AF-BBB9-4450-BABD-C654D83BC0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2DDE-D145-48B2-85BC-EDDBF4BA45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9F90-0AF3-44D2-891B-58D3EE299B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4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4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F95B-20ED-4F26-AC7E-8C2474ADD9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6E25-2464-4AE8-9612-06DC1F5777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49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0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3B9F-B59D-4C2D-9F1D-1446BC4105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52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53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54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950A-3675-48AB-AC73-5F3D8EEF14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55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5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5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F530-CBC6-4368-9167-ABBE519D3B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A64A-00E4-4754-8064-D47CFC7DBE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D:\клипарты\школа\01f31e9621df.png"/>
          <p:cNvPicPr/>
          <p:nvPr/>
        </p:nvPicPr>
        <p:blipFill>
          <a:blip r:embed="rId3"/>
          <a:stretch/>
        </p:blipFill>
        <p:spPr>
          <a:xfrm>
            <a:off x="7215120" y="4786200"/>
            <a:ext cx="1677960" cy="188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9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5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5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0C42-57A7-4C97-B1B5-BF2B1F73A5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1306-9DBA-4127-9916-051EBCC25CA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4DF1-9C38-4E14-B285-C40276FF1B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6" descr="70b42962396a.png"/>
          <p:cNvPicPr/>
          <p:nvPr/>
        </p:nvPicPr>
        <p:blipFill>
          <a:blip r:embed="rId3"/>
          <a:stretch/>
        </p:blipFill>
        <p:spPr>
          <a:xfrm>
            <a:off x="7701120" y="5391000"/>
            <a:ext cx="1442880" cy="14670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7" descr="4aacc0cbe69a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0EE8-30AA-43A8-A9FD-6AB3394D87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D:\клипарты\школа\01f31e9621df.png"/>
          <p:cNvPicPr/>
          <p:nvPr/>
        </p:nvPicPr>
        <p:blipFill>
          <a:blip r:embed="rId3"/>
          <a:stretch/>
        </p:blipFill>
        <p:spPr>
          <a:xfrm>
            <a:off x="7215120" y="4786200"/>
            <a:ext cx="1677960" cy="1889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D:\клипарты\школа\6746844630a4.jpg"/>
          <p:cNvPicPr/>
          <p:nvPr/>
        </p:nvPicPr>
        <p:blipFill>
          <a:blip r:embed="rId4"/>
          <a:stretch/>
        </p:blipFill>
        <p:spPr>
          <a:xfrm>
            <a:off x="428760" y="500040"/>
            <a:ext cx="8429400" cy="4929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D:\клипарты\школа\01f31e9621df.png"/>
          <p:cNvPicPr/>
          <p:nvPr/>
        </p:nvPicPr>
        <p:blipFill>
          <a:blip r:embed="rId5"/>
          <a:stretch/>
        </p:blipFill>
        <p:spPr>
          <a:xfrm>
            <a:off x="7000920" y="4643280"/>
            <a:ext cx="1677960" cy="18892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FA2F-C2F5-4C35-994B-77AEAE0A6E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7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27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27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4E61-71DB-4EA2-95C8-487AA61D0706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7FAB-B66B-450E-9BAB-2B44085DA0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6150-54DC-44F6-9256-2539EADD7C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38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множение и деление чисе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подготовила учитель начальных классов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аркова И.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4140000" y="77940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Прямоугольник 2"/>
          <p:cNvSpPr/>
          <p:nvPr/>
        </p:nvSpPr>
        <p:spPr>
          <a:xfrm>
            <a:off x="2286000" y="779400"/>
            <a:ext cx="4572000" cy="52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 * 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8 : 2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 *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5 :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 * 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  *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7 : 3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  * 4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2" name="Picture 2" descr=""/>
          <p:cNvPicPr/>
          <p:nvPr/>
        </p:nvPicPr>
        <p:blipFill>
          <a:blip r:embed="rId1"/>
          <a:stretch/>
        </p:blipFill>
        <p:spPr>
          <a:xfrm>
            <a:off x="-108000" y="-316080"/>
            <a:ext cx="950436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Прямоугольник 6"/>
          <p:cNvSpPr/>
          <p:nvPr/>
        </p:nvSpPr>
        <p:spPr>
          <a:xfrm>
            <a:off x="2286000" y="61272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00л;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00лица;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ме100;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и100рия;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00рона;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00л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0" name="Разминка.mp3" descr=""/>
          <p:cNvPicPr/>
          <p:nvPr/>
        </p:nvPicPr>
        <p:blipFill>
          <a:blip r:embed="rId1"/>
          <a:stretch/>
        </p:blipFill>
        <p:spPr>
          <a:xfrm>
            <a:off x="4764240" y="3770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" descr="C:\Users\Ира\Downloads\Зарядка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2" name="Разминка.mp3" descr=""/>
          <p:cNvPicPr/>
          <p:nvPr/>
        </p:nvPicPr>
        <p:blipFill>
          <a:blip r:embed="rId3"/>
          <a:stretch/>
        </p:blipFill>
        <p:spPr>
          <a:xfrm>
            <a:off x="8317080" y="6093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2141" fill="hold"/>
                                        <p:tgtEl>
                                          <p:spTgt spid="9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9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9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92141" fill="hold"/>
                                        <p:tgtEl>
                                          <p:spTgt spid="9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Oval 2"/>
          <p:cNvSpPr/>
          <p:nvPr/>
        </p:nvSpPr>
        <p:spPr>
          <a:xfrm>
            <a:off x="324000" y="404640"/>
            <a:ext cx="1150920" cy="1081440"/>
          </a:xfrm>
          <a:prstGeom prst="ellipse">
            <a:avLst/>
          </a:prstGeom>
          <a:gradFill rotWithShape="0">
            <a:gsLst>
              <a:gs pos="0">
                <a:srgbClr val="eb1d5d"/>
              </a:gs>
              <a:gs pos="100000">
                <a:srgbClr val="6d0d2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"/>
          <p:cNvSpPr/>
          <p:nvPr/>
        </p:nvSpPr>
        <p:spPr>
          <a:xfrm>
            <a:off x="7308720" y="5229360"/>
            <a:ext cx="1008360" cy="1008000"/>
          </a:xfrm>
          <a:prstGeom prst="rect">
            <a:avLst/>
          </a:prstGeom>
          <a:gradFill rotWithShape="0">
            <a:gsLst>
              <a:gs pos="0">
                <a:srgbClr val="9947fd"/>
              </a:gs>
              <a:gs pos="100000">
                <a:srgbClr val="4721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AutoShape 5"/>
          <p:cNvSpPr/>
          <p:nvPr/>
        </p:nvSpPr>
        <p:spPr>
          <a:xfrm>
            <a:off x="7020000" y="333360"/>
            <a:ext cx="1584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d298a"/>
              </a:gs>
              <a:gs pos="100000">
                <a:srgbClr val="5013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AutoShape 7"/>
          <p:cNvSpPr/>
          <p:nvPr/>
        </p:nvSpPr>
        <p:spPr>
          <a:xfrm>
            <a:off x="324000" y="4797360"/>
            <a:ext cx="1438200" cy="1584360"/>
          </a:xfrm>
          <a:prstGeom prst="diamond">
            <a:avLst/>
          </a:prstGeom>
          <a:gradFill rotWithShape="0">
            <a:gsLst>
              <a:gs pos="0">
                <a:srgbClr val="8eaafa"/>
              </a:gs>
              <a:gs pos="100000">
                <a:srgbClr val="424f7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031E-006 L 0.74827 -0.00532 E">
                                      <p:cBhvr>
                                        <p:cTn id="17" dur="2000" fill="hold"/>
                                        <p:tgtEl>
                                          <p:spTgt spid="9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532 L 0.00018 0.67137 E">
                                      <p:cBhvr>
                                        <p:cTn id="21" dur="2000" fill="hold"/>
                                        <p:tgtEl>
                                          <p:spTgt spid="9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2613 L -0.7165 -0.03654 E">
                                      <p:cBhvr>
                                        <p:cTn id="25" dur="2000" fill="hold"/>
                                        <p:tgtEl>
                                          <p:spTgt spid="9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00648E-006 L -0.00799 -0.65565 E">
                                      <p:cBhvr>
                                        <p:cTn id="29" dur="2000" fill="hold"/>
                                        <p:tgtEl>
                                          <p:spTgt spid="9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252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Прямоугольник 6"/>
          <p:cNvSpPr/>
          <p:nvPr/>
        </p:nvSpPr>
        <p:spPr>
          <a:xfrm>
            <a:off x="696960" y="1125360"/>
            <a:ext cx="7705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уд кормит, а лень портит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ленькое дело лучше большого безделья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езами делу не поможешь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чил дело — гуляй сме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lnSpc>
                <a:spcPct val="115000"/>
              </a:lnSpc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й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 урок мне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тельный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 я узнал, что…</a:t>
            </a: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 мне было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ымянный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 настроение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…</a:t>
            </a: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зинец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 я лучше стал…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Спасибо за урок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Прямоугольник 1"/>
          <p:cNvSpPr/>
          <p:nvPr/>
        </p:nvSpPr>
        <p:spPr>
          <a:xfrm>
            <a:off x="900000" y="1773360"/>
            <a:ext cx="698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«Заниматика».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8" name="Picture 3" descr=""/>
          <p:cNvPicPr/>
          <p:nvPr/>
        </p:nvPicPr>
        <p:blipFill>
          <a:blip r:embed="rId1"/>
          <a:stretch/>
        </p:blipFill>
        <p:spPr>
          <a:xfrm>
            <a:off x="1692360" y="222120"/>
            <a:ext cx="554364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64216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«Миром управляют числа».</a:t>
            </a:r>
            <a:br>
              <a:rPr sz="6000"/>
            </a:br>
            <a:br>
              <a:rPr sz="6600"/>
            </a:b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Пифагор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2" name="Picture 4" descr="Прописная цифра два"/>
          <p:cNvPicPr/>
          <p:nvPr/>
        </p:nvPicPr>
        <p:blipFill>
          <a:blip r:embed="rId1"/>
          <a:stretch/>
        </p:blipFill>
        <p:spPr>
          <a:xfrm>
            <a:off x="1116000" y="4762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6" descr="Прописная цифра восемь"/>
          <p:cNvPicPr/>
          <p:nvPr/>
        </p:nvPicPr>
        <p:blipFill>
          <a:blip r:embed="rId2"/>
          <a:stretch/>
        </p:blipFill>
        <p:spPr>
          <a:xfrm>
            <a:off x="4427640" y="4762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чисе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5:27:25Z</dcterms:created>
  <dc:creator>Helen</dc:creator>
  <dc:description/>
  <dc:language>en-US</dc:language>
  <cp:lastModifiedBy>comp 3</cp:lastModifiedBy>
  <dcterms:modified xsi:type="dcterms:W3CDTF">2017-03-10T10:40:46Z</dcterms:modified>
  <cp:revision>6</cp:revision>
  <dc:subject/>
  <dc:title>Слайд 1</dc:title>
</cp:coreProperties>
</file>