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907E-7F9B-4182-9DBF-B772F911A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250D-216C-437D-BC89-958824CEB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2361-DCFF-4754-8310-750B7E8B5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48D6-8591-49FC-BA07-F9B7EEC86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CC34F-0C9D-4C20-A46A-B52FE3BA5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602F1-539D-44D0-9142-C7AEEB8B0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2FC52-B565-4F74-A555-4120095C7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4318B-87B4-4D6F-8022-196B2AE29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A1BA1-FFA6-4C58-B95F-D70D5D21F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7CCF5-716D-4B5A-923F-C7FF75A51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09100-9ABB-48CD-AC81-93D50DEC8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05D2-91CD-4C0C-83C9-E09DB63E1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039B7-9FD9-45B1-AEF5-950D22F4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423B6-32FC-4D87-AFE3-DFB02213F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EC227-E843-4578-95DD-84A29FC9A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81EED-95FD-4A4F-A1C6-FF58351EB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E462D-AAE6-4C26-B03A-346A05492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954109-9A39-4662-8B2D-4497C046A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A3F62E-0292-4E55-B5B8-564442711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82076B-D31D-48D2-BC7B-595701431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87DAD7-B918-4A89-BC59-D7E7B107C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866EC1-1832-4D00-943F-B9D1128FD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3769-23C8-4E33-94CB-A63397F8E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A4B3AF-0DD3-48DC-9895-47210155F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FDA6F7-B76E-4FF1-B912-DE32E7B89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102DAB-AAA6-42CA-AA41-FDD76204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26D6A2-44E4-403E-8DA7-145646542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42795E-C5EF-49DE-91B3-FB27AFC6E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CB93B9-CA53-4E37-B0DA-DF2D0B11F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91C898-DFBD-41E2-B38B-9B834D82A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FD030-4863-4F2B-896C-C91DD0A38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0E0F8-172D-4F59-9466-D1ADF694A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8A383-4FFE-43A0-B297-1FA8E5FC8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AD0E-42AF-40BF-9131-3745FCDC2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2DBAF-EB4B-4A30-9705-2E856EB56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36486-D2BF-4B63-8C96-FEC312CC4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292A9-FFA8-4C15-BC6A-6E82EAFDD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740EE-A30D-4DE5-B72F-806DC630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E1562-1519-48A1-90CE-CD38BD5A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E6716-12E5-4534-98FE-FF9496F8B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714BF-259A-48A2-87FE-044AF8304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5C0A3-4869-42BB-8989-D4DF5EED5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F3FD0-F29A-4231-90BF-FE27B2FB6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14E2E9-DACE-4305-AE92-F42177CFB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4C11-0186-4CC4-8489-1A22BEC65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583580-9742-4A5E-90FF-5F13C8708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8AB6E4-7C04-4FEE-B7FB-FD43F7650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C78813-2BEC-41D8-A015-6D3712938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5BEA0C-E87D-492E-9CBE-BB8EEA6F9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CC5F95-6AA8-428B-9367-6C8643EA0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A7B430-7B1D-4812-8167-21A12CB57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287B5B-1912-4343-9741-DE6729356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1F0A88-54A0-401B-AE37-2C318AE63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C590F0-1146-4D59-AAF0-A958927EF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20BFDE-37D6-4072-95B5-DF0A2603B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E1A7-D0EB-4D53-96FE-82B99BA24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F99C9F-446A-428A-9917-EBA1D398E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E8368B-4F82-4576-A5F8-0ECDDEA0E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1E94CF-7B1A-4319-9070-95946A857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3A56F2-C495-45A1-80AD-0F57A2D3C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913373-7B12-4AC0-8B18-07643CC89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EE12BA-028D-42DA-A3E6-1511F9EB6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656C9D-BEA7-4C54-9790-D4EB84F4B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B4145F-0C7A-423C-B831-7C87C8A1C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F0A6D2-D5A3-46B7-974F-23DBABED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FC4782-5C83-4A3B-A461-1A0841AA9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07BD-8590-4D59-8710-DE2D71CC5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4EF5B3-576F-4D0F-AFAE-8144DC4DE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E9FC6B-CBE9-4D81-AC9D-C48B42D11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4835D7-D020-462B-A0F8-F47E1B34F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0E1D9A-97C5-4F71-A8CB-FB97F03A6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3DAFEC-335F-4A10-8C95-C7754E164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F736DE-D143-4E83-B1CA-F2490BF5D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953C03-189F-48BC-8EBF-7944DB5B2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1A00E6-E3CC-41AF-BB90-86F903455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20A806-7A6A-402B-BF59-02B43CD06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369CBB-5A5D-46D8-BBBD-9EA3D9694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C9F6-EBBE-4478-BCE9-3EA053AF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9DAD4F-B6E0-4524-B9BF-F75124EA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1D2675-F072-49B9-8916-A030DCB9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6FA266-0AAD-45AC-9319-26E3A1A66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998C39-871D-4C31-A32A-6A2DA5E76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AC6493-887E-41A1-B892-1F42E6D05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A3B1-B345-40D1-9174-6B122AFE6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34772-9B92-4345-BC21-DECD47529B8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9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1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ая соединительная линия 10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ая соединительная линия 17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ая соединительная линия 19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ая соединительная линия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1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21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Овал 20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Овал 22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Овал 23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Овал 25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24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81EA3-6F16-4323-ACA4-BA62FF172FD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ACEE9-F4D1-4BC8-ABAC-952FD2D844C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8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9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10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11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ая соединительная линия 12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ая соединительная линия 13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ая соединительная линия 14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ая соединительная линия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ая соединительная линия 16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1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Овал 1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Овал 19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Овал 2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Овал 21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Овал 22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ая соединительная линия 25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49EF3-883D-4300-8F7D-E4A5765B603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986AC-381E-454B-A8AD-77AEE6EC58F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ая соединительная линия 9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ая соединительная линия 7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ая соединительная линия 8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ая соединительная линия 10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11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ая соединительная линия 12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Овал 1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5DF4B-FB27-4219-A7A8-8D9CCF2029A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ая соединительная линия 8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Овал 12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ая соединительная линия 9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оугольник 10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ая соединительная линия 11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ая соединительная линия 18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ая соединительная линия 19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603F4-5213-4EE5-A3C3-BFCE505FC58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23640" y="0"/>
            <a:ext cx="7993080" cy="155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ПРОЕКТ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« ШКОЛЬНЫЕ  АНИМАТОРЫ»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6" name="Picture 3" descr="DSC04646"/>
          <p:cNvPicPr/>
          <p:nvPr/>
        </p:nvPicPr>
        <p:blipFill>
          <a:blip r:embed="rId1"/>
          <a:stretch/>
        </p:blipFill>
        <p:spPr>
          <a:xfrm>
            <a:off x="2214720" y="1144440"/>
            <a:ext cx="5163840" cy="290196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4"/>
          <p:cNvSpPr/>
          <p:nvPr/>
        </p:nvSpPr>
        <p:spPr>
          <a:xfrm>
            <a:off x="0" y="4076640"/>
            <a:ext cx="8748720" cy="27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РУКОВОДИТЕЛЬ ПРОЕКТА: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Головин  Н.Н. 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учитель физической культур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МБОУ «СОШ №»29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ЫПОЛНИЛА :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Третьякова Анастасия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бучающаяся 9Б кл., 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МБОУ «СОШ №»29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71760" y="785520"/>
            <a:ext cx="2714760" cy="30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ЧАСТОТА ПРОПУСКОВ   УРОКОВ  СНИЗИЛАСЬ НА 11 % 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РАБОТОСПОСОБНОСТЬ НА УРОКАХ  ПОВЫСИЛАСЬ  27% </a:t>
            </a:r>
            <a:endParaRPr b="0" lang="en-US" sz="1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8" name="Содержимое 4" descr=""/>
          <p:cNvPicPr/>
          <p:nvPr/>
        </p:nvPicPr>
        <p:blipFill>
          <a:blip r:embed="rId1"/>
          <a:stretch/>
        </p:blipFill>
        <p:spPr>
          <a:xfrm>
            <a:off x="142920" y="785880"/>
            <a:ext cx="6286320" cy="56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таршеклассниками приобретен позитивный, социальный опыт благодаря участию в проекте  «Школьные аниматоры»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формированы личностные и социальные компетентности у старшеклассник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3" name="Picture 4" descr="DSC04643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1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6" name="Picture 4" descr="DSC04646"/>
          <p:cNvPicPr/>
          <p:nvPr/>
        </p:nvPicPr>
        <p:blipFill>
          <a:blip r:embed="rId1"/>
          <a:stretch/>
        </p:blipFill>
        <p:spPr>
          <a:xfrm>
            <a:off x="0" y="523800"/>
            <a:ext cx="9144000" cy="51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71720" y="428760"/>
            <a:ext cx="7632720" cy="1069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br>
              <a:rPr sz="2700"/>
            </a:br>
            <a:r>
              <a:rPr b="1" lang="ru-RU" sz="2700" spc="-1" strike="noStrike">
                <a:solidFill>
                  <a:srgbClr val="000000"/>
                </a:solidFill>
                <a:latin typeface="Century Schoolbook"/>
              </a:rPr>
              <a:t> </a:t>
            </a: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r>
              <a:rPr b="1" lang="ru-RU" sz="2700" spc="-1" strike="noStrike">
                <a:solidFill>
                  <a:srgbClr val="9a3d01"/>
                </a:solidFill>
                <a:latin typeface="Century Schoolbook"/>
              </a:rPr>
              <a:t>АКТУАЛЬНОСТЬ  </a:t>
            </a:r>
            <a:r>
              <a:rPr b="1" lang="ru-RU" sz="2700" spc="-1" strike="noStrike">
                <a:solidFill>
                  <a:srgbClr val="000000"/>
                </a:solidFill>
                <a:latin typeface="Century Schoolbook"/>
              </a:rPr>
              <a:t>проекта </a:t>
            </a:r>
            <a:br>
              <a:rPr sz="2700"/>
            </a:br>
            <a:r>
              <a:rPr b="1" lang="ru-RU" sz="2700" spc="-1" strike="noStrike">
                <a:solidFill>
                  <a:srgbClr val="000000"/>
                </a:solidFill>
                <a:latin typeface="Century Schoolbook"/>
              </a:rPr>
              <a:t>обусловлена:</a:t>
            </a:r>
            <a:br>
              <a:rPr sz="24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0" y="1571400"/>
            <a:ext cx="9144000" cy="54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едостаточной двигательной активностью учащихся начальной школы, что сказывается на состоянии здоровья школьников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ереключением с малоподвижной деятельности на активные движения, что повышают гигиеническую ценность перемен и увеличивают эффективность учебных занятий и работоспособность детей на уроках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величением показателей распространенности детского травматизма в школе на  переменах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a3d01"/>
                </a:solidFill>
                <a:latin typeface="Century Schoolbook"/>
              </a:rPr>
              <a:t>ЦЕЛЬ ПРОЕКТА: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овершенствование системы физического воспитания и формирование навыков здорового образа жизни подрастающего поколе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a3d01"/>
                </a:solidFill>
                <a:latin typeface="Century Schoolbook"/>
              </a:rPr>
              <a:t>ЗАДАЧИ ПРОЕКТА: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6840" y="1600200"/>
            <a:ext cx="8115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увеличение уровня ежедневной двигательной активности, профилактика гиподинамии, снижение, исключение травматизма на переменах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привитие обучающимся младших классов навыков здорового образа жизни, формирование потребности в систематических физических упражнениях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создание условий для приобретения старшеклассниками позитивного, социального опыта через участие в проекте  «Школьные аниматоры»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формирование и развитие личностных и социальных компетентностей у старшеклассников 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-360" y="14256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br>
              <a:rPr sz="2700"/>
            </a:br>
            <a:r>
              <a:rPr b="1" lang="ru-RU" sz="2700" spc="-1" strike="noStrike">
                <a:solidFill>
                  <a:srgbClr val="9a3d01"/>
                </a:solidFill>
                <a:latin typeface="Century Schoolbook"/>
              </a:rPr>
              <a:t>МЕХАНИЗМ РЕАЛИЗАЦИИ ПРОЕКТА: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-360" y="1052280"/>
            <a:ext cx="889308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Обучающиеся 9-х классов (далее «Аниматоры») ежедневно на большой перемене (20 минут) проводят подвижные игры с учащимися начальной школы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Предварительно с аниматорами  были проведены обучающие занятия, семинары  по отбору игр с учетом возрастных особенностей  и  приобретению навыков проведения спортивных игр  под руководством заместителя  директора по УВР, учителей физкультуры и медицинского работника школы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За каждым классом закреплено по три аниматора (в случае болезни одного или отсутствия по уважительной причине его может заменить второй, третий или же они втроём проводят различные подвижные игры)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Игры подбираются  в соответствии с возрастными, психологическими  и физическими особенностями обучающихся каждого класса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68360" y="1285920"/>
            <a:ext cx="8229600" cy="52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Аниматоры должны проявлять активное участие в игре,  приходить с хорошим настроением – это  вносит в игру оживление, всеобщий смех, эмоциональность;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В случае, если ребенок отказывается играть, то он может выступать в роли «активного наблюдателя»,  ребенок должен сам захотеть вступить в игру;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Аниматоры   должны в доступной форме дать инструкцию детям, желательно  в игровой, увлекательной  форме;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При объяснении правил игры обязательно провести инструктаж по ТБ и поведению обучающихся во время игр. 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Игры проводятся  после 2 и 3 уроков, т.к. необходима двигательная активность и  прекращаются за 5 минуты до окончания перемены, чтобы дать возможность учащимся  своевременно подготовиться к урокам;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Игры проводят по принципу «от простого к сложному»,  сначала проводятся несложные, доступные по содержанию, не связанные с большим напряжением, сюжетного характера, с элементарными правилами и простой структурой, позволяющие принять участие каждому желающему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7" name="Прямоугольник 3"/>
          <p:cNvSpPr/>
          <p:nvPr/>
        </p:nvSpPr>
        <p:spPr>
          <a:xfrm>
            <a:off x="1000080" y="571680"/>
            <a:ext cx="735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a3d01"/>
                </a:solidFill>
                <a:latin typeface="Times New Roman"/>
                <a:ea typeface="Times New Roman"/>
              </a:rPr>
              <a:t>Аниматоры руководствуются следующими принципа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a3d01"/>
                </a:solidFill>
                <a:latin typeface="Century Schoolbook"/>
              </a:rPr>
              <a:t>КРАТКОЕ ОПИСАНИЕ ПРОЕКТА: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250560" y="907560"/>
            <a:ext cx="849780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движные спортивные игры проводятся  старшеклассниками - аниматорами на переменах, после 2 и 3 уроков,  под  присмотром учителей физкультуры и классных руководителей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0" name="Picture 4" descr="DSC04625"/>
          <p:cNvPicPr/>
          <p:nvPr/>
        </p:nvPicPr>
        <p:blipFill>
          <a:blip r:embed="rId1"/>
          <a:stretch/>
        </p:blipFill>
        <p:spPr>
          <a:xfrm>
            <a:off x="-181080" y="3571920"/>
            <a:ext cx="4572000" cy="328608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5" descr="DSC04629"/>
          <p:cNvPicPr/>
          <p:nvPr/>
        </p:nvPicPr>
        <p:blipFill>
          <a:blip r:embed="rId2"/>
          <a:stretch/>
        </p:blipFill>
        <p:spPr>
          <a:xfrm>
            <a:off x="4427640" y="3571920"/>
            <a:ext cx="4572000" cy="328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a3d01"/>
                </a:solidFill>
                <a:latin typeface="Century Schoolbook"/>
              </a:rPr>
              <a:t>РЕАЛИЗАЦИЯ ПРОЕКТА 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571320" y="1142640"/>
            <a:ext cx="746748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a3d01"/>
                </a:solidFill>
                <a:latin typeface="Century Schoolbook"/>
              </a:rPr>
              <a:t>Начало реализации проекта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 сентября 2011 года   - по настоящее врем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a3d01"/>
                </a:solidFill>
                <a:latin typeface="Century Schoolbook"/>
              </a:rPr>
              <a:t>Место проведения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БОУ «СОШ № 29», рекреация 2 этаж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a3d01"/>
                </a:solidFill>
                <a:latin typeface="Century Schoolbook"/>
              </a:rPr>
              <a:t>Время проведения: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1.15- 11.30 – после 2 урок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2.20- 12.35 – после 3 урок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7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9a3d01"/>
                </a:solidFill>
                <a:latin typeface="Century Schoolbook"/>
              </a:rPr>
              <a:t>РЕЗУЛЬТАТИВНОСТЬ И </a:t>
            </a:r>
            <a:br>
              <a:rPr sz="2900"/>
            </a:br>
            <a:r>
              <a:rPr b="1" lang="ru-RU" sz="2900" spc="-1" strike="noStrike">
                <a:solidFill>
                  <a:srgbClr val="9a3d01"/>
                </a:solidFill>
                <a:latin typeface="Century Schoolbook"/>
              </a:rPr>
              <a:t>ЭФФЕКТИВНОСТЬ  ПРОЕКТА</a:t>
            </a:r>
            <a:br>
              <a:rPr sz="2500"/>
            </a:br>
            <a:br>
              <a:rPr sz="2500"/>
            </a:br>
            <a:r>
              <a:rPr b="1" lang="ru-RU" sz="2500" spc="-1" strike="noStrike">
                <a:solidFill>
                  <a:srgbClr val="9a3d01"/>
                </a:solidFill>
                <a:latin typeface="Century Schoolbook"/>
              </a:rPr>
              <a:t>П</a:t>
            </a:r>
            <a:r>
              <a:rPr b="1" lang="ru-RU" sz="2700" spc="-1" strike="noStrike">
                <a:solidFill>
                  <a:srgbClr val="9a3d01"/>
                </a:solidFill>
                <a:latin typeface="Century Schoolbook"/>
              </a:rPr>
              <a:t>ОКАЗАТЕЛИ ТРАВМАТИЗМА 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5" name="Содержимое 3" descr=""/>
          <p:cNvPicPr/>
          <p:nvPr/>
        </p:nvPicPr>
        <p:blipFill>
          <a:blip r:embed="rId1"/>
          <a:stretch/>
        </p:blipFill>
        <p:spPr>
          <a:xfrm>
            <a:off x="457200" y="2143080"/>
            <a:ext cx="4757760" cy="4330800"/>
          </a:xfrm>
          <a:prstGeom prst="rect">
            <a:avLst/>
          </a:prstGeom>
          <a:ln w="0">
            <a:noFill/>
          </a:ln>
        </p:spPr>
      </p:pic>
      <p:sp>
        <p:nvSpPr>
          <p:cNvPr id="396" name="Прямоугольник 4"/>
          <p:cNvSpPr/>
          <p:nvPr/>
        </p:nvSpPr>
        <p:spPr>
          <a:xfrm>
            <a:off x="5214960" y="2214720"/>
            <a:ext cx="350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668c4"/>
                </a:solidFill>
                <a:latin typeface="Arial"/>
              </a:rPr>
              <a:t>Случаи травматизма на переменах снизились почти  в 2 раза  по сравнению с 2010-2011 уч.г.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0T05:01:01Z</dcterms:created>
  <dc:creator>Администратор</dc:creator>
  <dc:description/>
  <dc:language>en-US</dc:language>
  <cp:lastModifiedBy>Гость</cp:lastModifiedBy>
  <dcterms:modified xsi:type="dcterms:W3CDTF">2017-05-31T14:31:16Z</dcterms:modified>
  <cp:revision>49</cp:revision>
  <dc:subject/>
  <dc:title>Проект « Школьные аниматоры» </dc:title>
</cp:coreProperties>
</file>