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167-438A-4E93-9BE7-27EF7C8C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BCB-2835-4478-96EB-86F3EED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F24-8965-42C7-94AB-F4C41669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9D8-B8B8-4051-96A1-286290C1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4C3-3757-405B-8E95-86E8A060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4D40-249A-4013-8EB4-BEA9059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FAFB-520E-4105-8DB2-95A77A0E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6B4E-5D98-4A41-840C-89B629A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DF0-2F02-4B88-81BF-51A1665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055D-6C5A-41F3-B512-BADC5F60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F8E-AF97-4924-B695-EA01099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F8F-CF44-48EA-B64E-0CC4435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D7B7-C3CF-4F30-B026-5B8B653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25A-3B64-4DC2-9330-B9A7955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4658-6625-4FA7-BF99-0658FA3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FCF-849B-4D69-AB71-F14DE0C6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5DA-60B2-41B7-BD37-67DC5AAB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DC297-BC25-442C-82BF-B125C84C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3DA49-97E1-462C-A396-1E70D64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E5A31-9011-4810-B8AC-FD70B589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AA4AD-5031-4A96-95D3-860BDFEE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62C44-202A-4F57-AAD9-9643BF8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C08-7A1E-47B2-A951-2E9DB37D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148DD-7AAD-4A04-9BCC-48A5D605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0CE89-7798-4274-A041-C668E81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3A3EE-371B-4CC1-A159-24BFA06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45F13-EAC3-4C80-B3A5-74F625BB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62A4F-8C7B-40A0-B2B9-E3BF855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1C6CB-4FE8-40D0-910A-27DC6FD0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EC3FC-02F6-4DD6-88F3-23FA8855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700A-9D81-49CF-8AB2-416A81F6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1432-7941-4FF5-9DB5-11373F9B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E768-F59C-489B-B020-EBC88AB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59E-DD84-4E6F-846B-352222C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6148-04B5-44F0-AB3A-4C88ED52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C491-53E0-4C9F-85B6-32D57B96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F0DA-5E41-4578-AD5A-E72307F6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7BFEC-3C34-4D24-A0EF-74F16D2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1430-EAAA-4738-A56E-8ED9E94F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108E-212F-486C-8DCA-E3F9D95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7114-6DF5-4DA1-A2CB-D427F91B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CECB-F464-407E-B647-A2668168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C211-80AF-4AD8-B8E1-8CA22754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A708D-CF60-4D74-8FB4-58C49FB4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841-0B0B-4E68-A8D3-0096565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4C86D-0161-4E16-8FEB-4826BD4E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1599F-A268-453A-B7F8-F428138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DCA62-FB75-4D36-9611-A5A30514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DFE48-46C7-485E-B4F4-CA00706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98BBF-9AF8-4A0A-9EB4-2BBB5F2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7D4AD-4C5A-43B8-BB37-CBC8707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61956-E433-4D1B-91E9-C31918B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779BA-FF34-4C65-A9A1-E4A3D88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A0D05-A193-4E43-A5C6-67C79DEF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242EC-DC12-497B-AE44-3F74B863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1BC-094C-480F-8124-4081971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DC242-3B8A-4F1B-A7BF-822E0FB5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1B679-E814-46A9-BA72-5F4C5B19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5E1BB-42A3-4FF7-B6F1-F5D7C598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479FB-71C4-4B0F-BD5E-8CAF6F6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D5B48-83EF-4C5E-A397-20D16FFB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3760D-6FDE-41F2-A507-3BA504D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7A298-57A2-4A02-BB19-8CD9973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C2E28-DA10-48EC-918B-D2778C11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A2810-BF5E-47CD-BC10-D267D2B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25C87-C318-4089-8F84-8436712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23C-9D23-40AA-AF22-A70E068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0248F-766A-4863-BBF7-E5BFD837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5A67C-E090-412C-A3F0-B2316A14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CCE27-AE3B-4DBB-9612-83FE2060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00F6F-407F-4465-A3BA-E1040F55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B03F9-EB6E-41C3-9665-62AB14D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EE63F-830D-4BBD-A454-FA0AD33E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949E6-C295-4F35-8099-C171484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E66C5-0121-4803-9E7A-98BCDA59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811C0-B430-4114-89CD-A2F33047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27AF3-E3F1-4D15-97F0-8A16A7C7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BAB-4943-42E1-9801-725A2175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4BE62-8835-4BCD-BA2B-9A6B65C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5DD86-2CA0-4FD8-8E07-A9FB199D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33E44-EA2C-4868-AA5E-399B30BE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02760-4A04-4096-9B49-2EB6F491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A5592-A66B-46C2-A1A6-EA0F138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C00-5A1D-4044-85BE-418237A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4C4-BEAE-4AA0-98A8-D24DAE3F2B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9EB9-8C88-45E0-94E9-A92A06E44B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7DD-8B90-4882-B386-550D4F6DC7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B1E6-A161-489A-ACD3-8045370950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B9D-654C-4B74-AC2A-63EB319764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7C7-0105-449C-9552-221D3AFEFD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DD66-04D6-4DDB-81B4-8A6E542245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РОЕК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« ШКОЛЬНЫЕ  АНИМАТОРЫ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3" descr="DSC04646"/>
          <p:cNvPicPr/>
          <p:nvPr/>
        </p:nvPicPr>
        <p:blipFill>
          <a:blip r:embed="rId1"/>
          <a:stretch/>
        </p:blipFill>
        <p:spPr>
          <a:xfrm>
            <a:off x="2214720" y="1144440"/>
            <a:ext cx="5163840" cy="2901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0" y="4076640"/>
            <a:ext cx="8748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ПРОЕКТА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ин  Н.Н.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БОУ «СОШ №»29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 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етьякова Анаста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учающаяся 9Б кл., 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БОУ «СОШ №»29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71760" y="785520"/>
            <a:ext cx="27147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АСТОТА ПРОПУСКОВ   УРОКОВ  СНИЗИЛАСЬ НА 11 %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БОТОСПОСОБНОСТЬ НА УРОКАХ  ПОВЫСИЛАСЬ  27%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62863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аршеклассниками приобретен позитивный, социальный опыт благодаря участию в проекте  «Школьные аниматоры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ны личностные и социальные компетентности у старшекласс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4" descr="DSC0464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4" descr="DSC0464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63272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АКТУАЛЬНОСТЬ  </a:t>
            </a: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проект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обусловлена:</a:t>
            </a:r>
            <a:br>
              <a:rPr sz="24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571400"/>
            <a:ext cx="91440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достаточной двигательной активностью учащихся начальной школы, что сказывается на состоянии здоровья школьнико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ключением с малоподвижной деятельности на активные движения, что повышают гигиеническую ценность перемен и увеличивают эффективность учебных занятий и работоспособность детей на урок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величением показателей распространенности детского травматизма в школе на  перемена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ЦЕЛЬ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ршенствование системы физического воспитания и формирование навыков здорового образа жизни подрастающего поко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ЗАДАЧИ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величение уровня ежедневной двигательной активности, профилактика гиподинамии, снижение, исключение травматизма на перемена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витие обучающимся младших классов навыков здорового образа жизни, формирование потребности в систематических физических упражнения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здание условий для приобретения старшеклассниками позитивного, социального опыта через участие в проекте  «Школьные аниматоры»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ормирование и развитие личностных и социальных компетентностей у старшеклассников 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МЕХАНИЗМ РЕАЛИЗАЦИИ ПРОЕКТА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бучающиеся 9-х классов (далее «Аниматоры») ежедневно на большой перемене (20 минут) проводят подвижные игры с учащимися начальной школ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варительно с аниматорами  были проведены обучающие занятия, семинары  по отбору игр с учетом возрастных особенностей  и  приобретению навыков проведения спортивных игр  под руководством заместителя  директора по УВР, учителей физкультуры и медицинского работника школ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 каждым классом закреплено по три аниматора (в случае болезни одного или отсутствия по уважительной причине его может заменить второй, третий или же они втроём проводят различные подвижные игры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гры подбираются  в соответствии с возрастными, психологическими  и физическими особенностями обучающихся каждого класс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1285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иматоры должны проявлять активное участие в игре,  приходить с хорошим настроением – это  вносит в игру оживление, всеобщий смех, эмоциональность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 случае, если ребенок отказывается играть, то он может выступать в роли «активного наблюдателя»,  ребенок должен сам захотеть вступить в игру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ниматоры   должны в доступной форме дать инструкцию детям, желательно  в игровой, увлекательной  форме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и объяснении правил игры обязательно провести инструктаж по ТБ и поведению обучающихся во время игр.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гры проводятся  после 2 и 3 уроков, т.к. необходима двигательная активность и  прекращаются за 5 минуты до окончания перемены, чтобы дать возможность учащимся  своевременно подготовиться к урокам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гры проводят по принципу «от простого к сложному»,  сначала проводятся несложные, доступные по содержанию, не связанные с большим напряжением, сюжетного характера, с элементарными правилами и простой структурой, позволяющие принять участие каждому желающему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1000080" y="5716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Аниматоры руководствуются следующими принцип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КРАТКОЕ ОПИСАНИЕ ПРОЕКТ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50560" y="907560"/>
            <a:ext cx="8497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вижные спортивные игры проводятся  старшеклассниками - аниматорами на переменах, после 2 и 3 уроков,  под  присмотром учителей физкультуры и классных руководител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SC04625"/>
          <p:cNvPicPr/>
          <p:nvPr/>
        </p:nvPicPr>
        <p:blipFill>
          <a:blip r:embed="rId1"/>
          <a:stretch/>
        </p:blipFill>
        <p:spPr>
          <a:xfrm>
            <a:off x="-181080" y="357192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DSC04629"/>
          <p:cNvPicPr/>
          <p:nvPr/>
        </p:nvPicPr>
        <p:blipFill>
          <a:blip r:embed="rId2"/>
          <a:stretch/>
        </p:blipFill>
        <p:spPr>
          <a:xfrm>
            <a:off x="4427640" y="357192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Century Schoolbook"/>
              </a:rPr>
              <a:t>РЕАЛИЗАЦИЯ ПРОЕКТА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14264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Начало реализации проек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сентября 2011 года   - по настоящее вре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Место прове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БОУ «СОШ № 29», рекреация 2 этаж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3d01"/>
                </a:solidFill>
                <a:latin typeface="Century Schoolbook"/>
              </a:rPr>
              <a:t>Время проведения: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1.15- 11.30 – после 2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2.20- 12.35 – после 3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a3d01"/>
                </a:solidFill>
                <a:latin typeface="Century Schoolbook"/>
              </a:rPr>
              <a:t>РЕЗУЛЬТАТИВНОСТЬ И </a:t>
            </a:r>
            <a:br>
              <a:rPr sz="2900"/>
            </a:br>
            <a:r>
              <a:rPr b="1" lang="ru-RU" sz="2900" spc="-1" strike="noStrike">
                <a:solidFill>
                  <a:srgbClr val="9a3d01"/>
                </a:solidFill>
                <a:latin typeface="Century Schoolbook"/>
              </a:rPr>
              <a:t>ЭФФЕКТИВНОСТЬ  ПРОЕКТА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9a3d01"/>
                </a:solidFill>
                <a:latin typeface="Century Schoolbook"/>
              </a:rPr>
              <a:t>П</a:t>
            </a:r>
            <a:r>
              <a:rPr b="1" lang="ru-RU" sz="2700" spc="-1" strike="noStrike">
                <a:solidFill>
                  <a:srgbClr val="9a3d01"/>
                </a:solidFill>
                <a:latin typeface="Century Schoolbook"/>
              </a:rPr>
              <a:t>ОКАЗАТЕЛИ ТРАВМАТИЗМА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Содержимое 3" descr=""/>
          <p:cNvPicPr/>
          <p:nvPr/>
        </p:nvPicPr>
        <p:blipFill>
          <a:blip r:embed="rId1"/>
          <a:stretch/>
        </p:blipFill>
        <p:spPr>
          <a:xfrm>
            <a:off x="457200" y="2143080"/>
            <a:ext cx="4757760" cy="43308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5214960" y="22147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Arial"/>
              </a:rPr>
              <a:t>Случаи травматизма на переменах снизились почти  в 2 раза  по сравнению с 2010-2011 уч.г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01:01Z</dcterms:created>
  <dc:creator>Администратор</dc:creator>
  <dc:description/>
  <dc:language>en-US</dc:language>
  <cp:lastModifiedBy>Гость</cp:lastModifiedBy>
  <dcterms:modified xsi:type="dcterms:W3CDTF">2017-05-31T14:31:16Z</dcterms:modified>
  <cp:revision>49</cp:revision>
  <dc:subject/>
  <dc:title>Проект « Школьные аниматоры» </dc:title>
</cp:coreProperties>
</file>