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7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6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2BA-5C65-404D-9A25-098E4FD5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109-B38C-4693-AABC-4F07839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575-27E9-44AB-B4F8-580BE6A3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B1E-5747-4115-A1D2-0077E615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1D9-084F-4E66-9B22-B140216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918-F7C2-412B-8333-0DAEA99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182-B033-4388-ABEC-CB55626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B77-A16D-4FD3-92E2-7B32E32D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B0E-B701-4E2F-B359-B40D6498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ECD-A27A-4BD7-9C1A-83A5CB9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522-213F-4647-A06C-6A34365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52A-0DC5-400A-B532-0C2168B6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A54-0713-4A6E-80DD-FF73F75D6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Не забывай выполнять поручения 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08644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емье, где каждый помогает друг другу, все будут счастливыми, весёлыми и добр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39640" y="1628640"/>
            <a:ext cx="7850160" cy="3421080"/>
            <a:chOff x="539640" y="1628640"/>
            <a:chExt cx="7850160" cy="3421080"/>
          </a:xfrm>
        </p:grpSpPr>
        <p:pic>
          <p:nvPicPr>
            <p:cNvPr id="86" name="Picture 4" descr="33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3456000" cy="34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36"/>
            <p:cNvPicPr/>
            <p:nvPr/>
          </p:nvPicPr>
          <p:blipFill>
            <a:blip r:embed="rId3"/>
            <a:stretch/>
          </p:blipFill>
          <p:spPr>
            <a:xfrm>
              <a:off x="4788000" y="1628640"/>
              <a:ext cx="3601800" cy="34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Как взрослые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заботятся о детя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539640" y="1557360"/>
            <a:ext cx="8066160" cy="4940280"/>
            <a:chOff x="539640" y="1557360"/>
            <a:chExt cx="8066160" cy="4940280"/>
          </a:xfrm>
        </p:grpSpPr>
        <p:pic>
          <p:nvPicPr>
            <p:cNvPr id="90" name="Picture 4" descr="5"/>
            <p:cNvPicPr/>
            <p:nvPr/>
          </p:nvPicPr>
          <p:blipFill>
            <a:blip r:embed="rId2"/>
            <a:stretch/>
          </p:blipFill>
          <p:spPr>
            <a:xfrm>
              <a:off x="684360" y="4005360"/>
              <a:ext cx="2665440" cy="22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35"/>
            <p:cNvPicPr/>
            <p:nvPr/>
          </p:nvPicPr>
          <p:blipFill>
            <a:blip r:embed="rId3"/>
            <a:stretch/>
          </p:blipFill>
          <p:spPr>
            <a:xfrm>
              <a:off x="3419640" y="3645000"/>
              <a:ext cx="2109600" cy="28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30"/>
            <p:cNvPicPr/>
            <p:nvPr/>
          </p:nvPicPr>
          <p:blipFill>
            <a:blip r:embed="rId4"/>
            <a:stretch/>
          </p:blipFill>
          <p:spPr>
            <a:xfrm>
              <a:off x="5580000" y="4005360"/>
              <a:ext cx="30258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39"/>
            <p:cNvPicPr/>
            <p:nvPr/>
          </p:nvPicPr>
          <p:blipFill>
            <a:blip r:embed="rId5"/>
            <a:stretch/>
          </p:blipFill>
          <p:spPr>
            <a:xfrm>
              <a:off x="539640" y="1557360"/>
              <a:ext cx="3527640" cy="21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39"/>
            <p:cNvPicPr/>
            <p:nvPr/>
          </p:nvPicPr>
          <p:blipFill>
            <a:blip r:embed="rId6"/>
            <a:stretch/>
          </p:blipFill>
          <p:spPr>
            <a:xfrm>
              <a:off x="4859280" y="1557360"/>
              <a:ext cx="3456000" cy="21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Свободное врем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кажите, как ваша семья проводит свобод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395280" y="1415880"/>
            <a:ext cx="8389800" cy="3741840"/>
            <a:chOff x="395280" y="1415880"/>
            <a:chExt cx="8389800" cy="3741840"/>
          </a:xfrm>
        </p:grpSpPr>
        <p:pic>
          <p:nvPicPr>
            <p:cNvPr id="98" name="Picture 5" descr="17"/>
            <p:cNvPicPr/>
            <p:nvPr/>
          </p:nvPicPr>
          <p:blipFill>
            <a:blip r:embed="rId2"/>
            <a:stretch/>
          </p:blipFill>
          <p:spPr>
            <a:xfrm>
              <a:off x="395280" y="2928960"/>
              <a:ext cx="288144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24"/>
            <p:cNvPicPr/>
            <p:nvPr/>
          </p:nvPicPr>
          <p:blipFill>
            <a:blip r:embed="rId3"/>
            <a:stretch/>
          </p:blipFill>
          <p:spPr>
            <a:xfrm>
              <a:off x="3132000" y="1415880"/>
              <a:ext cx="2952720" cy="22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41"/>
            <p:cNvPicPr/>
            <p:nvPr/>
          </p:nvPicPr>
          <p:blipFill>
            <a:blip r:embed="rId4"/>
            <a:stretch/>
          </p:blipFill>
          <p:spPr>
            <a:xfrm>
              <a:off x="6084720" y="3000240"/>
              <a:ext cx="2700360" cy="213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560052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какие ошибки допускают члены этой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9"/>
          <p:cNvPicPr/>
          <p:nvPr/>
        </p:nvPicPr>
        <p:blipFill>
          <a:blip r:embed="rId2"/>
          <a:stretch/>
        </p:blipFill>
        <p:spPr>
          <a:xfrm>
            <a:off x="2195640" y="1268280"/>
            <a:ext cx="4680000" cy="4372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45"/>
          <p:cNvPicPr/>
          <p:nvPr/>
        </p:nvPicPr>
        <p:blipFill>
          <a:blip r:embed="rId2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45"/>
          <p:cNvPicPr/>
          <p:nvPr/>
        </p:nvPicPr>
        <p:blipFill>
          <a:blip r:embed="rId3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5"/>
          <p:cNvPicPr/>
          <p:nvPr/>
        </p:nvPicPr>
        <p:blipFill>
          <a:blip r:embed="rId2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45"/>
          <p:cNvPicPr/>
          <p:nvPr/>
        </p:nvPicPr>
        <p:blipFill>
          <a:blip r:embed="rId3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5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азгадай реб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856d86ab"/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2904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339360" y="476280"/>
            <a:ext cx="20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семья0001"/>
          <p:cNvPicPr/>
          <p:nvPr/>
        </p:nvPicPr>
        <p:blipFill>
          <a:blip r:embed="rId3"/>
          <a:stretch/>
        </p:blipFill>
        <p:spPr>
          <a:xfrm>
            <a:off x="1332000" y="126828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50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руппа родственников, живущих вместе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702960" y="378936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5"/>
          <p:cNvGrpSpPr/>
          <p:nvPr/>
        </p:nvGrpSpPr>
        <p:grpSpPr>
          <a:xfrm>
            <a:off x="971640" y="549360"/>
            <a:ext cx="4417920" cy="3451320"/>
            <a:chOff x="971640" y="549360"/>
            <a:chExt cx="4417920" cy="3451320"/>
          </a:xfrm>
        </p:grpSpPr>
        <p:pic>
          <p:nvPicPr>
            <p:cNvPr id="53" name="Picture 4" descr="7"/>
            <p:cNvPicPr/>
            <p:nvPr/>
          </p:nvPicPr>
          <p:blipFill>
            <a:blip r:embed="rId2"/>
            <a:stretch/>
          </p:blipFill>
          <p:spPr>
            <a:xfrm>
              <a:off x="3492360" y="2349360"/>
              <a:ext cx="1897200" cy="16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6"/>
            <p:cNvSpPr/>
            <p:nvPr/>
          </p:nvSpPr>
          <p:spPr>
            <a:xfrm>
              <a:off x="971640" y="549360"/>
              <a:ext cx="2736720" cy="1008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месте живу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 одной кварти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1"/>
          <p:cNvSpPr/>
          <p:nvPr/>
        </p:nvSpPr>
        <p:spPr>
          <a:xfrm>
            <a:off x="5364000" y="549360"/>
            <a:ext cx="2737080" cy="1008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бят и уваж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5651640" y="2852640"/>
            <a:ext cx="3098520" cy="129564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месте заним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аш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й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395280" y="2852640"/>
            <a:ext cx="2881440" cy="12970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месте отдых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про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обод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71640" y="4869000"/>
            <a:ext cx="3384720" cy="1655640"/>
          </a:xfrm>
          <a:prstGeom prst="roundRect">
            <a:avLst>
              <a:gd name="adj" fmla="val 16667"/>
            </a:avLst>
          </a:prstGeom>
          <a:solidFill>
            <a:srgbClr val="89b0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преде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ньги на пок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ашнего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V="1">
            <a:off x="5219640" y="1557360"/>
            <a:ext cx="79236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 flipV="1">
            <a:off x="3058920" y="1557360"/>
            <a:ext cx="865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4500720" y="436572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 flipH="1">
            <a:off x="3276720" y="3429000"/>
            <a:ext cx="5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5148360" y="342900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              </a:t>
            </a: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культура общения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ужна ли она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cnm"/>
          <p:cNvPicPr/>
          <p:nvPr/>
        </p:nvPicPr>
        <p:blipFill>
          <a:blip r:embed="rId2"/>
          <a:stretch/>
        </p:blipFill>
        <p:spPr>
          <a:xfrm>
            <a:off x="2195640" y="1484280"/>
            <a:ext cx="4752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Культура общ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4581360"/>
            <a:ext cx="835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Вежливая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вои слова могут радовать, но могут и ранить. Слово не воробей, вылетит не пойма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Копия семья0004"/>
          <p:cNvPicPr/>
          <p:nvPr/>
        </p:nvPicPr>
        <p:blipFill>
          <a:blip r:embed="rId2"/>
          <a:stretch/>
        </p:blipFill>
        <p:spPr>
          <a:xfrm>
            <a:off x="2124000" y="1268280"/>
            <a:ext cx="4608720" cy="327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4"/>
          <p:cNvPicPr/>
          <p:nvPr/>
        </p:nvPicPr>
        <p:blipFill>
          <a:blip r:embed="rId3"/>
          <a:stretch/>
        </p:blipFill>
        <p:spPr>
          <a:xfrm>
            <a:off x="1979640" y="1197000"/>
            <a:ext cx="4897440" cy="4576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2193120" y="5661000"/>
            <a:ext cx="49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ультурн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20"/>
          <p:cNvPicPr/>
          <p:nvPr/>
        </p:nvPicPr>
        <p:blipFill>
          <a:blip r:embed="rId4"/>
          <a:stretch/>
        </p:blipFill>
        <p:spPr>
          <a:xfrm>
            <a:off x="1692360" y="1341360"/>
            <a:ext cx="5616360" cy="3889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3" name="Text Box 11"/>
          <p:cNvSpPr/>
          <p:nvPr/>
        </p:nvSpPr>
        <p:spPr>
          <a:xfrm>
            <a:off x="2189520" y="5475240"/>
            <a:ext cx="487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Доброе, уважи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тношение к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Взаимопомощь в семь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017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ая семья интересна по-сво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аждой семье есть чему по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семья0007"/>
          <p:cNvPicPr/>
          <p:nvPr/>
        </p:nvPicPr>
        <p:blipFill>
          <a:blip r:embed="rId2"/>
          <a:stretch/>
        </p:blipFill>
        <p:spPr>
          <a:xfrm>
            <a:off x="611280" y="1557360"/>
            <a:ext cx="7991280" cy="34416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1308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ери, чему ты хотел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аждой семьи, а что бы сд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-сво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семья0010"/>
          <p:cNvPicPr/>
          <p:nvPr/>
        </p:nvPicPr>
        <p:blipFill>
          <a:blip r:embed="rId2"/>
          <a:stretch/>
        </p:blipFill>
        <p:spPr>
          <a:xfrm>
            <a:off x="1476360" y="333360"/>
            <a:ext cx="6191280" cy="47689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ем часто приходиться быть в семье маме, папе, бабушке, дедушке? Как ты им помог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емья0009"/>
          <p:cNvPicPr/>
          <p:nvPr/>
        </p:nvPicPr>
        <p:blipFill>
          <a:blip r:embed="rId2"/>
          <a:stretch/>
        </p:blipFill>
        <p:spPr>
          <a:xfrm>
            <a:off x="324000" y="549360"/>
            <a:ext cx="8497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1:43:26Z</dcterms:created>
  <dc:creator>мама</dc:creator>
  <dc:description/>
  <dc:language>en-US</dc:language>
  <cp:lastModifiedBy>Наташа</cp:lastModifiedBy>
  <dcterms:modified xsi:type="dcterms:W3CDTF">2017-05-30T14:23:45Z</dcterms:modified>
  <cp:revision>8</cp:revision>
  <dc:subject/>
  <dc:title>Слайд 1</dc:title>
</cp:coreProperties>
</file>