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CC8-0732-45B8-A157-FC11E7B6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2CF-1547-4C13-A491-E85F3569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BD72D-15F6-4C81-8FA9-C25C53BB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65130-119B-4FA8-91CF-602EC3E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2F327-27AA-4A9D-AE3B-2498F2D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BEB71-D3FC-41AC-867A-70AF7D6A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60B55-2AD0-472F-9482-BC2FC621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3CEAB-4C7E-48E9-BD09-67D4513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02161-25AB-4AB4-892E-34D5E7F9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7E081-33F6-40C4-87F8-63F6F1C9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64531-D7AD-4266-A18F-30B621A4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9A1D1-9BA6-40E8-BF97-35BA497E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265-784B-4624-85C4-EE18D7AC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6583E-5A41-4B72-91B8-CB05EE7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69E30-5158-454F-B33D-D603A16F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658B9-04F4-4A62-B8EC-B32501A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3777D-05F8-48ED-94E0-71C65456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45506-10C0-41FF-9B97-8BA65F5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9C7FF-9704-4732-9877-5BE90BF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A0692-E35D-4FD0-ABDC-57E0309E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75232-2090-4399-9A51-E9E4706B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1ACDC-BF51-4860-9BB3-1B06042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DB348-C903-4F91-BBC8-051380FE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75D-01E7-4099-9955-2936B705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00D3-E2F1-46B3-9091-85AD48FD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F3D4E-D16B-4E1D-AB80-75BFE19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1BA96-B728-4CFA-8071-03E9C6B1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09598-CBA1-430A-9A01-3C37A858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69BE-6291-4C00-ACD7-1C169D8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E2357-6F3A-47F5-AC4F-AA50015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8858A-A8DB-4251-9663-807DE700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DB967-82D7-469C-A4D5-7812675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79F44-E245-46AE-A686-F93A4A8F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8DFED-2764-4658-B4D4-F751DDD3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574F-0C27-4121-B518-45EE4832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C91C5-A90D-4E72-AF13-03174DCD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29BBE-5CEE-4838-96FC-7D3D0AE7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2EC1B-FF6F-48D9-87BB-FF6B9FF7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51F8A-61EF-4E7C-92E6-B88C89A2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7E395-00BA-4D0C-954D-CFFFB8A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219CC-6227-46B3-96AA-D273495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7382C-9099-40DF-8E69-C213F41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84C50-0730-47AF-9D49-BE82710A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69FE9-03F7-41CC-A778-1D275A12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43611-CD1D-4BF5-82D0-3957285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CE4E-E8EC-4216-99AE-6D6BCF89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5A556-EA7B-4A2E-AF73-C14CD117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DBD99-07B2-4139-8C58-367DE28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4B8C2-D821-4C86-979D-F6872268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A8294-EA12-43CA-B708-10376C42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2F966-EA03-4C4F-9D21-A1CA3EAF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EE9B-7A72-4A87-A4CE-DA8F997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A1F-DD67-46C5-8EF1-D2E4D11D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5C3C-1269-4EA9-BA13-3086AC4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1681-DDAB-4E9D-88E2-67DDE17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ACE-EB9F-48F8-83F0-1ABAD498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E6C-7CCA-460B-B2A3-AB83D807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8395-1DF1-40F3-A8BB-0A13113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D272-337C-45C8-BDF8-71C2BE8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D449-7994-41F9-A08E-44BEB4AD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17AE-E9C6-4B9F-88CF-0A739EC8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2C33-3FCC-442A-BA3A-A72E95FC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0EB6-3E4B-468E-884E-EC1B8340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BDAD-1DCD-42B8-AEB0-9C589935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97BF-6DC2-4400-BFB0-AEA08EE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C351-B4FA-48DF-B619-3DD9EFF5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4DA6-DF88-4053-9850-8FA8D807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641-4209-4B72-83D6-EC62BA73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F1C3-5AB0-4CCB-B29E-C4E452BE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153F-7FA9-4016-84FD-B225EBE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AB59-0471-4E3D-9901-EEC6670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0AFF-5060-4274-B1F3-A023FCE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E25D-518A-4118-8EA8-5955D030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A6E2-E1D1-46B8-A954-F4CBBD4C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21E8-E251-4F3A-A0EF-690C5D8A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88953-5455-479B-997B-F65237C7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388CA-ABE8-4D53-B2AF-882E62C8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55F99-2A19-4A98-B796-5BE52530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710-4FB2-4A88-BAC9-723F4697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87176-6994-4095-B4BF-0AE0380E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12D3E-9331-4F3F-B767-AA6093DC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61A9B-0DF0-4EE9-94E1-D96AE3AA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FC11B-394C-4A3C-9B67-E678C60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97BDB-3C0D-4C6F-B836-922B5B8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E8392-5131-42DF-8B80-46A297C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34F75-26A2-4A69-92F7-623C2FE5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A586A-A698-4448-BB9B-E1BE060E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461E1-56DD-47B3-8C60-9C51B788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06FF-7485-41BB-A9BB-149AC3D3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AB9-5DA0-454E-85DE-81CFDBB8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8C7F-D553-4546-8CBF-208D117D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1E45D-3196-4ED5-A627-388A085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75D9-60E5-4842-BEBE-B8E56CC8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85AD-5F2E-4134-B2A9-53774014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49C5D-6409-41CF-957D-E9CEB3A7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5A2A-D80A-47A7-A6AC-FCE7BA2F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B2BE7-6A86-4D02-9B8F-E2763E1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DAE2-8178-4E2A-B68B-2956D2ED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91615-A668-425F-A879-A4EC5595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687B-D3D0-497F-A6EE-1868961B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575-D272-4647-AB60-B37C065D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A12E-9971-4F03-BB27-BF7D8F2B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AA07-57A4-4614-9E09-CDDD080A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9D8B7-E522-4C4B-90DE-D0019FCE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70B92-A3C5-41BA-AA30-A2F0D504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F9757-722B-4C1A-8F70-54481530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9DFE-44AB-4352-99AD-E332F27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B8D7-9F44-4972-A941-6357D9A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F4554-FD13-4529-868C-D4734B8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335E2-1DF3-40D0-9E59-0C43331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C0756-064D-44D2-9758-62935EF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4F0-9950-4502-B433-8280F32E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A72D-F134-4CE0-94CF-6D59955C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7C726-F09A-4EE4-B08A-A109B1B2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64971-1B82-4A56-B28E-132A7614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06DBB-10C4-452F-95BD-66C1AF38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A08B-C084-423D-A199-77968569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EA0F2-E804-4AE3-BBEE-6BE7F83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0D762-27F9-4960-B4E7-5F222684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562C2-A150-4BDC-ACBC-4716782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927B-A1F9-4A17-81C8-D5C0997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26AC1-A3E5-46C0-914A-C9A89C03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1B3-4FE1-4716-9460-96CA59C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4CF85-9E4C-4134-902C-07A879E7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89A9-1073-43D3-AA3F-AD1E155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A588-6F66-4FF0-83BA-14A70563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A29F-ED39-475D-9D99-572045AB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36350-6E8A-4C85-8EB6-0A29A9E9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A253F-23AA-4933-83D4-AC3D738B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9F90C-BB6B-4B4D-A1CC-B3AB800A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1FF9-B2F6-4742-9012-83759C92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78FA8-B2E2-4883-B628-E37FBCFB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FB48C-2CFC-42A9-BD41-18EBF42C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E25-B5E3-4760-AE2C-07B594F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5B83-B3B4-4A22-92EC-05D454F3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406D4-811D-45B7-AC1B-12FDDBB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B738B-4EE1-4C7C-BA4C-C992C6D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ADE07-8201-479E-A615-B8EC662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8CC1B-F377-42BD-82D0-AB9D3425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7A7EF-6D8C-4067-99FD-01DF4719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6ED5D-CCA2-430C-8C99-EE7AAD21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9FF04-1AAC-4961-A3CA-CBF4E5DE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E978C-13AC-423E-89CF-ED036973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B6E11-B564-4C61-939E-2B23F15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CCEB-59CA-454E-AD94-E89EDDB65D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8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85BF-1B06-416B-891F-592E0D05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80CC-CD89-45AA-8E06-478BD6F84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0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ftr" idx="3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B061-985A-498A-AAFB-F211AEEBF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E7DA-764D-44EB-94D1-6D9134A068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BE0-C1F3-476E-A050-E4BED4F72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7D1-1087-4B8C-A330-6A0CB9D2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0B82-4ACA-46BD-BF44-C9068D4B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2322-C2A0-4002-AA7B-EFAF59DC8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BDA8-9FEC-42EE-AE5B-4F8E1B630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F2C2-FD6C-45D5-B561-E2C912462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2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99F-77DE-4F8D-A05F-ADF1DEA9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826920" y="981000"/>
            <a:ext cx="763272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знаки равен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рямоуго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тре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1042920" y="333360"/>
            <a:ext cx="64818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2484360" y="1989000"/>
            <a:ext cx="41752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 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6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6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1332000" y="2060640"/>
            <a:ext cx="7127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Сформулируйте свой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прямоугольны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треуг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помните признаки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116000" y="1484280"/>
            <a:ext cx="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116000" y="544500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164360" y="1484280"/>
            <a:ext cx="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115640" y="1484280"/>
            <a:ext cx="604836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116000" y="1484280"/>
            <a:ext cx="604836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82692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77080" y="3357720"/>
            <a:ext cx="57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11600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80364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804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95256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736560" y="13604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49640" y="2873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361640" y="14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21836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50920" y="333360"/>
            <a:ext cx="79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кажите, что АОВ равнобедрен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755640" y="189000"/>
            <a:ext cx="0" cy="259236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55640" y="2781360"/>
            <a:ext cx="201600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55640" y="189000"/>
            <a:ext cx="2016000" cy="259236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59280" y="189000"/>
            <a:ext cx="73080" cy="251928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932360" y="2708280"/>
            <a:ext cx="194472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859280" y="189000"/>
            <a:ext cx="2017800" cy="251928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39640" y="184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78800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61928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580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65164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95280" y="3213000"/>
            <a:ext cx="85438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катеты од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ямоугольного треугольни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ответственно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тетам другого, то так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и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1403280" y="26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35640" y="26028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403280" y="242100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435640" y="2349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03280" y="260280"/>
            <a:ext cx="295272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435640" y="260280"/>
            <a:ext cx="280836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65964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740720" y="2060640"/>
            <a:ext cx="21600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3850920" y="220500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640" y="2781360"/>
            <a:ext cx="7920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катет и прилежащ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нему острый уг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го прямоуголь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 соответствен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вны катету и прилежаще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нему острому угл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угого, то та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и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611280" y="333360"/>
            <a:ext cx="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11280" y="2781360"/>
            <a:ext cx="244800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219640" y="260280"/>
            <a:ext cx="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219640" y="2708280"/>
            <a:ext cx="259236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280" y="333360"/>
            <a:ext cx="244800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19640" y="260280"/>
            <a:ext cx="259236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618920" y="134136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6443280" y="126828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235640" y="2276640"/>
            <a:ext cx="144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2484000" y="2349360"/>
            <a:ext cx="1429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4784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755640" y="3213000"/>
            <a:ext cx="7777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гипотенуза и острый угол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го прямоугольног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 соответственно рав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потенузе и острому углу другого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 такие треугольники рав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1187280" y="260280"/>
            <a:ext cx="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87280" y="2924280"/>
            <a:ext cx="25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87280" y="260280"/>
            <a:ext cx="259272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92720" y="260280"/>
            <a:ext cx="7128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364000" y="2924280"/>
            <a:ext cx="2737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92720" y="260280"/>
            <a:ext cx="280836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410920" y="1413000"/>
            <a:ext cx="289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6659640" y="1341360"/>
            <a:ext cx="288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050920" y="2708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195640" y="2708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56360" y="2708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300720" y="2708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900000" y="3500280"/>
            <a:ext cx="7704360" cy="316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гипотенуза и кат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го прямоуголь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потенузе и катет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угого прямоугольн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, то та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и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116000" y="1773360"/>
            <a:ext cx="7272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6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05:07Z</dcterms:created>
  <dc:creator>School10-ten</dc:creator>
  <dc:description/>
  <dc:language>en-US</dc:language>
  <cp:lastModifiedBy>School10-ten</cp:lastModifiedBy>
  <dcterms:modified xsi:type="dcterms:W3CDTF">2009-04-10T05:34:52Z</dcterms:modified>
  <cp:revision>4</cp:revision>
  <dc:subject/>
  <dc:title>Слайд 1</dc:title>
</cp:coreProperties>
</file>