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5DC-7289-4847-995C-EE9E29A2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19F-7A34-45CB-886C-FD76395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6C281-94A1-4834-9766-C976B9D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0ADF0-86C3-4CC8-BEB7-C0DA115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DCC24-8CDF-493C-B5D4-14F997E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42D77-1D77-4F12-8EEA-8EF0186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14935-B9D3-41D1-A97C-17A3AB78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F24E9-7C6E-4346-86AC-1CCE577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BB91D-0237-44D0-82F2-1C70311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4D055-0AF8-441E-BBA3-DC0131D9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2E1CE-8695-473D-ADE6-DBD5D019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210DC-635E-4B99-BAF2-4924AFA1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F41-7CC9-47B8-B530-89B0F419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1B015-7684-4224-B6D8-D518B0F5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76D47-1A94-4E2A-9025-91A2C59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D26C4-E2BA-4A30-A0A2-25E5CE3C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856A0-2DBB-497B-9F56-726AC1E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44A91-2063-4569-9C27-C3E2550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C1A3-F40A-4896-9955-64E879C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5E16-A3EB-4103-BBEB-E8DD709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CDA39-DBF9-45F6-AE9A-B109244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F0D73-2A29-4DB3-A2B7-3E50842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44491-5BD4-4F25-9A06-B258179C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6D7-E3A5-4A15-B0E8-A6908FE2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8D1DA-CDED-4725-AE6E-CC7F9955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36FAB-1E8C-46E7-A5D4-9FEA23AD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8667-12EA-430D-B01C-DC9A8EAF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0241A-47D0-41EB-A441-DD54D16E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4576-926B-4B5C-91C4-6F96D8E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643C-8D8E-48EE-BFDD-8616C35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A80D-A1E4-46CE-9A65-DFC7A1D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CDE6-0443-4AC3-A404-792FCBF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B3698-DC6F-459D-B552-53419B3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17F64-CCAE-4470-A554-738B5AA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29B-E5DC-4885-AE81-F3765D84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90FE8-4ED7-41F3-876C-CD08658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0B5EC-504E-4AB9-9249-E1646A61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ADE9-CD61-493B-9FFE-F8C6422D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7BE4A-9994-4064-8BDA-4F6ACBE7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D79E4-EBA9-427E-99BA-CD29A14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BAC11-790C-4437-B5C7-82B5A96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3B833-536B-4E5D-90E4-7B8F2987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BDF06-4DB5-4EEB-85C4-4AC8362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9A897-6A27-4503-9111-8F71180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1EABA-D501-486C-B90C-30E0B17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3F7-C616-44D4-9687-C63D06B2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B7404-166D-4974-8EDB-A54CB6D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80553-704C-4DE2-B96D-B07BE86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E73FB-32E3-4A34-8219-9F50F29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7333F-3086-47DE-8C09-E98C70AA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C1DA4-11F3-464A-BBEF-E251B786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2D0F-E865-4F11-A23B-245B1F3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6310-2E7B-42BE-851F-D180A401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20D-C910-44BB-B675-CF253E7E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66AE-1BE7-4656-992B-279FB3C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504-3DF7-4398-B6B6-EC0553B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9DA-62A9-4765-9D6C-5513C45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1C3-74D1-4D71-BEEB-447A9D2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5F1F-4F84-483A-A7A9-FE0D941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30C0-063B-47DC-AFFA-F1C80AF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A21-6949-4F52-8888-E58EC3E5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EE6A-AB73-4CC6-8466-170AF703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08D1-30ED-47AB-954B-DA2B2EF3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E564-567F-4677-9AD2-36FC38A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996D-951A-4CA6-85E4-7237886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DEE6-5F8E-4FEE-8275-CEDEBDE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6E59-DDAC-4470-98C9-3A11970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28A-D7BD-4D19-8B2A-50D2ECA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602C-EA86-48E7-AB73-74718F6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376B-EDC4-4A3E-848A-3BD9DB5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BCD1-3E5E-410D-B552-CCC32FD2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13DE-C5EC-452F-B11A-D0B7F9B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B2A4-C279-448B-A528-D10C48E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E3E6-BE48-417F-A5EF-749FE33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A030-9C53-41B9-AD5C-79EFCFC9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EFBBD-A612-494E-9510-393F8CB1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85760-4B5F-401E-9732-F01D5D5F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306FC-D851-48BE-B8CE-96AF966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AA4-0A72-4279-8094-C16A85A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26418-6951-4399-9035-0BC9BE57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5B28C-41F3-41EF-8D90-E440BB58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07548-D55B-4847-8196-03E9DB84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03F8A-2239-416F-ABF2-1FE6463A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E5D12-F801-4BE6-A60C-63094EF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75170-24A3-449E-AE24-808CC4A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E03C1-6DDD-46D9-8DE2-B551041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4EBA3-342B-471F-A1CC-BBEEB2C8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ED54D-C7B4-447F-9176-DD63B84B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1C91-E251-4645-954B-B592A0DB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EBE-C05A-4F49-A08C-99B465B6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B07D-8407-4DD5-9905-735FFBD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BD08-569D-4A45-8FEE-5BC44B5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CBFB-1086-4374-8963-5ABC7434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3B890-279D-4B9D-8FA1-E3A9683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90CA-41A7-4BAE-AE97-452261F7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303D8-E80D-4D3A-A4FA-3C87E21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C1CC-9445-4B66-A5D7-8FA229C9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04C51-7B1B-4177-A200-D28C547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A3C4-35F9-4F3F-83CA-EC094731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460B-9E5F-43DC-ACCB-4C84AD9C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187-33EA-40CD-97D4-2E1FBC27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59386-223A-4C95-AEFC-DBE10231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97CF-123D-428D-B392-562D3B32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8A4A-A929-4791-B0A5-B64DF0B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965E-8316-44FF-97D7-8B90AAAB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2856-B218-461C-A8E4-DB0A12F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5B9A-70F0-4DAA-88AE-0BA6A0C8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24A1-9749-4404-BAD7-9317EDF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5803-1B05-4778-A564-49EA5327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EDE2-77E2-4C69-B865-17C308E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3B59-8430-4EB1-BF7B-BD1779E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15B-8232-4CB1-9897-8F6EB852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A647-D523-446D-B304-2521005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4597-97A6-41AC-962C-09A57D7C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C96C-2F85-4BC6-879A-FB073F88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8945-D16D-4B19-A5BE-685CDDA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55155-B2F5-400F-84A0-37CED177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507B-5146-4AB9-B423-DBB8895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0A30-D1E8-4CA5-81D7-E7F670C6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1A04-2900-495C-AFCC-7B37F17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766F-8B04-40F2-A1FF-1E52DA35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A81C-A0E9-4EED-B6A5-CF2F1E0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592-41D7-45B6-9B5C-C6E220CD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D59C-2C50-4A9B-9109-96C30750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8BED-2B47-4565-9E29-CE03264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BFF8-4177-44BE-99A0-B39C308F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38BD4-E6B7-4B0E-BA1C-5C098F6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3F6A-AF8D-4DC1-A6F9-3F1E594E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CC052-D4E7-415E-8E15-D8479E9B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90C6-51F3-4EEA-B819-ED660391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533B-DEB8-4A3B-850B-C2A5ED3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47FF-D558-4985-BE3B-5A1CD5B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319F5-789B-4DE9-B4D2-E6F1A73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9C2-7533-4E96-9804-19EBFCC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3F11-E4B8-4730-A379-FE5DE2B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54C3-722E-4D4B-9D67-A121A57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96A23-233D-4DD4-8C04-C1F2E26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8760-4BBB-4D54-B081-2A18320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1E89D-3C7C-4BD5-9B8B-58E88571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B90A6-4968-4FA7-B724-8D16074A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7F29-3D52-43E7-84F3-A258B93F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EA8A4-80E6-4379-BA3D-9FB0F57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0A8EA-BC38-4C31-97F8-27BDD75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0866F-C7DB-49D4-8AC8-8C36C910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A9-45DA-4DE6-A321-DB8917AB26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8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EA2-D0F4-4566-B9EB-83DF068A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355-0B41-4022-9C56-C3B0577A5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0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ftr" idx="3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5BA-D02E-4CAF-9F22-F1CAA6125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CA7-9FA1-4643-95B7-B9003E9CE4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80A-768F-4A9B-B49B-235BA8061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C16-BC00-4C9C-80BD-1C74FC13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C77-273B-401E-A690-7D1233BF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8F4-0B4D-4F2D-AFF3-946E7DF93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1F0-429F-4907-A582-C281ABF42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01E-EA5B-46FE-9D0D-0EBEC274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2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8AF-D045-4DF3-B9E5-FB816238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826920" y="981000"/>
            <a:ext cx="7632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знаки равен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рямоуго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1042920" y="333360"/>
            <a:ext cx="64818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484360" y="1989000"/>
            <a:ext cx="41752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 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6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6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1332000" y="2060640"/>
            <a:ext cx="7127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Сформулируйте свой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прямоугольны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треуг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помните 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116000" y="148428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16000" y="544500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164360" y="148428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115640" y="1484280"/>
            <a:ext cx="604836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116000" y="1484280"/>
            <a:ext cx="6048360" cy="39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82692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77080" y="3357720"/>
            <a:ext cx="57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11600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80364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804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5256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736560" y="13604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49640" y="2873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36164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21836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50920" y="333360"/>
            <a:ext cx="79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ажите, что АОВ равнобедрен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755640" y="189000"/>
            <a:ext cx="0" cy="259236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55640" y="2781360"/>
            <a:ext cx="201600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55640" y="189000"/>
            <a:ext cx="2016000" cy="259236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59280" y="189000"/>
            <a:ext cx="73080" cy="251928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32360" y="2708280"/>
            <a:ext cx="194472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859280" y="189000"/>
            <a:ext cx="2017800" cy="251928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39640" y="184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78800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61928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580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65164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95280" y="3213000"/>
            <a:ext cx="85438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катеты од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ямоугольного треугольни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ответственно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тетам другого, то так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403280" y="26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35640" y="26028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403280" y="242100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435640" y="2349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03280" y="260280"/>
            <a:ext cx="295272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435640" y="260280"/>
            <a:ext cx="280836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659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740720" y="2060640"/>
            <a:ext cx="21600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3850920" y="220500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640" y="2781360"/>
            <a:ext cx="7920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катет и прилежащ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нему острый уг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соответствен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ы катету и прилежаще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нему острому угл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угого, то та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611280" y="333360"/>
            <a:ext cx="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1280" y="2781360"/>
            <a:ext cx="244800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219640" y="260280"/>
            <a:ext cx="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219640" y="2708280"/>
            <a:ext cx="2592360" cy="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280" y="333360"/>
            <a:ext cx="244800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19640" y="260280"/>
            <a:ext cx="2592360" cy="2448000"/>
          </a:xfrm>
          <a:prstGeom prst="line">
            <a:avLst/>
          </a:prstGeom>
          <a:ln w="38160">
            <a:solidFill>
              <a:srgbClr val="bf0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618920" y="134136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6443280" y="126828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235640" y="2276640"/>
            <a:ext cx="144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2484000" y="2349360"/>
            <a:ext cx="1429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4784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755640" y="3213000"/>
            <a:ext cx="7777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гипотенуза и острый угол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соответственно рав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потенузе и острому углу другого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 такие треугольники рав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1187280" y="260280"/>
            <a:ext cx="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87280" y="2924280"/>
            <a:ext cx="25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87280" y="260280"/>
            <a:ext cx="259272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92720" y="260280"/>
            <a:ext cx="7128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364000" y="2924280"/>
            <a:ext cx="2737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92720" y="260280"/>
            <a:ext cx="2808360" cy="26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410920" y="1413000"/>
            <a:ext cx="289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6659640" y="1341360"/>
            <a:ext cx="28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19564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5636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30072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900000" y="3500280"/>
            <a:ext cx="7704360" cy="316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гипотенуза и кат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го прямоуголь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потенузе и кате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угого прямоуголь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а, то та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угольники рав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116000" y="1773360"/>
            <a:ext cx="7272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6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05:07Z</dcterms:created>
  <dc:creator>School10-ten</dc:creator>
  <dc:description/>
  <dc:language>en-US</dc:language>
  <cp:lastModifiedBy>School10-ten</cp:lastModifiedBy>
  <dcterms:modified xsi:type="dcterms:W3CDTF">2009-04-10T05:34:52Z</dcterms:modified>
  <cp:revision>4</cp:revision>
  <dc:subject/>
  <dc:title>Слайд 1</dc:title>
</cp:coreProperties>
</file>