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13D-5F50-4DD6-8772-74AC6E09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280-E514-4386-93A3-3E836DA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0F2-0125-443C-9500-75DAE265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AF5-7F53-4199-B35E-B71A1813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327-0FD9-4CBB-A656-1B67839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7FB-809C-49A1-949D-2A606FF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90D-B4A5-401C-9AC9-30DD8817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A9D-FAF8-4205-AA0C-8DF3B8B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EDE-2DEF-4335-AA1D-29A42C6B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BF0-B10E-42A4-85A5-958B119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3CB-CDD9-4BC7-A1AB-4EC0035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833-EB57-41F8-A2F2-1BE065A3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6A6DBE-7D47-4E63-AC70-1760A8EB92E6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5.xm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5.xm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C:/Documents%20and%20Settings/&#1040;&#1083;&#1077;&#1082;&#1089;&#1072;&#1085;&#1076;&#1088;/Local%20Settings/Temp/Rar$DI01.109/diet.ppt" TargetMode="External"/><Relationship Id="rId4" Type="http://schemas.openxmlformats.org/officeDocument/2006/relationships/hyperlink" Target="file:///C:/Documents%20and%20Settings/&#1040;&#1083;&#1077;&#1082;&#1089;&#1072;&#1085;&#1076;&#1088;/Local%20Settings/Temp/Rar$DI01.109/diet.ppt" TargetMode="External"/><Relationship Id="rId5" Type="http://schemas.openxmlformats.org/officeDocument/2006/relationships/hyperlink" Target="https://kamaran.ru/krasnodarskij-kraj/history" TargetMode="External"/><Relationship Id="rId6" Type="http://schemas.openxmlformats.org/officeDocument/2006/relationships/hyperlink" Target="https://kamaran.ru/krasnodarskij-kraj/history" TargetMode="External"/><Relationship Id="rId7" Type="http://schemas.openxmlformats.org/officeDocument/2006/relationships/hyperlink" Target="https://kamaran.ru/krasnodarskij-kraj/history" TargetMode="External"/><Relationship Id="rId8" Type="http://schemas.openxmlformats.org/officeDocument/2006/relationships/hyperlink" Target="https://kamaran.ru/krasnodarskij-kraj/history" TargetMode="External"/><Relationship Id="rId9" Type="http://schemas.openxmlformats.org/officeDocument/2006/relationships/hyperlink" Target="http://www.bankgorodov.ru/region/krasnodarskii/famoushtt" TargetMode="External"/><Relationship Id="rId10" Type="http://schemas.openxmlformats.org/officeDocument/2006/relationships/hyperlink" Target="http://www.bankgorodov.ru/region/krasnodarskii/famoushtt" TargetMode="External"/><Relationship Id="rId11" Type="http://schemas.openxmlformats.org/officeDocument/2006/relationships/hyperlink" Target="http://www.bankgorodov.ru/region/krasnodarskii/famoushtt" TargetMode="External"/><Relationship Id="rId12" Type="http://schemas.openxmlformats.org/officeDocument/2006/relationships/hyperlink" Target="http://www.bankgorodov.ru/region/krasnodarskii/famoushtt" TargetMode="External"/><Relationship Id="rId13" Type="http://schemas.openxmlformats.org/officeDocument/2006/relationships/hyperlink" Target="http://www.bankgorodov.ru/region/krasnodarskii/famoushtt" TargetMode="External"/><Relationship Id="rId14" Type="http://schemas.openxmlformats.org/officeDocument/2006/relationships/slide" Target="slide9.xml"/><Relationship Id="rId15" Type="http://schemas.openxmlformats.org/officeDocument/2006/relationships/slide" Target="slide1.xml"/><Relationship Id="rId16" Type="http://schemas.openxmlformats.org/officeDocument/2006/relationships/slide" Target="slide2.xml"/><Relationship Id="rId17" Type="http://schemas.openxmlformats.org/officeDocument/2006/relationships/slide" Target="slide3.xml"/><Relationship Id="rId18" Type="http://schemas.openxmlformats.org/officeDocument/2006/relationships/slide" Target="slide4.xml"/><Relationship Id="rId19" Type="http://schemas.openxmlformats.org/officeDocument/2006/relationships/slide" Target="slide8.xml"/><Relationship Id="rId20" Type="http://schemas.openxmlformats.org/officeDocument/2006/relationships/slide" Target="slide5.xml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C:/Documents%20and%20Settings/&#1040;&#1083;&#1077;&#1082;&#1089;&#1072;&#1085;&#1076;&#1088;/Local%20Settings/Temp/Rar$DI01.109/Literator.ppt" TargetMode="External"/><Relationship Id="rId4" Type="http://schemas.openxmlformats.org/officeDocument/2006/relationships/hyperlink" Target="file:///C:/Documents%20and%20Settings/&#1040;&#1083;&#1077;&#1082;&#1089;&#1072;&#1085;&#1076;&#1088;/Local%20Settings/Temp/Rar$DI01.109/Literator.ppt" TargetMode="External"/><Relationship Id="rId5" Type="http://schemas.openxmlformats.org/officeDocument/2006/relationships/hyperlink" Target="http://snowpard.ru/topic/185-stikhi-o-kubani-i-krasnodare/" TargetMode="External"/><Relationship Id="rId6" Type="http://schemas.openxmlformats.org/officeDocument/2006/relationships/hyperlink" Target="http://snowpard.ru/topic/185-stikhi-o-kubani-i-krasnodare/" TargetMode="External"/><Relationship Id="rId7" Type="http://schemas.openxmlformats.org/officeDocument/2006/relationships/hyperlink" Target="http://snowpard.ru/topic/185-stikhi-o-kubani-i-krasnodare/" TargetMode="External"/><Relationship Id="rId8" Type="http://schemas.openxmlformats.org/officeDocument/2006/relationships/hyperlink" Target="http://snowpard.ru/topic/185-stikhi-o-kubani-i-krasnodare/" TargetMode="External"/><Relationship Id="rId9" Type="http://schemas.openxmlformats.org/officeDocument/2006/relationships/hyperlink" Target="https://rustih.ru/stixi-o-gorodax-stranax/stixi-o-kubani/" TargetMode="External"/><Relationship Id="rId10" Type="http://schemas.openxmlformats.org/officeDocument/2006/relationships/hyperlink" Target="https://rustih.ru/stixi-o-gorodax-stranax/stixi-o-kubani/" TargetMode="External"/><Relationship Id="rId11" Type="http://schemas.openxmlformats.org/officeDocument/2006/relationships/hyperlink" Target="http://www.rustost.ru/stixi-o-krasnodarskom-krae-kubani-4.html" TargetMode="External"/><Relationship Id="rId12" Type="http://schemas.openxmlformats.org/officeDocument/2006/relationships/hyperlink" Target="http://www.rustost.ru/stixi-o-krasnodarskom-krae-kubani-4.html" TargetMode="External"/><Relationship Id="rId13" Type="http://schemas.openxmlformats.org/officeDocument/2006/relationships/slide" Target="slide9.xml"/><Relationship Id="rId14" Type="http://schemas.openxmlformats.org/officeDocument/2006/relationships/slide" Target="slide1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" Target="slide4.xml"/><Relationship Id="rId18" Type="http://schemas.openxmlformats.org/officeDocument/2006/relationships/slide" Target="slide8.xml"/><Relationship Id="rId19" Type="http://schemas.openxmlformats.org/officeDocument/2006/relationships/slide" Target="slide5.xml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C:/Documents%20and%20Settings/&#1040;&#1083;&#1077;&#1082;&#1089;&#1072;&#1085;&#1076;&#1088;/Local%20Settings/Temp/Rar$DI01.109/menyu.ppt" TargetMode="External"/><Relationship Id="rId4" Type="http://schemas.openxmlformats.org/officeDocument/2006/relationships/hyperlink" Target="file:///C:/Documents%20and%20Settings/&#1040;&#1083;&#1077;&#1082;&#1089;&#1072;&#1085;&#1076;&#1088;/Local%20Settings/Temp/Rar$DI01.109/menyu.ppt" TargetMode="Externa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5.xml"/><Relationship Id="rId12" Type="http://schemas.openxmlformats.org/officeDocument/2006/relationships/slide" Target="slide7.xml"/><Relationship Id="rId13" Type="http://schemas.openxmlformats.org/officeDocument/2006/relationships/hyperlink" Target="http://otherreferats.allbest.ru/biology/00343640_0.html" TargetMode="External"/><Relationship Id="rId14" Type="http://schemas.openxmlformats.org/officeDocument/2006/relationships/hyperlink" Target="http://otherreferats.allbest.ru/biology/00343640_0.html" TargetMode="External"/><Relationship Id="rId15" Type="http://schemas.openxmlformats.org/officeDocument/2006/relationships/hyperlink" Target="http://&#1089;&#1077;&#1079;&#1086;&#1085;&#1099;-&#1075;&#1086;&#1076;&#1072;.&#1088;&#1092;/" TargetMode="External"/><Relationship Id="rId16" Type="http://schemas.openxmlformats.org/officeDocument/2006/relationships/hyperlink" Target="http://&#1089;&#1077;&#1079;&#1086;&#1085;&#1099;-&#1075;&#1086;&#1076;&#1072;.&#1088;&#1092;/" TargetMode="External"/><Relationship Id="rId17" Type="http://schemas.openxmlformats.org/officeDocument/2006/relationships/hyperlink" Target="http://&#1089;&#1077;&#1079;&#1086;&#1085;&#1099;-&#1075;&#1086;&#1076;&#1072;.&#1088;&#1092;/" TargetMode="External"/><Relationship Id="rId18" Type="http://schemas.openxmlformats.org/officeDocument/2006/relationships/hyperlink" Target="http://&#1089;&#1077;&#1079;&#1086;&#1085;&#1099;-&#1075;&#1086;&#1076;&#1072;.&#1088;&#1092;/" TargetMode="External"/><Relationship Id="rId19" Type="http://schemas.openxmlformats.org/officeDocument/2006/relationships/hyperlink" Target="http://kgpbz.ru/" TargetMode="External"/><Relationship Id="rId20" Type="http://schemas.openxmlformats.org/officeDocument/2006/relationships/hyperlink" Target="http://kgpbz.ru/" TargetMode="External"/><Relationship Id="rId21" Type="http://schemas.openxmlformats.org/officeDocument/2006/relationships/hyperlink" Target="http://kgpbz.ru/" TargetMode="External"/><Relationship Id="rId22" Type="http://schemas.openxmlformats.org/officeDocument/2006/relationships/hyperlink" Target="https://cicon.ru/kk-krasnodarskogo-kray.html" TargetMode="External"/><Relationship Id="rId23" Type="http://schemas.openxmlformats.org/officeDocument/2006/relationships/hyperlink" Target="https://cicon.ru/kk-krasnodarskogo-kray.html" TargetMode="External"/><Relationship Id="rId24" Type="http://schemas.openxmlformats.org/officeDocument/2006/relationships/hyperlink" Target="https://cicon.ru/kk-krasnodarskogo-kray.html" TargetMode="External"/><Relationship Id="rId25" Type="http://schemas.openxmlformats.org/officeDocument/2006/relationships/image" Target="../media/image12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5.xml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а"/>
          <p:cNvPicPr/>
          <p:nvPr/>
        </p:nvPicPr>
        <p:blipFill>
          <a:blip r:embed="rId1"/>
          <a:stretch/>
        </p:blipFill>
        <p:spPr>
          <a:xfrm>
            <a:off x="2340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8" name="Text Box 5"/>
          <p:cNvSpPr/>
          <p:nvPr/>
        </p:nvSpPr>
        <p:spPr>
          <a:xfrm>
            <a:off x="1476360" y="189000"/>
            <a:ext cx="7343280" cy="234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843280" y="1268280"/>
            <a:ext cx="6121080" cy="316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БОУ лицей № 4 г.Е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шмянская Надежд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>
            <a:hlinkClick r:id="rId2" action="ppaction://hlinksldjump"/>
          </p:cNvPr>
          <p:cNvSpPr/>
          <p:nvPr/>
        </p:nvSpPr>
        <p:spPr>
          <a:xfrm>
            <a:off x="1692360" y="242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>
            <a:hlinkClick r:id="rId3" action="ppaction://hlinksldjump"/>
          </p:cNvPr>
          <p:cNvSpPr/>
          <p:nvPr/>
        </p:nvSpPr>
        <p:spPr>
          <a:xfrm>
            <a:off x="4356000" y="306864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>
            <a:hlinkClick r:id="rId4" action="ppaction://hlinksldjump"/>
          </p:cNvPr>
          <p:cNvSpPr/>
          <p:nvPr/>
        </p:nvSpPr>
        <p:spPr>
          <a:xfrm>
            <a:off x="6948360" y="242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>
            <a:hlinkClick r:id="rId5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>
            <a:hlinkClick r:id="rId6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>
            <a:hlinkClick r:id="rId7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>
            <a:hlinkClick r:id="rId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>
            <a:hlinkClick r:id="rId9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>
            <a:hlinkClick r:id="rId10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1692360" y="3933720"/>
            <a:ext cx="6624360" cy="12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убан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619280" y="4614840"/>
            <a:ext cx="7345080" cy="131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а:«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дивительная природа Краснодарского 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8"/>
          <p:cNvSpPr/>
          <p:nvPr/>
        </p:nvSpPr>
        <p:spPr>
          <a:xfrm>
            <a:off x="1619280" y="5661000"/>
            <a:ext cx="4608000" cy="82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а создания: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июнь 20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1"/>
          <a:stretch/>
        </p:blipFill>
        <p:spPr>
          <a:xfrm>
            <a:off x="-72000" y="9360"/>
            <a:ext cx="2231280" cy="2131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"/>
          <p:cNvPicPr/>
          <p:nvPr/>
        </p:nvPicPr>
        <p:blipFill>
          <a:blip r:embed="rId12"/>
          <a:stretch/>
        </p:blipFill>
        <p:spPr>
          <a:xfrm>
            <a:off x="0" y="8280"/>
            <a:ext cx="2231280" cy="21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5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66" name="Text Box 13"/>
          <p:cNvSpPr/>
          <p:nvPr/>
        </p:nvSpPr>
        <p:spPr>
          <a:xfrm>
            <a:off x="1506960" y="5472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>
            <a:hlinkClick r:id="rId3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500720" y="105264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4211640" y="1557360"/>
            <a:ext cx="151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1619280" y="1989000"/>
            <a:ext cx="727344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 России 2017 год объявлен годом ЭКОЛОГИИ . Состояние нашей планеты оставляет желать лучшего.Самое время изменить экологическую ситуацию в России, позаботиться о заповедниках, заняться оздоровлением водных ресурсов и возду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1619280" y="3068640"/>
            <a:ext cx="6982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природе все одно с другим связано, и нет в ней ничего случайного. И если выйдет случайное явление – ищи в нем руку человека.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Михаил Приш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BD14578_"/>
          <p:cNvPicPr/>
          <p:nvPr/>
        </p:nvPicPr>
        <p:blipFill>
          <a:blip r:embed="rId4"/>
          <a:stretch/>
        </p:blipFill>
        <p:spPr>
          <a:xfrm>
            <a:off x="1763640" y="4005360"/>
            <a:ext cx="142560" cy="142560"/>
          </a:xfrm>
          <a:prstGeom prst="rect">
            <a:avLst/>
          </a:prstGeom>
          <a:ln w="9525">
            <a:noFill/>
          </a:ln>
        </p:spPr>
      </p:pic>
      <p:sp>
        <p:nvSpPr>
          <p:cNvPr id="74" name="Text Box 33"/>
          <p:cNvSpPr/>
          <p:nvPr/>
        </p:nvSpPr>
        <p:spPr>
          <a:xfrm>
            <a:off x="1835280" y="4005360"/>
            <a:ext cx="6335280" cy="31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979640" y="3860640"/>
            <a:ext cx="547164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Для того ,чтобы руки человека несли природе добро, необходимо много знать и понимать. Этому мы с вами будем уч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1692360" y="4653000"/>
            <a:ext cx="7200720" cy="104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500" spc="-1" strike="noStrike">
                <a:solidFill>
                  <a:srgbClr val="0000cc"/>
                </a:solidFill>
                <a:latin typeface="Arial"/>
              </a:rPr>
              <a:t>Уважаемые родители, Вам предстоит совместно с детьми  выбрать роль по интересу, исследовать предложенные ресурсы   в сети Интернет, выполнить задания в результате чего ответить на вопрос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2050920" y="5661000"/>
            <a:ext cx="6479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ависит ли благосостояние человека от состояния прир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1" descr="BD14578_"/>
          <p:cNvPicPr/>
          <p:nvPr/>
        </p:nvPicPr>
        <p:blipFill>
          <a:blip r:embed="rId5"/>
          <a:stretch/>
        </p:blipFill>
        <p:spPr>
          <a:xfrm>
            <a:off x="2050920" y="5734080"/>
            <a:ext cx="142560" cy="142560"/>
          </a:xfrm>
          <a:prstGeom prst="rect">
            <a:avLst/>
          </a:prstGeom>
          <a:ln w="9525">
            <a:noFill/>
          </a:ln>
        </p:spPr>
      </p:pic>
      <p:sp>
        <p:nvSpPr>
          <p:cNvPr id="79" name="Text Box 42"/>
          <p:cNvSpPr/>
          <p:nvPr/>
        </p:nvSpPr>
        <p:spPr>
          <a:xfrm>
            <a:off x="2050920" y="5950080"/>
            <a:ext cx="669744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С какой целью создаются заповедник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Нужно ли знать историю своего края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3" descr="BD14578_"/>
          <p:cNvPicPr/>
          <p:nvPr/>
        </p:nvPicPr>
        <p:blipFill>
          <a:blip r:embed="rId6"/>
          <a:stretch/>
        </p:blipFill>
        <p:spPr>
          <a:xfrm>
            <a:off x="2050920" y="6021360"/>
            <a:ext cx="142560" cy="142560"/>
          </a:xfrm>
          <a:prstGeom prst="rect">
            <a:avLst/>
          </a:prstGeom>
          <a:ln w="9525">
            <a:noFill/>
          </a:ln>
        </p:spPr>
      </p:pic>
      <p:sp>
        <p:nvSpPr>
          <p:cNvPr id="81" name="Text Box 12">
            <a:hlinkClick r:id="rId7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rId9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>
            <a:hlinkClick r:id="rId10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rId11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>
            <a:hlinkClick r:id="rId12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3" descr="BD14578_"/>
          <p:cNvPicPr/>
          <p:nvPr/>
        </p:nvPicPr>
        <p:blipFill>
          <a:blip r:embed="rId13"/>
          <a:stretch/>
        </p:blipFill>
        <p:spPr>
          <a:xfrm>
            <a:off x="2050920" y="6308640"/>
            <a:ext cx="142560" cy="142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5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90" name="Text Box 7"/>
          <p:cNvSpPr/>
          <p:nvPr/>
        </p:nvSpPr>
        <p:spPr>
          <a:xfrm>
            <a:off x="1692360" y="1764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716360" y="1700280"/>
            <a:ext cx="115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47640" y="2133720"/>
            <a:ext cx="511308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чащиеся со своими родителями делятся     на 3 группы.                                                     Каждая группа работает над своей тем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1692360" y="3357720"/>
            <a:ext cx="6982920" cy="8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Историк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формулируют и дают представления об исторических местах Краснодарского края, о выдающихся людях род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1619280" y="4292640"/>
            <a:ext cx="691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Литераторы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роизводят подборку частушек, песен, игр и стихотворений о 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Краснодарском кр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619280" y="5300640"/>
            <a:ext cx="6984720" cy="8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Биолог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редставляют животный и растительный мир Краснодарского края,  Кавказский биосферный заповедник, а  также буклет «Правила поведения в природ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>
            <a:hlinkClick r:id="rId3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>
            <a:hlinkClick r:id="rId4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>
            <a:hlinkClick r:id="rId5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>
            <a:hlinkClick r:id="rId6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>
            <a:hlinkClick r:id="rId7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>
            <a:hlinkClick r:id="rId8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435600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0"/>
          <a:stretch/>
        </p:blipFill>
        <p:spPr>
          <a:xfrm>
            <a:off x="6372360" y="1543680"/>
            <a:ext cx="2771280" cy="18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09" name="Text Box 26"/>
          <p:cNvSpPr/>
          <p:nvPr/>
        </p:nvSpPr>
        <p:spPr>
          <a:xfrm>
            <a:off x="3708360" y="1700280"/>
            <a:ext cx="28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Порядо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1763640" y="2133720"/>
            <a:ext cx="604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1.  Познакомьтесь с темой и проблемой кве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1763640" y="2421000"/>
            <a:ext cx="6695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2.  Выберите одну из предложенных ро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763640" y="2708280"/>
            <a:ext cx="626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3.  Познакомьтесь с задачами своей р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1763640" y="2997360"/>
            <a:ext cx="6913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4.  Изучите список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1763640" y="3284640"/>
            <a:ext cx="6767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.  Составьте план поиска информации по своей р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1763640" y="3573360"/>
            <a:ext cx="6840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6.  Исследуйте информационные ресурсы по своей р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1763640" y="3860640"/>
            <a:ext cx="7380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7.  Оформите  отчёт в виде презентации, рекламного буклета, плаката,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1763640" y="4365720"/>
            <a:ext cx="6840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8. Обсудите результаты работы, проведите защиту результатов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1763640" y="4941720"/>
            <a:ext cx="7056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Надеемся, что после работы над веб-квестом, вы узнаете много о Краснодарском крае и сделаете правильный выб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2916360" y="6165720"/>
            <a:ext cx="583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спехов в учёб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>
            <a:hlinkClick r:id="rId3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>
            <a:hlinkClick r:id="rId4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>
            <a:hlinkClick r:id="rId5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>
            <a:hlinkClick r:id="rId6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>
            <a:hlinkClick r:id="rId7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>
            <a:hlinkClick r:id="rId8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2764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0"/>
          <a:stretch/>
        </p:blipFill>
        <p:spPr>
          <a:xfrm>
            <a:off x="6626880" y="1494000"/>
            <a:ext cx="2501640" cy="18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5" descr="18"/>
          <p:cNvPicPr/>
          <p:nvPr/>
        </p:nvPicPr>
        <p:blipFill>
          <a:blip r:embed="rId2"/>
          <a:stretch/>
        </p:blipFill>
        <p:spPr>
          <a:xfrm>
            <a:off x="1458720" y="148428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284720" y="1628640"/>
            <a:ext cx="28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Исто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763640" y="3573360"/>
            <a:ext cx="6948000" cy="92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2) Составьте и оформите фотоколлаж «Нет земли краше, чем Родина наш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752480" y="2853720"/>
            <a:ext cx="712908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1) Найдите из различных источников информацию, дающую представление об исторических местах Краснодарского края и выдающихся людях род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>
            <a:hlinkClick r:id="rId3"/>
          </p:cNvPr>
          <p:cNvSpPr/>
          <p:nvPr/>
        </p:nvSpPr>
        <p:spPr>
          <a:xfrm>
            <a:off x="7451640" y="6237360"/>
            <a:ext cx="1510920" cy="431280"/>
          </a:xfrm>
          <a:prstGeom prst="ellipse">
            <a:avLst/>
          </a:prstGeom>
          <a:solidFill>
            <a:srgbClr val="0033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>
            <a:hlinkClick r:id="rId4"/>
          </p:cNvPr>
          <p:cNvSpPr/>
          <p:nvPr/>
        </p:nvSpPr>
        <p:spPr>
          <a:xfrm>
            <a:off x="7667640" y="6308640"/>
            <a:ext cx="1294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1763640" y="4660920"/>
            <a:ext cx="71989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Для работы воспользуйтесь следующими ресурс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2055240" y="4853880"/>
            <a:ext cx="69829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1716120" y="5042160"/>
            <a:ext cx="7202160" cy="60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 u="sng">
                <a:solidFill>
                  <a:srgbClr val="58c1ba"/>
                </a:solidFill>
                <a:uFillTx/>
                <a:latin typeface="Arial"/>
                <a:hlinkClick r:id="rId5"/>
              </a:rPr>
              <a:t>1) 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6"/>
              </a:rPr>
              <a:t>https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7"/>
              </a:rPr>
              <a:t>://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8"/>
              </a:rPr>
              <a:t>kamaran.ru/krasnodarskij-kraj/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 u="sng">
                <a:solidFill>
                  <a:srgbClr val="58c1ba"/>
                </a:solidFill>
                <a:uFillTx/>
                <a:latin typeface="Arial"/>
                <a:hlinkClick r:id="rId9"/>
              </a:rPr>
              <a:t>2) 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10"/>
              </a:rPr>
              <a:t>http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11"/>
              </a:rPr>
              <a:t>://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12"/>
              </a:rPr>
              <a:t>www.bankgorodov.ru/region/krasnodarskii/famous</a:t>
            </a:r>
            <a:r>
              <a:rPr b="0" lang="en-US" sz="1400" spc="-1" strike="noStrike" u="sng">
                <a:solidFill>
                  <a:srgbClr val="58c1ba"/>
                </a:solidFill>
                <a:uFillTx/>
                <a:latin typeface="Arial"/>
                <a:hlinkClick r:id="rId13"/>
              </a:rPr>
              <a:t>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>
            <a:hlinkClick r:id="rId14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>
            <a:hlinkClick r:id="rId15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>
            <a:hlinkClick r:id="rId16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>
            <a:hlinkClick r:id="rId17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>
            <a:hlinkClick r:id="rId1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>
            <a:hlinkClick r:id="rId19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>
            <a:hlinkClick r:id="rId20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4284720" y="90792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21"/>
          <a:stretch/>
        </p:blipFill>
        <p:spPr>
          <a:xfrm>
            <a:off x="6228360" y="1535760"/>
            <a:ext cx="2725200" cy="16718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2"/>
          <a:stretch/>
        </p:blipFill>
        <p:spPr>
          <a:xfrm>
            <a:off x="1660320" y="1551960"/>
            <a:ext cx="2603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5" descr="18"/>
          <p:cNvPicPr/>
          <p:nvPr/>
        </p:nvPicPr>
        <p:blipFill>
          <a:blip r:embed="rId2"/>
          <a:stretch/>
        </p:blipFill>
        <p:spPr>
          <a:xfrm>
            <a:off x="1490400" y="145872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060000" y="1628640"/>
            <a:ext cx="2448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Литер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5">
            <a:hlinkClick r:id="rId3"/>
          </p:cNvPr>
          <p:cNvSpPr/>
          <p:nvPr/>
        </p:nvSpPr>
        <p:spPr>
          <a:xfrm>
            <a:off x="7451640" y="6237360"/>
            <a:ext cx="1510920" cy="431280"/>
          </a:xfrm>
          <a:prstGeom prst="ellipse">
            <a:avLst/>
          </a:prstGeom>
          <a:solidFill>
            <a:srgbClr val="0033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>
            <a:hlinkClick r:id="rId4"/>
          </p:cNvPr>
          <p:cNvSpPr/>
          <p:nvPr/>
        </p:nvSpPr>
        <p:spPr>
          <a:xfrm>
            <a:off x="7667640" y="6308640"/>
            <a:ext cx="1294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1835280" y="2852640"/>
            <a:ext cx="6840000" cy="24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StarSymbol"/>
              <a:buAutoNum type="arabicParenR"/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я ресурсы Интернет и дополнительную литературу, произведите подборку частушек, игр, песен и стихотворений о Краснодарском кра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tarSymbol"/>
              <a:buAutoNum type="arabicParenR" startAt="2"/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Результатом вашей работы будет подготовка и проведение различных конк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ля работы воспользуйтесь следующими ресурс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050920" y="5002920"/>
            <a:ext cx="6911640" cy="120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chemeClr val="accent2"/>
                </a:solidFill>
                <a:uFillTx/>
                <a:latin typeface="Arial"/>
                <a:hlinkClick r:id="rId5"/>
              </a:rPr>
              <a:t>1) 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6"/>
              </a:rPr>
              <a:t>http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7"/>
              </a:rPr>
              <a:t>://snowpard.ru/topic/185-stikhi-o-kubani-i-krasnodare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9"/>
              </a:rPr>
              <a:t>https://rustih.ru/stixi-o-gorodax-stranax/stixi-o-kubani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1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cc99"/>
                </a:solidFill>
                <a:latin typeface="Arial"/>
              </a:rPr>
              <a:t>3)</a:t>
            </a: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11"/>
              </a:rPr>
              <a:t>http://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12"/>
              </a:rPr>
              <a:t>www.rustost.ru/stixi-o-krasnodarskom-krae-kubani-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>
            <a:hlinkClick r:id="rId13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>
            <a:hlinkClick r:id="rId14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>
            <a:hlinkClick r:id="rId15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>
            <a:hlinkClick r:id="rId16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>
            <a:hlinkClick r:id="rId17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>
            <a:hlinkClick r:id="rId18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>
            <a:hlinkClick r:id="rId1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4211640" y="90792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20"/>
          <a:stretch/>
        </p:blipFill>
        <p:spPr>
          <a:xfrm>
            <a:off x="5753160" y="1502280"/>
            <a:ext cx="3145680" cy="15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5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18000" y="1628640"/>
            <a:ext cx="246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Б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>
            <a:hlinkClick r:id="rId3"/>
          </p:cNvPr>
          <p:cNvSpPr/>
          <p:nvPr/>
        </p:nvSpPr>
        <p:spPr>
          <a:xfrm>
            <a:off x="7451640" y="6237360"/>
            <a:ext cx="1510920" cy="431280"/>
          </a:xfrm>
          <a:prstGeom prst="ellipse">
            <a:avLst/>
          </a:prstGeom>
          <a:solidFill>
            <a:srgbClr val="0033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6">
            <a:hlinkClick r:id="rId4"/>
          </p:cNvPr>
          <p:cNvSpPr/>
          <p:nvPr/>
        </p:nvSpPr>
        <p:spPr>
          <a:xfrm>
            <a:off x="7667640" y="6308640"/>
            <a:ext cx="1294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083840" y="2060640"/>
            <a:ext cx="5059800" cy="165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StarSymbol"/>
              <a:buAutoNum type="arabicParenR"/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обходимо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редставить животный и растительный мир Краснодарского края. Создать презентацию «Малая красная книга Краснодарского кра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tarSymbol"/>
              <a:buAutoNum type="arabicParenR"/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одобрать материал и создать буклет «Правила поведения в природ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763640" y="3933720"/>
            <a:ext cx="7596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ля работы воспользуйтесь следующими ресурс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1476360" y="4292640"/>
            <a:ext cx="7056000" cy="60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1692360" y="5445000"/>
            <a:ext cx="691164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ru-RU" sz="1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Text Box 12">
            <a:hlinkClick r:id="rId5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>
            <a:hlinkClick r:id="rId6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>
            <a:hlinkClick r:id="rId7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>
            <a:hlinkClick r:id="rId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>
            <a:hlinkClick r:id="rId9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>
            <a:hlinkClick r:id="rId10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>
            <a:hlinkClick r:id="rId11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4500720" y="90792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>
            <a:hlinkClick r:id="rId12" action="ppaction://hlinksldjump"/>
          </p:cNvPr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1962000" y="4305960"/>
            <a:ext cx="7524360" cy="406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ru-RU" sz="1600" spc="-1" strike="noStrike" u="sng">
                <a:solidFill>
                  <a:srgbClr val="58c1ba"/>
                </a:solidFill>
                <a:uFillTx/>
                <a:latin typeface="Arial"/>
                <a:hlinkClick r:id="rId13"/>
              </a:rPr>
              <a:t>1)http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Arial"/>
                <a:hlinkClick r:id="rId14"/>
              </a:rPr>
              <a:t>://otherreferats.allbest.ru/biology/00343640_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600" spc="-1" strike="noStrike" u="sng">
                <a:solidFill>
                  <a:schemeClr val="accent2"/>
                </a:solidFill>
                <a:uFillTx/>
                <a:latin typeface="Arial"/>
                <a:hlinkClick r:id="rId15"/>
              </a:rPr>
              <a:t>2)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6"/>
              </a:rPr>
              <a:t>http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7"/>
              </a:rPr>
              <a:t>://сезоны-года.рф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8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1600" spc="-1" strike="noStrike" u="sng">
                <a:solidFill>
                  <a:srgbClr val="00cc99"/>
                </a:solidFill>
                <a:uFillTx/>
                <a:latin typeface="Calibri"/>
                <a:ea typeface="Calibri"/>
              </a:rPr>
              <a:t>3) 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9"/>
              </a:rPr>
              <a:t>http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0"/>
              </a:rPr>
              <a:t>://kgpbz.ru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1600" spc="-1" strike="noStrike" u="sng">
                <a:solidFill>
                  <a:srgbClr val="00cc99"/>
                </a:solidFill>
                <a:uFillTx/>
                <a:latin typeface="Calibri"/>
                <a:ea typeface="Calibri"/>
              </a:rPr>
              <a:t>4) 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2"/>
              </a:rPr>
              <a:t>https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3"/>
              </a:rPr>
              <a:t>:/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4"/>
              </a:rPr>
              <a:t>cicon.ru/kk-krasnodarskogo-kray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ttphttp://kgpbz.ru/://kgpbz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http://kgpbz.ru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4)О.В С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http://www.ecorodinki.ru/krasnodarskiy_kray/rastitelniy_mir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озонтова, Природа и экология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газета» Сырое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25"/>
          <a:stretch/>
        </p:blipFill>
        <p:spPr>
          <a:xfrm>
            <a:off x="1464480" y="1478520"/>
            <a:ext cx="2509560" cy="23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2" name="Text Box 7"/>
          <p:cNvSpPr/>
          <p:nvPr/>
        </p:nvSpPr>
        <p:spPr>
          <a:xfrm>
            <a:off x="1476360" y="0"/>
            <a:ext cx="7343280" cy="66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3708360" y="1700280"/>
            <a:ext cx="28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Критерии оц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Group 658"/>
          <p:cNvGraphicFramePr/>
          <p:nvPr/>
        </p:nvGraphicFramePr>
        <p:xfrm>
          <a:off x="1868400" y="2205000"/>
          <a:ext cx="7200720" cy="5360760"/>
        </p:xfrm>
        <a:graphic>
          <a:graphicData uri="http://schemas.openxmlformats.org/drawingml/2006/table">
            <a:tbl>
              <a:tblPr/>
              <a:tblGrid>
                <a:gridCol w="401400"/>
                <a:gridCol w="1398240"/>
                <a:gridCol w="599760"/>
                <a:gridCol w="533160"/>
                <a:gridCol w="533160"/>
                <a:gridCol w="698400"/>
                <a:gridCol w="501480"/>
                <a:gridCol w="784080"/>
                <a:gridCol w="282240"/>
                <a:gridCol w="399960"/>
                <a:gridCol w="401400"/>
                <a:gridCol w="66492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ИО участника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бота с источниками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формление результатов работы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ащита результатов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ответствие подобранной информации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лнот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ичие выв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Участие в обсуждении  полученн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едставление работы на выстав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формление результатов с использованием И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Участие в выступл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ворчески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рамотность из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639"/>
          <p:cNvSpPr/>
          <p:nvPr/>
        </p:nvSpPr>
        <p:spPr>
          <a:xfrm>
            <a:off x="0" y="6337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55"/>
          <p:cNvSpPr/>
          <p:nvPr/>
        </p:nvSpPr>
        <p:spPr>
          <a:xfrm>
            <a:off x="1692360" y="6453360"/>
            <a:ext cx="5471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56"/>
          <p:cNvSpPr/>
          <p:nvPr/>
        </p:nvSpPr>
        <p:spPr>
          <a:xfrm>
            <a:off x="1671480" y="6329520"/>
            <a:ext cx="41238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57"/>
          <p:cNvSpPr/>
          <p:nvPr/>
        </p:nvSpPr>
        <p:spPr>
          <a:xfrm>
            <a:off x="2050920" y="6381720"/>
            <a:ext cx="6913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Примечание: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оценивание производится по 5-ти балльной сис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>
            <a:hlinkClick r:id="rId3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>
            <a:hlinkClick r:id="rId4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>
            <a:hlinkClick r:id="rId5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>
            <a:hlinkClick r:id="rId6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>
            <a:hlinkClick r:id="rId7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>
            <a:hlinkClick r:id="rId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28472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10" name="Picture 5" descr="18"/>
          <p:cNvPicPr/>
          <p:nvPr/>
        </p:nvPicPr>
        <p:blipFill>
          <a:blip r:embed="rId2"/>
          <a:stretch/>
        </p:blipFill>
        <p:spPr>
          <a:xfrm>
            <a:off x="1476360" y="144972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211" name="Text Box 7"/>
          <p:cNvSpPr/>
          <p:nvPr/>
        </p:nvSpPr>
        <p:spPr>
          <a:xfrm>
            <a:off x="1476360" y="0"/>
            <a:ext cx="7343280" cy="76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кра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3708360" y="1700280"/>
            <a:ext cx="1510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Ит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890000" y="2079360"/>
            <a:ext cx="6840000" cy="33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1" lang="ru-RU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627640" y="2584800"/>
            <a:ext cx="6192000" cy="397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лагосостояние человека напрямую зависит от состояния природы.Человек-дитя природы.Охранять природу-значит охранять Родину,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аснодарский кра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— один из уникальных регионов России. Регион первозданного великолепия дикой природы Западного Кавказа. К сожалению, развитие экономики, хищнический промысел, и многие другие факторы привели к угрожающему сокращению их числ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 результате неразумного использования людьми богатств природы. земля стала сильно истощаться и чтобы предотвратить полное уничтожение природных комплексов люди стали создавать территории, на которых запрещены большинство видов человеческой деятельности-это запове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Знать историю своего края необходимо. Не зная историю всего человечества и, в частности, народа местного края, невозможно понять, что происходит вокруг нас в мире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щущения родного края начинается любовь к Родине, к родной земле, на которой родился и живе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692360" y="3716280"/>
            <a:ext cx="7127640" cy="32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1" i="1" lang="ru-RU" sz="15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6" name="Text Box 16">
            <a:hlinkClick r:id="rId3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>
            <a:hlinkClick r:id="rId4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>
            <a:hlinkClick r:id="rId5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>
            <a:hlinkClick r:id="rId6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>
            <a:hlinkClick r:id="rId7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>
            <a:hlinkClick r:id="rId8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521964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3" descr="BD14578_"/>
          <p:cNvPicPr/>
          <p:nvPr/>
        </p:nvPicPr>
        <p:blipFill>
          <a:blip r:embed="rId10"/>
          <a:stretch/>
        </p:blipFill>
        <p:spPr>
          <a:xfrm>
            <a:off x="2514960" y="436968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6" name="Picture 22" descr="BD14578_"/>
          <p:cNvPicPr/>
          <p:nvPr/>
        </p:nvPicPr>
        <p:blipFill>
          <a:blip r:embed="rId11"/>
          <a:stretch/>
        </p:blipFill>
        <p:spPr>
          <a:xfrm>
            <a:off x="1763640" y="249228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7" name="Picture 23" descr="BD14578_"/>
          <p:cNvPicPr/>
          <p:nvPr/>
        </p:nvPicPr>
        <p:blipFill>
          <a:blip r:embed="rId12"/>
          <a:stretch/>
        </p:blipFill>
        <p:spPr>
          <a:xfrm>
            <a:off x="2443320" y="339264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8" name="Picture 23" descr="BD14578_"/>
          <p:cNvPicPr/>
          <p:nvPr/>
        </p:nvPicPr>
        <p:blipFill>
          <a:blip r:embed="rId13"/>
          <a:stretch/>
        </p:blipFill>
        <p:spPr>
          <a:xfrm>
            <a:off x="2464200" y="553212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9" name="Рисунок 1" descr=""/>
          <p:cNvPicPr/>
          <p:nvPr/>
        </p:nvPicPr>
        <p:blipFill>
          <a:blip r:embed="rId14"/>
          <a:stretch/>
        </p:blipFill>
        <p:spPr>
          <a:xfrm>
            <a:off x="1606680" y="1449720"/>
            <a:ext cx="2081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254</TotalTime>
  <Application>LibreOffice/7.4.7.2$Linux_X86_64 LibreOffice_project/40$Build-2</Application>
  <AppVersion>15.0000</AppVersion>
  <Words>955</Words>
  <Paragraphs>2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5:37:35Z</dcterms:created>
  <dc:creator>Хозяин</dc:creator>
  <dc:description/>
  <dc:language>en-US</dc:language>
  <cp:lastModifiedBy>Надежда</cp:lastModifiedBy>
  <dcterms:modified xsi:type="dcterms:W3CDTF">2017-05-30T21:14:11Z</dcterms:modified>
  <cp:revision>20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