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6.gif" ContentType="image/gi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C0D3-4F54-4447-AA73-A49BEFF9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21D-2996-4998-974A-1D6F6FF8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F4D-B127-4CB9-AAC8-C30EB534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B7DD-407F-47C3-B5AC-7148C213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C46E-7AFF-43B4-80C3-93636E6A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65B7-8DB4-4D9C-A277-CB169D7E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D1BB-5733-42D7-B2BA-96F88BA9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DDAC-53EC-4B86-B0A5-56919476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0695-A277-433A-9FFE-65EEA0A2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33C4-B509-4427-9DC8-361A8167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EB49-E3A6-4DBE-A0DB-147838D3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A59-DF99-45E7-BCB2-DF8F7FC9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B1CD-3859-46B0-A34B-8660443A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5A6F-EE63-4893-BA9F-606EE04F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2286-1535-4E98-AA6A-E872120C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937A-07B4-40B0-A4CE-08E93F00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3E12-CB9B-4628-AC31-457489AD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1446-0DB6-43E3-834E-8903C25E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A87-F31B-42D2-9B40-211AAA02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1FCC-D0B8-4813-B39E-12795165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165-69FC-4387-B1D8-5A77A3A9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21B5-49FA-41EF-818E-155A5529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6152-C927-43D6-AD67-481BCD74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FAC-298A-454C-9DFA-BB15CCC2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49F6-67C9-4AA5-A21D-836DA2AA3D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A72B-78CE-485D-BD4E-2D673F8CC8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4382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абота ученицы 2 «в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сенженко Жан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уководитель: Бандерова К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"/>
          <p:cNvSpPr/>
          <p:nvPr/>
        </p:nvSpPr>
        <p:spPr>
          <a:xfrm>
            <a:off x="1905120" y="100080"/>
            <a:ext cx="69339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«Средняя общеобразовательная школа г. Среднеколым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2" descr=""/>
          <p:cNvPicPr/>
          <p:nvPr/>
        </p:nvPicPr>
        <p:blipFill>
          <a:blip r:embed="rId1"/>
          <a:stretch/>
        </p:blipFill>
        <p:spPr>
          <a:xfrm>
            <a:off x="2212920" y="1646280"/>
            <a:ext cx="5473800" cy="9208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5"/>
          <p:cNvSpPr/>
          <p:nvPr/>
        </p:nvSpPr>
        <p:spPr>
          <a:xfrm>
            <a:off x="2362320" y="586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г. Среднеколым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март, 201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6" descr="Картинки по запросу Монета номинал в 2 евро с изображением морошки"/>
          <p:cNvPicPr/>
          <p:nvPr/>
        </p:nvPicPr>
        <p:blipFill>
          <a:blip r:embed="rId2"/>
          <a:stretch/>
        </p:blipFill>
        <p:spPr>
          <a:xfrm>
            <a:off x="689040" y="2438280"/>
            <a:ext cx="3352680" cy="2822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орошка - моя любимая ягода и я захотела узнать, что в ней полез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знать всё о ягоде морош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йти информацию о морошке из разных источников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овести опрос среди одноклассников о морош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пределить, в каких медицинских целях применяют морош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пытным путем доказать, что в состав морошки входят полезные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" descr="Картинки по запросу Монета номинал в 2 евро с изображением морошки"/>
          <p:cNvPicPr/>
          <p:nvPr/>
        </p:nvPicPr>
        <p:blipFill>
          <a:blip r:embed="rId1"/>
          <a:stretch/>
        </p:blipFill>
        <p:spPr>
          <a:xfrm>
            <a:off x="79200" y="152280"/>
            <a:ext cx="190188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14040" y="142704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Объек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ягода моро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Гипотез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ягода морошка очень полезна для организма человека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Картинки по запросу Монета номинал в 2 евро с изображением морошки"/>
          <p:cNvPicPr/>
          <p:nvPr/>
        </p:nvPicPr>
        <p:blipFill>
          <a:blip r:embed="rId1"/>
          <a:stretch/>
        </p:blipFill>
        <p:spPr>
          <a:xfrm>
            <a:off x="0" y="122400"/>
            <a:ext cx="2359080" cy="14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harvent</cp:lastModifiedBy>
  <dcterms:modified xsi:type="dcterms:W3CDTF">2017-05-31T05:20:34Z</dcterms:modified>
  <cp:revision>55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