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6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90E-7628-4A96-9585-F6B5BF84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776-E049-4AE7-9B8B-39579579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4D7-3F55-4433-B8F5-8980B676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E56-65FD-41CC-AE80-0F89C32C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2279-D258-43B7-8E5A-787CE639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2DB7-799C-4623-9E28-DF29F186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2CB6-DE3E-4215-A550-C0329B4E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4AF7-0FD6-4446-9D10-D571B920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FE11-172F-497F-B579-CEA48A21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1AE6-5B47-4274-B791-9ACE1499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637-F9B0-47D3-89F8-885EE386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E66-F806-4E7F-8266-D5EF90D2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3E94-11DC-4E09-9715-0310AF8F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6DF-A85D-4FE8-ADFE-DB231DA2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D7D2-92E6-4F2F-98A9-30ED0730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7869-D2D9-407F-BA0E-4E79083B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3933-0DE4-47EC-9D1E-F40FAEC3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56A-266D-4A58-9FBA-207D5A74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E65-2D5A-4040-B08D-7618541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3B4-3E02-4FAE-B546-10D445AF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91E-ABB9-48C5-AD2D-B9671FB5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FB2-930E-4863-A02B-D3E1C63F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30A-F67A-4197-9344-C7F3FE7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DDB-D49C-4E4B-A865-CB96F00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F696-48B5-46DA-BEB4-ACE4868C7F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E0B-FFE8-488F-A118-3478A2AAEF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бота ученицы 2 «в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сенженко Ж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уководитель: Бандерова К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1905120" y="100080"/>
            <a:ext cx="69339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Средняя общеобразовательная школа г. Среднеколым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2" descr=""/>
          <p:cNvPicPr/>
          <p:nvPr/>
        </p:nvPicPr>
        <p:blipFill>
          <a:blip r:embed="rId1"/>
          <a:stretch/>
        </p:blipFill>
        <p:spPr>
          <a:xfrm>
            <a:off x="2212920" y="1646280"/>
            <a:ext cx="5473800" cy="9208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236232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г. Среднеколы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март, 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Картинки по запросу Монета номинал в 2 евро с изображением морошки"/>
          <p:cNvPicPr/>
          <p:nvPr/>
        </p:nvPicPr>
        <p:blipFill>
          <a:blip r:embed="rId2"/>
          <a:stretch/>
        </p:blipFill>
        <p:spPr>
          <a:xfrm>
            <a:off x="689040" y="2438280"/>
            <a:ext cx="3352680" cy="2822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орошка - моя любимая ягода и я захотела узнать, что в ней полез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знать всё о ягоде моро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йти информацию о морошке из разных источников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вести опрос среди одноклассников о моро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пределить, в каких медицинских целях применяют моро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пытным путем доказать, что в состав морошки входят полез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Картинки по запросу Монета номинал в 2 евро с изображением морошки"/>
          <p:cNvPicPr/>
          <p:nvPr/>
        </p:nvPicPr>
        <p:blipFill>
          <a:blip r:embed="rId1"/>
          <a:stretch/>
        </p:blipFill>
        <p:spPr>
          <a:xfrm>
            <a:off x="79200" y="152280"/>
            <a:ext cx="19018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4040" y="142704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Объек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ягода моро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Гипотез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ягода морошка очень полезна для организма человека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Картинки по запросу Монета номинал в 2 евро с изображением морошки"/>
          <p:cNvPicPr/>
          <p:nvPr/>
        </p:nvPicPr>
        <p:blipFill>
          <a:blip r:embed="rId1"/>
          <a:stretch/>
        </p:blipFill>
        <p:spPr>
          <a:xfrm>
            <a:off x="0" y="122400"/>
            <a:ext cx="235908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harvent</cp:lastModifiedBy>
  <dcterms:modified xsi:type="dcterms:W3CDTF">2017-05-31T05:20:34Z</dcterms:modified>
  <cp:revision>5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