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1407A-79F8-4436-AB99-EA3C9493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F8449-BEDE-493C-8887-B038E0E5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052C2-6EEE-457A-AC5E-5FAC731C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A22E-6492-4D8E-A99D-A7885758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06DE-CC40-4CD1-8293-1BAAABD3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5996-D4C6-4845-B32B-7063A5BD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D559-09D4-4720-AE09-D9151355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B62B-B9F7-40A7-A287-74EF4F87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57FF-3D0C-4DCC-89C2-31BCEF44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EE9E-4383-4B9F-8E64-DC8B0D1C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4241-85DC-4E3D-8ACD-25666B01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ED49F-16B4-4020-8839-B55E4055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19FD-F600-4670-8222-CC4E8AC2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48F1-654A-44CE-A41F-E687D81B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E2AB-9CFE-4560-8D6D-7E605D80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90B6-0D86-40CB-946E-4E81821E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08B2-6236-4230-9ED4-B0D8C39B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DA2C-B006-4E40-A7E8-A078FA50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E15E7-58BC-4AE1-BC33-70BEB650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0FEA-3092-43CC-9DE5-57A004F7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55B6-C9AB-4C9F-A951-11A86B22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E14D-8FA7-42AA-93EC-4F760AB5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740E-A6A8-4EAC-A7A0-9D2C5A0B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FEA61-4FD9-4FA2-81DA-FCB5F1AC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BC6C-05C2-4FE7-A824-3DB41D1600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4DD5-F914-412F-9852-CDD6CD14DB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1908000" y="2060640"/>
            <a:ext cx="52009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рестская крепост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48276967"/>
          <p:cNvPicPr/>
          <p:nvPr/>
        </p:nvPicPr>
        <p:blipFill>
          <a:blip r:embed="rId1"/>
          <a:stretch/>
        </p:blipFill>
        <p:spPr>
          <a:xfrm>
            <a:off x="971640" y="981000"/>
            <a:ext cx="693576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вечеру 24 июня немцы овладели Волынским укреплением, а ночью переправились в Цитадель. Таким образом, оборона сосредоточилась в Кобринском укреплении и Цитадели. Ежедневно защитникам крепости приходилось отбивать 7—8 атак, причём применялись огнемёты. 26 июня пал последний участок обороны Цитадели возле Трёхарочных ворот, 30 июня — Восточный ф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%25D0%25BA%25D1%2580%25D0%25B5%25D0%25BF%25D0%25BE%25D1%2581%25D1%2582%25D1%258C"/>
          <p:cNvPicPr/>
          <p:nvPr/>
        </p:nvPicPr>
        <p:blipFill>
          <a:blip r:embed="rId1"/>
          <a:stretch/>
        </p:blipFill>
        <p:spPr>
          <a:xfrm>
            <a:off x="1547640" y="1052640"/>
            <a:ext cx="62136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мая 1965 года Брестской крепости присвоено звание крепость-герой. С 1971 года является мемориальным комплексом. Мемориал «Брестская крепость-герой» построен по проектам скульптора Александра Павловича Кибальникова. К площади Церемониалов примыкают здание Музея обороны Брестской крепости и руины Белого дворца. Композиционным центром является главный монумент «Мужество», на его обратной стороне размещены рельефные композиции, рассказывающие об отдельных эпизодах героической обороны крепости. В 3-ярусном некрополе, композиционно связанном с монументом, захоронены останки 850 человек. Перед руинами бывшего инженерного управления горит Вечный огонь Сла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bkistmem02"/>
          <p:cNvPicPr/>
          <p:nvPr/>
        </p:nvPicPr>
        <p:blipFill>
          <a:blip r:embed="rId1"/>
          <a:stretch/>
        </p:blipFill>
        <p:spPr>
          <a:xfrm>
            <a:off x="1785960" y="1504800"/>
            <a:ext cx="55720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monument120"/>
          <p:cNvPicPr/>
          <p:nvPr/>
        </p:nvPicPr>
        <p:blipFill>
          <a:blip r:embed="rId1"/>
          <a:stretch/>
        </p:blipFill>
        <p:spPr>
          <a:xfrm>
            <a:off x="1187280" y="189000"/>
            <a:ext cx="655344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у выполнили Багрова Катя, Шаркунова Аня и Куребекова 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Файл:BrestFortress7.JPG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естская креп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— крепость в черте города Бреста в Белоруссии, у впадения реки Мухавец в Западный Бу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brest"/>
          <p:cNvPicPr/>
          <p:nvPr/>
        </p:nvPicPr>
        <p:blipFill>
          <a:blip r:embed="rId1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ружение крепости на месте центра старого города началось в 1833 году по проекту Карла Ивановича Оппермана. Первый камень в основание крепости был заложен 1 июня 1836 года. Основные строительные работы были завершены к 26 апреля 1842 года. Крепость состояла из цитадели и трёх защищавших её укреплений общей площадью 4 км² и протяжённостью главной крепостной линии 6,4 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000000"/>
          <p:cNvPicPr/>
          <p:nvPr/>
        </p:nvPicPr>
        <p:blipFill>
          <a:blip r:embed="rId1"/>
          <a:stretch/>
        </p:blipFill>
        <p:spPr>
          <a:xfrm>
            <a:off x="108000" y="836640"/>
            <a:ext cx="883764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 22 июня 1941 года в крепости дислоциров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стрелковых батальон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разведыватель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артиллерийский полк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2 артиллерийских дивизиона ,некоторые спецподразделения стрелковых полков и подразделения корпусных ч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24555029_1210308057_P_Mal_cev_SHturm_Sapungoruy_1958"/>
          <p:cNvPicPr/>
          <p:nvPr/>
        </p:nvPicPr>
        <p:blipFill>
          <a:blip r:embed="rId1"/>
          <a:stretch/>
        </p:blipFill>
        <p:spPr>
          <a:xfrm>
            <a:off x="179280" y="981000"/>
            <a:ext cx="8498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2 июня в 3:15 по крепости был открыт артиллерийский огонь, заставший гарнизон врасплох. В результате были уничтожены склады, водопровод, прервана связь, нанесены крупные потери гарнизону. В 3:45 начался штурм. Сильное сопротивление немцы встретили на Волынском и особенно на Кобринском укреплении, где дело дошло до штыковых ат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2:30:59Z</dcterms:created>
  <dc:creator>Admin</dc:creator>
  <dc:description/>
  <dc:language>en-US</dc:language>
  <cp:lastModifiedBy>юра</cp:lastModifiedBy>
  <dcterms:modified xsi:type="dcterms:W3CDTF">2017-06-01T17:33:20Z</dcterms:modified>
  <cp:revision>3</cp:revision>
  <dc:subject/>
  <dc:title>Слайд 1</dc:title>
</cp:coreProperties>
</file>