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EB44-4FA4-4FC7-A13F-81D4E6FF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1233-D5F6-425E-A2CE-428B56DF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94AA-5232-45B3-8AEB-3909FBC3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14C9-2A69-4C9F-A8A6-C84BF49C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CB51-9C09-4162-80AC-E0313AC6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CC27-666B-445E-82BB-622CAB3F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D861-B497-4A03-8067-71BBE6F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4A50-C234-4E9A-B034-354CC7D6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3FF0-E406-4D87-9E2E-B7B0A79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54B1-D808-4F9F-A68F-01D40055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8F94-1527-4420-AA2D-2BC106A6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C623-CE86-405D-B0A5-37D900F4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7120-BF64-4D43-8453-715CAE16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0498-7C6D-449D-B869-2F5E3D7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751C-9AEC-403B-A34B-43A72A72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7CD9-DEAB-4ADC-B046-B75A03C2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EEF2-21ED-40A0-B2DF-507C0D85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04EA-A8FC-4BBC-9872-529D1979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3217-0DA8-48E1-9C99-F6236822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4EA6-FD06-46BC-AD97-51929BF0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46D9-2019-4945-AB03-66643A29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B5FE-432F-4E1A-94F0-DE94030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A87F-C40B-47CF-945C-B6D0C12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0FE3-555D-4B24-84D7-6E00FEF7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867C-325C-43B9-BC76-1BE39CCE88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2BE9-6E50-478C-8CD5-80A129E068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908000" y="2060640"/>
            <a:ext cx="52009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рестская крепос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48276967"/>
          <p:cNvPicPr/>
          <p:nvPr/>
        </p:nvPicPr>
        <p:blipFill>
          <a:blip r:embed="rId1"/>
          <a:stretch/>
        </p:blipFill>
        <p:spPr>
          <a:xfrm>
            <a:off x="971640" y="981000"/>
            <a:ext cx="693576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вечеру 24 июня немцы овладели Волынским укреплением, а ночью переправились в Цитадель. Таким образом, оборона сосредоточилась в Кобринском укреплении и Цитадели. Ежедневно защитникам крепости приходилось отбивать 7—8 атак, причём применялись огнемёты. 26 июня пал последний участок обороны Цитадели возле Трёхарочных ворот, 30 июня — Восточный ф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%25D0%25BA%25D1%2580%25D0%25B5%25D0%25BF%25D0%25BE%25D1%2581%25D1%2582%25D1%258C"/>
          <p:cNvPicPr/>
          <p:nvPr/>
        </p:nvPicPr>
        <p:blipFill>
          <a:blip r:embed="rId1"/>
          <a:stretch/>
        </p:blipFill>
        <p:spPr>
          <a:xfrm>
            <a:off x="1547640" y="1052640"/>
            <a:ext cx="6213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мая 1965 года Брестской крепости присвоено звание крепость-герой. С 1971 года является мемориальным комплексом. Мемориал «Брестская крепость-герой» построен по проектам скульптора Александра Павловича Кибальникова. К площади Церемониалов примыкают здание Музея обороны Брестской крепости и руины Белого дворца. Композиционным центром является главный монумент «Мужество», на его обратной стороне размещены рельефные композиции, рассказывающие об отдельных эпизодах героической обороны крепости. В 3-ярусном некрополе, композиционно связанном с монументом, захоронены останки 850 человек. Перед руинами бывшего инженерного управления горит Вечный огонь Сла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bkistmem02"/>
          <p:cNvPicPr/>
          <p:nvPr/>
        </p:nvPicPr>
        <p:blipFill>
          <a:blip r:embed="rId1"/>
          <a:stretch/>
        </p:blipFill>
        <p:spPr>
          <a:xfrm>
            <a:off x="1785960" y="1504800"/>
            <a:ext cx="55720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monument120"/>
          <p:cNvPicPr/>
          <p:nvPr/>
        </p:nvPicPr>
        <p:blipFill>
          <a:blip r:embed="rId1"/>
          <a:stretch/>
        </p:blipFill>
        <p:spPr>
          <a:xfrm>
            <a:off x="1187280" y="189000"/>
            <a:ext cx="655344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у выполнили Багрова Катя, Шаркунова Аня и Куребекова 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Файл:BrestFortress7.JPG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естская креп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— крепость в черте города Бреста в Белоруссии, у впадения реки Мухавец в Западный Б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brest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ружение крепости на месте центра старого города началось в 1833 году по проекту Карла Ивановича Оппермана. Первый камень в основание крепости был заложен 1 июня 1836 года. Основные строительные работы были завершены к 26 апреля 1842 года. Крепость состояла из цитадели и трёх защищавших её укреплений общей площадью 4 км² и протяжённостью главной крепостной линии 6,4 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000000"/>
          <p:cNvPicPr/>
          <p:nvPr/>
        </p:nvPicPr>
        <p:blipFill>
          <a:blip r:embed="rId1"/>
          <a:stretch/>
        </p:blipFill>
        <p:spPr>
          <a:xfrm>
            <a:off x="108000" y="836640"/>
            <a:ext cx="88376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 22 июня 1941 года в крепости дислоциров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стрелковых батальо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разведыватель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артиллерийский пол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2 артиллерийских дивизиона ,некоторые спецподразделения стрелковых полков и подразделения корпусных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24555029_1210308057_P_Mal_cev_SHturm_Sapungoruy_1958"/>
          <p:cNvPicPr/>
          <p:nvPr/>
        </p:nvPicPr>
        <p:blipFill>
          <a:blip r:embed="rId1"/>
          <a:stretch/>
        </p:blipFill>
        <p:spPr>
          <a:xfrm>
            <a:off x="179280" y="981000"/>
            <a:ext cx="8498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 июня в 3:15 по крепости был открыт артиллерийский огонь, заставший гарнизон врасплох. В результате были уничтожены склады, водопровод, прервана связь, нанесены крупные потери гарнизону. В 3:45 начался штурм. Сильное сопротивление немцы встретили на Волынском и особенно на Кобринском укреплении, где дело дошло до штыковых а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30:59Z</dcterms:created>
  <dc:creator>Admin</dc:creator>
  <dc:description/>
  <dc:language>en-US</dc:language>
  <cp:lastModifiedBy>юра</cp:lastModifiedBy>
  <dcterms:modified xsi:type="dcterms:W3CDTF">2017-06-01T17:33:20Z</dcterms:modified>
  <cp:revision>3</cp:revision>
  <dc:subject/>
  <dc:title>Слайд 1</dc:title>
</cp:coreProperties>
</file>