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37DD-D74E-4447-AF13-CCEC39B459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торой полови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до н.э.   чернофигурная вазопись развивается в самостоятельный стиль украшения керамики. Всё чаще на изображениях стали появляться человеческие фигуры.   Наиболее популярными мотивами изображений на вазах становятся   сражения, мифологические сцены.    Горлышко и дно сосудов украшались узором, в том числе орнаментами, в основу которых положены вьющиеся растения и пальмовые листья (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альмет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сле обжига основа становилась красной, а глянцевая глина приобретала чёрный цвет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8706-3B8C-4CBB-90EE-C72DCB9ED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ё название краснофигурная техника получила благодаря характерному соотношению цветов между фигурами и фоном, прямо противоположному чернофигурному: фон — чёрный, фигуры — крас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0993-4134-441C-8BAB-FC9D6926B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айтесь, 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DE62-0D1B-4A90-BF86-B8562485CB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менитые античные вазы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5186-72AF-4770-8396-884AF6244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е мастера создали великое множество сосудов самого разного назначения.  </a:t>
            </a:r>
            <a:r>
              <a:rPr b="0" lang="ru-RU" sz="1400" spc="-1" strike="noStrike">
                <a:solidFill>
                  <a:srgbClr val="955617"/>
                </a:solidFill>
                <a:latin typeface="Calibri"/>
              </a:rPr>
              <a:t>Амф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стродонные сосуды) для хранения оливкового масла и в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5617"/>
                </a:solidFill>
                <a:latin typeface="Calibri"/>
              </a:rPr>
              <a:t>Крат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льшие сосуды для смешивания вина с водой (неразбавленного вина греки не пи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5617"/>
                </a:solidFill>
                <a:latin typeface="Calibri"/>
              </a:rPr>
              <a:t>Кил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ящные вазы для п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идр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суды для наливания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5617"/>
                </a:solidFill>
                <a:latin typeface="Calibri"/>
              </a:rPr>
              <a:t>Лекифы</a:t>
            </a:r>
            <a:r>
              <a:rPr b="0" lang="ru-RU" sz="1200" spc="-1" strike="noStrike">
                <a:solidFill>
                  <a:srgbClr val="955617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осуды для хранения оливкового масла и благовоний, которые прикреплялись к пояс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509D-64D8-45E4-850C-AB19825EA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зопись достигла рассвета в Афинах в VI и V вв.до н.э. В ней выделяются два стиля. Чёрнофигурный Краснофигур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тиль вазы, опираясь на термины: КРАСНОФИГУРНАЯ, ЧЁРНОФИГ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6925-83F0-4C71-8406-E8BD7EA39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B2C-579C-4D85-A193-39EA6BB5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440-5EE1-4F30-BE44-11A52C11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BA4-1E7F-4E54-A56E-7233F0DB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FE0-000C-48E8-A5C6-5DD0844F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38A6-CF46-46EE-B84E-DE8DABED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01C0-8F97-42F1-9262-AC0C7414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C187-6AA5-4FE2-9A3F-7317BCD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A38D-5808-4D9D-859E-5C3215D3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FB31-EA15-48B7-8886-C3CD0F9E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0760-88EF-45BA-87E8-FE22F63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0671-43FE-4097-BD6C-5826DC83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934-DDCB-47AF-9E21-89200810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E2A3-E37E-4A80-8780-204FE99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894C-0743-4370-8FCE-9E6DAA44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2192-313A-4C53-8C59-0B5494A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6D33-1E46-429A-BAAB-81807EB0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1A76-7810-4A7A-9481-3ED7C470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97C8-02F4-4DF0-955D-F23BD0A0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1613-7EBD-47FB-BBA8-D2E48929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3DEC-9EF6-48F5-9A91-86ED7D94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35B9-42DA-4442-AC79-BD8C221C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A333E-4D79-4839-B4E6-10E83F88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5BB-0628-4E9B-8B73-FD70D9D0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9D14-2CB6-4E25-9014-413A127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3939F-E589-4E9A-9B2A-B6BA865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F1C15-2E67-4A1B-AEFB-980CC9E3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731E-C65F-4E5C-B91E-464F076C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554E-B7CC-432A-AB03-DF10AC92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9F9B-9AD5-4348-B58A-CF3E794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5A62-2F0A-413E-8B07-D30C75EF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684-A1A8-4E1D-B888-DB0E8D0B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7EB-469F-4A80-B3CB-2200A113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D7C-9AF2-4FB9-8542-FE3BEB38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1F3-6A0F-4D69-BE7E-08746A2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570-0181-44E4-8CC4-84A4E3EC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14F-9EAD-40CD-9439-990FD951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Греция (NXPowerLite).jpg"/>
          <p:cNvPicPr/>
          <p:nvPr/>
        </p:nvPicPr>
        <p:blipFill>
          <a:blip r:embed="rId2"/>
          <a:stretch/>
        </p:blipFill>
        <p:spPr>
          <a:xfrm>
            <a:off x="14400" y="4680"/>
            <a:ext cx="9115200" cy="684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1FD2-64E2-4B20-A1A9-929697DA4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Греция (NXPowerLite).jpg"/>
          <p:cNvPicPr/>
          <p:nvPr/>
        </p:nvPicPr>
        <p:blipFill>
          <a:blip r:embed="rId2"/>
          <a:stretch/>
        </p:blipFill>
        <p:spPr>
          <a:xfrm>
            <a:off x="14400" y="4680"/>
            <a:ext cx="9115200" cy="6848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italy.gif"/>
          <p:cNvPicPr/>
          <p:nvPr/>
        </p:nvPicPr>
        <p:blipFill>
          <a:blip r:embed="rId3"/>
          <a:stretch/>
        </p:blipFill>
        <p:spPr>
          <a:xfrm>
            <a:off x="611280" y="4221000"/>
            <a:ext cx="2066760" cy="20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Picture 11" descr="C:\Documents and Settings\Ирина Алексеевна\Мои документы\Мои рисунки\Акрополь стилизов. .gif"/>
          <p:cNvPicPr/>
          <p:nvPr/>
        </p:nvPicPr>
        <p:blipFill>
          <a:blip r:embed="rId4"/>
          <a:stretch/>
        </p:blipFill>
        <p:spPr>
          <a:xfrm>
            <a:off x="6084720" y="549360"/>
            <a:ext cx="2498760" cy="2050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1A3-B5F0-4D5C-A9B7-B6D97EFDB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Греция (NXPowerLite).jpg"/>
          <p:cNvPicPr/>
          <p:nvPr/>
        </p:nvPicPr>
        <p:blipFill>
          <a:blip r:embed="rId2"/>
          <a:stretch/>
        </p:blipFill>
        <p:spPr>
          <a:xfrm>
            <a:off x="14400" y="4680"/>
            <a:ext cx="9115200" cy="684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:\Documents and Settings\Ирина Алексеевна\Мои документы\Мои рисунки\Акрополь стилизов. .gif"/>
          <p:cNvPicPr/>
          <p:nvPr/>
        </p:nvPicPr>
        <p:blipFill>
          <a:blip r:embed="rId3"/>
          <a:stretch/>
        </p:blipFill>
        <p:spPr>
          <a:xfrm>
            <a:off x="7020000" y="549360"/>
            <a:ext cx="151272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0E46-E3A3-4E45-816C-F236D7F20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6424560" cy="16700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907920"/>
            <a:ext cx="7083720" cy="31147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22100"/>
                </a:solidFill>
                <a:latin typeface="Bookman Old Style"/>
                <a:ea typeface="Adobe Fangsong Std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3643200" y="40006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итина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офигурные ваз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571680" y="1357200"/>
            <a:ext cx="3643200" cy="383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s://upload.wikimedia.org/wikipedia/commons/thumb/5/52/Herakles_Olympos_Louvre_F30_full.jpg/220px-Herakles_Olympos_Louvre_F30_full.jpg"/>
          <p:cNvPicPr/>
          <p:nvPr/>
        </p:nvPicPr>
        <p:blipFill>
          <a:blip r:embed="rId2"/>
          <a:stretch/>
        </p:blipFill>
        <p:spPr>
          <a:xfrm>
            <a:off x="5643720" y="1428840"/>
            <a:ext cx="2500200" cy="41702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6"/>
          <p:cNvSpPr/>
          <p:nvPr/>
        </p:nvSpPr>
        <p:spPr>
          <a:xfrm>
            <a:off x="6072120" y="5643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ас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7"/>
          <p:cNvSpPr/>
          <p:nvPr/>
        </p:nvSpPr>
        <p:spPr>
          <a:xfrm>
            <a:off x="928800" y="5500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е́кий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офигурные ваз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Картинки по запросу загадка о греческих вазах"/>
          <p:cNvPicPr/>
          <p:nvPr/>
        </p:nvPicPr>
        <p:blipFill>
          <a:blip r:embed="rId1"/>
          <a:stretch/>
        </p:blipFill>
        <p:spPr>
          <a:xfrm>
            <a:off x="571680" y="1785960"/>
            <a:ext cx="3786120" cy="3792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Картинки по запросу загадка о греческих вазах"/>
          <p:cNvPicPr/>
          <p:nvPr/>
        </p:nvPicPr>
        <p:blipFill>
          <a:blip r:embed="rId2"/>
          <a:stretch/>
        </p:blipFill>
        <p:spPr>
          <a:xfrm>
            <a:off x="4857840" y="1428840"/>
            <a:ext cx="35240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греческий орна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Картинки по запросу загадка о греческих вазах"/>
          <p:cNvPicPr/>
          <p:nvPr/>
        </p:nvPicPr>
        <p:blipFill>
          <a:blip r:embed="rId1"/>
          <a:stretch/>
        </p:blipFill>
        <p:spPr>
          <a:xfrm>
            <a:off x="1143000" y="1357200"/>
            <a:ext cx="51436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H:\Греческая керамика\вазы греции\or6_2f1.jpg"/>
          <p:cNvPicPr/>
          <p:nvPr/>
        </p:nvPicPr>
        <p:blipFill>
          <a:blip r:embed="rId1"/>
          <a:stretch/>
        </p:blipFill>
        <p:spPr>
          <a:xfrm>
            <a:off x="4214880" y="4143240"/>
            <a:ext cx="4394160" cy="217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714240" y="78588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1143000" y="50720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ьмет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право 9"/>
          <p:cNvSpPr/>
          <p:nvPr/>
        </p:nvSpPr>
        <p:spPr>
          <a:xfrm>
            <a:off x="2928960" y="500076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500720" y="15717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ПАУ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Сиртаки танцев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нцевали и уст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с пользой отдых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вазу распис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форы, лекиф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сюжеты – миф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ёрный лак и красный –                                                                                                         Отдохнём прекрас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е предло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м для меня стал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 мне интересно был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трудным для меня оказа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826920" y="836640"/>
            <a:ext cx="684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2a04"/>
                </a:solidFill>
                <a:latin typeface="Candara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582a04"/>
                </a:solidFill>
                <a:latin typeface="Candara"/>
                <a:ea typeface="Arial"/>
              </a:rPr>
              <a:t>Источник шаблона презента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82a04"/>
                </a:solidFill>
                <a:latin typeface="Candara"/>
                <a:ea typeface="Arial"/>
              </a:rPr>
              <a:t>Олифирова Татьяна Иван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82a04"/>
                </a:solidFill>
                <a:latin typeface="Candara"/>
                <a:ea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82a04"/>
                </a:solidFill>
                <a:latin typeface="Candara"/>
                <a:ea typeface="Arial"/>
              </a:rPr>
              <a:t>СОШ № 14 г. Северодонец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1476360" y="4941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2a04"/>
                </a:solidFill>
                <a:latin typeface="Candar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43280" y="857160"/>
            <a:ext cx="38721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лерия Брюсова “Эгейские вазы”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500040"/>
            <a:ext cx="43574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ленительны и неж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изысканно - небреж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гармонически - размер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облазнительно – невер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законченны и цель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римо – нераздель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вершенность линий их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чит, как полнопевный стих.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грозных и огромных пифов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онких, выточенных скифов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оры, лекифы, фиал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баллы и самый малый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кий, все – живое чудо: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тах разбитого сосуда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у смерти разреша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тся некая душа!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4857840" y="3357720"/>
            <a:ext cx="376848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годня на уроке мы узнае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ревнегреческая вазопи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чего изготавливали ва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ы греческих ваз и их предназна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ы вазопис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ы”, “посуда” на латинском – “вазы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пис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оспись керамических сосу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греч. “керамос” - глина )  - изделия из обожженной глины, пошло от названия квартала гончаров в Афинах – Керам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инского – «украшение») - узор, состоящий из ритмически повторяющихся элементов для украшения чего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мет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скульптурный или живописный орнамент, напоминающий пальмовые лист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андр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еометрический узор в виде изогнутых ли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ревнегреческая вазопис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—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52578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ративная роспись сосудов, выполненная керамическим способом, т. е. специальными красками с последующим обжигом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200px-Athena_Herakles_Staatliche_Antikensammlungen_2301_A_full"/>
          <p:cNvPicPr/>
          <p:nvPr/>
        </p:nvPicPr>
        <p:blipFill>
          <a:blip r:embed="rId1"/>
          <a:stretch/>
        </p:blipFill>
        <p:spPr>
          <a:xfrm>
            <a:off x="6143760" y="1500120"/>
            <a:ext cx="2235240" cy="3240000"/>
          </a:xfrm>
          <a:prstGeom prst="rect">
            <a:avLst/>
          </a:prstGeom>
          <a:ln w="38160">
            <a:solidFill>
              <a:srgbClr val="7c5a54"/>
            </a:solidFill>
            <a:miter/>
          </a:ln>
        </p:spPr>
      </p:pic>
      <p:sp>
        <p:nvSpPr>
          <p:cNvPr id="150" name="Прямоугольник 4"/>
          <p:cNvSpPr/>
          <p:nvPr/>
        </p:nvSpPr>
        <p:spPr>
          <a:xfrm>
            <a:off x="6000840" y="5000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фора-билинг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зописца Андок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ракл и Аф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. 520 г. до н. э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Содержимое 3" descr="800px-Plaque_Penteskouphia_MNB2858.jpg"/>
          <p:cNvPicPr/>
          <p:nvPr/>
        </p:nvPicPr>
        <p:blipFill>
          <a:blip r:embed="rId1"/>
          <a:stretch/>
        </p:blipFill>
        <p:spPr>
          <a:xfrm>
            <a:off x="642960" y="4286160"/>
            <a:ext cx="3143160" cy="21812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4000680" y="4714920"/>
            <a:ext cx="40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ная мастерская. Коринфская пинака из Пентескуфии. 575-550 гг. до н. э. Л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642960" y="714240"/>
            <a:ext cx="77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ну часто размачивали на месте добычи и смешивали с другими добавками, придававшими глине желаемый цвет после обжига. Глина в Коринфе имела желтоватый оттенок, в Аттике — красноватый, а в нижней Италии — бурый цвет. Перед обработкой глина подвергалась очистке. Для этого в гончарной мастерской глину размачивали или промывали в большой ёмкости. При этом крупные частицы глинозёма опускались на дно, а оставшиеся органические примеси поднимались к поверхности воды. Глиняная масса помещалась затем во второй бак, где из неё удалялись излишки воды. Далее глину вынимали и долгое время выдерживали во влажном состоянии. Во время такого созревания глина старела и становилась эластич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греческих ваз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agoj.ru/foto4.png?i=18512&amp;k=foto-grecheskih-vaz"/>
          <p:cNvPicPr/>
          <p:nvPr/>
        </p:nvPicPr>
        <p:blipFill>
          <a:blip r:embed="rId1"/>
          <a:stretch/>
        </p:blipFill>
        <p:spPr>
          <a:xfrm>
            <a:off x="785880" y="1285920"/>
            <a:ext cx="7578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3857760" cy="3243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be.sci-lib.com/picture/b9/b9_358-0.jpg"/>
          <p:cNvPicPr/>
          <p:nvPr/>
        </p:nvPicPr>
        <p:blipFill>
          <a:blip r:embed="rId2"/>
          <a:stretch/>
        </p:blipFill>
        <p:spPr>
          <a:xfrm>
            <a:off x="4286160" y="2928960"/>
            <a:ext cx="4573800" cy="36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s://im0-tub-ru.yandex.net/i?id=34f432e17ca18be934fecb5682159b5e-l&amp;n=13"/>
          <p:cNvPicPr/>
          <p:nvPr/>
        </p:nvPicPr>
        <p:blipFill>
          <a:blip r:embed="rId3"/>
          <a:stretch/>
        </p:blipFill>
        <p:spPr>
          <a:xfrm>
            <a:off x="857160" y="3929040"/>
            <a:ext cx="2786040" cy="243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www.mif-medyza.ru/wp-content/uploads/2016/11/27.jpg"/>
          <p:cNvPicPr/>
          <p:nvPr/>
        </p:nvPicPr>
        <p:blipFill>
          <a:blip r:embed="rId4"/>
          <a:stretch/>
        </p:blipFill>
        <p:spPr>
          <a:xfrm>
            <a:off x="5357880" y="571680"/>
            <a:ext cx="250020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fb.ru/misc/i/gallery/23068/611089.jpg"/>
          <p:cNvPicPr/>
          <p:nvPr/>
        </p:nvPicPr>
        <p:blipFill>
          <a:blip r:embed="rId1"/>
          <a:stretch/>
        </p:blipFill>
        <p:spPr>
          <a:xfrm>
            <a:off x="714240" y="857160"/>
            <a:ext cx="3081600" cy="2786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gelins.ru/attachments/Image/ca8654c8d423.jpg?template=generic"/>
          <p:cNvPicPr/>
          <p:nvPr/>
        </p:nvPicPr>
        <p:blipFill>
          <a:blip r:embed="rId2"/>
          <a:stretch/>
        </p:blipFill>
        <p:spPr>
          <a:xfrm>
            <a:off x="5286240" y="857160"/>
            <a:ext cx="3000600" cy="42372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642960" y="414324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офигу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71680" y="492912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фигу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верх 10"/>
          <p:cNvSpPr/>
          <p:nvPr/>
        </p:nvSpPr>
        <p:spPr>
          <a:xfrm>
            <a:off x="1785960" y="3714840"/>
            <a:ext cx="100008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право 11"/>
          <p:cNvSpPr/>
          <p:nvPr/>
        </p:nvSpPr>
        <p:spPr>
          <a:xfrm>
            <a:off x="3929040" y="5072040"/>
            <a:ext cx="2000160" cy="714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4T02:44:33Z</dcterms:created>
  <dc:creator>Таня</dc:creator>
  <dc:description/>
  <dc:language>en-US</dc:language>
  <cp:lastModifiedBy>User</cp:lastModifiedBy>
  <dcterms:modified xsi:type="dcterms:W3CDTF">2017-03-26T15:53:18Z</dcterms:modified>
  <cp:revision>27</cp:revision>
  <dc:subject/>
  <dc:title>Слайд 1</dc:title>
</cp:coreProperties>
</file>