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18C-1594-470A-AC5A-9FF0A0C4FA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торой полови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до н.э.   чернофигурная вазопись развивается в самостоятельный стиль украшения керамики. Всё чаще на изображениях стали появляться человеческие фигуры.   Наиболее популярными мотивами изображений на вазах становятся   сражения, мифологические сцены.    Горлышко и дно сосудов украшались узором, в том числе орнаментами, в основу которых положены вьющиеся растения и пальмовые листья (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льмет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сле обжига основа становилась красной, а глянцевая глина приобретала чёрный цвет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919-BF96-4C46-8334-23A043111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ё название краснофигурная техника получила благодаря характерному соотношению цветов между фигурами и фоном, прямо противоположному чернофигурному: фон — чёрный, фигуры — крас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520-3B1A-4160-9D47-1942C2ADF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айтесь, 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734-D6E6-4F56-AC6D-C4AB93E11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менитые античные вазы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6E25-A6C1-4E6A-AE43-1CE2672D9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е мастера создали великое множество сосудов самого разного назначения.  </a:t>
            </a: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Амф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стродонные сосуды) для хранения оливкового масла и в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Крат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льшие сосуды для смешивания вина с водой (неразбавленного вина греки не пи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Кил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ящные вазы для п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идр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суды для наливания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5617"/>
                </a:solidFill>
                <a:latin typeface="Calibri"/>
              </a:rPr>
              <a:t>Лекифы</a:t>
            </a:r>
            <a:r>
              <a:rPr b="0" lang="ru-RU" sz="1200" spc="-1" strike="noStrike">
                <a:solidFill>
                  <a:srgbClr val="955617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осуды для хранения оливкового масла и благовоний, которые прикреплялись к поя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88CD-84AC-4772-AFDF-CD5D45407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зопись достигла рассвета в Афинах в VI и V вв.до н.э. В ней выделяются два стиля. Чёрнофигурный Краснофигур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тиль вазы, опираясь на термины: КРАСНОФИГУРНАЯ, ЧЁРНОФИГ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15CB-EE59-45B5-8EFB-2365EFCE2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AD1-74D5-48BC-9577-00878636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9F8-325E-4FDF-B2A5-2B5D011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55B-2F6F-462F-870D-AD86F3ED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F24-9808-42A5-A09D-CF06439A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E79-B5B3-4A47-BB50-92FDD416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3CAE-5261-4096-888D-BA54124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353-027D-4B54-9AC5-099313CA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9CD-C7D6-485E-B7C5-FFA2DBC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C312-38FA-4E37-B643-6DE44185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B66-F8A7-4C78-A710-A6619303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1E4-71FE-4ECD-8187-7C41862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9FF-961B-4D75-B326-86B5C1D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825B-0232-4043-880A-0A1D256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7B18-EAE9-4DAE-90D0-085EA15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DBDA-BC37-4FAC-A9CB-B11A92B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D1B-0E8B-4A42-ADAF-DA60BF33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9B3-E766-4849-86B9-B0D9705A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A642-CF36-4662-91D2-EAC87A5E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6B80-77B9-40FC-91C8-D56F86F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FA96-E0D1-4BA8-A8C4-E23BE56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C4B2-6530-497E-98C1-DC682A8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5528-698C-455B-986C-3479122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E80-A946-4ADC-A289-08745F5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DBF1-54C1-4D81-9023-94FC0A0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01AB-FAED-461A-B92A-05BA744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8CC6-3B68-4E36-B345-FD382BC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750C-D63F-444B-9203-CA54D42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00F4-DD86-47AA-A6E6-2063F4C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BE19-A4E2-495F-A348-565019E0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E83C-328A-48F7-80BB-063BD0C7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229-0FFF-4A84-ADC0-B46FA8C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985-F75F-47FB-BF69-1A2B66D0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8EB-CC06-4BE5-A8CA-57CB981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7D5-AC04-4C48-B6E8-B8A5C83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242-2D43-4B5B-AEF3-8571824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189-0A8E-4B62-B7F7-A5612F4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A3B5-842D-4264-8382-1611DA788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italy.gif"/>
          <p:cNvPicPr/>
          <p:nvPr/>
        </p:nvPicPr>
        <p:blipFill>
          <a:blip r:embed="rId3"/>
          <a:stretch/>
        </p:blipFill>
        <p:spPr>
          <a:xfrm>
            <a:off x="611280" y="4221000"/>
            <a:ext cx="2066760" cy="20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11" descr="C:\Documents and Settings\Ирина Алексеевна\Мои документы\Мои рисунки\Акрополь стилизов. .gif"/>
          <p:cNvPicPr/>
          <p:nvPr/>
        </p:nvPicPr>
        <p:blipFill>
          <a:blip r:embed="rId4"/>
          <a:stretch/>
        </p:blipFill>
        <p:spPr>
          <a:xfrm>
            <a:off x="6084720" y="549360"/>
            <a:ext cx="2498760" cy="2050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3D7-76D5-4F07-8285-83F72056B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Греция (NXPowerLite).jpg"/>
          <p:cNvPicPr/>
          <p:nvPr/>
        </p:nvPicPr>
        <p:blipFill>
          <a:blip r:embed="rId2"/>
          <a:stretch/>
        </p:blipFill>
        <p:spPr>
          <a:xfrm>
            <a:off x="14400" y="4680"/>
            <a:ext cx="9115200" cy="684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Documents and Settings\Ирина Алексеевна\Мои документы\Мои рисунки\Акрополь стилизов. .gif"/>
          <p:cNvPicPr/>
          <p:nvPr/>
        </p:nvPicPr>
        <p:blipFill>
          <a:blip r:embed="rId3"/>
          <a:stretch/>
        </p:blipFill>
        <p:spPr>
          <a:xfrm>
            <a:off x="7020000" y="54936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0263-EDA6-43E8-8648-9BFEFB2DF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6424560" cy="1670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907920"/>
            <a:ext cx="7083720" cy="311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2100"/>
                </a:solidFill>
                <a:latin typeface="Bookman Old Style"/>
                <a:ea typeface="Adobe Fangsong Std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643200" y="40006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ит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офигурные ваз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571680" y="1357200"/>
            <a:ext cx="3643200" cy="383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s://upload.wikimedia.org/wikipedia/commons/thumb/5/52/Herakles_Olympos_Louvre_F30_full.jpg/220px-Herakles_Olympos_Louvre_F30_full.jpg"/>
          <p:cNvPicPr/>
          <p:nvPr/>
        </p:nvPicPr>
        <p:blipFill>
          <a:blip r:embed="rId2"/>
          <a:stretch/>
        </p:blipFill>
        <p:spPr>
          <a:xfrm>
            <a:off x="5643720" y="1428840"/>
            <a:ext cx="2500200" cy="41702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607212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ас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928800" y="5500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е́кий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офигурные ваз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Картинки по запросу загадка о греческих вазах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3792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артинки по запросу загадка о греческих вазах"/>
          <p:cNvPicPr/>
          <p:nvPr/>
        </p:nvPicPr>
        <p:blipFill>
          <a:blip r:embed="rId2"/>
          <a:stretch/>
        </p:blipFill>
        <p:spPr>
          <a:xfrm>
            <a:off x="4857840" y="1428840"/>
            <a:ext cx="3524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Картинки по запросу загадка о греческих вазах"/>
          <p:cNvPicPr/>
          <p:nvPr/>
        </p:nvPicPr>
        <p:blipFill>
          <a:blip r:embed="rId1"/>
          <a:stretch/>
        </p:blipFill>
        <p:spPr>
          <a:xfrm>
            <a:off x="1143000" y="1357200"/>
            <a:ext cx="5143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H:\Греческая керамика\вазы греции\or6_2f1.jpg"/>
          <p:cNvPicPr/>
          <p:nvPr/>
        </p:nvPicPr>
        <p:blipFill>
          <a:blip r:embed="rId1"/>
          <a:stretch/>
        </p:blipFill>
        <p:spPr>
          <a:xfrm>
            <a:off x="4214880" y="4143240"/>
            <a:ext cx="439416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714240" y="78588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143000" y="50720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мет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9"/>
          <p:cNvSpPr/>
          <p:nvPr/>
        </p:nvSpPr>
        <p:spPr>
          <a:xfrm>
            <a:off x="2928960" y="500076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500720" y="15717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ПАУ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Сиртаки танцев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цевали и ус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с пользой отдых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азу распис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оры, лекиф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южеты – миф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ый лак и красный –                                                                                                         Отдохнём прекрас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м для меня ста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 мне интересно бы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трудным для меня оказа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26920" y="836640"/>
            <a:ext cx="684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2a04"/>
                </a:solidFill>
                <a:latin typeface="Candar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Источник шаблона презент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Олифирова Татьяна Иван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82a04"/>
                </a:solidFill>
                <a:latin typeface="Candara"/>
                <a:ea typeface="Arial"/>
              </a:rPr>
              <a:t>СОШ № 14 г. Северодонец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1476360" y="4941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2a04"/>
                </a:solidFill>
                <a:latin typeface="Candar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3280" y="857160"/>
            <a:ext cx="38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лерия Брюсова “Эгейские вазы”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500040"/>
            <a:ext cx="4357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ленительны и неж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изысканно - небреж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гармонически - размер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облазнительно – невер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законченны и цель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римо – нераздельн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ершенность линий их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, как полнопевный стих.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розных и огромных пифов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нких, выточенных скифов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ры, лекифы, фиалы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баллы и самый малый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кий, все – живое чудо: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тах разбитого сосуда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у смерти разреша,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тся некая душа!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857840" y="3357720"/>
            <a:ext cx="376848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на уроке мы узна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ревнегреческая вазопи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чего изготавливали ва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греческих ваз и их предназна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вазопис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ы”, “посуда” на латинском – “вазы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пи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оспись керамических сосу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м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. “керамос” - глина )  - изделия из обожженной глины, пошло от названия квартала гончаров в Афинах – Керам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инского – «украшение») - узор, состоящий из ритмически повторяющихся элементов для украшения чего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мет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кульптурный или живописный орнамент, напоминающий пальмовые лист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анд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ометрический узор в виде изогнутых ли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ревнегреческая вазопис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—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52578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ративная роспись сосудов, выполненная керамическим способом, т. е. специальными красками с последующим обжиго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200px-Athena_Herakles_Staatliche_Antikensammlungen_2301_A_full"/>
          <p:cNvPicPr/>
          <p:nvPr/>
        </p:nvPicPr>
        <p:blipFill>
          <a:blip r:embed="rId1"/>
          <a:stretch/>
        </p:blipFill>
        <p:spPr>
          <a:xfrm>
            <a:off x="6143760" y="1500120"/>
            <a:ext cx="2235240" cy="3240000"/>
          </a:xfrm>
          <a:prstGeom prst="rect">
            <a:avLst/>
          </a:prstGeom>
          <a:ln w="38160">
            <a:solidFill>
              <a:srgbClr val="7c5a54"/>
            </a:solidFill>
            <a:miter/>
          </a:ln>
        </p:spPr>
      </p:pic>
      <p:sp>
        <p:nvSpPr>
          <p:cNvPr id="150" name="Прямоугольник 4"/>
          <p:cNvSpPr/>
          <p:nvPr/>
        </p:nvSpPr>
        <p:spPr>
          <a:xfrm>
            <a:off x="6000840" y="5000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фора-билинг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зописца Андок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акл и Аф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. 520 г. до н. э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800px-Plaque_Penteskouphia_MNB2858.jpg"/>
          <p:cNvPicPr/>
          <p:nvPr/>
        </p:nvPicPr>
        <p:blipFill>
          <a:blip r:embed="rId1"/>
          <a:stretch/>
        </p:blipFill>
        <p:spPr>
          <a:xfrm>
            <a:off x="642960" y="4286160"/>
            <a:ext cx="3143160" cy="21812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000680" y="4714920"/>
            <a:ext cx="40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ная мастерская. Коринфская пинака из Пентескуфии. 575-550 гг. до н. э. Л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642960" y="71424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у часто размачивали на месте добычи и смешивали с другими добавками, придававшими глине желаемый цвет после обжига. Глина в Коринфе имела желтоватый оттенок, в Аттике — красноватый, а в нижней Италии — бурый цвет. Перед обработкой глина подвергалась очистке. Для этого в гончарной мастерской глину размачивали или промывали в большой ёмкости. При этом крупные частицы глинозёма опускались на дно, а оставшиеся органические примеси поднимались к поверхности воды. Глиняная масса помещалась затем во второй бак, где из неё удалялись излишки воды. Далее глину вынимали и долгое время выдерживали во влажном состоянии. Во время такого созревания глина старела и становилась эластич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реческих ва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agoj.ru/foto4.png?i=18512&amp;k=foto-grecheskih-vaz"/>
          <p:cNvPicPr/>
          <p:nvPr/>
        </p:nvPicPr>
        <p:blipFill>
          <a:blip r:embed="rId1"/>
          <a:stretch/>
        </p:blipFill>
        <p:spPr>
          <a:xfrm>
            <a:off x="785880" y="1285920"/>
            <a:ext cx="7578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857760" cy="3243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be.sci-lib.com/picture/b9/b9_358-0.jpg"/>
          <p:cNvPicPr/>
          <p:nvPr/>
        </p:nvPicPr>
        <p:blipFill>
          <a:blip r:embed="rId2"/>
          <a:stretch/>
        </p:blipFill>
        <p:spPr>
          <a:xfrm>
            <a:off x="4286160" y="2928960"/>
            <a:ext cx="4573800" cy="36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s://im0-tub-ru.yandex.net/i?id=34f432e17ca18be934fecb5682159b5e-l&amp;n=13"/>
          <p:cNvPicPr/>
          <p:nvPr/>
        </p:nvPicPr>
        <p:blipFill>
          <a:blip r:embed="rId3"/>
          <a:stretch/>
        </p:blipFill>
        <p:spPr>
          <a:xfrm>
            <a:off x="857160" y="3929040"/>
            <a:ext cx="2786040" cy="243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www.mif-medyza.ru/wp-content/uploads/2016/11/27.jpg"/>
          <p:cNvPicPr/>
          <p:nvPr/>
        </p:nvPicPr>
        <p:blipFill>
          <a:blip r:embed="rId4"/>
          <a:stretch/>
        </p:blipFill>
        <p:spPr>
          <a:xfrm>
            <a:off x="5357880" y="571680"/>
            <a:ext cx="25002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fb.ru/misc/i/gallery/23068/611089.jpg"/>
          <p:cNvPicPr/>
          <p:nvPr/>
        </p:nvPicPr>
        <p:blipFill>
          <a:blip r:embed="rId1"/>
          <a:stretch/>
        </p:blipFill>
        <p:spPr>
          <a:xfrm>
            <a:off x="714240" y="857160"/>
            <a:ext cx="3081600" cy="2786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gelins.ru/attachments/Image/ca8654c8d423.jpg?template=generic"/>
          <p:cNvPicPr/>
          <p:nvPr/>
        </p:nvPicPr>
        <p:blipFill>
          <a:blip r:embed="rId2"/>
          <a:stretch/>
        </p:blipFill>
        <p:spPr>
          <a:xfrm>
            <a:off x="5286240" y="857160"/>
            <a:ext cx="3000600" cy="42372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642960" y="41432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офиг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71680" y="49291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фигу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верх 10"/>
          <p:cNvSpPr/>
          <p:nvPr/>
        </p:nvSpPr>
        <p:spPr>
          <a:xfrm>
            <a:off x="1785960" y="3714840"/>
            <a:ext cx="100008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право 11"/>
          <p:cNvSpPr/>
          <p:nvPr/>
        </p:nvSpPr>
        <p:spPr>
          <a:xfrm>
            <a:off x="3929040" y="5072040"/>
            <a:ext cx="2000160" cy="714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4T02:44:33Z</dcterms:created>
  <dc:creator>Таня</dc:creator>
  <dc:description/>
  <dc:language>en-US</dc:language>
  <cp:lastModifiedBy>User</cp:lastModifiedBy>
  <dcterms:modified xsi:type="dcterms:W3CDTF">2017-03-26T15:53:18Z</dcterms:modified>
  <cp:revision>27</cp:revision>
  <dc:subject/>
  <dc:title>Слайд 1</dc:title>
</cp:coreProperties>
</file>