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D60-B2CE-4085-BF55-E61FE9E3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880-347C-4040-83E6-DC0A06F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BBF-B9B1-40E0-B005-77934D1A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F52-B3D5-484E-A1F9-6C94B8E2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4E8-9467-4A89-886F-DC8560C3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EF0-1951-41DE-BDC6-5BCF9089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E09-57D0-4FFC-A66D-0BAD622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193-8CA8-40B3-9E9E-6DC195F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408-B82A-4223-8D24-091EBC6B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867-A9D5-4F2C-83F1-1966767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A34-BF22-42AD-A424-493022D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9B6-B323-4197-9661-8AD9073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D6F3-4DEA-4D08-9B8B-42F2461C2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Урок русского языка </a:t>
            </a:r>
            <a:br>
              <a:rPr sz="5400"/>
            </a:b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 5 класс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96720" y="588312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209680" y="571500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622440" y="907920"/>
            <a:ext cx="7899120" cy="5950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32000" y="115920"/>
            <a:ext cx="676908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04920" y="11160"/>
            <a:ext cx="89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ем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987640" y="76500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ите задание №2. (Учащиеся №1,3 – предложения№1,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,4 – предложения№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мка 9"/>
          <p:cNvSpPr/>
          <p:nvPr/>
        </p:nvSpPr>
        <p:spPr>
          <a:xfrm>
            <a:off x="2987640" y="2133720"/>
            <a:ext cx="5929200" cy="4429080"/>
          </a:xfrm>
          <a:custGeom>
            <a:avLst/>
            <a:gdLst/>
            <a:ahLst/>
            <a:rect l="l" t="t" r="r" b="b"/>
            <a:pathLst>
              <a:path w="5929313" h="4429125">
                <a:moveTo>
                  <a:pt x="0" y="0"/>
                </a:moveTo>
                <a:lnTo>
                  <a:pt x="5929313" y="0"/>
                </a:lnTo>
                <a:lnTo>
                  <a:pt x="5929313" y="4429125"/>
                </a:lnTo>
                <a:lnTo>
                  <a:pt x="0" y="4429125"/>
                </a:lnTo>
                <a:lnTo>
                  <a:pt x="0" y="0"/>
                </a:lnTo>
                <a:close/>
                <a:moveTo>
                  <a:pt x="553641" y="553641"/>
                </a:moveTo>
                <a:lnTo>
                  <a:pt x="553641" y="3875484"/>
                </a:lnTo>
                <a:lnTo>
                  <a:pt x="5375672" y="3875484"/>
                </a:lnTo>
                <a:lnTo>
                  <a:pt x="5375672" y="553641"/>
                </a:lnTo>
                <a:lnTo>
                  <a:pt x="553641" y="553641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3276720" y="6093000"/>
            <a:ext cx="5472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уровень зад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2711520" cy="5845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635280" y="2781360"/>
            <a:ext cx="46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1. Раскройте скобки, согласовывая глаголы с подлежа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2. Раскройте скобки, согласовывая глаголы с подлежащим. Подчеркните глаголы как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.  Раскройте скобки, согласовывая глаголы с подлежащим. Подчеркните глаголы как члены предложения. Обозначьте морфологические признаки глаголов (время, лицо, число,род (в прош. вр.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1"/>
          <p:cNvSpPr/>
          <p:nvPr/>
        </p:nvSpPr>
        <p:spPr>
          <a:xfrm>
            <a:off x="826920" y="115920"/>
            <a:ext cx="805500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58880" y="1700280"/>
            <a:ext cx="8123040" cy="448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зд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ждое лето к бабушке в деревню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(наст. вр. , 3 – е лицо, ед. ч.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бедил в себе страх и отправился в лес один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.(прош. вр. , ед. ч. , м. 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дите, пожалуйста, книги на полку.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(наст. вр. , 2-е лицо, мн.ч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ы машешь руками?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     (наст. вр. , 2-е лицо , ед. 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1835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1224000" y="42210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3"/>
          <p:cNvSpPr/>
          <p:nvPr/>
        </p:nvSpPr>
        <p:spPr>
          <a:xfrm>
            <a:off x="1255680" y="414972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>
            <a:off x="6156360" y="32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6156360" y="3213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V="1">
            <a:off x="3348000" y="5157360"/>
            <a:ext cx="1506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>
            <a:off x="3319560" y="5229360"/>
            <a:ext cx="15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1"/>
          <p:cNvSpPr/>
          <p:nvPr/>
        </p:nvSpPr>
        <p:spPr>
          <a:xfrm>
            <a:off x="1619280" y="32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4"/>
          <p:cNvSpPr/>
          <p:nvPr/>
        </p:nvSpPr>
        <p:spPr>
          <a:xfrm>
            <a:off x="1619280" y="32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55640" y="26028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утка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14200" y="115920"/>
            <a:ext cx="89298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м наблю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xrest.ru/images/collection/00699/196/original.jpg"/>
          <p:cNvPicPr/>
          <p:nvPr/>
        </p:nvPicPr>
        <p:blipFill>
          <a:blip r:embed="rId1"/>
          <a:stretch/>
        </p:blipFill>
        <p:spPr>
          <a:xfrm>
            <a:off x="209520" y="907920"/>
            <a:ext cx="1292400" cy="17290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4" descr=""/>
          <p:cNvPicPr/>
          <p:nvPr/>
        </p:nvPicPr>
        <p:blipFill>
          <a:blip r:embed="rId2"/>
          <a:stretch/>
        </p:blipFill>
        <p:spPr>
          <a:xfrm>
            <a:off x="2341440" y="1127160"/>
            <a:ext cx="6046920" cy="950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41280" y="3114720"/>
            <a:ext cx="624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чите раве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Начальная форма глагола = неопределённая форма глагола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3"/>
          <a:stretch/>
        </p:blipFill>
        <p:spPr>
          <a:xfrm>
            <a:off x="6367320" y="4797360"/>
            <a:ext cx="2776680" cy="2082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521000" y="540864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нфини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304920" y="11160"/>
            <a:ext cx="85881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ем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"/>
          <p:cNvPicPr/>
          <p:nvPr/>
        </p:nvPicPr>
        <p:blipFill>
          <a:blip r:embed="rId1"/>
          <a:stretch/>
        </p:blipFill>
        <p:spPr>
          <a:xfrm>
            <a:off x="6985080" y="1825560"/>
            <a:ext cx="1725480" cy="2055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"/>
          <p:cNvPicPr/>
          <p:nvPr/>
        </p:nvPicPr>
        <p:blipFill>
          <a:blip r:embed="rId2"/>
          <a:stretch/>
        </p:blipFill>
        <p:spPr>
          <a:xfrm>
            <a:off x="84240" y="774720"/>
            <a:ext cx="6454800" cy="2103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0"/>
          <p:cNvSpPr/>
          <p:nvPr/>
        </p:nvSpPr>
        <p:spPr>
          <a:xfrm>
            <a:off x="304920" y="1484280"/>
            <a:ext cx="45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ишем граф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116000" y="2133720"/>
            <a:ext cx="20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Ь     или   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79280" y="358776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Он) готовит..ся   к празд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влеч..ся интересной кни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ни ничего не боят..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до стрич..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6804000" y="3833640"/>
            <a:ext cx="2089080" cy="78588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7236000" y="4862520"/>
            <a:ext cx="1081080" cy="180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Картинки по запросу картинки анализ"/>
          <p:cNvPicPr/>
          <p:nvPr/>
        </p:nvPicPr>
        <p:blipFill>
          <a:blip r:embed="rId1"/>
          <a:stretch/>
        </p:blipFill>
        <p:spPr>
          <a:xfrm>
            <a:off x="7008840" y="4430880"/>
            <a:ext cx="1839960" cy="20160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2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 материал таблицы и заполните третью коло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08000" y="1581120"/>
            <a:ext cx="6662520" cy="4888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611280" y="170028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340000" y="162864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СНЕЕТ (НЕБ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939920" y="1989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50920" y="2492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Общее грамматическ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41128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ействие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941000" y="2924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0800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Морфолог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3. Синтаксическая 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2411280" y="4437000"/>
            <a:ext cx="21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чальная 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Н.ф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Яснеть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– 1 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наст. вр., ед.ч., 3-е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867920" y="4514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4966920" y="585792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……………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1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 материал таблицы и заполните третью коло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793800" y="2276640"/>
            <a:ext cx="74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ветлеет 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воздух,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яснее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небо,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белею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кочки,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зеленею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п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2484360" y="4103640"/>
            <a:ext cx="3743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77320" cy="1176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2"/>
          <a:stretch/>
        </p:blipFill>
        <p:spPr>
          <a:xfrm>
            <a:off x="1174680" y="1700280"/>
            <a:ext cx="6662880" cy="4889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258920" y="1700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етл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возду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419640" y="170028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елеют (к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683320" y="1773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еленеют (п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763640" y="328464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3564000" y="3284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796000" y="3284640"/>
            <a:ext cx="163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1258920" y="4437000"/>
            <a:ext cx="20178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 – светлеть – 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 вр., ед.ч., 3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495600" y="4471920"/>
            <a:ext cx="21193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Белеть – 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вр., мн.ч., 3-е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5643720" y="4437000"/>
            <a:ext cx="2155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зеленеть-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 вр., мн.ч., 3-е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14200" y="185724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. Какой глагол стоит в неопределённой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14240" y="31431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4360" y="37893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рё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714240" y="44290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714240" y="50720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смеё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3" descr="check_256.png"/>
          <p:cNvPicPr/>
          <p:nvPr/>
        </p:nvPicPr>
        <p:blipFill>
          <a:blip r:embed="rId1"/>
          <a:stretch/>
        </p:blipFill>
        <p:spPr>
          <a:xfrm>
            <a:off x="428760" y="4572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116000" y="620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трана МОРФОЛОГ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83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0" y="18572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В каком ряду в обоих словах пишется 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14240" y="30002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чит..ся, купаеш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14240" y="37148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зобрат..ся, бере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714240" y="4357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Arial"/>
              </a:rPr>
              <a:t>колыхат..ся, льёт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714240" y="5000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испеч.., слышит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3" descr="check_256.png"/>
          <p:cNvPicPr/>
          <p:nvPr/>
        </p:nvPicPr>
        <p:blipFill>
          <a:blip r:embed="rId1"/>
          <a:stretch/>
        </p:blipFill>
        <p:spPr>
          <a:xfrm>
            <a:off x="500040" y="37861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0" y="18572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. Как изменяются глаг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14240" y="30002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714240" y="37148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 временам и 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714240" y="4357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Arial"/>
              </a:rPr>
              <a:t>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714240" y="5000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по лицам и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3" descr="check_256.png"/>
          <p:cNvPicPr/>
          <p:nvPr/>
        </p:nvPicPr>
        <p:blipFill>
          <a:blip r:embed="rId1"/>
          <a:stretch/>
        </p:blipFill>
        <p:spPr>
          <a:xfrm>
            <a:off x="500040" y="37861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1624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1476360" y="1397160"/>
          <a:ext cx="6143760" cy="2352600"/>
        </p:xfrm>
        <a:graphic>
          <a:graphicData uri="http://schemas.openxmlformats.org/drawingml/2006/table">
            <a:tbl>
              <a:tblPr/>
              <a:tblGrid>
                <a:gridCol w="2048040"/>
                <a:gridCol w="2047680"/>
                <a:gridCol w="20480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Calibri"/>
                        </a:rPr>
                        <a:t>ХОЧУ УЗНАТЬ БОЛЬШ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9" name="Рисунок 3" descr=""/>
          <p:cNvPicPr/>
          <p:nvPr/>
        </p:nvPicPr>
        <p:blipFill>
          <a:blip r:embed="rId2"/>
          <a:stretch/>
        </p:blipFill>
        <p:spPr>
          <a:xfrm>
            <a:off x="2362320" y="3859200"/>
            <a:ext cx="41018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1174680" y="1700280"/>
            <a:ext cx="6662880" cy="4889520"/>
          </a:xfrm>
          <a:prstGeom prst="rect">
            <a:avLst/>
          </a:prstGeom>
          <a:ln w="0">
            <a:noFill/>
          </a:ln>
        </p:spPr>
      </p:pic>
      <p:sp>
        <p:nvSpPr>
          <p:cNvPr id="181" name="Овал 2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ОЦЕНКА З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913400" y="1916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708360" y="1916280"/>
            <a:ext cx="10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017040" y="19303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174680" y="3068640"/>
            <a:ext cx="23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ё понял, могу этот материал объяснить друг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3425760" y="3068640"/>
            <a:ext cx="21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сам всё понял, но объяснить другому не бе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5586480" y="2948040"/>
            <a:ext cx="215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полного понимания мне нужно повторить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11280" cy="4248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351480" cy="6264360"/>
          </a:xfrm>
          <a:prstGeom prst="rect">
            <a:avLst/>
          </a:prstGeom>
          <a:ln w="0">
            <a:noFill/>
          </a:ln>
        </p:spPr>
      </p:pic>
      <p:grpSp>
        <p:nvGrpSpPr>
          <p:cNvPr id="190" name="TextBox 4"/>
          <p:cNvGrpSpPr/>
          <p:nvPr/>
        </p:nvGrpSpPr>
        <p:grpSpPr>
          <a:xfrm>
            <a:off x="822240" y="957240"/>
            <a:ext cx="3371760" cy="755640"/>
            <a:chOff x="822240" y="957240"/>
            <a:chExt cx="3371760" cy="755640"/>
          </a:xfrm>
        </p:grpSpPr>
        <p:pic>
          <p:nvPicPr>
            <p:cNvPr id="191" name="TextBox 4" descr=""/>
            <p:cNvPicPr/>
            <p:nvPr/>
          </p:nvPicPr>
          <p:blipFill>
            <a:blip r:embed="rId3"/>
            <a:stretch/>
          </p:blipFill>
          <p:spPr>
            <a:xfrm>
              <a:off x="822240" y="957240"/>
              <a:ext cx="337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971640" y="1038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ДОМАШНЕЕ З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5"/>
          <p:cNvSpPr/>
          <p:nvPr/>
        </p:nvSpPr>
        <p:spPr>
          <a:xfrm>
            <a:off x="863640" y="1684440"/>
            <a:ext cx="3384360" cy="33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. 106, упр. 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чинить лингвистическую сказку о глаголе по данному началу: «В волшебной стране под названием «Морфология» жил-был Глаго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306040" y="6237360"/>
            <a:ext cx="3108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50920" y="115920"/>
            <a:ext cx="87138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поминаем то, что зн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84360" y="1052640"/>
            <a:ext cx="7920000" cy="393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какие группы делятся части ре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самостоятельные части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делите в них именные части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 какими частями речи мы ещё мало знако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яем пробл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14200" y="714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гадайте загадку: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50920" y="1341360"/>
            <a:ext cx="846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свою задачу вижу в 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 сказать о действии люб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счастливый мой удел таков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ечи быть одним из главных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14200" y="3716280"/>
            <a:ext cx="86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тправляемся исследовать государ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ЛАГО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6" descr="search.jpg"/>
          <p:cNvPicPr/>
          <p:nvPr/>
        </p:nvPicPr>
        <p:blipFill>
          <a:blip r:embed="rId1"/>
          <a:stretch/>
        </p:blipFill>
        <p:spPr>
          <a:xfrm>
            <a:off x="4929120" y="4289400"/>
            <a:ext cx="41324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ar128205486126177.png"/>
          <p:cNvPicPr/>
          <p:nvPr/>
        </p:nvPicPr>
        <p:blipFill>
          <a:blip r:embed="rId1"/>
          <a:stretch/>
        </p:blipFill>
        <p:spPr>
          <a:xfrm>
            <a:off x="1357200" y="27000"/>
            <a:ext cx="7786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Выноска-облако 2"/>
          <p:cNvSpPr/>
          <p:nvPr/>
        </p:nvSpPr>
        <p:spPr>
          <a:xfrm>
            <a:off x="0" y="0"/>
            <a:ext cx="2571840" cy="2214720"/>
          </a:xfrm>
          <a:prstGeom prst="cloudCallout">
            <a:avLst>
              <a:gd name="adj1" fmla="val 74439"/>
              <a:gd name="adj2" fmla="val 11935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4200" y="571680"/>
            <a:ext cx="221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4200" y="5000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формулируй проблему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357800" y="214200"/>
            <a:ext cx="42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роблема урока: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 чем особенности функционирования глагола в речи? Каковы его морфологические при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476360" y="1397160"/>
          <a:ext cx="6143760" cy="2352600"/>
        </p:xfrm>
        <a:graphic>
          <a:graphicData uri="http://schemas.openxmlformats.org/drawingml/2006/table">
            <a:tbl>
              <a:tblPr/>
              <a:tblGrid>
                <a:gridCol w="2048040"/>
                <a:gridCol w="2047680"/>
                <a:gridCol w="20480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 БОЛЬШ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12" descr="ANd9GcTsS9XvwtAmIE9eVHd5OEicLipJOBf0xmOtn_fFsfPZhNg4N65R"/>
          <p:cNvPicPr/>
          <p:nvPr/>
        </p:nvPicPr>
        <p:blipFill>
          <a:blip r:embed="rId1"/>
          <a:stretch/>
        </p:blipFill>
        <p:spPr>
          <a:xfrm>
            <a:off x="5038560" y="3860640"/>
            <a:ext cx="4105440" cy="299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116000" y="476280"/>
            <a:ext cx="6164280" cy="642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м таблиц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14200" y="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-3240" y="67932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тверждение вам знакомо, поставь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новое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понятно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14200" y="2060640"/>
            <a:ext cx="7021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, состояние, звуки, умственную и творческую деятельность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лиц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, 2-е, 3-е лиц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.ч., мн.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мен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., прош., буд. врем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дам в прошедшем времен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р., ж.р., ср.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оже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ъявительного, условного, повелительног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клон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ного, несовершенног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ным, непереход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предложении чаще всего бывае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ca383e19ee8a.jpg"/>
          <p:cNvPicPr/>
          <p:nvPr/>
        </p:nvPicPr>
        <p:blipFill>
          <a:blip r:embed="rId1"/>
          <a:stretch/>
        </p:blipFill>
        <p:spPr>
          <a:xfrm>
            <a:off x="7380360" y="2517840"/>
            <a:ext cx="17636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0020-031-Kalligraficheskaja-minutka.png"/>
          <p:cNvPicPr/>
          <p:nvPr/>
        </p:nvPicPr>
        <p:blipFill>
          <a:blip r:embed="rId1"/>
          <a:stretch/>
        </p:blipFill>
        <p:spPr>
          <a:xfrm>
            <a:off x="-173160" y="1176480"/>
            <a:ext cx="4643640" cy="5681520"/>
          </a:xfrm>
          <a:prstGeom prst="rect">
            <a:avLst/>
          </a:prstGeom>
          <a:ln w="0">
            <a:noFill/>
          </a:ln>
        </p:spPr>
      </p:pic>
      <p:sp>
        <p:nvSpPr>
          <p:cNvPr id="70" name="Рамка 4"/>
          <p:cNvSpPr/>
          <p:nvPr/>
        </p:nvSpPr>
        <p:spPr>
          <a:xfrm>
            <a:off x="3214800" y="2500200"/>
            <a:ext cx="5929200" cy="4357800"/>
          </a:xfrm>
          <a:custGeom>
            <a:avLst/>
            <a:gdLst/>
            <a:ahLst/>
            <a:rect l="l" t="t" r="r" b="b"/>
            <a:pathLst>
              <a:path w="5929312" h="4357687">
                <a:moveTo>
                  <a:pt x="0" y="0"/>
                </a:moveTo>
                <a:lnTo>
                  <a:pt x="5929312" y="0"/>
                </a:lnTo>
                <a:lnTo>
                  <a:pt x="5929312" y="4357687"/>
                </a:lnTo>
                <a:lnTo>
                  <a:pt x="0" y="4357687"/>
                </a:lnTo>
                <a:lnTo>
                  <a:pt x="0" y="0"/>
                </a:lnTo>
                <a:close/>
                <a:moveTo>
                  <a:pt x="544711" y="544711"/>
                </a:moveTo>
                <a:lnTo>
                  <a:pt x="544711" y="3812976"/>
                </a:lnTo>
                <a:lnTo>
                  <a:pt x="5384601" y="3812976"/>
                </a:lnTo>
                <a:lnTo>
                  <a:pt x="5384601" y="544711"/>
                </a:lnTo>
                <a:lnTo>
                  <a:pt x="544711" y="54471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-облако 10"/>
          <p:cNvSpPr/>
          <p:nvPr/>
        </p:nvSpPr>
        <p:spPr>
          <a:xfrm>
            <a:off x="2627280" y="361800"/>
            <a:ext cx="6099120" cy="2102040"/>
          </a:xfrm>
          <a:prstGeom prst="cloudCallout">
            <a:avLst>
              <a:gd name="adj1" fmla="val -70282"/>
              <a:gd name="adj2" fmla="val 57578"/>
            </a:avLst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559320" y="78264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Прочитате текст, выполнит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427560" y="2744640"/>
            <a:ext cx="5184720" cy="3637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3" descr=""/>
          <p:cNvPicPr/>
          <p:nvPr/>
        </p:nvPicPr>
        <p:blipFill>
          <a:blip r:embed="rId2"/>
          <a:stretch/>
        </p:blipFill>
        <p:spPr>
          <a:xfrm>
            <a:off x="5140440" y="4159080"/>
            <a:ext cx="166680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4"/>
          <p:cNvSpPr/>
          <p:nvPr/>
        </p:nvSpPr>
        <p:spPr>
          <a:xfrm>
            <a:off x="44280" y="19044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  <a:ea typeface="Arial"/>
              </a:rPr>
              <a:t>Попрактикуем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755640" y="26028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утка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18:39:42Z</dcterms:created>
  <dc:creator>1</dc:creator>
  <dc:description/>
  <dc:language>en-US</dc:language>
  <cp:lastModifiedBy>лиля</cp:lastModifiedBy>
  <dcterms:modified xsi:type="dcterms:W3CDTF">2017-04-03T13:43:44Z</dcterms:modified>
  <cp:revision>94</cp:revision>
  <dc:subject/>
  <dc:title>Слайд 1</dc:title>
</cp:coreProperties>
</file>