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279-3CF3-4DC7-A448-302806A0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B26-2680-434A-AFB9-93966C3D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BFA-696D-42E1-B181-95F360A8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F83-3B7B-4637-A5EE-3F2B241E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F2C-54FA-4B6C-BEB9-3B04F669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543-5F12-42A8-AEDA-6BE68462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0B0-2CD6-4397-9A2F-49BFA543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2E8-D30E-41EF-93C6-8AF2699C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6D0-B07D-49F3-BE20-C60AB7FC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FFF-9D71-47D2-9BC4-364E38D1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08C-30D0-44BD-9181-6BFABCC7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1FE-3B87-458D-8878-7CA45878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43C3-688B-49D4-A622-59A7066297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Урок русского языка </a:t>
            </a:r>
            <a:br>
              <a:rPr sz="5400"/>
            </a:b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в 5 класс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-396720" y="588312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sova-2"/>
          <p:cNvPicPr/>
          <p:nvPr/>
        </p:nvPicPr>
        <p:blipFill>
          <a:blip r:embed="rId1"/>
          <a:stretch/>
        </p:blipFill>
        <p:spPr>
          <a:xfrm>
            <a:off x="595440" y="4191120"/>
            <a:ext cx="2130120" cy="24066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2209680" y="5715000"/>
            <a:ext cx="6629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622440" y="907920"/>
            <a:ext cx="7899120" cy="5950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332000" y="115920"/>
            <a:ext cx="6769080" cy="70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Arial"/>
              </a:rPr>
              <a:t>ФИЗКУЛЬТ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4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304920" y="11160"/>
            <a:ext cx="89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акрепляем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987640" y="765000"/>
            <a:ext cx="49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полните задание №2. (Учащиеся №1,3 – предложения№1,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,4 – предложения№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Рамка 9"/>
          <p:cNvSpPr/>
          <p:nvPr/>
        </p:nvSpPr>
        <p:spPr>
          <a:xfrm>
            <a:off x="2987640" y="2133720"/>
            <a:ext cx="5929200" cy="4429080"/>
          </a:xfrm>
          <a:custGeom>
            <a:avLst/>
            <a:gdLst/>
            <a:ahLst/>
            <a:rect l="l" t="t" r="r" b="b"/>
            <a:pathLst>
              <a:path w="5929313" h="4429125">
                <a:moveTo>
                  <a:pt x="0" y="0"/>
                </a:moveTo>
                <a:lnTo>
                  <a:pt x="5929313" y="0"/>
                </a:lnTo>
                <a:lnTo>
                  <a:pt x="5929313" y="4429125"/>
                </a:lnTo>
                <a:lnTo>
                  <a:pt x="0" y="4429125"/>
                </a:lnTo>
                <a:lnTo>
                  <a:pt x="0" y="0"/>
                </a:lnTo>
                <a:close/>
                <a:moveTo>
                  <a:pt x="553641" y="553641"/>
                </a:moveTo>
                <a:lnTo>
                  <a:pt x="553641" y="3875484"/>
                </a:lnTo>
                <a:lnTo>
                  <a:pt x="5375672" y="3875484"/>
                </a:lnTo>
                <a:lnTo>
                  <a:pt x="5375672" y="553641"/>
                </a:lnTo>
                <a:lnTo>
                  <a:pt x="553641" y="553641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5"/>
          <p:cNvSpPr/>
          <p:nvPr/>
        </p:nvSpPr>
        <p:spPr>
          <a:xfrm>
            <a:off x="3276720" y="6093000"/>
            <a:ext cx="547200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уровень зада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2711520" cy="584532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635280" y="2781360"/>
            <a:ext cx="46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1. Раскройте скобки, согласовывая глаголы с подлежа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Arial"/>
              </a:rPr>
              <a:t>2. Раскройте скобки, согласовывая глаголы с подлежащим. Подчеркните глаголы как члены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3.  Раскройте скобки, согласовывая глаголы с подлежащим. Подчеркните глаголы как члены предложения. Обозначьте морфологические признаки глаголов (время, лицо, число,род (в прош. вр.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Овал 1"/>
          <p:cNvSpPr/>
          <p:nvPr/>
        </p:nvSpPr>
        <p:spPr>
          <a:xfrm>
            <a:off x="826920" y="115920"/>
            <a:ext cx="8055000" cy="1152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758880" y="1700280"/>
            <a:ext cx="8123040" cy="44809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зд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ждое лето к бабушке в деревню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(наст. вр. , 3 – е лицо, ед. ч.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победил в себе страх и отправился в лес один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.(прош. вр. , ед. ч. , м. 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дите, пожалуйста, книги на полку.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(наст. вр. , 2-е лицо, мн.ч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ты машешь руками?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             (наст. вр. , 2-е лицо , ед. ч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5"/>
          <p:cNvSpPr/>
          <p:nvPr/>
        </p:nvSpPr>
        <p:spPr>
          <a:xfrm>
            <a:off x="1835280" y="227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1"/>
          <p:cNvSpPr/>
          <p:nvPr/>
        </p:nvSpPr>
        <p:spPr>
          <a:xfrm>
            <a:off x="1224000" y="4221000"/>
            <a:ext cx="14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3"/>
          <p:cNvSpPr/>
          <p:nvPr/>
        </p:nvSpPr>
        <p:spPr>
          <a:xfrm>
            <a:off x="1255680" y="4149720"/>
            <a:ext cx="144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8"/>
          <p:cNvSpPr/>
          <p:nvPr/>
        </p:nvSpPr>
        <p:spPr>
          <a:xfrm>
            <a:off x="6156360" y="3284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0"/>
          <p:cNvSpPr/>
          <p:nvPr/>
        </p:nvSpPr>
        <p:spPr>
          <a:xfrm>
            <a:off x="6156360" y="3213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23"/>
          <p:cNvSpPr/>
          <p:nvPr/>
        </p:nvSpPr>
        <p:spPr>
          <a:xfrm flipV="1">
            <a:off x="3348000" y="5157360"/>
            <a:ext cx="1506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6"/>
          <p:cNvSpPr/>
          <p:nvPr/>
        </p:nvSpPr>
        <p:spPr>
          <a:xfrm>
            <a:off x="3319560" y="5229360"/>
            <a:ext cx="150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31"/>
          <p:cNvSpPr/>
          <p:nvPr/>
        </p:nvSpPr>
        <p:spPr>
          <a:xfrm>
            <a:off x="1619280" y="3284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34"/>
          <p:cNvSpPr/>
          <p:nvPr/>
        </p:nvSpPr>
        <p:spPr>
          <a:xfrm>
            <a:off x="1619280" y="3213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55640" y="260280"/>
            <a:ext cx="7416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утка для любозна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16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14200" y="115920"/>
            <a:ext cx="892980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должим наблю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www.xrest.ru/images/collection/00699/196/original.jpg"/>
          <p:cNvPicPr/>
          <p:nvPr/>
        </p:nvPicPr>
        <p:blipFill>
          <a:blip r:embed="rId1"/>
          <a:stretch/>
        </p:blipFill>
        <p:spPr>
          <a:xfrm>
            <a:off x="209520" y="907920"/>
            <a:ext cx="1292400" cy="172908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4" descr=""/>
          <p:cNvPicPr/>
          <p:nvPr/>
        </p:nvPicPr>
        <p:blipFill>
          <a:blip r:embed="rId2"/>
          <a:stretch/>
        </p:blipFill>
        <p:spPr>
          <a:xfrm>
            <a:off x="2341440" y="1127160"/>
            <a:ext cx="6046920" cy="9507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341280" y="3114720"/>
            <a:ext cx="624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кончите равен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Начальная форма глагола = неопределённая форма глагола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6" descr=""/>
          <p:cNvPicPr/>
          <p:nvPr/>
        </p:nvPicPr>
        <p:blipFill>
          <a:blip r:embed="rId3"/>
          <a:stretch/>
        </p:blipFill>
        <p:spPr>
          <a:xfrm>
            <a:off x="6367320" y="4797360"/>
            <a:ext cx="2776680" cy="2082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1521000" y="540864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Инфинит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304920" y="11160"/>
            <a:ext cx="858816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акрепляем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6" descr=""/>
          <p:cNvPicPr/>
          <p:nvPr/>
        </p:nvPicPr>
        <p:blipFill>
          <a:blip r:embed="rId1"/>
          <a:stretch/>
        </p:blipFill>
        <p:spPr>
          <a:xfrm>
            <a:off x="6985080" y="1825560"/>
            <a:ext cx="1725480" cy="2055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9" descr=""/>
          <p:cNvPicPr/>
          <p:nvPr/>
        </p:nvPicPr>
        <p:blipFill>
          <a:blip r:embed="rId2"/>
          <a:stretch/>
        </p:blipFill>
        <p:spPr>
          <a:xfrm>
            <a:off x="84240" y="774720"/>
            <a:ext cx="6454800" cy="21034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0"/>
          <p:cNvSpPr/>
          <p:nvPr/>
        </p:nvSpPr>
        <p:spPr>
          <a:xfrm>
            <a:off x="304920" y="1484280"/>
            <a:ext cx="45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Пишем графический дикт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1116000" y="2133720"/>
            <a:ext cx="20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Ь     или   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179280" y="3587760"/>
            <a:ext cx="62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Он) готовит..ся   к празд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влеч..ся интересной кни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ни ничего не боят..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до стрич..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4"/>
          <p:cNvSpPr/>
          <p:nvPr/>
        </p:nvSpPr>
        <p:spPr>
          <a:xfrm>
            <a:off x="6804000" y="3833640"/>
            <a:ext cx="2089080" cy="78588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7236000" y="4862520"/>
            <a:ext cx="1081080" cy="180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Картинки по запросу картинки анализ"/>
          <p:cNvPicPr/>
          <p:nvPr/>
        </p:nvPicPr>
        <p:blipFill>
          <a:blip r:embed="rId1"/>
          <a:stretch/>
        </p:blipFill>
        <p:spPr>
          <a:xfrm>
            <a:off x="7008840" y="4430880"/>
            <a:ext cx="1839960" cy="2016000"/>
          </a:xfrm>
          <a:prstGeom prst="rect">
            <a:avLst/>
          </a:prstGeom>
          <a:ln w="0">
            <a:noFill/>
          </a:ln>
        </p:spPr>
      </p:pic>
      <p:sp>
        <p:nvSpPr>
          <p:cNvPr id="115" name="Овал 2"/>
          <p:cNvSpPr/>
          <p:nvPr/>
        </p:nvSpPr>
        <p:spPr>
          <a:xfrm>
            <a:off x="793800" y="0"/>
            <a:ext cx="8055000" cy="1557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анализируйте  материал таблицы и заполните третью коло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2"/>
          <a:stretch/>
        </p:blipFill>
        <p:spPr>
          <a:xfrm>
            <a:off x="108000" y="1581120"/>
            <a:ext cx="6662520" cy="4888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611280" y="170028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2340000" y="1628640"/>
            <a:ext cx="22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СНЕЕТ (НЕБ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4939920" y="1989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250920" y="24922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Общее грамматическое 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2411280" y="2565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Действие пред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4941000" y="2924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108000" y="443700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2.Морфологически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3. Синтаксическая 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2411280" y="4437000"/>
            <a:ext cx="2146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чальная 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(Н.ф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Яснеть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– 1 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 наст. вр., ед.ч., 3-е 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Сказуе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867920" y="451476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4966920" y="585792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……………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Овал 1"/>
          <p:cNvSpPr/>
          <p:nvPr/>
        </p:nvSpPr>
        <p:spPr>
          <a:xfrm>
            <a:off x="793800" y="0"/>
            <a:ext cx="8055000" cy="1557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анализируйте  материал таблицы и заполните третью коло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793800" y="2276640"/>
            <a:ext cx="74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Светлеет </a:t>
            </a:r>
            <a:r>
              <a:rPr b="0" lang="ru-RU" sz="4000" spc="-1" strike="noStrike">
                <a:solidFill>
                  <a:srgbClr val="254061"/>
                </a:solidFill>
                <a:latin typeface="Arial"/>
              </a:rPr>
              <a:t>воздух, </a:t>
            </a: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яснеет</a:t>
            </a:r>
            <a:r>
              <a:rPr b="0" lang="ru-RU" sz="4000" spc="-1" strike="noStrike">
                <a:solidFill>
                  <a:srgbClr val="254061"/>
                </a:solidFill>
                <a:latin typeface="Arial"/>
              </a:rPr>
              <a:t> небо, </a:t>
            </a: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белеют</a:t>
            </a:r>
            <a:r>
              <a:rPr b="0" lang="ru-RU" sz="4000" spc="-1" strike="noStrike">
                <a:solidFill>
                  <a:srgbClr val="254061"/>
                </a:solidFill>
                <a:latin typeface="Arial"/>
              </a:rPr>
              <a:t> кочки, </a:t>
            </a: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зеленеют</a:t>
            </a:r>
            <a:r>
              <a:rPr b="0" lang="ru-RU" sz="4000" spc="-1" strike="noStrike">
                <a:solidFill>
                  <a:srgbClr val="254061"/>
                </a:solidFill>
                <a:latin typeface="Arial"/>
              </a:rPr>
              <a:t> по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>
            <a:off x="2484360" y="4103640"/>
            <a:ext cx="37432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077320" cy="11761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"/>
          <p:cNvPicPr/>
          <p:nvPr/>
        </p:nvPicPr>
        <p:blipFill>
          <a:blip r:embed="rId2"/>
          <a:stretch/>
        </p:blipFill>
        <p:spPr>
          <a:xfrm>
            <a:off x="1174680" y="1700280"/>
            <a:ext cx="6662880" cy="48895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1258920" y="170028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ветл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возду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3419640" y="1700280"/>
            <a:ext cx="226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елеют (коч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683320" y="177336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еленеют (по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763640" y="328464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Действие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3564000" y="32846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Действие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5796000" y="3284640"/>
            <a:ext cx="163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Действие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1258920" y="4437000"/>
            <a:ext cx="20178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Н.ф. – светлеть – 1-е с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В наст. вр., ед.ч., 3 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Сказуе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3495600" y="4471920"/>
            <a:ext cx="21193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Н.ф.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Белеть – 1-е с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В наст.вр., мн.ч., 3-е 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Сказуе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5643720" y="4437000"/>
            <a:ext cx="2155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Н.ф.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зеленеть-1-е с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В наст. вр., мн.ч., 3-е 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Сказуе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14200" y="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214200" y="92880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Ответь на вопросы тес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214200" y="185724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. Какой глагол стоит в неопределённой фор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714240" y="314316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А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ла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84360" y="378936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Б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берё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714240" y="442908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.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н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714240" y="507204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.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смеё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1"/>
          <p:cNvSpPr/>
          <p:nvPr/>
        </p:nvSpPr>
        <p:spPr>
          <a:xfrm>
            <a:off x="7643880" y="5786280"/>
            <a:ext cx="1285920" cy="85752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7643880" y="5857920"/>
            <a:ext cx="12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13" descr="check_256.png"/>
          <p:cNvPicPr/>
          <p:nvPr/>
        </p:nvPicPr>
        <p:blipFill>
          <a:blip r:embed="rId1"/>
          <a:stretch/>
        </p:blipFill>
        <p:spPr>
          <a:xfrm>
            <a:off x="428760" y="457200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4" descr="1281955633_goldencompass-dice.jpg"/>
          <p:cNvPicPr/>
          <p:nvPr/>
        </p:nvPicPr>
        <p:blipFill>
          <a:blip r:embed="rId2"/>
          <a:stretch/>
        </p:blipFill>
        <p:spPr>
          <a:xfrm>
            <a:off x="5643720" y="1714680"/>
            <a:ext cx="35002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116000" y="62064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трана МОРФОЛОГ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834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214200" y="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214200" y="92880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Ответь на вопросы тес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0" y="185724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. В каком ряду в обоих словах пишется ь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714240" y="300024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А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чит..ся, купаеш..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714240" y="371484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Б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зобрат..ся, береч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714240" y="435780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В.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  <a:ea typeface="Arial"/>
              </a:rPr>
              <a:t>колыхат..ся, льёт..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0"/>
          <p:cNvSpPr/>
          <p:nvPr/>
        </p:nvSpPr>
        <p:spPr>
          <a:xfrm>
            <a:off x="714240" y="5000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.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испеч.., слышит..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1"/>
          <p:cNvSpPr/>
          <p:nvPr/>
        </p:nvSpPr>
        <p:spPr>
          <a:xfrm>
            <a:off x="7643880" y="5786280"/>
            <a:ext cx="1285920" cy="85752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7643880" y="5857920"/>
            <a:ext cx="12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3" descr="check_256.png"/>
          <p:cNvPicPr/>
          <p:nvPr/>
        </p:nvPicPr>
        <p:blipFill>
          <a:blip r:embed="rId1"/>
          <a:stretch/>
        </p:blipFill>
        <p:spPr>
          <a:xfrm>
            <a:off x="500040" y="378612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4" descr="1281955633_goldencompass-dice.jpg"/>
          <p:cNvPicPr/>
          <p:nvPr/>
        </p:nvPicPr>
        <p:blipFill>
          <a:blip r:embed="rId2"/>
          <a:stretch/>
        </p:blipFill>
        <p:spPr>
          <a:xfrm>
            <a:off x="5643720" y="1714680"/>
            <a:ext cx="35002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214200" y="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214200" y="92880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Ответь на вопросы тес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0" y="185724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3. Как изменяются глагол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714240" y="300024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А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 падеж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714240" y="371484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Б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 временам и чис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714240" y="435780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В.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  <a:ea typeface="Arial"/>
              </a:rPr>
              <a:t>по ви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0"/>
          <p:cNvSpPr/>
          <p:nvPr/>
        </p:nvSpPr>
        <p:spPr>
          <a:xfrm>
            <a:off x="714240" y="5000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.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по лицам и падеж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1"/>
          <p:cNvSpPr/>
          <p:nvPr/>
        </p:nvSpPr>
        <p:spPr>
          <a:xfrm>
            <a:off x="7643880" y="5786280"/>
            <a:ext cx="1285920" cy="85752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7643880" y="5857920"/>
            <a:ext cx="12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13" descr="check_256.png"/>
          <p:cNvPicPr/>
          <p:nvPr/>
        </p:nvPicPr>
        <p:blipFill>
          <a:blip r:embed="rId1"/>
          <a:stretch/>
        </p:blipFill>
        <p:spPr>
          <a:xfrm>
            <a:off x="500040" y="378612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4" descr="1281955633_goldencompass-dice.jpg"/>
          <p:cNvPicPr/>
          <p:nvPr/>
        </p:nvPicPr>
        <p:blipFill>
          <a:blip r:embed="rId2"/>
          <a:stretch/>
        </p:blipFill>
        <p:spPr>
          <a:xfrm>
            <a:off x="5643720" y="1714680"/>
            <a:ext cx="35002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2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162480" cy="9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1476360" y="1397160"/>
          <a:ext cx="6143760" cy="2352600"/>
        </p:xfrm>
        <a:graphic>
          <a:graphicData uri="http://schemas.openxmlformats.org/drawingml/2006/table">
            <a:tbl>
              <a:tblPr/>
              <a:tblGrid>
                <a:gridCol w="2048040"/>
                <a:gridCol w="2047680"/>
                <a:gridCol w="204804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 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00"/>
                          </a:solidFill>
                          <a:latin typeface="Calibri"/>
                        </a:rPr>
                        <a:t>УЗН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00"/>
                          </a:solidFill>
                          <a:latin typeface="Calibri"/>
                        </a:rPr>
                        <a:t>ХОЧУ УЗНАТЬ БОЛЬШ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79" name="Рисунок 3" descr=""/>
          <p:cNvPicPr/>
          <p:nvPr/>
        </p:nvPicPr>
        <p:blipFill>
          <a:blip r:embed="rId2"/>
          <a:stretch/>
        </p:blipFill>
        <p:spPr>
          <a:xfrm>
            <a:off x="2362320" y="3859200"/>
            <a:ext cx="41018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" descr=""/>
          <p:cNvPicPr/>
          <p:nvPr/>
        </p:nvPicPr>
        <p:blipFill>
          <a:blip r:embed="rId1"/>
          <a:stretch/>
        </p:blipFill>
        <p:spPr>
          <a:xfrm>
            <a:off x="1174680" y="1700280"/>
            <a:ext cx="6662880" cy="4889520"/>
          </a:xfrm>
          <a:prstGeom prst="rect">
            <a:avLst/>
          </a:prstGeom>
          <a:ln w="0">
            <a:noFill/>
          </a:ln>
        </p:spPr>
      </p:pic>
      <p:sp>
        <p:nvSpPr>
          <p:cNvPr id="181" name="Овал 2"/>
          <p:cNvSpPr/>
          <p:nvPr/>
        </p:nvSpPr>
        <p:spPr>
          <a:xfrm>
            <a:off x="793800" y="0"/>
            <a:ext cx="8055000" cy="1557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АМООЦЕНКА ЗА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913400" y="19162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708360" y="1916280"/>
            <a:ext cx="10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6017040" y="19303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174680" y="3068640"/>
            <a:ext cx="2317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ё понял, могу этот материал объяснить друг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3425760" y="3068640"/>
            <a:ext cx="216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 сам всё понял, но объяснить другому не беру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5586480" y="2948040"/>
            <a:ext cx="2154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я полного понимания мне нужно повторить 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311280" cy="424836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6351480" cy="6264360"/>
          </a:xfrm>
          <a:prstGeom prst="rect">
            <a:avLst/>
          </a:prstGeom>
          <a:ln w="0">
            <a:noFill/>
          </a:ln>
        </p:spPr>
      </p:pic>
      <p:grpSp>
        <p:nvGrpSpPr>
          <p:cNvPr id="190" name="TextBox 4"/>
          <p:cNvGrpSpPr/>
          <p:nvPr/>
        </p:nvGrpSpPr>
        <p:grpSpPr>
          <a:xfrm>
            <a:off x="822240" y="957240"/>
            <a:ext cx="3371760" cy="755640"/>
            <a:chOff x="822240" y="957240"/>
            <a:chExt cx="3371760" cy="755640"/>
          </a:xfrm>
        </p:grpSpPr>
        <p:pic>
          <p:nvPicPr>
            <p:cNvPr id="191" name="TextBox 4" descr=""/>
            <p:cNvPicPr/>
            <p:nvPr/>
          </p:nvPicPr>
          <p:blipFill>
            <a:blip r:embed="rId3"/>
            <a:stretch/>
          </p:blipFill>
          <p:spPr>
            <a:xfrm>
              <a:off x="822240" y="957240"/>
              <a:ext cx="3371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971640" y="103824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ДОМАШНЕЕ ЗАД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5"/>
          <p:cNvSpPr/>
          <p:nvPr/>
        </p:nvSpPr>
        <p:spPr>
          <a:xfrm>
            <a:off x="863640" y="1684440"/>
            <a:ext cx="3384360" cy="3385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. 106, упр. 6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чинить лингвистическую сказку о глаголе по данному началу: «В волшебной стране под названием «Морфология» жил-был Глаго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5306040" y="6237360"/>
            <a:ext cx="31082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250920" y="115920"/>
            <a:ext cx="87138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споминаем то, что зн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684360" y="1052640"/>
            <a:ext cx="7920000" cy="3934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 какие группы делятся части реч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зовите самостоятельные части ре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делите в них именные части ре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 какими частями речи мы ещё мало знаком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214200" y="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Определяем проблему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14200" y="7142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тгадайте загадку: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50920" y="1341360"/>
            <a:ext cx="846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свою задачу вижу в т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б сказать о действии люб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счастливый мой удел таков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ечи быть одним из главных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214200" y="3716280"/>
            <a:ext cx="869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тправляемся исследовать государ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ГЛАГО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6" descr="search.jpg"/>
          <p:cNvPicPr/>
          <p:nvPr/>
        </p:nvPicPr>
        <p:blipFill>
          <a:blip r:embed="rId1"/>
          <a:stretch/>
        </p:blipFill>
        <p:spPr>
          <a:xfrm>
            <a:off x="4929120" y="4289400"/>
            <a:ext cx="41324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ar128205486126177.png"/>
          <p:cNvPicPr/>
          <p:nvPr/>
        </p:nvPicPr>
        <p:blipFill>
          <a:blip r:embed="rId1"/>
          <a:stretch/>
        </p:blipFill>
        <p:spPr>
          <a:xfrm>
            <a:off x="1357200" y="27000"/>
            <a:ext cx="7786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Выноска-облако 2"/>
          <p:cNvSpPr/>
          <p:nvPr/>
        </p:nvSpPr>
        <p:spPr>
          <a:xfrm>
            <a:off x="0" y="0"/>
            <a:ext cx="2571840" cy="2214720"/>
          </a:xfrm>
          <a:prstGeom prst="cloudCallout">
            <a:avLst>
              <a:gd name="adj1" fmla="val 74439"/>
              <a:gd name="adj2" fmla="val 11935"/>
            </a:avLst>
          </a:prstGeom>
          <a:solidFill>
            <a:srgbClr val="fac090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14200" y="571680"/>
            <a:ext cx="221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14200" y="50004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формулируй проблему уро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4357800" y="214200"/>
            <a:ext cx="428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Проблема урока: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В чем особенности функционирования глагола в речи? Каковы его морфологические призн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476360" y="1397160"/>
          <a:ext cx="6143760" cy="2352600"/>
        </p:xfrm>
        <a:graphic>
          <a:graphicData uri="http://schemas.openxmlformats.org/drawingml/2006/table">
            <a:tbl>
              <a:tblPr/>
              <a:tblGrid>
                <a:gridCol w="2048040"/>
                <a:gridCol w="2047680"/>
                <a:gridCol w="204804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Я 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Н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ЧУ УЗНАТЬ БОЛЬШ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2" name="Picture 12" descr="ANd9GcTsS9XvwtAmIE9eVHd5OEicLipJOBf0xmOtn_fFsfPZhNg4N65R"/>
          <p:cNvPicPr/>
          <p:nvPr/>
        </p:nvPicPr>
        <p:blipFill>
          <a:blip r:embed="rId1"/>
          <a:stretch/>
        </p:blipFill>
        <p:spPr>
          <a:xfrm>
            <a:off x="5038560" y="3860640"/>
            <a:ext cx="4105440" cy="299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1116000" y="476280"/>
            <a:ext cx="6164280" cy="642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м таблиц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214200" y="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Решаем проблему, открываем новые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-3240" y="679320"/>
            <a:ext cx="91440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тверждение вам знакомо, поставьт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новое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о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понятно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214200" y="2060640"/>
            <a:ext cx="70218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знача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, состояние, звуки, умственную и творческую деятельность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 на вопросы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? Чт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 лицам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е, 2-е, 3-е лиц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ислам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д.ч., мн.ч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ременам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ст., прош., буд. врем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одам в прошедшем времени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.р., ж.р., ср.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Може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ъявительного, условного, повелительног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клон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вершенного, несовершенног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еходным, непереход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В предложении чаще всего бывает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уем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ca383e19ee8a.jpg"/>
          <p:cNvPicPr/>
          <p:nvPr/>
        </p:nvPicPr>
        <p:blipFill>
          <a:blip r:embed="rId1"/>
          <a:stretch/>
        </p:blipFill>
        <p:spPr>
          <a:xfrm>
            <a:off x="7380360" y="2517840"/>
            <a:ext cx="176364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0020-031-Kalligraficheskaja-minutka.png"/>
          <p:cNvPicPr/>
          <p:nvPr/>
        </p:nvPicPr>
        <p:blipFill>
          <a:blip r:embed="rId1"/>
          <a:stretch/>
        </p:blipFill>
        <p:spPr>
          <a:xfrm>
            <a:off x="-173160" y="1176480"/>
            <a:ext cx="4643640" cy="5681520"/>
          </a:xfrm>
          <a:prstGeom prst="rect">
            <a:avLst/>
          </a:prstGeom>
          <a:ln w="0">
            <a:noFill/>
          </a:ln>
        </p:spPr>
      </p:pic>
      <p:sp>
        <p:nvSpPr>
          <p:cNvPr id="70" name="Рамка 4"/>
          <p:cNvSpPr/>
          <p:nvPr/>
        </p:nvSpPr>
        <p:spPr>
          <a:xfrm>
            <a:off x="3214800" y="2500200"/>
            <a:ext cx="5929200" cy="4357800"/>
          </a:xfrm>
          <a:custGeom>
            <a:avLst/>
            <a:gdLst/>
            <a:ahLst/>
            <a:rect l="l" t="t" r="r" b="b"/>
            <a:pathLst>
              <a:path w="5929312" h="4357687">
                <a:moveTo>
                  <a:pt x="0" y="0"/>
                </a:moveTo>
                <a:lnTo>
                  <a:pt x="5929312" y="0"/>
                </a:lnTo>
                <a:lnTo>
                  <a:pt x="5929312" y="4357687"/>
                </a:lnTo>
                <a:lnTo>
                  <a:pt x="0" y="4357687"/>
                </a:lnTo>
                <a:lnTo>
                  <a:pt x="0" y="0"/>
                </a:lnTo>
                <a:close/>
                <a:moveTo>
                  <a:pt x="544711" y="544711"/>
                </a:moveTo>
                <a:lnTo>
                  <a:pt x="544711" y="3812976"/>
                </a:lnTo>
                <a:lnTo>
                  <a:pt x="5384601" y="3812976"/>
                </a:lnTo>
                <a:lnTo>
                  <a:pt x="5384601" y="544711"/>
                </a:lnTo>
                <a:lnTo>
                  <a:pt x="544711" y="54471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Выноска-облако 10"/>
          <p:cNvSpPr/>
          <p:nvPr/>
        </p:nvSpPr>
        <p:spPr>
          <a:xfrm>
            <a:off x="2627280" y="361800"/>
            <a:ext cx="6099120" cy="2102040"/>
          </a:xfrm>
          <a:prstGeom prst="cloudCallout">
            <a:avLst>
              <a:gd name="adj1" fmla="val -70282"/>
              <a:gd name="adj2" fmla="val 57578"/>
            </a:avLst>
          </a:prstGeom>
          <a:solidFill>
            <a:srgbClr val="d99694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3559320" y="782640"/>
            <a:ext cx="46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Прочитате текст, выполнит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3427560" y="2744640"/>
            <a:ext cx="5184720" cy="3637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3" descr=""/>
          <p:cNvPicPr/>
          <p:nvPr/>
        </p:nvPicPr>
        <p:blipFill>
          <a:blip r:embed="rId2"/>
          <a:stretch/>
        </p:blipFill>
        <p:spPr>
          <a:xfrm>
            <a:off x="5140440" y="4159080"/>
            <a:ext cx="1666800" cy="1619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14"/>
          <p:cNvSpPr/>
          <p:nvPr/>
        </p:nvSpPr>
        <p:spPr>
          <a:xfrm>
            <a:off x="44280" y="190440"/>
            <a:ext cx="36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Arial"/>
                <a:ea typeface="Arial"/>
              </a:rPr>
              <a:t>Попрактикуем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755640" y="260280"/>
            <a:ext cx="7416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утка для любозна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16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18:39:42Z</dcterms:created>
  <dc:creator>1</dc:creator>
  <dc:description/>
  <dc:language>en-US</dc:language>
  <cp:lastModifiedBy>лиля</cp:lastModifiedBy>
  <dcterms:modified xsi:type="dcterms:W3CDTF">2017-04-03T13:43:44Z</dcterms:modified>
  <cp:revision>94</cp:revision>
  <dc:subject/>
  <dc:title>Слайд 1</dc:title>
</cp:coreProperties>
</file>