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6E8-5B21-44AA-A169-B649BF87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35A-3A31-451D-8D9B-3D1F35F0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DF8-585C-43DB-8A09-2F4A20A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5F6-2601-4893-875B-CD49F99B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E953-080D-4ED5-847F-CA05052D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A08-B4D3-4B9B-BC2A-52FB306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76D8-6EFC-4DD4-8D89-4869668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CD03-2399-4067-93D4-BB6A8ED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06F-9293-4DC7-9E63-B0A2C5DC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DFC-FDE0-4D85-A21A-339ACE56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88F-0FFB-4770-AB09-8023209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7B4-B202-4D2B-AB1B-9FDF4625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8A12-B808-425F-A9C8-7922FD8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B4A8-6C7E-4BA7-88AF-49E50FB4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BF7A-7D9D-42A0-AACB-192181D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F3D-A9A7-4B79-AFFA-6127CB4B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5BE5-653F-48AC-A9B8-5682B780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D4C-20A5-4BBA-9AEC-ADA3E4E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772-BC67-4C21-9760-18478835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F96-56F8-4816-9377-4EA2410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80E-173A-4B44-A052-B2D510E6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A42-9F05-485C-81C0-1EED339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C33-47D2-4058-ADC4-BB4DC8A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15B-33DC-4A6A-9850-0AE32F6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ECE-147A-4E0E-BF87-BE7CF0E8B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035-0271-4767-AD51-130BA73104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843120" y="85680"/>
            <a:ext cx="74577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Битва за Москву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4" descr="MPj04337560000[1]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В столице начался голод…</a:t>
            </a:r>
            <a:endParaRPr b="1" lang="en-US" sz="32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932360" cy="3510000"/>
          </a:xfrm>
          <a:prstGeom prst="rect">
            <a:avLst/>
          </a:prstGeom>
          <a:ln w="38160">
            <a:solidFill>
              <a:srgbClr val="993300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467320" y="3860640"/>
            <a:ext cx="3676680" cy="26895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36147" dir="2700000" blurRad="0" rotWithShape="0">
              <a:srgbClr val="ff9900"/>
            </a:outerShdw>
          </a:effectLst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levina\Desktop\3.jpg"/>
          <p:cNvPicPr/>
          <p:nvPr/>
        </p:nvPicPr>
        <p:blipFill>
          <a:blip r:embed="rId1"/>
          <a:stretch/>
        </p:blipFill>
        <p:spPr>
          <a:xfrm>
            <a:off x="1228680" y="500040"/>
            <a:ext cx="6686640" cy="585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 Unicode MS"/>
              </a:rPr>
              <a:t>Парад на Красной площади 1941 г.</a:t>
            </a:r>
            <a:r>
              <a:rPr b="1" lang="ru-RU" sz="40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5454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levina\Desktop\4.jpg"/>
          <p:cNvPicPr/>
          <p:nvPr/>
        </p:nvPicPr>
        <p:blipFill>
          <a:blip r:embed="rId1"/>
          <a:stretch/>
        </p:blipFill>
        <p:spPr>
          <a:xfrm>
            <a:off x="250920" y="27000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levina\Desktop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оскресное утро 22 июня 1941 г.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75640" cy="5327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02" name="nachalo_voiny_levitan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806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емецкие войска переходят советскую границу…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3319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3924360" y="3176640"/>
            <a:ext cx="4895640" cy="33415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013120" y="404640"/>
            <a:ext cx="5240160" cy="619308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Заголовок 2"/>
          <p:cNvGrpSpPr/>
          <p:nvPr/>
        </p:nvGrpSpPr>
        <p:grpSpPr>
          <a:xfrm>
            <a:off x="450720" y="353880"/>
            <a:ext cx="8401320" cy="1212840"/>
            <a:chOff x="450720" y="353880"/>
            <a:chExt cx="8401320" cy="1212840"/>
          </a:xfrm>
        </p:grpSpPr>
        <p:pic>
          <p:nvPicPr>
            <p:cNvPr id="108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50720" y="353880"/>
              <a:ext cx="8401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364680"/>
              <a:ext cx="83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Arial Black"/>
                </a:rPr>
                <a:t>Велика Россия, а отступать некуда: позади Москва.</a:t>
              </a:r>
              <a:endParaRPr b="0" lang="en-US" sz="36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pic>
        <p:nvPicPr>
          <p:cNvPr id="110" name="Picture 2" descr="Рисунок5"/>
          <p:cNvPicPr/>
          <p:nvPr/>
        </p:nvPicPr>
        <p:blipFill>
          <a:blip r:embed="rId2"/>
          <a:stretch/>
        </p:blipFill>
        <p:spPr>
          <a:xfrm>
            <a:off x="684360" y="1844640"/>
            <a:ext cx="7991280" cy="4971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Отстоим Москву"/>
          <p:cNvPicPr/>
          <p:nvPr/>
        </p:nvPicPr>
        <p:blipFill>
          <a:blip r:embed="rId1"/>
          <a:stretch/>
        </p:blipFill>
        <p:spPr>
          <a:xfrm>
            <a:off x="250920" y="189000"/>
            <a:ext cx="4441680" cy="6408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5"/>
          <p:cNvSpPr/>
          <p:nvPr/>
        </p:nvSpPr>
        <p:spPr>
          <a:xfrm>
            <a:off x="4932360" y="333360"/>
            <a:ext cx="4211640" cy="45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«Наше дело правое, победа будет за нами»</a:t>
            </a: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 -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эти слова звучали на всех языках народов Советского многонационального государства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3" name="Марш Защитников Москвы.mp3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941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ile0049"/>
          <p:cNvPicPr/>
          <p:nvPr/>
        </p:nvPicPr>
        <p:blipFill>
          <a:blip r:embed="rId1"/>
          <a:stretch/>
        </p:blipFill>
        <p:spPr>
          <a:xfrm>
            <a:off x="1476360" y="150840"/>
            <a:ext cx="6480360" cy="59421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5" name="Text Box 5"/>
          <p:cNvSpPr/>
          <p:nvPr/>
        </p:nvSpPr>
        <p:spPr>
          <a:xfrm>
            <a:off x="3419640" y="6165720"/>
            <a:ext cx="244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Ополченцы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Строительство обороны"/>
          <p:cNvPicPr/>
          <p:nvPr/>
        </p:nvPicPr>
        <p:blipFill>
          <a:blip r:embed="rId1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Text Box 5"/>
          <p:cNvSpPr/>
          <p:nvPr/>
        </p:nvSpPr>
        <p:spPr>
          <a:xfrm>
            <a:off x="250920" y="3645000"/>
            <a:ext cx="331308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троительство оборонительных укреплений на подступах Москвы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8" name="Picture 6" descr="На улицах Москвы"/>
          <p:cNvPicPr/>
          <p:nvPr/>
        </p:nvPicPr>
        <p:blipFill>
          <a:blip r:embed="rId2"/>
          <a:stretch/>
        </p:blipFill>
        <p:spPr>
          <a:xfrm>
            <a:off x="3903840" y="3213000"/>
            <a:ext cx="5240160" cy="34052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Text Box 7"/>
          <p:cNvSpPr/>
          <p:nvPr/>
        </p:nvSpPr>
        <p:spPr>
          <a:xfrm>
            <a:off x="5003640" y="1125360"/>
            <a:ext cx="38163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Противотанковые заграждения на улицах Москвы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Баррикады на улицах Москвы.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927600" cy="419112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4427640" y="2185920"/>
            <a:ext cx="4537080" cy="42134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36147" dir="2700000" blurRad="0" rotWithShape="0">
              <a:srgbClr val="ff9900"/>
            </a:outerShdw>
          </a:effectLst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26:47Z</dcterms:created>
  <dc:creator>11ac05</dc:creator>
  <dc:description/>
  <dc:language>en-US</dc:language>
  <cp:lastModifiedBy>1</cp:lastModifiedBy>
  <dcterms:modified xsi:type="dcterms:W3CDTF">2017-06-01T13:41:25Z</dcterms:modified>
  <cp:revision>46</cp:revision>
  <dc:subject/>
  <dc:title>Слайд 1</dc:title>
</cp:coreProperties>
</file>