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E4B-2613-49FD-B670-979457BA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765-4BC9-4FAC-AF0A-6D7D20CB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DC4-78BA-41C7-BC7B-43380C86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733-7F18-4A76-9C16-ACDEAE12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4C7E-5174-4504-A89A-BACFEA0B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BAFC-ECDC-4858-A639-097B0A5A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576D-50B2-4755-8A19-FE9EB996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04D1-097C-45E5-8997-8B8FC22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B223-3A2D-43C3-867A-81FD67C6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D03A-9482-4EFC-AFC4-24F355C5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5249-B3BE-4A73-B128-34709E23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1B9-ED16-4479-8510-2290C1CB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66BB-CF15-484F-81EC-88166995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84D4-A516-42E7-ACF0-2876031B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C1CA-8E8B-40D1-8B7B-7C4E73B2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77C9-4B31-4060-943E-A78969AA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7746-D0A9-4E57-AFD5-5EAA90FA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26D-C37F-4738-A221-67F75308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BA9-CF43-42DC-9F93-00A5EB3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C2C-ADAD-4636-81B6-B682D7A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D27-D6C8-4ED5-9162-3B7C07A6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031-903C-403B-AC0E-A54C326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C83-D457-4928-A8A8-5CADD689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9E8-5B01-4AF0-9DE5-034B33E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10E2-E6BA-420F-AE01-03530DA2DC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84C5-952F-45AD-A9EB-F549778F07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843120" y="85680"/>
            <a:ext cx="74577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Битва за Москву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99" name="Picture 4" descr="MPj04337560000[1]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В столице начался голод…</a:t>
            </a:r>
            <a:endParaRPr b="1" lang="en-US" sz="32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932360" cy="3510000"/>
          </a:xfrm>
          <a:prstGeom prst="rect">
            <a:avLst/>
          </a:prstGeom>
          <a:ln w="38160">
            <a:solidFill>
              <a:srgbClr val="993300"/>
            </a:solidFill>
            <a:miter/>
          </a:ln>
          <a:effectLst>
            <a:outerShdw dist="107932" dir="2700000" blurRad="0" rotWithShape="0">
              <a:srgbClr val="ff9900">
                <a:alpha val="50000"/>
              </a:srgbClr>
            </a:outerShdw>
          </a:effectLst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5467320" y="3860640"/>
            <a:ext cx="3676680" cy="268956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36147" dir="2700000" blurRad="0" rotWithShape="0">
              <a:srgbClr val="ff9900"/>
            </a:outerShdw>
          </a:effectLst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levina\Desktop\3.jpg"/>
          <p:cNvPicPr/>
          <p:nvPr/>
        </p:nvPicPr>
        <p:blipFill>
          <a:blip r:embed="rId1"/>
          <a:stretch/>
        </p:blipFill>
        <p:spPr>
          <a:xfrm>
            <a:off x="1228680" y="500040"/>
            <a:ext cx="6686640" cy="5857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 Unicode MS"/>
              </a:rPr>
              <a:t>Парад на Красной площади 1941 г.</a:t>
            </a:r>
            <a:r>
              <a:rPr b="1" lang="ru-RU" sz="40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1" lang="en-US" sz="40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54544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levina\Desktop\4.jpg"/>
          <p:cNvPicPr/>
          <p:nvPr/>
        </p:nvPicPr>
        <p:blipFill>
          <a:blip r:embed="rId1"/>
          <a:stretch/>
        </p:blipFill>
        <p:spPr>
          <a:xfrm>
            <a:off x="250920" y="27000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Users\levina\Desktop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Воскресное утро 22 июня 1941 г.</a:t>
            </a:r>
            <a:endParaRPr b="1" lang="en-US" sz="28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75640" cy="53276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  <p:pic>
        <p:nvPicPr>
          <p:cNvPr id="102" name="nachalo_voiny_levitan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8806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емецкие войска переходят советскую границу…</a:t>
            </a:r>
            <a:endParaRPr b="1" lang="en-US" sz="28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176720" cy="33195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3924360" y="3176640"/>
            <a:ext cx="4895640" cy="33415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2013120" y="404640"/>
            <a:ext cx="5240160" cy="619308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Заголовок 2"/>
          <p:cNvGrpSpPr/>
          <p:nvPr/>
        </p:nvGrpSpPr>
        <p:grpSpPr>
          <a:xfrm>
            <a:off x="450720" y="353880"/>
            <a:ext cx="8401320" cy="1212840"/>
            <a:chOff x="450720" y="353880"/>
            <a:chExt cx="8401320" cy="1212840"/>
          </a:xfrm>
        </p:grpSpPr>
        <p:pic>
          <p:nvPicPr>
            <p:cNvPr id="108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50720" y="353880"/>
              <a:ext cx="8401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7200" y="364680"/>
              <a:ext cx="838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Arial Black"/>
                </a:rPr>
                <a:t>Велика Россия, а отступать некуда: позади Москва.</a:t>
              </a:r>
              <a:endParaRPr b="0" lang="en-US" sz="36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pic>
        <p:nvPicPr>
          <p:cNvPr id="110" name="Picture 2" descr="Рисунок5"/>
          <p:cNvPicPr/>
          <p:nvPr/>
        </p:nvPicPr>
        <p:blipFill>
          <a:blip r:embed="rId2"/>
          <a:stretch/>
        </p:blipFill>
        <p:spPr>
          <a:xfrm>
            <a:off x="684360" y="1844640"/>
            <a:ext cx="7991280" cy="4971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Отстоим Москву"/>
          <p:cNvPicPr/>
          <p:nvPr/>
        </p:nvPicPr>
        <p:blipFill>
          <a:blip r:embed="rId1"/>
          <a:stretch/>
        </p:blipFill>
        <p:spPr>
          <a:xfrm>
            <a:off x="250920" y="189000"/>
            <a:ext cx="4441680" cy="64087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" name="Text Box 5"/>
          <p:cNvSpPr/>
          <p:nvPr/>
        </p:nvSpPr>
        <p:spPr>
          <a:xfrm>
            <a:off x="4932360" y="333360"/>
            <a:ext cx="4211640" cy="45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«Наше дело правое, победа будет за нами»</a:t>
            </a: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 -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эти слова звучали на всех языках народов Советского многонационального государства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13" name="Марш Защитников Москвы.mp3" descr=""/>
          <p:cNvPicPr/>
          <p:nvPr/>
        </p:nvPicPr>
        <p:blipFill>
          <a:blip r:embed="rId2"/>
          <a:stretch/>
        </p:blipFill>
        <p:spPr>
          <a:xfrm>
            <a:off x="788508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2941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File0049"/>
          <p:cNvPicPr/>
          <p:nvPr/>
        </p:nvPicPr>
        <p:blipFill>
          <a:blip r:embed="rId1"/>
          <a:stretch/>
        </p:blipFill>
        <p:spPr>
          <a:xfrm>
            <a:off x="1476360" y="150840"/>
            <a:ext cx="6480360" cy="594216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5" name="Text Box 5"/>
          <p:cNvSpPr/>
          <p:nvPr/>
        </p:nvSpPr>
        <p:spPr>
          <a:xfrm>
            <a:off x="3419640" y="6165720"/>
            <a:ext cx="244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Ополченцы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Строительство обороны"/>
          <p:cNvPicPr/>
          <p:nvPr/>
        </p:nvPicPr>
        <p:blipFill>
          <a:blip r:embed="rId1"/>
          <a:stretch/>
        </p:blipFill>
        <p:spPr>
          <a:xfrm>
            <a:off x="0" y="0"/>
            <a:ext cx="4643280" cy="348156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Text Box 5"/>
          <p:cNvSpPr/>
          <p:nvPr/>
        </p:nvSpPr>
        <p:spPr>
          <a:xfrm>
            <a:off x="250920" y="3645000"/>
            <a:ext cx="331308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троительство оборонительных укреплений на подступах Москвы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18" name="Picture 6" descr="На улицах Москвы"/>
          <p:cNvPicPr/>
          <p:nvPr/>
        </p:nvPicPr>
        <p:blipFill>
          <a:blip r:embed="rId2"/>
          <a:stretch/>
        </p:blipFill>
        <p:spPr>
          <a:xfrm>
            <a:off x="3903840" y="3213000"/>
            <a:ext cx="5240160" cy="340524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Text Box 7"/>
          <p:cNvSpPr/>
          <p:nvPr/>
        </p:nvSpPr>
        <p:spPr>
          <a:xfrm>
            <a:off x="5003640" y="1125360"/>
            <a:ext cx="38163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Противотанковые заграждения на улицах Москвы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Баррикады на улицах Москвы.</a:t>
            </a:r>
            <a:endParaRPr b="1" lang="en-US" sz="2800" spc="-1" strike="noStrike">
              <a:solidFill>
                <a:srgbClr val="cc6600"/>
              </a:solidFill>
              <a:latin typeface="Bookman Old Style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927600" cy="419112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2700000" blurRad="0" rotWithShape="0">
              <a:srgbClr val="ff9900">
                <a:alpha val="50000"/>
              </a:srgbClr>
            </a:outerShdw>
          </a:effectLst>
        </p:spPr>
      </p:pic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4427640" y="2185920"/>
            <a:ext cx="4537080" cy="421344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36147" dir="2700000" blurRad="0" rotWithShape="0">
              <a:srgbClr val="ff9900"/>
            </a:outerShdw>
          </a:effectLst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2:26:47Z</dcterms:created>
  <dc:creator>11ac05</dc:creator>
  <dc:description/>
  <dc:language>en-US</dc:language>
  <cp:lastModifiedBy>1</cp:lastModifiedBy>
  <dcterms:modified xsi:type="dcterms:W3CDTF">2017-06-01T13:41:25Z</dcterms:modified>
  <cp:revision>46</cp:revision>
  <dc:subject/>
  <dc:title>Слайд 1</dc:title>
</cp:coreProperties>
</file>