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1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3330-124A-46AF-82E4-19953BC58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14C3-79F5-443E-AB9A-7C5ECD47B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BBCA-6EB2-43B2-8A3B-3A7978B27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050C-762B-40FB-92D5-053F3C604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4BD46-B43E-4FE7-81E2-C3CCBBFA0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A11C4-9304-428C-BE16-8E62D869B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033E8-5D03-426A-B1BD-CFF04C5B8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AD837-222E-45FC-8840-9ADAE0FEC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AA379-2C06-47D4-BE79-A99E3AA8F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D54C5-E63A-483A-A38F-E8D929FA7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5FAF0-4E46-41EC-BED4-8C59F488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0A7F-A747-4239-95EF-AF8FE9219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9C3B4-8864-49C4-89CF-96BBF3DD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6926B-61CB-460D-93AF-3DB57068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35216-96F9-4B38-B7C5-BE5102B63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409DF-C7B1-4DF1-B490-E8EC3CB7E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326C0-5038-459E-BE56-4A0C709AF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F71C-4FC5-4F62-8BB5-3C67E9BB6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873B-6832-4460-805F-DF3A26B6B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DFAC-E294-461F-A7B4-0BC5773B4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58E4-C81B-495E-B9C9-4539F123F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BC47-FF6B-4EEA-8A25-8856F591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A02B-820A-46C0-BD0E-D37B8179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0FFC-9D47-4CB9-981A-391C65F2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BEFA6-47B4-4A0E-BBEA-5212E1A329E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9993D-10E2-4E7E-AAC9-8C7C1C7AF36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03280" y="2421000"/>
            <a:ext cx="554508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Путешествие в Америку!!!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3347640" y="4652640"/>
            <a:ext cx="532764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знавательная поездка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тапова Артура, воспитанника подготовительной групп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79280" y="189000"/>
            <a:ext cx="2448000" cy="1631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179280" y="3933720"/>
            <a:ext cx="2448000" cy="2141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3"/>
          <a:stretch/>
        </p:blipFill>
        <p:spPr>
          <a:xfrm>
            <a:off x="6012000" y="189000"/>
            <a:ext cx="2457360" cy="163836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6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6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6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6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обираемся в дорогу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1008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ы решили погостить у наших американских друзей. Путь в Америку лежит через реки, горы, моря и океан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7" descr="map"/>
          <p:cNvPicPr/>
          <p:nvPr/>
        </p:nvPicPr>
        <p:blipFill>
          <a:blip r:embed="rId1"/>
          <a:stretch/>
        </p:blipFill>
        <p:spPr>
          <a:xfrm>
            <a:off x="3997440" y="1557360"/>
            <a:ext cx="5146560" cy="3255840"/>
          </a:xfrm>
          <a:prstGeom prst="rect">
            <a:avLst/>
          </a:prstGeom>
          <a:ln w="0">
            <a:noFill/>
          </a:ln>
        </p:spPr>
      </p:pic>
      <p:sp>
        <p:nvSpPr>
          <p:cNvPr id="128" name="Line 8"/>
          <p:cNvSpPr/>
          <p:nvPr/>
        </p:nvSpPr>
        <p:spPr>
          <a:xfrm flipH="1" flipV="1">
            <a:off x="5219640" y="2276640"/>
            <a:ext cx="1728720" cy="7272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6551640" y="227664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Тольятт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4067280" y="234936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Нью-Йор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Oval 11"/>
          <p:cNvSpPr/>
          <p:nvPr/>
        </p:nvSpPr>
        <p:spPr>
          <a:xfrm>
            <a:off x="4859280" y="2133720"/>
            <a:ext cx="216000" cy="21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Oval 12"/>
          <p:cNvSpPr/>
          <p:nvPr/>
        </p:nvSpPr>
        <p:spPr>
          <a:xfrm>
            <a:off x="7020000" y="220500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5000">
    <p:blinds dir="horz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5915160" cy="101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ыбираем транспорт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54720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м нужно было выбрать транспорт для путешествия. Вместе с ребятами я познакомился с различными видами транспорта. Мы узнали, что транспорт бывает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наземный, подземный, водный, воздушный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icture 4" descr="Поезд [метро]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6012000" y="3068640"/>
            <a:ext cx="2952720" cy="2212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Самолет"/>
          <p:cNvPicPr/>
          <p:nvPr/>
        </p:nvPicPr>
        <p:blipFill>
          <a:blip r:embed="rId2"/>
          <a:stretch/>
        </p:blipFill>
        <p:spPr>
          <a:xfrm>
            <a:off x="5508720" y="907920"/>
            <a:ext cx="2952720" cy="16797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Парусник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179280" y="4005360"/>
            <a:ext cx="2376720" cy="2127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"/>
          <p:cNvPicPr/>
          <p:nvPr/>
        </p:nvPicPr>
        <p:blipFill>
          <a:blip r:embed="rId4"/>
          <a:stretch/>
        </p:blipFill>
        <p:spPr>
          <a:xfrm>
            <a:off x="2771640" y="4567320"/>
            <a:ext cx="3024360" cy="207468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blinds dir="horz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77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770" fill="hold"/>
                                        <p:tgtEl>
                                          <p:spTgt spid="1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77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Ключ на «Старт»!!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324000" y="1484280"/>
            <a:ext cx="8280360" cy="26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Разный транспорт по-разному приводится в движение: автомобили работают на бензине, самолеты - на керосине, пароходы - на соляре, а  поезд движется с помощью электричества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7" descr=""/>
          <p:cNvPicPr/>
          <p:nvPr/>
        </p:nvPicPr>
        <p:blipFill>
          <a:blip r:embed="rId1"/>
          <a:stretch/>
        </p:blipFill>
        <p:spPr>
          <a:xfrm>
            <a:off x="5508720" y="3573360"/>
            <a:ext cx="3166920" cy="297360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9"/>
          <p:cNvSpPr/>
          <p:nvPr/>
        </p:nvSpPr>
        <p:spPr>
          <a:xfrm>
            <a:off x="468360" y="3573360"/>
            <a:ext cx="4174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казывается, что бензин, керосин, соляра делаются из нефти и называются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топливом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5000">
    <p:blinds dir="horz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77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1" dur="770" fill="hold"/>
                                        <p:tgtEl>
                                          <p:spTgt spid="1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3" dur="77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5" dur="77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Кто чем управляет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179280" y="1268280"/>
            <a:ext cx="5688000" cy="55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ы так же узнали, что автобусом и автомобилем управляет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водител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поездом –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машинист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а в вагонах следят за порядком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проводник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Главный на корабле –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капитан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а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рулевой и матросы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- его помощники. Полетом на самолете руководит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пилот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или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летчик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а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стюардессы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обслуживают авиапассажиров. Поезд в метро ведет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вагоновожатый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12" descr="1234"/>
          <p:cNvPicPr/>
          <p:nvPr/>
        </p:nvPicPr>
        <p:blipFill>
          <a:blip r:embed="rId1"/>
          <a:stretch/>
        </p:blipFill>
        <p:spPr>
          <a:xfrm>
            <a:off x="5508720" y="2349360"/>
            <a:ext cx="3635280" cy="305604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blinds dir="horz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3683160" cy="3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 дороге…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6227640" y="189000"/>
            <a:ext cx="2381400" cy="2019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"/>
          <p:cNvPicPr/>
          <p:nvPr/>
        </p:nvPicPr>
        <p:blipFill>
          <a:blip r:embed="rId2"/>
          <a:stretch/>
        </p:blipFill>
        <p:spPr>
          <a:xfrm>
            <a:off x="250920" y="1268280"/>
            <a:ext cx="2919240" cy="21891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4" descr=""/>
          <p:cNvPicPr/>
          <p:nvPr/>
        </p:nvPicPr>
        <p:blipFill>
          <a:blip r:embed="rId3"/>
          <a:stretch/>
        </p:blipFill>
        <p:spPr>
          <a:xfrm>
            <a:off x="6300720" y="2852640"/>
            <a:ext cx="2693880" cy="218916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8"/>
          <p:cNvSpPr/>
          <p:nvPr/>
        </p:nvSpPr>
        <p:spPr>
          <a:xfrm>
            <a:off x="395280" y="620640"/>
            <a:ext cx="59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 шоссе мы ехали на автобус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3203640" y="2133720"/>
            <a:ext cx="576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ерез степи и леса мы ехали на поезде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16"/>
          <p:cNvSpPr/>
          <p:nvPr/>
        </p:nvSpPr>
        <p:spPr>
          <a:xfrm>
            <a:off x="0" y="3429000"/>
            <a:ext cx="644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том на нашем пути показались горы, и нам пришлось пересесть на вертолет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17"/>
          <p:cNvSpPr/>
          <p:nvPr/>
        </p:nvSpPr>
        <p:spPr>
          <a:xfrm>
            <a:off x="3348000" y="5300640"/>
            <a:ext cx="532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 корабле мы плыли по океану до самой Америк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18" descr=""/>
          <p:cNvPicPr/>
          <p:nvPr/>
        </p:nvPicPr>
        <p:blipFill>
          <a:blip r:embed="rId4"/>
          <a:stretch/>
        </p:blipFill>
        <p:spPr>
          <a:xfrm>
            <a:off x="179280" y="4886280"/>
            <a:ext cx="2627280" cy="1971720"/>
          </a:xfrm>
          <a:prstGeom prst="rect">
            <a:avLst/>
          </a:prstGeom>
          <a:ln w="0">
            <a:noFill/>
          </a:ln>
        </p:spPr>
      </p:pic>
    </p:spTree>
  </p:cSld>
  <p:transition spd="med" advTm="30000">
    <p:blinds dir="horz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Здравствуй, Америка!!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1403280" y="2133720"/>
            <a:ext cx="5689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250920" y="1052640"/>
            <a:ext cx="849636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порту нас встретили наши американские друзь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 Нью-Йорку мы путешествовали на метро и двухэтажных автобусах. Нам было весело и интересно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 домой мы отправились на самолете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9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5508720" y="4552920"/>
            <a:ext cx="3456000" cy="23050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1"/>
          <p:cNvSpPr/>
          <p:nvPr/>
        </p:nvSpPr>
        <p:spPr>
          <a:xfrm>
            <a:off x="250920" y="4653000"/>
            <a:ext cx="496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верху мы могли видеть весь путь, проделанный нами на разном транспорт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20000">
    <p:blinds dir="horz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4T17:59:54Z</dcterms:created>
  <dc:creator>Vincent</dc:creator>
  <dc:description/>
  <dc:language>en-US</dc:language>
  <cp:lastModifiedBy>name</cp:lastModifiedBy>
  <dcterms:modified xsi:type="dcterms:W3CDTF">2017-06-01T05:25:13Z</dcterms:modified>
  <cp:revision>13</cp:revision>
  <dc:subject/>
  <dc:title>Путешествие в Америку!!!</dc:title>
</cp:coreProperties>
</file>