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1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2102-862E-43C8-96C1-02E63E6B0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AB7C-A617-4925-B177-E453AB0AE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36CC-695C-40BC-913A-6732CE087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C9C3-CF46-45D7-A596-5AAFF823B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E8A92-0656-4ECF-A484-644FC443F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41172-4950-4BBF-91FF-214735C3D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D2792-A30F-4B0E-AC0F-2AAB59AB1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36944-0AE0-4A48-B3B0-7CA3D7E46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9AA78-96F9-4BA4-87F1-CF5708D48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4E4C8-AED1-4975-ABAF-CA630B892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E0424-3EDD-4D49-B479-144EBE6B7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C4FF-AF27-4604-BCF5-2FB342AD2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E9BF9-885E-4D04-81ED-BB19C5CC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70A86-C964-45ED-A167-F11D1024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3ACA0-A090-40E7-BD77-F56E691F5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D6D41-62A1-4C7D-92FE-4F2B5EC38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979CF-C6C8-4B9B-AFEF-C2921C811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F44F-48F3-4D82-8031-2EA429D1D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9A48-B7DE-43D0-8073-90FBCC71C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83B9-5337-46EB-9D4D-C591A95B3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5001-68E4-495D-A48D-7ACF94DB6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6E49-8249-4070-A26D-957780413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C5C1-4D74-46C4-8F5D-3885D223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A5E9-18B0-4B8A-8015-23F2D733B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788A0-1B79-4CB4-82A8-1615D039CAF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73A30-4612-4336-A0C8-63FD85FF217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03280" y="2421000"/>
            <a:ext cx="554508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Путешествие в Америку!!!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3347640" y="4652640"/>
            <a:ext cx="532764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знавательная поездка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тапова Артура, воспитанника подготовительной групп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179280" y="189000"/>
            <a:ext cx="2448000" cy="16318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2"/>
          <a:stretch/>
        </p:blipFill>
        <p:spPr>
          <a:xfrm>
            <a:off x="179280" y="3933720"/>
            <a:ext cx="2448000" cy="2141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3"/>
          <a:stretch/>
        </p:blipFill>
        <p:spPr>
          <a:xfrm>
            <a:off x="6012000" y="189000"/>
            <a:ext cx="2457360" cy="163836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6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6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6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6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Собираемся в дорогу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1008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ы решили погостить у наших американских друзей. Путь в Америку лежит через реки, горы, моря и океан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7" descr="map"/>
          <p:cNvPicPr/>
          <p:nvPr/>
        </p:nvPicPr>
        <p:blipFill>
          <a:blip r:embed="rId1"/>
          <a:stretch/>
        </p:blipFill>
        <p:spPr>
          <a:xfrm>
            <a:off x="3997440" y="1557360"/>
            <a:ext cx="5146560" cy="3255840"/>
          </a:xfrm>
          <a:prstGeom prst="rect">
            <a:avLst/>
          </a:prstGeom>
          <a:ln w="0">
            <a:noFill/>
          </a:ln>
        </p:spPr>
      </p:pic>
      <p:sp>
        <p:nvSpPr>
          <p:cNvPr id="128" name="Line 8"/>
          <p:cNvSpPr/>
          <p:nvPr/>
        </p:nvSpPr>
        <p:spPr>
          <a:xfrm flipH="1" flipV="1">
            <a:off x="5219640" y="2276640"/>
            <a:ext cx="1728720" cy="72720"/>
          </a:xfrm>
          <a:prstGeom prst="line">
            <a:avLst/>
          </a:prstGeom>
          <a:ln w="7632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6551640" y="227664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Тольятт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4067280" y="234936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Нью-Йор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Oval 11"/>
          <p:cNvSpPr/>
          <p:nvPr/>
        </p:nvSpPr>
        <p:spPr>
          <a:xfrm>
            <a:off x="4859280" y="2133720"/>
            <a:ext cx="216000" cy="215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Oval 12"/>
          <p:cNvSpPr/>
          <p:nvPr/>
        </p:nvSpPr>
        <p:spPr>
          <a:xfrm>
            <a:off x="7020000" y="220500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5000">
    <p:blinds dir="horz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5915160" cy="101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ыбираем транспорт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54720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м нужно было выбрать транспорт для путешествия. Вместе с ребятами я познакомился с различными видами транспорта. Мы узнали, что транспорт бывает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наземный, подземный, водный, воздушный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Picture 4" descr="Поезд [метро]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6012000" y="3068640"/>
            <a:ext cx="2952720" cy="2212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Самолет"/>
          <p:cNvPicPr/>
          <p:nvPr/>
        </p:nvPicPr>
        <p:blipFill>
          <a:blip r:embed="rId2"/>
          <a:stretch/>
        </p:blipFill>
        <p:spPr>
          <a:xfrm>
            <a:off x="5508720" y="907920"/>
            <a:ext cx="2952720" cy="16797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Парусник"/>
          <p:cNvPicPr/>
          <p:nvPr/>
        </p:nvPicPr>
        <p:blipFill>
          <a:blip r:embed="rId3">
            <a:lum contrast="30000"/>
          </a:blip>
          <a:stretch/>
        </p:blipFill>
        <p:spPr>
          <a:xfrm>
            <a:off x="179280" y="4005360"/>
            <a:ext cx="2376720" cy="2127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"/>
          <p:cNvPicPr/>
          <p:nvPr/>
        </p:nvPicPr>
        <p:blipFill>
          <a:blip r:embed="rId4"/>
          <a:stretch/>
        </p:blipFill>
        <p:spPr>
          <a:xfrm>
            <a:off x="2771640" y="4567320"/>
            <a:ext cx="3024360" cy="207468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blinds dir="horz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77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770" fill="hold"/>
                                        <p:tgtEl>
                                          <p:spTgt spid="1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77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77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Ключ на «Старт»!!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324000" y="1484280"/>
            <a:ext cx="8280360" cy="26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Разный транспорт по-разному приводится в движение: автомобили работают на бензине, самолеты - на керосине, пароходы - на соляре, а  поезд движется с помощью электричества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7" descr=""/>
          <p:cNvPicPr/>
          <p:nvPr/>
        </p:nvPicPr>
        <p:blipFill>
          <a:blip r:embed="rId1"/>
          <a:stretch/>
        </p:blipFill>
        <p:spPr>
          <a:xfrm>
            <a:off x="5508720" y="3573360"/>
            <a:ext cx="3166920" cy="297360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9"/>
          <p:cNvSpPr/>
          <p:nvPr/>
        </p:nvSpPr>
        <p:spPr>
          <a:xfrm>
            <a:off x="468360" y="3573360"/>
            <a:ext cx="4174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казывается, что бензин, керосин, соляра делаются из нефти и называются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топливом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5000">
    <p:blinds dir="horz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77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1" dur="770" fill="hold"/>
                                        <p:tgtEl>
                                          <p:spTgt spid="1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3" dur="77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5" dur="77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Кто чем управляет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179280" y="1268280"/>
            <a:ext cx="5688000" cy="55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ы так же узнали, что автобусом и автомобилем управляет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водител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поездом –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машинист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а в вагонах следят за порядком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проводник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 Главный на корабле –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капитан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а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рулевой и матросы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- его помощники. Полетом на самолете руководит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пилот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или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летчик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а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стюардессы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обслуживают авиапассажиров. Поезд в метро ведет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вагоновожатый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Picture 12" descr="1234"/>
          <p:cNvPicPr/>
          <p:nvPr/>
        </p:nvPicPr>
        <p:blipFill>
          <a:blip r:embed="rId1"/>
          <a:stretch/>
        </p:blipFill>
        <p:spPr>
          <a:xfrm>
            <a:off x="5508720" y="2349360"/>
            <a:ext cx="3635280" cy="305604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blinds dir="horz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3683160" cy="34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 дороге…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6227640" y="189000"/>
            <a:ext cx="2381400" cy="20192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" descr=""/>
          <p:cNvPicPr/>
          <p:nvPr/>
        </p:nvPicPr>
        <p:blipFill>
          <a:blip r:embed="rId2"/>
          <a:stretch/>
        </p:blipFill>
        <p:spPr>
          <a:xfrm>
            <a:off x="250920" y="1268280"/>
            <a:ext cx="2919240" cy="21891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4" descr=""/>
          <p:cNvPicPr/>
          <p:nvPr/>
        </p:nvPicPr>
        <p:blipFill>
          <a:blip r:embed="rId3"/>
          <a:stretch/>
        </p:blipFill>
        <p:spPr>
          <a:xfrm>
            <a:off x="6300720" y="2852640"/>
            <a:ext cx="2693880" cy="218916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8"/>
          <p:cNvSpPr/>
          <p:nvPr/>
        </p:nvSpPr>
        <p:spPr>
          <a:xfrm>
            <a:off x="395280" y="620640"/>
            <a:ext cx="59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 шоссе мы ехали на автобус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3203640" y="2133720"/>
            <a:ext cx="576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Через степи и леса мы ехали на поезде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16"/>
          <p:cNvSpPr/>
          <p:nvPr/>
        </p:nvSpPr>
        <p:spPr>
          <a:xfrm>
            <a:off x="0" y="3429000"/>
            <a:ext cx="644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том на нашем пути показались горы, и нам пришлось пересесть на вертолет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17"/>
          <p:cNvSpPr/>
          <p:nvPr/>
        </p:nvSpPr>
        <p:spPr>
          <a:xfrm>
            <a:off x="3348000" y="5300640"/>
            <a:ext cx="532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 корабле мы плыли по океану до самой Америк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Picture 18" descr=""/>
          <p:cNvPicPr/>
          <p:nvPr/>
        </p:nvPicPr>
        <p:blipFill>
          <a:blip r:embed="rId4"/>
          <a:stretch/>
        </p:blipFill>
        <p:spPr>
          <a:xfrm>
            <a:off x="179280" y="4886280"/>
            <a:ext cx="2627280" cy="1971720"/>
          </a:xfrm>
          <a:prstGeom prst="rect">
            <a:avLst/>
          </a:prstGeom>
          <a:ln w="0">
            <a:noFill/>
          </a:ln>
        </p:spPr>
      </p:pic>
    </p:spTree>
  </p:cSld>
  <p:transition spd="med" advTm="30000">
    <p:blinds dir="horz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6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Здравствуй, Америка!!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1403280" y="2133720"/>
            <a:ext cx="5689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250920" y="1052640"/>
            <a:ext cx="849636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порту нас встретили наши американские друзь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 Нью-Йорку мы путешествовали на метро и двухэтажных автобусах. Нам было весело и интересно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 домой мы отправились на самолете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Picture 9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5508720" y="4552920"/>
            <a:ext cx="3456000" cy="23050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1"/>
          <p:cNvSpPr/>
          <p:nvPr/>
        </p:nvSpPr>
        <p:spPr>
          <a:xfrm>
            <a:off x="250920" y="4653000"/>
            <a:ext cx="496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верху мы могли видеть весь путь, проделанный нами на разном транспорт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20000">
    <p:blinds dir="horz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4T17:59:54Z</dcterms:created>
  <dc:creator>Vincent</dc:creator>
  <dc:description/>
  <dc:language>en-US</dc:language>
  <cp:lastModifiedBy>name</cp:lastModifiedBy>
  <dcterms:modified xsi:type="dcterms:W3CDTF">2017-06-01T05:25:13Z</dcterms:modified>
  <cp:revision>13</cp:revision>
  <dc:subject/>
  <dc:title>Путешествие в Америку!!!</dc:title>
</cp:coreProperties>
</file>