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1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305-2025-4E6D-9935-2883B6F217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C8BE-8715-45D2-8D3E-1B252B276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166-3251-437B-8010-53EB899C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E6B-B041-46B9-8A1B-1E05A283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0B8-7110-4AE9-AC5C-A4505F13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29D-2780-43DC-BA5B-97CF940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7D6-6FD9-48EF-956E-719A414D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18B-0F71-46B3-8B14-87DB474E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5A37-A179-43E3-A7F5-F4EC63F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82A2-5CBC-430E-9E32-C8212EF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303D-ADD8-4A4D-B06D-85FE59D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EBC7-E7C4-4D3C-87FB-E6FD1BFE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0138-DC6B-4547-A8D9-7D1C93B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7CF-AF60-4D5D-815F-749D9941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E22D-E819-4CF6-93D2-535A5D0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EEF-7AF6-4094-A072-C9C69A9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F8A4-CDA8-4AE8-95C3-C7290BD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D61-9D96-441D-8A07-A8679660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BC4-8F54-4EB4-B6A3-713204E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147D-C972-4061-9EC6-3D9895F2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1814-281F-44E9-B626-CA0AB38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8D07-5960-490D-81E2-52254E8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063E-A943-4818-8E73-D00928F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8589-51EB-41A2-8B0A-3094EE4F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E26-4664-4339-B273-E8BDD21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3329-A56A-481C-9A84-78C0997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3526-DCA2-4462-A595-2004DD20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080E-6117-4514-B54C-3CE0359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78E8-0E29-41E5-92A9-BB5E42A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06D1-2B2B-4FC6-B005-B384EE0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047C-4A01-4F53-9236-02A9C890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86C2-354B-4F4F-83BD-58D6973B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333E-6F3C-4988-8B6A-07148ACC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1B353-CF3C-4C08-825E-95FD6D19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91B0-5321-4C11-AD64-4FEAD87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1CA-6230-4272-8B20-6F1945E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2265-19D3-4008-9502-71C39C3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B318-AACF-4232-A9BE-DD4FAC1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D573-ECA7-48FA-B6D0-F50F5223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D983-8B03-4036-9265-DD88C2D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2816-83F8-4583-8462-476A2C2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E8B6-DE34-48B6-8C14-7252CAA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4D23-D1CD-4E3F-BDF8-F0139D2D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7393-00EB-4A47-95AA-F8FF495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468F-2562-478B-9D8F-1271C6B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0F2D-31B0-4EF6-841E-8FDD6649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675-6947-4550-87DA-2CA3B2E3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69D76-DC5E-45E2-8C97-A449E63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A353-86D8-4954-85D7-36D3C33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B7A8-EBDA-4614-B1E6-ADE8181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93EF-53FF-4544-A5D9-705079C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42A4-024A-44FC-8C77-DE35D80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531E-8C9E-4D38-9376-A6788C9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442E-9521-45CB-A2A9-9CD1B39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C3C9-A258-4DDF-ADD8-8EBCA40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32EE-B68B-4A0A-A105-FFB57FF7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7F45-30E5-4385-AF5D-5ED8E659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036-FD30-4BD8-ADA2-065E78A3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9B4D-0171-4A02-99C9-5E634ABE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B7FE-962F-4C79-A8DA-9E7B6BE7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E2674-A01D-4F26-B6F8-CE1521D8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7407-CAE5-4515-A6F5-35DD05B7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9894-88CD-4E44-A846-95239E58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87CC-AFC6-4E72-AF85-79CAA90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EB5D-8881-431D-8188-46EB98E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B3A2-4FBB-4E23-81E9-BF7FFCC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BAD8-761C-4DC6-A2D6-6689832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5F83-B974-4C6C-95D3-5F37897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B0C-791E-4516-9A06-1F365D1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4F31-C5AC-4E80-B9AD-78E9FE3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FEDA-FD84-4325-ACB2-41F02F7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832CD-F38D-47D3-9563-ACAB9D21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F43F-2DCB-4687-8B3A-1F276727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25AF7-E48B-4E84-9762-9C074A4C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532A-724E-40D6-98F0-8258D2F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A7366-2AE1-4B7B-AEF4-B759E434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1DCE-A579-42F7-8531-AC236B8F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FD64-F074-4236-82B3-82914DB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A25D-A7AB-4D37-B0D5-C89FAA1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94F-2099-45BD-AE68-1265EC4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7693-CE35-4E07-86EB-1AC3D0A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8A7B-1423-4A9B-B4E5-4D8DB5D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8513-9F13-41E5-BF41-FF0CDC1F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AAE72-FF28-4EA3-9A18-2D15A460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C817-D9F2-43CD-B747-01B0AAC6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AC64-CD2E-40CB-AEF2-2CE2467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6A84-9C9E-4249-A9CC-59C6CF9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C20A-D39B-4255-ABBE-7809B54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01BF-966B-45EC-8CC3-445FA6C8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A715-096C-40E9-8662-25686264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ADC-1871-4D62-B5E8-BD9E35C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2643-FFE1-428D-8D17-92603392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27C7C-3FF6-4AAB-A1ED-FF692E7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3C30-13BB-46C2-9859-96BFFB1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9ACB0-847F-45A8-9B44-520FF2D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57F1-EA4A-4C8F-A44C-F720675E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35CC0-97F5-43AE-B0A2-8F639994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D4C1-7E50-43E4-84C7-37FBCB80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209-BE61-4B92-B37C-42D1C79F12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42561"/>
              </a:gs>
              <a:gs pos="50000">
                <a:srgbClr val="6b6ca5"/>
              </a:gs>
              <a:gs pos="100000">
                <a:srgbClr val="24256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aa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F46-4623-407E-ADA6-F2CE78DC47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AC65-BCF5-490D-8CB1-AF3A309CEC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F2B-15B7-4642-856C-D6A4EAA68B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E97-D4BF-43C7-95EF-9DE948158E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555-8831-477E-9A17-D95B0C36C0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16F5-DDE3-4F32-B09D-5EB2706C0A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DB5-27B4-42B3-B68F-F63B2E935D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237960"/>
            <a:ext cx="7785000" cy="84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178560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 Читающая семья»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ди перестают думать, когда перестают читать. Они теряют способность сострадать, сочувствовать, если не приобрели или потеряли интерес к чтению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www.artscroll.ru/Images/2008/r/Robert%20Papp/000015.jpg"/>
          <p:cNvPicPr/>
          <p:nvPr/>
        </p:nvPicPr>
        <p:blipFill>
          <a:blip r:embed="rId2"/>
          <a:stretch/>
        </p:blipFill>
        <p:spPr>
          <a:xfrm>
            <a:off x="468360" y="4767120"/>
            <a:ext cx="2227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0920" y="60580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Россия. Санкт-Петербург. Книга на Университетской набережно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ниге высечены строки Пушкина “Люблю тебя, Петра творенье…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5" descr="01"/>
          <p:cNvPicPr/>
          <p:nvPr/>
        </p:nvPicPr>
        <p:blipFill>
          <a:blip r:embed="rId1">
            <a:lum contrast="6000"/>
          </a:blip>
          <a:srcRect l="0" t="0" r="-39" b="-12"/>
          <a:stretch/>
        </p:blipFill>
        <p:spPr>
          <a:xfrm>
            <a:off x="1109520" y="260280"/>
            <a:ext cx="692496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22"/>
          <p:cNvPicPr/>
          <p:nvPr/>
        </p:nvPicPr>
        <p:blipFill>
          <a:blip r:embed="rId1"/>
          <a:stretch/>
        </p:blipFill>
        <p:spPr>
          <a:xfrm>
            <a:off x="395280" y="35733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21"/>
          <p:cNvPicPr/>
          <p:nvPr/>
        </p:nvPicPr>
        <p:blipFill>
          <a:blip r:embed="rId2"/>
          <a:stretch/>
        </p:blipFill>
        <p:spPr>
          <a:xfrm>
            <a:off x="4788000" y="33336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25"/>
          <p:cNvPicPr/>
          <p:nvPr/>
        </p:nvPicPr>
        <p:blipFill>
          <a:blip r:embed="rId3"/>
          <a:srcRect l="0" t="0" r="173" b="0"/>
          <a:stretch/>
        </p:blipFill>
        <p:spPr>
          <a:xfrm>
            <a:off x="395280" y="333360"/>
            <a:ext cx="3960720" cy="288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26"/>
          <p:cNvPicPr/>
          <p:nvPr/>
        </p:nvPicPr>
        <p:blipFill>
          <a:blip r:embed="rId4"/>
          <a:stretch/>
        </p:blipFill>
        <p:spPr>
          <a:xfrm>
            <a:off x="4788000" y="3645000"/>
            <a:ext cx="410688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206280" y="549360"/>
            <a:ext cx="4365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716360" y="582480"/>
            <a:ext cx="42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Россия. Омск. Композиция</a:t>
            </a:r>
            <a:br>
              <a:rPr sz="1800"/>
            </a:b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	</a:t>
            </a: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“Книга-источник знаний”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втор: скульпт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лександр Капрал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716360" y="238752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Композиция “Книга-источник знаний” расположена на улице Ленина, у входа в магазин “Центр-книга”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Авторская трактовка осталась неизвестной широкой публике, поэтому каждый додумывает с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291960" y="-6480"/>
            <a:ext cx="944244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642960" y="19288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Красноярске открылся первый в городе "поющий" памятник "Бременские музыканты". Он отлит из бронзы и изображает героев известного мультфиль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амятник установлен в обновленном сквере около Дворца культуры «1 мая» . Три раза в день - в 8 утра, 12 и 20 часов - из динамиков раздается петушиный крик и куплет песни "Мы к вам заехали на час"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2" descr="Памятники Бременским музыкантам"/>
          <p:cNvPicPr/>
          <p:nvPr/>
        </p:nvPicPr>
        <p:blipFill>
          <a:blip r:embed="rId2"/>
          <a:stretch/>
        </p:blipFill>
        <p:spPr>
          <a:xfrm>
            <a:off x="5259240" y="571680"/>
            <a:ext cx="3598920" cy="564336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">
            <a:hlinkClick r:id="rId3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7493"/>
                </a:moveTo>
                <a:lnTo>
                  <a:pt x="18660" y="7493"/>
                </a:lnTo>
                <a:lnTo>
                  <a:pt x="18660" y="12828"/>
                </a:lnTo>
                <a:cubicBezTo>
                  <a:pt x="18660" y="13751"/>
                  <a:pt x="19461" y="14482"/>
                  <a:pt x="20497" y="14482"/>
                </a:cubicBezTo>
                <a:lnTo>
                  <a:pt x="22159" y="14482"/>
                </a:lnTo>
                <a:cubicBezTo>
                  <a:pt x="23195" y="14482"/>
                  <a:pt x="23996" y="13751"/>
                  <a:pt x="23996" y="12828"/>
                </a:cubicBezTo>
                <a:lnTo>
                  <a:pt x="23996" y="7493"/>
                </a:lnTo>
                <a:lnTo>
                  <a:pt x="22159" y="7493"/>
                </a:lnTo>
                <a:lnTo>
                  <a:pt x="25667" y="3985"/>
                </a:lnTo>
                <a:lnTo>
                  <a:pt x="29340" y="7493"/>
                </a:lnTo>
                <a:lnTo>
                  <a:pt x="27503" y="7493"/>
                </a:lnTo>
                <a:lnTo>
                  <a:pt x="27503" y="12828"/>
                </a:lnTo>
                <a:cubicBezTo>
                  <a:pt x="27503" y="15596"/>
                  <a:pt x="24927" y="18155"/>
                  <a:pt x="22159" y="18155"/>
                </a:cubicBezTo>
                <a:lnTo>
                  <a:pt x="20497" y="18155"/>
                </a:lnTo>
                <a:cubicBezTo>
                  <a:pt x="17729" y="18155"/>
                  <a:pt x="15153" y="15596"/>
                  <a:pt x="15153" y="1282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291960" y="-648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428760" y="4857840"/>
            <a:ext cx="850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овая скульптура андерсеновской Русалочки была создана датским скульптором Эдвардом Эриксеном по заказу крупного пивовара и мецената Карла Якобсена. Моделью для Русалочки послужила жена скульптора Эллен Прайс – балерина Королевского театра оперы и балета. 23 августа 1913 года Карл Якобсен подарил скульптуру городу, и с тех пор Русалочка стала символом датской столицы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857240" y="928800"/>
            <a:ext cx="5572440" cy="376056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9">
            <a:hlinkClick r:id="rId3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7493"/>
                </a:moveTo>
                <a:lnTo>
                  <a:pt x="18660" y="7493"/>
                </a:lnTo>
                <a:lnTo>
                  <a:pt x="18660" y="12828"/>
                </a:lnTo>
                <a:cubicBezTo>
                  <a:pt x="18660" y="13751"/>
                  <a:pt x="19461" y="14482"/>
                  <a:pt x="20497" y="14482"/>
                </a:cubicBezTo>
                <a:lnTo>
                  <a:pt x="22159" y="14482"/>
                </a:lnTo>
                <a:cubicBezTo>
                  <a:pt x="23195" y="14482"/>
                  <a:pt x="23996" y="13751"/>
                  <a:pt x="23996" y="12828"/>
                </a:cubicBezTo>
                <a:lnTo>
                  <a:pt x="23996" y="7493"/>
                </a:lnTo>
                <a:lnTo>
                  <a:pt x="22159" y="7493"/>
                </a:lnTo>
                <a:lnTo>
                  <a:pt x="25667" y="3985"/>
                </a:lnTo>
                <a:lnTo>
                  <a:pt x="29340" y="7493"/>
                </a:lnTo>
                <a:lnTo>
                  <a:pt x="27503" y="7493"/>
                </a:lnTo>
                <a:lnTo>
                  <a:pt x="27503" y="12828"/>
                </a:lnTo>
                <a:cubicBezTo>
                  <a:pt x="27503" y="15596"/>
                  <a:pt x="24927" y="18155"/>
                  <a:pt x="22159" y="18155"/>
                </a:cubicBezTo>
                <a:lnTo>
                  <a:pt x="20497" y="18155"/>
                </a:lnTo>
                <a:cubicBezTo>
                  <a:pt x="17729" y="18155"/>
                  <a:pt x="15153" y="15596"/>
                  <a:pt x="15153" y="1282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6570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3"/>
          <p:cNvSpPr/>
          <p:nvPr/>
        </p:nvSpPr>
        <p:spPr>
          <a:xfrm>
            <a:off x="357120" y="1143000"/>
            <a:ext cx="84297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спитывайте читателя личным примером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заставляйте ребенка читать насильно, заинтересуйте его чтением, подбирая книги, которые могли бы чем-то его привлеч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214200" y="2143080"/>
            <a:ext cx="90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учите ребенка значение любого незнакомого слова смотреть в словар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местное чтение книг, пересказ прочитанного друг другу и невольно возникающий при этом обмен мнениями – естественный путь читательского общения в семь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поминайте любимые книги своего детства, как бы разжигая аппетит к важным для каждого человека книгам. Пересматривайте книги собственной библиотеки с участием детей. О книгах любимых рассказывайте с восхищением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ручите школьнику составить каталог домашних книг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контролируйте, чтобы в дорогу была взята интересная книг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сли юный читатель увлекся какой-либо темой, подкиньте нужную литературу. Позаботьтесь о том, чтобы в руки ребенка попадали действительно хорошие книг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бедите школьника записаться в городскую библиотеку и посещать ее не реже двух раз в месяц. Учитель с удовольствием порекомендует интересные книг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26431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 век научно- технического прогресса, где господствуют телевидение, компьютеры и видеоигры, дети потеряли интерес к чт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23800" y="1206360"/>
            <a:ext cx="8169480" cy="12988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571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грает очень важную доминирующую роль в образовании и развитии личност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, чтобы дети полюбили книгу. Ведь книга, прочитанная в детстве, остаётся в памяти на всю жизнь и влияет на последующее развитие человека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е снижение интереса к печатному слову, падение престижа чт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чтения в свободное врем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характера чт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ние “делового” чтения над “свободным”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ние числа учащихся, ограничивающихся чтением литературы только по школьной программ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24000" y="60480"/>
            <a:ext cx="8624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примером вашему ребенк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ходите в библиотек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ощряйте стремление малыша часто смотреть телевизо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должно стать каждодневной обязанностью для детей перед тем, как они лягут сп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аш ребенок читает вслу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е должны преобладать книг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1214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92888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познавательным для детей станет рассказ о древних книгах, памятниках книге и литературным геро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3854520" y="5562720"/>
            <a:ext cx="44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Клинопис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Svitok"/>
          <p:cNvPicPr/>
          <p:nvPr/>
        </p:nvPicPr>
        <p:blipFill>
          <a:blip r:embed="rId3"/>
          <a:stretch/>
        </p:blipFill>
        <p:spPr>
          <a:xfrm>
            <a:off x="2514600" y="5335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523880" y="5257800"/>
            <a:ext cx="60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апирусный свиток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172200" y="365760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7238880" y="4343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Калам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2590920" y="3276720"/>
            <a:ext cx="242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5" descr="александ"/>
          <p:cNvPicPr/>
          <p:nvPr/>
        </p:nvPicPr>
        <p:blipFill>
          <a:blip r:embed="rId3"/>
          <a:stretch/>
        </p:blipFill>
        <p:spPr>
          <a:xfrm>
            <a:off x="1600200" y="762120"/>
            <a:ext cx="6248520" cy="4343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2209680" y="54100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Александрийская  библиотек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4"/>
          <a:srcRect l="0" t="0" r="21438" b="0"/>
          <a:stretch/>
        </p:blipFill>
        <p:spPr>
          <a:xfrm>
            <a:off x="1523880" y="685800"/>
            <a:ext cx="6400800" cy="556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5181480" cy="53337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>
            <a:off x="2498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812960" y="6095880"/>
            <a:ext cx="19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6"/>
          <a:stretch/>
        </p:blipFill>
        <p:spPr>
          <a:xfrm>
            <a:off x="1219320" y="304920"/>
            <a:ext cx="6629400" cy="6248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"/>
          <p:cNvPicPr/>
          <p:nvPr/>
        </p:nvPicPr>
        <p:blipFill>
          <a:blip r:embed="rId7"/>
          <a:stretch/>
        </p:blipFill>
        <p:spPr>
          <a:xfrm>
            <a:off x="3200400" y="457200"/>
            <a:ext cx="4114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9:53:12Z</dcterms:created>
  <dc:creator>11</dc:creator>
  <dc:description/>
  <dc:language>en-US</dc:language>
  <cp:lastModifiedBy>Катя</cp:lastModifiedBy>
  <dcterms:modified xsi:type="dcterms:W3CDTF">2017-06-01T18:48:19Z</dcterms:modified>
  <cp:revision>8</cp:revision>
  <dc:subject/>
  <dc:title>Родительское собрание</dc:title>
</cp:coreProperties>
</file>