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2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1.png" ContentType="image/png"/>
  <Override PartName="/ppt/media/image30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2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F627-DF38-4DCA-999C-2B00617EC5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C93B-B332-4E14-B604-19346A7E5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B9A-7367-4137-9BE5-295D4827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49F-9138-4D6F-B5F7-80530903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8CF-55DE-4870-944C-A1780382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0EA-1F11-4B00-B476-95141F63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45A4-FFCB-4BED-9112-88E62738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77E0-C8A3-4827-A2A4-C0717AA3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28A9-0CE7-4BFD-A063-13E2A0B0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7A34-DE70-410A-B0D7-581F1197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1F05-2A3F-487F-A270-704A8B9E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4E82-A68C-4B00-8A02-43DDCA7E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E519-2B28-40D0-AB40-AA7A258A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D44-7CBA-49D6-9807-B5412F9D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AD20-B2C5-42FE-BAE5-E27CAE9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B42C-C581-4414-8F53-9D5F34D3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80EF-2F76-425A-84F6-932A1D75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2CE5-BE64-4EDF-816A-C0A144C0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044D-40B6-4E43-B2FF-12C5A04A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BFF1-6BA5-4D90-8D79-1CEFEA09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994A-9274-40CE-9101-5616A1C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EE50-5932-4D7F-B8BC-48C45D8F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6D01-8424-4EB1-8057-4A1C3504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99B3-4C6C-4D06-AFF6-20F5DECA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896-C9C7-49D3-8C79-9FEA7D4E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0945-64BC-4028-BFC1-E485CA90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8B920-EDD9-46DB-8812-5905820E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AFE0-4D49-4956-9CC8-37A5107C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218D-F50A-4339-9CFE-D4DD0D6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8395-3CE5-40BA-B7BA-8ED3A13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FECE-D9A6-464A-B4A9-5B53E56B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91F9-38A3-4F37-B470-743688B8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F05D4-3A24-46F8-8812-B576FFA7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E71A-6AFF-459A-A253-F53B5E59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BE6F4-2BC0-4778-9DD6-476F0DBE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C41-C09A-409A-9562-023C794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D8AC-60E7-4A33-8A87-A76983F9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5B961-BDE7-40EA-B1E1-A287795D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3B35-BDE2-41BA-B4D9-AE836A62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DB95-6DD4-4F10-A3C8-06E61615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2A8A-FD19-4B07-BA24-E31BA19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F976-31E0-4340-8E45-4931DC59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90E9-CD8E-4036-B76B-D57C43D5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1FC7-7F11-437C-8C7C-84CFC432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72D6-FDB2-4F83-B14D-FE9F7A39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DA074-7E80-44AB-8672-9BEC57B0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5E0-AA8C-4654-BC97-66B4139A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E9C7-6EAB-480A-9599-E6E02D80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6D522-C630-4B44-BD6E-CF03971A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17BD-3EE7-450B-9ADF-C4C08FAB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DB45-CD0F-4E97-B094-D29C3789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A097-688B-4555-A9BB-D5FCABD0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C35D-7699-4B62-93D3-5F47DF1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47B0-EA31-45C3-ACE0-9EA973C7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8B8F-ED79-4F64-A1AF-C895E0F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1FF1B-1670-4629-B171-9CB93470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E6E0-0087-4507-AAA3-2B24AC5C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CAC-D5C3-4592-BD60-64B34364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8BA98-7BF4-4454-A1D0-CC8AA245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99B49-E643-4998-A8B6-D417E979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C0AE-2C6C-46DA-B5CA-C66AA3F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5649-789B-408F-B3BF-A2B3AFEF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ABD7-4AC2-457C-85F2-BAC7EB2D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7BB42-BC32-4B9B-A34C-AA00498D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90F88-E7EB-4086-BAF6-E6108C1B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ABE98-3909-48A6-B5E0-67F0683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6285E-6509-4DB1-9948-AF138A80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CCA37-41CD-4D70-9CFB-098B4257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A48-546B-4DF1-B99B-2197EC67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CCA8-EDAB-4B32-8807-96E879F2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E72CB-5459-41EC-BCBE-4B6605BE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6EB5C-6BA3-4D84-9325-26279FAB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FC8E7-53D5-449F-BEBB-624F2290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A9103-9202-41EB-A8EB-0FD5F62F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C5A11-359E-4FFB-A582-4A8FB819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97D3-53DD-4C69-97A1-ADA2761A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DAB04-F414-43BA-BAB8-B6425BDA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629AF-FF49-48F8-9DD8-BD77E227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D2F3A-AF2C-4A33-AA10-10A32F16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7B1-40EE-454D-AFD4-34B5CCD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B0F8B-5C7B-4034-9A48-D41DF177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CC04E-AEE7-4202-A705-D9656E5A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A5AB-C4B8-4961-81D9-9DA83C2F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BB3F-EFA2-4F91-9FB2-41D8D9E9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24BA1-742D-4BE5-8B34-A1AE590A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293C9-3446-41AD-BFA3-5B3B1BA8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74427-A5A6-4FCE-80F0-5734209C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E0A2D-3025-41CC-995C-CFCB091C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8B198-2F70-40FB-A1D2-7EEAFA39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C5722-6FDB-4C2D-BA53-81249D43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028-513F-4109-8DD3-1BC289E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17515-4961-4B53-838B-FFE8B21A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F8288-9E40-4FB0-9A68-AA0395CD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FAB1F-7876-4DED-9526-49B39F5A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E0B9B-659B-45A1-BA4B-5F5D12B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F17D-BFD3-4AAA-A9E5-9630B577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BCE4B-966C-4D97-B55B-64C2D673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6FCF-EF0C-4539-B0C0-51B42AAD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8EE9-7878-47BD-BB3F-68E2BE9E90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42561"/>
              </a:gs>
              <a:gs pos="50000">
                <a:srgbClr val="6b6ca5"/>
              </a:gs>
              <a:gs pos="100000">
                <a:srgbClr val="24256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9aab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F055-E87C-433F-93E2-AF6D55968B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C11-9D7F-47BF-90B3-6B7F90D09F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B801-DF9C-4EA6-A3DC-B5DA512B5E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3710-72C4-4033-B56E-F768FF42E7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735B-B3E8-4F73-ADEF-F6A6112CA95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2445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2445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1ECC-A254-4E00-860B-D291EBE99E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9aa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b3c72"/>
              </a:gs>
              <a:gs pos="100000">
                <a:srgbClr val="9292b4"/>
              </a:gs>
            </a:gsLst>
            <a:lin ang="16200000"/>
          </a:gradFill>
          <a:ln cap="rnd" w="3240">
            <a:solidFill>
              <a:srgbClr val="3b3b64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de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9AB7-D804-45EA-8EA5-6937747340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237960"/>
            <a:ext cx="7785000" cy="841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1785600"/>
            <a:ext cx="7772400" cy="302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 Читающая семья»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ди перестают думать, когда перестают читать. Они теряют способность сострадать, сочувствовать, если не приобрели или потеряли интерес к чтению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http://www.artscroll.ru/Images/2008/r/Robert%20Papp/000015.jpg"/>
          <p:cNvPicPr/>
          <p:nvPr/>
        </p:nvPicPr>
        <p:blipFill>
          <a:blip r:embed="rId2"/>
          <a:stretch/>
        </p:blipFill>
        <p:spPr>
          <a:xfrm>
            <a:off x="468360" y="4767120"/>
            <a:ext cx="2227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50920" y="605808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Lucida Sans Unicode"/>
              </a:rPr>
              <a:t>Россия. Санкт-Петербург. Книга на Университетской набережно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ниге высечены строки Пушкина “Люблю тебя, Петра творенье…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Picture 5" descr="01"/>
          <p:cNvPicPr/>
          <p:nvPr/>
        </p:nvPicPr>
        <p:blipFill>
          <a:blip r:embed="rId1">
            <a:lum contrast="6000"/>
          </a:blip>
          <a:srcRect l="0" t="0" r="-39" b="-12"/>
          <a:stretch/>
        </p:blipFill>
        <p:spPr>
          <a:xfrm>
            <a:off x="1109520" y="260280"/>
            <a:ext cx="6924960" cy="57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22"/>
          <p:cNvPicPr/>
          <p:nvPr/>
        </p:nvPicPr>
        <p:blipFill>
          <a:blip r:embed="rId1"/>
          <a:stretch/>
        </p:blipFill>
        <p:spPr>
          <a:xfrm>
            <a:off x="395280" y="357336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21"/>
          <p:cNvPicPr/>
          <p:nvPr/>
        </p:nvPicPr>
        <p:blipFill>
          <a:blip r:embed="rId2"/>
          <a:stretch/>
        </p:blipFill>
        <p:spPr>
          <a:xfrm>
            <a:off x="4788000" y="33336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25"/>
          <p:cNvPicPr/>
          <p:nvPr/>
        </p:nvPicPr>
        <p:blipFill>
          <a:blip r:embed="rId3"/>
          <a:srcRect l="0" t="0" r="173" b="0"/>
          <a:stretch/>
        </p:blipFill>
        <p:spPr>
          <a:xfrm>
            <a:off x="395280" y="333360"/>
            <a:ext cx="3960720" cy="2881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26"/>
          <p:cNvPicPr/>
          <p:nvPr/>
        </p:nvPicPr>
        <p:blipFill>
          <a:blip r:embed="rId4"/>
          <a:stretch/>
        </p:blipFill>
        <p:spPr>
          <a:xfrm>
            <a:off x="4788000" y="3645000"/>
            <a:ext cx="4106880" cy="28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dedede"/>
              </a:solidFill>
              <a:latin typeface="Lucida Sans Unicode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206280" y="549360"/>
            <a:ext cx="4365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4716360" y="582480"/>
            <a:ext cx="42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Lucida Sans Unicode"/>
              </a:rPr>
              <a:t>Россия. Омск. Композиция</a:t>
            </a:r>
            <a:br>
              <a:rPr sz="1800"/>
            </a:br>
            <a:r>
              <a:rPr b="1" lang="ru-RU" sz="1800" spc="-1" strike="noStrike">
                <a:solidFill>
                  <a:srgbClr val="438086"/>
                </a:solidFill>
                <a:latin typeface="Lucida Sans Unicode"/>
              </a:rPr>
              <a:t>	</a:t>
            </a:r>
            <a:r>
              <a:rPr b="1" lang="ru-RU" sz="1800" spc="-1" strike="noStrike">
                <a:solidFill>
                  <a:srgbClr val="438086"/>
                </a:solidFill>
                <a:latin typeface="Lucida Sans Unicode"/>
              </a:rPr>
              <a:t>“Книга-источник знаний”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втор: скульпто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лександр Капрал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4716360" y="238752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Композиция “Книга-источник знаний” расположена на улице Ленина, у входа в магазин “Центр-книга”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Авторская трактовка осталась неизвестной широкой публике, поэтому каждый додумывает са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-291960" y="-6480"/>
            <a:ext cx="944244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2"/>
          <p:cNvSpPr/>
          <p:nvPr/>
        </p:nvSpPr>
        <p:spPr>
          <a:xfrm>
            <a:off x="642960" y="19288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Красноярске открылся первый в городе "поющий" памятник "Бременские музыканты". Он отлит из бронзы и изображает героев известного мультфильм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амятник установлен в обновленном сквере около Дворца культуры «1 мая» . Три раза в день - в 8 утра, 12 и 20 часов - из динамиков раздается петушиный крик и куплет песни "Мы к вам заехали на час"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Picture 2" descr="Памятники Бременским музыкантам"/>
          <p:cNvPicPr/>
          <p:nvPr/>
        </p:nvPicPr>
        <p:blipFill>
          <a:blip r:embed="rId2"/>
          <a:stretch/>
        </p:blipFill>
        <p:spPr>
          <a:xfrm>
            <a:off x="5259240" y="571680"/>
            <a:ext cx="3598920" cy="564336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7">
            <a:hlinkClick r:id="rId3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7493"/>
                </a:moveTo>
                <a:lnTo>
                  <a:pt x="18660" y="7493"/>
                </a:lnTo>
                <a:lnTo>
                  <a:pt x="18660" y="12828"/>
                </a:lnTo>
                <a:cubicBezTo>
                  <a:pt x="18660" y="13751"/>
                  <a:pt x="19461" y="14482"/>
                  <a:pt x="20497" y="14482"/>
                </a:cubicBezTo>
                <a:lnTo>
                  <a:pt x="22159" y="14482"/>
                </a:lnTo>
                <a:cubicBezTo>
                  <a:pt x="23195" y="14482"/>
                  <a:pt x="23996" y="13751"/>
                  <a:pt x="23996" y="12828"/>
                </a:cubicBezTo>
                <a:lnTo>
                  <a:pt x="23996" y="7493"/>
                </a:lnTo>
                <a:lnTo>
                  <a:pt x="22159" y="7493"/>
                </a:lnTo>
                <a:lnTo>
                  <a:pt x="25667" y="3985"/>
                </a:lnTo>
                <a:lnTo>
                  <a:pt x="29340" y="7493"/>
                </a:lnTo>
                <a:lnTo>
                  <a:pt x="27503" y="7493"/>
                </a:lnTo>
                <a:lnTo>
                  <a:pt x="27503" y="12828"/>
                </a:lnTo>
                <a:cubicBezTo>
                  <a:pt x="27503" y="15596"/>
                  <a:pt x="24927" y="18155"/>
                  <a:pt x="22159" y="18155"/>
                </a:cubicBezTo>
                <a:lnTo>
                  <a:pt x="20497" y="18155"/>
                </a:lnTo>
                <a:cubicBezTo>
                  <a:pt x="17729" y="18155"/>
                  <a:pt x="15153" y="15596"/>
                  <a:pt x="15153" y="12828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-291960" y="-6480"/>
            <a:ext cx="902808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428760" y="4857840"/>
            <a:ext cx="850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зовая скульптура андерсеновской Русалочки была создана датским скульптором Эдвардом Эриксеном по заказу крупного пивовара и мецената Карла Якобсена. Моделью для Русалочки послужила жена скульптора Эллен Прайс – балерина Королевского театра оперы и балета. 23 августа 1913 года Карл Якобсен подарил скульптуру городу, и с тех пор Русалочка стала символом датской столицы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1857240" y="928800"/>
            <a:ext cx="5572440" cy="376056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9">
            <a:hlinkClick r:id="rId3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7493"/>
                </a:moveTo>
                <a:lnTo>
                  <a:pt x="18660" y="7493"/>
                </a:lnTo>
                <a:lnTo>
                  <a:pt x="18660" y="12828"/>
                </a:lnTo>
                <a:cubicBezTo>
                  <a:pt x="18660" y="13751"/>
                  <a:pt x="19461" y="14482"/>
                  <a:pt x="20497" y="14482"/>
                </a:cubicBezTo>
                <a:lnTo>
                  <a:pt x="22159" y="14482"/>
                </a:lnTo>
                <a:cubicBezTo>
                  <a:pt x="23195" y="14482"/>
                  <a:pt x="23996" y="13751"/>
                  <a:pt x="23996" y="12828"/>
                </a:cubicBezTo>
                <a:lnTo>
                  <a:pt x="23996" y="7493"/>
                </a:lnTo>
                <a:lnTo>
                  <a:pt x="22159" y="7493"/>
                </a:lnTo>
                <a:lnTo>
                  <a:pt x="25667" y="3985"/>
                </a:lnTo>
                <a:lnTo>
                  <a:pt x="29340" y="7493"/>
                </a:lnTo>
                <a:lnTo>
                  <a:pt x="27503" y="7493"/>
                </a:lnTo>
                <a:lnTo>
                  <a:pt x="27503" y="12828"/>
                </a:lnTo>
                <a:cubicBezTo>
                  <a:pt x="27503" y="15596"/>
                  <a:pt x="24927" y="18155"/>
                  <a:pt x="22159" y="18155"/>
                </a:cubicBezTo>
                <a:lnTo>
                  <a:pt x="20497" y="18155"/>
                </a:lnTo>
                <a:cubicBezTo>
                  <a:pt x="17729" y="18155"/>
                  <a:pt x="15153" y="15596"/>
                  <a:pt x="15153" y="12828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6570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3"/>
          <p:cNvSpPr/>
          <p:nvPr/>
        </p:nvSpPr>
        <p:spPr>
          <a:xfrm>
            <a:off x="357120" y="1143000"/>
            <a:ext cx="84297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спитывайте читателя личным примером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заставляйте ребенка читать насильно, заинтересуйте его чтением, подбирая книги, которые могли бы чем-то его привлеч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Прямоугольник 4"/>
          <p:cNvSpPr/>
          <p:nvPr/>
        </p:nvSpPr>
        <p:spPr>
          <a:xfrm>
            <a:off x="214200" y="2143080"/>
            <a:ext cx="90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иучите ребенка значение любого незнакомого слова смотреть в словар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вместное чтение книг, пересказ прочитанного друг другу и невольно возникающий при этом обмен мнениями – естественный путь читательского общения в семь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поминайте любимые книги своего детства, как бы разжигая аппетит к важным для каждого человека книгам. Пересматривайте книги собственной библиотеки с участием детей. О книгах любимых рассказывайте с восхищением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ручите школьнику составить каталог домашних книг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контролируйте, чтобы в дорогу была взята интересная книг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Если юный читатель увлекся какой-либо темой, подкиньте нужную литературу. Позаботьтесь о том, чтобы в руки ребенка попадали действительно хорошие книг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бедите школьника записаться в городскую библиотеку и посещать ее не реже двух раз в месяц. Учитель с удовольствием порекомендует интересные книг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26431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 век научно- технического прогресса, где господствуют телевидение, компьютеры и видеоигры, дети потеряли интерес к чтен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523800" y="1206360"/>
            <a:ext cx="8169480" cy="12988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571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играет очень важную доминирующую роль в образовании и развитии личност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, чтобы дети полюбили книгу. Ведь книга, прочитанная в детстве, остаётся в памяти на всю жизнь и влияет на последующее развитие человека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е снижение интереса к печатному слову, падение престижа чт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чтения в свободное врем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характера чт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ние “делового” чтения над “свободным”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ние числа учащихся, ограничивающихся чтением литературы только по школьной программ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324000" y="60480"/>
            <a:ext cx="86248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примером вашему ребенк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ходите в библиотек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ощряйте стремление малыша часто смотреть телевизо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должно стать каждодневной обязанностью для детей перед тем, как они лягут спа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аш ребенок читает вслу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е должны преобладать книг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68200" y="212760"/>
            <a:ext cx="8425080" cy="1214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92888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пример, познавательным для детей станет рассказ о древних книгах, памятниках книге и литературным героя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53548a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3" descr=""/>
          <p:cNvPicPr/>
          <p:nvPr/>
        </p:nvPicPr>
        <p:blipFill>
          <a:blip r:embed="rId2"/>
          <a:stretch/>
        </p:blipFill>
        <p:spPr>
          <a:xfrm>
            <a:off x="-6480" y="225360"/>
            <a:ext cx="7785360" cy="774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1600200" y="91440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6"/>
          <p:cNvSpPr/>
          <p:nvPr/>
        </p:nvSpPr>
        <p:spPr>
          <a:xfrm>
            <a:off x="3854520" y="5562720"/>
            <a:ext cx="44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Клинопис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Rectangle 3" descr=""/>
          <p:cNvPicPr/>
          <p:nvPr/>
        </p:nvPicPr>
        <p:blipFill>
          <a:blip r:embed="rId2"/>
          <a:stretch/>
        </p:blipFill>
        <p:spPr>
          <a:xfrm>
            <a:off x="-6480" y="225360"/>
            <a:ext cx="7785360" cy="774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Svitok"/>
          <p:cNvPicPr/>
          <p:nvPr/>
        </p:nvPicPr>
        <p:blipFill>
          <a:blip r:embed="rId3"/>
          <a:stretch/>
        </p:blipFill>
        <p:spPr>
          <a:xfrm>
            <a:off x="2514600" y="533520"/>
            <a:ext cx="6095880" cy="3352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1523880" y="5257800"/>
            <a:ext cx="60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Папирусный свиток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6172200" y="3657600"/>
            <a:ext cx="1905120" cy="609480"/>
          </a:xfrm>
          <a:prstGeom prst="leftArrow">
            <a:avLst>
              <a:gd name="adj1" fmla="val 50000"/>
              <a:gd name="adj2" fmla="val 781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7238880" y="4343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Калам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3" descr=""/>
          <p:cNvPicPr/>
          <p:nvPr/>
        </p:nvPicPr>
        <p:blipFill>
          <a:blip r:embed="rId2"/>
          <a:stretch/>
        </p:blipFill>
        <p:spPr>
          <a:xfrm>
            <a:off x="-6480" y="225360"/>
            <a:ext cx="7785360" cy="774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4"/>
          <p:cNvSpPr/>
          <p:nvPr/>
        </p:nvSpPr>
        <p:spPr>
          <a:xfrm>
            <a:off x="2590920" y="3276720"/>
            <a:ext cx="2425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5" descr="александ"/>
          <p:cNvPicPr/>
          <p:nvPr/>
        </p:nvPicPr>
        <p:blipFill>
          <a:blip r:embed="rId3"/>
          <a:stretch/>
        </p:blipFill>
        <p:spPr>
          <a:xfrm>
            <a:off x="1600200" y="762120"/>
            <a:ext cx="6248520" cy="43434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2209680" y="541008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Александрийская  библиотек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4"/>
          <a:srcRect l="0" t="0" r="21438" b="0"/>
          <a:stretch/>
        </p:blipFill>
        <p:spPr>
          <a:xfrm>
            <a:off x="1523880" y="685800"/>
            <a:ext cx="6400800" cy="556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5"/>
          <a:stretch/>
        </p:blipFill>
        <p:spPr>
          <a:xfrm>
            <a:off x="2286000" y="762120"/>
            <a:ext cx="5181480" cy="53337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9"/>
          <p:cNvSpPr/>
          <p:nvPr/>
        </p:nvSpPr>
        <p:spPr>
          <a:xfrm>
            <a:off x="24987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812960" y="6095880"/>
            <a:ext cx="19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Пергамен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11" descr=""/>
          <p:cNvPicPr/>
          <p:nvPr/>
        </p:nvPicPr>
        <p:blipFill>
          <a:blip r:embed="rId6"/>
          <a:stretch/>
        </p:blipFill>
        <p:spPr>
          <a:xfrm>
            <a:off x="1219320" y="304920"/>
            <a:ext cx="6629400" cy="6248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"/>
          <p:cNvPicPr/>
          <p:nvPr/>
        </p:nvPicPr>
        <p:blipFill>
          <a:blip r:embed="rId7"/>
          <a:stretch/>
        </p:blipFill>
        <p:spPr>
          <a:xfrm>
            <a:off x="3200400" y="457200"/>
            <a:ext cx="41148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9:53:12Z</dcterms:created>
  <dc:creator>11</dc:creator>
  <dc:description/>
  <dc:language>en-US</dc:language>
  <cp:lastModifiedBy>Катя</cp:lastModifiedBy>
  <dcterms:modified xsi:type="dcterms:W3CDTF">2017-06-01T18:48:19Z</dcterms:modified>
  <cp:revision>8</cp:revision>
  <dc:subject/>
  <dc:title>Родительское собрание</dc:title>
</cp:coreProperties>
</file>