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53F-5A57-47C2-8079-1F91A8D5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29D-2305-4672-9ABC-4D6CF6F0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2ED-1688-4FF3-8B11-F3F80F31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06B-7B42-42F6-9358-0CA27A9E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5FE-3AE8-41F8-AD15-62FAAA7B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7F8-0981-4DDE-BBE3-DF3A4BC4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662-29DE-409F-8BFF-7FB1E74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6EB-54CB-4DE2-A2CB-B21F017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5FC-8C54-4E5B-957F-CC66467A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432-7D54-4516-A131-EA00B73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C3B-AE3E-425B-8C7B-811F79A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998-69BE-4A5E-A5B8-23681C2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4CD1-B564-4538-B000-984ECA56E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http://scripts-cert.mit.edu/%7Elids/lidsconf2009/language/images/pic_91951.jpg"/>
          <p:cNvPicPr/>
          <p:nvPr/>
        </p:nvPicPr>
        <p:blipFill>
          <a:blip r:embed="rId1"/>
          <a:stretch/>
        </p:blipFill>
        <p:spPr>
          <a:xfrm>
            <a:off x="1979640" y="189000"/>
            <a:ext cx="512136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908000" y="4941720"/>
            <a:ext cx="50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Омельченко Лениза Раисовна ГБОУ школа № 58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0" y="2852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ации по написанию сочинения с элементами рас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260280"/>
          <a:ext cx="8353440" cy="583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3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V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ый абзац: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ключе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02004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Таким образом, в заключении надо суммировать всё, о чем говорилось в эссе и выразить свою точку зрения. Обязательно нужно стараться избегать повторения уже написанных фраз. Поэтому не рекомендуется повторять слова в задании. Выразите свою главную мысль другими словами. Также можно дать свои рекомендации по существующей проблеме. Самое главное: в заключении не должно быть никакой новой информа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28924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е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 conclus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n the who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conclud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sum up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l in al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l things conside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333360"/>
          <a:ext cx="8353440" cy="4419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44215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Далее даём читающему понять, что существует две точки зрения на данную проблему, и несмотря на противоположную точку зрения, мы всё-таки придерживаемся своей. Например, сделать это можно по следующей схем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espite the fact that ..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 convinced that ...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aking into consideration different opinions on this issue, I believe that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50920" y="26028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wadays: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/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lot of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/ more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terested in /be fo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nk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im /say /believe/ feel/ar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olent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rible/ bad/cru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ffec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luence/have a ba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cia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Whereas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7"/>
          <p:cNvSpPr/>
          <p:nvPr/>
        </p:nvSpPr>
        <p:spPr>
          <a:xfrm>
            <a:off x="-3421080" y="3284640"/>
            <a:ext cx="86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324000" y="11592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“expressing opinion” пишется в формальном (деловом) сти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сочинения 200-250 слов (минимум 180 слов, максимум 27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сокращения, типа “I’m”, “they’re” “don’t”, “can’t” (иначе будет снижен балл за организацию сочине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-108000" y="3284640"/>
            <a:ext cx="89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пецификации контрольноизмерительных материалов ФИПИ 2014 г., «если более 30% ответа имеет непродуктивный характер (т.е. текстуально совпадает с опубликованным источником), то выставляется 0 баллов по критерию „Решение коммуникативной задачи“, и, соответственно, всё задание оценивается в 0 баллов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614520"/>
          <a:ext cx="8280360" cy="24476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вый абзац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ле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водное предложение общего характ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проблеме в цело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формулировать тему своими словам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 сложное предложение или два простых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692280"/>
          <a:ext cx="8209080" cy="359712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I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ой абзац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аше мнен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есь, сначала требуется изложить своё мнение и дать его обоснования. Желательно дать как минимум 2 аргумента с поддерживающими их предложениями. Итого в идеале получится 4 предложения на 2 довода с их поддержкой или 6 предложений на 3 довода и дополняющие их предлож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304920"/>
          <a:ext cx="8353440" cy="6003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10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ть этот абзац логичнее всего с высказывания Вашей позиции касательно данного вопроса. Полезные фразы (обязательно соблюдайте данную пунктуацию!)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 my opinion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rom my point of view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my mind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ersonally, I think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’m certain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 far as I am concerned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9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ее надо дать 2-3 аргумента, подтверждающие Вашу точку зрения. Здесь не надо забывать про средства логической связи предложений. Первый аргумент хорошо начать с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irstly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start with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begin with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irst of all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189000"/>
          <a:ext cx="8712360" cy="6308640"/>
        </p:xfrm>
        <a:graphic>
          <a:graphicData uri="http://schemas.openxmlformats.org/drawingml/2006/table">
            <a:tbl>
              <a:tblPr/>
              <a:tblGrid>
                <a:gridCol w="8712360"/>
              </a:tblGrid>
              <a:tr h="219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того как Вы сформулировали первый аргумент, надо его подтвердить и/или дать пример в подтверждение. Вот самые простые модели, как это можно сделать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&lt;аргумент&gt;, because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&lt;аргумент&gt;. That is why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&lt;аргумент&gt;. For example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11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Вы начинали словом 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irstly, ...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 второй аргумент следует начать словом 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econdly, 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ервый аргумент шел с фразами “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start with, ...”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begin with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”, то второй можно начать следующими словами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oreover, ..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urthermore, ..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esides, ..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 additio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аргумент надо также подкрепить примером или доказательств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4572000" y="4272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116000" y="4221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0920" y="0"/>
            <a:ext cx="864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252360"/>
          <a:ext cx="8496000" cy="588348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II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етий абзац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Мнение оппоненто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 этом абзаце нужно дать мнение оппонентов и объяснить, почему они так думают. Достаточно использовать 2 аргумента, каждый из которых выражен двумя приложениям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Начинать абзац Вы будете с постановки противоположного мнения по предложенной теме или вопрос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нтр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 believ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argu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, some people think that ..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claim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der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 feel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y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бавляю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вы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other hand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ide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also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thermor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over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mo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well as…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ddition to t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4572000" y="4272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16000" y="4221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50920" y="0"/>
            <a:ext cx="864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252360"/>
          <a:ext cx="8496000" cy="344484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34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нтр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 believ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argu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, some people think that ..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claim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der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 feel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y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бавляю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вы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other hand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ide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also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thermor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over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mo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well as…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ddition to t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67" name="Прямоугольник 1"/>
          <p:cNvSpPr/>
          <p:nvPr/>
        </p:nvSpPr>
        <p:spPr>
          <a:xfrm>
            <a:off x="177840" y="36972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of all - the first advantage/Firstly Secondly - moreover/in addition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жде всего – первое преимущество/во-первых во-втор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- For instance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 – наприм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- in spite of this/Despite this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 – не смотря на это/вопре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drawback - one disadvantage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отрицательная сторона – один недостат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- in particular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 – в особ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other disadvantage - Another point against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 недостаток – другой пункт прот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in all - All things considered/In conclusion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бщем – все вещи считаются/в заклю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ин из недостатков (one drawba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 минус (another disadva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-3924360" y="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24000" y="259704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can not agree with this  (these) point(s) of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595440"/>
          <a:ext cx="8353440" cy="552744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4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V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ёртый абзац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и контраргумент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105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этого абзаца – объяснить, почему Вы не согласны с противоположным мнением. Начать абзац можно, например, с предлож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can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not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gree with this opinion because ...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 afraid I can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not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gree with this idea because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9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: если Вы дали два аргумента в предыдущем абзаце, то и опровергнуть надо обязательно оба. Разграничить их можно следующими фразам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 for ...,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peaking about ...,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 far as ... is concerned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6:17:45Z</dcterms:created>
  <dc:creator>Leniza</dc:creator>
  <dc:description/>
  <dc:language>en-US</dc:language>
  <cp:lastModifiedBy>Admin</cp:lastModifiedBy>
  <dcterms:modified xsi:type="dcterms:W3CDTF">2017-05-26T21:52:29Z</dcterms:modified>
  <cp:revision>61</cp:revision>
  <dc:subject/>
  <dc:title>Слайд 1</dc:title>
</cp:coreProperties>
</file>