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28.jpeg" ContentType="image/jpeg"/>
  <Override PartName="/ppt/media/image24.jpeg" ContentType="image/jpeg"/>
  <Override PartName="/ppt/media/image15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AB62-8EB6-447E-96D7-DFFFBFC3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D6D9-C156-42E4-A99E-1D2B1485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DB14-2622-4A65-8F0D-AAEA0591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CB3B-7D77-4C98-9F5E-157EF50D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1364-F7D1-4731-A1A9-EAE2153B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29C3-6390-49AA-A9CD-11A47587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B365-40AD-4D76-8EE6-D33D45EA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63A1-7ED9-4F1E-9593-B4F3B3F0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204B-3B4C-452C-8218-58A1C1DB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7692-1B09-4BAE-808D-FE2A36CE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3EB-FBFF-4E9C-BB24-B9FAE6BF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D74C-75A4-4233-8E3C-7316F63B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9334-ACB9-4944-947B-208D1E6CB6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3.png"/><Relationship Id="rId4" Type="http://schemas.openxmlformats.org/officeDocument/2006/relationships/image" Target="../media/image26.jpeg"/><Relationship Id="rId5" Type="http://schemas.openxmlformats.org/officeDocument/2006/relationships/image" Target="../media/image18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3.png"/><Relationship Id="rId4" Type="http://schemas.openxmlformats.org/officeDocument/2006/relationships/image" Target="../media/image3.png"/><Relationship Id="rId5" Type="http://schemas.openxmlformats.org/officeDocument/2006/relationships/image" Target="../media/image2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3.png"/><Relationship Id="rId4" Type="http://schemas.openxmlformats.org/officeDocument/2006/relationships/image" Target="../media/image3.png"/><Relationship Id="rId5" Type="http://schemas.openxmlformats.org/officeDocument/2006/relationships/image" Target="../media/image28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3.png"/><Relationship Id="rId4" Type="http://schemas.openxmlformats.org/officeDocument/2006/relationships/image" Target="../media/image18.png"/><Relationship Id="rId5" Type="http://schemas.openxmlformats.org/officeDocument/2006/relationships/image" Target="../media/image8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9.jpe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9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18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4.jpeg"/><Relationship Id="rId4" Type="http://schemas.openxmlformats.org/officeDocument/2006/relationships/image" Target="../media/image18.png"/><Relationship Id="rId5" Type="http://schemas.openxmlformats.org/officeDocument/2006/relationships/image" Target="../media/image23.png"/><Relationship Id="rId6" Type="http://schemas.openxmlformats.org/officeDocument/2006/relationships/image" Target="../media/image25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Школа\Рабочий стол\Фокина Л. П. Шаблон презентации 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1566720" y="689040"/>
            <a:ext cx="5797800" cy="2352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2.bp.blogspot.com/-AC0N2kFmymM/UmCmdpQ4JMI/AAAAAAAAADQ/GYRiTl6r2uU/s1600/nozhnicy_bumaga.png"/>
          <p:cNvPicPr/>
          <p:nvPr/>
        </p:nvPicPr>
        <p:blipFill>
          <a:blip r:embed="rId3"/>
          <a:srcRect l="5184" t="8117" r="19840" b="0"/>
          <a:stretch/>
        </p:blipFill>
        <p:spPr>
          <a:xfrm>
            <a:off x="1214280" y="5357880"/>
            <a:ext cx="1033560" cy="1214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4"/>
          <a:stretch/>
        </p:blipFill>
        <p:spPr>
          <a:xfrm rot="8754600">
            <a:off x="1832760" y="3032280"/>
            <a:ext cx="636840" cy="877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5"/>
          <a:stretch/>
        </p:blipFill>
        <p:spPr>
          <a:xfrm rot="11340000">
            <a:off x="7158960" y="1721880"/>
            <a:ext cx="857160" cy="1182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skachatkartinki.ru/img/picture/May/06/84a7ebf689585b3d4601d661960f1690/mini_1.jpg"/>
          <p:cNvPicPr/>
          <p:nvPr/>
        </p:nvPicPr>
        <p:blipFill>
          <a:blip r:embed="rId6"/>
          <a:stretch/>
        </p:blipFill>
        <p:spPr>
          <a:xfrm>
            <a:off x="7000920" y="285840"/>
            <a:ext cx="1919160" cy="1500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7"/>
          <a:stretch/>
        </p:blipFill>
        <p:spPr>
          <a:xfrm rot="14781000">
            <a:off x="1486080" y="1027440"/>
            <a:ext cx="606600" cy="836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vashechudo.ru/images/3-3(2).jpg"/>
          <p:cNvPicPr/>
          <p:nvPr/>
        </p:nvPicPr>
        <p:blipFill>
          <a:blip r:embed="rId8"/>
          <a:stretch/>
        </p:blipFill>
        <p:spPr>
          <a:xfrm>
            <a:off x="3000240" y="3214800"/>
            <a:ext cx="2762280" cy="2334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Documents and Settings\Школа\Рабочий стол\Фокина Л. П. Шаблон презентации 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skachatkartinki.ru/img/picture/May/06/84a7ebf689585b3d4601d661960f1690/mini_1.jpg"/>
          <p:cNvPicPr/>
          <p:nvPr/>
        </p:nvPicPr>
        <p:blipFill>
          <a:blip r:embed="rId2"/>
          <a:stretch/>
        </p:blipFill>
        <p:spPr>
          <a:xfrm>
            <a:off x="7286760" y="285840"/>
            <a:ext cx="1644480" cy="1285920"/>
          </a:xfrm>
          <a:prstGeom prst="rect">
            <a:avLst/>
          </a:prstGeom>
          <a:ln w="0">
            <a:noFill/>
          </a:ln>
        </p:spPr>
      </p:pic>
      <p:sp>
        <p:nvSpPr>
          <p:cNvPr id="97" name="TextBox 10"/>
          <p:cNvSpPr/>
          <p:nvPr/>
        </p:nvSpPr>
        <p:spPr>
          <a:xfrm>
            <a:off x="1166760" y="642960"/>
            <a:ext cx="654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Листья вырезаем из мелких кусочков цвет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маги,  складывая их попол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езанный таким образом  листик буд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мметрич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3"/>
          <a:stretch/>
        </p:blipFill>
        <p:spPr>
          <a:xfrm rot="11340000">
            <a:off x="7819560" y="1714320"/>
            <a:ext cx="1028880" cy="1419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4"/>
          <a:stretch/>
        </p:blipFill>
        <p:spPr>
          <a:xfrm>
            <a:off x="1785960" y="2214720"/>
            <a:ext cx="5398920" cy="3429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5"/>
          <a:stretch/>
        </p:blipFill>
        <p:spPr>
          <a:xfrm rot="14781000">
            <a:off x="1339200" y="4606920"/>
            <a:ext cx="804600" cy="1111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ttp://2.bp.blogspot.com/-AC0N2kFmymM/UmCmdpQ4JMI/AAAAAAAAADQ/GYRiTl6r2uU/s1600/nozhnicy_bumaga.png"/>
          <p:cNvPicPr/>
          <p:nvPr/>
        </p:nvPicPr>
        <p:blipFill>
          <a:blip r:embed="rId6"/>
          <a:srcRect l="5184" t="8117" r="19840" b="0"/>
          <a:stretch/>
        </p:blipFill>
        <p:spPr>
          <a:xfrm>
            <a:off x="7286760" y="4786200"/>
            <a:ext cx="158580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Documents and Settings\Школа\Рабочий стол\Фокина Л. П. Шаблон презентации 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ttp://skachatkartinki.ru/img/picture/May/06/84a7ebf689585b3d4601d661960f1690/mini_1.jpg"/>
          <p:cNvPicPr/>
          <p:nvPr/>
        </p:nvPicPr>
        <p:blipFill>
          <a:blip r:embed="rId2"/>
          <a:stretch/>
        </p:blipFill>
        <p:spPr>
          <a:xfrm>
            <a:off x="7286760" y="285840"/>
            <a:ext cx="1644480" cy="12859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0"/>
          <p:cNvSpPr/>
          <p:nvPr/>
        </p:nvSpPr>
        <p:spPr>
          <a:xfrm>
            <a:off x="1449360" y="642960"/>
            <a:ext cx="627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Ягоды рябины делаем из квадрат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нкой красной бумаги (1x1 см) или салфето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миная их в ком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3"/>
          <a:stretch/>
        </p:blipFill>
        <p:spPr>
          <a:xfrm rot="11340000">
            <a:off x="7819560" y="1714320"/>
            <a:ext cx="1028880" cy="1419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://2.bp.blogspot.com/-AC0N2kFmymM/UmCmdpQ4JMI/AAAAAAAAADQ/GYRiTl6r2uU/s1600/nozhnicy_bumaga.png"/>
          <p:cNvPicPr/>
          <p:nvPr/>
        </p:nvPicPr>
        <p:blipFill>
          <a:blip r:embed="rId4"/>
          <a:srcRect l="5184" t="8117" r="19840" b="0"/>
          <a:stretch/>
        </p:blipFill>
        <p:spPr>
          <a:xfrm>
            <a:off x="7286760" y="4786200"/>
            <a:ext cx="1585800" cy="1862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5"/>
          <a:stretch/>
        </p:blipFill>
        <p:spPr>
          <a:xfrm>
            <a:off x="1571760" y="2214720"/>
            <a:ext cx="5592600" cy="3571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6"/>
          <a:stretch/>
        </p:blipFill>
        <p:spPr>
          <a:xfrm rot="14781000">
            <a:off x="1196280" y="3749760"/>
            <a:ext cx="80460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nts and Settings\Школа\Рабочий стол\Фокина Л. П. Шаблон презентации 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skachatkartinki.ru/img/picture/May/06/84a7ebf689585b3d4601d661960f1690/mini_1.jpg"/>
          <p:cNvPicPr/>
          <p:nvPr/>
        </p:nvPicPr>
        <p:blipFill>
          <a:blip r:embed="rId2"/>
          <a:stretch/>
        </p:blipFill>
        <p:spPr>
          <a:xfrm>
            <a:off x="7286760" y="285840"/>
            <a:ext cx="1644480" cy="12859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0"/>
          <p:cNvSpPr/>
          <p:nvPr/>
        </p:nvSpPr>
        <p:spPr>
          <a:xfrm>
            <a:off x="1734480" y="714240"/>
            <a:ext cx="540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Листья и ягоды рябины приклеива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нужные ме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3"/>
          <a:stretch/>
        </p:blipFill>
        <p:spPr>
          <a:xfrm rot="11340000">
            <a:off x="7533720" y="2142720"/>
            <a:ext cx="1028520" cy="1419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2.bp.blogspot.com/-AC0N2kFmymM/UmCmdpQ4JMI/AAAAAAAAADQ/GYRiTl6r2uU/s1600/nozhnicy_bumaga.png"/>
          <p:cNvPicPr/>
          <p:nvPr/>
        </p:nvPicPr>
        <p:blipFill>
          <a:blip r:embed="rId4"/>
          <a:srcRect l="5184" t="8117" r="19840" b="0"/>
          <a:stretch/>
        </p:blipFill>
        <p:spPr>
          <a:xfrm>
            <a:off x="7286760" y="4786200"/>
            <a:ext cx="1585800" cy="1862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5"/>
          <a:stretch/>
        </p:blipFill>
        <p:spPr>
          <a:xfrm>
            <a:off x="1643040" y="1785960"/>
            <a:ext cx="5859360" cy="3786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6"/>
          <a:stretch/>
        </p:blipFill>
        <p:spPr>
          <a:xfrm rot="14781000">
            <a:off x="1338840" y="2821680"/>
            <a:ext cx="80496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Documents and Settings\Школа\Рабочий стол\Фокина Л. П. Шаблон презентации 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skachatkartinki.ru/img/picture/May/06/84a7ebf689585b3d4601d661960f1690/mini_1.jpg"/>
          <p:cNvPicPr/>
          <p:nvPr/>
        </p:nvPicPr>
        <p:blipFill>
          <a:blip r:embed="rId2"/>
          <a:stretch/>
        </p:blipFill>
        <p:spPr>
          <a:xfrm>
            <a:off x="7286760" y="285840"/>
            <a:ext cx="1644480" cy="12859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0"/>
          <p:cNvSpPr/>
          <p:nvPr/>
        </p:nvSpPr>
        <p:spPr>
          <a:xfrm>
            <a:off x="1357200" y="428760"/>
            <a:ext cx="624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Количество веточек выбираем по жел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ждый следующий ряд ягод должен бы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ньше предыду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3"/>
          <a:stretch/>
        </p:blipFill>
        <p:spPr>
          <a:xfrm rot="11340000">
            <a:off x="7533720" y="2142720"/>
            <a:ext cx="1028520" cy="1419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4"/>
          <a:stretch/>
        </p:blipFill>
        <p:spPr>
          <a:xfrm rot="14781000">
            <a:off x="1410120" y="4393080"/>
            <a:ext cx="804960" cy="1110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://vashechudo.ru/images/3-3(2).jpg"/>
          <p:cNvPicPr/>
          <p:nvPr/>
        </p:nvPicPr>
        <p:blipFill>
          <a:blip r:embed="rId5"/>
          <a:stretch/>
        </p:blipFill>
        <p:spPr>
          <a:xfrm>
            <a:off x="2286000" y="2000160"/>
            <a:ext cx="4838760" cy="4089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Школа\Рабочий стол\Оформление\Картинки для оформления\осенние листья\листья рябины 1.png"/>
          <p:cNvPicPr/>
          <p:nvPr/>
        </p:nvPicPr>
        <p:blipFill>
          <a:blip r:embed="rId6"/>
          <a:stretch/>
        </p:blipFill>
        <p:spPr>
          <a:xfrm rot="17713800">
            <a:off x="1384200" y="1565280"/>
            <a:ext cx="11397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Школа\Рабочий стол\Фокина Л. П. Шаблон презентации 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2"/>
          <a:stretch/>
        </p:blipFill>
        <p:spPr>
          <a:xfrm rot="8754600">
            <a:off x="2199960" y="4431960"/>
            <a:ext cx="906480" cy="1249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3"/>
          <a:stretch/>
        </p:blipFill>
        <p:spPr>
          <a:xfrm rot="11340000">
            <a:off x="1062000" y="361440"/>
            <a:ext cx="1084320" cy="1495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skachatkartinki.ru/img/picture/May/06/84a7ebf689585b3d4601d661960f1690/mini_1.jpg"/>
          <p:cNvPicPr/>
          <p:nvPr/>
        </p:nvPicPr>
        <p:blipFill>
          <a:blip r:embed="rId4"/>
          <a:stretch/>
        </p:blipFill>
        <p:spPr>
          <a:xfrm>
            <a:off x="6286680" y="285840"/>
            <a:ext cx="2633400" cy="2058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5"/>
          <a:stretch/>
        </p:blipFill>
        <p:spPr>
          <a:xfrm rot="14781000">
            <a:off x="6483600" y="4259520"/>
            <a:ext cx="993960" cy="1370160"/>
          </a:xfrm>
          <a:prstGeom prst="rect">
            <a:avLst/>
          </a:prstGeom>
          <a:ln w="0">
            <a:noFill/>
          </a:ln>
        </p:spPr>
      </p:pic>
      <p:sp>
        <p:nvSpPr>
          <p:cNvPr id="55" name="TextBox 17"/>
          <p:cNvSpPr/>
          <p:nvPr/>
        </p:nvSpPr>
        <p:spPr>
          <a:xfrm>
            <a:off x="1106640" y="2286000"/>
            <a:ext cx="754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slon"/>
              </a:rPr>
              <a:t>Осень в сад к нам пришла,</a:t>
            </a:r>
            <a:br>
              <a:rPr sz="3600"/>
            </a:br>
            <a:r>
              <a:rPr b="1" lang="ru-RU" sz="3600" spc="-1" strike="noStrike">
                <a:solidFill>
                  <a:srgbClr val="984807"/>
                </a:solidFill>
                <a:latin typeface="Caslon"/>
              </a:rPr>
              <a:t>Красный факел зажгла.</a:t>
            </a:r>
            <a:br>
              <a:rPr sz="3600"/>
            </a:br>
            <a:r>
              <a:rPr b="1" lang="ru-RU" sz="3600" spc="-1" strike="noStrike">
                <a:solidFill>
                  <a:srgbClr val="984807"/>
                </a:solidFill>
                <a:latin typeface="Caslon"/>
              </a:rPr>
              <a:t>Здесь дрозды, скворцы снуют.</a:t>
            </a:r>
            <a:br>
              <a:rPr sz="3600"/>
            </a:br>
            <a:r>
              <a:rPr b="1" lang="ru-RU" sz="3600" spc="-1" strike="noStrike">
                <a:solidFill>
                  <a:srgbClr val="984807"/>
                </a:solidFill>
                <a:latin typeface="Caslon"/>
              </a:rPr>
              <a:t>И, галдя, его клюю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TextBox 18" descr=""/>
          <p:cNvPicPr/>
          <p:nvPr/>
        </p:nvPicPr>
        <p:blipFill>
          <a:blip r:embed="rId6"/>
          <a:stretch/>
        </p:blipFill>
        <p:spPr>
          <a:xfrm>
            <a:off x="1700280" y="596880"/>
            <a:ext cx="4700520" cy="830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7"/>
          <a:stretch/>
        </p:blipFill>
        <p:spPr>
          <a:xfrm rot="11340000">
            <a:off x="5776920" y="1132920"/>
            <a:ext cx="8064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Школа\Рабочий стол\Фокина Л. П. Шаблон презентации 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www.zelenblog.ru/wp-content/uploads/2012/09/images2.jpg"/>
          <p:cNvPicPr/>
          <p:nvPr/>
        </p:nvPicPr>
        <p:blipFill>
          <a:blip r:embed="rId2"/>
          <a:stretch/>
        </p:blipFill>
        <p:spPr>
          <a:xfrm>
            <a:off x="642960" y="285840"/>
            <a:ext cx="8259840" cy="6357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Школа\Рабочий стол\Фокина Л. П. Шаблон презентации 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myautumn.ru/wp-content/uploads/2013/11/Ryabina_krasnaya_a_listya_zheltye.jpg"/>
          <p:cNvPicPr/>
          <p:nvPr/>
        </p:nvPicPr>
        <p:blipFill>
          <a:blip r:embed="rId2"/>
          <a:stretch/>
        </p:blipFill>
        <p:spPr>
          <a:xfrm>
            <a:off x="642960" y="285840"/>
            <a:ext cx="8286840" cy="6357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Школа\Рабочий стол\Фокина Л. П. Шаблон презентации 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3" descr=""/>
          <p:cNvPicPr/>
          <p:nvPr/>
        </p:nvPicPr>
        <p:blipFill>
          <a:blip r:embed="rId2"/>
          <a:stretch/>
        </p:blipFill>
        <p:spPr>
          <a:xfrm>
            <a:off x="2773440" y="378000"/>
            <a:ext cx="2712960" cy="834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skachatkartinki.ru/img/picture/May/06/84a7ebf689585b3d4601d661960f1690/mini_1.jpg"/>
          <p:cNvPicPr/>
          <p:nvPr/>
        </p:nvPicPr>
        <p:blipFill>
          <a:blip r:embed="rId3"/>
          <a:stretch/>
        </p:blipFill>
        <p:spPr>
          <a:xfrm>
            <a:off x="6286680" y="285840"/>
            <a:ext cx="2633400" cy="205884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749520" y="1571760"/>
            <a:ext cx="841032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Wingdings"/>
                <a:ea typeface="Wingdings"/>
              </a:rPr>
              <a:t></a:t>
            </a:r>
            <a:r>
              <a:rPr b="1" lang="ru-RU" sz="2400" spc="-1" strike="noStrike">
                <a:solidFill>
                  <a:srgbClr val="984807"/>
                </a:solidFill>
                <a:latin typeface="Lucida Console"/>
              </a:rPr>
              <a:t> </a:t>
            </a:r>
            <a:r>
              <a:rPr b="1" lang="ru-RU" sz="2400" spc="-1" strike="noStrike">
                <a:solidFill>
                  <a:srgbClr val="984807"/>
                </a:solidFill>
                <a:latin typeface="Lucida Console"/>
              </a:rPr>
              <a:t>Нет рябины – и осень не ос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84807"/>
                </a:solidFill>
                <a:latin typeface="Lucida Console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Wingdings"/>
                <a:ea typeface="Wingdings"/>
              </a:rPr>
              <a:t></a:t>
            </a:r>
            <a:r>
              <a:rPr b="1" lang="ru-RU" sz="2400" spc="-1" strike="noStrike">
                <a:solidFill>
                  <a:srgbClr val="984807"/>
                </a:solidFill>
                <a:latin typeface="Lucida Console"/>
              </a:rPr>
              <a:t> </a:t>
            </a:r>
            <a:r>
              <a:rPr b="1" lang="ru-RU" sz="2400" spc="-1" strike="noStrike">
                <a:solidFill>
                  <a:srgbClr val="984807"/>
                </a:solidFill>
                <a:latin typeface="Lucida Console"/>
              </a:rPr>
              <a:t>Если рябины в лесу много, ос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Lucida Console"/>
              </a:rPr>
              <a:t>будет дождливая, если же мало, то сух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Lucida Console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Wingdings"/>
                <a:ea typeface="Wingdings"/>
              </a:rPr>
              <a:t></a:t>
            </a:r>
            <a:r>
              <a:rPr b="1" lang="ru-RU" sz="2400" spc="-1" strike="noStrike">
                <a:solidFill>
                  <a:srgbClr val="984807"/>
                </a:solidFill>
                <a:latin typeface="Lucida Console"/>
              </a:rPr>
              <a:t> </a:t>
            </a:r>
            <a:r>
              <a:rPr b="1" lang="ru-RU" sz="2400" spc="-1" strike="noStrike">
                <a:solidFill>
                  <a:srgbClr val="984807"/>
                </a:solidFill>
                <a:latin typeface="Lucida Console"/>
              </a:rPr>
              <a:t>Много ягод на рябине предвещ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Lucida Console"/>
              </a:rPr>
              <a:t>строгую зи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Lucida Console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</a:t>
            </a:r>
            <a:r>
              <a:rPr b="1" lang="ru-RU" sz="2400" spc="-1" strike="noStrike">
                <a:solidFill>
                  <a:srgbClr val="984807"/>
                </a:solidFill>
                <a:latin typeface="Lucida Console"/>
              </a:rPr>
              <a:t> </a:t>
            </a:r>
            <a:r>
              <a:rPr b="1" lang="ru-RU" sz="2400" spc="-1" strike="noStrike">
                <a:solidFill>
                  <a:srgbClr val="984807"/>
                </a:solidFill>
                <a:latin typeface="Lucida Console"/>
              </a:rPr>
              <a:t>Если на рябине листья завян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Lucida Console"/>
              </a:rPr>
              <a:t>и останутся на зиму, то будут си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Lucida Console"/>
              </a:rPr>
              <a:t>моро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Школа\Рабочий стол\Оформление\Картинки для оформления\осенние листья\листья рябины 1.png"/>
          <p:cNvPicPr/>
          <p:nvPr/>
        </p:nvPicPr>
        <p:blipFill>
          <a:blip r:embed="rId4"/>
          <a:stretch/>
        </p:blipFill>
        <p:spPr>
          <a:xfrm rot="21096000">
            <a:off x="6000840" y="4714560"/>
            <a:ext cx="928440" cy="1281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Documents and Settings\Школа\Рабочий стол\Оформление\Картинки для оформления\осенние листья\листья рябины 1.png"/>
          <p:cNvPicPr/>
          <p:nvPr/>
        </p:nvPicPr>
        <p:blipFill>
          <a:blip r:embed="rId5"/>
          <a:stretch/>
        </p:blipFill>
        <p:spPr>
          <a:xfrm>
            <a:off x="6286680" y="4919760"/>
            <a:ext cx="1143000" cy="1576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Documents and Settings\Школа\Рабочий стол\Оформление\Картинки для оформления\осенние листья\листья рябины 1.png"/>
          <p:cNvPicPr/>
          <p:nvPr/>
        </p:nvPicPr>
        <p:blipFill>
          <a:blip r:embed="rId6"/>
          <a:stretch/>
        </p:blipFill>
        <p:spPr>
          <a:xfrm rot="17713800">
            <a:off x="5478120" y="4963680"/>
            <a:ext cx="1139760" cy="15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Школа\Рабочий стол\Фокина Л. П. Шаблон презентации 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fb.ru/misc/i/gallery/14901/577159.jpg"/>
          <p:cNvPicPr/>
          <p:nvPr/>
        </p:nvPicPr>
        <p:blipFill>
          <a:blip r:embed="rId2"/>
          <a:stretch/>
        </p:blipFill>
        <p:spPr>
          <a:xfrm>
            <a:off x="571680" y="214200"/>
            <a:ext cx="8358120" cy="6429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Школа\Рабочий стол\Фокина Л. П. Шаблон презентации 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2.bp.blogspot.com/-AC0N2kFmymM/UmCmdpQ4JMI/AAAAAAAAADQ/GYRiTl6r2uU/s1600/nozhnicy_bumaga.png"/>
          <p:cNvPicPr/>
          <p:nvPr/>
        </p:nvPicPr>
        <p:blipFill>
          <a:blip r:embed="rId2"/>
          <a:srcRect l="5184" t="8117" r="19840" b="0"/>
          <a:stretch/>
        </p:blipFill>
        <p:spPr>
          <a:xfrm>
            <a:off x="4143240" y="5072040"/>
            <a:ext cx="1357560" cy="1593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skachatkartinki.ru/img/picture/May/06/84a7ebf689585b3d4601d661960f1690/mini_1.jpg"/>
          <p:cNvPicPr/>
          <p:nvPr/>
        </p:nvPicPr>
        <p:blipFill>
          <a:blip r:embed="rId3"/>
          <a:stretch/>
        </p:blipFill>
        <p:spPr>
          <a:xfrm>
            <a:off x="7000920" y="285840"/>
            <a:ext cx="1919160" cy="15001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3920" y="642600"/>
            <a:ext cx="63579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slon"/>
              </a:rPr>
              <a:t>Рекомендации для уч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357200" y="1999800"/>
            <a:ext cx="74008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создания картины использованы техника симметричного вырезания (листья) и </a:t>
            </a: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техника смина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ягоды рябины). Листья можно вырезать из цветных страниц старых журналов — это сделает фон поделки более насыщенным. Веточки можно нарисовать фломастером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мажная пластика (</a:t>
            </a: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техника смина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поможет детям развить дизайнерские способности, так как она имеет удивительную способность — менять форму, и поэтому способствует развитию творческого мышл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4"/>
          <a:stretch/>
        </p:blipFill>
        <p:spPr>
          <a:xfrm rot="14781000">
            <a:off x="7125120" y="4178880"/>
            <a:ext cx="804960" cy="1110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5"/>
          <a:stretch/>
        </p:blipFill>
        <p:spPr>
          <a:xfrm rot="14781000">
            <a:off x="1022400" y="1245600"/>
            <a:ext cx="712800" cy="982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Documents and Settings\Школа\Рабочий стол\Оформление\Картинки для оформления\осенние листья\листья рябины 1.png"/>
          <p:cNvPicPr/>
          <p:nvPr/>
        </p:nvPicPr>
        <p:blipFill>
          <a:blip r:embed="rId6"/>
          <a:stretch/>
        </p:blipFill>
        <p:spPr>
          <a:xfrm rot="8130600">
            <a:off x="1420920" y="4697280"/>
            <a:ext cx="86976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Школа\Рабочий стол\Фокина Л. П. Шаблон презентации 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skachatkartinki.ru/img/picture/May/06/84a7ebf689585b3d4601d661960f1690/mini_1.jpg"/>
          <p:cNvPicPr/>
          <p:nvPr/>
        </p:nvPicPr>
        <p:blipFill>
          <a:blip r:embed="rId2"/>
          <a:stretch/>
        </p:blipFill>
        <p:spPr>
          <a:xfrm>
            <a:off x="7286760" y="285840"/>
            <a:ext cx="1644480" cy="1285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000160" y="2285640"/>
            <a:ext cx="450072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- Карт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- Цветная бума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- Ножни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- Салфе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- К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slon"/>
              </a:rPr>
              <a:t>Необходимые материалы и инструмен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http://mamietitine.m.a.pic.centerblog.net/0ab97cc1.png"/>
          <p:cNvPicPr/>
          <p:nvPr/>
        </p:nvPicPr>
        <p:blipFill>
          <a:blip r:embed="rId3"/>
          <a:stretch/>
        </p:blipFill>
        <p:spPr>
          <a:xfrm>
            <a:off x="6853320" y="3786120"/>
            <a:ext cx="1790640" cy="2638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4"/>
          <a:stretch/>
        </p:blipFill>
        <p:spPr>
          <a:xfrm rot="14781000">
            <a:off x="1124640" y="1535760"/>
            <a:ext cx="804960" cy="1111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5"/>
          <a:stretch/>
        </p:blipFill>
        <p:spPr>
          <a:xfrm rot="8754600">
            <a:off x="7054920" y="1358640"/>
            <a:ext cx="893520" cy="1231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6"/>
          <a:stretch/>
        </p:blipFill>
        <p:spPr>
          <a:xfrm rot="11340000">
            <a:off x="6176520" y="2857320"/>
            <a:ext cx="10288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Школа\Рабочий стол\Фокина Л. П. Шаблон презентации 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://skachatkartinki.ru/img/picture/May/06/84a7ebf689585b3d4601d661960f1690/mini_1.jpg"/>
          <p:cNvPicPr/>
          <p:nvPr/>
        </p:nvPicPr>
        <p:blipFill>
          <a:blip r:embed="rId2"/>
          <a:stretch/>
        </p:blipFill>
        <p:spPr>
          <a:xfrm>
            <a:off x="7286760" y="285840"/>
            <a:ext cx="1644480" cy="128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3"/>
          <a:stretch/>
        </p:blipFill>
        <p:spPr>
          <a:xfrm>
            <a:off x="1714680" y="1643040"/>
            <a:ext cx="5729040" cy="3679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4"/>
          <a:stretch/>
        </p:blipFill>
        <p:spPr>
          <a:xfrm rot="14781000">
            <a:off x="1339200" y="4606920"/>
            <a:ext cx="804600" cy="1111320"/>
          </a:xfrm>
          <a:prstGeom prst="rect">
            <a:avLst/>
          </a:prstGeom>
          <a:ln w="0">
            <a:noFill/>
          </a:ln>
        </p:spPr>
      </p:pic>
      <p:sp>
        <p:nvSpPr>
          <p:cNvPr id="91" name="TextBox 10"/>
          <p:cNvSpPr/>
          <p:nvPr/>
        </p:nvSpPr>
        <p:spPr>
          <a:xfrm>
            <a:off x="1166040" y="642960"/>
            <a:ext cx="66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На картоне рисуем карандашом ветки ряб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5"/>
          <a:stretch/>
        </p:blipFill>
        <p:spPr>
          <a:xfrm rot="11340000">
            <a:off x="7319520" y="2142720"/>
            <a:ext cx="1028880" cy="1419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Documents and Settings\Школа\Рабочий стол\Оформление\Картинки для оформления\осенние листья\листья рябины.png"/>
          <p:cNvPicPr/>
          <p:nvPr/>
        </p:nvPicPr>
        <p:blipFill>
          <a:blip r:embed="rId6"/>
          <a:stretch/>
        </p:blipFill>
        <p:spPr>
          <a:xfrm rot="15170400">
            <a:off x="7111800" y="5281200"/>
            <a:ext cx="596880" cy="822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http://mamietitine.m.a.pic.centerblog.net/0ab97cc1.png"/>
          <p:cNvPicPr/>
          <p:nvPr/>
        </p:nvPicPr>
        <p:blipFill>
          <a:blip r:embed="rId7"/>
          <a:stretch/>
        </p:blipFill>
        <p:spPr>
          <a:xfrm>
            <a:off x="7429680" y="4357800"/>
            <a:ext cx="1500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3T04:57:35Z</dcterms:created>
  <dc:creator>Зареченсчкая СОШ</dc:creator>
  <dc:description/>
  <dc:language>en-US</dc:language>
  <cp:lastModifiedBy>Я</cp:lastModifiedBy>
  <dcterms:modified xsi:type="dcterms:W3CDTF">2017-01-17T19:29:01Z</dcterms:modified>
  <cp:revision>43</cp:revision>
  <dc:subject/>
  <dc:title>Слайд 1</dc:title>
</cp:coreProperties>
</file>