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28.jpeg" ContentType="image/jpeg"/>
  <Override PartName="/ppt/media/image24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CD4-DA7E-41A6-97C7-7476A99D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C61-7EB1-4D34-B658-1480D7E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816-CC69-4C61-96B3-1DF424D2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8A0-CB44-442F-902A-BBD26272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A0A-E25F-4AB8-B5E8-B50E3186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EEF-54C7-4099-97C8-D8C7820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DE5-0E3F-4136-9950-15CEB6C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508-F45F-44CA-AFFA-EA2EC23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D28-1839-4BB7-A7DE-B2803C5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6A3-E587-4EBF-92C3-D346693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DE2-353B-48BB-ABD7-A3D16E7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AF5-C9F2-4B64-977F-9898630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9AC-0A6E-4B13-BEFE-4886A3B74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26.jpe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2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28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image" Target="../media/image8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566720" y="689040"/>
            <a:ext cx="5797800" cy="2352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2.bp.blogspot.com/-AC0N2kFmymM/UmCmdpQ4JMI/AAAAAAAAADQ/GYRiTl6r2uU/s1600/nozhnicy_bumaga.png"/>
          <p:cNvPicPr/>
          <p:nvPr/>
        </p:nvPicPr>
        <p:blipFill>
          <a:blip r:embed="rId3"/>
          <a:srcRect l="5184" t="8117" r="19840" b="0"/>
          <a:stretch/>
        </p:blipFill>
        <p:spPr>
          <a:xfrm>
            <a:off x="1214280" y="5357880"/>
            <a:ext cx="1033560" cy="12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8754600">
            <a:off x="1832760" y="3032280"/>
            <a:ext cx="63684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1340000">
            <a:off x="7158960" y="1721880"/>
            <a:ext cx="85716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kachatkartinki.ru/img/picture/May/06/84a7ebf689585b3d4601d661960f1690/mini_1.jpg"/>
          <p:cNvPicPr/>
          <p:nvPr/>
        </p:nvPicPr>
        <p:blipFill>
          <a:blip r:embed="rId6"/>
          <a:stretch/>
        </p:blipFill>
        <p:spPr>
          <a:xfrm>
            <a:off x="7000920" y="28584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7"/>
          <a:stretch/>
        </p:blipFill>
        <p:spPr>
          <a:xfrm rot="14781000">
            <a:off x="1486080" y="1027440"/>
            <a:ext cx="606600" cy="83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vashechudo.ru/images/3-3(2).jpg"/>
          <p:cNvPicPr/>
          <p:nvPr/>
        </p:nvPicPr>
        <p:blipFill>
          <a:blip r:embed="rId8"/>
          <a:stretch/>
        </p:blipFill>
        <p:spPr>
          <a:xfrm>
            <a:off x="3000240" y="3214800"/>
            <a:ext cx="2762280" cy="233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166760" y="642960"/>
            <a:ext cx="65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стья вырезаем из мелких кусочков цве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маги,  складывая их попо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езанный таким образом  листик бу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метр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819560" y="17143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1785960" y="2214720"/>
            <a:ext cx="539892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1339200" y="4606920"/>
            <a:ext cx="804600" cy="11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2.bp.blogspot.com/-AC0N2kFmymM/UmCmdpQ4JMI/AAAAAAAAADQ/GYRiTl6r2uU/s1600/nozhnicy_bumaga.png"/>
          <p:cNvPicPr/>
          <p:nvPr/>
        </p:nvPicPr>
        <p:blipFill>
          <a:blip r:embed="rId6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1449360" y="642960"/>
            <a:ext cx="62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Ягоды рябины делаем из квадрат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ой красной бумаги (1x1 см) или салфе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иная их в ком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819560" y="17143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2.bp.blogspot.com/-AC0N2kFmymM/UmCmdpQ4JMI/AAAAAAAAADQ/GYRiTl6r2uU/s1600/nozhnicy_bumaga.png"/>
          <p:cNvPicPr/>
          <p:nvPr/>
        </p:nvPicPr>
        <p:blipFill>
          <a:blip r:embed="rId4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5"/>
          <a:stretch/>
        </p:blipFill>
        <p:spPr>
          <a:xfrm>
            <a:off x="1571760" y="2214720"/>
            <a:ext cx="5592600" cy="357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4781000">
            <a:off x="1196280" y="3749760"/>
            <a:ext cx="8046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0"/>
          <p:cNvSpPr/>
          <p:nvPr/>
        </p:nvSpPr>
        <p:spPr>
          <a:xfrm>
            <a:off x="1734480" y="714240"/>
            <a:ext cx="54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Листья и ягоды рябины приклеив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нужные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533720" y="2142720"/>
            <a:ext cx="1028520" cy="141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2.bp.blogspot.com/-AC0N2kFmymM/UmCmdpQ4JMI/AAAAAAAAADQ/GYRiTl6r2uU/s1600/nozhnicy_bumaga.png"/>
          <p:cNvPicPr/>
          <p:nvPr/>
        </p:nvPicPr>
        <p:blipFill>
          <a:blip r:embed="rId4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1643040" y="1785960"/>
            <a:ext cx="5859360" cy="378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4781000">
            <a:off x="1338840" y="2821680"/>
            <a:ext cx="8049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1357200" y="428760"/>
            <a:ext cx="62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Количество веточек выбираем по жел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следующий ряд ягод должен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е преды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533720" y="2142720"/>
            <a:ext cx="102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410120" y="4393080"/>
            <a:ext cx="804960" cy="111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vashechudo.ru/images/3-3(2).jpg"/>
          <p:cNvPicPr/>
          <p:nvPr/>
        </p:nvPicPr>
        <p:blipFill>
          <a:blip r:embed="rId5"/>
          <a:stretch/>
        </p:blipFill>
        <p:spPr>
          <a:xfrm>
            <a:off x="2286000" y="2000160"/>
            <a:ext cx="4838760" cy="408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17713800">
            <a:off x="1384200" y="1565280"/>
            <a:ext cx="1139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2"/>
          <a:stretch/>
        </p:blipFill>
        <p:spPr>
          <a:xfrm rot="8754600">
            <a:off x="2199960" y="4431960"/>
            <a:ext cx="906480" cy="124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1062000" y="361440"/>
            <a:ext cx="108432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skachatkartinki.ru/img/picture/May/06/84a7ebf689585b3d4601d661960f1690/mini_1.jpg"/>
          <p:cNvPicPr/>
          <p:nvPr/>
        </p:nvPicPr>
        <p:blipFill>
          <a:blip r:embed="rId4"/>
          <a:stretch/>
        </p:blipFill>
        <p:spPr>
          <a:xfrm>
            <a:off x="6286680" y="285840"/>
            <a:ext cx="2633400" cy="205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6483600" y="4259520"/>
            <a:ext cx="993960" cy="1370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7"/>
          <p:cNvSpPr/>
          <p:nvPr/>
        </p:nvSpPr>
        <p:spPr>
          <a:xfrm>
            <a:off x="1106640" y="2286000"/>
            <a:ext cx="75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Осень в сад к нам пришла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Красный факел зажгла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Здесь дрозды, скворцы снуют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И, галдя, его клю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8" descr=""/>
          <p:cNvPicPr/>
          <p:nvPr/>
        </p:nvPicPr>
        <p:blipFill>
          <a:blip r:embed="rId6"/>
          <a:stretch/>
        </p:blipFill>
        <p:spPr>
          <a:xfrm>
            <a:off x="1700280" y="596880"/>
            <a:ext cx="4700520" cy="83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7"/>
          <a:stretch/>
        </p:blipFill>
        <p:spPr>
          <a:xfrm rot="11340000">
            <a:off x="5776920" y="1132920"/>
            <a:ext cx="8064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zelenblog.ru/wp-content/uploads/2012/09/images2.jpg"/>
          <p:cNvPicPr/>
          <p:nvPr/>
        </p:nvPicPr>
        <p:blipFill>
          <a:blip r:embed="rId2"/>
          <a:stretch/>
        </p:blipFill>
        <p:spPr>
          <a:xfrm>
            <a:off x="642960" y="285840"/>
            <a:ext cx="82598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myautumn.ru/wp-content/uploads/2013/11/Ryabina_krasnaya_a_listya_zheltye.jpg"/>
          <p:cNvPicPr/>
          <p:nvPr/>
        </p:nvPicPr>
        <p:blipFill>
          <a:blip r:embed="rId2"/>
          <a:stretch/>
        </p:blipFill>
        <p:spPr>
          <a:xfrm>
            <a:off x="642960" y="285840"/>
            <a:ext cx="828684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2773440" y="378000"/>
            <a:ext cx="2712960" cy="83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skachatkartinki.ru/img/picture/May/06/84a7ebf689585b3d4601d661960f1690/mini_1.jpg"/>
          <p:cNvPicPr/>
          <p:nvPr/>
        </p:nvPicPr>
        <p:blipFill>
          <a:blip r:embed="rId3"/>
          <a:stretch/>
        </p:blipFill>
        <p:spPr>
          <a:xfrm>
            <a:off x="6286680" y="285840"/>
            <a:ext cx="2633400" cy="2058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749520" y="1571760"/>
            <a:ext cx="84103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Нет рябины – и осень не ос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Если рябины в лесу много, ос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будет дождливая, если же мало, то сух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Много ягод на рябине предве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строгую з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Lucida Console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Если на рябине листья завян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и останутся на зиму, то будут си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мо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4"/>
          <a:stretch/>
        </p:blipFill>
        <p:spPr>
          <a:xfrm rot="21096000">
            <a:off x="6000840" y="4714560"/>
            <a:ext cx="928440" cy="12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5"/>
          <a:stretch/>
        </p:blipFill>
        <p:spPr>
          <a:xfrm>
            <a:off x="6286680" y="4919760"/>
            <a:ext cx="1143000" cy="157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17713800">
            <a:off x="5478120" y="4963680"/>
            <a:ext cx="1139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fb.ru/misc/i/gallery/14901/577159.jpg"/>
          <p:cNvPicPr/>
          <p:nvPr/>
        </p:nvPicPr>
        <p:blipFill>
          <a:blip r:embed="rId2"/>
          <a:stretch/>
        </p:blipFill>
        <p:spPr>
          <a:xfrm>
            <a:off x="571680" y="214200"/>
            <a:ext cx="835812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2.bp.blogspot.com/-AC0N2kFmymM/UmCmdpQ4JMI/AAAAAAAAADQ/GYRiTl6r2uU/s1600/nozhnicy_bumaga.png"/>
          <p:cNvPicPr/>
          <p:nvPr/>
        </p:nvPicPr>
        <p:blipFill>
          <a:blip r:embed="rId2"/>
          <a:srcRect l="5184" t="8117" r="19840" b="0"/>
          <a:stretch/>
        </p:blipFill>
        <p:spPr>
          <a:xfrm>
            <a:off x="4143240" y="5072040"/>
            <a:ext cx="1357560" cy="159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skachatkartinki.ru/img/picture/May/06/84a7ebf689585b3d4601d661960f1690/mini_1.jpg"/>
          <p:cNvPicPr/>
          <p:nvPr/>
        </p:nvPicPr>
        <p:blipFill>
          <a:blip r:embed="rId3"/>
          <a:stretch/>
        </p:blipFill>
        <p:spPr>
          <a:xfrm>
            <a:off x="7000920" y="285840"/>
            <a:ext cx="1919160" cy="1500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392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slon"/>
              </a:rPr>
              <a:t>Рекомендации для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57200" y="1999800"/>
            <a:ext cx="7400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оздания картины использованы техника симметричного вырезания (листья) и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ехника смин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ягоды рябины). Листья можно вырезать из цветных страниц старых журналов — это сделает фон поделки более насыщенным. Веточки можно нарисовать фломастеро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мажная пластика (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ехника смин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оможет детям развить дизайнерские способности, так как она имеет удивительную способность — менять форму, и поэтому способствует развитию творческого мыш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7125120" y="4178880"/>
            <a:ext cx="804960" cy="111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1022400" y="1245600"/>
            <a:ext cx="712800" cy="98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8130600">
            <a:off x="1420920" y="4697280"/>
            <a:ext cx="86976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000160" y="2285640"/>
            <a:ext cx="45007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Кар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Цветная 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Салф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slon"/>
              </a:rPr>
              <a:t>Необходимые материалы и инструмен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mamietitine.m.a.pic.centerblog.net/0ab97cc1.png"/>
          <p:cNvPicPr/>
          <p:nvPr/>
        </p:nvPicPr>
        <p:blipFill>
          <a:blip r:embed="rId3"/>
          <a:stretch/>
        </p:blipFill>
        <p:spPr>
          <a:xfrm>
            <a:off x="6853320" y="3786120"/>
            <a:ext cx="1790640" cy="263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124640" y="1535760"/>
            <a:ext cx="804960" cy="111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8754600">
            <a:off x="7054920" y="1358640"/>
            <a:ext cx="893520" cy="12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1340000">
            <a:off x="6176520" y="2857320"/>
            <a:ext cx="1028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1714680" y="1643040"/>
            <a:ext cx="5729040" cy="367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339200" y="4606920"/>
            <a:ext cx="804600" cy="1111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1166040" y="64296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На картоне рисуем карандашом ветки ряб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1340000">
            <a:off x="7319520" y="21427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5170400">
            <a:off x="7111800" y="5281200"/>
            <a:ext cx="596880" cy="822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ttp://mamietitine.m.a.pic.centerblog.net/0ab97cc1.png"/>
          <p:cNvPicPr/>
          <p:nvPr/>
        </p:nvPicPr>
        <p:blipFill>
          <a:blip r:embed="rId7"/>
          <a:stretch/>
        </p:blipFill>
        <p:spPr>
          <a:xfrm>
            <a:off x="7429680" y="4357800"/>
            <a:ext cx="150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4:57:35Z</dcterms:created>
  <dc:creator>Зареченсчкая СОШ</dc:creator>
  <dc:description/>
  <dc:language>en-US</dc:language>
  <cp:lastModifiedBy>Я</cp:lastModifiedBy>
  <dcterms:modified xsi:type="dcterms:W3CDTF">2017-01-17T19:29:01Z</dcterms:modified>
  <cp:revision>43</cp:revision>
  <dc:subject/>
  <dc:title>Слайд 1</dc:title>
</cp:coreProperties>
</file>