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482909-1F49-411A-AA24-E6D9F882D8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F1BD8-BC46-4054-82C4-E0E8B2111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4BA4BC-A721-4E13-BDAF-0751E4C41B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7AC3E2-F971-49A2-A48B-CA92B05111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B5EC3-B690-4C2D-A3BB-03216CD4F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07259-19EB-4B46-8969-C63D560CA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BB8D2-CA80-441C-A119-B6A5BF29B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87E2A-C14F-4BC6-AD08-67B7B3B59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118D4-AFD5-4C05-BF66-8E2813E24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D34BB-7110-4917-AE08-9319BAE67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EE907-C8A6-4318-9A8C-40BEC36CD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0785D-2270-4BAE-83AC-19F1A9B3EA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Lucida Sans Unicode"/>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Lucida Sans Unicode"/>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342449-4CBE-429B-B342-0F26704209B9}" type="slidenum">
              <a:rPr b="0" lang="ru-RU"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4400" spc="-1" strike="noStrike">
                <a:solidFill>
                  <a:srgbClr val="000000"/>
                </a:solidFill>
                <a:latin typeface="Arial"/>
              </a:rPr>
              <a:t>Himalayas</a:t>
            </a:r>
            <a:endParaRPr b="0" lang="en-US" sz="4400" spc="-1" strike="noStrike">
              <a:solidFill>
                <a:srgbClr val="000000"/>
              </a:solidFill>
              <a:latin typeface="Arial"/>
            </a:endParaRPr>
          </a:p>
        </p:txBody>
      </p:sp>
      <p:sp>
        <p:nvSpPr>
          <p:cNvPr id="42" name="PlaceHolder 2"/>
          <p:cNvSpPr>
            <a:spLocks noGrp="1"/>
          </p:cNvSpPr>
          <p:nvPr>
            <p:ph type="subTitle"/>
          </p:nvPr>
        </p:nvSpPr>
        <p:spPr>
          <a:xfrm>
            <a:off x="502920" y="1768320"/>
            <a:ext cx="9070920" cy="498960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71280" y="2376360"/>
            <a:ext cx="10007640" cy="2664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5560" y="71280"/>
            <a:ext cx="10250640" cy="48675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ru-RU" sz="1800" spc="-1" strike="noStrike">
                <a:solidFill>
                  <a:srgbClr val="000000"/>
                </a:solidFill>
                <a:latin typeface="Arial"/>
              </a:rPr>
              <a:t>The Himalayas or Himalaya (/ˌhɪməˈleɪ.ə/ or /hɪˈmɑːləjə/; Sanskrit: </a:t>
            </a:r>
            <a:r>
              <a:rPr b="0" lang="hi-IN" sz="1800" spc="-1" strike="noStrike">
                <a:solidFill>
                  <a:srgbClr val="000000"/>
                </a:solidFill>
                <a:latin typeface="Arial"/>
                <a:cs typeface="Mangal"/>
              </a:rPr>
              <a:t>हिमालय</a:t>
            </a:r>
            <a:r>
              <a:rPr b="0" lang="ru-RU" sz="1800" spc="-1" strike="noStrike">
                <a:solidFill>
                  <a:srgbClr val="000000"/>
                </a:solidFill>
                <a:latin typeface="Arial"/>
              </a:rPr>
              <a:t>, from Sanskrit hima (snow) + ālaya (dwelling), literally meaning "abode of snow") is a mountain range in the Indian subcontinent which separates the Indo-Gangetic Plain from the Tibetan Plateau. This range is home to nine of the ten highest peaks on Earth, including the highest above sea level, Mount Everest. The Himalayas have profoundly shaped the cultures of South Asia. Many Himalayan peaks are sacred in both Buddhism and Hinduism.</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ru-RU" sz="1800" spc="-1" strike="noStrike">
                <a:solidFill>
                  <a:srgbClr val="000000"/>
                </a:solidFill>
                <a:latin typeface="Arial"/>
              </a:rPr>
              <a:t>Lifted by the collision of the Indian tectonic plate with the Eurasian Plate, the Himalayan range runs northwest to southeast in a 2,400-kilometre (1,500 mi) long arc. The range varies in width from 400 kilometres (250 mi) in the west to 150 kilometres (93 mi) in the east. Besides the Greater Himalayas, there are several parallel lower ranges. The southernmost of these, located along the northern edge of the Indian plains and reaching about a thousand meters in altitude, are called the Sivalik Hills. Further north is a higher range, reaching two to three thousand meters, known as the Lower Himalayan Rang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ru-RU" sz="1800" spc="-1" strike="noStrike">
                <a:solidFill>
                  <a:srgbClr val="000000"/>
                </a:solidFill>
                <a:latin typeface="Arial"/>
              </a:rPr>
              <a:t>Three of the world's major rivers—the Indus, the Ganges and the Brahmaputra—arise in the Himalayas. While the Indus and the Brahmaputra rise near Mount Kailash in Tibet, the Ganges rises in the Indian state of Uttarakhand. Their combined drainage basin is home to some 600 million peopl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19080"/>
            <a:ext cx="10152000" cy="21416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ru-RU" sz="1800" spc="-1" strike="noStrike">
                <a:solidFill>
                  <a:srgbClr val="000000"/>
                </a:solidFill>
                <a:latin typeface="Arial"/>
              </a:rPr>
              <a:t>Ecolog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ru-RU" sz="1800" spc="-1" strike="noStrike">
                <a:solidFill>
                  <a:srgbClr val="000000"/>
                </a:solidFill>
                <a:latin typeface="Arial"/>
              </a:rPr>
              <a:t>Main article: Ecology of the Himalaya</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ru-RU" sz="1800" spc="-1" strike="noStrike">
                <a:solidFill>
                  <a:srgbClr val="000000"/>
                </a:solidFill>
                <a:latin typeface="Arial"/>
              </a:rPr>
              <a:t>The flora and fauna of the Himalayas vary with climate, rainfall, altitude, and soils. The climate ranges from tropical at the base of the mountains to permanent ice and snow at the highest elevations. The amount of yearly rainfall increases from west to east along the southern front of the range. This diversity of altitude, rainfall and soil conditions combined with the very high snow line supports a variety of distinct plant and animal communities. The extremes of high altitude (low atmospheric pressure) combined with extreme cold favor extremophile organisms.</a:t>
            </a:r>
            <a:endParaRPr b="0" lang="en-US" sz="1800" spc="-1" strike="noStrike">
              <a:solidFill>
                <a:srgbClr val="000000"/>
              </a:solidFill>
              <a:latin typeface="Arial"/>
            </a:endParaRPr>
          </a:p>
        </p:txBody>
      </p:sp>
      <p:pic>
        <p:nvPicPr>
          <p:cNvPr id="46" name="" descr=""/>
          <p:cNvPicPr/>
          <p:nvPr/>
        </p:nvPicPr>
        <p:blipFill>
          <a:blip r:embed="rId1"/>
          <a:stretch/>
        </p:blipFill>
        <p:spPr>
          <a:xfrm>
            <a:off x="0" y="3132000"/>
            <a:ext cx="10078920" cy="29876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9600" y="642960"/>
            <a:ext cx="10179000" cy="62420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ru-RU" sz="1800" spc="-1" strike="noStrike">
                <a:solidFill>
                  <a:srgbClr val="000000"/>
                </a:solidFill>
                <a:latin typeface="Arial"/>
              </a:rPr>
              <a:t>Culture/Peopl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ru-RU" sz="1800" spc="-1" strike="noStrike">
                <a:solidFill>
                  <a:srgbClr val="000000"/>
                </a:solidFill>
                <a:latin typeface="Arial"/>
              </a:rPr>
              <a:t>There are many cultural aspects of the Himalayas. For the Hindus, the Himalayas are personified as Himavath, the father of the goddess Parvati (Gupta and Sharma, 4). The Himalayas is also considered to be the father of the river Ganges. The Mountain Kailash is a sacred peak to the Hindus and is where the Lord Shiva is believed to live (Admin, sec. Centre of Religion). Two of the most sacred places of pilgrimage for the Hindus is the temple complex in Pashupatinath and Muktinath, also known as Saligrama because of the presence of the sacred black rocks called saligrams (Zurick, Julsun, Basanta, and Birendra, 153).</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ru-RU" sz="1800" spc="-1" strike="noStrike">
                <a:solidFill>
                  <a:srgbClr val="000000"/>
                </a:solidFill>
                <a:latin typeface="Arial"/>
              </a:rPr>
              <a:t>The Buddhists also lay a great deal of importance on the mountains of the Himalayas. Paro Taktsang is the holy place where Buddhism started in Bhutan (Admin, sec. Centre of Religion). The Muktinath is also a place of pilgrimage for the Tibetan Buddhists. They believe that the trees in the poplar grove came from the walking sticks of eighty-four ancient Indian Buddhist magicians. They consider the saligrams to be representatives of the Tibetan serpent deity known as Gawo Jagpa (Zurick, Julsun, Basanta, and Birendra, 153).</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ru-RU" sz="1800" spc="-1" strike="noStrike">
                <a:solidFill>
                  <a:srgbClr val="000000"/>
                </a:solidFill>
                <a:latin typeface="Arial"/>
              </a:rPr>
              <a:t>The Himalayan people’s diversity shows in many different ways. It shows through their architecture, their languages and dialects, their beliefs and rituals, as well as their clothing (Zurick, Julsun, Basanta, and Birendra, 78). The shapes and materials of the people’s homes reflect their practical needs and the beliefs. Another example of the diversity amongst the Himalayan peoples is that handwoven textiles display unique colors and patterns that coincide with their ethnic backgrounds. Finally, some people place a great importance on jewelry. The Rai and Limbu women wear big gold earrings and nose rings to show their wealth through their jewelry (Zurick, Julsun, Basanta, and Birendra, 79).</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01T18:46:41Z</dcterms:created>
  <dc:creator/>
  <dc:description/>
  <dc:language>en-US</dc:language>
  <cp:lastModifiedBy/>
  <cp:revision>1</cp:revision>
  <dc:subject/>
  <dc:title/>
</cp:coreProperties>
</file>