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E23-FA0D-483C-BF1C-056833B7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0FB-8E24-4F76-9827-19491354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0E8-06E0-48F4-BABC-34A2666D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79B-BCB8-4D46-89C5-89631FA5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8CF-2A3F-4468-8D2F-C9FDB37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710-FE7C-4067-8B5A-427D66D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CD8-EE17-4DF5-B838-61DB9EE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F3B-9947-4217-9116-86516A6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89A-3550-4595-9AAB-40EA5C91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466-E635-495F-8EBB-6892629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CDC-AA1B-4135-B255-37D3A2E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B57-32A1-44C7-A3D9-0001A5B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84DE-8E92-4B85-9AAA-DC14E3F68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тоговое родительское собрание в 5 «Б» классе в 2016-2017 учебном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езентацию подготовила классный руководитель Барано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а повес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тоги успев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облемы комфортного получ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адачи на конец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одготовка к новому учебному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ющ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 не выполняют полностью или част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 не записывают в дневник или не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учат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канцелярских принадле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живают за плохую отм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ают уроки по неуважительным причинам (проспал, опозд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хотят оставаться после уроков, исправлять «двой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лекаются на уроках,занимаются посторонними делами (рисуют, переписываются, играют в телеф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ЫВОД:               нет мотивации к учению,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                    наступление подростков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егодня в нашем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д усп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ие ответы и пререкания со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ежл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цензурная бр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мение решать конфликты мирным путем. Вспыльчивость. Решение спора кул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желают выполнять школьные и классные обяза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 «вран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 большую свободу к дейст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 все научены этой свободой пользоваться прав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режима дня, где отдельно будет прописано время выполнения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ЫВОД; Воспитание навыков самостоятельной деятельности у ребенка считается одним из условий его успешного развития как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чему ребенок не хочет делать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. Непонимание домашнего задания. Ребенок не хочет заниматься, потому что бои..."/>
          <p:cNvPicPr/>
          <p:nvPr/>
        </p:nvPicPr>
        <p:blipFill>
          <a:blip r:embed="rId1"/>
          <a:stretch/>
        </p:blipFill>
        <p:spPr>
          <a:xfrm>
            <a:off x="519120" y="1341360"/>
            <a:ext cx="820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адачи на конец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несут полную материальную ответственность за книги, выданные школьной библиотек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отовить учебники к сд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школьное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 о здоровом питании. Класс должен питаться организованно, все вместе   горячим об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 класс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с жд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ктеристика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здка в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0T11:56:26Z</dcterms:created>
  <dc:creator>Admin</dc:creator>
  <dc:description/>
  <dc:language>en-US</dc:language>
  <cp:lastModifiedBy>Админ</cp:lastModifiedBy>
  <dcterms:modified xsi:type="dcterms:W3CDTF">2017-06-02T09:00:08Z</dcterms:modified>
  <cp:revision>8</cp:revision>
  <dc:subject/>
  <dc:title>Итоговое родительское собрание в 5 «Б» классе в 2016-2017 учебном году</dc:title>
</cp:coreProperties>
</file>