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60A61-E3C7-46B4-8418-5E153AA94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0A953-D545-4497-8590-FE576F8BF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6D49E-4925-4E3C-BD64-9DB86323A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A7C87-BFBB-4FE4-9782-F2A5492C1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CAC73-5AC4-45AC-8AAB-BDAA5EE92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4021F-F07C-4EC2-AC71-DD4D5CB4A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73EA0-33C4-490C-9B92-8F878672C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FC28F-5B50-4232-8F62-AFC85FC94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2EBAA-E9BD-4D99-9621-7BE6FD610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F47C1-7C3B-47BC-B1D6-BCEB34E58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72E94-20DF-4012-A036-2DE19BCF6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54E9A-3C25-4A4C-A9DD-0DA6E4497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3BDF5-3411-49D7-85F9-755B892F756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49000"/>
            <a:ext cx="7772400" cy="305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Итоговое родительское собрание в 5 «Б» классе в 2016-2017 учебном год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  <a:ea typeface="Arial"/>
              </a:rPr>
              <a:t>Презентацию подготовила классный руководитель Баранова Татьяна Александров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Arial"/>
              </a:rPr>
              <a:t>На повестк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Итоги успеваем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Проблемы комфортного получения зна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Акцентуации характе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Проблем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полнения домашнего зад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. Задачи на конец г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. Подготовка к новому учебному год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Успеваемо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457200" y="1600200"/>
          <a:ext cx="8229600" cy="4730760"/>
        </p:xfrm>
        <a:graphic>
          <a:graphicData uri="http://schemas.openxmlformats.org/drawingml/2006/table">
            <a:tbl>
              <a:tblPr/>
              <a:tblGrid>
                <a:gridCol w="1371600"/>
                <a:gridCol w="1371600"/>
                <a:gridCol w="1371600"/>
                <a:gridCol w="1371600"/>
                <a:gridCol w="1371600"/>
                <a:gridCol w="1371600"/>
              </a:tblGrid>
              <a:tr h="1030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1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твер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2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твер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3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твер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4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твер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ичество уч-с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64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лични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учш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спевающ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Основные пробле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машнее задание не выполняют полностью или частич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машнее задание не записывают в дневник или не полность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 учат прави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т канцелярских принадлежност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 переживают за плохую отметк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пускают уроки по неуважительным причинам (проспал, опоздал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 хотят оставаться после уроков, исправлять «двойки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влекаются на уроках,занимаются посторонними делами (рисуют, переписываются, играют в телефон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ВЫВОД:               нет мотивации к учению, </a:t>
            </a:r>
            <a:br>
              <a:rPr sz="2000"/>
            </a:b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                             наступление подросткового возрас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Сегодня в нашем класс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пад успеваем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рушение дисципли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зкие ответы и пререкания со взрослы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сутствие вежлив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цензурная бран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умение решать конфликты мирным путем. Вспыльчивость. Решение спора кулак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 желают выполнять школьные и классные обязан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блема «вранья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В 5 КЛАСС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лучили большую свободу к действия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о не все научены этой свободой пользоваться правиль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т режима дня, где отдельно будет прописано время выполнения уро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ВЫВОД; Воспитание навыков самостоятельной деятельности у ребенка считается одним из условий его успешного развития как лич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Почему ребенок не хочет делать домашнее зад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7" descr="2. Непонимание домашнего задания. Ребенок не хочет заниматься, потому что бои..."/>
          <p:cNvPicPr/>
          <p:nvPr/>
        </p:nvPicPr>
        <p:blipFill>
          <a:blip r:embed="rId1"/>
          <a:stretch/>
        </p:blipFill>
        <p:spPr>
          <a:xfrm>
            <a:off x="519120" y="1341360"/>
            <a:ext cx="8209080" cy="53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Задачи на конец г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одители несут полную материальную ответственность за книги, выданные школьной библиотекой.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готовить учебники к сдач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еречь школьное имущест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говор о здоровом питании. Класс должен питаться организованно, все вместе   горячим обед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2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6 класс.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Что нас ждет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Харктеристика подросткового возра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ездка в теат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овые предме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5-20T11:56:26Z</dcterms:created>
  <dc:creator>Admin</dc:creator>
  <dc:description/>
  <dc:language>en-US</dc:language>
  <cp:lastModifiedBy>Админ</cp:lastModifiedBy>
  <dcterms:modified xsi:type="dcterms:W3CDTF">2017-06-02T09:00:08Z</dcterms:modified>
  <cp:revision>8</cp:revision>
  <dc:subject/>
  <dc:title>Итоговое родительское собрание в 5 «Б» классе в 2016-2017 учебном году</dc:title>
</cp:coreProperties>
</file>