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911-F041-4CBC-B877-78419C13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AF4-85E4-4DFA-AF4A-0261120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2CFFA-09E2-4106-89CE-E803D4B3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E7052-D1B8-4010-B613-023EAA0E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48C86-60A9-4940-8DC8-0047920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C849D-47CB-416F-892A-8ADCD84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09C5D-2BC5-4DAD-AAA6-9631B50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42BB-B5D7-44F3-B6AF-B2533DA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F60F-7CB8-438E-A062-0A6E3E19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A77A6-0602-4511-AB57-4B91FAB0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34270-6266-4829-8632-24FFA900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28A16-28FB-4294-8106-57604DEB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135-01BE-4B6F-85D9-A7974723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5659B-9F17-4B8E-8E49-7902C0B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32BE-A9EE-4AA5-AA8C-ADF3E113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2669F-A093-43B5-ACDD-34B81BE5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CD124-B508-443B-9020-4069720E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85C84-75C5-4B97-9F18-CAF72DB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D01B-16FB-47AA-ACB5-FEFC7EE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F9EF0-8D72-4C12-B0EE-7208A520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601C-F64B-4E1A-BCF1-6FB0616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D3EF5-36D3-4A35-A84E-FF26CC6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6B4B-159E-49A3-98B0-36A325F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0CC-8461-4B42-BCD0-B6F6DCE1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3D234-EE44-48E4-91CF-F850B44C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E646-1F3A-4B3D-898E-AB7015B8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AFDE-59D6-4919-B53D-D4B4A17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5E06-91BD-41D5-98CC-6BB4523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29F5-AF97-41D8-AFB8-CA075BF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5E40-2C50-4660-969F-9162D77F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55892-B0C0-4A72-8AD7-9E8B1E3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18E2-C4DA-4C69-A274-8472EB6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45C05-C3F3-4804-8E1F-7FFAFBB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FAA46-30C7-4B49-9BC7-8500881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645-D6FE-4834-947D-E44E4C10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E356A-352E-4069-9B75-7836B00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CDD28-E4C9-421E-A419-8DF625F1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F74C9-492D-46F5-8EEE-3F3F998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4CD1E-9325-4076-B51E-A2D1CD8F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864A5-A77C-43E0-911A-F06EED0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CCC28-1FBC-4EFE-A0C1-EE3246B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FE619-AF73-489F-BE80-3136D9A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B6D50-1D0D-403F-90B8-5CC93DB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4E129-8F34-4EBF-996C-150A63B2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880FD-15ED-4338-9196-27A4DC0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95A-FADA-44C2-9748-6DC242C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CDB4B-3DF1-4E99-94BE-EFE84D6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B7780-BBCC-4BE2-8F7E-0636F63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C9D1C-31CE-4178-87DB-7930B58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A3C60-C92C-4A7D-BC36-23DFAFCF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62A4D-D0A3-4D4B-A39D-3E14384E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1CC05-2DEF-4688-BE43-0B9E1423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5CE52-82E1-4726-9FBB-56C236E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2812E-61EC-4355-A330-2714C5D0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BC185-2CB0-4942-85D6-B64180C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5FE9D-81EE-4ED4-9838-A370F20D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B77-4951-4F9F-99FD-9FB99504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014B2-B185-4AF8-864D-8875EFB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A6E78-3C41-4897-9403-2ED78BA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7FC1F-36B4-449B-B96B-C595B7D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DAFF7-F21C-45E4-8332-F715DCF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BAE35-E418-4DF8-B819-F7E3567C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D81F6-0BF4-4662-99D7-0A3D472A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4461D-C212-4604-8FF7-9F52A4C7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CAF61-A8B6-4F86-8AE8-42F0DFDA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68583-681A-4BB6-A0DC-068D752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F44BC-E847-4AD7-9097-5E448A5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B02E-850F-4E94-9783-448D8E0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6BA05-3F27-4F2E-A4DA-CCBBEF7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7307A-0F25-4CED-950B-3DC7F264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C8786-03A9-407E-A1C9-CB8D5521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268A1-7E67-43C4-A3D2-55A0C77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FA0AD-0243-428E-848B-625BCDB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5F03A-E89C-4EF4-A7FD-702801B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0AEED-9422-4376-ABC2-4519856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C822F-357C-4428-B7FE-5ED76CA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8D763-0325-4687-91B9-3489FC9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27CD-D1B0-4DA0-84ED-ADC73D69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70A4-8DC9-4859-95AD-3F42670A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00D4-6303-4286-9507-F8312BC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8B4-2EC5-4F52-93BF-A9114651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0A59-2B55-477C-8B4C-B666E62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8CCB-F13D-4543-887C-79D859D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FAF0-88CD-43E7-A96D-CB8FB192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815D-DD5C-4D6A-98F9-8ACE445A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BFA-6651-496E-B596-D428BDA8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B3D3-DD6C-40D7-B2DB-FDF57A23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7044-C49D-42FE-B4A9-A9EAC81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E9C1-BC83-426C-B084-3199835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64FD-6C50-4AFB-8FF9-F7C8A3E5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8891-0F70-4E07-BAC6-73019BB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48B-78FA-44E3-A866-B697FB40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1EE0-7D68-4B9F-AD0F-CBA0200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D06B-8DAF-4E3F-8CFC-A3E355C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243C-4DAC-4BB9-9905-F617387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4FD5-12BE-4BD4-A1FB-650032A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6042-6073-437E-A0D2-42D0F13F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B4AB-F8A8-4F90-B460-2438FDA0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A893-B363-4FAC-B99F-D30ED387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24B3-656A-4F3F-8603-279821E1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1C35-2DFF-43B3-9941-A190EE8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E197-1E0D-4F42-BF03-2D449392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5F5-F71C-40F7-BECA-608E3214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BD05-03D0-47D8-8B78-79BEECE4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D737-51E1-462A-94BC-DF5B801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FE03-8D26-4847-A626-338CADF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F491-EE65-45DB-A6F5-BC6D4D55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3A2E-E9D6-4109-BF6E-C8040A4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79F4-23D0-4306-89E2-7D2DDE5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F946-46FA-4CED-A687-528317D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C699-EAE7-4057-80E0-AE4AA648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2EE12-1A31-43D5-8432-BDFE883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C3A5-7E3D-4A12-9DA3-1DB77165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FF6-67F2-4616-B806-56F7B0B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182FB-E285-449F-9D2D-6ED84FEA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DF7C-C8A1-4D41-AB10-82EAA710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C8FA-EDB3-4109-B86A-1EE8E76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B2FA-1298-48CC-9E48-181ECCC1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50C9-FE11-4CBF-81AE-D4F24974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D09A5-4FEA-428F-89C4-57F2511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4B43-2FA8-47A8-AEA8-99FD370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BEB6-730A-47C2-BD1D-7E356CEE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25103-2898-497E-A6D9-BE710C1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F210-B89C-4BC4-8CA5-A9BE8FD4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5E1-E76D-43AD-9034-B7822F5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8C32-6190-42C2-BD43-35B68253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DB35-0C23-4789-80E5-AC3E6B5F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B8D2-52C2-4D5B-B5C6-40E02AE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63AE-EB3C-4AEC-A327-E149B21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EAF06-6A81-4339-9C18-AFAD2261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214D-CA1E-4316-9EDD-0498A0E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3475-8AB2-488E-8FAF-37762B8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B86B-15F1-440C-BA49-497108F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6B9F4-0F91-4A9A-A27B-2917802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D189-8120-4826-ACD0-1DA1749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4FC-C25F-4CD4-9876-85E6D2A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8A97-28BD-4F62-A0D0-2B3FDEB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3128-9A2A-4AFC-B018-361425C3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DDC5-5CD1-44EE-AAE9-5527FD5C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99CA-8181-44CE-A8FD-26DE5F2B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C309-DA8D-436A-97DF-89C05C0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E655-2720-41F7-9646-764D7C2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997E-4565-4365-84AE-E88D1C9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74CA-012B-4622-9FB2-A7158B6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34EE6-608E-4DCD-819C-7009459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9CCD-DD6D-4379-A167-EAF7A9F9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0A2-FF99-47AF-A040-58AD7BF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BCD8E-76CA-4934-9812-FCF9604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1232-4439-4829-8FDB-10F4911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A521-1803-4691-A7EF-474D159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7AD8-2EED-4E61-822F-75EB95E1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4616-2B5F-4C37-965A-F863226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EF2B-48F5-43D2-A5E3-511AADA5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AAD5-3EB9-4C41-A1C1-27F3657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F793-C92F-4BB5-B91F-E90B903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F8FA-675E-49BB-82B5-81BA091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F014-C90E-42B7-8CB2-82C02F6D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B4E-52FE-4156-83D2-06B4BC6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FA661-5C86-4CDB-B392-397DA005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24305-C352-4238-B292-CD2E28C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8146-70F5-4D78-B161-A5FFB64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6371-D727-4CF2-B80D-179560A4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0CE6-C5A0-4549-95E1-A675FB1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CCC91-5CE1-4AE0-B414-3BF2A310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D524-D613-44A8-87F2-8CA5541D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9A3D7-1915-4DCA-B666-F0D0EBB4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9240C-A0D0-4A9F-BAE5-5B2CAB7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BF82A-95C7-4084-B68F-634D9F25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F72E-8242-4729-9432-E448B1BCA1C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D59-A6FF-47AC-8F79-95FADE62CC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34BF-6886-433D-86F3-3F29CA7248A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301-372B-4D57-8D1A-B3690B82DE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A56-A188-4C72-A55A-9DE181FE580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8E28-BA77-450B-BAE2-6D8B06F655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C3E-6E87-49F8-BB22-A95CB756718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96D-B4B7-43ED-A9D7-DAB75C47FC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76A-8877-4CCD-A7BB-74E613F604A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92B5-A2BB-4F65-A28C-1B82A8ACDA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F5C-70C1-4D0C-904C-07D2C0EF0CF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E21-2E99-4CF4-AB8B-5D7C10E303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2AF-745D-46E6-A1A0-067CC3B98AF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03C-E73C-4BB1-A1A3-045F2FBD6A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07A-6190-41D1-B144-A478FF07373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9A8-713D-4451-9522-176EB4C4A1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1B7-E594-4506-916A-DACC5CDB62B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6F1-60AB-4FB6-9775-2AA7733F6A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B629-B6F6-4D58-A9E3-A1B01B32455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2FE-5C45-402A-865D-89F4DA8341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7A4-424D-47C4-AFE3-F2EC252A771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88C4-EFBB-4523-B261-74A7F6857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24FB-B55A-44DC-BA65-7D168FE5619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7400-F115-4F30-A26C-F2EF0DD3AF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A2E7-5DE9-4653-8DC5-99EF97358B81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5684-3866-4346-BFEA-EAFEDFB685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EA6-84C5-48EE-B4EE-2C91F9F9043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ADB2-964E-488B-B68C-A017BDCE94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066080" cy="128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800000"/>
                </a:solidFill>
                <a:latin typeface="Monotype Corsiva"/>
              </a:rPr>
              <a:t>Классный час</a:t>
            </a:r>
            <a:endParaRPr b="1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56800" y="2356920"/>
            <a:ext cx="7753320" cy="32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990000"/>
                </a:solidFill>
                <a:uFillTx/>
                <a:latin typeface="Arial"/>
              </a:rPr>
              <a:t>«О чём может рассказать дневник школьника?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42480" y="9284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Дневник – это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57160" y="1981080"/>
            <a:ext cx="8058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ронологическая запись каких-либо событий из жизни одного человека или коллек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итературная форма повествования, последовательно излагающая события личной или общественной жизни человека, от имени которого ведётся расс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(большая энциклопе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4200" y="609480"/>
            <a:ext cx="87012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6600ff"/>
                </a:solidFill>
                <a:latin typeface="Arial Narrow"/>
              </a:rPr>
              <a:t>Школьный дневник – </a:t>
            </a:r>
            <a:r>
              <a:rPr b="1" lang="ru-RU" sz="6500" spc="-1" strike="noStrike">
                <a:solidFill>
                  <a:srgbClr val="6600ff"/>
                </a:solidFill>
                <a:latin typeface="Arial Narrow"/>
              </a:rPr>
              <a:t>это основной документ обучающегося.</a:t>
            </a:r>
            <a:endParaRPr b="1" lang="en-US" sz="6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94" name="Rectangle 5" descr=""/>
          <p:cNvPicPr/>
          <p:nvPr/>
        </p:nvPicPr>
        <p:blipFill>
          <a:blip r:embed="rId1"/>
          <a:stretch/>
        </p:blipFill>
        <p:spPr>
          <a:xfrm>
            <a:off x="579600" y="781200"/>
            <a:ext cx="8570880" cy="503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915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c6bff"/>
                </a:solidFill>
                <a:uFillTx/>
                <a:latin typeface="Arial Narrow"/>
              </a:rPr>
              <a:t>Правила работы с дневником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48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Делать записи в дневнике так, чтобы другим людям было приятно его читат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одержать дневник в чистоте, чтобы было приятно брать его в рук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Всегда своевременно и без лишних напоминаний предъявлять его для подписи родителя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тараться не допускать грамматических ошибок в записях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воевременно заполнять все графы дневника, как того требует классный руководител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Не забывать и намеренно не оставлять его дома, чтобы избежать плохих отметок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893000" y="1994040"/>
            <a:ext cx="34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12">
            <a:hlinkClick r:id="rId1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756720"/>
            <a:ext cx="91440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е давайте близким на ночь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Школьный свой дневник читать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Будут их потом кошмары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Часто мучить по ночам.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Станет мама заикаться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Папа дергаться начнет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Доктора такое чтенье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Запрещают перед сном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</a:t>
            </a:r>
            <a:endParaRPr b="1" lang="en-US" sz="12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                                                     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Г. Остер</a:t>
            </a: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616716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14200" y="428400"/>
            <a:ext cx="8461440" cy="60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4"/>
          <p:cNvGraphicFramePr/>
          <p:nvPr/>
        </p:nvGraphicFramePr>
        <p:xfrm>
          <a:off x="2143080" y="214200"/>
          <a:ext cx="4857840" cy="61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14200"/>
                    <a:ext cx="4857840" cy="61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600120" y="30099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Спасибо за работу!</a:t>
            </a:r>
            <a:endParaRPr b="1" lang="en-US" sz="6000" spc="1" strike="noStrike">
              <a:ln w="9360">
                <a:solidFill>
                  <a:srgbClr val="cc33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52:10Z</dcterms:created>
  <dc:creator>Елена</dc:creator>
  <dc:description/>
  <dc:language>en-US</dc:language>
  <cp:lastModifiedBy>USER</cp:lastModifiedBy>
  <dcterms:modified xsi:type="dcterms:W3CDTF">2017-05-30T11:08:27Z</dcterms:modified>
  <cp:revision>20</cp:revision>
  <dc:subject/>
  <dc:title>Бушуева Елена Васильевна</dc:title>
</cp:coreProperties>
</file>