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200-4975-43EA-AA4B-0A618FB3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89C-3952-4785-94C7-8AEF9337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E6335-1606-43C4-B2A6-0E5DCC0E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111F4-DDDE-41FF-B1F4-1CD185B3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C870C-B010-4D45-9E3A-74503033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C2400-F331-45BF-B9E8-920ACB24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26237-E685-451F-9660-275343A9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EC9E1-B118-457B-9F6E-9607761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381C4-FCCF-4F30-A61D-C0C92310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BF649-DACB-4EB2-9E94-01E401BE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6867F-9385-4B3D-B2C2-E7784BF4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E0A13-4B30-4F08-9CFD-AAD05F1F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1E7-1088-43B7-A8B5-CC0CF0F5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4F877-7456-49DC-B01F-B23FEF11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50C49-C298-417F-959A-B9E2E40D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6B222-E4DF-41E2-ABC7-EE276EFD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ECD43-2F17-42F1-BD87-FB131FA5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10FB2-7462-4EE1-B95C-CBA9F38E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35C43-A901-4BE8-852D-0C4D7721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372B6-C30E-4F4A-ABDC-2D46284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C8CA6-C040-42F3-8E35-71B1D82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E6A05-9A2B-4DEF-A4BA-436A7B3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878CD-BD8B-4876-A188-FD8D0BD4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5BB-DD2A-48A7-958B-710F2FEA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52316-71F8-4EAC-B101-BB560C72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813A8-C5B7-46E3-A6E3-DB0E07E4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59DF7-4501-4805-BB06-534676CC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58542-D87A-4400-B5B8-E742E1E5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6A473-80D7-4C1A-AE97-4E22BFB6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FA5B1-8A95-4E56-93F8-CF75E46A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AB5C8-718B-42B2-B73B-ADEEEC81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24E69-7F65-468A-B998-710DBD64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C7D82-C0D9-4031-AAA7-BA7273CE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D4DE7-29C5-4E6D-89DB-8CD48495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0A27-5511-41B6-AC26-1E2500DB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98037-BD9F-4637-B8E0-7C96D009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04246-E9E9-4349-8129-CFDB5A28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B95A6-BF32-4601-8B3E-A1948185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30F41-B89D-41D8-B419-3630D954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A8806-BD6F-4D76-843D-B38E9B63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B0924-1D3A-4BB0-843C-7D189224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227F4-2939-487C-891C-87DD986D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8DD1E-51D4-49F7-8574-DD706B2C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EF3A3-FF69-431A-8E16-B38AC7EE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15C7E-C581-40DB-9E10-144FE4C4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7D5-D0AC-46C9-BAEA-DD0A606C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A6DC0-3AD5-434C-A7AA-0FDC1E0A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CE469-A5DE-4B93-B1AC-88AD8368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770A8-20FC-4B32-A5D3-AF544BD3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1FC9D-2FC2-45AA-ABBF-72C58214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1E332-0629-44C1-9E59-66E5CB7E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582DA-6A51-425F-9FBA-16D1D45B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11FFA-D7E2-47CB-8CB8-397860E5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A1943-F2A3-4504-BC18-996FE330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E9CDC-E4ED-420B-BFA0-19FE637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28666-B8EF-4A92-8533-248DAD94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31BF-6766-4410-8BF7-A2B6CA8E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3B5B0-36A2-468E-95AC-BB38D74D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A01A3-6A2B-4CBD-8EEC-A63786D4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65059-6F38-4557-9291-7DAA9B6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42081-53BB-414B-989A-21400C6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55AD7-F68E-4913-8F8E-9AA7106A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72186-2B40-4E28-89C0-41289990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73647-091E-44D0-9055-D5000CF0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B86A8-1135-4AB4-ACF9-7AC14977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64FB6-DB6B-4359-AE1A-11CC1B4F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86C95-FD16-4EE1-9E8E-141C37D3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31CE-5438-493B-84B4-B94CD25B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4D4D9-4581-4EC2-B03E-8D9DEB9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A3A06-F816-46A8-89DB-DDEDEC69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3D235-2760-4686-A181-F662FC4A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F2D25-72E0-4D68-8BC1-6F58BF76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7974F-D1E4-461B-BE39-47AE20DE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00CA3-55D7-4D7A-A5FB-50F44DC6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1D195-C0EC-45C8-81EB-21F1BED8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A607C-0129-4925-A6BE-C23F1EE6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7844E-99A0-4F5B-9FFF-E11AB664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C651-3B40-47D7-9AFA-BCE4B83B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D19E-AA09-46BB-B3B6-7C545CD4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01EA-499D-4D25-83DE-ECAC665D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353-2942-4333-96AF-0A411B17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0027-A0AD-43E2-895D-222805A1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BC32-E129-4714-83B5-6D0240B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E36C-E198-4B0E-94D6-F3F514F8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13DA-CF2A-45EC-B9DD-F6C766BC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BD91-0D51-4724-87B8-3FE88701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4C03-2D9F-4B14-B024-088FCDBE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F60E-0BB0-47B4-8B61-2A4680B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5358-CD10-4350-8D46-41FBC475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B10F-D041-4F55-8698-DA38BF39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E90E-9E2D-4D68-9C2F-EC386FF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FBF-1124-4ABF-BEAC-10EF0F8E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3FA5-96F0-4595-95BB-27175D73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BBDE-8EDC-46CD-9B79-7FFD9523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BB52-575A-48E7-8AFA-6B7EDB63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5CE9-EAF8-4D4F-A2DA-2A8B0F5C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9844-B67F-4A6E-9417-E7FC4930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0717-18F3-4A6D-9592-8385FDC1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0BC8-A1B3-4DED-9077-E6484127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426F-2E8C-4C7F-8E54-B173C45A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877A-72F9-47BA-A68C-8C44B142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C372-7472-46B7-9F84-0390D0B9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8E5-727B-4CDF-B02D-775C271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9C70-0D33-41E0-8636-D30571A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7FCA3-E350-47A2-8326-1D492346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DACC-FD85-431A-B27C-617B21CB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04A1-BC10-4604-BC8A-CD93247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E089-895E-460E-88C4-09D520A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5F87-E638-44BD-A9C5-BE4DA8F8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AE05-7C7B-4529-9C92-939A5244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9291-3161-4FCE-9FF6-3A47C34C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244D2-6782-493A-BF94-515B97FD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0DE04-4397-4B84-9745-F5A292A2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3F8-9DEE-4995-A466-7BFB6FBE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431A0-6DFF-405B-B88F-29613367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51153-D144-4914-89F1-363437F9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67F6-79A7-42D6-9AF5-FD44DD0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E1325-90CB-4999-BEC7-F068BFAB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C57FB-EDAF-40B2-A19B-959EFDBB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D9E76-F323-4203-A708-569AD5F1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5A90-85DD-48DB-8FB5-DFEE75EE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1D4B-D2A9-4627-9E0B-F5AEC40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FFCFC-045B-4CA3-96BE-5031245E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B82E-4427-4E77-93BE-FBFFDCEF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07E-1A83-4132-8121-43E57CBC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8DDC-1AD8-4C88-B0E0-5137F345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C9320-EB43-4619-9B7E-995EC59D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5022-4A21-4FEB-8B84-E3CD37BE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721B7-3C86-445F-A30F-94619583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FA070-E9CF-407A-8D06-D62E7490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A423D-D017-427A-B4C1-D2F3A2E6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CF8A8-06FB-49E8-9E67-58D3DC07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4CCE4-F8EE-40D0-8C5E-042AE7C7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E113-326F-430A-BA23-9D14A3D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47150-1CB8-4C90-9169-B71ED59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D78-1FBC-4F1C-BB69-0170C5A6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F5018-B698-4DB6-BA5B-4A371915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1927A-36D2-4CC5-817F-FCA48F48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1256C-9AF8-42F6-B463-E73D1F31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4F6C-18EC-474B-A78B-23CC2526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B2FBD-97AC-4D7F-BDA4-DAF96727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E72A2-F735-4E3E-9305-5DD27D30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7D5D8-FC62-4C89-8183-D2FE9972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CEEB6-CAD0-4107-85FE-6E43F35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A89E0-4704-4C97-9D8C-DC7679EC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8080-DFC7-403B-9399-BC5EBA6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5BA-E770-484E-AD88-7737F849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82048-B739-45A6-8598-92F9E5A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27CE7-C127-48C7-8B2F-C777BCEA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7D6F3-89F8-434F-A9BD-4C4C5019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855D7-D12F-4A9A-ACB2-E3444F42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7D800-8E10-498F-9A55-E1598BAF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91EB-4FF6-4D55-BEA4-587D4B1B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61A2-2749-4A4C-90AA-185A0123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12BF8-1BA2-4D73-B943-F0877DBA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541F3-F9A4-4E4B-8C1D-6FEC101C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91E28-2223-4771-82FE-F3975F37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9B7-3E2F-4303-8ACF-B501479D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D1F6B-E3F6-4B91-90A2-021ACF6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31F73-8C22-4299-B59F-573925F5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4EBDE-54EF-4881-9196-AAFB48DA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E7A1F-D5AF-4EB4-B1FA-15DCC58F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0A521-A5AA-42A1-A12B-F46DDEA8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BAD0E-5A08-486D-B7EF-9582E37D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9B8B-E90D-49DD-B5E8-A175F007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26F7B-DC7D-4612-93B1-534A1046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4C767-D076-4855-81A8-DCB7FD6C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5DC2F-994E-48CD-A559-6C4FE0B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07E7-382F-4FAE-A041-5CA72A28C3E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50EA-7782-4DE4-A4FE-36B086CDAF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9989-A50F-4469-B58B-AD45F10DC63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C3C-574E-4BCA-AC9B-E7A3E78062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9FF2-15E1-4D34-9C37-83B83A042AE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7EC6-3ACA-4AB0-A641-B3FBB55396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91E-2A17-4A24-A71F-45CC69F0D1D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E9E9-54DB-4F51-A568-6066F4D302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DC01-0F60-4F4D-B71D-367DC7CAF07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D6F-F3CC-42F6-A29B-0788501BC1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B369-0CE2-460B-8CEA-CFA7B12B345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F0F0-CA47-4DBB-BCA3-C5FBFA6F91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4ADB-28FD-4C6C-A6AA-560665796EE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BA68-DAD1-46AD-81FC-F3754AE395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5CCD-F53D-4859-8DDD-043D075C468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71BA-F564-4AC6-9095-D349560D7D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1785-B8FF-4775-869E-6EA6B046A3A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3AF1-A1A9-4758-9ECD-8374641462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878A-5AE7-413C-9F9E-13BB0A94B33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1A95-AB06-47DE-9B99-4A5FF7B690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CFB1-D183-4919-9351-CD7F1B04973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120-B046-4510-9F56-BF37337A6E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F878-1716-4EC9-B89A-983A0E85442D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208-296C-42A7-9515-6C16CBDC5C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2567-DDEC-49C0-A2F4-CE7F1C06FD8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DDB1-F29E-422F-8121-3A233FA3D1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84D7-CCA0-42DE-A340-CE765940FAF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1C61-7BD7-4A3A-8D87-EAF23EB121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066080" cy="128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800000"/>
                </a:solidFill>
                <a:latin typeface="Monotype Corsiva"/>
              </a:rPr>
              <a:t>Классный час</a:t>
            </a:r>
            <a:endParaRPr b="1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56800" y="2356920"/>
            <a:ext cx="7753320" cy="32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990000"/>
                </a:solidFill>
                <a:uFillTx/>
                <a:latin typeface="Arial"/>
              </a:rPr>
              <a:t>«О чём может рассказать дневник школьника?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42480" y="9284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Дневник – это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857160" y="1981080"/>
            <a:ext cx="8058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хронологическая запись каких-либо событий из жизни одного человека или коллек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литературная форма повествования, последовательно излагающая события личной или общественной жизни человека, от имени которого ведётся расс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(большая энциклопед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4200" y="609480"/>
            <a:ext cx="870120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6600ff"/>
                </a:solidFill>
                <a:latin typeface="Arial Narrow"/>
              </a:rPr>
              <a:t>Школьный дневник – </a:t>
            </a:r>
            <a:r>
              <a:rPr b="1" lang="ru-RU" sz="6500" spc="-1" strike="noStrike">
                <a:solidFill>
                  <a:srgbClr val="6600ff"/>
                </a:solidFill>
                <a:latin typeface="Arial Narrow"/>
              </a:rPr>
              <a:t>это основной документ обучающегося.</a:t>
            </a:r>
            <a:endParaRPr b="1" lang="en-US" sz="6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94" name="Rectangle 5" descr=""/>
          <p:cNvPicPr/>
          <p:nvPr/>
        </p:nvPicPr>
        <p:blipFill>
          <a:blip r:embed="rId1"/>
          <a:stretch/>
        </p:blipFill>
        <p:spPr>
          <a:xfrm>
            <a:off x="579600" y="781200"/>
            <a:ext cx="8570880" cy="503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99"/>
            </a:gs>
            <a:gs pos="100000">
              <a:srgbClr val="ffe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915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c6bff"/>
                </a:solidFill>
                <a:uFillTx/>
                <a:latin typeface="Arial Narrow"/>
              </a:rPr>
              <a:t>Правила работы с дневником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85840" y="1142640"/>
            <a:ext cx="8858160" cy="48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Делать записи в дневнике так, чтобы другим людям было приятно его читать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Содержать дневник в чистоте, чтобы было приятно брать его в рук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Всегда своевременно и без лишних напоминаний предъявлять его для подписи родителя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Стараться не допускать грамматических ошибок в записях в дневник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Своевременно заполнять все графы дневника, как того требует классный руководитель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Не забывать и намеренно не оставлять его дома, чтобы избежать плохих отметок в дневник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7893000" y="1994040"/>
            <a:ext cx="34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p:transition spd="med">
    <p:strips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12">
            <a:hlinkClick r:id="rId1" action="ppaction://hlinksldjump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756720"/>
            <a:ext cx="914400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Не давайте близким на ночь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Школьный свой дневник читать,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Будут их потом кошмары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Часто мучить по ночам.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Станет мама заикаться,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Папа дергаться начнет,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Доктора такое чтенье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Запрещают перед сном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.</a:t>
            </a:r>
            <a:endParaRPr b="1" lang="en-US" sz="12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                                                                                  </a:t>
            </a:r>
            <a:r>
              <a:rPr b="1" i="1" lang="ru-RU" sz="2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Г. Остер</a:t>
            </a:r>
            <a:endParaRPr b="1" lang="en-US" sz="2800" spc="-1" strike="noStrike">
              <a:solidFill>
                <a:srgbClr val="008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616716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14200" y="428400"/>
            <a:ext cx="8461440" cy="60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4"/>
          <p:cNvGraphicFramePr/>
          <p:nvPr/>
        </p:nvGraphicFramePr>
        <p:xfrm>
          <a:off x="2143080" y="214200"/>
          <a:ext cx="4857840" cy="61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14200"/>
                    <a:ext cx="4857840" cy="61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WordArt 4"/>
          <p:cNvSpPr txBox="1"/>
          <p:nvPr/>
        </p:nvSpPr>
        <p:spPr>
          <a:xfrm>
            <a:off x="600120" y="3009960"/>
            <a:ext cx="794376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Спасибо за работу!</a:t>
            </a:r>
            <a:endParaRPr b="1" lang="en-US" sz="6000" spc="1" strike="noStrike">
              <a:ln w="9360">
                <a:solidFill>
                  <a:srgbClr val="cc33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52:10Z</dcterms:created>
  <dc:creator>Елена</dc:creator>
  <dc:description/>
  <dc:language>en-US</dc:language>
  <cp:lastModifiedBy>USER</cp:lastModifiedBy>
  <dcterms:modified xsi:type="dcterms:W3CDTF">2017-05-30T11:08:27Z</dcterms:modified>
  <cp:revision>20</cp:revision>
  <dc:subject/>
  <dc:title>Бушуева Елена Васильевна</dc:title>
</cp:coreProperties>
</file>