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9F36-7D51-4A3A-87DC-F46FA488F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5A25-4825-4329-9346-F07BDF8DF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A316-144C-4B5A-B970-FFEB38EBD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180F-B264-4282-866D-5F973727D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E1BE-24B6-48FC-80F1-BB00ACD86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2ECB-A78A-4B6C-BA85-5D4A39DBB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AC93-61A8-4FBC-A5F2-0F72AB68E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E5B0-2402-4C77-90F9-609CD166F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4375-8638-42E7-9E0E-C22CA2800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F50D-F6FD-43A3-BFA5-B2042426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EEF7-3776-4951-8C51-EB371E0C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25E5-0599-4245-ACBA-649AB5C7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57FA6-C31A-4CBD-995A-47D6223F84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admin\Рабочий стол\Животные 2\Олени\825092.JPG"/>
          <p:cNvPicPr/>
          <p:nvPr/>
        </p:nvPicPr>
        <p:blipFill>
          <a:blip r:embed="rId1"/>
          <a:stretch/>
        </p:blipFill>
        <p:spPr>
          <a:xfrm>
            <a:off x="398520" y="428760"/>
            <a:ext cx="8388360" cy="62150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42" name="Прямоугольник 4"/>
          <p:cNvSpPr/>
          <p:nvPr/>
        </p:nvSpPr>
        <p:spPr>
          <a:xfrm flipH="1">
            <a:off x="1143000" y="4857840"/>
            <a:ext cx="6786720" cy="1495080"/>
          </a:xfrm>
          <a:prstGeom prst="rect">
            <a:avLst/>
          </a:prstGeom>
          <a:solidFill>
            <a:srgbClr val="ddd9c3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Е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 Тарарыкова Та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КОУ «Рамонский лицей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. Е.М.Ольденбургск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Documents and Settings\admin\Рабочий стол\Животные 2\Олени\1024-843.jpg"/>
          <p:cNvPicPr/>
          <p:nvPr/>
        </p:nvPicPr>
        <p:blipFill>
          <a:blip r:embed="rId1"/>
          <a:stretch/>
        </p:blipFill>
        <p:spPr>
          <a:xfrm>
            <a:off x="0" y="-17640"/>
            <a:ext cx="9167760" cy="6875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Documents and Settings\admin\Рабочий стол\Животные 2\Олени\animals1.jpg"/>
          <p:cNvPicPr/>
          <p:nvPr/>
        </p:nvPicPr>
        <p:blipFill>
          <a:blip r:embed="rId1"/>
          <a:stretch/>
        </p:blipFill>
        <p:spPr>
          <a:xfrm>
            <a:off x="-23760" y="0"/>
            <a:ext cx="9167760" cy="6858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Documents and Settings\admin\Рабочий стол\Животные 2\Олени\827018.JPG"/>
          <p:cNvPicPr/>
          <p:nvPr/>
        </p:nvPicPr>
        <p:blipFill>
          <a:blip r:embed="rId1"/>
          <a:stretch/>
        </p:blipFill>
        <p:spPr>
          <a:xfrm>
            <a:off x="0" y="0"/>
            <a:ext cx="9174240" cy="6858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44" name="Прямоугольник 5"/>
          <p:cNvSpPr/>
          <p:nvPr/>
        </p:nvSpPr>
        <p:spPr>
          <a:xfrm>
            <a:off x="3429000" y="6000840"/>
            <a:ext cx="5572080" cy="642600"/>
          </a:xfrm>
          <a:prstGeom prst="rect">
            <a:avLst/>
          </a:prstGeom>
          <a:solidFill>
            <a:srgbClr val="ddd9c3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есят олени более 300 к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Documents and Settings\admin\Рабочий стол\Животные 2\Олени\67-102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46" name="Rectangle 2"/>
          <p:cNvSpPr/>
          <p:nvPr/>
        </p:nvSpPr>
        <p:spPr>
          <a:xfrm>
            <a:off x="285840" y="146160"/>
            <a:ext cx="8501040" cy="947160"/>
          </a:xfrm>
          <a:prstGeom prst="rect">
            <a:avLst/>
          </a:prstGeom>
          <a:solidFill>
            <a:srgbClr val="ddd9c3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итается благородный олень травой, грибами, лишайниками, ягод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Documents and Settings\admin\Рабочий стол\Животные 2\Олени\ANI0046.JPG"/>
          <p:cNvPicPr/>
          <p:nvPr/>
        </p:nvPicPr>
        <p:blipFill>
          <a:blip r:embed="rId1"/>
          <a:srcRect l="2197" t="3296" r="2197" b="272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48" name="Прямоугольник 2"/>
          <p:cNvSpPr/>
          <p:nvPr/>
        </p:nvSpPr>
        <p:spPr>
          <a:xfrm>
            <a:off x="285840" y="5214960"/>
            <a:ext cx="8358120" cy="1191240"/>
          </a:xfrm>
          <a:prstGeom prst="rect">
            <a:avLst/>
          </a:prstGeom>
          <a:solidFill>
            <a:srgbClr val="ddd9c3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Зимой олени едят упавшие осенью листья с деревьев, различные стебли и кору кустарников, хвою сосны и ели, жёлуди, которые животное добывает из-под сне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F:\ПРЕЗЕНТАЦИИ\ЖИВОТНЫЕ ЛЕСА\hjlg.gif"/>
          <p:cNvPicPr/>
          <p:nvPr/>
        </p:nvPicPr>
        <p:blipFill>
          <a:blip r:embed="rId1"/>
          <a:stretch/>
        </p:blipFill>
        <p:spPr>
          <a:xfrm>
            <a:off x="372960" y="285840"/>
            <a:ext cx="8342280" cy="521496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2"/>
          <p:cNvSpPr/>
          <p:nvPr/>
        </p:nvSpPr>
        <p:spPr>
          <a:xfrm>
            <a:off x="357120" y="6000840"/>
            <a:ext cx="8643960" cy="642600"/>
          </a:xfrm>
          <a:prstGeom prst="rect">
            <a:avLst/>
          </a:prstGeom>
          <a:solidFill>
            <a:srgbClr val="ddd9c3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есной рождается оленёно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C:\Documents and Settings\admin\Рабочий стол\Животные 2\Животные леса\82607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2" name="Прямоугольник 3"/>
          <p:cNvSpPr/>
          <p:nvPr/>
        </p:nvSpPr>
        <p:spPr>
          <a:xfrm>
            <a:off x="1714680" y="5429160"/>
            <a:ext cx="6929280" cy="1068840"/>
          </a:xfrm>
          <a:prstGeom prst="rect">
            <a:avLst/>
          </a:prstGeom>
          <a:solidFill>
            <a:srgbClr val="ddd9c3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ятнышки на шерсти помогают  ему спрятаться от враг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8a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500040" y="374040"/>
            <a:ext cx="8215200" cy="3506040"/>
          </a:xfrm>
          <a:prstGeom prst="rect">
            <a:avLst/>
          </a:prstGeom>
          <a:solidFill>
            <a:srgbClr val="ddd9c3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Главным врагом  оленя являются волки. Они нападают на оленя стаей. Защищаются олени с помощью копыт, а самцы ещё и рогами. Охотятся на оленей  также  рысь и медведь. В основном добычей хищников являются молодые оленята или ослабленные и больные особ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C:\Documents and Settings\ADMIN\Рабочий стол\Картинки\Животные 21\Волки\V_553.JPG"/>
          <p:cNvPicPr/>
          <p:nvPr/>
        </p:nvPicPr>
        <p:blipFill>
          <a:blip r:embed="rId1"/>
          <a:stretch/>
        </p:blipFill>
        <p:spPr>
          <a:xfrm>
            <a:off x="214200" y="4500720"/>
            <a:ext cx="2643480" cy="2071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5" name="Picture 2" descr="C:\Documents and Settings\admin\Рабочий стол\Животные 2\Животные леса\Рысь.JPG"/>
          <p:cNvPicPr/>
          <p:nvPr/>
        </p:nvPicPr>
        <p:blipFill>
          <a:blip r:embed="rId2"/>
          <a:stretch/>
        </p:blipFill>
        <p:spPr>
          <a:xfrm>
            <a:off x="3143160" y="4500720"/>
            <a:ext cx="2857680" cy="2071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6" name="Picture 2" descr="C:\Documents and Settings\admin\Рабочий стол\Животные 2\Медведи\100035.JPG"/>
          <p:cNvPicPr/>
          <p:nvPr/>
        </p:nvPicPr>
        <p:blipFill>
          <a:blip r:embed="rId3"/>
          <a:stretch/>
        </p:blipFill>
        <p:spPr>
          <a:xfrm>
            <a:off x="6286680" y="4500720"/>
            <a:ext cx="2714400" cy="20365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8a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Documents and Settings\admin\Мои документы\Мои рисунки\Охотник.jpg"/>
          <p:cNvPicPr/>
          <p:nvPr/>
        </p:nvPicPr>
        <p:blipFill>
          <a:blip r:embed="rId1"/>
          <a:srcRect l="0" t="24180" r="31673" b="0"/>
          <a:stretch/>
        </p:blipFill>
        <p:spPr>
          <a:xfrm>
            <a:off x="2143080" y="2428920"/>
            <a:ext cx="5214960" cy="428616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2"/>
          <p:cNvSpPr/>
          <p:nvPr/>
        </p:nvSpPr>
        <p:spPr>
          <a:xfrm>
            <a:off x="428760" y="214200"/>
            <a:ext cx="8286480" cy="2043720"/>
          </a:xfrm>
          <a:prstGeom prst="rect">
            <a:avLst/>
          </a:prstGeom>
          <a:solidFill>
            <a:srgbClr val="ddd9c3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Человека тоже можно считать врагом оленя.  Охота на него во многих местах запрещена, животные находятся под охраной, как редк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Documents and Settings\admin\Рабочий стол\Животные 2\Олени\1024-4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0" name="Прямоугольник 3"/>
          <p:cNvSpPr/>
          <p:nvPr/>
        </p:nvSpPr>
        <p:spPr>
          <a:xfrm>
            <a:off x="642960" y="521496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Олени живут в Воронежском заповедник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ot</cp:lastModifiedBy>
  <dcterms:modified xsi:type="dcterms:W3CDTF">2017-06-02T17:54:52Z</dcterms:modified>
  <cp:revision>53</cp:revision>
  <dc:subject/>
  <dc:title>Слайд 1</dc:title>
</cp:coreProperties>
</file>