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4E7-DE19-4750-BF57-28D36AC2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9FA-8E32-4277-B2B8-0ED5C39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634-57DA-4279-9AD5-4480264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714-6811-47F3-85DF-AE06CFC0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1C8-95CB-48AE-B178-4F210EA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594-7D69-4F8B-8263-6A061AB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CFF-BE04-4596-A3FA-5526530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E4D-037C-4563-941B-EA46845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D7B-0933-4221-B822-F405EAF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C4A-BD60-4DF6-8DA4-E9C0BAE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3B6-7E68-4174-BA1F-93092B7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56F-F028-4D14-A916-252CC91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3E7F-1A7C-4DA6-A000-E1C0ED860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Животные 2\Олени\825092.JPG"/>
          <p:cNvPicPr/>
          <p:nvPr/>
        </p:nvPicPr>
        <p:blipFill>
          <a:blip r:embed="rId1"/>
          <a:stretch/>
        </p:blipFill>
        <p:spPr>
          <a:xfrm>
            <a:off x="398520" y="428760"/>
            <a:ext cx="8388360" cy="621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2" name="Прямоугольник 4"/>
          <p:cNvSpPr/>
          <p:nvPr/>
        </p:nvSpPr>
        <p:spPr>
          <a:xfrm flipH="1">
            <a:off x="1143000" y="4857840"/>
            <a:ext cx="6786720" cy="14950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 Тарарыкова Та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Рамонский лиц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Е.М.Ольденбург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Животные 2\Олени\1024-843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Животные 2\Олени\animals1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\Рабочий стол\Животные 2\Олени\827018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Прямоугольник 5"/>
          <p:cNvSpPr/>
          <p:nvPr/>
        </p:nvSpPr>
        <p:spPr>
          <a:xfrm>
            <a:off x="3429000" y="6000840"/>
            <a:ext cx="5572080" cy="6426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ят олени более 3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Животные 2\Олени\67-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Rectangle 2"/>
          <p:cNvSpPr/>
          <p:nvPr/>
        </p:nvSpPr>
        <p:spPr>
          <a:xfrm>
            <a:off x="285840" y="146160"/>
            <a:ext cx="8501040" cy="94716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тается благородный олень травой, грибами, лишайниками, яго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Животные 2\Олени\ANI0046.JPG"/>
          <p:cNvPicPr/>
          <p:nvPr/>
        </p:nvPicPr>
        <p:blipFill>
          <a:blip r:embed="rId1"/>
          <a:srcRect l="2197" t="3296" r="2197" b="27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8" name="Прямоугольник 2"/>
          <p:cNvSpPr/>
          <p:nvPr/>
        </p:nvSpPr>
        <p:spPr>
          <a:xfrm>
            <a:off x="285840" y="5214960"/>
            <a:ext cx="8358120" cy="11912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имой олени едят упавшие осенью листья с деревьев, различные стебли и кору кустарников, хвою сосны и ели, жёлуди, которые животное добывает из-под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ПРЕЗЕНТАЦИИ\ЖИВОТНЫЕ ЛЕСА\hjlg.gif"/>
          <p:cNvPicPr/>
          <p:nvPr/>
        </p:nvPicPr>
        <p:blipFill>
          <a:blip r:embed="rId1"/>
          <a:stretch/>
        </p:blipFill>
        <p:spPr>
          <a:xfrm>
            <a:off x="372960" y="285840"/>
            <a:ext cx="8342280" cy="5214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57120" y="6000840"/>
            <a:ext cx="8643960" cy="6426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ной рождается оленё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admin\Рабочий стол\Животные 2\Животные леса\826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" name="Прямоугольник 3"/>
          <p:cNvSpPr/>
          <p:nvPr/>
        </p:nvSpPr>
        <p:spPr>
          <a:xfrm>
            <a:off x="1714680" y="5429160"/>
            <a:ext cx="6929280" cy="106884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ятнышки на шерсти помогают  ему спрятаться от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00040" y="374040"/>
            <a:ext cx="8215200" cy="350604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м врагом  оленя являются волки. Они нападают на оленя стаей. Защищаются олени с помощью копыт, а самцы ещё и рогами. Охотятся на оленей  также  рысь и медведь. В основном добычей хищников являются молодые оленята или ослабленные и больные особ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Картинки\Животные 21\Волки\V_553.JPG"/>
          <p:cNvPicPr/>
          <p:nvPr/>
        </p:nvPicPr>
        <p:blipFill>
          <a:blip r:embed="rId1"/>
          <a:stretch/>
        </p:blipFill>
        <p:spPr>
          <a:xfrm>
            <a:off x="214200" y="4500720"/>
            <a:ext cx="2643480" cy="207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Picture 2" descr="C:\Documents and Settings\admin\Рабочий стол\Животные 2\Животные леса\Рысь.JPG"/>
          <p:cNvPicPr/>
          <p:nvPr/>
        </p:nvPicPr>
        <p:blipFill>
          <a:blip r:embed="rId2"/>
          <a:stretch/>
        </p:blipFill>
        <p:spPr>
          <a:xfrm>
            <a:off x="3143160" y="4500720"/>
            <a:ext cx="2857680" cy="207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Picture 2" descr="C:\Documents and Settings\admin\Рабочий стол\Животные 2\Медведи\100035.JPG"/>
          <p:cNvPicPr/>
          <p:nvPr/>
        </p:nvPicPr>
        <p:blipFill>
          <a:blip r:embed="rId3"/>
          <a:stretch/>
        </p:blipFill>
        <p:spPr>
          <a:xfrm>
            <a:off x="6286680" y="4500720"/>
            <a:ext cx="2714400" cy="203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Мои рисунки\Охотник.jpg"/>
          <p:cNvPicPr/>
          <p:nvPr/>
        </p:nvPicPr>
        <p:blipFill>
          <a:blip r:embed="rId1"/>
          <a:srcRect l="0" t="24180" r="31673" b="0"/>
          <a:stretch/>
        </p:blipFill>
        <p:spPr>
          <a:xfrm>
            <a:off x="2143080" y="2428920"/>
            <a:ext cx="5214960" cy="4286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428760" y="214200"/>
            <a:ext cx="8286480" cy="204372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а тоже можно считать врагом оленя.  Охота на него во многих местах запрещена, животные находятся под охраной, как ред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Животные 2\Олени\1024-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" name="Прямоугольник 3"/>
          <p:cNvSpPr/>
          <p:nvPr/>
        </p:nvSpPr>
        <p:spPr>
          <a:xfrm>
            <a:off x="642960" y="52149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лени живут в Воронежском заповедн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7-06-02T17:54:52Z</dcterms:modified>
  <cp:revision>53</cp:revision>
  <dc:subject/>
  <dc:title>Слайд 1</dc:title>
</cp:coreProperties>
</file>