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B3C9-25FE-436C-A40C-E61D84A4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1B93-41F9-4B24-8158-85B2FC3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1A85-420C-4A9C-B54E-FB70F30C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470F-89C2-423A-BDF8-C1B52CED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E27-4550-4DDA-8BE6-34E1D9DA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9D96-9DD9-449A-89B4-C792C01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970-4ECF-4EE2-8320-F5396EF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F4AF-F4ED-4347-A968-DF2DE0B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CED-9305-4356-9602-950D393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5825-BF04-43B3-AD31-620646C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CBC-3EFE-45C5-A572-1157816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F92F-7655-4D95-AEB9-9F6E0A9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48E8-5750-4DA8-BE5F-BA9E0B6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32D-B4B0-464A-8953-B200448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6723-5956-4DCB-BC66-8221506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EC0C-7EFC-4D90-B372-3EADB7E4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BAEF-D657-4911-A750-E79988AA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3970-0C1A-4339-885A-0AF5E58D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11DA-E530-4A3D-9FC2-54816D6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820D-6531-4871-B178-CF87F85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C650-4BF2-4A30-A969-5F25C56E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9E07-34DD-49C9-B1A1-206B398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087E-6303-45CB-8ADD-A939221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8345-9E4A-45AC-B390-089B4A8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B4F-E1EE-49D6-9ACB-60D8F102A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EEC7-B6E6-4BE7-86A6-97A5D1B5C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Users\USER\Desktop\урок\торт 2.jpg"/>
          <p:cNvPicPr/>
          <p:nvPr/>
        </p:nvPicPr>
        <p:blipFill>
          <a:blip r:embed="rId1"/>
          <a:stretch/>
        </p:blipFill>
        <p:spPr>
          <a:xfrm>
            <a:off x="285840" y="64296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USER\Desktop\урок\торт2.png"/>
          <p:cNvPicPr/>
          <p:nvPr/>
        </p:nvPicPr>
        <p:blipFill>
          <a:blip r:embed="rId2"/>
          <a:stretch/>
        </p:blipFill>
        <p:spPr>
          <a:xfrm>
            <a:off x="6580080" y="4214880"/>
            <a:ext cx="256392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USER\Desktop\урок\пр.jpg"/>
          <p:cNvPicPr/>
          <p:nvPr/>
        </p:nvPicPr>
        <p:blipFill>
          <a:blip r:embed="rId3"/>
          <a:stretch/>
        </p:blipFill>
        <p:spPr>
          <a:xfrm>
            <a:off x="6143760" y="714240"/>
            <a:ext cx="2703240" cy="270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USER\Desktop\урок\подарки3.jpg"/>
          <p:cNvPicPr/>
          <p:nvPr/>
        </p:nvPicPr>
        <p:blipFill>
          <a:blip r:embed="rId4"/>
          <a:stretch/>
        </p:blipFill>
        <p:spPr>
          <a:xfrm>
            <a:off x="0" y="4786200"/>
            <a:ext cx="2917800" cy="177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:\Users\USER\Desktop\урок\подарки.jpg"/>
          <p:cNvPicPr/>
          <p:nvPr/>
        </p:nvPicPr>
        <p:blipFill>
          <a:blip r:embed="rId5"/>
          <a:stretch/>
        </p:blipFill>
        <p:spPr>
          <a:xfrm>
            <a:off x="2714760" y="2571840"/>
            <a:ext cx="3911400" cy="2446200"/>
          </a:xfrm>
          <a:prstGeom prst="rect">
            <a:avLst/>
          </a:prstGeom>
          <a:ln w="0">
            <a:noFill/>
          </a:ln>
        </p:spPr>
      </p:pic>
      <p:pic>
        <p:nvPicPr>
          <p:cNvPr id="111" name="Detskie-pesni-iz-mul_tfil_mov-Pust_-begut-neuklyuzhe(muzofon.co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79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82" name=""/>
          <p:cNvGrpSpPr/>
          <p:nvPr/>
        </p:nvGrpSpPr>
        <p:grpSpPr>
          <a:xfrm>
            <a:off x="3563640" y="3284640"/>
            <a:ext cx="2160360" cy="3240000"/>
            <a:chOff x="3563640" y="3284640"/>
            <a:chExt cx="2160360" cy="3240000"/>
          </a:xfrm>
        </p:grpSpPr>
        <p:sp>
          <p:nvSpPr>
            <p:cNvPr id="983" name=""/>
            <p:cNvSpPr/>
            <p:nvPr/>
          </p:nvSpPr>
          <p:spPr>
            <a:xfrm flipH="1">
              <a:off x="3563280" y="3284640"/>
              <a:ext cx="2160360" cy="324000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5396040" y="329256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3846600" y="3624840"/>
              <a:ext cx="1577880" cy="25750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4699080" y="420336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4694040" y="430884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4600440" y="425088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738320" y="426024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4600440" y="430560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4737960" y="431496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4677120" y="427896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84520" y="449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4497480" y="459828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463640" y="454968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4523400" y="454608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494600" y="459828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4523400" y="460296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4479840" y="456696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4372200" y="497124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345920" y="502596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391640" y="497592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325400" y="502920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391640" y="503064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343760" y="499680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416840" y="547092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409640" y="556020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316040" y="55011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453200" y="554508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316040" y="555552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4453200" y="556812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393080" y="552888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757400" y="537552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752360" y="547992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656600" y="542304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4795200" y="545112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4656600" y="547776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795560" y="548820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34720" y="545004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239360" y="411840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264560" y="410112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5280" y="412092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248000" y="409968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097960" y="403704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4999320" y="408492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5136840" y="40917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5005080" y="413820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5078520" y="411264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991320" y="448092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3930480" y="452988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030560" y="453780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967200" y="458316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969360" y="455760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5178600" y="361188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723480" y="421488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266720" y="586116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607640" y="599724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343400" y="364212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408200" y="370836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4191120" y="361188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4316040" y="374328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506840" y="377928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14680" y="376992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40600" y="379224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4492440" y="37990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4415400" y="379224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620880" y="379800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3579480" y="380124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42400" y="389448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440600" y="391284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285080" y="602388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694400" y="623520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294080" y="633960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4866480" y="643392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4884120" y="646740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813920" y="648504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4215960" y="362016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4416840" y="355248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428360" y="356076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419360" y="360972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518000" y="365868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4416840" y="365364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4515120" y="369432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377240" y="362916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482360" y="367452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4435200" y="36331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551480" y="365868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4538520" y="370476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4315680" y="362916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530240" y="367704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377240" y="365292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4482360" y="369324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435200" y="365616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530240" y="36968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4410000" y="363996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4511160" y="368424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5198040" y="361188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3732120" y="421020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4285080" y="585288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4618800" y="599256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5442120" y="367704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5441760" y="371196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408640" y="369324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55800" y="369576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08640" y="37108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5455800" y="371304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33840" y="37026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348520" y="367128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5345640" y="370620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315040" y="368640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359320" y="369000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315040" y="370476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359320" y="370728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340960" y="369684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69680" y="362916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267520" y="366444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237640" y="364464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281920" y="364788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237640" y="366300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281920" y="36666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263200" y="365364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3986640" y="422532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984480" y="426024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3953520" y="4240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3998160" y="424404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395352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998160" y="426276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980160" y="424980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889440" y="424980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3888000" y="428580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857040" y="426492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3904560" y="426708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857040" y="428472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3904560" y="428688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3883320" y="427284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713120" y="478512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4708080" y="488988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613040" y="483048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4752000" y="483984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613040" y="488664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4752000" y="489456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689720" y="485856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3797640" y="422316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3796560" y="425772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3765600" y="423720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3812760" y="424044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765600" y="425700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1276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790800" y="424620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336560" y="586476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334400" y="589932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303080" y="58795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349160" y="588312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4303080" y="589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49160" y="590076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4329720" y="588888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4421520" y="588672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4419360" y="592272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4389120" y="590292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4433040" y="590508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389120" y="592020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4433040" y="59238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414320" y="591228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4520160" y="587052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4518000" y="590508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4487040" y="588672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532400" y="58903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487040" y="590508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4532400" y="59076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513320" y="589608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685040" y="60087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4685400" y="604368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651560" y="602496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699440" y="6028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651560" y="6042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699440" y="604584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4677120" y="603432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769640" y="6028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4769640" y="606312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36880" y="60436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782600" y="60458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736880" y="60620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782600" y="606420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762080" y="605268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4862880" y="601092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861440" y="604584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831200" y="60260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4875840" y="602964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4831200" y="604440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4875840" y="604692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856040" y="603648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32000" y="2924280"/>
            <a:ext cx="720720" cy="758880"/>
            <a:chOff x="3132000" y="2924280"/>
            <a:chExt cx="720720" cy="758880"/>
          </a:xfrm>
        </p:grpSpPr>
        <p:sp>
          <p:nvSpPr>
            <p:cNvPr id="1173" name=""/>
            <p:cNvSpPr/>
            <p:nvPr/>
          </p:nvSpPr>
          <p:spPr>
            <a:xfrm>
              <a:off x="3132000" y="2924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20100600">
              <a:off x="3287520" y="2977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path" presetID="1" repeatCount="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32 -0.03653 C 0.17448 0.0363 0.09601 0.05017 0.04115 -0.00532 C -0.01354 -0.06104 -0.02395 -0.16555 0.01771 -0.23861 C 0.05955 -0.31144 0.13803 -0.32532 0.19289 -0.26983 C 0.24757 -0.2141 0.25799 -0.10959 0.21632 -0.03653 Z">
                                      <p:cBhvr>
                                        <p:cTn id="189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76" name=""/>
          <p:cNvGrpSpPr/>
          <p:nvPr/>
        </p:nvGrpSpPr>
        <p:grpSpPr>
          <a:xfrm>
            <a:off x="611280" y="3213000"/>
            <a:ext cx="2160360" cy="3240360"/>
            <a:chOff x="611280" y="3213000"/>
            <a:chExt cx="2160360" cy="3240360"/>
          </a:xfrm>
        </p:grpSpPr>
        <p:sp>
          <p:nvSpPr>
            <p:cNvPr id="1177" name=""/>
            <p:cNvSpPr/>
            <p:nvPr/>
          </p:nvSpPr>
          <p:spPr>
            <a:xfrm>
              <a:off x="611280" y="3213000"/>
              <a:ext cx="2160360" cy="324036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9640" y="322092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10440" y="3553200"/>
              <a:ext cx="1577880" cy="257544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74280" y="413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80040" y="423756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16760" y="417960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21360" y="418860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16760" y="423396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37560" y="424332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65280" y="420732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88840" y="442008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93160" y="452664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831320" y="447804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92360" y="447444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1320" y="452664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92360" y="453168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82000" y="449532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20600" y="489996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27440" y="495432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825560" y="490428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63080" y="495792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825560" y="495900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13760" y="492552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73800" y="539928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64440" y="548856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01160" y="542952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869120" y="547380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01160" y="548424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857600" y="549684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64440" y="545724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19560" y="530388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26040" y="540864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60600" y="535176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21360" y="537948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0600" y="540612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523880" y="541692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521360" y="537840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4880" y="404712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3600" y="402948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52640" y="404928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41200" y="402840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175400" y="396540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217880" y="401328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80360" y="402048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7880" y="406656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68200" y="404100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82760" y="440964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600" y="445824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17600" y="446652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25600" y="451188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75200" y="448632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2360" y="354024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47480" y="414324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04960" y="578988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63320" y="592596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74280" y="357048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31240" y="363672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43600" y="354024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68840" y="367164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93160" y="370764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83880" y="369828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864440" y="372060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02520" y="37274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81720" y="372060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91360" y="372636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64200" y="372960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55440" y="382284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62280" y="384120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44200" y="595224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414800" y="616392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10240" y="626832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63040" y="636264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50440" y="639612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74560" y="641376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469160" y="354852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55640" y="348120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61400" y="348912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90720" y="353808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99280" y="358704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893240" y="358236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799280" y="362268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909080" y="355788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811880" y="360288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851840" y="356148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80840" y="358704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23320" y="363348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942560" y="355788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64720" y="360540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09080" y="358128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11880" y="362160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1840" y="35845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64720" y="362520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88560" y="356832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3160" y="361260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92360" y="354024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56840" y="413856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07480" y="578160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71600" y="592092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2280" y="360540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4800" y="364032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86320" y="362160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40600" y="362412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86320" y="3639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0600" y="364140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70480" y="363096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68760" y="359964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68760" y="363456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81360" y="361476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35640" y="361836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81360" y="363348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35640" y="363564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63360" y="362520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44720" y="355788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46880" y="359280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9480" y="35730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12320" y="357624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59480" y="359136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12320" y="359496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44720" y="358236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29920" y="415404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329920" y="418860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42880" y="416880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96800" y="417240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342880" y="418752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296800" y="419112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27760" y="417816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22800" y="417816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26400" y="421416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37920" y="41936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393280" y="419544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37920" y="421308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93280" y="42152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1720" y="420120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61680" y="471384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65280" y="481860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04160" y="475920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66640" y="476820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04160" y="481500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66640" y="482328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54840" y="478692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516040" y="415152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7840" y="418644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30800" y="416556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83640" y="416880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530800" y="418536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83640" y="418752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13520" y="417492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79280" y="579312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79280" y="582804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94040" y="580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45800" y="58118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94040" y="582696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45800" y="58294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74600" y="581760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894320" y="581544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94320" y="585108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8000" y="583164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61200" y="583380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08000" y="584892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61200" y="585252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90720" y="584100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95680" y="579924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99280" y="583380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09360" y="5815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64720" y="581868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09360" y="583380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64720" y="583632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93160" y="582480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629360" y="593748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31880" y="597204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43400" y="595332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98400" y="595728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43400" y="597096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98400" y="5974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27200" y="596304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44760" y="595728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46920" y="599184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58080" y="597204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512360" y="597456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58080" y="599076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12360" y="599292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542240" y="59814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52960" y="593964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52960" y="5974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6640" y="595476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0560" y="595836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6640" y="597312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0560" y="597564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50440" y="596520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6587640" y="2781360"/>
            <a:ext cx="2303640" cy="3168720"/>
            <a:chOff x="6587640" y="2781360"/>
            <a:chExt cx="2303640" cy="3168720"/>
          </a:xfrm>
        </p:grpSpPr>
        <p:sp>
          <p:nvSpPr>
            <p:cNvPr id="1367" name=""/>
            <p:cNvSpPr/>
            <p:nvPr/>
          </p:nvSpPr>
          <p:spPr>
            <a:xfrm flipH="1">
              <a:off x="6587280" y="2781360"/>
              <a:ext cx="2303640" cy="316872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8542080" y="2789280"/>
              <a:ext cx="329760" cy="28260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889680" y="3114000"/>
              <a:ext cx="1682280" cy="251856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797960" y="367992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7793640" y="3783240"/>
              <a:ext cx="64800" cy="10224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7693200" y="3726360"/>
              <a:ext cx="126000" cy="597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7840080" y="3735360"/>
              <a:ext cx="80640" cy="5868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7693200" y="3780000"/>
              <a:ext cx="12600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7840080" y="3789000"/>
              <a:ext cx="63360" cy="522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7775280" y="3753720"/>
              <a:ext cx="98640" cy="6552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569360" y="396180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583400" y="4066200"/>
              <a:ext cx="47520" cy="954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547760" y="4018320"/>
              <a:ext cx="42480" cy="45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611120" y="4015080"/>
              <a:ext cx="127080" cy="6228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7580880" y="4066200"/>
              <a:ext cx="9360" cy="147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611120" y="4070880"/>
              <a:ext cx="127080" cy="5868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7564680" y="4035240"/>
              <a:ext cx="78120" cy="6444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7449840" y="4430880"/>
              <a:ext cx="45000" cy="507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7421400" y="4484160"/>
              <a:ext cx="6624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7470360" y="4435200"/>
              <a:ext cx="12564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7399440" y="4487760"/>
              <a:ext cx="50040" cy="45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7470360" y="4488840"/>
              <a:ext cx="125640" cy="597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7418880" y="4455720"/>
              <a:ext cx="83160" cy="6444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7497720" y="4919400"/>
              <a:ext cx="47520" cy="838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7490160" y="5006880"/>
              <a:ext cx="64800" cy="10008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7389720" y="494892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7536600" y="499212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389720" y="5002200"/>
              <a:ext cx="125640" cy="6012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7536600" y="5014800"/>
              <a:ext cx="25560" cy="3852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7471440" y="4975920"/>
              <a:ext cx="83160" cy="64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7860960" y="4826160"/>
              <a:ext cx="61920" cy="10116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7854480" y="4928400"/>
              <a:ext cx="60840" cy="1022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7752960" y="487260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7901280" y="4899960"/>
              <a:ext cx="19440" cy="3708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7752960" y="492624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7900920" y="4936320"/>
              <a:ext cx="16920" cy="338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7836480" y="4898880"/>
              <a:ext cx="84240" cy="6552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7308000" y="3596760"/>
              <a:ext cx="43920" cy="9864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7335000" y="3579840"/>
              <a:ext cx="92880" cy="24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7336440" y="3599280"/>
              <a:ext cx="124560" cy="6012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317720" y="3578760"/>
              <a:ext cx="48600" cy="5220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8223480" y="351720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8118720" y="356400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8265240" y="357084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8125200" y="3616200"/>
              <a:ext cx="119520" cy="3168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8202960" y="3591360"/>
              <a:ext cx="93960" cy="5076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7044120" y="3951360"/>
              <a:ext cx="64800" cy="10080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978960" y="3999240"/>
              <a:ext cx="84240" cy="5796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5520" y="4007160"/>
              <a:ext cx="92880" cy="5544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7017840" y="4051440"/>
              <a:ext cx="45000" cy="259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020720" y="4026240"/>
              <a:ext cx="96480" cy="5076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8309520" y="3101400"/>
              <a:ext cx="388440" cy="17280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6757560" y="3691080"/>
              <a:ext cx="388440" cy="1360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7337520" y="5301360"/>
              <a:ext cx="387360" cy="1371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7700400" y="5434200"/>
              <a:ext cx="388440" cy="1371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7419240" y="3130920"/>
              <a:ext cx="444960" cy="20088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7488000" y="3195720"/>
              <a:ext cx="208800" cy="36144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7256520" y="3101400"/>
              <a:ext cx="747000" cy="1623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389720" y="3229920"/>
              <a:ext cx="53640" cy="3852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7592760" y="326520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7495200" y="325620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7523280" y="3277800"/>
              <a:ext cx="31680" cy="8712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7578360" y="328428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7496280" y="3277800"/>
              <a:ext cx="40320" cy="1584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648840" y="3283200"/>
              <a:ext cx="24120" cy="316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605280" y="3286800"/>
              <a:ext cx="310320" cy="29628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7524360" y="3377520"/>
              <a:ext cx="39960" cy="15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522920" y="339552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7357320" y="5460120"/>
              <a:ext cx="326160" cy="35676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793280" y="5667120"/>
              <a:ext cx="240840" cy="27360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7366680" y="576900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7976520" y="586152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7994880" y="5893920"/>
              <a:ext cx="108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7921080" y="591120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283160" y="3109320"/>
              <a:ext cx="693000" cy="1407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7497360" y="3043440"/>
              <a:ext cx="279720" cy="15012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7509240" y="3051360"/>
              <a:ext cx="261720" cy="1429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7500240" y="3099240"/>
              <a:ext cx="26640" cy="40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7605000" y="3147120"/>
              <a:ext cx="19080" cy="349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7497720" y="3142440"/>
              <a:ext cx="26640" cy="4176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602840" y="3182040"/>
              <a:ext cx="21600" cy="352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454520" y="3118320"/>
              <a:ext cx="52200" cy="237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567200" y="3162600"/>
              <a:ext cx="439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516800" y="312192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640640" y="3147120"/>
              <a:ext cx="109800" cy="3852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626960" y="3192480"/>
              <a:ext cx="78120" cy="4536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389720" y="3118320"/>
              <a:ext cx="81720" cy="3852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618320" y="3165120"/>
              <a:ext cx="42840" cy="2160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454520" y="314136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567200" y="318096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516800" y="314460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7618320" y="318456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7489800" y="3128760"/>
              <a:ext cx="39240" cy="2808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7597800" y="3171960"/>
              <a:ext cx="33120" cy="234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330400" y="3101400"/>
              <a:ext cx="367920" cy="1623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767280" y="3686400"/>
              <a:ext cx="369000" cy="1292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7356600" y="5293080"/>
              <a:ext cx="365400" cy="1281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712640" y="5429520"/>
              <a:ext cx="367920" cy="1292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590320" y="3165120"/>
              <a:ext cx="21960" cy="3420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590680" y="3199320"/>
              <a:ext cx="19440" cy="3492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555040" y="318096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605080" y="3183480"/>
              <a:ext cx="41400" cy="1908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8555040" y="319788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8605080" y="3200400"/>
              <a:ext cx="41400" cy="2016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8582040" y="31899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8490600" y="3159360"/>
              <a:ext cx="19080" cy="3168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8488440" y="3193560"/>
              <a:ext cx="21600" cy="338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8454960" y="317448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8502840" y="317772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8454960" y="3192480"/>
              <a:ext cx="4140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8502840" y="3194640"/>
              <a:ext cx="42480" cy="216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8483040" y="3184560"/>
              <a:ext cx="32760" cy="2052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8407440" y="3118320"/>
              <a:ext cx="21600" cy="3420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8405280" y="3152880"/>
              <a:ext cx="2160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8373240" y="313344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8419680" y="313668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373240" y="315144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8419680" y="315504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8399520" y="314244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7039080" y="3701520"/>
              <a:ext cx="1944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036200" y="3735360"/>
              <a:ext cx="21960" cy="3384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7003080" y="37162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050960" y="371952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7003080" y="3734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7050960" y="373788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031520" y="3725280"/>
              <a:ext cx="29160" cy="2160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935040" y="3725280"/>
              <a:ext cx="244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933960" y="3760560"/>
              <a:ext cx="21600" cy="316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6900840" y="374004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6950880" y="3742200"/>
              <a:ext cx="3996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6900840" y="3759480"/>
              <a:ext cx="42480" cy="1800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6950880" y="3761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6928920" y="3747960"/>
              <a:ext cx="31680" cy="237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7812720" y="4249080"/>
              <a:ext cx="64440" cy="9972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7807680" y="4351320"/>
              <a:ext cx="65880" cy="10116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7706520" y="4293360"/>
              <a:ext cx="12564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7854480" y="4302360"/>
              <a:ext cx="124200" cy="5904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7706520" y="4348080"/>
              <a:ext cx="12564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7854480" y="4356000"/>
              <a:ext cx="12420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7788600" y="4320720"/>
              <a:ext cx="96480" cy="658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6837120" y="3699360"/>
              <a:ext cx="2268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6835680" y="3733200"/>
              <a:ext cx="21960" cy="327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6802920" y="3712680"/>
              <a:ext cx="41400" cy="2160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852960" y="371628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6802920" y="3732120"/>
              <a:ext cx="41400" cy="180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6852960" y="3734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6829560" y="372168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7411680" y="5304600"/>
              <a:ext cx="20520" cy="3276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7409520" y="5338440"/>
              <a:ext cx="2304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376400" y="531936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425720" y="532260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376400" y="533772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7425720" y="5339880"/>
              <a:ext cx="42480" cy="2016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7404480" y="5328360"/>
              <a:ext cx="32760" cy="22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7502760" y="5326200"/>
              <a:ext cx="20160" cy="33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7499880" y="5361120"/>
              <a:ext cx="226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7468200" y="534204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514640" y="5344200"/>
              <a:ext cx="4356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7468200" y="5358960"/>
              <a:ext cx="4032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514640" y="5362560"/>
              <a:ext cx="4356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7495200" y="5351400"/>
              <a:ext cx="31680" cy="212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607520" y="5310360"/>
              <a:ext cx="20520" cy="3384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7605000" y="5344200"/>
              <a:ext cx="19080" cy="338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571880" y="532620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621200" y="532944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571880" y="5344200"/>
              <a:ext cx="4140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7621200" y="534672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7599960" y="533520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7783920" y="544536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7783560" y="5479560"/>
              <a:ext cx="1908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748280" y="5461200"/>
              <a:ext cx="4248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7798320" y="546480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7748280" y="547812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798320" y="548172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774920" y="5470560"/>
              <a:ext cx="32760" cy="201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7874280" y="546480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7874280" y="5499000"/>
              <a:ext cx="19440" cy="338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7838280" y="5479560"/>
              <a:ext cx="42840" cy="201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7887960" y="548172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838280" y="5497560"/>
              <a:ext cx="4284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7887960" y="5499720"/>
              <a:ext cx="4248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865280" y="54885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972920" y="5447520"/>
              <a:ext cx="20520" cy="34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972200" y="548172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7938720" y="5462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986600" y="546588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7938720" y="5480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7986600" y="5482800"/>
              <a:ext cx="4140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7966080" y="5472720"/>
              <a:ext cx="30240" cy="205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395280" y="2492280"/>
            <a:ext cx="720720" cy="758880"/>
            <a:chOff x="395280" y="2492280"/>
            <a:chExt cx="720720" cy="758880"/>
          </a:xfrm>
        </p:grpSpPr>
        <p:sp>
          <p:nvSpPr>
            <p:cNvPr id="1557" name=""/>
            <p:cNvSpPr/>
            <p:nvPr/>
          </p:nvSpPr>
          <p:spPr>
            <a:xfrm>
              <a:off x="395280" y="2492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20100600">
              <a:off x="550800" y="2545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autoRev="1" nodeType="afterEffect" fill="hold" presetClass="path" presetID="59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2948E-006 C 1.11111E-006 -0.21295 0.06979 -0.37364 0.15677 -0.37364 C 0.24618 -0.37364 0.31788 -0.21295 0.31788 -1.32948E-006 C 0.31788 0.21341 0.38889 0.37942 0.47882 0.37942 C 0.5658 0.37942 0.63785 0.21341 0.63785 -1.32948E-006 E">
                                      <p:cBhvr>
                                        <p:cTn id="195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2"/>
          <a:stretch/>
        </p:blipFill>
        <p:spPr>
          <a:xfrm>
            <a:off x="5923080" y="620640"/>
            <a:ext cx="19638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7164360" y="2421000"/>
            <a:ext cx="1254240" cy="1079280"/>
            <a:chOff x="7164360" y="2421000"/>
            <a:chExt cx="1254240" cy="1079280"/>
          </a:xfrm>
        </p:grpSpPr>
        <p:sp>
          <p:nvSpPr>
            <p:cNvPr id="1562" name=""/>
            <p:cNvSpPr/>
            <p:nvPr/>
          </p:nvSpPr>
          <p:spPr>
            <a:xfrm flipH="1">
              <a:off x="7164360" y="2421000"/>
              <a:ext cx="1254240" cy="107928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78760" y="2460960"/>
              <a:ext cx="92880" cy="2484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8175600" y="2496960"/>
              <a:ext cx="105480" cy="5508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8248320" y="255564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8302680" y="262512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8351280" y="269568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7885440" y="247860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7686360" y="252828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7706880" y="2799720"/>
              <a:ext cx="29016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7705800" y="289764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7654680" y="2996280"/>
              <a:ext cx="110520" cy="7596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250400" y="304524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7807320" y="2583720"/>
              <a:ext cx="380520" cy="39528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52600" y="2652840"/>
            <a:ext cx="1629720" cy="1654200"/>
            <a:chOff x="5952600" y="2652840"/>
            <a:chExt cx="1629720" cy="1654200"/>
          </a:xfrm>
        </p:grpSpPr>
        <p:sp>
          <p:nvSpPr>
            <p:cNvPr id="1576" name=""/>
            <p:cNvSpPr/>
            <p:nvPr/>
          </p:nvSpPr>
          <p:spPr>
            <a:xfrm flipH="1" rot="13844400">
              <a:off x="6139800" y="2939760"/>
              <a:ext cx="1254240" cy="107964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13844400">
              <a:off x="6131880" y="3516840"/>
              <a:ext cx="92880" cy="2520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rot="13844400">
              <a:off x="6099840" y="3389040"/>
              <a:ext cx="105480" cy="5544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rot="13844400">
              <a:off x="6117840" y="329760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 rot="13844400">
              <a:off x="6161040" y="322560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rot="13844400">
              <a:off x="6202800" y="315756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rot="13844400">
              <a:off x="6145200" y="315288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rot="13844400">
              <a:off x="6341400" y="323748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rot="13844400">
              <a:off x="6557400" y="3327840"/>
              <a:ext cx="29016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rot="13844400">
              <a:off x="6693480" y="338220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rot="13844400">
              <a:off x="6820560" y="3457440"/>
              <a:ext cx="110520" cy="763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rot="13844400">
              <a:off x="6953040" y="334764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rot="13844400">
              <a:off x="6307200" y="3235680"/>
              <a:ext cx="380520" cy="39492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900360" y="3213000"/>
            <a:ext cx="1928520" cy="2766960"/>
            <a:chOff x="900360" y="3213000"/>
            <a:chExt cx="1928520" cy="2766960"/>
          </a:xfrm>
        </p:grpSpPr>
        <p:sp>
          <p:nvSpPr>
            <p:cNvPr id="1590" name=""/>
            <p:cNvSpPr/>
            <p:nvPr/>
          </p:nvSpPr>
          <p:spPr>
            <a:xfrm flipH="1">
              <a:off x="900000" y="3213000"/>
              <a:ext cx="1928520" cy="2766960"/>
            </a:xfrm>
            <a:custGeom>
              <a:avLst/>
              <a:gdLst/>
              <a:ahLst/>
              <a:rect l="l" t="t" r="r" b="b"/>
              <a:pathLst>
                <a:path w="3643" h="5229">
                  <a:moveTo>
                    <a:pt x="858" y="3711"/>
                  </a:moveTo>
                  <a:lnTo>
                    <a:pt x="880" y="3700"/>
                  </a:lnTo>
                  <a:lnTo>
                    <a:pt x="904" y="3691"/>
                  </a:lnTo>
                  <a:lnTo>
                    <a:pt x="928" y="3684"/>
                  </a:lnTo>
                  <a:lnTo>
                    <a:pt x="954" y="3678"/>
                  </a:lnTo>
                  <a:lnTo>
                    <a:pt x="978" y="3672"/>
                  </a:lnTo>
                  <a:lnTo>
                    <a:pt x="1002" y="3667"/>
                  </a:lnTo>
                  <a:lnTo>
                    <a:pt x="1027" y="3661"/>
                  </a:lnTo>
                  <a:lnTo>
                    <a:pt x="1053" y="3656"/>
                  </a:lnTo>
                  <a:lnTo>
                    <a:pt x="1283" y="3620"/>
                  </a:lnTo>
                  <a:lnTo>
                    <a:pt x="1259" y="3487"/>
                  </a:lnTo>
                  <a:lnTo>
                    <a:pt x="1208" y="3369"/>
                  </a:lnTo>
                  <a:lnTo>
                    <a:pt x="1135" y="3258"/>
                  </a:lnTo>
                  <a:lnTo>
                    <a:pt x="1050" y="3154"/>
                  </a:lnTo>
                  <a:lnTo>
                    <a:pt x="958" y="3052"/>
                  </a:lnTo>
                  <a:lnTo>
                    <a:pt x="868" y="2948"/>
                  </a:lnTo>
                  <a:lnTo>
                    <a:pt x="786" y="2839"/>
                  </a:lnTo>
                  <a:lnTo>
                    <a:pt x="723" y="2720"/>
                  </a:lnTo>
                  <a:lnTo>
                    <a:pt x="711" y="2695"/>
                  </a:lnTo>
                  <a:lnTo>
                    <a:pt x="700" y="2672"/>
                  </a:lnTo>
                  <a:lnTo>
                    <a:pt x="688" y="2647"/>
                  </a:lnTo>
                  <a:lnTo>
                    <a:pt x="677" y="2626"/>
                  </a:lnTo>
                  <a:lnTo>
                    <a:pt x="665" y="2600"/>
                  </a:lnTo>
                  <a:lnTo>
                    <a:pt x="655" y="2579"/>
                  </a:lnTo>
                  <a:lnTo>
                    <a:pt x="641" y="2557"/>
                  </a:lnTo>
                  <a:lnTo>
                    <a:pt x="627" y="2535"/>
                  </a:lnTo>
                  <a:lnTo>
                    <a:pt x="548" y="2608"/>
                  </a:lnTo>
                  <a:lnTo>
                    <a:pt x="462" y="2648"/>
                  </a:lnTo>
                  <a:lnTo>
                    <a:pt x="369" y="2658"/>
                  </a:lnTo>
                  <a:lnTo>
                    <a:pt x="281" y="2644"/>
                  </a:lnTo>
                  <a:lnTo>
                    <a:pt x="194" y="2603"/>
                  </a:lnTo>
                  <a:lnTo>
                    <a:pt x="119" y="2542"/>
                  </a:lnTo>
                  <a:lnTo>
                    <a:pt x="58" y="2464"/>
                  </a:lnTo>
                  <a:lnTo>
                    <a:pt x="17" y="2373"/>
                  </a:lnTo>
                  <a:lnTo>
                    <a:pt x="5" y="2320"/>
                  </a:lnTo>
                  <a:lnTo>
                    <a:pt x="0" y="2268"/>
                  </a:lnTo>
                  <a:lnTo>
                    <a:pt x="0" y="2217"/>
                  </a:lnTo>
                  <a:lnTo>
                    <a:pt x="7" y="2168"/>
                  </a:lnTo>
                  <a:lnTo>
                    <a:pt x="17" y="2119"/>
                  </a:lnTo>
                  <a:lnTo>
                    <a:pt x="34" y="2072"/>
                  </a:lnTo>
                  <a:lnTo>
                    <a:pt x="52" y="2025"/>
                  </a:lnTo>
                  <a:lnTo>
                    <a:pt x="76" y="1982"/>
                  </a:lnTo>
                  <a:lnTo>
                    <a:pt x="96" y="1962"/>
                  </a:lnTo>
                  <a:lnTo>
                    <a:pt x="118" y="1942"/>
                  </a:lnTo>
                  <a:lnTo>
                    <a:pt x="140" y="1922"/>
                  </a:lnTo>
                  <a:lnTo>
                    <a:pt x="167" y="1908"/>
                  </a:lnTo>
                  <a:lnTo>
                    <a:pt x="191" y="1893"/>
                  </a:lnTo>
                  <a:lnTo>
                    <a:pt x="220" y="1884"/>
                  </a:lnTo>
                  <a:lnTo>
                    <a:pt x="247" y="1879"/>
                  </a:lnTo>
                  <a:lnTo>
                    <a:pt x="279" y="1880"/>
                  </a:lnTo>
                  <a:lnTo>
                    <a:pt x="300" y="1890"/>
                  </a:lnTo>
                  <a:lnTo>
                    <a:pt x="318" y="1903"/>
                  </a:lnTo>
                  <a:lnTo>
                    <a:pt x="333" y="1919"/>
                  </a:lnTo>
                  <a:lnTo>
                    <a:pt x="348" y="1938"/>
                  </a:lnTo>
                  <a:lnTo>
                    <a:pt x="359" y="1956"/>
                  </a:lnTo>
                  <a:lnTo>
                    <a:pt x="369" y="1975"/>
                  </a:lnTo>
                  <a:lnTo>
                    <a:pt x="380" y="1995"/>
                  </a:lnTo>
                  <a:lnTo>
                    <a:pt x="392" y="2016"/>
                  </a:lnTo>
                  <a:lnTo>
                    <a:pt x="398" y="2059"/>
                  </a:lnTo>
                  <a:lnTo>
                    <a:pt x="401" y="2102"/>
                  </a:lnTo>
                  <a:lnTo>
                    <a:pt x="397" y="2146"/>
                  </a:lnTo>
                  <a:lnTo>
                    <a:pt x="391" y="2192"/>
                  </a:lnTo>
                  <a:lnTo>
                    <a:pt x="375" y="2234"/>
                  </a:lnTo>
                  <a:lnTo>
                    <a:pt x="356" y="2274"/>
                  </a:lnTo>
                  <a:lnTo>
                    <a:pt x="331" y="2312"/>
                  </a:lnTo>
                  <a:lnTo>
                    <a:pt x="297" y="2345"/>
                  </a:lnTo>
                  <a:lnTo>
                    <a:pt x="284" y="2349"/>
                  </a:lnTo>
                  <a:lnTo>
                    <a:pt x="270" y="2352"/>
                  </a:lnTo>
                  <a:lnTo>
                    <a:pt x="252" y="2354"/>
                  </a:lnTo>
                  <a:lnTo>
                    <a:pt x="235" y="2354"/>
                  </a:lnTo>
                  <a:lnTo>
                    <a:pt x="220" y="2350"/>
                  </a:lnTo>
                  <a:lnTo>
                    <a:pt x="209" y="2345"/>
                  </a:lnTo>
                  <a:lnTo>
                    <a:pt x="202" y="2336"/>
                  </a:lnTo>
                  <a:lnTo>
                    <a:pt x="203" y="2322"/>
                  </a:lnTo>
                  <a:lnTo>
                    <a:pt x="214" y="2288"/>
                  </a:lnTo>
                  <a:lnTo>
                    <a:pt x="230" y="2258"/>
                  </a:lnTo>
                  <a:lnTo>
                    <a:pt x="247" y="2229"/>
                  </a:lnTo>
                  <a:lnTo>
                    <a:pt x="267" y="2204"/>
                  </a:lnTo>
                  <a:lnTo>
                    <a:pt x="283" y="2176"/>
                  </a:lnTo>
                  <a:lnTo>
                    <a:pt x="295" y="2146"/>
                  </a:lnTo>
                  <a:lnTo>
                    <a:pt x="300" y="2111"/>
                  </a:lnTo>
                  <a:lnTo>
                    <a:pt x="297" y="2074"/>
                  </a:lnTo>
                  <a:lnTo>
                    <a:pt x="277" y="2008"/>
                  </a:lnTo>
                  <a:lnTo>
                    <a:pt x="252" y="1975"/>
                  </a:lnTo>
                  <a:lnTo>
                    <a:pt x="223" y="1969"/>
                  </a:lnTo>
                  <a:lnTo>
                    <a:pt x="193" y="1986"/>
                  </a:lnTo>
                  <a:lnTo>
                    <a:pt x="163" y="2019"/>
                  </a:lnTo>
                  <a:lnTo>
                    <a:pt x="136" y="2065"/>
                  </a:lnTo>
                  <a:lnTo>
                    <a:pt x="114" y="2116"/>
                  </a:lnTo>
                  <a:lnTo>
                    <a:pt x="100" y="2169"/>
                  </a:lnTo>
                  <a:lnTo>
                    <a:pt x="92" y="2210"/>
                  </a:lnTo>
                  <a:lnTo>
                    <a:pt x="90" y="2254"/>
                  </a:lnTo>
                  <a:lnTo>
                    <a:pt x="91" y="2297"/>
                  </a:lnTo>
                  <a:lnTo>
                    <a:pt x="100" y="2343"/>
                  </a:lnTo>
                  <a:lnTo>
                    <a:pt x="114" y="2384"/>
                  </a:lnTo>
                  <a:lnTo>
                    <a:pt x="137" y="2421"/>
                  </a:lnTo>
                  <a:lnTo>
                    <a:pt x="170" y="2452"/>
                  </a:lnTo>
                  <a:lnTo>
                    <a:pt x="215" y="2476"/>
                  </a:lnTo>
                  <a:lnTo>
                    <a:pt x="245" y="2484"/>
                  </a:lnTo>
                  <a:lnTo>
                    <a:pt x="278" y="2487"/>
                  </a:lnTo>
                  <a:lnTo>
                    <a:pt x="309" y="2482"/>
                  </a:lnTo>
                  <a:lnTo>
                    <a:pt x="343" y="2475"/>
                  </a:lnTo>
                  <a:lnTo>
                    <a:pt x="373" y="2461"/>
                  </a:lnTo>
                  <a:lnTo>
                    <a:pt x="404" y="2447"/>
                  </a:lnTo>
                  <a:lnTo>
                    <a:pt x="432" y="2429"/>
                  </a:lnTo>
                  <a:lnTo>
                    <a:pt x="460" y="2408"/>
                  </a:lnTo>
                  <a:lnTo>
                    <a:pt x="499" y="2366"/>
                  </a:lnTo>
                  <a:lnTo>
                    <a:pt x="525" y="2319"/>
                  </a:lnTo>
                  <a:lnTo>
                    <a:pt x="540" y="2268"/>
                  </a:lnTo>
                  <a:lnTo>
                    <a:pt x="547" y="2218"/>
                  </a:lnTo>
                  <a:lnTo>
                    <a:pt x="550" y="2164"/>
                  </a:lnTo>
                  <a:lnTo>
                    <a:pt x="554" y="2111"/>
                  </a:lnTo>
                  <a:lnTo>
                    <a:pt x="561" y="2059"/>
                  </a:lnTo>
                  <a:lnTo>
                    <a:pt x="578" y="2007"/>
                  </a:lnTo>
                  <a:lnTo>
                    <a:pt x="634" y="1783"/>
                  </a:lnTo>
                  <a:lnTo>
                    <a:pt x="723" y="1577"/>
                  </a:lnTo>
                  <a:lnTo>
                    <a:pt x="837" y="1385"/>
                  </a:lnTo>
                  <a:lnTo>
                    <a:pt x="977" y="1213"/>
                  </a:lnTo>
                  <a:lnTo>
                    <a:pt x="1138" y="1054"/>
                  </a:lnTo>
                  <a:lnTo>
                    <a:pt x="1315" y="917"/>
                  </a:lnTo>
                  <a:lnTo>
                    <a:pt x="1509" y="796"/>
                  </a:lnTo>
                  <a:lnTo>
                    <a:pt x="1717" y="697"/>
                  </a:lnTo>
                  <a:lnTo>
                    <a:pt x="1748" y="617"/>
                  </a:lnTo>
                  <a:lnTo>
                    <a:pt x="1777" y="534"/>
                  </a:lnTo>
                  <a:lnTo>
                    <a:pt x="1797" y="449"/>
                  </a:lnTo>
                  <a:lnTo>
                    <a:pt x="1815" y="362"/>
                  </a:lnTo>
                  <a:lnTo>
                    <a:pt x="1821" y="273"/>
                  </a:lnTo>
                  <a:lnTo>
                    <a:pt x="1820" y="183"/>
                  </a:lnTo>
                  <a:lnTo>
                    <a:pt x="1807" y="96"/>
                  </a:lnTo>
                  <a:lnTo>
                    <a:pt x="1785" y="8"/>
                  </a:lnTo>
                  <a:lnTo>
                    <a:pt x="1846" y="82"/>
                  </a:lnTo>
                  <a:lnTo>
                    <a:pt x="1922" y="134"/>
                  </a:lnTo>
                  <a:lnTo>
                    <a:pt x="2006" y="169"/>
                  </a:lnTo>
                  <a:lnTo>
                    <a:pt x="2095" y="196"/>
                  </a:lnTo>
                  <a:lnTo>
                    <a:pt x="2188" y="223"/>
                  </a:lnTo>
                  <a:lnTo>
                    <a:pt x="2278" y="254"/>
                  </a:lnTo>
                  <a:lnTo>
                    <a:pt x="2362" y="299"/>
                  </a:lnTo>
                  <a:lnTo>
                    <a:pt x="2441" y="366"/>
                  </a:lnTo>
                  <a:lnTo>
                    <a:pt x="2451" y="374"/>
                  </a:lnTo>
                  <a:lnTo>
                    <a:pt x="2453" y="356"/>
                  </a:lnTo>
                  <a:lnTo>
                    <a:pt x="2442" y="319"/>
                  </a:lnTo>
                  <a:lnTo>
                    <a:pt x="2421" y="273"/>
                  </a:lnTo>
                  <a:lnTo>
                    <a:pt x="2393" y="220"/>
                  </a:lnTo>
                  <a:lnTo>
                    <a:pt x="2360" y="172"/>
                  </a:lnTo>
                  <a:lnTo>
                    <a:pt x="2324" y="133"/>
                  </a:lnTo>
                  <a:lnTo>
                    <a:pt x="2286" y="112"/>
                  </a:lnTo>
                  <a:lnTo>
                    <a:pt x="2303" y="108"/>
                  </a:lnTo>
                  <a:lnTo>
                    <a:pt x="2321" y="110"/>
                  </a:lnTo>
                  <a:lnTo>
                    <a:pt x="2334" y="117"/>
                  </a:lnTo>
                  <a:lnTo>
                    <a:pt x="2347" y="129"/>
                  </a:lnTo>
                  <a:lnTo>
                    <a:pt x="2358" y="144"/>
                  </a:lnTo>
                  <a:lnTo>
                    <a:pt x="2371" y="159"/>
                  </a:lnTo>
                  <a:lnTo>
                    <a:pt x="2383" y="173"/>
                  </a:lnTo>
                  <a:lnTo>
                    <a:pt x="2395" y="189"/>
                  </a:lnTo>
                  <a:lnTo>
                    <a:pt x="2496" y="383"/>
                  </a:lnTo>
                  <a:lnTo>
                    <a:pt x="2503" y="382"/>
                  </a:lnTo>
                  <a:lnTo>
                    <a:pt x="2511" y="381"/>
                  </a:lnTo>
                  <a:lnTo>
                    <a:pt x="2519" y="378"/>
                  </a:lnTo>
                  <a:lnTo>
                    <a:pt x="2526" y="376"/>
                  </a:lnTo>
                  <a:lnTo>
                    <a:pt x="2532" y="371"/>
                  </a:lnTo>
                  <a:lnTo>
                    <a:pt x="2538" y="368"/>
                  </a:lnTo>
                  <a:lnTo>
                    <a:pt x="2543" y="362"/>
                  </a:lnTo>
                  <a:lnTo>
                    <a:pt x="2549" y="357"/>
                  </a:lnTo>
                  <a:lnTo>
                    <a:pt x="2547" y="313"/>
                  </a:lnTo>
                  <a:lnTo>
                    <a:pt x="2543" y="269"/>
                  </a:lnTo>
                  <a:lnTo>
                    <a:pt x="2535" y="226"/>
                  </a:lnTo>
                  <a:lnTo>
                    <a:pt x="2529" y="183"/>
                  </a:lnTo>
                  <a:lnTo>
                    <a:pt x="2523" y="141"/>
                  </a:lnTo>
                  <a:lnTo>
                    <a:pt x="2521" y="99"/>
                  </a:lnTo>
                  <a:lnTo>
                    <a:pt x="2522" y="58"/>
                  </a:lnTo>
                  <a:lnTo>
                    <a:pt x="2531" y="19"/>
                  </a:lnTo>
                  <a:lnTo>
                    <a:pt x="2533" y="61"/>
                  </a:lnTo>
                  <a:lnTo>
                    <a:pt x="2537" y="106"/>
                  </a:lnTo>
                  <a:lnTo>
                    <a:pt x="2540" y="151"/>
                  </a:lnTo>
                  <a:lnTo>
                    <a:pt x="2545" y="195"/>
                  </a:lnTo>
                  <a:lnTo>
                    <a:pt x="2551" y="239"/>
                  </a:lnTo>
                  <a:lnTo>
                    <a:pt x="2563" y="284"/>
                  </a:lnTo>
                  <a:lnTo>
                    <a:pt x="2577" y="326"/>
                  </a:lnTo>
                  <a:lnTo>
                    <a:pt x="2599" y="366"/>
                  </a:lnTo>
                  <a:lnTo>
                    <a:pt x="2652" y="357"/>
                  </a:lnTo>
                  <a:lnTo>
                    <a:pt x="2659" y="332"/>
                  </a:lnTo>
                  <a:lnTo>
                    <a:pt x="2665" y="307"/>
                  </a:lnTo>
                  <a:lnTo>
                    <a:pt x="2668" y="280"/>
                  </a:lnTo>
                  <a:lnTo>
                    <a:pt x="2672" y="254"/>
                  </a:lnTo>
                  <a:lnTo>
                    <a:pt x="2676" y="227"/>
                  </a:lnTo>
                  <a:lnTo>
                    <a:pt x="2682" y="202"/>
                  </a:lnTo>
                  <a:lnTo>
                    <a:pt x="2690" y="176"/>
                  </a:lnTo>
                  <a:lnTo>
                    <a:pt x="2702" y="154"/>
                  </a:lnTo>
                  <a:lnTo>
                    <a:pt x="2698" y="177"/>
                  </a:lnTo>
                  <a:lnTo>
                    <a:pt x="2696" y="202"/>
                  </a:lnTo>
                  <a:lnTo>
                    <a:pt x="2692" y="225"/>
                  </a:lnTo>
                  <a:lnTo>
                    <a:pt x="2689" y="250"/>
                  </a:lnTo>
                  <a:lnTo>
                    <a:pt x="2685" y="274"/>
                  </a:lnTo>
                  <a:lnTo>
                    <a:pt x="2684" y="299"/>
                  </a:lnTo>
                  <a:lnTo>
                    <a:pt x="2683" y="326"/>
                  </a:lnTo>
                  <a:lnTo>
                    <a:pt x="2685" y="352"/>
                  </a:lnTo>
                  <a:lnTo>
                    <a:pt x="2692" y="358"/>
                  </a:lnTo>
                  <a:lnTo>
                    <a:pt x="2703" y="359"/>
                  </a:lnTo>
                  <a:lnTo>
                    <a:pt x="2708" y="358"/>
                  </a:lnTo>
                  <a:lnTo>
                    <a:pt x="2715" y="358"/>
                  </a:lnTo>
                  <a:lnTo>
                    <a:pt x="2721" y="357"/>
                  </a:lnTo>
                  <a:lnTo>
                    <a:pt x="2728" y="357"/>
                  </a:lnTo>
                  <a:lnTo>
                    <a:pt x="2744" y="311"/>
                  </a:lnTo>
                  <a:lnTo>
                    <a:pt x="2762" y="260"/>
                  </a:lnTo>
                  <a:lnTo>
                    <a:pt x="2783" y="203"/>
                  </a:lnTo>
                  <a:lnTo>
                    <a:pt x="2810" y="146"/>
                  </a:lnTo>
                  <a:lnTo>
                    <a:pt x="2839" y="92"/>
                  </a:lnTo>
                  <a:lnTo>
                    <a:pt x="2875" y="46"/>
                  </a:lnTo>
                  <a:lnTo>
                    <a:pt x="2915" y="14"/>
                  </a:lnTo>
                  <a:lnTo>
                    <a:pt x="2964" y="0"/>
                  </a:lnTo>
                  <a:lnTo>
                    <a:pt x="2968" y="7"/>
                  </a:lnTo>
                  <a:lnTo>
                    <a:pt x="2972" y="16"/>
                  </a:lnTo>
                  <a:lnTo>
                    <a:pt x="2972" y="26"/>
                  </a:lnTo>
                  <a:lnTo>
                    <a:pt x="2972" y="37"/>
                  </a:lnTo>
                  <a:lnTo>
                    <a:pt x="2968" y="45"/>
                  </a:lnTo>
                  <a:lnTo>
                    <a:pt x="2966" y="55"/>
                  </a:lnTo>
                  <a:lnTo>
                    <a:pt x="2961" y="62"/>
                  </a:lnTo>
                  <a:lnTo>
                    <a:pt x="2956" y="70"/>
                  </a:lnTo>
                  <a:lnTo>
                    <a:pt x="2933" y="44"/>
                  </a:lnTo>
                  <a:lnTo>
                    <a:pt x="2897" y="75"/>
                  </a:lnTo>
                  <a:lnTo>
                    <a:pt x="2867" y="111"/>
                  </a:lnTo>
                  <a:lnTo>
                    <a:pt x="2839" y="148"/>
                  </a:lnTo>
                  <a:lnTo>
                    <a:pt x="2817" y="188"/>
                  </a:lnTo>
                  <a:lnTo>
                    <a:pt x="2798" y="230"/>
                  </a:lnTo>
                  <a:lnTo>
                    <a:pt x="2788" y="274"/>
                  </a:lnTo>
                  <a:lnTo>
                    <a:pt x="2785" y="319"/>
                  </a:lnTo>
                  <a:lnTo>
                    <a:pt x="2793" y="366"/>
                  </a:lnTo>
                  <a:lnTo>
                    <a:pt x="2840" y="382"/>
                  </a:lnTo>
                  <a:lnTo>
                    <a:pt x="2888" y="404"/>
                  </a:lnTo>
                  <a:lnTo>
                    <a:pt x="2934" y="425"/>
                  </a:lnTo>
                  <a:lnTo>
                    <a:pt x="2981" y="452"/>
                  </a:lnTo>
                  <a:lnTo>
                    <a:pt x="3023" y="480"/>
                  </a:lnTo>
                  <a:lnTo>
                    <a:pt x="3064" y="514"/>
                  </a:lnTo>
                  <a:lnTo>
                    <a:pt x="3097" y="551"/>
                  </a:lnTo>
                  <a:lnTo>
                    <a:pt x="3127" y="597"/>
                  </a:lnTo>
                  <a:lnTo>
                    <a:pt x="3193" y="532"/>
                  </a:lnTo>
                  <a:lnTo>
                    <a:pt x="3253" y="466"/>
                  </a:lnTo>
                  <a:lnTo>
                    <a:pt x="3305" y="396"/>
                  </a:lnTo>
                  <a:lnTo>
                    <a:pt x="3353" y="327"/>
                  </a:lnTo>
                  <a:lnTo>
                    <a:pt x="3396" y="251"/>
                  </a:lnTo>
                  <a:lnTo>
                    <a:pt x="3435" y="178"/>
                  </a:lnTo>
                  <a:lnTo>
                    <a:pt x="3471" y="103"/>
                  </a:lnTo>
                  <a:lnTo>
                    <a:pt x="3507" y="27"/>
                  </a:lnTo>
                  <a:lnTo>
                    <a:pt x="3517" y="104"/>
                  </a:lnTo>
                  <a:lnTo>
                    <a:pt x="3535" y="179"/>
                  </a:lnTo>
                  <a:lnTo>
                    <a:pt x="3557" y="253"/>
                  </a:lnTo>
                  <a:lnTo>
                    <a:pt x="3581" y="327"/>
                  </a:lnTo>
                  <a:lnTo>
                    <a:pt x="3601" y="400"/>
                  </a:lnTo>
                  <a:lnTo>
                    <a:pt x="3622" y="474"/>
                  </a:lnTo>
                  <a:lnTo>
                    <a:pt x="3636" y="551"/>
                  </a:lnTo>
                  <a:lnTo>
                    <a:pt x="3643" y="631"/>
                  </a:lnTo>
                  <a:lnTo>
                    <a:pt x="3642" y="734"/>
                  </a:lnTo>
                  <a:lnTo>
                    <a:pt x="3639" y="841"/>
                  </a:lnTo>
                  <a:lnTo>
                    <a:pt x="3630" y="948"/>
                  </a:lnTo>
                  <a:lnTo>
                    <a:pt x="3614" y="1053"/>
                  </a:lnTo>
                  <a:lnTo>
                    <a:pt x="3585" y="1155"/>
                  </a:lnTo>
                  <a:lnTo>
                    <a:pt x="3547" y="1251"/>
                  </a:lnTo>
                  <a:lnTo>
                    <a:pt x="3491" y="1337"/>
                  </a:lnTo>
                  <a:lnTo>
                    <a:pt x="3416" y="1414"/>
                  </a:lnTo>
                  <a:lnTo>
                    <a:pt x="3398" y="1419"/>
                  </a:lnTo>
                  <a:lnTo>
                    <a:pt x="3380" y="1424"/>
                  </a:lnTo>
                  <a:lnTo>
                    <a:pt x="3361" y="1426"/>
                  </a:lnTo>
                  <a:lnTo>
                    <a:pt x="3342" y="1430"/>
                  </a:lnTo>
                  <a:lnTo>
                    <a:pt x="3323" y="1430"/>
                  </a:lnTo>
                  <a:lnTo>
                    <a:pt x="3305" y="1427"/>
                  </a:lnTo>
                  <a:lnTo>
                    <a:pt x="3286" y="1422"/>
                  </a:lnTo>
                  <a:lnTo>
                    <a:pt x="3271" y="1414"/>
                  </a:lnTo>
                  <a:lnTo>
                    <a:pt x="3253" y="1413"/>
                  </a:lnTo>
                  <a:lnTo>
                    <a:pt x="3244" y="1410"/>
                  </a:lnTo>
                  <a:lnTo>
                    <a:pt x="3238" y="1406"/>
                  </a:lnTo>
                  <a:lnTo>
                    <a:pt x="3237" y="1400"/>
                  </a:lnTo>
                  <a:lnTo>
                    <a:pt x="3234" y="1391"/>
                  </a:lnTo>
                  <a:lnTo>
                    <a:pt x="3231" y="1383"/>
                  </a:lnTo>
                  <a:lnTo>
                    <a:pt x="3225" y="1371"/>
                  </a:lnTo>
                  <a:lnTo>
                    <a:pt x="3213" y="1360"/>
                  </a:lnTo>
                  <a:lnTo>
                    <a:pt x="3051" y="1559"/>
                  </a:lnTo>
                  <a:lnTo>
                    <a:pt x="3080" y="1717"/>
                  </a:lnTo>
                  <a:lnTo>
                    <a:pt x="3099" y="1887"/>
                  </a:lnTo>
                  <a:lnTo>
                    <a:pt x="3106" y="2062"/>
                  </a:lnTo>
                  <a:lnTo>
                    <a:pt x="3099" y="2239"/>
                  </a:lnTo>
                  <a:lnTo>
                    <a:pt x="3072" y="2409"/>
                  </a:lnTo>
                  <a:lnTo>
                    <a:pt x="3026" y="2574"/>
                  </a:lnTo>
                  <a:lnTo>
                    <a:pt x="2956" y="2725"/>
                  </a:lnTo>
                  <a:lnTo>
                    <a:pt x="2861" y="2863"/>
                  </a:lnTo>
                  <a:lnTo>
                    <a:pt x="2810" y="2918"/>
                  </a:lnTo>
                  <a:lnTo>
                    <a:pt x="2758" y="2974"/>
                  </a:lnTo>
                  <a:lnTo>
                    <a:pt x="2708" y="3033"/>
                  </a:lnTo>
                  <a:lnTo>
                    <a:pt x="2664" y="3094"/>
                  </a:lnTo>
                  <a:lnTo>
                    <a:pt x="2625" y="3157"/>
                  </a:lnTo>
                  <a:lnTo>
                    <a:pt x="2598" y="3222"/>
                  </a:lnTo>
                  <a:lnTo>
                    <a:pt x="2582" y="3293"/>
                  </a:lnTo>
                  <a:lnTo>
                    <a:pt x="2581" y="3368"/>
                  </a:lnTo>
                  <a:lnTo>
                    <a:pt x="2587" y="3380"/>
                  </a:lnTo>
                  <a:lnTo>
                    <a:pt x="2600" y="3385"/>
                  </a:lnTo>
                  <a:lnTo>
                    <a:pt x="2620" y="3388"/>
                  </a:lnTo>
                  <a:lnTo>
                    <a:pt x="2642" y="3390"/>
                  </a:lnTo>
                  <a:lnTo>
                    <a:pt x="2662" y="3391"/>
                  </a:lnTo>
                  <a:lnTo>
                    <a:pt x="2683" y="3399"/>
                  </a:lnTo>
                  <a:lnTo>
                    <a:pt x="2696" y="3412"/>
                  </a:lnTo>
                  <a:lnTo>
                    <a:pt x="2702" y="3435"/>
                  </a:lnTo>
                  <a:lnTo>
                    <a:pt x="2704" y="3453"/>
                  </a:lnTo>
                  <a:lnTo>
                    <a:pt x="2703" y="3469"/>
                  </a:lnTo>
                  <a:lnTo>
                    <a:pt x="2700" y="3486"/>
                  </a:lnTo>
                  <a:lnTo>
                    <a:pt x="2694" y="3502"/>
                  </a:lnTo>
                  <a:lnTo>
                    <a:pt x="2686" y="3516"/>
                  </a:lnTo>
                  <a:lnTo>
                    <a:pt x="2679" y="3531"/>
                  </a:lnTo>
                  <a:lnTo>
                    <a:pt x="2671" y="3546"/>
                  </a:lnTo>
                  <a:lnTo>
                    <a:pt x="2666" y="3562"/>
                  </a:lnTo>
                  <a:lnTo>
                    <a:pt x="2701" y="3570"/>
                  </a:lnTo>
                  <a:lnTo>
                    <a:pt x="2737" y="3575"/>
                  </a:lnTo>
                  <a:lnTo>
                    <a:pt x="2774" y="3577"/>
                  </a:lnTo>
                  <a:lnTo>
                    <a:pt x="2813" y="3581"/>
                  </a:lnTo>
                  <a:lnTo>
                    <a:pt x="2849" y="3583"/>
                  </a:lnTo>
                  <a:lnTo>
                    <a:pt x="2887" y="3589"/>
                  </a:lnTo>
                  <a:lnTo>
                    <a:pt x="2921" y="3599"/>
                  </a:lnTo>
                  <a:lnTo>
                    <a:pt x="2956" y="3612"/>
                  </a:lnTo>
                  <a:lnTo>
                    <a:pt x="2914" y="3719"/>
                  </a:lnTo>
                  <a:lnTo>
                    <a:pt x="2877" y="3827"/>
                  </a:lnTo>
                  <a:lnTo>
                    <a:pt x="2842" y="3937"/>
                  </a:lnTo>
                  <a:lnTo>
                    <a:pt x="2813" y="4051"/>
                  </a:lnTo>
                  <a:lnTo>
                    <a:pt x="2787" y="4163"/>
                  </a:lnTo>
                  <a:lnTo>
                    <a:pt x="2769" y="4278"/>
                  </a:lnTo>
                  <a:lnTo>
                    <a:pt x="2757" y="4393"/>
                  </a:lnTo>
                  <a:lnTo>
                    <a:pt x="2752" y="4511"/>
                  </a:lnTo>
                  <a:lnTo>
                    <a:pt x="2755" y="4589"/>
                  </a:lnTo>
                  <a:lnTo>
                    <a:pt x="2763" y="4666"/>
                  </a:lnTo>
                  <a:lnTo>
                    <a:pt x="2774" y="4741"/>
                  </a:lnTo>
                  <a:lnTo>
                    <a:pt x="2792" y="4817"/>
                  </a:lnTo>
                  <a:lnTo>
                    <a:pt x="2813" y="4888"/>
                  </a:lnTo>
                  <a:lnTo>
                    <a:pt x="2840" y="4962"/>
                  </a:lnTo>
                  <a:lnTo>
                    <a:pt x="2870" y="5031"/>
                  </a:lnTo>
                  <a:lnTo>
                    <a:pt x="2906" y="5099"/>
                  </a:lnTo>
                  <a:lnTo>
                    <a:pt x="2686" y="5085"/>
                  </a:lnTo>
                  <a:lnTo>
                    <a:pt x="2433" y="5067"/>
                  </a:lnTo>
                  <a:lnTo>
                    <a:pt x="2159" y="5053"/>
                  </a:lnTo>
                  <a:lnTo>
                    <a:pt x="1878" y="5048"/>
                  </a:lnTo>
                  <a:lnTo>
                    <a:pt x="1602" y="5055"/>
                  </a:lnTo>
                  <a:lnTo>
                    <a:pt x="1346" y="5086"/>
                  </a:lnTo>
                  <a:lnTo>
                    <a:pt x="1121" y="5140"/>
                  </a:lnTo>
                  <a:lnTo>
                    <a:pt x="944" y="5226"/>
                  </a:lnTo>
                  <a:lnTo>
                    <a:pt x="934" y="5229"/>
                  </a:lnTo>
                  <a:lnTo>
                    <a:pt x="933" y="5223"/>
                  </a:lnTo>
                  <a:lnTo>
                    <a:pt x="936" y="5210"/>
                  </a:lnTo>
                  <a:lnTo>
                    <a:pt x="944" y="5193"/>
                  </a:lnTo>
                  <a:lnTo>
                    <a:pt x="954" y="5171"/>
                  </a:lnTo>
                  <a:lnTo>
                    <a:pt x="964" y="5151"/>
                  </a:lnTo>
                  <a:lnTo>
                    <a:pt x="972" y="5131"/>
                  </a:lnTo>
                  <a:lnTo>
                    <a:pt x="979" y="5116"/>
                  </a:lnTo>
                  <a:lnTo>
                    <a:pt x="1005" y="4938"/>
                  </a:lnTo>
                  <a:lnTo>
                    <a:pt x="1014" y="4760"/>
                  </a:lnTo>
                  <a:lnTo>
                    <a:pt x="1008" y="4585"/>
                  </a:lnTo>
                  <a:lnTo>
                    <a:pt x="990" y="4410"/>
                  </a:lnTo>
                  <a:lnTo>
                    <a:pt x="963" y="4234"/>
                  </a:lnTo>
                  <a:lnTo>
                    <a:pt x="929" y="4059"/>
                  </a:lnTo>
                  <a:lnTo>
                    <a:pt x="894" y="3884"/>
                  </a:lnTo>
                  <a:lnTo>
                    <a:pt x="858" y="3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063520" y="5689440"/>
              <a:ext cx="174600" cy="206640"/>
            </a:xfrm>
            <a:custGeom>
              <a:avLst/>
              <a:gdLst/>
              <a:ahLst/>
              <a:rect l="l" t="t" r="r" b="b"/>
              <a:pathLst>
                <a:path w="331" h="390">
                  <a:moveTo>
                    <a:pt x="145" y="0"/>
                  </a:moveTo>
                  <a:lnTo>
                    <a:pt x="331" y="341"/>
                  </a:lnTo>
                  <a:lnTo>
                    <a:pt x="289" y="348"/>
                  </a:lnTo>
                  <a:lnTo>
                    <a:pt x="246" y="353"/>
                  </a:lnTo>
                  <a:lnTo>
                    <a:pt x="204" y="355"/>
                  </a:lnTo>
                  <a:lnTo>
                    <a:pt x="162" y="357"/>
                  </a:lnTo>
                  <a:lnTo>
                    <a:pt x="117" y="360"/>
                  </a:lnTo>
                  <a:lnTo>
                    <a:pt x="77" y="366"/>
                  </a:lnTo>
                  <a:lnTo>
                    <a:pt x="37" y="374"/>
                  </a:lnTo>
                  <a:lnTo>
                    <a:pt x="0" y="390"/>
                  </a:lnTo>
                  <a:lnTo>
                    <a:pt x="13" y="339"/>
                  </a:lnTo>
                  <a:lnTo>
                    <a:pt x="31" y="290"/>
                  </a:lnTo>
                  <a:lnTo>
                    <a:pt x="48" y="241"/>
                  </a:lnTo>
                  <a:lnTo>
                    <a:pt x="67" y="193"/>
                  </a:lnTo>
                  <a:lnTo>
                    <a:pt x="86" y="144"/>
                  </a:lnTo>
                  <a:lnTo>
                    <a:pt x="105" y="97"/>
                  </a:lnTo>
                  <a:lnTo>
                    <a:pt x="123" y="4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1833840" y="5672160"/>
              <a:ext cx="172800" cy="190440"/>
            </a:xfrm>
            <a:custGeom>
              <a:avLst/>
              <a:gdLst/>
              <a:ahLst/>
              <a:rect l="l" t="t" r="r" b="b"/>
              <a:pathLst>
                <a:path w="326" h="361">
                  <a:moveTo>
                    <a:pt x="146" y="0"/>
                  </a:moveTo>
                  <a:lnTo>
                    <a:pt x="163" y="15"/>
                  </a:lnTo>
                  <a:lnTo>
                    <a:pt x="188" y="52"/>
                  </a:lnTo>
                  <a:lnTo>
                    <a:pt x="219" y="105"/>
                  </a:lnTo>
                  <a:lnTo>
                    <a:pt x="250" y="165"/>
                  </a:lnTo>
                  <a:lnTo>
                    <a:pt x="279" y="222"/>
                  </a:lnTo>
                  <a:lnTo>
                    <a:pt x="304" y="274"/>
                  </a:lnTo>
                  <a:lnTo>
                    <a:pt x="321" y="310"/>
                  </a:lnTo>
                  <a:lnTo>
                    <a:pt x="326" y="324"/>
                  </a:lnTo>
                  <a:lnTo>
                    <a:pt x="284" y="327"/>
                  </a:lnTo>
                  <a:lnTo>
                    <a:pt x="243" y="330"/>
                  </a:lnTo>
                  <a:lnTo>
                    <a:pt x="203" y="334"/>
                  </a:lnTo>
                  <a:lnTo>
                    <a:pt x="164" y="339"/>
                  </a:lnTo>
                  <a:lnTo>
                    <a:pt x="122" y="343"/>
                  </a:lnTo>
                  <a:lnTo>
                    <a:pt x="82" y="349"/>
                  </a:lnTo>
                  <a:lnTo>
                    <a:pt x="40" y="354"/>
                  </a:lnTo>
                  <a:lnTo>
                    <a:pt x="0" y="361"/>
                  </a:lnTo>
                  <a:lnTo>
                    <a:pt x="8" y="318"/>
                  </a:lnTo>
                  <a:lnTo>
                    <a:pt x="26" y="263"/>
                  </a:lnTo>
                  <a:lnTo>
                    <a:pt x="45" y="203"/>
                  </a:lnTo>
                  <a:lnTo>
                    <a:pt x="69" y="143"/>
                  </a:lnTo>
                  <a:lnTo>
                    <a:pt x="93" y="86"/>
                  </a:lnTo>
                  <a:lnTo>
                    <a:pt x="115" y="40"/>
                  </a:lnTo>
                  <a:lnTo>
                    <a:pt x="131" y="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1366560" y="5195880"/>
              <a:ext cx="934920" cy="638280"/>
            </a:xfrm>
            <a:custGeom>
              <a:avLst/>
              <a:gdLst/>
              <a:ahLst/>
              <a:rect l="l" t="t" r="r" b="b"/>
              <a:pathLst>
                <a:path w="1768" h="1207">
                  <a:moveTo>
                    <a:pt x="0" y="121"/>
                  </a:moveTo>
                  <a:lnTo>
                    <a:pt x="24" y="169"/>
                  </a:lnTo>
                  <a:lnTo>
                    <a:pt x="47" y="216"/>
                  </a:lnTo>
                  <a:lnTo>
                    <a:pt x="68" y="265"/>
                  </a:lnTo>
                  <a:lnTo>
                    <a:pt x="92" y="314"/>
                  </a:lnTo>
                  <a:lnTo>
                    <a:pt x="113" y="364"/>
                  </a:lnTo>
                  <a:lnTo>
                    <a:pt x="133" y="413"/>
                  </a:lnTo>
                  <a:lnTo>
                    <a:pt x="156" y="461"/>
                  </a:lnTo>
                  <a:lnTo>
                    <a:pt x="180" y="511"/>
                  </a:lnTo>
                  <a:lnTo>
                    <a:pt x="200" y="470"/>
                  </a:lnTo>
                  <a:lnTo>
                    <a:pt x="217" y="422"/>
                  </a:lnTo>
                  <a:lnTo>
                    <a:pt x="231" y="366"/>
                  </a:lnTo>
                  <a:lnTo>
                    <a:pt x="243" y="307"/>
                  </a:lnTo>
                  <a:lnTo>
                    <a:pt x="254" y="246"/>
                  </a:lnTo>
                  <a:lnTo>
                    <a:pt x="267" y="187"/>
                  </a:lnTo>
                  <a:lnTo>
                    <a:pt x="280" y="132"/>
                  </a:lnTo>
                  <a:lnTo>
                    <a:pt x="297" y="86"/>
                  </a:lnTo>
                  <a:lnTo>
                    <a:pt x="326" y="135"/>
                  </a:lnTo>
                  <a:lnTo>
                    <a:pt x="353" y="186"/>
                  </a:lnTo>
                  <a:lnTo>
                    <a:pt x="380" y="237"/>
                  </a:lnTo>
                  <a:lnTo>
                    <a:pt x="407" y="287"/>
                  </a:lnTo>
                  <a:lnTo>
                    <a:pt x="433" y="336"/>
                  </a:lnTo>
                  <a:lnTo>
                    <a:pt x="461" y="386"/>
                  </a:lnTo>
                  <a:lnTo>
                    <a:pt x="489" y="436"/>
                  </a:lnTo>
                  <a:lnTo>
                    <a:pt x="520" y="485"/>
                  </a:lnTo>
                  <a:lnTo>
                    <a:pt x="544" y="426"/>
                  </a:lnTo>
                  <a:lnTo>
                    <a:pt x="570" y="367"/>
                  </a:lnTo>
                  <a:lnTo>
                    <a:pt x="594" y="310"/>
                  </a:lnTo>
                  <a:lnTo>
                    <a:pt x="618" y="253"/>
                  </a:lnTo>
                  <a:lnTo>
                    <a:pt x="642" y="195"/>
                  </a:lnTo>
                  <a:lnTo>
                    <a:pt x="665" y="137"/>
                  </a:lnTo>
                  <a:lnTo>
                    <a:pt x="688" y="77"/>
                  </a:lnTo>
                  <a:lnTo>
                    <a:pt x="714" y="18"/>
                  </a:lnTo>
                  <a:lnTo>
                    <a:pt x="731" y="71"/>
                  </a:lnTo>
                  <a:lnTo>
                    <a:pt x="753" y="127"/>
                  </a:lnTo>
                  <a:lnTo>
                    <a:pt x="775" y="186"/>
                  </a:lnTo>
                  <a:lnTo>
                    <a:pt x="801" y="246"/>
                  </a:lnTo>
                  <a:lnTo>
                    <a:pt x="826" y="306"/>
                  </a:lnTo>
                  <a:lnTo>
                    <a:pt x="852" y="367"/>
                  </a:lnTo>
                  <a:lnTo>
                    <a:pt x="881" y="426"/>
                  </a:lnTo>
                  <a:lnTo>
                    <a:pt x="908" y="485"/>
                  </a:lnTo>
                  <a:lnTo>
                    <a:pt x="942" y="432"/>
                  </a:lnTo>
                  <a:lnTo>
                    <a:pt x="971" y="379"/>
                  </a:lnTo>
                  <a:lnTo>
                    <a:pt x="998" y="325"/>
                  </a:lnTo>
                  <a:lnTo>
                    <a:pt x="1027" y="271"/>
                  </a:lnTo>
                  <a:lnTo>
                    <a:pt x="1051" y="215"/>
                  </a:lnTo>
                  <a:lnTo>
                    <a:pt x="1079" y="161"/>
                  </a:lnTo>
                  <a:lnTo>
                    <a:pt x="1104" y="106"/>
                  </a:lnTo>
                  <a:lnTo>
                    <a:pt x="1134" y="51"/>
                  </a:lnTo>
                  <a:lnTo>
                    <a:pt x="1155" y="101"/>
                  </a:lnTo>
                  <a:lnTo>
                    <a:pt x="1177" y="153"/>
                  </a:lnTo>
                  <a:lnTo>
                    <a:pt x="1200" y="208"/>
                  </a:lnTo>
                  <a:lnTo>
                    <a:pt x="1222" y="263"/>
                  </a:lnTo>
                  <a:lnTo>
                    <a:pt x="1244" y="317"/>
                  </a:lnTo>
                  <a:lnTo>
                    <a:pt x="1269" y="371"/>
                  </a:lnTo>
                  <a:lnTo>
                    <a:pt x="1296" y="424"/>
                  </a:lnTo>
                  <a:lnTo>
                    <a:pt x="1328" y="476"/>
                  </a:lnTo>
                  <a:lnTo>
                    <a:pt x="1348" y="446"/>
                  </a:lnTo>
                  <a:lnTo>
                    <a:pt x="1366" y="416"/>
                  </a:lnTo>
                  <a:lnTo>
                    <a:pt x="1383" y="383"/>
                  </a:lnTo>
                  <a:lnTo>
                    <a:pt x="1399" y="350"/>
                  </a:lnTo>
                  <a:lnTo>
                    <a:pt x="1411" y="314"/>
                  </a:lnTo>
                  <a:lnTo>
                    <a:pt x="1424" y="280"/>
                  </a:lnTo>
                  <a:lnTo>
                    <a:pt x="1437" y="245"/>
                  </a:lnTo>
                  <a:lnTo>
                    <a:pt x="1451" y="213"/>
                  </a:lnTo>
                  <a:lnTo>
                    <a:pt x="1555" y="0"/>
                  </a:lnTo>
                  <a:lnTo>
                    <a:pt x="1557" y="64"/>
                  </a:lnTo>
                  <a:lnTo>
                    <a:pt x="1562" y="127"/>
                  </a:lnTo>
                  <a:lnTo>
                    <a:pt x="1564" y="191"/>
                  </a:lnTo>
                  <a:lnTo>
                    <a:pt x="1568" y="256"/>
                  </a:lnTo>
                  <a:lnTo>
                    <a:pt x="1571" y="318"/>
                  </a:lnTo>
                  <a:lnTo>
                    <a:pt x="1575" y="383"/>
                  </a:lnTo>
                  <a:lnTo>
                    <a:pt x="1578" y="446"/>
                  </a:lnTo>
                  <a:lnTo>
                    <a:pt x="1582" y="511"/>
                  </a:lnTo>
                  <a:lnTo>
                    <a:pt x="1598" y="513"/>
                  </a:lnTo>
                  <a:lnTo>
                    <a:pt x="1619" y="503"/>
                  </a:lnTo>
                  <a:lnTo>
                    <a:pt x="1644" y="479"/>
                  </a:lnTo>
                  <a:lnTo>
                    <a:pt x="1672" y="447"/>
                  </a:lnTo>
                  <a:lnTo>
                    <a:pt x="1700" y="412"/>
                  </a:lnTo>
                  <a:lnTo>
                    <a:pt x="1725" y="376"/>
                  </a:lnTo>
                  <a:lnTo>
                    <a:pt x="1749" y="346"/>
                  </a:lnTo>
                  <a:lnTo>
                    <a:pt x="1768" y="325"/>
                  </a:lnTo>
                  <a:lnTo>
                    <a:pt x="1700" y="877"/>
                  </a:lnTo>
                  <a:lnTo>
                    <a:pt x="1582" y="646"/>
                  </a:lnTo>
                  <a:lnTo>
                    <a:pt x="1553" y="616"/>
                  </a:lnTo>
                  <a:lnTo>
                    <a:pt x="1531" y="633"/>
                  </a:lnTo>
                  <a:lnTo>
                    <a:pt x="1510" y="686"/>
                  </a:lnTo>
                  <a:lnTo>
                    <a:pt x="1491" y="764"/>
                  </a:lnTo>
                  <a:lnTo>
                    <a:pt x="1474" y="855"/>
                  </a:lnTo>
                  <a:lnTo>
                    <a:pt x="1459" y="950"/>
                  </a:lnTo>
                  <a:lnTo>
                    <a:pt x="1443" y="1038"/>
                  </a:lnTo>
                  <a:lnTo>
                    <a:pt x="1427" y="1110"/>
                  </a:lnTo>
                  <a:lnTo>
                    <a:pt x="1413" y="1121"/>
                  </a:lnTo>
                  <a:lnTo>
                    <a:pt x="1395" y="1086"/>
                  </a:lnTo>
                  <a:lnTo>
                    <a:pt x="1370" y="1017"/>
                  </a:lnTo>
                  <a:lnTo>
                    <a:pt x="1342" y="930"/>
                  </a:lnTo>
                  <a:lnTo>
                    <a:pt x="1309" y="832"/>
                  </a:lnTo>
                  <a:lnTo>
                    <a:pt x="1273" y="741"/>
                  </a:lnTo>
                  <a:lnTo>
                    <a:pt x="1232" y="667"/>
                  </a:lnTo>
                  <a:lnTo>
                    <a:pt x="1190" y="622"/>
                  </a:lnTo>
                  <a:lnTo>
                    <a:pt x="1158" y="636"/>
                  </a:lnTo>
                  <a:lnTo>
                    <a:pt x="1123" y="698"/>
                  </a:lnTo>
                  <a:lnTo>
                    <a:pt x="1087" y="794"/>
                  </a:lnTo>
                  <a:lnTo>
                    <a:pt x="1051" y="908"/>
                  </a:lnTo>
                  <a:lnTo>
                    <a:pt x="1016" y="1017"/>
                  </a:lnTo>
                  <a:lnTo>
                    <a:pt x="985" y="1110"/>
                  </a:lnTo>
                  <a:lnTo>
                    <a:pt x="961" y="1168"/>
                  </a:lnTo>
                  <a:lnTo>
                    <a:pt x="944" y="1175"/>
                  </a:lnTo>
                  <a:lnTo>
                    <a:pt x="912" y="1109"/>
                  </a:lnTo>
                  <a:lnTo>
                    <a:pt x="884" y="1044"/>
                  </a:lnTo>
                  <a:lnTo>
                    <a:pt x="856" y="977"/>
                  </a:lnTo>
                  <a:lnTo>
                    <a:pt x="831" y="911"/>
                  </a:lnTo>
                  <a:lnTo>
                    <a:pt x="803" y="844"/>
                  </a:lnTo>
                  <a:lnTo>
                    <a:pt x="778" y="777"/>
                  </a:lnTo>
                  <a:lnTo>
                    <a:pt x="750" y="710"/>
                  </a:lnTo>
                  <a:lnTo>
                    <a:pt x="723" y="646"/>
                  </a:lnTo>
                  <a:lnTo>
                    <a:pt x="706" y="651"/>
                  </a:lnTo>
                  <a:lnTo>
                    <a:pt x="677" y="703"/>
                  </a:lnTo>
                  <a:lnTo>
                    <a:pt x="644" y="787"/>
                  </a:lnTo>
                  <a:lnTo>
                    <a:pt x="608" y="889"/>
                  </a:lnTo>
                  <a:lnTo>
                    <a:pt x="570" y="993"/>
                  </a:lnTo>
                  <a:lnTo>
                    <a:pt x="539" y="1089"/>
                  </a:lnTo>
                  <a:lnTo>
                    <a:pt x="515" y="1158"/>
                  </a:lnTo>
                  <a:lnTo>
                    <a:pt x="503" y="1189"/>
                  </a:lnTo>
                  <a:lnTo>
                    <a:pt x="487" y="1185"/>
                  </a:lnTo>
                  <a:lnTo>
                    <a:pt x="464" y="1138"/>
                  </a:lnTo>
                  <a:lnTo>
                    <a:pt x="434" y="1060"/>
                  </a:lnTo>
                  <a:lnTo>
                    <a:pt x="405" y="968"/>
                  </a:lnTo>
                  <a:lnTo>
                    <a:pt x="373" y="869"/>
                  </a:lnTo>
                  <a:lnTo>
                    <a:pt x="346" y="783"/>
                  </a:lnTo>
                  <a:lnTo>
                    <a:pt x="323" y="721"/>
                  </a:lnTo>
                  <a:lnTo>
                    <a:pt x="309" y="697"/>
                  </a:lnTo>
                  <a:lnTo>
                    <a:pt x="273" y="716"/>
                  </a:lnTo>
                  <a:lnTo>
                    <a:pt x="238" y="773"/>
                  </a:lnTo>
                  <a:lnTo>
                    <a:pt x="206" y="854"/>
                  </a:lnTo>
                  <a:lnTo>
                    <a:pt x="176" y="948"/>
                  </a:lnTo>
                  <a:lnTo>
                    <a:pt x="146" y="1042"/>
                  </a:lnTo>
                  <a:lnTo>
                    <a:pt x="120" y="1125"/>
                  </a:lnTo>
                  <a:lnTo>
                    <a:pt x="93" y="1183"/>
                  </a:lnTo>
                  <a:lnTo>
                    <a:pt x="71" y="1207"/>
                  </a:lnTo>
                  <a:lnTo>
                    <a:pt x="67" y="1071"/>
                  </a:lnTo>
                  <a:lnTo>
                    <a:pt x="59" y="935"/>
                  </a:lnTo>
                  <a:lnTo>
                    <a:pt x="45" y="800"/>
                  </a:lnTo>
                  <a:lnTo>
                    <a:pt x="33" y="664"/>
                  </a:lnTo>
                  <a:lnTo>
                    <a:pt x="20" y="529"/>
                  </a:lnTo>
                  <a:lnTo>
                    <a:pt x="8" y="392"/>
                  </a:lnTo>
                  <a:lnTo>
                    <a:pt x="1" y="2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1618920" y="5640480"/>
              <a:ext cx="111240" cy="188640"/>
            </a:xfrm>
            <a:custGeom>
              <a:avLst/>
              <a:gdLst/>
              <a:ahLst/>
              <a:rect l="l" t="t" r="r" b="b"/>
              <a:pathLst>
                <a:path w="212" h="356">
                  <a:moveTo>
                    <a:pt x="77" y="0"/>
                  </a:moveTo>
                  <a:lnTo>
                    <a:pt x="212" y="333"/>
                  </a:lnTo>
                  <a:lnTo>
                    <a:pt x="182" y="335"/>
                  </a:lnTo>
                  <a:lnTo>
                    <a:pt x="156" y="338"/>
                  </a:lnTo>
                  <a:lnTo>
                    <a:pt x="130" y="340"/>
                  </a:lnTo>
                  <a:lnTo>
                    <a:pt x="105" y="344"/>
                  </a:lnTo>
                  <a:lnTo>
                    <a:pt x="80" y="346"/>
                  </a:lnTo>
                  <a:lnTo>
                    <a:pt x="55" y="349"/>
                  </a:lnTo>
                  <a:lnTo>
                    <a:pt x="26" y="352"/>
                  </a:lnTo>
                  <a:lnTo>
                    <a:pt x="0" y="35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408320" y="5632560"/>
              <a:ext cx="102960" cy="180720"/>
            </a:xfrm>
            <a:custGeom>
              <a:avLst/>
              <a:gdLst/>
              <a:ahLst/>
              <a:rect l="l" t="t" r="r" b="b"/>
              <a:pathLst>
                <a:path w="195" h="341">
                  <a:moveTo>
                    <a:pt x="68" y="0"/>
                  </a:moveTo>
                  <a:lnTo>
                    <a:pt x="82" y="39"/>
                  </a:lnTo>
                  <a:lnTo>
                    <a:pt x="100" y="79"/>
                  </a:lnTo>
                  <a:lnTo>
                    <a:pt x="117" y="116"/>
                  </a:lnTo>
                  <a:lnTo>
                    <a:pt x="138" y="157"/>
                  </a:lnTo>
                  <a:lnTo>
                    <a:pt x="154" y="198"/>
                  </a:lnTo>
                  <a:lnTo>
                    <a:pt x="170" y="238"/>
                  </a:lnTo>
                  <a:lnTo>
                    <a:pt x="183" y="278"/>
                  </a:lnTo>
                  <a:lnTo>
                    <a:pt x="195" y="323"/>
                  </a:lnTo>
                  <a:lnTo>
                    <a:pt x="190" y="331"/>
                  </a:lnTo>
                  <a:lnTo>
                    <a:pt x="175" y="337"/>
                  </a:lnTo>
                  <a:lnTo>
                    <a:pt x="152" y="339"/>
                  </a:lnTo>
                  <a:lnTo>
                    <a:pt x="126" y="341"/>
                  </a:lnTo>
                  <a:lnTo>
                    <a:pt x="92" y="339"/>
                  </a:lnTo>
                  <a:lnTo>
                    <a:pt x="59" y="337"/>
                  </a:lnTo>
                  <a:lnTo>
                    <a:pt x="27" y="333"/>
                  </a:lnTo>
                  <a:lnTo>
                    <a:pt x="0" y="33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516320" y="5151240"/>
              <a:ext cx="133200" cy="255600"/>
            </a:xfrm>
            <a:custGeom>
              <a:avLst/>
              <a:gdLst/>
              <a:ahLst/>
              <a:rect l="l" t="t" r="r" b="b"/>
              <a:pathLst>
                <a:path w="253" h="484">
                  <a:moveTo>
                    <a:pt x="0" y="16"/>
                  </a:moveTo>
                  <a:lnTo>
                    <a:pt x="25" y="8"/>
                  </a:lnTo>
                  <a:lnTo>
                    <a:pt x="54" y="3"/>
                  </a:lnTo>
                  <a:lnTo>
                    <a:pt x="87" y="0"/>
                  </a:lnTo>
                  <a:lnTo>
                    <a:pt x="120" y="0"/>
                  </a:lnTo>
                  <a:lnTo>
                    <a:pt x="154" y="0"/>
                  </a:lnTo>
                  <a:lnTo>
                    <a:pt x="187" y="1"/>
                  </a:lnTo>
                  <a:lnTo>
                    <a:pt x="221" y="3"/>
                  </a:lnTo>
                  <a:lnTo>
                    <a:pt x="253" y="7"/>
                  </a:lnTo>
                  <a:lnTo>
                    <a:pt x="95" y="48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317600" y="5154480"/>
              <a:ext cx="122400" cy="247680"/>
            </a:xfrm>
            <a:custGeom>
              <a:avLst/>
              <a:gdLst/>
              <a:ahLst/>
              <a:rect l="l" t="t" r="r" b="b"/>
              <a:pathLst>
                <a:path w="231" h="466">
                  <a:moveTo>
                    <a:pt x="231" y="18"/>
                  </a:moveTo>
                  <a:lnTo>
                    <a:pt x="204" y="74"/>
                  </a:lnTo>
                  <a:lnTo>
                    <a:pt x="175" y="130"/>
                  </a:lnTo>
                  <a:lnTo>
                    <a:pt x="146" y="187"/>
                  </a:lnTo>
                  <a:lnTo>
                    <a:pt x="117" y="244"/>
                  </a:lnTo>
                  <a:lnTo>
                    <a:pt x="88" y="299"/>
                  </a:lnTo>
                  <a:lnTo>
                    <a:pt x="59" y="356"/>
                  </a:lnTo>
                  <a:lnTo>
                    <a:pt x="29" y="410"/>
                  </a:lnTo>
                  <a:lnTo>
                    <a:pt x="2" y="466"/>
                  </a:lnTo>
                  <a:lnTo>
                    <a:pt x="0" y="407"/>
                  </a:lnTo>
                  <a:lnTo>
                    <a:pt x="1" y="349"/>
                  </a:lnTo>
                  <a:lnTo>
                    <a:pt x="2" y="290"/>
                  </a:lnTo>
                  <a:lnTo>
                    <a:pt x="6" y="233"/>
                  </a:lnTo>
                  <a:lnTo>
                    <a:pt x="8" y="175"/>
                  </a:lnTo>
                  <a:lnTo>
                    <a:pt x="13" y="116"/>
                  </a:lnTo>
                  <a:lnTo>
                    <a:pt x="19" y="57"/>
                  </a:lnTo>
                  <a:lnTo>
                    <a:pt x="28" y="0"/>
                  </a:lnTo>
                  <a:lnTo>
                    <a:pt x="231" y="18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739520" y="5153040"/>
              <a:ext cx="127080" cy="231840"/>
            </a:xfrm>
            <a:custGeom>
              <a:avLst/>
              <a:gdLst/>
              <a:ahLst/>
              <a:rect l="l" t="t" r="r" b="b"/>
              <a:pathLst>
                <a:path w="239" h="438">
                  <a:moveTo>
                    <a:pt x="239" y="4"/>
                  </a:moveTo>
                  <a:lnTo>
                    <a:pt x="79" y="438"/>
                  </a:lnTo>
                  <a:lnTo>
                    <a:pt x="0" y="22"/>
                  </a:lnTo>
                  <a:lnTo>
                    <a:pt x="18" y="18"/>
                  </a:lnTo>
                  <a:lnTo>
                    <a:pt x="49" y="15"/>
                  </a:lnTo>
                  <a:lnTo>
                    <a:pt x="89" y="11"/>
                  </a:lnTo>
                  <a:lnTo>
                    <a:pt x="132" y="7"/>
                  </a:lnTo>
                  <a:lnTo>
                    <a:pt x="172" y="3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39" y="4"/>
                  </a:lnTo>
                  <a:close/>
                </a:path>
              </a:pathLst>
            </a:custGeom>
            <a:solidFill>
              <a:srgbClr val="b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946160" y="5173560"/>
              <a:ext cx="144360" cy="174600"/>
            </a:xfrm>
            <a:custGeom>
              <a:avLst/>
              <a:gdLst/>
              <a:ahLst/>
              <a:rect l="l" t="t" r="r" b="b"/>
              <a:pathLst>
                <a:path w="273" h="332">
                  <a:moveTo>
                    <a:pt x="273" y="0"/>
                  </a:moveTo>
                  <a:lnTo>
                    <a:pt x="253" y="42"/>
                  </a:lnTo>
                  <a:lnTo>
                    <a:pt x="234" y="84"/>
                  </a:lnTo>
                  <a:lnTo>
                    <a:pt x="211" y="125"/>
                  </a:lnTo>
                  <a:lnTo>
                    <a:pt x="191" y="168"/>
                  </a:lnTo>
                  <a:lnTo>
                    <a:pt x="165" y="209"/>
                  </a:lnTo>
                  <a:lnTo>
                    <a:pt x="143" y="250"/>
                  </a:lnTo>
                  <a:lnTo>
                    <a:pt x="120" y="291"/>
                  </a:lnTo>
                  <a:lnTo>
                    <a:pt x="96" y="332"/>
                  </a:lnTo>
                  <a:lnTo>
                    <a:pt x="0" y="34"/>
                  </a:lnTo>
                  <a:lnTo>
                    <a:pt x="8" y="28"/>
                  </a:lnTo>
                  <a:lnTo>
                    <a:pt x="37" y="22"/>
                  </a:lnTo>
                  <a:lnTo>
                    <a:pt x="79" y="16"/>
                  </a:lnTo>
                  <a:lnTo>
                    <a:pt x="129" y="11"/>
                  </a:lnTo>
                  <a:lnTo>
                    <a:pt x="179" y="5"/>
                  </a:lnTo>
                  <a:lnTo>
                    <a:pt x="223" y="3"/>
                  </a:lnTo>
                  <a:lnTo>
                    <a:pt x="257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2176560" y="5197320"/>
              <a:ext cx="115920" cy="130320"/>
            </a:xfrm>
            <a:custGeom>
              <a:avLst/>
              <a:gdLst/>
              <a:ahLst/>
              <a:rect l="l" t="t" r="r" b="b"/>
              <a:pathLst>
                <a:path w="220" h="244">
                  <a:moveTo>
                    <a:pt x="220" y="4"/>
                  </a:moveTo>
                  <a:lnTo>
                    <a:pt x="178" y="244"/>
                  </a:lnTo>
                  <a:lnTo>
                    <a:pt x="152" y="216"/>
                  </a:lnTo>
                  <a:lnTo>
                    <a:pt x="129" y="188"/>
                  </a:lnTo>
                  <a:lnTo>
                    <a:pt x="105" y="161"/>
                  </a:lnTo>
                  <a:lnTo>
                    <a:pt x="84" y="133"/>
                  </a:lnTo>
                  <a:lnTo>
                    <a:pt x="62" y="105"/>
                  </a:lnTo>
                  <a:lnTo>
                    <a:pt x="41" y="77"/>
                  </a:lnTo>
                  <a:lnTo>
                    <a:pt x="20" y="49"/>
                  </a:lnTo>
                  <a:lnTo>
                    <a:pt x="0" y="22"/>
                  </a:lnTo>
                  <a:lnTo>
                    <a:pt x="15" y="18"/>
                  </a:lnTo>
                  <a:lnTo>
                    <a:pt x="44" y="15"/>
                  </a:lnTo>
                  <a:lnTo>
                    <a:pt x="81" y="11"/>
                  </a:lnTo>
                  <a:lnTo>
                    <a:pt x="121" y="7"/>
                  </a:lnTo>
                  <a:lnTo>
                    <a:pt x="157" y="3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20" y="4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436400" y="5111640"/>
              <a:ext cx="668520" cy="49320"/>
            </a:xfrm>
            <a:custGeom>
              <a:avLst/>
              <a:gdLst/>
              <a:ahLst/>
              <a:rect l="l" t="t" r="r" b="b"/>
              <a:pathLst>
                <a:path w="1263" h="93">
                  <a:moveTo>
                    <a:pt x="1208" y="36"/>
                  </a:moveTo>
                  <a:lnTo>
                    <a:pt x="1263" y="40"/>
                  </a:lnTo>
                  <a:lnTo>
                    <a:pt x="1222" y="41"/>
                  </a:lnTo>
                  <a:lnTo>
                    <a:pt x="1109" y="42"/>
                  </a:lnTo>
                  <a:lnTo>
                    <a:pt x="946" y="44"/>
                  </a:lnTo>
                  <a:lnTo>
                    <a:pt x="751" y="46"/>
                  </a:lnTo>
                  <a:lnTo>
                    <a:pt x="555" y="54"/>
                  </a:lnTo>
                  <a:lnTo>
                    <a:pt x="373" y="69"/>
                  </a:lnTo>
                  <a:lnTo>
                    <a:pt x="231" y="90"/>
                  </a:lnTo>
                  <a:lnTo>
                    <a:pt x="201" y="93"/>
                  </a:lnTo>
                  <a:lnTo>
                    <a:pt x="171" y="92"/>
                  </a:lnTo>
                  <a:lnTo>
                    <a:pt x="142" y="87"/>
                  </a:lnTo>
                  <a:lnTo>
                    <a:pt x="114" y="82"/>
                  </a:lnTo>
                  <a:lnTo>
                    <a:pt x="85" y="75"/>
                  </a:lnTo>
                  <a:lnTo>
                    <a:pt x="56" y="69"/>
                  </a:lnTo>
                  <a:lnTo>
                    <a:pt x="29" y="64"/>
                  </a:lnTo>
                  <a:lnTo>
                    <a:pt x="0" y="66"/>
                  </a:lnTo>
                  <a:lnTo>
                    <a:pt x="115" y="30"/>
                  </a:lnTo>
                  <a:lnTo>
                    <a:pt x="260" y="11"/>
                  </a:lnTo>
                  <a:lnTo>
                    <a:pt x="419" y="0"/>
                  </a:lnTo>
                  <a:lnTo>
                    <a:pt x="592" y="0"/>
                  </a:lnTo>
                  <a:lnTo>
                    <a:pt x="765" y="6"/>
                  </a:lnTo>
                  <a:lnTo>
                    <a:pt x="930" y="16"/>
                  </a:lnTo>
                  <a:lnTo>
                    <a:pt x="1081" y="26"/>
                  </a:lnTo>
                  <a:lnTo>
                    <a:pt x="1208" y="36"/>
                  </a:lnTo>
                  <a:close/>
                </a:path>
              </a:pathLst>
            </a:custGeom>
            <a:solidFill>
              <a:srgbClr val="ff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995480" y="5049720"/>
              <a:ext cx="54000" cy="58680"/>
            </a:xfrm>
            <a:custGeom>
              <a:avLst/>
              <a:gdLst/>
              <a:ahLst/>
              <a:rect l="l" t="t" r="r" b="b"/>
              <a:pathLst>
                <a:path w="104" h="112">
                  <a:moveTo>
                    <a:pt x="1" y="112"/>
                  </a:moveTo>
                  <a:lnTo>
                    <a:pt x="1" y="100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" y="41"/>
                  </a:lnTo>
                  <a:lnTo>
                    <a:pt x="8" y="30"/>
                  </a:lnTo>
                  <a:lnTo>
                    <a:pt x="18" y="21"/>
                  </a:lnTo>
                  <a:lnTo>
                    <a:pt x="39" y="6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7" y="9"/>
                  </a:lnTo>
                  <a:lnTo>
                    <a:pt x="98" y="25"/>
                  </a:lnTo>
                  <a:lnTo>
                    <a:pt x="104" y="48"/>
                  </a:lnTo>
                  <a:lnTo>
                    <a:pt x="104" y="76"/>
                  </a:lnTo>
                  <a:lnTo>
                    <a:pt x="102" y="11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844640" y="5011560"/>
              <a:ext cx="51120" cy="88920"/>
            </a:xfrm>
            <a:custGeom>
              <a:avLst/>
              <a:gdLst/>
              <a:ahLst/>
              <a:rect l="l" t="t" r="r" b="b"/>
              <a:pathLst>
                <a:path w="95" h="170">
                  <a:moveTo>
                    <a:pt x="4" y="127"/>
                  </a:moveTo>
                  <a:lnTo>
                    <a:pt x="3" y="134"/>
                  </a:lnTo>
                  <a:lnTo>
                    <a:pt x="2" y="126"/>
                  </a:lnTo>
                  <a:lnTo>
                    <a:pt x="0" y="108"/>
                  </a:lnTo>
                  <a:lnTo>
                    <a:pt x="2" y="85"/>
                  </a:lnTo>
                  <a:lnTo>
                    <a:pt x="4" y="56"/>
                  </a:lnTo>
                  <a:lnTo>
                    <a:pt x="11" y="31"/>
                  </a:lnTo>
                  <a:lnTo>
                    <a:pt x="21" y="12"/>
                  </a:lnTo>
                  <a:lnTo>
                    <a:pt x="39" y="0"/>
                  </a:lnTo>
                  <a:lnTo>
                    <a:pt x="68" y="0"/>
                  </a:lnTo>
                  <a:lnTo>
                    <a:pt x="85" y="15"/>
                  </a:lnTo>
                  <a:lnTo>
                    <a:pt x="94" y="40"/>
                  </a:lnTo>
                  <a:lnTo>
                    <a:pt x="95" y="74"/>
                  </a:lnTo>
                  <a:lnTo>
                    <a:pt x="90" y="106"/>
                  </a:lnTo>
                  <a:lnTo>
                    <a:pt x="82" y="138"/>
                  </a:lnTo>
                  <a:lnTo>
                    <a:pt x="71" y="158"/>
                  </a:lnTo>
                  <a:lnTo>
                    <a:pt x="60" y="169"/>
                  </a:lnTo>
                  <a:lnTo>
                    <a:pt x="40" y="170"/>
                  </a:lnTo>
                  <a:lnTo>
                    <a:pt x="28" y="169"/>
                  </a:lnTo>
                  <a:lnTo>
                    <a:pt x="20" y="165"/>
                  </a:lnTo>
                  <a:lnTo>
                    <a:pt x="15" y="159"/>
                  </a:lnTo>
                  <a:lnTo>
                    <a:pt x="11" y="151"/>
                  </a:lnTo>
                  <a:lnTo>
                    <a:pt x="9" y="142"/>
                  </a:lnTo>
                  <a:lnTo>
                    <a:pt x="6" y="130"/>
                  </a:lnTo>
                  <a:lnTo>
                    <a:pt x="4" y="121"/>
                  </a:lnTo>
                  <a:lnTo>
                    <a:pt x="4" y="127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909440" y="5030640"/>
              <a:ext cx="55800" cy="74880"/>
            </a:xfrm>
            <a:custGeom>
              <a:avLst/>
              <a:gdLst/>
              <a:ahLst/>
              <a:rect l="l" t="t" r="r" b="b"/>
              <a:pathLst>
                <a:path w="105" h="143">
                  <a:moveTo>
                    <a:pt x="2" y="143"/>
                  </a:moveTo>
                  <a:lnTo>
                    <a:pt x="0" y="123"/>
                  </a:lnTo>
                  <a:lnTo>
                    <a:pt x="0" y="103"/>
                  </a:lnTo>
                  <a:lnTo>
                    <a:pt x="0" y="81"/>
                  </a:lnTo>
                  <a:lnTo>
                    <a:pt x="4" y="62"/>
                  </a:lnTo>
                  <a:lnTo>
                    <a:pt x="6" y="43"/>
                  </a:lnTo>
                  <a:lnTo>
                    <a:pt x="14" y="26"/>
                  </a:lnTo>
                  <a:lnTo>
                    <a:pt x="23" y="10"/>
                  </a:lnTo>
                  <a:lnTo>
                    <a:pt x="36" y="0"/>
                  </a:lnTo>
                  <a:lnTo>
                    <a:pt x="54" y="4"/>
                  </a:lnTo>
                  <a:lnTo>
                    <a:pt x="71" y="18"/>
                  </a:lnTo>
                  <a:lnTo>
                    <a:pt x="82" y="33"/>
                  </a:lnTo>
                  <a:lnTo>
                    <a:pt x="89" y="55"/>
                  </a:lnTo>
                  <a:lnTo>
                    <a:pt x="93" y="75"/>
                  </a:lnTo>
                  <a:lnTo>
                    <a:pt x="96" y="99"/>
                  </a:lnTo>
                  <a:lnTo>
                    <a:pt x="100" y="122"/>
                  </a:lnTo>
                  <a:lnTo>
                    <a:pt x="105" y="143"/>
                  </a:lnTo>
                  <a:lnTo>
                    <a:pt x="2" y="14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471680" y="5032440"/>
              <a:ext cx="38160" cy="6984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4" y="131"/>
                  </a:moveTo>
                  <a:lnTo>
                    <a:pt x="1" y="113"/>
                  </a:lnTo>
                  <a:lnTo>
                    <a:pt x="1" y="96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6" y="41"/>
                  </a:lnTo>
                  <a:lnTo>
                    <a:pt x="13" y="26"/>
                  </a:lnTo>
                  <a:lnTo>
                    <a:pt x="23" y="11"/>
                  </a:lnTo>
                  <a:lnTo>
                    <a:pt x="39" y="2"/>
                  </a:lnTo>
                  <a:lnTo>
                    <a:pt x="53" y="0"/>
                  </a:lnTo>
                  <a:lnTo>
                    <a:pt x="65" y="15"/>
                  </a:lnTo>
                  <a:lnTo>
                    <a:pt x="71" y="39"/>
                  </a:lnTo>
                  <a:lnTo>
                    <a:pt x="72" y="69"/>
                  </a:lnTo>
                  <a:lnTo>
                    <a:pt x="65" y="98"/>
                  </a:lnTo>
                  <a:lnTo>
                    <a:pt x="52" y="121"/>
                  </a:lnTo>
                  <a:lnTo>
                    <a:pt x="31" y="133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631880" y="5024520"/>
              <a:ext cx="50760" cy="7776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2" y="129"/>
                  </a:moveTo>
                  <a:lnTo>
                    <a:pt x="0" y="111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5" y="62"/>
                  </a:lnTo>
                  <a:lnTo>
                    <a:pt x="7" y="44"/>
                  </a:lnTo>
                  <a:lnTo>
                    <a:pt x="12" y="30"/>
                  </a:lnTo>
                  <a:lnTo>
                    <a:pt x="19" y="15"/>
                  </a:lnTo>
                  <a:lnTo>
                    <a:pt x="28" y="2"/>
                  </a:lnTo>
                  <a:lnTo>
                    <a:pt x="50" y="0"/>
                  </a:lnTo>
                  <a:lnTo>
                    <a:pt x="69" y="8"/>
                  </a:lnTo>
                  <a:lnTo>
                    <a:pt x="84" y="26"/>
                  </a:lnTo>
                  <a:lnTo>
                    <a:pt x="95" y="53"/>
                  </a:lnTo>
                  <a:lnTo>
                    <a:pt x="97" y="78"/>
                  </a:lnTo>
                  <a:lnTo>
                    <a:pt x="97" y="104"/>
                  </a:lnTo>
                  <a:lnTo>
                    <a:pt x="89" y="128"/>
                  </a:lnTo>
                  <a:lnTo>
                    <a:pt x="77" y="146"/>
                  </a:lnTo>
                  <a:lnTo>
                    <a:pt x="66" y="144"/>
                  </a:lnTo>
                  <a:lnTo>
                    <a:pt x="56" y="144"/>
                  </a:lnTo>
                  <a:lnTo>
                    <a:pt x="47" y="145"/>
                  </a:lnTo>
                  <a:lnTo>
                    <a:pt x="37" y="146"/>
                  </a:lnTo>
                  <a:lnTo>
                    <a:pt x="26" y="145"/>
                  </a:lnTo>
                  <a:lnTo>
                    <a:pt x="18" y="144"/>
                  </a:lnTo>
                  <a:lnTo>
                    <a:pt x="8" y="138"/>
                  </a:lnTo>
                  <a:lnTo>
                    <a:pt x="2" y="129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698840" y="5051520"/>
              <a:ext cx="48960" cy="4752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39" y="3"/>
                  </a:moveTo>
                  <a:lnTo>
                    <a:pt x="51" y="0"/>
                  </a:lnTo>
                  <a:lnTo>
                    <a:pt x="63" y="6"/>
                  </a:lnTo>
                  <a:lnTo>
                    <a:pt x="74" y="17"/>
                  </a:lnTo>
                  <a:lnTo>
                    <a:pt x="85" y="33"/>
                  </a:lnTo>
                  <a:lnTo>
                    <a:pt x="91" y="47"/>
                  </a:lnTo>
                  <a:lnTo>
                    <a:pt x="93" y="64"/>
                  </a:lnTo>
                  <a:lnTo>
                    <a:pt x="92" y="76"/>
                  </a:lnTo>
                  <a:lnTo>
                    <a:pt x="87" y="85"/>
                  </a:lnTo>
                  <a:lnTo>
                    <a:pt x="63" y="92"/>
                  </a:lnTo>
                  <a:lnTo>
                    <a:pt x="42" y="91"/>
                  </a:lnTo>
                  <a:lnTo>
                    <a:pt x="22" y="82"/>
                  </a:lnTo>
                  <a:lnTo>
                    <a:pt x="8" y="67"/>
                  </a:lnTo>
                  <a:lnTo>
                    <a:pt x="0" y="48"/>
                  </a:lnTo>
                  <a:lnTo>
                    <a:pt x="1" y="30"/>
                  </a:lnTo>
                  <a:lnTo>
                    <a:pt x="13" y="1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551240" y="4638600"/>
              <a:ext cx="342720" cy="463680"/>
            </a:xfrm>
            <a:custGeom>
              <a:avLst/>
              <a:gdLst/>
              <a:ahLst/>
              <a:rect l="l" t="t" r="r" b="b"/>
              <a:pathLst>
                <a:path w="646" h="876">
                  <a:moveTo>
                    <a:pt x="121" y="876"/>
                  </a:moveTo>
                  <a:lnTo>
                    <a:pt x="129" y="840"/>
                  </a:lnTo>
                  <a:lnTo>
                    <a:pt x="133" y="803"/>
                  </a:lnTo>
                  <a:lnTo>
                    <a:pt x="131" y="766"/>
                  </a:lnTo>
                  <a:lnTo>
                    <a:pt x="125" y="731"/>
                  </a:lnTo>
                  <a:lnTo>
                    <a:pt x="111" y="695"/>
                  </a:lnTo>
                  <a:lnTo>
                    <a:pt x="95" y="664"/>
                  </a:lnTo>
                  <a:lnTo>
                    <a:pt x="74" y="632"/>
                  </a:lnTo>
                  <a:lnTo>
                    <a:pt x="50" y="605"/>
                  </a:lnTo>
                  <a:lnTo>
                    <a:pt x="0" y="153"/>
                  </a:lnTo>
                  <a:lnTo>
                    <a:pt x="22" y="133"/>
                  </a:lnTo>
                  <a:lnTo>
                    <a:pt x="46" y="122"/>
                  </a:lnTo>
                  <a:lnTo>
                    <a:pt x="68" y="119"/>
                  </a:lnTo>
                  <a:lnTo>
                    <a:pt x="93" y="121"/>
                  </a:lnTo>
                  <a:lnTo>
                    <a:pt x="119" y="126"/>
                  </a:lnTo>
                  <a:lnTo>
                    <a:pt x="144" y="133"/>
                  </a:lnTo>
                  <a:lnTo>
                    <a:pt x="171" y="139"/>
                  </a:lnTo>
                  <a:lnTo>
                    <a:pt x="198" y="145"/>
                  </a:lnTo>
                  <a:lnTo>
                    <a:pt x="260" y="146"/>
                  </a:lnTo>
                  <a:lnTo>
                    <a:pt x="322" y="141"/>
                  </a:lnTo>
                  <a:lnTo>
                    <a:pt x="381" y="131"/>
                  </a:lnTo>
                  <a:lnTo>
                    <a:pt x="439" y="115"/>
                  </a:lnTo>
                  <a:lnTo>
                    <a:pt x="493" y="91"/>
                  </a:lnTo>
                  <a:lnTo>
                    <a:pt x="545" y="66"/>
                  </a:lnTo>
                  <a:lnTo>
                    <a:pt x="596" y="34"/>
                  </a:lnTo>
                  <a:lnTo>
                    <a:pt x="646" y="0"/>
                  </a:lnTo>
                  <a:lnTo>
                    <a:pt x="610" y="60"/>
                  </a:lnTo>
                  <a:lnTo>
                    <a:pt x="573" y="122"/>
                  </a:lnTo>
                  <a:lnTo>
                    <a:pt x="536" y="185"/>
                  </a:lnTo>
                  <a:lnTo>
                    <a:pt x="503" y="247"/>
                  </a:lnTo>
                  <a:lnTo>
                    <a:pt x="469" y="309"/>
                  </a:lnTo>
                  <a:lnTo>
                    <a:pt x="436" y="374"/>
                  </a:lnTo>
                  <a:lnTo>
                    <a:pt x="404" y="437"/>
                  </a:lnTo>
                  <a:lnTo>
                    <a:pt x="375" y="502"/>
                  </a:lnTo>
                  <a:lnTo>
                    <a:pt x="393" y="523"/>
                  </a:lnTo>
                  <a:lnTo>
                    <a:pt x="417" y="545"/>
                  </a:lnTo>
                  <a:lnTo>
                    <a:pt x="443" y="566"/>
                  </a:lnTo>
                  <a:lnTo>
                    <a:pt x="470" y="587"/>
                  </a:lnTo>
                  <a:lnTo>
                    <a:pt x="493" y="610"/>
                  </a:lnTo>
                  <a:lnTo>
                    <a:pt x="511" y="634"/>
                  </a:lnTo>
                  <a:lnTo>
                    <a:pt x="519" y="659"/>
                  </a:lnTo>
                  <a:lnTo>
                    <a:pt x="519" y="688"/>
                  </a:lnTo>
                  <a:lnTo>
                    <a:pt x="514" y="693"/>
                  </a:lnTo>
                  <a:lnTo>
                    <a:pt x="509" y="693"/>
                  </a:lnTo>
                  <a:lnTo>
                    <a:pt x="501" y="688"/>
                  </a:lnTo>
                  <a:lnTo>
                    <a:pt x="494" y="682"/>
                  </a:lnTo>
                  <a:lnTo>
                    <a:pt x="483" y="674"/>
                  </a:lnTo>
                  <a:lnTo>
                    <a:pt x="472" y="666"/>
                  </a:lnTo>
                  <a:lnTo>
                    <a:pt x="461" y="660"/>
                  </a:lnTo>
                  <a:lnTo>
                    <a:pt x="452" y="659"/>
                  </a:lnTo>
                  <a:lnTo>
                    <a:pt x="434" y="659"/>
                  </a:lnTo>
                  <a:lnTo>
                    <a:pt x="421" y="665"/>
                  </a:lnTo>
                  <a:lnTo>
                    <a:pt x="410" y="674"/>
                  </a:lnTo>
                  <a:lnTo>
                    <a:pt x="403" y="686"/>
                  </a:lnTo>
                  <a:lnTo>
                    <a:pt x="394" y="696"/>
                  </a:lnTo>
                  <a:lnTo>
                    <a:pt x="387" y="707"/>
                  </a:lnTo>
                  <a:lnTo>
                    <a:pt x="378" y="718"/>
                  </a:lnTo>
                  <a:lnTo>
                    <a:pt x="366" y="724"/>
                  </a:lnTo>
                  <a:lnTo>
                    <a:pt x="351" y="725"/>
                  </a:lnTo>
                  <a:lnTo>
                    <a:pt x="339" y="726"/>
                  </a:lnTo>
                  <a:lnTo>
                    <a:pt x="327" y="726"/>
                  </a:lnTo>
                  <a:lnTo>
                    <a:pt x="316" y="727"/>
                  </a:lnTo>
                  <a:lnTo>
                    <a:pt x="306" y="727"/>
                  </a:lnTo>
                  <a:lnTo>
                    <a:pt x="296" y="729"/>
                  </a:lnTo>
                  <a:lnTo>
                    <a:pt x="286" y="731"/>
                  </a:lnTo>
                  <a:lnTo>
                    <a:pt x="279" y="735"/>
                  </a:lnTo>
                  <a:lnTo>
                    <a:pt x="260" y="742"/>
                  </a:lnTo>
                  <a:lnTo>
                    <a:pt x="247" y="754"/>
                  </a:lnTo>
                  <a:lnTo>
                    <a:pt x="236" y="767"/>
                  </a:lnTo>
                  <a:lnTo>
                    <a:pt x="231" y="785"/>
                  </a:lnTo>
                  <a:lnTo>
                    <a:pt x="227" y="803"/>
                  </a:lnTo>
                  <a:lnTo>
                    <a:pt x="228" y="825"/>
                  </a:lnTo>
                  <a:lnTo>
                    <a:pt x="233" y="850"/>
                  </a:lnTo>
                  <a:lnTo>
                    <a:pt x="240" y="876"/>
                  </a:lnTo>
                  <a:lnTo>
                    <a:pt x="121" y="87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427040" y="5046480"/>
              <a:ext cx="28440" cy="50760"/>
            </a:xfrm>
            <a:custGeom>
              <a:avLst/>
              <a:gdLst/>
              <a:ahLst/>
              <a:rect l="l" t="t" r="r" b="b"/>
              <a:pathLst>
                <a:path w="56" h="95">
                  <a:moveTo>
                    <a:pt x="33" y="0"/>
                  </a:moveTo>
                  <a:lnTo>
                    <a:pt x="50" y="0"/>
                  </a:lnTo>
                  <a:lnTo>
                    <a:pt x="54" y="11"/>
                  </a:lnTo>
                  <a:lnTo>
                    <a:pt x="56" y="22"/>
                  </a:lnTo>
                  <a:lnTo>
                    <a:pt x="56" y="34"/>
                  </a:lnTo>
                  <a:lnTo>
                    <a:pt x="56" y="47"/>
                  </a:lnTo>
                  <a:lnTo>
                    <a:pt x="53" y="59"/>
                  </a:lnTo>
                  <a:lnTo>
                    <a:pt x="50" y="72"/>
                  </a:lnTo>
                  <a:lnTo>
                    <a:pt x="45" y="83"/>
                  </a:lnTo>
                  <a:lnTo>
                    <a:pt x="42" y="95"/>
                  </a:lnTo>
                  <a:lnTo>
                    <a:pt x="0" y="95"/>
                  </a:lnTo>
                  <a:lnTo>
                    <a:pt x="6" y="81"/>
                  </a:lnTo>
                  <a:lnTo>
                    <a:pt x="12" y="71"/>
                  </a:lnTo>
                  <a:lnTo>
                    <a:pt x="17" y="59"/>
                  </a:lnTo>
                  <a:lnTo>
                    <a:pt x="23" y="50"/>
                  </a:lnTo>
                  <a:lnTo>
                    <a:pt x="25" y="40"/>
                  </a:lnTo>
                  <a:lnTo>
                    <a:pt x="29" y="29"/>
                  </a:lnTo>
                  <a:lnTo>
                    <a:pt x="31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197000" y="4052880"/>
              <a:ext cx="426960" cy="1044360"/>
            </a:xfrm>
            <a:custGeom>
              <a:avLst/>
              <a:gdLst/>
              <a:ahLst/>
              <a:rect l="l" t="t" r="r" b="b"/>
              <a:pathLst>
                <a:path w="808" h="1973">
                  <a:moveTo>
                    <a:pt x="102" y="1764"/>
                  </a:moveTo>
                  <a:lnTo>
                    <a:pt x="74" y="1752"/>
                  </a:lnTo>
                  <a:lnTo>
                    <a:pt x="52" y="1739"/>
                  </a:lnTo>
                  <a:lnTo>
                    <a:pt x="35" y="1722"/>
                  </a:lnTo>
                  <a:lnTo>
                    <a:pt x="21" y="1704"/>
                  </a:lnTo>
                  <a:lnTo>
                    <a:pt x="10" y="1681"/>
                  </a:lnTo>
                  <a:lnTo>
                    <a:pt x="4" y="1660"/>
                  </a:lnTo>
                  <a:lnTo>
                    <a:pt x="0" y="1638"/>
                  </a:lnTo>
                  <a:lnTo>
                    <a:pt x="2" y="1616"/>
                  </a:lnTo>
                  <a:lnTo>
                    <a:pt x="23" y="1465"/>
                  </a:lnTo>
                  <a:lnTo>
                    <a:pt x="75" y="1317"/>
                  </a:lnTo>
                  <a:lnTo>
                    <a:pt x="147" y="1172"/>
                  </a:lnTo>
                  <a:lnTo>
                    <a:pt x="231" y="1026"/>
                  </a:lnTo>
                  <a:lnTo>
                    <a:pt x="313" y="874"/>
                  </a:lnTo>
                  <a:lnTo>
                    <a:pt x="390" y="719"/>
                  </a:lnTo>
                  <a:lnTo>
                    <a:pt x="450" y="555"/>
                  </a:lnTo>
                  <a:lnTo>
                    <a:pt x="486" y="382"/>
                  </a:lnTo>
                  <a:lnTo>
                    <a:pt x="488" y="374"/>
                  </a:lnTo>
                  <a:lnTo>
                    <a:pt x="495" y="375"/>
                  </a:lnTo>
                  <a:lnTo>
                    <a:pt x="506" y="381"/>
                  </a:lnTo>
                  <a:lnTo>
                    <a:pt x="521" y="393"/>
                  </a:lnTo>
                  <a:lnTo>
                    <a:pt x="535" y="407"/>
                  </a:lnTo>
                  <a:lnTo>
                    <a:pt x="551" y="421"/>
                  </a:lnTo>
                  <a:lnTo>
                    <a:pt x="565" y="434"/>
                  </a:lnTo>
                  <a:lnTo>
                    <a:pt x="579" y="445"/>
                  </a:lnTo>
                  <a:lnTo>
                    <a:pt x="625" y="389"/>
                  </a:lnTo>
                  <a:lnTo>
                    <a:pt x="658" y="315"/>
                  </a:lnTo>
                  <a:lnTo>
                    <a:pt x="681" y="229"/>
                  </a:lnTo>
                  <a:lnTo>
                    <a:pt x="697" y="144"/>
                  </a:lnTo>
                  <a:lnTo>
                    <a:pt x="708" y="69"/>
                  </a:lnTo>
                  <a:lnTo>
                    <a:pt x="720" y="18"/>
                  </a:lnTo>
                  <a:lnTo>
                    <a:pt x="732" y="0"/>
                  </a:lnTo>
                  <a:lnTo>
                    <a:pt x="748" y="27"/>
                  </a:lnTo>
                  <a:lnTo>
                    <a:pt x="796" y="212"/>
                  </a:lnTo>
                  <a:lnTo>
                    <a:pt x="808" y="403"/>
                  </a:lnTo>
                  <a:lnTo>
                    <a:pt x="786" y="590"/>
                  </a:lnTo>
                  <a:lnTo>
                    <a:pt x="735" y="777"/>
                  </a:lnTo>
                  <a:lnTo>
                    <a:pt x="660" y="958"/>
                  </a:lnTo>
                  <a:lnTo>
                    <a:pt x="565" y="1133"/>
                  </a:lnTo>
                  <a:lnTo>
                    <a:pt x="456" y="1299"/>
                  </a:lnTo>
                  <a:lnTo>
                    <a:pt x="337" y="1457"/>
                  </a:lnTo>
                  <a:lnTo>
                    <a:pt x="316" y="1488"/>
                  </a:lnTo>
                  <a:lnTo>
                    <a:pt x="305" y="1529"/>
                  </a:lnTo>
                  <a:lnTo>
                    <a:pt x="300" y="1570"/>
                  </a:lnTo>
                  <a:lnTo>
                    <a:pt x="299" y="1616"/>
                  </a:lnTo>
                  <a:lnTo>
                    <a:pt x="296" y="1660"/>
                  </a:lnTo>
                  <a:lnTo>
                    <a:pt x="293" y="1703"/>
                  </a:lnTo>
                  <a:lnTo>
                    <a:pt x="282" y="1741"/>
                  </a:lnTo>
                  <a:lnTo>
                    <a:pt x="264" y="1779"/>
                  </a:lnTo>
                  <a:lnTo>
                    <a:pt x="256" y="1786"/>
                  </a:lnTo>
                  <a:lnTo>
                    <a:pt x="245" y="1800"/>
                  </a:lnTo>
                  <a:lnTo>
                    <a:pt x="231" y="1817"/>
                  </a:lnTo>
                  <a:lnTo>
                    <a:pt x="217" y="1837"/>
                  </a:lnTo>
                  <a:lnTo>
                    <a:pt x="202" y="1856"/>
                  </a:lnTo>
                  <a:lnTo>
                    <a:pt x="190" y="1876"/>
                  </a:lnTo>
                  <a:lnTo>
                    <a:pt x="181" y="1892"/>
                  </a:lnTo>
                  <a:lnTo>
                    <a:pt x="179" y="1904"/>
                  </a:lnTo>
                  <a:lnTo>
                    <a:pt x="179" y="1973"/>
                  </a:lnTo>
                  <a:lnTo>
                    <a:pt x="137" y="1973"/>
                  </a:lnTo>
                  <a:lnTo>
                    <a:pt x="139" y="1949"/>
                  </a:lnTo>
                  <a:lnTo>
                    <a:pt x="145" y="1921"/>
                  </a:lnTo>
                  <a:lnTo>
                    <a:pt x="148" y="1890"/>
                  </a:lnTo>
                  <a:lnTo>
                    <a:pt x="150" y="1858"/>
                  </a:lnTo>
                  <a:lnTo>
                    <a:pt x="147" y="1826"/>
                  </a:lnTo>
                  <a:lnTo>
                    <a:pt x="139" y="1798"/>
                  </a:lnTo>
                  <a:lnTo>
                    <a:pt x="124" y="1776"/>
                  </a:lnTo>
                  <a:lnTo>
                    <a:pt x="102" y="176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568160" y="5024520"/>
              <a:ext cx="42840" cy="7272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5" y="138"/>
                  </a:moveTo>
                  <a:lnTo>
                    <a:pt x="5" y="120"/>
                  </a:lnTo>
                  <a:lnTo>
                    <a:pt x="4" y="99"/>
                  </a:lnTo>
                  <a:lnTo>
                    <a:pt x="1" y="79"/>
                  </a:lnTo>
                  <a:lnTo>
                    <a:pt x="0" y="60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3" y="9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4" y="9"/>
                  </a:lnTo>
                  <a:lnTo>
                    <a:pt x="71" y="15"/>
                  </a:lnTo>
                  <a:lnTo>
                    <a:pt x="77" y="24"/>
                  </a:lnTo>
                  <a:lnTo>
                    <a:pt x="80" y="32"/>
                  </a:lnTo>
                  <a:lnTo>
                    <a:pt x="82" y="43"/>
                  </a:lnTo>
                  <a:lnTo>
                    <a:pt x="73" y="138"/>
                  </a:lnTo>
                  <a:lnTo>
                    <a:pt x="5" y="138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646280" y="3676680"/>
              <a:ext cx="836640" cy="1384200"/>
            </a:xfrm>
            <a:custGeom>
              <a:avLst/>
              <a:gdLst/>
              <a:ahLst/>
              <a:rect l="l" t="t" r="r" b="b"/>
              <a:pathLst>
                <a:path w="1581" h="2617">
                  <a:moveTo>
                    <a:pt x="291" y="2089"/>
                  </a:moveTo>
                  <a:lnTo>
                    <a:pt x="196" y="1934"/>
                  </a:lnTo>
                  <a:lnTo>
                    <a:pt x="117" y="1765"/>
                  </a:lnTo>
                  <a:lnTo>
                    <a:pt x="56" y="1584"/>
                  </a:lnTo>
                  <a:lnTo>
                    <a:pt x="16" y="1396"/>
                  </a:lnTo>
                  <a:lnTo>
                    <a:pt x="0" y="1204"/>
                  </a:lnTo>
                  <a:lnTo>
                    <a:pt x="10" y="1017"/>
                  </a:lnTo>
                  <a:lnTo>
                    <a:pt x="48" y="834"/>
                  </a:lnTo>
                  <a:lnTo>
                    <a:pt x="120" y="664"/>
                  </a:lnTo>
                  <a:lnTo>
                    <a:pt x="196" y="544"/>
                  </a:lnTo>
                  <a:lnTo>
                    <a:pt x="281" y="428"/>
                  </a:lnTo>
                  <a:lnTo>
                    <a:pt x="376" y="317"/>
                  </a:lnTo>
                  <a:lnTo>
                    <a:pt x="480" y="218"/>
                  </a:lnTo>
                  <a:lnTo>
                    <a:pt x="591" y="132"/>
                  </a:lnTo>
                  <a:lnTo>
                    <a:pt x="716" y="63"/>
                  </a:lnTo>
                  <a:lnTo>
                    <a:pt x="850" y="19"/>
                  </a:lnTo>
                  <a:lnTo>
                    <a:pt x="997" y="0"/>
                  </a:lnTo>
                  <a:lnTo>
                    <a:pt x="986" y="61"/>
                  </a:lnTo>
                  <a:lnTo>
                    <a:pt x="980" y="126"/>
                  </a:lnTo>
                  <a:lnTo>
                    <a:pt x="980" y="194"/>
                  </a:lnTo>
                  <a:lnTo>
                    <a:pt x="987" y="261"/>
                  </a:lnTo>
                  <a:lnTo>
                    <a:pt x="1001" y="325"/>
                  </a:lnTo>
                  <a:lnTo>
                    <a:pt x="1026" y="383"/>
                  </a:lnTo>
                  <a:lnTo>
                    <a:pt x="1064" y="432"/>
                  </a:lnTo>
                  <a:lnTo>
                    <a:pt x="1114" y="476"/>
                  </a:lnTo>
                  <a:lnTo>
                    <a:pt x="1136" y="476"/>
                  </a:lnTo>
                  <a:lnTo>
                    <a:pt x="1160" y="476"/>
                  </a:lnTo>
                  <a:lnTo>
                    <a:pt x="1181" y="474"/>
                  </a:lnTo>
                  <a:lnTo>
                    <a:pt x="1204" y="473"/>
                  </a:lnTo>
                  <a:lnTo>
                    <a:pt x="1225" y="468"/>
                  </a:lnTo>
                  <a:lnTo>
                    <a:pt x="1246" y="462"/>
                  </a:lnTo>
                  <a:lnTo>
                    <a:pt x="1265" y="454"/>
                  </a:lnTo>
                  <a:lnTo>
                    <a:pt x="1285" y="443"/>
                  </a:lnTo>
                  <a:lnTo>
                    <a:pt x="1323" y="585"/>
                  </a:lnTo>
                  <a:lnTo>
                    <a:pt x="1374" y="724"/>
                  </a:lnTo>
                  <a:lnTo>
                    <a:pt x="1430" y="860"/>
                  </a:lnTo>
                  <a:lnTo>
                    <a:pt x="1488" y="999"/>
                  </a:lnTo>
                  <a:lnTo>
                    <a:pt x="1536" y="1137"/>
                  </a:lnTo>
                  <a:lnTo>
                    <a:pt x="1569" y="1279"/>
                  </a:lnTo>
                  <a:lnTo>
                    <a:pt x="1581" y="1427"/>
                  </a:lnTo>
                  <a:lnTo>
                    <a:pt x="1566" y="1582"/>
                  </a:lnTo>
                  <a:lnTo>
                    <a:pt x="1548" y="1613"/>
                  </a:lnTo>
                  <a:lnTo>
                    <a:pt x="1526" y="1641"/>
                  </a:lnTo>
                  <a:lnTo>
                    <a:pt x="1501" y="1665"/>
                  </a:lnTo>
                  <a:lnTo>
                    <a:pt x="1476" y="1686"/>
                  </a:lnTo>
                  <a:lnTo>
                    <a:pt x="1445" y="1702"/>
                  </a:lnTo>
                  <a:lnTo>
                    <a:pt x="1414" y="1716"/>
                  </a:lnTo>
                  <a:lnTo>
                    <a:pt x="1379" y="1724"/>
                  </a:lnTo>
                  <a:lnTo>
                    <a:pt x="1344" y="1733"/>
                  </a:lnTo>
                  <a:lnTo>
                    <a:pt x="1309" y="1727"/>
                  </a:lnTo>
                  <a:lnTo>
                    <a:pt x="1278" y="1717"/>
                  </a:lnTo>
                  <a:lnTo>
                    <a:pt x="1249" y="1701"/>
                  </a:lnTo>
                  <a:lnTo>
                    <a:pt x="1225" y="1681"/>
                  </a:lnTo>
                  <a:lnTo>
                    <a:pt x="1201" y="1656"/>
                  </a:lnTo>
                  <a:lnTo>
                    <a:pt x="1184" y="1630"/>
                  </a:lnTo>
                  <a:lnTo>
                    <a:pt x="1169" y="1601"/>
                  </a:lnTo>
                  <a:lnTo>
                    <a:pt x="1157" y="1573"/>
                  </a:lnTo>
                  <a:lnTo>
                    <a:pt x="1146" y="1538"/>
                  </a:lnTo>
                  <a:lnTo>
                    <a:pt x="1138" y="1499"/>
                  </a:lnTo>
                  <a:lnTo>
                    <a:pt x="1132" y="1456"/>
                  </a:lnTo>
                  <a:lnTo>
                    <a:pt x="1132" y="1414"/>
                  </a:lnTo>
                  <a:lnTo>
                    <a:pt x="1137" y="1376"/>
                  </a:lnTo>
                  <a:lnTo>
                    <a:pt x="1149" y="1342"/>
                  </a:lnTo>
                  <a:lnTo>
                    <a:pt x="1172" y="1318"/>
                  </a:lnTo>
                  <a:lnTo>
                    <a:pt x="1203" y="1305"/>
                  </a:lnTo>
                  <a:lnTo>
                    <a:pt x="1233" y="1305"/>
                  </a:lnTo>
                  <a:lnTo>
                    <a:pt x="1258" y="1316"/>
                  </a:lnTo>
                  <a:lnTo>
                    <a:pt x="1276" y="1335"/>
                  </a:lnTo>
                  <a:lnTo>
                    <a:pt x="1293" y="1361"/>
                  </a:lnTo>
                  <a:lnTo>
                    <a:pt x="1301" y="1385"/>
                  </a:lnTo>
                  <a:lnTo>
                    <a:pt x="1306" y="1408"/>
                  </a:lnTo>
                  <a:lnTo>
                    <a:pt x="1306" y="1426"/>
                  </a:lnTo>
                  <a:lnTo>
                    <a:pt x="1303" y="1434"/>
                  </a:lnTo>
                  <a:lnTo>
                    <a:pt x="1287" y="1437"/>
                  </a:lnTo>
                  <a:lnTo>
                    <a:pt x="1266" y="1440"/>
                  </a:lnTo>
                  <a:lnTo>
                    <a:pt x="1246" y="1444"/>
                  </a:lnTo>
                  <a:lnTo>
                    <a:pt x="1228" y="1448"/>
                  </a:lnTo>
                  <a:lnTo>
                    <a:pt x="1209" y="1451"/>
                  </a:lnTo>
                  <a:lnTo>
                    <a:pt x="1197" y="1460"/>
                  </a:lnTo>
                  <a:lnTo>
                    <a:pt x="1192" y="1469"/>
                  </a:lnTo>
                  <a:lnTo>
                    <a:pt x="1197" y="1485"/>
                  </a:lnTo>
                  <a:lnTo>
                    <a:pt x="1206" y="1512"/>
                  </a:lnTo>
                  <a:lnTo>
                    <a:pt x="1209" y="1541"/>
                  </a:lnTo>
                  <a:lnTo>
                    <a:pt x="1207" y="1567"/>
                  </a:lnTo>
                  <a:lnTo>
                    <a:pt x="1207" y="1591"/>
                  </a:lnTo>
                  <a:lnTo>
                    <a:pt x="1207" y="1612"/>
                  </a:lnTo>
                  <a:lnTo>
                    <a:pt x="1216" y="1629"/>
                  </a:lnTo>
                  <a:lnTo>
                    <a:pt x="1235" y="1642"/>
                  </a:lnTo>
                  <a:lnTo>
                    <a:pt x="1267" y="1650"/>
                  </a:lnTo>
                  <a:lnTo>
                    <a:pt x="1294" y="1648"/>
                  </a:lnTo>
                  <a:lnTo>
                    <a:pt x="1317" y="1641"/>
                  </a:lnTo>
                  <a:lnTo>
                    <a:pt x="1337" y="1626"/>
                  </a:lnTo>
                  <a:lnTo>
                    <a:pt x="1357" y="1609"/>
                  </a:lnTo>
                  <a:lnTo>
                    <a:pt x="1374" y="1587"/>
                  </a:lnTo>
                  <a:lnTo>
                    <a:pt x="1390" y="1564"/>
                  </a:lnTo>
                  <a:lnTo>
                    <a:pt x="1404" y="1540"/>
                  </a:lnTo>
                  <a:lnTo>
                    <a:pt x="1421" y="1520"/>
                  </a:lnTo>
                  <a:lnTo>
                    <a:pt x="1428" y="1485"/>
                  </a:lnTo>
                  <a:lnTo>
                    <a:pt x="1434" y="1448"/>
                  </a:lnTo>
                  <a:lnTo>
                    <a:pt x="1438" y="1408"/>
                  </a:lnTo>
                  <a:lnTo>
                    <a:pt x="1438" y="1371"/>
                  </a:lnTo>
                  <a:lnTo>
                    <a:pt x="1433" y="1333"/>
                  </a:lnTo>
                  <a:lnTo>
                    <a:pt x="1426" y="1295"/>
                  </a:lnTo>
                  <a:lnTo>
                    <a:pt x="1412" y="1263"/>
                  </a:lnTo>
                  <a:lnTo>
                    <a:pt x="1393" y="1233"/>
                  </a:lnTo>
                  <a:lnTo>
                    <a:pt x="1369" y="1209"/>
                  </a:lnTo>
                  <a:lnTo>
                    <a:pt x="1342" y="1191"/>
                  </a:lnTo>
                  <a:lnTo>
                    <a:pt x="1311" y="1177"/>
                  </a:lnTo>
                  <a:lnTo>
                    <a:pt x="1278" y="1168"/>
                  </a:lnTo>
                  <a:lnTo>
                    <a:pt x="1243" y="1164"/>
                  </a:lnTo>
                  <a:lnTo>
                    <a:pt x="1209" y="1164"/>
                  </a:lnTo>
                  <a:lnTo>
                    <a:pt x="1174" y="1167"/>
                  </a:lnTo>
                  <a:lnTo>
                    <a:pt x="1140" y="1174"/>
                  </a:lnTo>
                  <a:lnTo>
                    <a:pt x="1100" y="1196"/>
                  </a:lnTo>
                  <a:lnTo>
                    <a:pt x="1062" y="1225"/>
                  </a:lnTo>
                  <a:lnTo>
                    <a:pt x="1029" y="1258"/>
                  </a:lnTo>
                  <a:lnTo>
                    <a:pt x="1000" y="1297"/>
                  </a:lnTo>
                  <a:lnTo>
                    <a:pt x="975" y="1337"/>
                  </a:lnTo>
                  <a:lnTo>
                    <a:pt x="955" y="1382"/>
                  </a:lnTo>
                  <a:lnTo>
                    <a:pt x="938" y="1426"/>
                  </a:lnTo>
                  <a:lnTo>
                    <a:pt x="928" y="1469"/>
                  </a:lnTo>
                  <a:lnTo>
                    <a:pt x="923" y="1535"/>
                  </a:lnTo>
                  <a:lnTo>
                    <a:pt x="928" y="1597"/>
                  </a:lnTo>
                  <a:lnTo>
                    <a:pt x="941" y="1657"/>
                  </a:lnTo>
                  <a:lnTo>
                    <a:pt x="963" y="1714"/>
                  </a:lnTo>
                  <a:lnTo>
                    <a:pt x="992" y="1765"/>
                  </a:lnTo>
                  <a:lnTo>
                    <a:pt x="1028" y="1816"/>
                  </a:lnTo>
                  <a:lnTo>
                    <a:pt x="1071" y="1861"/>
                  </a:lnTo>
                  <a:lnTo>
                    <a:pt x="1122" y="1903"/>
                  </a:lnTo>
                  <a:lnTo>
                    <a:pt x="1108" y="1915"/>
                  </a:lnTo>
                  <a:lnTo>
                    <a:pt x="1090" y="1926"/>
                  </a:lnTo>
                  <a:lnTo>
                    <a:pt x="1068" y="1929"/>
                  </a:lnTo>
                  <a:lnTo>
                    <a:pt x="1044" y="1933"/>
                  </a:lnTo>
                  <a:lnTo>
                    <a:pt x="1017" y="1933"/>
                  </a:lnTo>
                  <a:lnTo>
                    <a:pt x="991" y="1933"/>
                  </a:lnTo>
                  <a:lnTo>
                    <a:pt x="962" y="1931"/>
                  </a:lnTo>
                  <a:lnTo>
                    <a:pt x="937" y="1931"/>
                  </a:lnTo>
                  <a:lnTo>
                    <a:pt x="892" y="1915"/>
                  </a:lnTo>
                  <a:lnTo>
                    <a:pt x="853" y="1895"/>
                  </a:lnTo>
                  <a:lnTo>
                    <a:pt x="812" y="1868"/>
                  </a:lnTo>
                  <a:lnTo>
                    <a:pt x="776" y="1837"/>
                  </a:lnTo>
                  <a:lnTo>
                    <a:pt x="741" y="1802"/>
                  </a:lnTo>
                  <a:lnTo>
                    <a:pt x="709" y="1766"/>
                  </a:lnTo>
                  <a:lnTo>
                    <a:pt x="681" y="1727"/>
                  </a:lnTo>
                  <a:lnTo>
                    <a:pt x="656" y="1691"/>
                  </a:lnTo>
                  <a:lnTo>
                    <a:pt x="630" y="1687"/>
                  </a:lnTo>
                  <a:lnTo>
                    <a:pt x="606" y="1681"/>
                  </a:lnTo>
                  <a:lnTo>
                    <a:pt x="582" y="1671"/>
                  </a:lnTo>
                  <a:lnTo>
                    <a:pt x="560" y="1660"/>
                  </a:lnTo>
                  <a:lnTo>
                    <a:pt x="536" y="1647"/>
                  </a:lnTo>
                  <a:lnTo>
                    <a:pt x="515" y="1635"/>
                  </a:lnTo>
                  <a:lnTo>
                    <a:pt x="491" y="1624"/>
                  </a:lnTo>
                  <a:lnTo>
                    <a:pt x="467" y="1615"/>
                  </a:lnTo>
                  <a:lnTo>
                    <a:pt x="469" y="1636"/>
                  </a:lnTo>
                  <a:lnTo>
                    <a:pt x="479" y="1656"/>
                  </a:lnTo>
                  <a:lnTo>
                    <a:pt x="489" y="1677"/>
                  </a:lnTo>
                  <a:lnTo>
                    <a:pt x="504" y="1697"/>
                  </a:lnTo>
                  <a:lnTo>
                    <a:pt x="518" y="1715"/>
                  </a:lnTo>
                  <a:lnTo>
                    <a:pt x="535" y="1735"/>
                  </a:lnTo>
                  <a:lnTo>
                    <a:pt x="549" y="1754"/>
                  </a:lnTo>
                  <a:lnTo>
                    <a:pt x="563" y="1776"/>
                  </a:lnTo>
                  <a:lnTo>
                    <a:pt x="605" y="1822"/>
                  </a:lnTo>
                  <a:lnTo>
                    <a:pt x="649" y="1862"/>
                  </a:lnTo>
                  <a:lnTo>
                    <a:pt x="696" y="1897"/>
                  </a:lnTo>
                  <a:lnTo>
                    <a:pt x="746" y="1928"/>
                  </a:lnTo>
                  <a:lnTo>
                    <a:pt x="796" y="1952"/>
                  </a:lnTo>
                  <a:lnTo>
                    <a:pt x="850" y="1971"/>
                  </a:lnTo>
                  <a:lnTo>
                    <a:pt x="904" y="1987"/>
                  </a:lnTo>
                  <a:lnTo>
                    <a:pt x="963" y="1999"/>
                  </a:lnTo>
                  <a:lnTo>
                    <a:pt x="994" y="2046"/>
                  </a:lnTo>
                  <a:lnTo>
                    <a:pt x="1022" y="2094"/>
                  </a:lnTo>
                  <a:lnTo>
                    <a:pt x="1046" y="2144"/>
                  </a:lnTo>
                  <a:lnTo>
                    <a:pt x="1066" y="2197"/>
                  </a:lnTo>
                  <a:lnTo>
                    <a:pt x="1083" y="2251"/>
                  </a:lnTo>
                  <a:lnTo>
                    <a:pt x="1097" y="2306"/>
                  </a:lnTo>
                  <a:lnTo>
                    <a:pt x="1107" y="2363"/>
                  </a:lnTo>
                  <a:lnTo>
                    <a:pt x="1114" y="2423"/>
                  </a:lnTo>
                  <a:lnTo>
                    <a:pt x="1100" y="2430"/>
                  </a:lnTo>
                  <a:lnTo>
                    <a:pt x="1088" y="2444"/>
                  </a:lnTo>
                  <a:lnTo>
                    <a:pt x="1079" y="2459"/>
                  </a:lnTo>
                  <a:lnTo>
                    <a:pt x="1072" y="2476"/>
                  </a:lnTo>
                  <a:lnTo>
                    <a:pt x="1062" y="2487"/>
                  </a:lnTo>
                  <a:lnTo>
                    <a:pt x="1053" y="2493"/>
                  </a:lnTo>
                  <a:lnTo>
                    <a:pt x="1040" y="2488"/>
                  </a:lnTo>
                  <a:lnTo>
                    <a:pt x="1022" y="2474"/>
                  </a:lnTo>
                  <a:lnTo>
                    <a:pt x="1006" y="2468"/>
                  </a:lnTo>
                  <a:lnTo>
                    <a:pt x="992" y="2472"/>
                  </a:lnTo>
                  <a:lnTo>
                    <a:pt x="977" y="2478"/>
                  </a:lnTo>
                  <a:lnTo>
                    <a:pt x="964" y="2489"/>
                  </a:lnTo>
                  <a:lnTo>
                    <a:pt x="952" y="2501"/>
                  </a:lnTo>
                  <a:lnTo>
                    <a:pt x="944" y="2514"/>
                  </a:lnTo>
                  <a:lnTo>
                    <a:pt x="938" y="2527"/>
                  </a:lnTo>
                  <a:lnTo>
                    <a:pt x="937" y="2542"/>
                  </a:lnTo>
                  <a:lnTo>
                    <a:pt x="887" y="2504"/>
                  </a:lnTo>
                  <a:lnTo>
                    <a:pt x="850" y="2496"/>
                  </a:lnTo>
                  <a:lnTo>
                    <a:pt x="820" y="2509"/>
                  </a:lnTo>
                  <a:lnTo>
                    <a:pt x="801" y="2537"/>
                  </a:lnTo>
                  <a:lnTo>
                    <a:pt x="784" y="2568"/>
                  </a:lnTo>
                  <a:lnTo>
                    <a:pt x="776" y="2598"/>
                  </a:lnTo>
                  <a:lnTo>
                    <a:pt x="769" y="2616"/>
                  </a:lnTo>
                  <a:lnTo>
                    <a:pt x="765" y="2617"/>
                  </a:lnTo>
                  <a:lnTo>
                    <a:pt x="723" y="2541"/>
                  </a:lnTo>
                  <a:lnTo>
                    <a:pt x="669" y="2472"/>
                  </a:lnTo>
                  <a:lnTo>
                    <a:pt x="605" y="2410"/>
                  </a:lnTo>
                  <a:lnTo>
                    <a:pt x="535" y="2351"/>
                  </a:lnTo>
                  <a:lnTo>
                    <a:pt x="464" y="2291"/>
                  </a:lnTo>
                  <a:lnTo>
                    <a:pt x="397" y="2230"/>
                  </a:lnTo>
                  <a:lnTo>
                    <a:pt x="337" y="2162"/>
                  </a:lnTo>
                  <a:lnTo>
                    <a:pt x="291" y="20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921960" y="3398760"/>
              <a:ext cx="1008360" cy="1265400"/>
            </a:xfrm>
            <a:custGeom>
              <a:avLst/>
              <a:gdLst/>
              <a:ahLst/>
              <a:rect l="l" t="t" r="r" b="b"/>
              <a:pathLst>
                <a:path w="1907" h="2390">
                  <a:moveTo>
                    <a:pt x="29" y="2148"/>
                  </a:moveTo>
                  <a:lnTo>
                    <a:pt x="16" y="2112"/>
                  </a:lnTo>
                  <a:lnTo>
                    <a:pt x="7" y="2078"/>
                  </a:lnTo>
                  <a:lnTo>
                    <a:pt x="1" y="2041"/>
                  </a:lnTo>
                  <a:lnTo>
                    <a:pt x="0" y="2004"/>
                  </a:lnTo>
                  <a:lnTo>
                    <a:pt x="1" y="1968"/>
                  </a:lnTo>
                  <a:lnTo>
                    <a:pt x="9" y="1932"/>
                  </a:lnTo>
                  <a:lnTo>
                    <a:pt x="21" y="1899"/>
                  </a:lnTo>
                  <a:lnTo>
                    <a:pt x="39" y="1867"/>
                  </a:lnTo>
                  <a:lnTo>
                    <a:pt x="46" y="1859"/>
                  </a:lnTo>
                  <a:lnTo>
                    <a:pt x="54" y="1851"/>
                  </a:lnTo>
                  <a:lnTo>
                    <a:pt x="61" y="1842"/>
                  </a:lnTo>
                  <a:lnTo>
                    <a:pt x="70" y="1835"/>
                  </a:lnTo>
                  <a:lnTo>
                    <a:pt x="77" y="1828"/>
                  </a:lnTo>
                  <a:lnTo>
                    <a:pt x="85" y="1822"/>
                  </a:lnTo>
                  <a:lnTo>
                    <a:pt x="95" y="1817"/>
                  </a:lnTo>
                  <a:lnTo>
                    <a:pt x="106" y="1817"/>
                  </a:lnTo>
                  <a:lnTo>
                    <a:pt x="83" y="1866"/>
                  </a:lnTo>
                  <a:lnTo>
                    <a:pt x="69" y="1918"/>
                  </a:lnTo>
                  <a:lnTo>
                    <a:pt x="61" y="1968"/>
                  </a:lnTo>
                  <a:lnTo>
                    <a:pt x="63" y="2018"/>
                  </a:lnTo>
                  <a:lnTo>
                    <a:pt x="71" y="2065"/>
                  </a:lnTo>
                  <a:lnTo>
                    <a:pt x="88" y="2114"/>
                  </a:lnTo>
                  <a:lnTo>
                    <a:pt x="113" y="2161"/>
                  </a:lnTo>
                  <a:lnTo>
                    <a:pt x="148" y="2207"/>
                  </a:lnTo>
                  <a:lnTo>
                    <a:pt x="160" y="2221"/>
                  </a:lnTo>
                  <a:lnTo>
                    <a:pt x="175" y="2233"/>
                  </a:lnTo>
                  <a:lnTo>
                    <a:pt x="193" y="2244"/>
                  </a:lnTo>
                  <a:lnTo>
                    <a:pt x="210" y="2256"/>
                  </a:lnTo>
                  <a:lnTo>
                    <a:pt x="223" y="2266"/>
                  </a:lnTo>
                  <a:lnTo>
                    <a:pt x="236" y="2280"/>
                  </a:lnTo>
                  <a:lnTo>
                    <a:pt x="246" y="2296"/>
                  </a:lnTo>
                  <a:lnTo>
                    <a:pt x="251" y="2319"/>
                  </a:lnTo>
                  <a:lnTo>
                    <a:pt x="257" y="2316"/>
                  </a:lnTo>
                  <a:lnTo>
                    <a:pt x="263" y="2313"/>
                  </a:lnTo>
                  <a:lnTo>
                    <a:pt x="266" y="2307"/>
                  </a:lnTo>
                  <a:lnTo>
                    <a:pt x="271" y="2302"/>
                  </a:lnTo>
                  <a:lnTo>
                    <a:pt x="277" y="2290"/>
                  </a:lnTo>
                  <a:lnTo>
                    <a:pt x="283" y="2283"/>
                  </a:lnTo>
                  <a:lnTo>
                    <a:pt x="298" y="2283"/>
                  </a:lnTo>
                  <a:lnTo>
                    <a:pt x="310" y="2287"/>
                  </a:lnTo>
                  <a:lnTo>
                    <a:pt x="317" y="2293"/>
                  </a:lnTo>
                  <a:lnTo>
                    <a:pt x="322" y="2302"/>
                  </a:lnTo>
                  <a:lnTo>
                    <a:pt x="325" y="2311"/>
                  </a:lnTo>
                  <a:lnTo>
                    <a:pt x="330" y="2323"/>
                  </a:lnTo>
                  <a:lnTo>
                    <a:pt x="336" y="2332"/>
                  </a:lnTo>
                  <a:lnTo>
                    <a:pt x="345" y="2342"/>
                  </a:lnTo>
                  <a:lnTo>
                    <a:pt x="351" y="2344"/>
                  </a:lnTo>
                  <a:lnTo>
                    <a:pt x="356" y="2344"/>
                  </a:lnTo>
                  <a:lnTo>
                    <a:pt x="360" y="2341"/>
                  </a:lnTo>
                  <a:lnTo>
                    <a:pt x="366" y="2337"/>
                  </a:lnTo>
                  <a:lnTo>
                    <a:pt x="367" y="2330"/>
                  </a:lnTo>
                  <a:lnTo>
                    <a:pt x="369" y="2324"/>
                  </a:lnTo>
                  <a:lnTo>
                    <a:pt x="369" y="2316"/>
                  </a:lnTo>
                  <a:lnTo>
                    <a:pt x="369" y="2310"/>
                  </a:lnTo>
                  <a:lnTo>
                    <a:pt x="367" y="2300"/>
                  </a:lnTo>
                  <a:lnTo>
                    <a:pt x="367" y="2293"/>
                  </a:lnTo>
                  <a:lnTo>
                    <a:pt x="369" y="2288"/>
                  </a:lnTo>
                  <a:lnTo>
                    <a:pt x="373" y="2284"/>
                  </a:lnTo>
                  <a:lnTo>
                    <a:pt x="377" y="2281"/>
                  </a:lnTo>
                  <a:lnTo>
                    <a:pt x="383" y="2280"/>
                  </a:lnTo>
                  <a:lnTo>
                    <a:pt x="389" y="2276"/>
                  </a:lnTo>
                  <a:lnTo>
                    <a:pt x="396" y="2275"/>
                  </a:lnTo>
                  <a:lnTo>
                    <a:pt x="411" y="2272"/>
                  </a:lnTo>
                  <a:lnTo>
                    <a:pt x="423" y="2276"/>
                  </a:lnTo>
                  <a:lnTo>
                    <a:pt x="429" y="2283"/>
                  </a:lnTo>
                  <a:lnTo>
                    <a:pt x="434" y="2295"/>
                  </a:lnTo>
                  <a:lnTo>
                    <a:pt x="435" y="2307"/>
                  </a:lnTo>
                  <a:lnTo>
                    <a:pt x="439" y="2322"/>
                  </a:lnTo>
                  <a:lnTo>
                    <a:pt x="444" y="2332"/>
                  </a:lnTo>
                  <a:lnTo>
                    <a:pt x="455" y="2342"/>
                  </a:lnTo>
                  <a:lnTo>
                    <a:pt x="469" y="2329"/>
                  </a:lnTo>
                  <a:lnTo>
                    <a:pt x="473" y="2312"/>
                  </a:lnTo>
                  <a:lnTo>
                    <a:pt x="469" y="2292"/>
                  </a:lnTo>
                  <a:lnTo>
                    <a:pt x="463" y="2272"/>
                  </a:lnTo>
                  <a:lnTo>
                    <a:pt x="457" y="2251"/>
                  </a:lnTo>
                  <a:lnTo>
                    <a:pt x="459" y="2234"/>
                  </a:lnTo>
                  <a:lnTo>
                    <a:pt x="473" y="2221"/>
                  </a:lnTo>
                  <a:lnTo>
                    <a:pt x="505" y="2215"/>
                  </a:lnTo>
                  <a:lnTo>
                    <a:pt x="514" y="2221"/>
                  </a:lnTo>
                  <a:lnTo>
                    <a:pt x="522" y="2229"/>
                  </a:lnTo>
                  <a:lnTo>
                    <a:pt x="525" y="2239"/>
                  </a:lnTo>
                  <a:lnTo>
                    <a:pt x="529" y="2248"/>
                  </a:lnTo>
                  <a:lnTo>
                    <a:pt x="531" y="2257"/>
                  </a:lnTo>
                  <a:lnTo>
                    <a:pt x="537" y="2265"/>
                  </a:lnTo>
                  <a:lnTo>
                    <a:pt x="544" y="2271"/>
                  </a:lnTo>
                  <a:lnTo>
                    <a:pt x="558" y="2275"/>
                  </a:lnTo>
                  <a:lnTo>
                    <a:pt x="566" y="2256"/>
                  </a:lnTo>
                  <a:lnTo>
                    <a:pt x="565" y="2239"/>
                  </a:lnTo>
                  <a:lnTo>
                    <a:pt x="558" y="2223"/>
                  </a:lnTo>
                  <a:lnTo>
                    <a:pt x="547" y="2209"/>
                  </a:lnTo>
                  <a:lnTo>
                    <a:pt x="537" y="2192"/>
                  </a:lnTo>
                  <a:lnTo>
                    <a:pt x="531" y="2178"/>
                  </a:lnTo>
                  <a:lnTo>
                    <a:pt x="532" y="2162"/>
                  </a:lnTo>
                  <a:lnTo>
                    <a:pt x="546" y="2148"/>
                  </a:lnTo>
                  <a:lnTo>
                    <a:pt x="560" y="2142"/>
                  </a:lnTo>
                  <a:lnTo>
                    <a:pt x="574" y="2143"/>
                  </a:lnTo>
                  <a:lnTo>
                    <a:pt x="588" y="2148"/>
                  </a:lnTo>
                  <a:lnTo>
                    <a:pt x="601" y="2156"/>
                  </a:lnTo>
                  <a:lnTo>
                    <a:pt x="613" y="2163"/>
                  </a:lnTo>
                  <a:lnTo>
                    <a:pt x="625" y="2171"/>
                  </a:lnTo>
                  <a:lnTo>
                    <a:pt x="637" y="2174"/>
                  </a:lnTo>
                  <a:lnTo>
                    <a:pt x="649" y="2174"/>
                  </a:lnTo>
                  <a:lnTo>
                    <a:pt x="654" y="2166"/>
                  </a:lnTo>
                  <a:lnTo>
                    <a:pt x="649" y="2156"/>
                  </a:lnTo>
                  <a:lnTo>
                    <a:pt x="638" y="2143"/>
                  </a:lnTo>
                  <a:lnTo>
                    <a:pt x="624" y="2130"/>
                  </a:lnTo>
                  <a:lnTo>
                    <a:pt x="606" y="2115"/>
                  </a:lnTo>
                  <a:lnTo>
                    <a:pt x="594" y="2106"/>
                  </a:lnTo>
                  <a:lnTo>
                    <a:pt x="586" y="2100"/>
                  </a:lnTo>
                  <a:lnTo>
                    <a:pt x="590" y="2097"/>
                  </a:lnTo>
                  <a:lnTo>
                    <a:pt x="576" y="2095"/>
                  </a:lnTo>
                  <a:lnTo>
                    <a:pt x="570" y="2089"/>
                  </a:lnTo>
                  <a:lnTo>
                    <a:pt x="566" y="2081"/>
                  </a:lnTo>
                  <a:lnTo>
                    <a:pt x="567" y="2071"/>
                  </a:lnTo>
                  <a:lnTo>
                    <a:pt x="570" y="2057"/>
                  </a:lnTo>
                  <a:lnTo>
                    <a:pt x="573" y="2042"/>
                  </a:lnTo>
                  <a:lnTo>
                    <a:pt x="577" y="2027"/>
                  </a:lnTo>
                  <a:lnTo>
                    <a:pt x="582" y="2012"/>
                  </a:lnTo>
                  <a:lnTo>
                    <a:pt x="595" y="2004"/>
                  </a:lnTo>
                  <a:lnTo>
                    <a:pt x="612" y="2002"/>
                  </a:lnTo>
                  <a:lnTo>
                    <a:pt x="627" y="2000"/>
                  </a:lnTo>
                  <a:lnTo>
                    <a:pt x="644" y="2002"/>
                  </a:lnTo>
                  <a:lnTo>
                    <a:pt x="658" y="2000"/>
                  </a:lnTo>
                  <a:lnTo>
                    <a:pt x="675" y="2000"/>
                  </a:lnTo>
                  <a:lnTo>
                    <a:pt x="688" y="1998"/>
                  </a:lnTo>
                  <a:lnTo>
                    <a:pt x="699" y="1993"/>
                  </a:lnTo>
                  <a:lnTo>
                    <a:pt x="687" y="1981"/>
                  </a:lnTo>
                  <a:lnTo>
                    <a:pt x="674" y="1973"/>
                  </a:lnTo>
                  <a:lnTo>
                    <a:pt x="658" y="1964"/>
                  </a:lnTo>
                  <a:lnTo>
                    <a:pt x="645" y="1958"/>
                  </a:lnTo>
                  <a:lnTo>
                    <a:pt x="630" y="1952"/>
                  </a:lnTo>
                  <a:lnTo>
                    <a:pt x="614" y="1949"/>
                  </a:lnTo>
                  <a:lnTo>
                    <a:pt x="597" y="1944"/>
                  </a:lnTo>
                  <a:lnTo>
                    <a:pt x="582" y="1943"/>
                  </a:lnTo>
                  <a:lnTo>
                    <a:pt x="578" y="1925"/>
                  </a:lnTo>
                  <a:lnTo>
                    <a:pt x="579" y="1910"/>
                  </a:lnTo>
                  <a:lnTo>
                    <a:pt x="583" y="1896"/>
                  </a:lnTo>
                  <a:lnTo>
                    <a:pt x="590" y="1883"/>
                  </a:lnTo>
                  <a:lnTo>
                    <a:pt x="598" y="1872"/>
                  </a:lnTo>
                  <a:lnTo>
                    <a:pt x="612" y="1865"/>
                  </a:lnTo>
                  <a:lnTo>
                    <a:pt x="626" y="1859"/>
                  </a:lnTo>
                  <a:lnTo>
                    <a:pt x="643" y="1858"/>
                  </a:lnTo>
                  <a:lnTo>
                    <a:pt x="646" y="1861"/>
                  </a:lnTo>
                  <a:lnTo>
                    <a:pt x="654" y="1864"/>
                  </a:lnTo>
                  <a:lnTo>
                    <a:pt x="661" y="1865"/>
                  </a:lnTo>
                  <a:lnTo>
                    <a:pt x="668" y="1866"/>
                  </a:lnTo>
                  <a:lnTo>
                    <a:pt x="676" y="1865"/>
                  </a:lnTo>
                  <a:lnTo>
                    <a:pt x="685" y="1865"/>
                  </a:lnTo>
                  <a:lnTo>
                    <a:pt x="692" y="1865"/>
                  </a:lnTo>
                  <a:lnTo>
                    <a:pt x="699" y="1867"/>
                  </a:lnTo>
                  <a:lnTo>
                    <a:pt x="705" y="1852"/>
                  </a:lnTo>
                  <a:lnTo>
                    <a:pt x="694" y="1845"/>
                  </a:lnTo>
                  <a:lnTo>
                    <a:pt x="668" y="1840"/>
                  </a:lnTo>
                  <a:lnTo>
                    <a:pt x="638" y="1836"/>
                  </a:lnTo>
                  <a:lnTo>
                    <a:pt x="603" y="1828"/>
                  </a:lnTo>
                  <a:lnTo>
                    <a:pt x="576" y="1815"/>
                  </a:lnTo>
                  <a:lnTo>
                    <a:pt x="558" y="1792"/>
                  </a:lnTo>
                  <a:lnTo>
                    <a:pt x="558" y="1757"/>
                  </a:lnTo>
                  <a:lnTo>
                    <a:pt x="570" y="1738"/>
                  </a:lnTo>
                  <a:lnTo>
                    <a:pt x="586" y="1722"/>
                  </a:lnTo>
                  <a:lnTo>
                    <a:pt x="603" y="1708"/>
                  </a:lnTo>
                  <a:lnTo>
                    <a:pt x="624" y="1697"/>
                  </a:lnTo>
                  <a:lnTo>
                    <a:pt x="643" y="1689"/>
                  </a:lnTo>
                  <a:lnTo>
                    <a:pt x="664" y="1685"/>
                  </a:lnTo>
                  <a:lnTo>
                    <a:pt x="687" y="1685"/>
                  </a:lnTo>
                  <a:lnTo>
                    <a:pt x="709" y="1690"/>
                  </a:lnTo>
                  <a:lnTo>
                    <a:pt x="701" y="1667"/>
                  </a:lnTo>
                  <a:lnTo>
                    <a:pt x="686" y="1656"/>
                  </a:lnTo>
                  <a:lnTo>
                    <a:pt x="661" y="1652"/>
                  </a:lnTo>
                  <a:lnTo>
                    <a:pt x="634" y="1655"/>
                  </a:lnTo>
                  <a:lnTo>
                    <a:pt x="603" y="1661"/>
                  </a:lnTo>
                  <a:lnTo>
                    <a:pt x="577" y="1670"/>
                  </a:lnTo>
                  <a:lnTo>
                    <a:pt x="554" y="1676"/>
                  </a:lnTo>
                  <a:lnTo>
                    <a:pt x="540" y="1682"/>
                  </a:lnTo>
                  <a:lnTo>
                    <a:pt x="497" y="1561"/>
                  </a:lnTo>
                  <a:lnTo>
                    <a:pt x="505" y="1549"/>
                  </a:lnTo>
                  <a:lnTo>
                    <a:pt x="514" y="1540"/>
                  </a:lnTo>
                  <a:lnTo>
                    <a:pt x="525" y="1532"/>
                  </a:lnTo>
                  <a:lnTo>
                    <a:pt x="536" y="1525"/>
                  </a:lnTo>
                  <a:lnTo>
                    <a:pt x="546" y="1517"/>
                  </a:lnTo>
                  <a:lnTo>
                    <a:pt x="556" y="1509"/>
                  </a:lnTo>
                  <a:lnTo>
                    <a:pt x="565" y="1501"/>
                  </a:lnTo>
                  <a:lnTo>
                    <a:pt x="573" y="1492"/>
                  </a:lnTo>
                  <a:lnTo>
                    <a:pt x="560" y="1484"/>
                  </a:lnTo>
                  <a:lnTo>
                    <a:pt x="549" y="1483"/>
                  </a:lnTo>
                  <a:lnTo>
                    <a:pt x="537" y="1485"/>
                  </a:lnTo>
                  <a:lnTo>
                    <a:pt x="528" y="1491"/>
                  </a:lnTo>
                  <a:lnTo>
                    <a:pt x="517" y="1497"/>
                  </a:lnTo>
                  <a:lnTo>
                    <a:pt x="507" y="1505"/>
                  </a:lnTo>
                  <a:lnTo>
                    <a:pt x="498" y="1511"/>
                  </a:lnTo>
                  <a:lnTo>
                    <a:pt x="488" y="1520"/>
                  </a:lnTo>
                  <a:lnTo>
                    <a:pt x="477" y="1508"/>
                  </a:lnTo>
                  <a:lnTo>
                    <a:pt x="469" y="1496"/>
                  </a:lnTo>
                  <a:lnTo>
                    <a:pt x="461" y="1481"/>
                  </a:lnTo>
                  <a:lnTo>
                    <a:pt x="456" y="1467"/>
                  </a:lnTo>
                  <a:lnTo>
                    <a:pt x="452" y="1449"/>
                  </a:lnTo>
                  <a:lnTo>
                    <a:pt x="453" y="1435"/>
                  </a:lnTo>
                  <a:lnTo>
                    <a:pt x="459" y="1420"/>
                  </a:lnTo>
                  <a:lnTo>
                    <a:pt x="471" y="1407"/>
                  </a:lnTo>
                  <a:lnTo>
                    <a:pt x="480" y="1388"/>
                  </a:lnTo>
                  <a:lnTo>
                    <a:pt x="493" y="1374"/>
                  </a:lnTo>
                  <a:lnTo>
                    <a:pt x="506" y="1362"/>
                  </a:lnTo>
                  <a:lnTo>
                    <a:pt x="523" y="1353"/>
                  </a:lnTo>
                  <a:lnTo>
                    <a:pt x="538" y="1344"/>
                  </a:lnTo>
                  <a:lnTo>
                    <a:pt x="556" y="1335"/>
                  </a:lnTo>
                  <a:lnTo>
                    <a:pt x="573" y="1324"/>
                  </a:lnTo>
                  <a:lnTo>
                    <a:pt x="590" y="1315"/>
                  </a:lnTo>
                  <a:lnTo>
                    <a:pt x="549" y="1297"/>
                  </a:lnTo>
                  <a:lnTo>
                    <a:pt x="517" y="1300"/>
                  </a:lnTo>
                  <a:lnTo>
                    <a:pt x="492" y="1316"/>
                  </a:lnTo>
                  <a:lnTo>
                    <a:pt x="471" y="1341"/>
                  </a:lnTo>
                  <a:lnTo>
                    <a:pt x="455" y="1364"/>
                  </a:lnTo>
                  <a:lnTo>
                    <a:pt x="443" y="1382"/>
                  </a:lnTo>
                  <a:lnTo>
                    <a:pt x="431" y="1387"/>
                  </a:lnTo>
                  <a:lnTo>
                    <a:pt x="419" y="1374"/>
                  </a:lnTo>
                  <a:lnTo>
                    <a:pt x="397" y="1326"/>
                  </a:lnTo>
                  <a:lnTo>
                    <a:pt x="379" y="1279"/>
                  </a:lnTo>
                  <a:lnTo>
                    <a:pt x="361" y="1229"/>
                  </a:lnTo>
                  <a:lnTo>
                    <a:pt x="347" y="1179"/>
                  </a:lnTo>
                  <a:lnTo>
                    <a:pt x="332" y="1129"/>
                  </a:lnTo>
                  <a:lnTo>
                    <a:pt x="320" y="1079"/>
                  </a:lnTo>
                  <a:lnTo>
                    <a:pt x="310" y="1030"/>
                  </a:lnTo>
                  <a:lnTo>
                    <a:pt x="301" y="982"/>
                  </a:lnTo>
                  <a:lnTo>
                    <a:pt x="307" y="985"/>
                  </a:lnTo>
                  <a:lnTo>
                    <a:pt x="314" y="990"/>
                  </a:lnTo>
                  <a:lnTo>
                    <a:pt x="322" y="994"/>
                  </a:lnTo>
                  <a:lnTo>
                    <a:pt x="329" y="997"/>
                  </a:lnTo>
                  <a:lnTo>
                    <a:pt x="336" y="998"/>
                  </a:lnTo>
                  <a:lnTo>
                    <a:pt x="343" y="1000"/>
                  </a:lnTo>
                  <a:lnTo>
                    <a:pt x="350" y="1000"/>
                  </a:lnTo>
                  <a:lnTo>
                    <a:pt x="360" y="1000"/>
                  </a:lnTo>
                  <a:lnTo>
                    <a:pt x="399" y="973"/>
                  </a:lnTo>
                  <a:lnTo>
                    <a:pt x="427" y="940"/>
                  </a:lnTo>
                  <a:lnTo>
                    <a:pt x="440" y="901"/>
                  </a:lnTo>
                  <a:lnTo>
                    <a:pt x="446" y="858"/>
                  </a:lnTo>
                  <a:lnTo>
                    <a:pt x="445" y="811"/>
                  </a:lnTo>
                  <a:lnTo>
                    <a:pt x="443" y="765"/>
                  </a:lnTo>
                  <a:lnTo>
                    <a:pt x="438" y="720"/>
                  </a:lnTo>
                  <a:lnTo>
                    <a:pt x="437" y="678"/>
                  </a:lnTo>
                  <a:lnTo>
                    <a:pt x="431" y="652"/>
                  </a:lnTo>
                  <a:lnTo>
                    <a:pt x="417" y="633"/>
                  </a:lnTo>
                  <a:lnTo>
                    <a:pt x="399" y="620"/>
                  </a:lnTo>
                  <a:lnTo>
                    <a:pt x="379" y="610"/>
                  </a:lnTo>
                  <a:lnTo>
                    <a:pt x="357" y="599"/>
                  </a:lnTo>
                  <a:lnTo>
                    <a:pt x="342" y="585"/>
                  </a:lnTo>
                  <a:lnTo>
                    <a:pt x="332" y="567"/>
                  </a:lnTo>
                  <a:lnTo>
                    <a:pt x="333" y="543"/>
                  </a:lnTo>
                  <a:lnTo>
                    <a:pt x="343" y="541"/>
                  </a:lnTo>
                  <a:lnTo>
                    <a:pt x="347" y="536"/>
                  </a:lnTo>
                  <a:lnTo>
                    <a:pt x="344" y="526"/>
                  </a:lnTo>
                  <a:lnTo>
                    <a:pt x="339" y="518"/>
                  </a:lnTo>
                  <a:lnTo>
                    <a:pt x="332" y="507"/>
                  </a:lnTo>
                  <a:lnTo>
                    <a:pt x="327" y="496"/>
                  </a:lnTo>
                  <a:lnTo>
                    <a:pt x="324" y="484"/>
                  </a:lnTo>
                  <a:lnTo>
                    <a:pt x="327" y="475"/>
                  </a:lnTo>
                  <a:lnTo>
                    <a:pt x="350" y="428"/>
                  </a:lnTo>
                  <a:lnTo>
                    <a:pt x="379" y="385"/>
                  </a:lnTo>
                  <a:lnTo>
                    <a:pt x="410" y="344"/>
                  </a:lnTo>
                  <a:lnTo>
                    <a:pt x="449" y="303"/>
                  </a:lnTo>
                  <a:lnTo>
                    <a:pt x="492" y="261"/>
                  </a:lnTo>
                  <a:lnTo>
                    <a:pt x="540" y="221"/>
                  </a:lnTo>
                  <a:lnTo>
                    <a:pt x="595" y="176"/>
                  </a:lnTo>
                  <a:lnTo>
                    <a:pt x="658" y="132"/>
                  </a:lnTo>
                  <a:lnTo>
                    <a:pt x="668" y="130"/>
                  </a:lnTo>
                  <a:lnTo>
                    <a:pt x="675" y="141"/>
                  </a:lnTo>
                  <a:lnTo>
                    <a:pt x="676" y="162"/>
                  </a:lnTo>
                  <a:lnTo>
                    <a:pt x="679" y="188"/>
                  </a:lnTo>
                  <a:lnTo>
                    <a:pt x="681" y="212"/>
                  </a:lnTo>
                  <a:lnTo>
                    <a:pt x="691" y="234"/>
                  </a:lnTo>
                  <a:lnTo>
                    <a:pt x="706" y="246"/>
                  </a:lnTo>
                  <a:lnTo>
                    <a:pt x="735" y="245"/>
                  </a:lnTo>
                  <a:lnTo>
                    <a:pt x="752" y="225"/>
                  </a:lnTo>
                  <a:lnTo>
                    <a:pt x="758" y="206"/>
                  </a:lnTo>
                  <a:lnTo>
                    <a:pt x="757" y="187"/>
                  </a:lnTo>
                  <a:lnTo>
                    <a:pt x="749" y="169"/>
                  </a:lnTo>
                  <a:lnTo>
                    <a:pt x="739" y="149"/>
                  </a:lnTo>
                  <a:lnTo>
                    <a:pt x="728" y="131"/>
                  </a:lnTo>
                  <a:lnTo>
                    <a:pt x="719" y="110"/>
                  </a:lnTo>
                  <a:lnTo>
                    <a:pt x="717" y="90"/>
                  </a:lnTo>
                  <a:lnTo>
                    <a:pt x="728" y="84"/>
                  </a:lnTo>
                  <a:lnTo>
                    <a:pt x="740" y="83"/>
                  </a:lnTo>
                  <a:lnTo>
                    <a:pt x="749" y="80"/>
                  </a:lnTo>
                  <a:lnTo>
                    <a:pt x="759" y="73"/>
                  </a:lnTo>
                  <a:lnTo>
                    <a:pt x="763" y="85"/>
                  </a:lnTo>
                  <a:lnTo>
                    <a:pt x="766" y="101"/>
                  </a:lnTo>
                  <a:lnTo>
                    <a:pt x="767" y="116"/>
                  </a:lnTo>
                  <a:lnTo>
                    <a:pt x="770" y="132"/>
                  </a:lnTo>
                  <a:lnTo>
                    <a:pt x="773" y="145"/>
                  </a:lnTo>
                  <a:lnTo>
                    <a:pt x="781" y="156"/>
                  </a:lnTo>
                  <a:lnTo>
                    <a:pt x="791" y="164"/>
                  </a:lnTo>
                  <a:lnTo>
                    <a:pt x="812" y="168"/>
                  </a:lnTo>
                  <a:lnTo>
                    <a:pt x="830" y="151"/>
                  </a:lnTo>
                  <a:lnTo>
                    <a:pt x="836" y="135"/>
                  </a:lnTo>
                  <a:lnTo>
                    <a:pt x="833" y="119"/>
                  </a:lnTo>
                  <a:lnTo>
                    <a:pt x="827" y="102"/>
                  </a:lnTo>
                  <a:lnTo>
                    <a:pt x="819" y="83"/>
                  </a:lnTo>
                  <a:lnTo>
                    <a:pt x="818" y="70"/>
                  </a:lnTo>
                  <a:lnTo>
                    <a:pt x="824" y="58"/>
                  </a:lnTo>
                  <a:lnTo>
                    <a:pt x="844" y="50"/>
                  </a:lnTo>
                  <a:lnTo>
                    <a:pt x="835" y="101"/>
                  </a:lnTo>
                  <a:lnTo>
                    <a:pt x="843" y="101"/>
                  </a:lnTo>
                  <a:lnTo>
                    <a:pt x="854" y="101"/>
                  </a:lnTo>
                  <a:lnTo>
                    <a:pt x="866" y="98"/>
                  </a:lnTo>
                  <a:lnTo>
                    <a:pt x="878" y="94"/>
                  </a:lnTo>
                  <a:lnTo>
                    <a:pt x="887" y="86"/>
                  </a:lnTo>
                  <a:lnTo>
                    <a:pt x="897" y="79"/>
                  </a:lnTo>
                  <a:lnTo>
                    <a:pt x="904" y="68"/>
                  </a:lnTo>
                  <a:lnTo>
                    <a:pt x="911" y="59"/>
                  </a:lnTo>
                  <a:lnTo>
                    <a:pt x="911" y="52"/>
                  </a:lnTo>
                  <a:lnTo>
                    <a:pt x="909" y="48"/>
                  </a:lnTo>
                  <a:lnTo>
                    <a:pt x="905" y="43"/>
                  </a:lnTo>
                  <a:lnTo>
                    <a:pt x="903" y="41"/>
                  </a:lnTo>
                  <a:lnTo>
                    <a:pt x="939" y="31"/>
                  </a:lnTo>
                  <a:lnTo>
                    <a:pt x="947" y="101"/>
                  </a:lnTo>
                  <a:lnTo>
                    <a:pt x="953" y="101"/>
                  </a:lnTo>
                  <a:lnTo>
                    <a:pt x="960" y="101"/>
                  </a:lnTo>
                  <a:lnTo>
                    <a:pt x="966" y="100"/>
                  </a:lnTo>
                  <a:lnTo>
                    <a:pt x="974" y="100"/>
                  </a:lnTo>
                  <a:lnTo>
                    <a:pt x="980" y="97"/>
                  </a:lnTo>
                  <a:lnTo>
                    <a:pt x="987" y="94"/>
                  </a:lnTo>
                  <a:lnTo>
                    <a:pt x="992" y="88"/>
                  </a:lnTo>
                  <a:lnTo>
                    <a:pt x="998" y="82"/>
                  </a:lnTo>
                  <a:lnTo>
                    <a:pt x="989" y="74"/>
                  </a:lnTo>
                  <a:lnTo>
                    <a:pt x="988" y="66"/>
                  </a:lnTo>
                  <a:lnTo>
                    <a:pt x="988" y="56"/>
                  </a:lnTo>
                  <a:lnTo>
                    <a:pt x="989" y="50"/>
                  </a:lnTo>
                  <a:lnTo>
                    <a:pt x="1024" y="50"/>
                  </a:lnTo>
                  <a:lnTo>
                    <a:pt x="1024" y="59"/>
                  </a:lnTo>
                  <a:lnTo>
                    <a:pt x="1023" y="70"/>
                  </a:lnTo>
                  <a:lnTo>
                    <a:pt x="1022" y="80"/>
                  </a:lnTo>
                  <a:lnTo>
                    <a:pt x="1022" y="94"/>
                  </a:lnTo>
                  <a:lnTo>
                    <a:pt x="1022" y="104"/>
                  </a:lnTo>
                  <a:lnTo>
                    <a:pt x="1026" y="114"/>
                  </a:lnTo>
                  <a:lnTo>
                    <a:pt x="1033" y="121"/>
                  </a:lnTo>
                  <a:lnTo>
                    <a:pt x="1048" y="126"/>
                  </a:lnTo>
                  <a:lnTo>
                    <a:pt x="1059" y="128"/>
                  </a:lnTo>
                  <a:lnTo>
                    <a:pt x="1071" y="127"/>
                  </a:lnTo>
                  <a:lnTo>
                    <a:pt x="1080" y="124"/>
                  </a:lnTo>
                  <a:lnTo>
                    <a:pt x="1090" y="118"/>
                  </a:lnTo>
                  <a:lnTo>
                    <a:pt x="1097" y="109"/>
                  </a:lnTo>
                  <a:lnTo>
                    <a:pt x="1105" y="100"/>
                  </a:lnTo>
                  <a:lnTo>
                    <a:pt x="1110" y="89"/>
                  </a:lnTo>
                  <a:lnTo>
                    <a:pt x="1116" y="82"/>
                  </a:lnTo>
                  <a:lnTo>
                    <a:pt x="1110" y="73"/>
                  </a:lnTo>
                  <a:lnTo>
                    <a:pt x="1146" y="80"/>
                  </a:lnTo>
                  <a:lnTo>
                    <a:pt x="1187" y="94"/>
                  </a:lnTo>
                  <a:lnTo>
                    <a:pt x="1229" y="112"/>
                  </a:lnTo>
                  <a:lnTo>
                    <a:pt x="1271" y="133"/>
                  </a:lnTo>
                  <a:lnTo>
                    <a:pt x="1309" y="159"/>
                  </a:lnTo>
                  <a:lnTo>
                    <a:pt x="1344" y="192"/>
                  </a:lnTo>
                  <a:lnTo>
                    <a:pt x="1374" y="229"/>
                  </a:lnTo>
                  <a:lnTo>
                    <a:pt x="1395" y="271"/>
                  </a:lnTo>
                  <a:lnTo>
                    <a:pt x="1304" y="357"/>
                  </a:lnTo>
                  <a:lnTo>
                    <a:pt x="1320" y="370"/>
                  </a:lnTo>
                  <a:lnTo>
                    <a:pt x="1336" y="385"/>
                  </a:lnTo>
                  <a:lnTo>
                    <a:pt x="1349" y="402"/>
                  </a:lnTo>
                  <a:lnTo>
                    <a:pt x="1364" y="422"/>
                  </a:lnTo>
                  <a:lnTo>
                    <a:pt x="1374" y="440"/>
                  </a:lnTo>
                  <a:lnTo>
                    <a:pt x="1384" y="461"/>
                  </a:lnTo>
                  <a:lnTo>
                    <a:pt x="1391" y="483"/>
                  </a:lnTo>
                  <a:lnTo>
                    <a:pt x="1395" y="507"/>
                  </a:lnTo>
                  <a:lnTo>
                    <a:pt x="1411" y="488"/>
                  </a:lnTo>
                  <a:lnTo>
                    <a:pt x="1443" y="436"/>
                  </a:lnTo>
                  <a:lnTo>
                    <a:pt x="1487" y="363"/>
                  </a:lnTo>
                  <a:lnTo>
                    <a:pt x="1541" y="278"/>
                  </a:lnTo>
                  <a:lnTo>
                    <a:pt x="1597" y="189"/>
                  </a:lnTo>
                  <a:lnTo>
                    <a:pt x="1659" y="108"/>
                  </a:lnTo>
                  <a:lnTo>
                    <a:pt x="1719" y="41"/>
                  </a:lnTo>
                  <a:lnTo>
                    <a:pt x="1779" y="0"/>
                  </a:lnTo>
                  <a:lnTo>
                    <a:pt x="1829" y="64"/>
                  </a:lnTo>
                  <a:lnTo>
                    <a:pt x="1865" y="134"/>
                  </a:lnTo>
                  <a:lnTo>
                    <a:pt x="1888" y="211"/>
                  </a:lnTo>
                  <a:lnTo>
                    <a:pt x="1901" y="294"/>
                  </a:lnTo>
                  <a:lnTo>
                    <a:pt x="1906" y="376"/>
                  </a:lnTo>
                  <a:lnTo>
                    <a:pt x="1907" y="459"/>
                  </a:lnTo>
                  <a:lnTo>
                    <a:pt x="1906" y="541"/>
                  </a:lnTo>
                  <a:lnTo>
                    <a:pt x="1906" y="618"/>
                  </a:lnTo>
                  <a:lnTo>
                    <a:pt x="1891" y="676"/>
                  </a:lnTo>
                  <a:lnTo>
                    <a:pt x="1876" y="737"/>
                  </a:lnTo>
                  <a:lnTo>
                    <a:pt x="1857" y="797"/>
                  </a:lnTo>
                  <a:lnTo>
                    <a:pt x="1834" y="856"/>
                  </a:lnTo>
                  <a:lnTo>
                    <a:pt x="1804" y="910"/>
                  </a:lnTo>
                  <a:lnTo>
                    <a:pt x="1766" y="956"/>
                  </a:lnTo>
                  <a:lnTo>
                    <a:pt x="1718" y="996"/>
                  </a:lnTo>
                  <a:lnTo>
                    <a:pt x="1662" y="1027"/>
                  </a:lnTo>
                  <a:lnTo>
                    <a:pt x="1648" y="1028"/>
                  </a:lnTo>
                  <a:lnTo>
                    <a:pt x="1639" y="1026"/>
                  </a:lnTo>
                  <a:lnTo>
                    <a:pt x="1629" y="1020"/>
                  </a:lnTo>
                  <a:lnTo>
                    <a:pt x="1622" y="1014"/>
                  </a:lnTo>
                  <a:lnTo>
                    <a:pt x="1615" y="1006"/>
                  </a:lnTo>
                  <a:lnTo>
                    <a:pt x="1609" y="997"/>
                  </a:lnTo>
                  <a:lnTo>
                    <a:pt x="1604" y="988"/>
                  </a:lnTo>
                  <a:lnTo>
                    <a:pt x="1600" y="982"/>
                  </a:lnTo>
                  <a:lnTo>
                    <a:pt x="1594" y="952"/>
                  </a:lnTo>
                  <a:lnTo>
                    <a:pt x="1596" y="923"/>
                  </a:lnTo>
                  <a:lnTo>
                    <a:pt x="1600" y="893"/>
                  </a:lnTo>
                  <a:lnTo>
                    <a:pt x="1609" y="864"/>
                  </a:lnTo>
                  <a:lnTo>
                    <a:pt x="1617" y="834"/>
                  </a:lnTo>
                  <a:lnTo>
                    <a:pt x="1628" y="807"/>
                  </a:lnTo>
                  <a:lnTo>
                    <a:pt x="1636" y="780"/>
                  </a:lnTo>
                  <a:lnTo>
                    <a:pt x="1644" y="755"/>
                  </a:lnTo>
                  <a:lnTo>
                    <a:pt x="1629" y="743"/>
                  </a:lnTo>
                  <a:lnTo>
                    <a:pt x="1616" y="738"/>
                  </a:lnTo>
                  <a:lnTo>
                    <a:pt x="1603" y="737"/>
                  </a:lnTo>
                  <a:lnTo>
                    <a:pt x="1591" y="740"/>
                  </a:lnTo>
                  <a:lnTo>
                    <a:pt x="1579" y="742"/>
                  </a:lnTo>
                  <a:lnTo>
                    <a:pt x="1567" y="746"/>
                  </a:lnTo>
                  <a:lnTo>
                    <a:pt x="1554" y="747"/>
                  </a:lnTo>
                  <a:lnTo>
                    <a:pt x="1541" y="746"/>
                  </a:lnTo>
                  <a:lnTo>
                    <a:pt x="1523" y="764"/>
                  </a:lnTo>
                  <a:lnTo>
                    <a:pt x="1511" y="786"/>
                  </a:lnTo>
                  <a:lnTo>
                    <a:pt x="1501" y="809"/>
                  </a:lnTo>
                  <a:lnTo>
                    <a:pt x="1494" y="833"/>
                  </a:lnTo>
                  <a:lnTo>
                    <a:pt x="1487" y="858"/>
                  </a:lnTo>
                  <a:lnTo>
                    <a:pt x="1481" y="882"/>
                  </a:lnTo>
                  <a:lnTo>
                    <a:pt x="1472" y="907"/>
                  </a:lnTo>
                  <a:lnTo>
                    <a:pt x="1464" y="931"/>
                  </a:lnTo>
                  <a:lnTo>
                    <a:pt x="1437" y="983"/>
                  </a:lnTo>
                  <a:lnTo>
                    <a:pt x="1400" y="1050"/>
                  </a:lnTo>
                  <a:lnTo>
                    <a:pt x="1358" y="1124"/>
                  </a:lnTo>
                  <a:lnTo>
                    <a:pt x="1313" y="1207"/>
                  </a:lnTo>
                  <a:lnTo>
                    <a:pt x="1267" y="1288"/>
                  </a:lnTo>
                  <a:lnTo>
                    <a:pt x="1230" y="1368"/>
                  </a:lnTo>
                  <a:lnTo>
                    <a:pt x="1199" y="1439"/>
                  </a:lnTo>
                  <a:lnTo>
                    <a:pt x="1183" y="1501"/>
                  </a:lnTo>
                  <a:lnTo>
                    <a:pt x="1177" y="1472"/>
                  </a:lnTo>
                  <a:lnTo>
                    <a:pt x="1164" y="1429"/>
                  </a:lnTo>
                  <a:lnTo>
                    <a:pt x="1144" y="1377"/>
                  </a:lnTo>
                  <a:lnTo>
                    <a:pt x="1121" y="1327"/>
                  </a:lnTo>
                  <a:lnTo>
                    <a:pt x="1092" y="1281"/>
                  </a:lnTo>
                  <a:lnTo>
                    <a:pt x="1063" y="1248"/>
                  </a:lnTo>
                  <a:lnTo>
                    <a:pt x="1033" y="1235"/>
                  </a:lnTo>
                  <a:lnTo>
                    <a:pt x="1006" y="1248"/>
                  </a:lnTo>
                  <a:lnTo>
                    <a:pt x="1030" y="1388"/>
                  </a:lnTo>
                  <a:lnTo>
                    <a:pt x="1036" y="1533"/>
                  </a:lnTo>
                  <a:lnTo>
                    <a:pt x="1024" y="1676"/>
                  </a:lnTo>
                  <a:lnTo>
                    <a:pt x="994" y="1816"/>
                  </a:lnTo>
                  <a:lnTo>
                    <a:pt x="944" y="1949"/>
                  </a:lnTo>
                  <a:lnTo>
                    <a:pt x="875" y="2071"/>
                  </a:lnTo>
                  <a:lnTo>
                    <a:pt x="788" y="2180"/>
                  </a:lnTo>
                  <a:lnTo>
                    <a:pt x="685" y="2275"/>
                  </a:lnTo>
                  <a:lnTo>
                    <a:pt x="583" y="2338"/>
                  </a:lnTo>
                  <a:lnTo>
                    <a:pt x="488" y="2376"/>
                  </a:lnTo>
                  <a:lnTo>
                    <a:pt x="397" y="2390"/>
                  </a:lnTo>
                  <a:lnTo>
                    <a:pt x="314" y="2383"/>
                  </a:lnTo>
                  <a:lnTo>
                    <a:pt x="233" y="2350"/>
                  </a:lnTo>
                  <a:lnTo>
                    <a:pt x="160" y="2301"/>
                  </a:lnTo>
                  <a:lnTo>
                    <a:pt x="90" y="2232"/>
                  </a:lnTo>
                  <a:lnTo>
                    <a:pt x="29" y="214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2536560" y="4444920"/>
              <a:ext cx="260280" cy="139680"/>
            </a:xfrm>
            <a:custGeom>
              <a:avLst/>
              <a:gdLst/>
              <a:ahLst/>
              <a:rect l="l" t="t" r="r" b="b"/>
              <a:pathLst>
                <a:path w="494" h="263">
                  <a:moveTo>
                    <a:pt x="0" y="15"/>
                  </a:moveTo>
                  <a:lnTo>
                    <a:pt x="12" y="48"/>
                  </a:lnTo>
                  <a:lnTo>
                    <a:pt x="31" y="76"/>
                  </a:lnTo>
                  <a:lnTo>
                    <a:pt x="52" y="104"/>
                  </a:lnTo>
                  <a:lnTo>
                    <a:pt x="79" y="128"/>
                  </a:lnTo>
                  <a:lnTo>
                    <a:pt x="108" y="146"/>
                  </a:lnTo>
                  <a:lnTo>
                    <a:pt x="140" y="163"/>
                  </a:lnTo>
                  <a:lnTo>
                    <a:pt x="172" y="172"/>
                  </a:lnTo>
                  <a:lnTo>
                    <a:pt x="206" y="178"/>
                  </a:lnTo>
                  <a:lnTo>
                    <a:pt x="243" y="177"/>
                  </a:lnTo>
                  <a:lnTo>
                    <a:pt x="278" y="171"/>
                  </a:lnTo>
                  <a:lnTo>
                    <a:pt x="310" y="159"/>
                  </a:lnTo>
                  <a:lnTo>
                    <a:pt x="344" y="141"/>
                  </a:lnTo>
                  <a:lnTo>
                    <a:pt x="375" y="116"/>
                  </a:lnTo>
                  <a:lnTo>
                    <a:pt x="408" y="86"/>
                  </a:lnTo>
                  <a:lnTo>
                    <a:pt x="443" y="50"/>
                  </a:lnTo>
                  <a:lnTo>
                    <a:pt x="484" y="7"/>
                  </a:lnTo>
                  <a:lnTo>
                    <a:pt x="494" y="0"/>
                  </a:lnTo>
                  <a:lnTo>
                    <a:pt x="494" y="15"/>
                  </a:lnTo>
                  <a:lnTo>
                    <a:pt x="484" y="44"/>
                  </a:lnTo>
                  <a:lnTo>
                    <a:pt x="468" y="84"/>
                  </a:lnTo>
                  <a:lnTo>
                    <a:pt x="444" y="127"/>
                  </a:lnTo>
                  <a:lnTo>
                    <a:pt x="419" y="169"/>
                  </a:lnTo>
                  <a:lnTo>
                    <a:pt x="390" y="203"/>
                  </a:lnTo>
                  <a:lnTo>
                    <a:pt x="363" y="229"/>
                  </a:lnTo>
                  <a:lnTo>
                    <a:pt x="334" y="242"/>
                  </a:lnTo>
                  <a:lnTo>
                    <a:pt x="305" y="252"/>
                  </a:lnTo>
                  <a:lnTo>
                    <a:pt x="277" y="260"/>
                  </a:lnTo>
                  <a:lnTo>
                    <a:pt x="247" y="263"/>
                  </a:lnTo>
                  <a:lnTo>
                    <a:pt x="217" y="261"/>
                  </a:lnTo>
                  <a:lnTo>
                    <a:pt x="187" y="256"/>
                  </a:lnTo>
                  <a:lnTo>
                    <a:pt x="158" y="244"/>
                  </a:lnTo>
                  <a:lnTo>
                    <a:pt x="130" y="229"/>
                  </a:lnTo>
                  <a:lnTo>
                    <a:pt x="110" y="212"/>
                  </a:lnTo>
                  <a:lnTo>
                    <a:pt x="92" y="196"/>
                  </a:lnTo>
                  <a:lnTo>
                    <a:pt x="73" y="177"/>
                  </a:lnTo>
                  <a:lnTo>
                    <a:pt x="58" y="158"/>
                  </a:lnTo>
                  <a:lnTo>
                    <a:pt x="43" y="135"/>
                  </a:lnTo>
                  <a:lnTo>
                    <a:pt x="31" y="113"/>
                  </a:lnTo>
                  <a:lnTo>
                    <a:pt x="18" y="88"/>
                  </a:lnTo>
                  <a:lnTo>
                    <a:pt x="9" y="6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1330560" y="4187880"/>
              <a:ext cx="38160" cy="68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71" y="128"/>
                  </a:moveTo>
                  <a:lnTo>
                    <a:pt x="71" y="128"/>
                  </a:lnTo>
                  <a:lnTo>
                    <a:pt x="59" y="120"/>
                  </a:lnTo>
                  <a:lnTo>
                    <a:pt x="46" y="115"/>
                  </a:lnTo>
                  <a:lnTo>
                    <a:pt x="30" y="109"/>
                  </a:lnTo>
                  <a:lnTo>
                    <a:pt x="17" y="103"/>
                  </a:lnTo>
                  <a:lnTo>
                    <a:pt x="5" y="95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12" y="54"/>
                  </a:lnTo>
                  <a:lnTo>
                    <a:pt x="10" y="19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3" y="10"/>
                  </a:lnTo>
                  <a:lnTo>
                    <a:pt x="57" y="29"/>
                  </a:lnTo>
                  <a:lnTo>
                    <a:pt x="69" y="56"/>
                  </a:lnTo>
                  <a:lnTo>
                    <a:pt x="73" y="90"/>
                  </a:lnTo>
                  <a:lnTo>
                    <a:pt x="71" y="12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1717560" y="3738600"/>
              <a:ext cx="66600" cy="1396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57" y="1"/>
                  </a:moveTo>
                  <a:lnTo>
                    <a:pt x="72" y="0"/>
                  </a:lnTo>
                  <a:lnTo>
                    <a:pt x="89" y="6"/>
                  </a:lnTo>
                  <a:lnTo>
                    <a:pt x="102" y="19"/>
                  </a:lnTo>
                  <a:lnTo>
                    <a:pt x="115" y="35"/>
                  </a:lnTo>
                  <a:lnTo>
                    <a:pt x="122" y="51"/>
                  </a:lnTo>
                  <a:lnTo>
                    <a:pt x="127" y="65"/>
                  </a:lnTo>
                  <a:lnTo>
                    <a:pt x="126" y="76"/>
                  </a:lnTo>
                  <a:lnTo>
                    <a:pt x="120" y="79"/>
                  </a:lnTo>
                  <a:lnTo>
                    <a:pt x="75" y="83"/>
                  </a:lnTo>
                  <a:lnTo>
                    <a:pt x="48" y="102"/>
                  </a:lnTo>
                  <a:lnTo>
                    <a:pt x="31" y="130"/>
                  </a:lnTo>
                  <a:lnTo>
                    <a:pt x="26" y="166"/>
                  </a:lnTo>
                  <a:lnTo>
                    <a:pt x="23" y="200"/>
                  </a:lnTo>
                  <a:lnTo>
                    <a:pt x="26" y="232"/>
                  </a:lnTo>
                  <a:lnTo>
                    <a:pt x="28" y="253"/>
                  </a:lnTo>
                  <a:lnTo>
                    <a:pt x="25" y="265"/>
                  </a:lnTo>
                  <a:lnTo>
                    <a:pt x="16" y="254"/>
                  </a:lnTo>
                  <a:lnTo>
                    <a:pt x="8" y="229"/>
                  </a:lnTo>
                  <a:lnTo>
                    <a:pt x="2" y="191"/>
                  </a:lnTo>
                  <a:lnTo>
                    <a:pt x="0" y="148"/>
                  </a:lnTo>
                  <a:lnTo>
                    <a:pt x="2" y="100"/>
                  </a:lnTo>
                  <a:lnTo>
                    <a:pt x="12" y="57"/>
                  </a:lnTo>
                  <a:lnTo>
                    <a:pt x="30" y="23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1400400" y="3654360"/>
              <a:ext cx="155520" cy="236520"/>
            </a:xfrm>
            <a:custGeom>
              <a:avLst/>
              <a:gdLst/>
              <a:ahLst/>
              <a:rect l="l" t="t" r="r" b="b"/>
              <a:pathLst>
                <a:path w="295" h="445">
                  <a:moveTo>
                    <a:pt x="0" y="90"/>
                  </a:moveTo>
                  <a:lnTo>
                    <a:pt x="16" y="73"/>
                  </a:lnTo>
                  <a:lnTo>
                    <a:pt x="67" y="152"/>
                  </a:lnTo>
                  <a:lnTo>
                    <a:pt x="78" y="137"/>
                  </a:lnTo>
                  <a:lnTo>
                    <a:pt x="81" y="123"/>
                  </a:lnTo>
                  <a:lnTo>
                    <a:pt x="78" y="108"/>
                  </a:lnTo>
                  <a:lnTo>
                    <a:pt x="70" y="94"/>
                  </a:lnTo>
                  <a:lnTo>
                    <a:pt x="61" y="78"/>
                  </a:lnTo>
                  <a:lnTo>
                    <a:pt x="52" y="64"/>
                  </a:lnTo>
                  <a:lnTo>
                    <a:pt x="48" y="48"/>
                  </a:lnTo>
                  <a:lnTo>
                    <a:pt x="50" y="31"/>
                  </a:lnTo>
                  <a:lnTo>
                    <a:pt x="57" y="30"/>
                  </a:lnTo>
                  <a:lnTo>
                    <a:pt x="64" y="30"/>
                  </a:lnTo>
                  <a:lnTo>
                    <a:pt x="70" y="28"/>
                  </a:lnTo>
                  <a:lnTo>
                    <a:pt x="75" y="23"/>
                  </a:lnTo>
                  <a:lnTo>
                    <a:pt x="78" y="31"/>
                  </a:lnTo>
                  <a:lnTo>
                    <a:pt x="81" y="42"/>
                  </a:lnTo>
                  <a:lnTo>
                    <a:pt x="84" y="53"/>
                  </a:lnTo>
                  <a:lnTo>
                    <a:pt x="88" y="63"/>
                  </a:lnTo>
                  <a:lnTo>
                    <a:pt x="92" y="72"/>
                  </a:lnTo>
                  <a:lnTo>
                    <a:pt x="97" y="82"/>
                  </a:lnTo>
                  <a:lnTo>
                    <a:pt x="103" y="90"/>
                  </a:lnTo>
                  <a:lnTo>
                    <a:pt x="111" y="99"/>
                  </a:lnTo>
                  <a:lnTo>
                    <a:pt x="124" y="84"/>
                  </a:lnTo>
                  <a:lnTo>
                    <a:pt x="129" y="67"/>
                  </a:lnTo>
                  <a:lnTo>
                    <a:pt x="127" y="48"/>
                  </a:lnTo>
                  <a:lnTo>
                    <a:pt x="123" y="29"/>
                  </a:lnTo>
                  <a:lnTo>
                    <a:pt x="120" y="12"/>
                  </a:lnTo>
                  <a:lnTo>
                    <a:pt x="123" y="3"/>
                  </a:lnTo>
                  <a:lnTo>
                    <a:pt x="135" y="0"/>
                  </a:lnTo>
                  <a:lnTo>
                    <a:pt x="161" y="9"/>
                  </a:lnTo>
                  <a:lnTo>
                    <a:pt x="166" y="12"/>
                  </a:lnTo>
                  <a:lnTo>
                    <a:pt x="167" y="22"/>
                  </a:lnTo>
                  <a:lnTo>
                    <a:pt x="165" y="31"/>
                  </a:lnTo>
                  <a:lnTo>
                    <a:pt x="164" y="45"/>
                  </a:lnTo>
                  <a:lnTo>
                    <a:pt x="161" y="54"/>
                  </a:lnTo>
                  <a:lnTo>
                    <a:pt x="163" y="63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95" y="69"/>
                  </a:lnTo>
                  <a:lnTo>
                    <a:pt x="213" y="72"/>
                  </a:lnTo>
                  <a:lnTo>
                    <a:pt x="225" y="79"/>
                  </a:lnTo>
                  <a:lnTo>
                    <a:pt x="236" y="91"/>
                  </a:lnTo>
                  <a:lnTo>
                    <a:pt x="243" y="103"/>
                  </a:lnTo>
                  <a:lnTo>
                    <a:pt x="250" y="119"/>
                  </a:lnTo>
                  <a:lnTo>
                    <a:pt x="255" y="131"/>
                  </a:lnTo>
                  <a:lnTo>
                    <a:pt x="261" y="144"/>
                  </a:lnTo>
                  <a:lnTo>
                    <a:pt x="274" y="175"/>
                  </a:lnTo>
                  <a:lnTo>
                    <a:pt x="285" y="210"/>
                  </a:lnTo>
                  <a:lnTo>
                    <a:pt x="291" y="250"/>
                  </a:lnTo>
                  <a:lnTo>
                    <a:pt x="295" y="289"/>
                  </a:lnTo>
                  <a:lnTo>
                    <a:pt x="291" y="329"/>
                  </a:lnTo>
                  <a:lnTo>
                    <a:pt x="284" y="368"/>
                  </a:lnTo>
                  <a:lnTo>
                    <a:pt x="267" y="402"/>
                  </a:lnTo>
                  <a:lnTo>
                    <a:pt x="247" y="433"/>
                  </a:lnTo>
                  <a:lnTo>
                    <a:pt x="202" y="445"/>
                  </a:lnTo>
                  <a:lnTo>
                    <a:pt x="167" y="433"/>
                  </a:lnTo>
                  <a:lnTo>
                    <a:pt x="136" y="401"/>
                  </a:lnTo>
                  <a:lnTo>
                    <a:pt x="114" y="359"/>
                  </a:lnTo>
                  <a:lnTo>
                    <a:pt x="94" y="308"/>
                  </a:lnTo>
                  <a:lnTo>
                    <a:pt x="80" y="258"/>
                  </a:lnTo>
                  <a:lnTo>
                    <a:pt x="70" y="214"/>
                  </a:lnTo>
                  <a:lnTo>
                    <a:pt x="67" y="185"/>
                  </a:lnTo>
                  <a:lnTo>
                    <a:pt x="51" y="179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21" y="146"/>
                  </a:lnTo>
                  <a:lnTo>
                    <a:pt x="13" y="132"/>
                  </a:lnTo>
                  <a:lnTo>
                    <a:pt x="8" y="119"/>
                  </a:lnTo>
                  <a:lnTo>
                    <a:pt x="3" y="10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546200" y="3355920"/>
              <a:ext cx="385920" cy="482760"/>
            </a:xfrm>
            <a:custGeom>
              <a:avLst/>
              <a:gdLst/>
              <a:ahLst/>
              <a:rect l="l" t="t" r="r" b="b"/>
              <a:pathLst>
                <a:path w="730" h="912">
                  <a:moveTo>
                    <a:pt x="9" y="835"/>
                  </a:moveTo>
                  <a:lnTo>
                    <a:pt x="0" y="720"/>
                  </a:lnTo>
                  <a:lnTo>
                    <a:pt x="9" y="612"/>
                  </a:lnTo>
                  <a:lnTo>
                    <a:pt x="33" y="506"/>
                  </a:lnTo>
                  <a:lnTo>
                    <a:pt x="69" y="404"/>
                  </a:lnTo>
                  <a:lnTo>
                    <a:pt x="110" y="302"/>
                  </a:lnTo>
                  <a:lnTo>
                    <a:pt x="155" y="201"/>
                  </a:lnTo>
                  <a:lnTo>
                    <a:pt x="199" y="100"/>
                  </a:lnTo>
                  <a:lnTo>
                    <a:pt x="236" y="0"/>
                  </a:lnTo>
                  <a:lnTo>
                    <a:pt x="271" y="6"/>
                  </a:lnTo>
                  <a:lnTo>
                    <a:pt x="307" y="8"/>
                  </a:lnTo>
                  <a:lnTo>
                    <a:pt x="341" y="8"/>
                  </a:lnTo>
                  <a:lnTo>
                    <a:pt x="377" y="9"/>
                  </a:lnTo>
                  <a:lnTo>
                    <a:pt x="410" y="9"/>
                  </a:lnTo>
                  <a:lnTo>
                    <a:pt x="444" y="11"/>
                  </a:lnTo>
                  <a:lnTo>
                    <a:pt x="476" y="15"/>
                  </a:lnTo>
                  <a:lnTo>
                    <a:pt x="508" y="26"/>
                  </a:lnTo>
                  <a:lnTo>
                    <a:pt x="534" y="26"/>
                  </a:lnTo>
                  <a:lnTo>
                    <a:pt x="520" y="27"/>
                  </a:lnTo>
                  <a:lnTo>
                    <a:pt x="528" y="32"/>
                  </a:lnTo>
                  <a:lnTo>
                    <a:pt x="552" y="41"/>
                  </a:lnTo>
                  <a:lnTo>
                    <a:pt x="587" y="54"/>
                  </a:lnTo>
                  <a:lnTo>
                    <a:pt x="627" y="67"/>
                  </a:lnTo>
                  <a:lnTo>
                    <a:pt x="666" y="82"/>
                  </a:lnTo>
                  <a:lnTo>
                    <a:pt x="702" y="99"/>
                  </a:lnTo>
                  <a:lnTo>
                    <a:pt x="728" y="121"/>
                  </a:lnTo>
                  <a:lnTo>
                    <a:pt x="730" y="128"/>
                  </a:lnTo>
                  <a:lnTo>
                    <a:pt x="725" y="132"/>
                  </a:lnTo>
                  <a:lnTo>
                    <a:pt x="712" y="132"/>
                  </a:lnTo>
                  <a:lnTo>
                    <a:pt x="696" y="129"/>
                  </a:lnTo>
                  <a:lnTo>
                    <a:pt x="677" y="123"/>
                  </a:lnTo>
                  <a:lnTo>
                    <a:pt x="658" y="118"/>
                  </a:lnTo>
                  <a:lnTo>
                    <a:pt x="643" y="110"/>
                  </a:lnTo>
                  <a:lnTo>
                    <a:pt x="635" y="103"/>
                  </a:lnTo>
                  <a:lnTo>
                    <a:pt x="609" y="84"/>
                  </a:lnTo>
                  <a:lnTo>
                    <a:pt x="582" y="68"/>
                  </a:lnTo>
                  <a:lnTo>
                    <a:pt x="552" y="56"/>
                  </a:lnTo>
                  <a:lnTo>
                    <a:pt x="522" y="48"/>
                  </a:lnTo>
                  <a:lnTo>
                    <a:pt x="491" y="42"/>
                  </a:lnTo>
                  <a:lnTo>
                    <a:pt x="460" y="39"/>
                  </a:lnTo>
                  <a:lnTo>
                    <a:pt x="429" y="39"/>
                  </a:lnTo>
                  <a:lnTo>
                    <a:pt x="399" y="44"/>
                  </a:lnTo>
                  <a:lnTo>
                    <a:pt x="389" y="47"/>
                  </a:lnTo>
                  <a:lnTo>
                    <a:pt x="381" y="51"/>
                  </a:lnTo>
                  <a:lnTo>
                    <a:pt x="372" y="58"/>
                  </a:lnTo>
                  <a:lnTo>
                    <a:pt x="368" y="68"/>
                  </a:lnTo>
                  <a:lnTo>
                    <a:pt x="362" y="75"/>
                  </a:lnTo>
                  <a:lnTo>
                    <a:pt x="362" y="85"/>
                  </a:lnTo>
                  <a:lnTo>
                    <a:pt x="364" y="93"/>
                  </a:lnTo>
                  <a:lnTo>
                    <a:pt x="372" y="103"/>
                  </a:lnTo>
                  <a:lnTo>
                    <a:pt x="381" y="110"/>
                  </a:lnTo>
                  <a:lnTo>
                    <a:pt x="390" y="123"/>
                  </a:lnTo>
                  <a:lnTo>
                    <a:pt x="394" y="127"/>
                  </a:lnTo>
                  <a:lnTo>
                    <a:pt x="400" y="130"/>
                  </a:lnTo>
                  <a:lnTo>
                    <a:pt x="407" y="130"/>
                  </a:lnTo>
                  <a:lnTo>
                    <a:pt x="416" y="130"/>
                  </a:lnTo>
                  <a:lnTo>
                    <a:pt x="422" y="126"/>
                  </a:lnTo>
                  <a:lnTo>
                    <a:pt x="426" y="120"/>
                  </a:lnTo>
                  <a:lnTo>
                    <a:pt x="430" y="111"/>
                  </a:lnTo>
                  <a:lnTo>
                    <a:pt x="432" y="104"/>
                  </a:lnTo>
                  <a:lnTo>
                    <a:pt x="431" y="97"/>
                  </a:lnTo>
                  <a:lnTo>
                    <a:pt x="430" y="90"/>
                  </a:lnTo>
                  <a:lnTo>
                    <a:pt x="425" y="84"/>
                  </a:lnTo>
                  <a:lnTo>
                    <a:pt x="422" y="80"/>
                  </a:lnTo>
                  <a:lnTo>
                    <a:pt x="452" y="80"/>
                  </a:lnTo>
                  <a:lnTo>
                    <a:pt x="490" y="82"/>
                  </a:lnTo>
                  <a:lnTo>
                    <a:pt x="528" y="86"/>
                  </a:lnTo>
                  <a:lnTo>
                    <a:pt x="568" y="93"/>
                  </a:lnTo>
                  <a:lnTo>
                    <a:pt x="599" y="103"/>
                  </a:lnTo>
                  <a:lnTo>
                    <a:pt x="624" y="118"/>
                  </a:lnTo>
                  <a:lnTo>
                    <a:pt x="635" y="138"/>
                  </a:lnTo>
                  <a:lnTo>
                    <a:pt x="629" y="162"/>
                  </a:lnTo>
                  <a:lnTo>
                    <a:pt x="587" y="217"/>
                  </a:lnTo>
                  <a:lnTo>
                    <a:pt x="541" y="268"/>
                  </a:lnTo>
                  <a:lnTo>
                    <a:pt x="494" y="317"/>
                  </a:lnTo>
                  <a:lnTo>
                    <a:pt x="446" y="368"/>
                  </a:lnTo>
                  <a:lnTo>
                    <a:pt x="396" y="416"/>
                  </a:lnTo>
                  <a:lnTo>
                    <a:pt x="352" y="467"/>
                  </a:lnTo>
                  <a:lnTo>
                    <a:pt x="313" y="521"/>
                  </a:lnTo>
                  <a:lnTo>
                    <a:pt x="280" y="581"/>
                  </a:lnTo>
                  <a:lnTo>
                    <a:pt x="273" y="587"/>
                  </a:lnTo>
                  <a:lnTo>
                    <a:pt x="267" y="593"/>
                  </a:lnTo>
                  <a:lnTo>
                    <a:pt x="259" y="598"/>
                  </a:lnTo>
                  <a:lnTo>
                    <a:pt x="251" y="603"/>
                  </a:lnTo>
                  <a:lnTo>
                    <a:pt x="243" y="606"/>
                  </a:lnTo>
                  <a:lnTo>
                    <a:pt x="235" y="612"/>
                  </a:lnTo>
                  <a:lnTo>
                    <a:pt x="230" y="617"/>
                  </a:lnTo>
                  <a:lnTo>
                    <a:pt x="227" y="623"/>
                  </a:lnTo>
                  <a:lnTo>
                    <a:pt x="224" y="633"/>
                  </a:lnTo>
                  <a:lnTo>
                    <a:pt x="225" y="643"/>
                  </a:lnTo>
                  <a:lnTo>
                    <a:pt x="227" y="654"/>
                  </a:lnTo>
                  <a:lnTo>
                    <a:pt x="232" y="665"/>
                  </a:lnTo>
                  <a:lnTo>
                    <a:pt x="237" y="676"/>
                  </a:lnTo>
                  <a:lnTo>
                    <a:pt x="244" y="687"/>
                  </a:lnTo>
                  <a:lnTo>
                    <a:pt x="249" y="697"/>
                  </a:lnTo>
                  <a:lnTo>
                    <a:pt x="254" y="708"/>
                  </a:lnTo>
                  <a:lnTo>
                    <a:pt x="244" y="695"/>
                  </a:lnTo>
                  <a:lnTo>
                    <a:pt x="237" y="682"/>
                  </a:lnTo>
                  <a:lnTo>
                    <a:pt x="232" y="665"/>
                  </a:lnTo>
                  <a:lnTo>
                    <a:pt x="229" y="651"/>
                  </a:lnTo>
                  <a:lnTo>
                    <a:pt x="224" y="636"/>
                  </a:lnTo>
                  <a:lnTo>
                    <a:pt x="218" y="625"/>
                  </a:lnTo>
                  <a:lnTo>
                    <a:pt x="208" y="617"/>
                  </a:lnTo>
                  <a:lnTo>
                    <a:pt x="195" y="613"/>
                  </a:lnTo>
                  <a:lnTo>
                    <a:pt x="183" y="627"/>
                  </a:lnTo>
                  <a:lnTo>
                    <a:pt x="177" y="641"/>
                  </a:lnTo>
                  <a:lnTo>
                    <a:pt x="176" y="655"/>
                  </a:lnTo>
                  <a:lnTo>
                    <a:pt x="178" y="673"/>
                  </a:lnTo>
                  <a:lnTo>
                    <a:pt x="183" y="688"/>
                  </a:lnTo>
                  <a:lnTo>
                    <a:pt x="190" y="703"/>
                  </a:lnTo>
                  <a:lnTo>
                    <a:pt x="196" y="716"/>
                  </a:lnTo>
                  <a:lnTo>
                    <a:pt x="203" y="732"/>
                  </a:lnTo>
                  <a:lnTo>
                    <a:pt x="221" y="733"/>
                  </a:lnTo>
                  <a:lnTo>
                    <a:pt x="235" y="742"/>
                  </a:lnTo>
                  <a:lnTo>
                    <a:pt x="241" y="752"/>
                  </a:lnTo>
                  <a:lnTo>
                    <a:pt x="245" y="768"/>
                  </a:lnTo>
                  <a:lnTo>
                    <a:pt x="244" y="785"/>
                  </a:lnTo>
                  <a:lnTo>
                    <a:pt x="241" y="803"/>
                  </a:lnTo>
                  <a:lnTo>
                    <a:pt x="238" y="820"/>
                  </a:lnTo>
                  <a:lnTo>
                    <a:pt x="236" y="835"/>
                  </a:lnTo>
                  <a:lnTo>
                    <a:pt x="232" y="846"/>
                  </a:lnTo>
                  <a:lnTo>
                    <a:pt x="230" y="858"/>
                  </a:lnTo>
                  <a:lnTo>
                    <a:pt x="225" y="869"/>
                  </a:lnTo>
                  <a:lnTo>
                    <a:pt x="221" y="879"/>
                  </a:lnTo>
                  <a:lnTo>
                    <a:pt x="214" y="889"/>
                  </a:lnTo>
                  <a:lnTo>
                    <a:pt x="207" y="897"/>
                  </a:lnTo>
                  <a:lnTo>
                    <a:pt x="197" y="905"/>
                  </a:lnTo>
                  <a:lnTo>
                    <a:pt x="187" y="911"/>
                  </a:lnTo>
                  <a:lnTo>
                    <a:pt x="160" y="911"/>
                  </a:lnTo>
                  <a:lnTo>
                    <a:pt x="134" y="912"/>
                  </a:lnTo>
                  <a:lnTo>
                    <a:pt x="106" y="911"/>
                  </a:lnTo>
                  <a:lnTo>
                    <a:pt x="81" y="907"/>
                  </a:lnTo>
                  <a:lnTo>
                    <a:pt x="55" y="897"/>
                  </a:lnTo>
                  <a:lnTo>
                    <a:pt x="34" y="884"/>
                  </a:lnTo>
                  <a:lnTo>
                    <a:pt x="18" y="864"/>
                  </a:lnTo>
                  <a:lnTo>
                    <a:pt x="9" y="83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1422360" y="3711600"/>
              <a:ext cx="76320" cy="824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9" y="78"/>
                  </a:moveTo>
                  <a:lnTo>
                    <a:pt x="145" y="146"/>
                  </a:lnTo>
                  <a:lnTo>
                    <a:pt x="137" y="132"/>
                  </a:lnTo>
                  <a:lnTo>
                    <a:pt x="129" y="120"/>
                  </a:lnTo>
                  <a:lnTo>
                    <a:pt x="118" y="109"/>
                  </a:lnTo>
                  <a:lnTo>
                    <a:pt x="105" y="102"/>
                  </a:lnTo>
                  <a:lnTo>
                    <a:pt x="88" y="93"/>
                  </a:lnTo>
                  <a:lnTo>
                    <a:pt x="74" y="87"/>
                  </a:lnTo>
                  <a:lnTo>
                    <a:pt x="59" y="81"/>
                  </a:lnTo>
                  <a:lnTo>
                    <a:pt x="45" y="78"/>
                  </a:lnTo>
                  <a:lnTo>
                    <a:pt x="33" y="84"/>
                  </a:lnTo>
                  <a:lnTo>
                    <a:pt x="25" y="92"/>
                  </a:lnTo>
                  <a:lnTo>
                    <a:pt x="18" y="101"/>
                  </a:lnTo>
                  <a:lnTo>
                    <a:pt x="14" y="111"/>
                  </a:lnTo>
                  <a:lnTo>
                    <a:pt x="10" y="122"/>
                  </a:lnTo>
                  <a:lnTo>
                    <a:pt x="7" y="133"/>
                  </a:lnTo>
                  <a:lnTo>
                    <a:pt x="4" y="144"/>
                  </a:lnTo>
                  <a:lnTo>
                    <a:pt x="3" y="155"/>
                  </a:lnTo>
                  <a:lnTo>
                    <a:pt x="3" y="137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2" y="23"/>
                  </a:lnTo>
                  <a:lnTo>
                    <a:pt x="27" y="11"/>
                  </a:lnTo>
                  <a:lnTo>
                    <a:pt x="44" y="1"/>
                  </a:lnTo>
                  <a:lnTo>
                    <a:pt x="62" y="0"/>
                  </a:lnTo>
                  <a:lnTo>
                    <a:pt x="79" y="5"/>
                  </a:lnTo>
                  <a:lnTo>
                    <a:pt x="97" y="14"/>
                  </a:lnTo>
                  <a:lnTo>
                    <a:pt x="112" y="26"/>
                  </a:lnTo>
                  <a:lnTo>
                    <a:pt x="125" y="43"/>
                  </a:lnTo>
                  <a:lnTo>
                    <a:pt x="134" y="61"/>
                  </a:lnTo>
                  <a:lnTo>
                    <a:pt x="139" y="78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961920" y="3620880"/>
              <a:ext cx="99720" cy="141480"/>
            </a:xfrm>
            <a:custGeom>
              <a:avLst/>
              <a:gdLst/>
              <a:ahLst/>
              <a:rect l="l" t="t" r="r" b="b"/>
              <a:pathLst>
                <a:path w="191" h="266">
                  <a:moveTo>
                    <a:pt x="45" y="266"/>
                  </a:moveTo>
                  <a:lnTo>
                    <a:pt x="45" y="229"/>
                  </a:lnTo>
                  <a:lnTo>
                    <a:pt x="40" y="195"/>
                  </a:lnTo>
                  <a:lnTo>
                    <a:pt x="31" y="160"/>
                  </a:lnTo>
                  <a:lnTo>
                    <a:pt x="23" y="129"/>
                  </a:lnTo>
                  <a:lnTo>
                    <a:pt x="11" y="96"/>
                  </a:lnTo>
                  <a:lnTo>
                    <a:pt x="5" y="66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6" y="0"/>
                  </a:lnTo>
                  <a:lnTo>
                    <a:pt x="28" y="3"/>
                  </a:lnTo>
                  <a:lnTo>
                    <a:pt x="34" y="9"/>
                  </a:lnTo>
                  <a:lnTo>
                    <a:pt x="39" y="19"/>
                  </a:lnTo>
                  <a:lnTo>
                    <a:pt x="40" y="30"/>
                  </a:lnTo>
                  <a:lnTo>
                    <a:pt x="43" y="42"/>
                  </a:lnTo>
                  <a:lnTo>
                    <a:pt x="46" y="52"/>
                  </a:lnTo>
                  <a:lnTo>
                    <a:pt x="53" y="62"/>
                  </a:lnTo>
                  <a:lnTo>
                    <a:pt x="66" y="51"/>
                  </a:lnTo>
                  <a:lnTo>
                    <a:pt x="83" y="42"/>
                  </a:lnTo>
                  <a:lnTo>
                    <a:pt x="98" y="32"/>
                  </a:lnTo>
                  <a:lnTo>
                    <a:pt x="116" y="26"/>
                  </a:lnTo>
                  <a:lnTo>
                    <a:pt x="134" y="19"/>
                  </a:lnTo>
                  <a:lnTo>
                    <a:pt x="154" y="17"/>
                  </a:lnTo>
                  <a:lnTo>
                    <a:pt x="172" y="15"/>
                  </a:lnTo>
                  <a:lnTo>
                    <a:pt x="191" y="18"/>
                  </a:lnTo>
                  <a:lnTo>
                    <a:pt x="191" y="54"/>
                  </a:lnTo>
                  <a:lnTo>
                    <a:pt x="168" y="46"/>
                  </a:lnTo>
                  <a:lnTo>
                    <a:pt x="150" y="48"/>
                  </a:lnTo>
                  <a:lnTo>
                    <a:pt x="131" y="51"/>
                  </a:lnTo>
                  <a:lnTo>
                    <a:pt x="116" y="60"/>
                  </a:lnTo>
                  <a:lnTo>
                    <a:pt x="101" y="66"/>
                  </a:lnTo>
                  <a:lnTo>
                    <a:pt x="88" y="70"/>
                  </a:lnTo>
                  <a:lnTo>
                    <a:pt x="73" y="69"/>
                  </a:lnTo>
                  <a:lnTo>
                    <a:pt x="61" y="62"/>
                  </a:lnTo>
                  <a:lnTo>
                    <a:pt x="59" y="84"/>
                  </a:lnTo>
                  <a:lnTo>
                    <a:pt x="60" y="109"/>
                  </a:lnTo>
                  <a:lnTo>
                    <a:pt x="63" y="134"/>
                  </a:lnTo>
                  <a:lnTo>
                    <a:pt x="66" y="159"/>
                  </a:lnTo>
                  <a:lnTo>
                    <a:pt x="69" y="186"/>
                  </a:lnTo>
                  <a:lnTo>
                    <a:pt x="71" y="211"/>
                  </a:lnTo>
                  <a:lnTo>
                    <a:pt x="71" y="238"/>
                  </a:lnTo>
                  <a:lnTo>
                    <a:pt x="70" y="266"/>
                  </a:lnTo>
                  <a:lnTo>
                    <a:pt x="45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961920" y="3697200"/>
              <a:ext cx="50760" cy="38160"/>
            </a:xfrm>
            <a:custGeom>
              <a:avLst/>
              <a:gdLst/>
              <a:ahLst/>
              <a:rect l="l" t="t" r="r" b="b"/>
              <a:pathLst>
                <a:path w="96" h="71">
                  <a:moveTo>
                    <a:pt x="75" y="71"/>
                  </a:moveTo>
                  <a:lnTo>
                    <a:pt x="72" y="68"/>
                  </a:lnTo>
                  <a:lnTo>
                    <a:pt x="66" y="62"/>
                  </a:lnTo>
                  <a:lnTo>
                    <a:pt x="57" y="52"/>
                  </a:lnTo>
                  <a:lnTo>
                    <a:pt x="47" y="45"/>
                  </a:lnTo>
                  <a:lnTo>
                    <a:pt x="35" y="37"/>
                  </a:lnTo>
                  <a:lnTo>
                    <a:pt x="23" y="32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9"/>
                  </a:lnTo>
                  <a:lnTo>
                    <a:pt x="12" y="3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56" y="3"/>
                  </a:lnTo>
                  <a:lnTo>
                    <a:pt x="69" y="7"/>
                  </a:lnTo>
                  <a:lnTo>
                    <a:pt x="81" y="14"/>
                  </a:lnTo>
                  <a:lnTo>
                    <a:pt x="90" y="25"/>
                  </a:lnTo>
                  <a:lnTo>
                    <a:pt x="96" y="37"/>
                  </a:lnTo>
                  <a:lnTo>
                    <a:pt x="96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959040" y="3657600"/>
              <a:ext cx="61920" cy="33120"/>
            </a:xfrm>
            <a:custGeom>
              <a:avLst/>
              <a:gdLst/>
              <a:ahLst/>
              <a:rect l="l" t="t" r="r" b="b"/>
              <a:pathLst>
                <a:path w="118" h="61">
                  <a:moveTo>
                    <a:pt x="10" y="61"/>
                  </a:moveTo>
                  <a:lnTo>
                    <a:pt x="9" y="54"/>
                  </a:lnTo>
                  <a:lnTo>
                    <a:pt x="9" y="47"/>
                  </a:lnTo>
                  <a:lnTo>
                    <a:pt x="5" y="40"/>
                  </a:lnTo>
                  <a:lnTo>
                    <a:pt x="0" y="34"/>
                  </a:lnTo>
                  <a:lnTo>
                    <a:pt x="12" y="23"/>
                  </a:lnTo>
                  <a:lnTo>
                    <a:pt x="24" y="16"/>
                  </a:lnTo>
                  <a:lnTo>
                    <a:pt x="36" y="9"/>
                  </a:lnTo>
                  <a:lnTo>
                    <a:pt x="51" y="5"/>
                  </a:lnTo>
                  <a:lnTo>
                    <a:pt x="65" y="1"/>
                  </a:lnTo>
                  <a:lnTo>
                    <a:pt x="79" y="0"/>
                  </a:lnTo>
                  <a:lnTo>
                    <a:pt x="95" y="0"/>
                  </a:lnTo>
                  <a:lnTo>
                    <a:pt x="112" y="3"/>
                  </a:lnTo>
                  <a:lnTo>
                    <a:pt x="117" y="7"/>
                  </a:lnTo>
                  <a:lnTo>
                    <a:pt x="118" y="16"/>
                  </a:lnTo>
                  <a:lnTo>
                    <a:pt x="117" y="25"/>
                  </a:lnTo>
                  <a:lnTo>
                    <a:pt x="118" y="34"/>
                  </a:lnTo>
                  <a:lnTo>
                    <a:pt x="107" y="31"/>
                  </a:lnTo>
                  <a:lnTo>
                    <a:pt x="100" y="36"/>
                  </a:lnTo>
                  <a:lnTo>
                    <a:pt x="93" y="45"/>
                  </a:lnTo>
                  <a:lnTo>
                    <a:pt x="87" y="53"/>
                  </a:lnTo>
                  <a:lnTo>
                    <a:pt x="79" y="45"/>
                  </a:lnTo>
                  <a:lnTo>
                    <a:pt x="71" y="43"/>
                  </a:lnTo>
                  <a:lnTo>
                    <a:pt x="59" y="43"/>
                  </a:lnTo>
                  <a:lnTo>
                    <a:pt x="51" y="43"/>
                  </a:lnTo>
                  <a:lnTo>
                    <a:pt x="41" y="52"/>
                  </a:lnTo>
                  <a:lnTo>
                    <a:pt x="31" y="58"/>
                  </a:lnTo>
                  <a:lnTo>
                    <a:pt x="21" y="60"/>
                  </a:lnTo>
                  <a:lnTo>
                    <a:pt x="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578240" y="3389400"/>
              <a:ext cx="31680" cy="252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49"/>
                  </a:moveTo>
                  <a:lnTo>
                    <a:pt x="0" y="0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6372360" y="1268280"/>
            <a:ext cx="720720" cy="758880"/>
            <a:chOff x="6372360" y="1268280"/>
            <a:chExt cx="720720" cy="758880"/>
          </a:xfrm>
        </p:grpSpPr>
        <p:sp>
          <p:nvSpPr>
            <p:cNvPr id="1625" name=""/>
            <p:cNvSpPr/>
            <p:nvPr/>
          </p:nvSpPr>
          <p:spPr>
            <a:xfrm>
              <a:off x="6372360" y="1268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0100600">
              <a:off x="6527880" y="1321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625320" y="5029200"/>
            <a:ext cx="1629360" cy="1654200"/>
            <a:chOff x="625320" y="5029200"/>
            <a:chExt cx="1629360" cy="1654200"/>
          </a:xfrm>
        </p:grpSpPr>
        <p:sp>
          <p:nvSpPr>
            <p:cNvPr id="1628" name=""/>
            <p:cNvSpPr/>
            <p:nvPr/>
          </p:nvSpPr>
          <p:spPr>
            <a:xfrm flipH="1" rot="13844400">
              <a:off x="812880" y="5316120"/>
              <a:ext cx="1253880" cy="107964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rot="13844400">
              <a:off x="804600" y="5893560"/>
              <a:ext cx="92880" cy="2520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13844400">
              <a:off x="772560" y="5765760"/>
              <a:ext cx="105480" cy="5544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rot="13844400">
              <a:off x="790560" y="567396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 rot="13844400">
              <a:off x="833400" y="560196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rot="13844400">
              <a:off x="875520" y="553392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 rot="13844400">
              <a:off x="817920" y="552960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13844400">
              <a:off x="1013760" y="561384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rot="13844400">
              <a:off x="1229400" y="5704200"/>
              <a:ext cx="28944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13844400">
              <a:off x="1366200" y="575892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rot="13844400">
              <a:off x="1492920" y="5833800"/>
              <a:ext cx="110520" cy="763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rot="13844400">
              <a:off x="1625760" y="572400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13844400">
              <a:off x="979560" y="5612040"/>
              <a:ext cx="380520" cy="39492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42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-0.53559 0.39907 E">
                                      <p:cBhvr>
                                        <p:cTn id="201" dur="2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C:\Users\USER\Desktop\урок\почтальон печкин.jpg"/>
          <p:cNvPicPr/>
          <p:nvPr/>
        </p:nvPicPr>
        <p:blipFill>
          <a:blip r:embed="rId1"/>
          <a:stretch/>
        </p:blipFill>
        <p:spPr>
          <a:xfrm>
            <a:off x="1857240" y="785880"/>
            <a:ext cx="5715000" cy="5643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58920" y="1052640"/>
            <a:ext cx="295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+ 7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– 2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*4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: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076720" y="1052640"/>
            <a:ext cx="28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*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: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: 8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4360" y="83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85880" y="1413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427640" y="83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427640" y="198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427640" y="1413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714240" y="24922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14240" y="1916280"/>
            <a:ext cx="5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851280" y="3860640"/>
            <a:ext cx="43210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ар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286680" y="1989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000840" y="141300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929200" y="9079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571840" y="25653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627280" y="1989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627280" y="1413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2627280" y="9079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3" descr="C:\Users\USER\Desktop\урок\под.jpg"/>
          <p:cNvPicPr/>
          <p:nvPr/>
        </p:nvPicPr>
        <p:blipFill>
          <a:blip r:embed="rId3"/>
          <a:stretch/>
        </p:blipFill>
        <p:spPr>
          <a:xfrm>
            <a:off x="285840" y="3786120"/>
            <a:ext cx="3357360" cy="2714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8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8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385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2"/>
          <p:cNvSpPr/>
          <p:nvPr/>
        </p:nvSpPr>
        <p:spPr>
          <a:xfrm>
            <a:off x="539640" y="857160"/>
            <a:ext cx="7604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Тема: Таблица умножения и деления на 8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Цель: Составить таблицу умножения на 8, рассмотреть соответствующие случаи де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C:\Users\USER\Desktop\урок\pacchetto-1038x576.jpg"/>
          <p:cNvPicPr/>
          <p:nvPr/>
        </p:nvPicPr>
        <p:blipFill>
          <a:blip r:embed="rId1"/>
          <a:stretch/>
        </p:blipFill>
        <p:spPr>
          <a:xfrm>
            <a:off x="5214960" y="4429080"/>
            <a:ext cx="3429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765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а по учебнику страница 6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3419640" y="5516640"/>
            <a:ext cx="4103640" cy="523800"/>
            <a:chOff x="3419640" y="5516640"/>
            <a:chExt cx="4103640" cy="523800"/>
          </a:xfrm>
        </p:grpSpPr>
        <p:sp>
          <p:nvSpPr>
            <p:cNvPr id="135" name="Text Box 9"/>
            <p:cNvSpPr/>
            <p:nvPr/>
          </p:nvSpPr>
          <p:spPr>
            <a:xfrm>
              <a:off x="3419640" y="5516640"/>
              <a:ext cx="4103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732720" y="5516640"/>
              <a:ext cx="57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564000" y="4437000"/>
            <a:ext cx="4681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:\Users\USER\Desktop\урок\tort.png"/>
          <p:cNvPicPr/>
          <p:nvPr/>
        </p:nvPicPr>
        <p:blipFill>
          <a:blip r:embed="rId1"/>
          <a:stretch/>
        </p:blipFill>
        <p:spPr>
          <a:xfrm>
            <a:off x="0" y="2643120"/>
            <a:ext cx="45734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умножения н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*8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8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8=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*8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*8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8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*8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8=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*8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*8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C:\Users\USER\Desktop\урок\df561cb7ef5009ffe68865963409fc9b_900_0.jpg"/>
          <p:cNvPicPr/>
          <p:nvPr/>
        </p:nvPicPr>
        <p:blipFill>
          <a:blip r:embed="rId1"/>
          <a:stretch/>
        </p:blipFill>
        <p:spPr>
          <a:xfrm>
            <a:off x="6858000" y="3560760"/>
            <a:ext cx="20001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62200" y="1195560"/>
            <a:ext cx="6194520" cy="42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95640" y="1989000"/>
            <a:ext cx="1368000" cy="2449800"/>
            <a:chOff x="3995640" y="1989000"/>
            <a:chExt cx="1368000" cy="2449800"/>
          </a:xfrm>
        </p:grpSpPr>
        <p:grpSp>
          <p:nvGrpSpPr>
            <p:cNvPr id="146" name=""/>
            <p:cNvGrpSpPr/>
            <p:nvPr/>
          </p:nvGrpSpPr>
          <p:grpSpPr>
            <a:xfrm>
              <a:off x="4046400" y="3048480"/>
              <a:ext cx="1317240" cy="1390320"/>
              <a:chOff x="4046400" y="3048480"/>
              <a:chExt cx="1317240" cy="139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736880" y="4270680"/>
                <a:ext cx="584640" cy="168120"/>
              </a:xfrm>
              <a:custGeom>
                <a:avLst/>
                <a:gdLst/>
                <a:ahLst/>
                <a:rect l="l" t="t" r="r" b="b"/>
                <a:pathLst>
                  <a:path w="1512" h="375">
                    <a:moveTo>
                      <a:pt x="744" y="7"/>
                    </a:moveTo>
                    <a:lnTo>
                      <a:pt x="894" y="0"/>
                    </a:lnTo>
                    <a:lnTo>
                      <a:pt x="1037" y="1"/>
                    </a:lnTo>
                    <a:lnTo>
                      <a:pt x="1166" y="9"/>
                    </a:lnTo>
                    <a:lnTo>
                      <a:pt x="1280" y="25"/>
                    </a:lnTo>
                    <a:lnTo>
                      <a:pt x="1374" y="45"/>
                    </a:lnTo>
                    <a:lnTo>
                      <a:pt x="1448" y="72"/>
                    </a:lnTo>
                    <a:lnTo>
                      <a:pt x="1493" y="103"/>
                    </a:lnTo>
                    <a:lnTo>
                      <a:pt x="1512" y="142"/>
                    </a:lnTo>
                    <a:lnTo>
                      <a:pt x="1498" y="179"/>
                    </a:lnTo>
                    <a:lnTo>
                      <a:pt x="1456" y="214"/>
                    </a:lnTo>
                    <a:lnTo>
                      <a:pt x="1386" y="250"/>
                    </a:lnTo>
                    <a:lnTo>
                      <a:pt x="1296" y="284"/>
                    </a:lnTo>
                    <a:lnTo>
                      <a:pt x="1186" y="312"/>
                    </a:lnTo>
                    <a:lnTo>
                      <a:pt x="1059" y="337"/>
                    </a:lnTo>
                    <a:lnTo>
                      <a:pt x="917" y="356"/>
                    </a:lnTo>
                    <a:lnTo>
                      <a:pt x="766" y="370"/>
                    </a:lnTo>
                    <a:lnTo>
                      <a:pt x="613" y="375"/>
                    </a:lnTo>
                    <a:lnTo>
                      <a:pt x="470" y="374"/>
                    </a:lnTo>
                    <a:lnTo>
                      <a:pt x="341" y="364"/>
                    </a:lnTo>
                    <a:lnTo>
                      <a:pt x="229" y="349"/>
                    </a:lnTo>
                    <a:lnTo>
                      <a:pt x="136" y="329"/>
                    </a:lnTo>
                    <a:lnTo>
                      <a:pt x="63" y="302"/>
                    </a:lnTo>
                    <a:lnTo>
                      <a:pt x="17" y="270"/>
                    </a:lnTo>
                    <a:lnTo>
                      <a:pt x="0" y="235"/>
                    </a:lnTo>
                    <a:lnTo>
                      <a:pt x="12" y="196"/>
                    </a:lnTo>
                    <a:lnTo>
                      <a:pt x="54" y="159"/>
                    </a:lnTo>
                    <a:lnTo>
                      <a:pt x="122" y="124"/>
                    </a:lnTo>
                    <a:lnTo>
                      <a:pt x="213" y="92"/>
                    </a:lnTo>
                    <a:lnTo>
                      <a:pt x="323" y="63"/>
                    </a:lnTo>
                    <a:lnTo>
                      <a:pt x="450" y="38"/>
                    </a:lnTo>
                    <a:lnTo>
                      <a:pt x="590" y="18"/>
                    </a:lnTo>
                    <a:lnTo>
                      <a:pt x="74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59240" y="3222720"/>
                <a:ext cx="101160" cy="255240"/>
              </a:xfrm>
              <a:custGeom>
                <a:avLst/>
                <a:gdLst/>
                <a:ahLst/>
                <a:rect l="l" t="t" r="r" b="b"/>
                <a:pathLst>
                  <a:path w="262" h="568">
                    <a:moveTo>
                      <a:pt x="0" y="0"/>
                    </a:moveTo>
                    <a:lnTo>
                      <a:pt x="123" y="37"/>
                    </a:lnTo>
                    <a:lnTo>
                      <a:pt x="262" y="205"/>
                    </a:lnTo>
                    <a:lnTo>
                      <a:pt x="238" y="351"/>
                    </a:lnTo>
                    <a:lnTo>
                      <a:pt x="187" y="568"/>
                    </a:lnTo>
                    <a:lnTo>
                      <a:pt x="45" y="2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8120" y="4281480"/>
                <a:ext cx="86400" cy="56520"/>
              </a:xfrm>
              <a:custGeom>
                <a:avLst/>
                <a:gdLst/>
                <a:ahLst/>
                <a:rect l="l" t="t" r="r" b="b"/>
                <a:pathLst>
                  <a:path w="224" h="126">
                    <a:moveTo>
                      <a:pt x="0" y="0"/>
                    </a:moveTo>
                    <a:lnTo>
                      <a:pt x="168" y="8"/>
                    </a:lnTo>
                    <a:lnTo>
                      <a:pt x="224" y="85"/>
                    </a:lnTo>
                    <a:lnTo>
                      <a:pt x="157" y="118"/>
                    </a:lnTo>
                    <a:lnTo>
                      <a:pt x="82" y="126"/>
                    </a:lnTo>
                    <a:lnTo>
                      <a:pt x="37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94640" y="4287600"/>
                <a:ext cx="66600" cy="62640"/>
              </a:xfrm>
              <a:custGeom>
                <a:avLst/>
                <a:gdLst/>
                <a:ahLst/>
                <a:rect l="l" t="t" r="r" b="b"/>
                <a:pathLst>
                  <a:path w="172" h="138">
                    <a:moveTo>
                      <a:pt x="0" y="23"/>
                    </a:moveTo>
                    <a:lnTo>
                      <a:pt x="118" y="0"/>
                    </a:lnTo>
                    <a:lnTo>
                      <a:pt x="172" y="13"/>
                    </a:lnTo>
                    <a:lnTo>
                      <a:pt x="109" y="110"/>
                    </a:lnTo>
                    <a:lnTo>
                      <a:pt x="37" y="13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46400" y="3048480"/>
                <a:ext cx="1317240" cy="1312920"/>
              </a:xfrm>
              <a:custGeom>
                <a:avLst/>
                <a:gdLst/>
                <a:ahLst/>
                <a:rect l="l" t="t" r="r" b="b"/>
                <a:pathLst>
                  <a:path w="3404" h="2922">
                    <a:moveTo>
                      <a:pt x="522" y="2864"/>
                    </a:moveTo>
                    <a:lnTo>
                      <a:pt x="539" y="2858"/>
                    </a:lnTo>
                    <a:lnTo>
                      <a:pt x="559" y="2856"/>
                    </a:lnTo>
                    <a:lnTo>
                      <a:pt x="578" y="2854"/>
                    </a:lnTo>
                    <a:lnTo>
                      <a:pt x="597" y="2851"/>
                    </a:lnTo>
                    <a:lnTo>
                      <a:pt x="615" y="2847"/>
                    </a:lnTo>
                    <a:lnTo>
                      <a:pt x="629" y="2841"/>
                    </a:lnTo>
                    <a:lnTo>
                      <a:pt x="638" y="2829"/>
                    </a:lnTo>
                    <a:lnTo>
                      <a:pt x="642" y="2814"/>
                    </a:lnTo>
                    <a:lnTo>
                      <a:pt x="640" y="2804"/>
                    </a:lnTo>
                    <a:lnTo>
                      <a:pt x="637" y="2796"/>
                    </a:lnTo>
                    <a:lnTo>
                      <a:pt x="630" y="2789"/>
                    </a:lnTo>
                    <a:lnTo>
                      <a:pt x="624" y="2782"/>
                    </a:lnTo>
                    <a:lnTo>
                      <a:pt x="615" y="2775"/>
                    </a:lnTo>
                    <a:lnTo>
                      <a:pt x="608" y="2767"/>
                    </a:lnTo>
                    <a:lnTo>
                      <a:pt x="600" y="2761"/>
                    </a:lnTo>
                    <a:lnTo>
                      <a:pt x="595" y="2757"/>
                    </a:lnTo>
                    <a:lnTo>
                      <a:pt x="587" y="2754"/>
                    </a:lnTo>
                    <a:lnTo>
                      <a:pt x="570" y="2754"/>
                    </a:lnTo>
                    <a:lnTo>
                      <a:pt x="543" y="2753"/>
                    </a:lnTo>
                    <a:lnTo>
                      <a:pt x="517" y="2753"/>
                    </a:lnTo>
                    <a:lnTo>
                      <a:pt x="489" y="2753"/>
                    </a:lnTo>
                    <a:lnTo>
                      <a:pt x="467" y="2757"/>
                    </a:lnTo>
                    <a:lnTo>
                      <a:pt x="454" y="2760"/>
                    </a:lnTo>
                    <a:lnTo>
                      <a:pt x="455" y="2768"/>
                    </a:lnTo>
                    <a:lnTo>
                      <a:pt x="522" y="2864"/>
                    </a:lnTo>
                    <a:close/>
                    <a:moveTo>
                      <a:pt x="2498" y="2884"/>
                    </a:moveTo>
                    <a:lnTo>
                      <a:pt x="2507" y="2870"/>
                    </a:lnTo>
                    <a:lnTo>
                      <a:pt x="2524" y="2857"/>
                    </a:lnTo>
                    <a:lnTo>
                      <a:pt x="2544" y="2844"/>
                    </a:lnTo>
                    <a:lnTo>
                      <a:pt x="2563" y="2830"/>
                    </a:lnTo>
                    <a:lnTo>
                      <a:pt x="2582" y="2818"/>
                    </a:lnTo>
                    <a:lnTo>
                      <a:pt x="2596" y="2805"/>
                    </a:lnTo>
                    <a:lnTo>
                      <a:pt x="2603" y="2792"/>
                    </a:lnTo>
                    <a:lnTo>
                      <a:pt x="2601" y="2780"/>
                    </a:lnTo>
                    <a:lnTo>
                      <a:pt x="2596" y="2770"/>
                    </a:lnTo>
                    <a:lnTo>
                      <a:pt x="2590" y="2766"/>
                    </a:lnTo>
                    <a:lnTo>
                      <a:pt x="2582" y="2765"/>
                    </a:lnTo>
                    <a:lnTo>
                      <a:pt x="2576" y="2768"/>
                    </a:lnTo>
                    <a:lnTo>
                      <a:pt x="2563" y="2772"/>
                    </a:lnTo>
                    <a:lnTo>
                      <a:pt x="2552" y="2776"/>
                    </a:lnTo>
                    <a:lnTo>
                      <a:pt x="2540" y="2780"/>
                    </a:lnTo>
                    <a:lnTo>
                      <a:pt x="2529" y="2784"/>
                    </a:lnTo>
                    <a:lnTo>
                      <a:pt x="2516" y="2787"/>
                    </a:lnTo>
                    <a:lnTo>
                      <a:pt x="2503" y="2790"/>
                    </a:lnTo>
                    <a:lnTo>
                      <a:pt x="2492" y="2793"/>
                    </a:lnTo>
                    <a:lnTo>
                      <a:pt x="2483" y="2797"/>
                    </a:lnTo>
                    <a:lnTo>
                      <a:pt x="2472" y="2800"/>
                    </a:lnTo>
                    <a:lnTo>
                      <a:pt x="2470" y="2808"/>
                    </a:lnTo>
                    <a:lnTo>
                      <a:pt x="2472" y="2818"/>
                    </a:lnTo>
                    <a:lnTo>
                      <a:pt x="2478" y="2832"/>
                    </a:lnTo>
                    <a:lnTo>
                      <a:pt x="2485" y="2845"/>
                    </a:lnTo>
                    <a:lnTo>
                      <a:pt x="2492" y="2859"/>
                    </a:lnTo>
                    <a:lnTo>
                      <a:pt x="2496" y="2872"/>
                    </a:lnTo>
                    <a:lnTo>
                      <a:pt x="2498" y="2884"/>
                    </a:lnTo>
                    <a:close/>
                    <a:moveTo>
                      <a:pt x="2483" y="2922"/>
                    </a:moveTo>
                    <a:lnTo>
                      <a:pt x="2479" y="2908"/>
                    </a:lnTo>
                    <a:lnTo>
                      <a:pt x="2473" y="2890"/>
                    </a:lnTo>
                    <a:lnTo>
                      <a:pt x="2466" y="2872"/>
                    </a:lnTo>
                    <a:lnTo>
                      <a:pt x="2458" y="2855"/>
                    </a:lnTo>
                    <a:lnTo>
                      <a:pt x="2448" y="2836"/>
                    </a:lnTo>
                    <a:lnTo>
                      <a:pt x="2440" y="2818"/>
                    </a:lnTo>
                    <a:lnTo>
                      <a:pt x="2433" y="2802"/>
                    </a:lnTo>
                    <a:lnTo>
                      <a:pt x="2431" y="2789"/>
                    </a:lnTo>
                    <a:lnTo>
                      <a:pt x="2431" y="2782"/>
                    </a:lnTo>
                    <a:lnTo>
                      <a:pt x="2435" y="2776"/>
                    </a:lnTo>
                    <a:lnTo>
                      <a:pt x="2440" y="2769"/>
                    </a:lnTo>
                    <a:lnTo>
                      <a:pt x="2446" y="2766"/>
                    </a:lnTo>
                    <a:lnTo>
                      <a:pt x="2458" y="2768"/>
                    </a:lnTo>
                    <a:lnTo>
                      <a:pt x="2470" y="2769"/>
                    </a:lnTo>
                    <a:lnTo>
                      <a:pt x="2481" y="2768"/>
                    </a:lnTo>
                    <a:lnTo>
                      <a:pt x="2494" y="2767"/>
                    </a:lnTo>
                    <a:lnTo>
                      <a:pt x="2505" y="2763"/>
                    </a:lnTo>
                    <a:lnTo>
                      <a:pt x="2517" y="2760"/>
                    </a:lnTo>
                    <a:lnTo>
                      <a:pt x="2529" y="2757"/>
                    </a:lnTo>
                    <a:lnTo>
                      <a:pt x="2540" y="2754"/>
                    </a:lnTo>
                    <a:lnTo>
                      <a:pt x="2550" y="2737"/>
                    </a:lnTo>
                    <a:lnTo>
                      <a:pt x="2558" y="2720"/>
                    </a:lnTo>
                    <a:lnTo>
                      <a:pt x="2561" y="2700"/>
                    </a:lnTo>
                    <a:lnTo>
                      <a:pt x="2565" y="2682"/>
                    </a:lnTo>
                    <a:lnTo>
                      <a:pt x="2565" y="2661"/>
                    </a:lnTo>
                    <a:lnTo>
                      <a:pt x="2566" y="2640"/>
                    </a:lnTo>
                    <a:lnTo>
                      <a:pt x="2566" y="2620"/>
                    </a:lnTo>
                    <a:lnTo>
                      <a:pt x="2569" y="2602"/>
                    </a:lnTo>
                    <a:lnTo>
                      <a:pt x="2570" y="2573"/>
                    </a:lnTo>
                    <a:lnTo>
                      <a:pt x="2571" y="2545"/>
                    </a:lnTo>
                    <a:lnTo>
                      <a:pt x="2571" y="2517"/>
                    </a:lnTo>
                    <a:lnTo>
                      <a:pt x="2571" y="2490"/>
                    </a:lnTo>
                    <a:lnTo>
                      <a:pt x="2571" y="2461"/>
                    </a:lnTo>
                    <a:lnTo>
                      <a:pt x="2573" y="2433"/>
                    </a:lnTo>
                    <a:lnTo>
                      <a:pt x="2574" y="2405"/>
                    </a:lnTo>
                    <a:lnTo>
                      <a:pt x="2578" y="2378"/>
                    </a:lnTo>
                    <a:lnTo>
                      <a:pt x="2565" y="2357"/>
                    </a:lnTo>
                    <a:lnTo>
                      <a:pt x="2551" y="2338"/>
                    </a:lnTo>
                    <a:lnTo>
                      <a:pt x="2536" y="2319"/>
                    </a:lnTo>
                    <a:lnTo>
                      <a:pt x="2522" y="2302"/>
                    </a:lnTo>
                    <a:lnTo>
                      <a:pt x="2503" y="2282"/>
                    </a:lnTo>
                    <a:lnTo>
                      <a:pt x="2487" y="2265"/>
                    </a:lnTo>
                    <a:lnTo>
                      <a:pt x="2471" y="2246"/>
                    </a:lnTo>
                    <a:lnTo>
                      <a:pt x="2456" y="2228"/>
                    </a:lnTo>
                    <a:lnTo>
                      <a:pt x="2428" y="2203"/>
                    </a:lnTo>
                    <a:lnTo>
                      <a:pt x="2400" y="2174"/>
                    </a:lnTo>
                    <a:lnTo>
                      <a:pt x="2366" y="2143"/>
                    </a:lnTo>
                    <a:lnTo>
                      <a:pt x="2334" y="2111"/>
                    </a:lnTo>
                    <a:lnTo>
                      <a:pt x="2298" y="2081"/>
                    </a:lnTo>
                    <a:lnTo>
                      <a:pt x="2263" y="2056"/>
                    </a:lnTo>
                    <a:lnTo>
                      <a:pt x="2230" y="2033"/>
                    </a:lnTo>
                    <a:lnTo>
                      <a:pt x="2200" y="2020"/>
                    </a:lnTo>
                    <a:lnTo>
                      <a:pt x="2214" y="1905"/>
                    </a:lnTo>
                    <a:lnTo>
                      <a:pt x="2169" y="1906"/>
                    </a:lnTo>
                    <a:lnTo>
                      <a:pt x="2113" y="1906"/>
                    </a:lnTo>
                    <a:lnTo>
                      <a:pt x="2048" y="1904"/>
                    </a:lnTo>
                    <a:lnTo>
                      <a:pt x="1975" y="1900"/>
                    </a:lnTo>
                    <a:lnTo>
                      <a:pt x="1895" y="1893"/>
                    </a:lnTo>
                    <a:lnTo>
                      <a:pt x="1817" y="1888"/>
                    </a:lnTo>
                    <a:lnTo>
                      <a:pt x="1740" y="1881"/>
                    </a:lnTo>
                    <a:lnTo>
                      <a:pt x="1667" y="1873"/>
                    </a:lnTo>
                    <a:lnTo>
                      <a:pt x="1635" y="1869"/>
                    </a:lnTo>
                    <a:lnTo>
                      <a:pt x="1600" y="1866"/>
                    </a:lnTo>
                    <a:lnTo>
                      <a:pt x="1567" y="1862"/>
                    </a:lnTo>
                    <a:lnTo>
                      <a:pt x="1532" y="1860"/>
                    </a:lnTo>
                    <a:lnTo>
                      <a:pt x="1497" y="1855"/>
                    </a:lnTo>
                    <a:lnTo>
                      <a:pt x="1464" y="1852"/>
                    </a:lnTo>
                    <a:lnTo>
                      <a:pt x="1429" y="1848"/>
                    </a:lnTo>
                    <a:lnTo>
                      <a:pt x="1399" y="1845"/>
                    </a:lnTo>
                    <a:lnTo>
                      <a:pt x="1399" y="1852"/>
                    </a:lnTo>
                    <a:lnTo>
                      <a:pt x="1406" y="1867"/>
                    </a:lnTo>
                    <a:lnTo>
                      <a:pt x="1418" y="1888"/>
                    </a:lnTo>
                    <a:lnTo>
                      <a:pt x="1434" y="1912"/>
                    </a:lnTo>
                    <a:lnTo>
                      <a:pt x="1450" y="1934"/>
                    </a:lnTo>
                    <a:lnTo>
                      <a:pt x="1465" y="1958"/>
                    </a:lnTo>
                    <a:lnTo>
                      <a:pt x="1477" y="1975"/>
                    </a:lnTo>
                    <a:lnTo>
                      <a:pt x="1483" y="1988"/>
                    </a:lnTo>
                    <a:lnTo>
                      <a:pt x="1488" y="2008"/>
                    </a:lnTo>
                    <a:lnTo>
                      <a:pt x="1489" y="2026"/>
                    </a:lnTo>
                    <a:lnTo>
                      <a:pt x="1487" y="2045"/>
                    </a:lnTo>
                    <a:lnTo>
                      <a:pt x="1482" y="2065"/>
                    </a:lnTo>
                    <a:lnTo>
                      <a:pt x="1474" y="2083"/>
                    </a:lnTo>
                    <a:lnTo>
                      <a:pt x="1467" y="2101"/>
                    </a:lnTo>
                    <a:lnTo>
                      <a:pt x="1460" y="2120"/>
                    </a:lnTo>
                    <a:lnTo>
                      <a:pt x="1455" y="2138"/>
                    </a:lnTo>
                    <a:lnTo>
                      <a:pt x="1441" y="2162"/>
                    </a:lnTo>
                    <a:lnTo>
                      <a:pt x="1426" y="2188"/>
                    </a:lnTo>
                    <a:lnTo>
                      <a:pt x="1411" y="2212"/>
                    </a:lnTo>
                    <a:lnTo>
                      <a:pt x="1396" y="2238"/>
                    </a:lnTo>
                    <a:lnTo>
                      <a:pt x="1380" y="2263"/>
                    </a:lnTo>
                    <a:lnTo>
                      <a:pt x="1362" y="2287"/>
                    </a:lnTo>
                    <a:lnTo>
                      <a:pt x="1346" y="2312"/>
                    </a:lnTo>
                    <a:lnTo>
                      <a:pt x="1332" y="2338"/>
                    </a:lnTo>
                    <a:lnTo>
                      <a:pt x="1357" y="2358"/>
                    </a:lnTo>
                    <a:lnTo>
                      <a:pt x="1385" y="2378"/>
                    </a:lnTo>
                    <a:lnTo>
                      <a:pt x="1413" y="2396"/>
                    </a:lnTo>
                    <a:lnTo>
                      <a:pt x="1442" y="2417"/>
                    </a:lnTo>
                    <a:lnTo>
                      <a:pt x="1468" y="2436"/>
                    </a:lnTo>
                    <a:lnTo>
                      <a:pt x="1497" y="2455"/>
                    </a:lnTo>
                    <a:lnTo>
                      <a:pt x="1524" y="2477"/>
                    </a:lnTo>
                    <a:lnTo>
                      <a:pt x="1549" y="2499"/>
                    </a:lnTo>
                    <a:lnTo>
                      <a:pt x="1573" y="2518"/>
                    </a:lnTo>
                    <a:lnTo>
                      <a:pt x="1597" y="2541"/>
                    </a:lnTo>
                    <a:lnTo>
                      <a:pt x="1620" y="2562"/>
                    </a:lnTo>
                    <a:lnTo>
                      <a:pt x="1640" y="2586"/>
                    </a:lnTo>
                    <a:lnTo>
                      <a:pt x="1658" y="2611"/>
                    </a:lnTo>
                    <a:lnTo>
                      <a:pt x="1676" y="2637"/>
                    </a:lnTo>
                    <a:lnTo>
                      <a:pt x="1689" y="2664"/>
                    </a:lnTo>
                    <a:lnTo>
                      <a:pt x="1699" y="2693"/>
                    </a:lnTo>
                    <a:lnTo>
                      <a:pt x="1698" y="2702"/>
                    </a:lnTo>
                    <a:lnTo>
                      <a:pt x="1699" y="2713"/>
                    </a:lnTo>
                    <a:lnTo>
                      <a:pt x="1700" y="2724"/>
                    </a:lnTo>
                    <a:lnTo>
                      <a:pt x="1703" y="2735"/>
                    </a:lnTo>
                    <a:lnTo>
                      <a:pt x="1704" y="2745"/>
                    </a:lnTo>
                    <a:lnTo>
                      <a:pt x="1706" y="2755"/>
                    </a:lnTo>
                    <a:lnTo>
                      <a:pt x="1705" y="2767"/>
                    </a:lnTo>
                    <a:lnTo>
                      <a:pt x="1703" y="2780"/>
                    </a:lnTo>
                    <a:lnTo>
                      <a:pt x="1696" y="2783"/>
                    </a:lnTo>
                    <a:lnTo>
                      <a:pt x="1674" y="2787"/>
                    </a:lnTo>
                    <a:lnTo>
                      <a:pt x="1642" y="2789"/>
                    </a:lnTo>
                    <a:lnTo>
                      <a:pt x="1605" y="2791"/>
                    </a:lnTo>
                    <a:lnTo>
                      <a:pt x="1565" y="2790"/>
                    </a:lnTo>
                    <a:lnTo>
                      <a:pt x="1531" y="2787"/>
                    </a:lnTo>
                    <a:lnTo>
                      <a:pt x="1507" y="2780"/>
                    </a:lnTo>
                    <a:lnTo>
                      <a:pt x="1497" y="2768"/>
                    </a:lnTo>
                    <a:lnTo>
                      <a:pt x="1502" y="2750"/>
                    </a:lnTo>
                    <a:lnTo>
                      <a:pt x="1508" y="2730"/>
                    </a:lnTo>
                    <a:lnTo>
                      <a:pt x="1512" y="2708"/>
                    </a:lnTo>
                    <a:lnTo>
                      <a:pt x="1516" y="2688"/>
                    </a:lnTo>
                    <a:lnTo>
                      <a:pt x="1516" y="2668"/>
                    </a:lnTo>
                    <a:lnTo>
                      <a:pt x="1515" y="2647"/>
                    </a:lnTo>
                    <a:lnTo>
                      <a:pt x="1510" y="2627"/>
                    </a:lnTo>
                    <a:lnTo>
                      <a:pt x="1502" y="2611"/>
                    </a:lnTo>
                    <a:lnTo>
                      <a:pt x="1492" y="2597"/>
                    </a:lnTo>
                    <a:lnTo>
                      <a:pt x="1482" y="2587"/>
                    </a:lnTo>
                    <a:lnTo>
                      <a:pt x="1471" y="2579"/>
                    </a:lnTo>
                    <a:lnTo>
                      <a:pt x="1460" y="2574"/>
                    </a:lnTo>
                    <a:lnTo>
                      <a:pt x="1448" y="2568"/>
                    </a:lnTo>
                    <a:lnTo>
                      <a:pt x="1434" y="2565"/>
                    </a:lnTo>
                    <a:lnTo>
                      <a:pt x="1422" y="2560"/>
                    </a:lnTo>
                    <a:lnTo>
                      <a:pt x="1412" y="2556"/>
                    </a:lnTo>
                    <a:lnTo>
                      <a:pt x="1373" y="2544"/>
                    </a:lnTo>
                    <a:lnTo>
                      <a:pt x="1335" y="2532"/>
                    </a:lnTo>
                    <a:lnTo>
                      <a:pt x="1295" y="2519"/>
                    </a:lnTo>
                    <a:lnTo>
                      <a:pt x="1260" y="2506"/>
                    </a:lnTo>
                    <a:lnTo>
                      <a:pt x="1222" y="2489"/>
                    </a:lnTo>
                    <a:lnTo>
                      <a:pt x="1186" y="2470"/>
                    </a:lnTo>
                    <a:lnTo>
                      <a:pt x="1152" y="2450"/>
                    </a:lnTo>
                    <a:lnTo>
                      <a:pt x="1121" y="2427"/>
                    </a:lnTo>
                    <a:lnTo>
                      <a:pt x="1112" y="2431"/>
                    </a:lnTo>
                    <a:lnTo>
                      <a:pt x="1109" y="2432"/>
                    </a:lnTo>
                    <a:lnTo>
                      <a:pt x="1107" y="2430"/>
                    </a:lnTo>
                    <a:lnTo>
                      <a:pt x="1111" y="2428"/>
                    </a:lnTo>
                    <a:lnTo>
                      <a:pt x="1114" y="2422"/>
                    </a:lnTo>
                    <a:lnTo>
                      <a:pt x="1119" y="2416"/>
                    </a:lnTo>
                    <a:lnTo>
                      <a:pt x="1124" y="2408"/>
                    </a:lnTo>
                    <a:lnTo>
                      <a:pt x="1128" y="2403"/>
                    </a:lnTo>
                    <a:lnTo>
                      <a:pt x="1136" y="2385"/>
                    </a:lnTo>
                    <a:lnTo>
                      <a:pt x="1158" y="2348"/>
                    </a:lnTo>
                    <a:lnTo>
                      <a:pt x="1186" y="2302"/>
                    </a:lnTo>
                    <a:lnTo>
                      <a:pt x="1217" y="2251"/>
                    </a:lnTo>
                    <a:lnTo>
                      <a:pt x="1244" y="2203"/>
                    </a:lnTo>
                    <a:lnTo>
                      <a:pt x="1267" y="2166"/>
                    </a:lnTo>
                    <a:lnTo>
                      <a:pt x="1277" y="2148"/>
                    </a:lnTo>
                    <a:lnTo>
                      <a:pt x="1275" y="2158"/>
                    </a:lnTo>
                    <a:lnTo>
                      <a:pt x="1244" y="2200"/>
                    </a:lnTo>
                    <a:lnTo>
                      <a:pt x="1210" y="2240"/>
                    </a:lnTo>
                    <a:lnTo>
                      <a:pt x="1170" y="2272"/>
                    </a:lnTo>
                    <a:lnTo>
                      <a:pt x="1127" y="2303"/>
                    </a:lnTo>
                    <a:lnTo>
                      <a:pt x="1081" y="2328"/>
                    </a:lnTo>
                    <a:lnTo>
                      <a:pt x="1035" y="2354"/>
                    </a:lnTo>
                    <a:lnTo>
                      <a:pt x="989" y="2378"/>
                    </a:lnTo>
                    <a:lnTo>
                      <a:pt x="944" y="2401"/>
                    </a:lnTo>
                    <a:lnTo>
                      <a:pt x="932" y="2429"/>
                    </a:lnTo>
                    <a:lnTo>
                      <a:pt x="920" y="2455"/>
                    </a:lnTo>
                    <a:lnTo>
                      <a:pt x="907" y="2483"/>
                    </a:lnTo>
                    <a:lnTo>
                      <a:pt x="893" y="2510"/>
                    </a:lnTo>
                    <a:lnTo>
                      <a:pt x="878" y="2536"/>
                    </a:lnTo>
                    <a:lnTo>
                      <a:pt x="864" y="2563"/>
                    </a:lnTo>
                    <a:lnTo>
                      <a:pt x="850" y="2588"/>
                    </a:lnTo>
                    <a:lnTo>
                      <a:pt x="837" y="2617"/>
                    </a:lnTo>
                    <a:lnTo>
                      <a:pt x="818" y="2640"/>
                    </a:lnTo>
                    <a:lnTo>
                      <a:pt x="799" y="2667"/>
                    </a:lnTo>
                    <a:lnTo>
                      <a:pt x="779" y="2691"/>
                    </a:lnTo>
                    <a:lnTo>
                      <a:pt x="759" y="2718"/>
                    </a:lnTo>
                    <a:lnTo>
                      <a:pt x="737" y="2743"/>
                    </a:lnTo>
                    <a:lnTo>
                      <a:pt x="715" y="2767"/>
                    </a:lnTo>
                    <a:lnTo>
                      <a:pt x="693" y="2790"/>
                    </a:lnTo>
                    <a:lnTo>
                      <a:pt x="671" y="2812"/>
                    </a:lnTo>
                    <a:lnTo>
                      <a:pt x="668" y="2817"/>
                    </a:lnTo>
                    <a:lnTo>
                      <a:pt x="667" y="2822"/>
                    </a:lnTo>
                    <a:lnTo>
                      <a:pt x="665" y="2828"/>
                    </a:lnTo>
                    <a:lnTo>
                      <a:pt x="664" y="2835"/>
                    </a:lnTo>
                    <a:lnTo>
                      <a:pt x="665" y="2845"/>
                    </a:lnTo>
                    <a:lnTo>
                      <a:pt x="652" y="2857"/>
                    </a:lnTo>
                    <a:lnTo>
                      <a:pt x="626" y="2866"/>
                    </a:lnTo>
                    <a:lnTo>
                      <a:pt x="594" y="2875"/>
                    </a:lnTo>
                    <a:lnTo>
                      <a:pt x="559" y="2881"/>
                    </a:lnTo>
                    <a:lnTo>
                      <a:pt x="528" y="2888"/>
                    </a:lnTo>
                    <a:lnTo>
                      <a:pt x="506" y="2890"/>
                    </a:lnTo>
                    <a:lnTo>
                      <a:pt x="498" y="2895"/>
                    </a:lnTo>
                    <a:lnTo>
                      <a:pt x="488" y="2869"/>
                    </a:lnTo>
                    <a:lnTo>
                      <a:pt x="477" y="2848"/>
                    </a:lnTo>
                    <a:lnTo>
                      <a:pt x="467" y="2827"/>
                    </a:lnTo>
                    <a:lnTo>
                      <a:pt x="457" y="2811"/>
                    </a:lnTo>
                    <a:lnTo>
                      <a:pt x="445" y="2795"/>
                    </a:lnTo>
                    <a:lnTo>
                      <a:pt x="434" y="2782"/>
                    </a:lnTo>
                    <a:lnTo>
                      <a:pt x="422" y="2768"/>
                    </a:lnTo>
                    <a:lnTo>
                      <a:pt x="413" y="2759"/>
                    </a:lnTo>
                    <a:lnTo>
                      <a:pt x="407" y="2748"/>
                    </a:lnTo>
                    <a:lnTo>
                      <a:pt x="407" y="2737"/>
                    </a:lnTo>
                    <a:lnTo>
                      <a:pt x="408" y="2728"/>
                    </a:lnTo>
                    <a:lnTo>
                      <a:pt x="413" y="2724"/>
                    </a:lnTo>
                    <a:lnTo>
                      <a:pt x="432" y="2721"/>
                    </a:lnTo>
                    <a:lnTo>
                      <a:pt x="454" y="2724"/>
                    </a:lnTo>
                    <a:lnTo>
                      <a:pt x="477" y="2729"/>
                    </a:lnTo>
                    <a:lnTo>
                      <a:pt x="504" y="2735"/>
                    </a:lnTo>
                    <a:lnTo>
                      <a:pt x="528" y="2739"/>
                    </a:lnTo>
                    <a:lnTo>
                      <a:pt x="556" y="2743"/>
                    </a:lnTo>
                    <a:lnTo>
                      <a:pt x="580" y="2740"/>
                    </a:lnTo>
                    <a:lnTo>
                      <a:pt x="607" y="2735"/>
                    </a:lnTo>
                    <a:lnTo>
                      <a:pt x="627" y="2700"/>
                    </a:lnTo>
                    <a:lnTo>
                      <a:pt x="655" y="2647"/>
                    </a:lnTo>
                    <a:lnTo>
                      <a:pt x="686" y="2580"/>
                    </a:lnTo>
                    <a:lnTo>
                      <a:pt x="717" y="2507"/>
                    </a:lnTo>
                    <a:lnTo>
                      <a:pt x="746" y="2433"/>
                    </a:lnTo>
                    <a:lnTo>
                      <a:pt x="772" y="2368"/>
                    </a:lnTo>
                    <a:lnTo>
                      <a:pt x="790" y="2315"/>
                    </a:lnTo>
                    <a:lnTo>
                      <a:pt x="798" y="2281"/>
                    </a:lnTo>
                    <a:lnTo>
                      <a:pt x="849" y="2219"/>
                    </a:lnTo>
                    <a:lnTo>
                      <a:pt x="885" y="2166"/>
                    </a:lnTo>
                    <a:lnTo>
                      <a:pt x="905" y="2118"/>
                    </a:lnTo>
                    <a:lnTo>
                      <a:pt x="912" y="2076"/>
                    </a:lnTo>
                    <a:lnTo>
                      <a:pt x="907" y="2031"/>
                    </a:lnTo>
                    <a:lnTo>
                      <a:pt x="890" y="1987"/>
                    </a:lnTo>
                    <a:lnTo>
                      <a:pt x="866" y="1938"/>
                    </a:lnTo>
                    <a:lnTo>
                      <a:pt x="835" y="1883"/>
                    </a:lnTo>
                    <a:lnTo>
                      <a:pt x="811" y="1834"/>
                    </a:lnTo>
                    <a:lnTo>
                      <a:pt x="794" y="1784"/>
                    </a:lnTo>
                    <a:lnTo>
                      <a:pt x="781" y="1729"/>
                    </a:lnTo>
                    <a:lnTo>
                      <a:pt x="777" y="1675"/>
                    </a:lnTo>
                    <a:lnTo>
                      <a:pt x="777" y="1620"/>
                    </a:lnTo>
                    <a:lnTo>
                      <a:pt x="787" y="1566"/>
                    </a:lnTo>
                    <a:lnTo>
                      <a:pt x="798" y="1513"/>
                    </a:lnTo>
                    <a:lnTo>
                      <a:pt x="815" y="1465"/>
                    </a:lnTo>
                    <a:lnTo>
                      <a:pt x="822" y="1451"/>
                    </a:lnTo>
                    <a:lnTo>
                      <a:pt x="830" y="1441"/>
                    </a:lnTo>
                    <a:lnTo>
                      <a:pt x="839" y="1429"/>
                    </a:lnTo>
                    <a:lnTo>
                      <a:pt x="848" y="1419"/>
                    </a:lnTo>
                    <a:lnTo>
                      <a:pt x="855" y="1407"/>
                    </a:lnTo>
                    <a:lnTo>
                      <a:pt x="864" y="1397"/>
                    </a:lnTo>
                    <a:lnTo>
                      <a:pt x="873" y="1387"/>
                    </a:lnTo>
                    <a:lnTo>
                      <a:pt x="884" y="1379"/>
                    </a:lnTo>
                    <a:lnTo>
                      <a:pt x="904" y="1352"/>
                    </a:lnTo>
                    <a:lnTo>
                      <a:pt x="896" y="1347"/>
                    </a:lnTo>
                    <a:lnTo>
                      <a:pt x="889" y="1346"/>
                    </a:lnTo>
                    <a:lnTo>
                      <a:pt x="881" y="1344"/>
                    </a:lnTo>
                    <a:lnTo>
                      <a:pt x="874" y="1344"/>
                    </a:lnTo>
                    <a:lnTo>
                      <a:pt x="866" y="1343"/>
                    </a:lnTo>
                    <a:lnTo>
                      <a:pt x="858" y="1342"/>
                    </a:lnTo>
                    <a:lnTo>
                      <a:pt x="851" y="1339"/>
                    </a:lnTo>
                    <a:lnTo>
                      <a:pt x="847" y="1337"/>
                    </a:lnTo>
                    <a:lnTo>
                      <a:pt x="773" y="1315"/>
                    </a:lnTo>
                    <a:lnTo>
                      <a:pt x="717" y="1311"/>
                    </a:lnTo>
                    <a:lnTo>
                      <a:pt x="675" y="1319"/>
                    </a:lnTo>
                    <a:lnTo>
                      <a:pt x="638" y="1337"/>
                    </a:lnTo>
                    <a:lnTo>
                      <a:pt x="602" y="1357"/>
                    </a:lnTo>
                    <a:lnTo>
                      <a:pt x="566" y="1379"/>
                    </a:lnTo>
                    <a:lnTo>
                      <a:pt x="521" y="1399"/>
                    </a:lnTo>
                    <a:lnTo>
                      <a:pt x="466" y="1412"/>
                    </a:lnTo>
                    <a:lnTo>
                      <a:pt x="457" y="1412"/>
                    </a:lnTo>
                    <a:lnTo>
                      <a:pt x="450" y="1412"/>
                    </a:lnTo>
                    <a:lnTo>
                      <a:pt x="440" y="1412"/>
                    </a:lnTo>
                    <a:lnTo>
                      <a:pt x="434" y="1412"/>
                    </a:lnTo>
                    <a:lnTo>
                      <a:pt x="424" y="1411"/>
                    </a:lnTo>
                    <a:lnTo>
                      <a:pt x="417" y="1412"/>
                    </a:lnTo>
                    <a:lnTo>
                      <a:pt x="411" y="1414"/>
                    </a:lnTo>
                    <a:lnTo>
                      <a:pt x="405" y="1420"/>
                    </a:lnTo>
                    <a:lnTo>
                      <a:pt x="383" y="1424"/>
                    </a:lnTo>
                    <a:lnTo>
                      <a:pt x="368" y="1433"/>
                    </a:lnTo>
                    <a:lnTo>
                      <a:pt x="355" y="1447"/>
                    </a:lnTo>
                    <a:lnTo>
                      <a:pt x="348" y="1465"/>
                    </a:lnTo>
                    <a:lnTo>
                      <a:pt x="340" y="1481"/>
                    </a:lnTo>
                    <a:lnTo>
                      <a:pt x="333" y="1497"/>
                    </a:lnTo>
                    <a:lnTo>
                      <a:pt x="322" y="1513"/>
                    </a:lnTo>
                    <a:lnTo>
                      <a:pt x="308" y="1525"/>
                    </a:lnTo>
                    <a:lnTo>
                      <a:pt x="299" y="1556"/>
                    </a:lnTo>
                    <a:lnTo>
                      <a:pt x="294" y="1590"/>
                    </a:lnTo>
                    <a:lnTo>
                      <a:pt x="289" y="1620"/>
                    </a:lnTo>
                    <a:lnTo>
                      <a:pt x="288" y="1651"/>
                    </a:lnTo>
                    <a:lnTo>
                      <a:pt x="286" y="1681"/>
                    </a:lnTo>
                    <a:lnTo>
                      <a:pt x="286" y="1712"/>
                    </a:lnTo>
                    <a:lnTo>
                      <a:pt x="286" y="1743"/>
                    </a:lnTo>
                    <a:lnTo>
                      <a:pt x="287" y="1778"/>
                    </a:lnTo>
                    <a:lnTo>
                      <a:pt x="276" y="1780"/>
                    </a:lnTo>
                    <a:lnTo>
                      <a:pt x="269" y="1778"/>
                    </a:lnTo>
                    <a:lnTo>
                      <a:pt x="262" y="1770"/>
                    </a:lnTo>
                    <a:lnTo>
                      <a:pt x="258" y="1762"/>
                    </a:lnTo>
                    <a:lnTo>
                      <a:pt x="254" y="1749"/>
                    </a:lnTo>
                    <a:lnTo>
                      <a:pt x="250" y="1741"/>
                    </a:lnTo>
                    <a:lnTo>
                      <a:pt x="246" y="1735"/>
                    </a:lnTo>
                    <a:lnTo>
                      <a:pt x="242" y="1738"/>
                    </a:lnTo>
                    <a:lnTo>
                      <a:pt x="240" y="1728"/>
                    </a:lnTo>
                    <a:lnTo>
                      <a:pt x="237" y="1719"/>
                    </a:lnTo>
                    <a:lnTo>
                      <a:pt x="234" y="1710"/>
                    </a:lnTo>
                    <a:lnTo>
                      <a:pt x="231" y="1701"/>
                    </a:lnTo>
                    <a:lnTo>
                      <a:pt x="226" y="1689"/>
                    </a:lnTo>
                    <a:lnTo>
                      <a:pt x="222" y="1680"/>
                    </a:lnTo>
                    <a:lnTo>
                      <a:pt x="219" y="1669"/>
                    </a:lnTo>
                    <a:lnTo>
                      <a:pt x="218" y="1660"/>
                    </a:lnTo>
                    <a:lnTo>
                      <a:pt x="202" y="1672"/>
                    </a:lnTo>
                    <a:lnTo>
                      <a:pt x="182" y="1694"/>
                    </a:lnTo>
                    <a:lnTo>
                      <a:pt x="161" y="1721"/>
                    </a:lnTo>
                    <a:lnTo>
                      <a:pt x="142" y="1751"/>
                    </a:lnTo>
                    <a:lnTo>
                      <a:pt x="121" y="1780"/>
                    </a:lnTo>
                    <a:lnTo>
                      <a:pt x="106" y="1804"/>
                    </a:lnTo>
                    <a:lnTo>
                      <a:pt x="96" y="1823"/>
                    </a:lnTo>
                    <a:lnTo>
                      <a:pt x="92" y="1830"/>
                    </a:lnTo>
                    <a:lnTo>
                      <a:pt x="87" y="1806"/>
                    </a:lnTo>
                    <a:lnTo>
                      <a:pt x="91" y="1776"/>
                    </a:lnTo>
                    <a:lnTo>
                      <a:pt x="96" y="1739"/>
                    </a:lnTo>
                    <a:lnTo>
                      <a:pt x="105" y="1704"/>
                    </a:lnTo>
                    <a:lnTo>
                      <a:pt x="113" y="1667"/>
                    </a:lnTo>
                    <a:lnTo>
                      <a:pt x="121" y="1639"/>
                    </a:lnTo>
                    <a:lnTo>
                      <a:pt x="126" y="1619"/>
                    </a:lnTo>
                    <a:lnTo>
                      <a:pt x="127" y="1612"/>
                    </a:lnTo>
                    <a:lnTo>
                      <a:pt x="109" y="1613"/>
                    </a:lnTo>
                    <a:lnTo>
                      <a:pt x="90" y="1626"/>
                    </a:lnTo>
                    <a:lnTo>
                      <a:pt x="69" y="1645"/>
                    </a:lnTo>
                    <a:lnTo>
                      <a:pt x="48" y="1668"/>
                    </a:lnTo>
                    <a:lnTo>
                      <a:pt x="30" y="1690"/>
                    </a:lnTo>
                    <a:lnTo>
                      <a:pt x="16" y="1710"/>
                    </a:lnTo>
                    <a:lnTo>
                      <a:pt x="6" y="1720"/>
                    </a:lnTo>
                    <a:lnTo>
                      <a:pt x="4" y="1720"/>
                    </a:lnTo>
                    <a:lnTo>
                      <a:pt x="10" y="1693"/>
                    </a:lnTo>
                    <a:lnTo>
                      <a:pt x="16" y="1668"/>
                    </a:lnTo>
                    <a:lnTo>
                      <a:pt x="22" y="1642"/>
                    </a:lnTo>
                    <a:lnTo>
                      <a:pt x="29" y="1616"/>
                    </a:lnTo>
                    <a:lnTo>
                      <a:pt x="36" y="1592"/>
                    </a:lnTo>
                    <a:lnTo>
                      <a:pt x="46" y="1567"/>
                    </a:lnTo>
                    <a:lnTo>
                      <a:pt x="57" y="1544"/>
                    </a:lnTo>
                    <a:lnTo>
                      <a:pt x="75" y="1523"/>
                    </a:lnTo>
                    <a:lnTo>
                      <a:pt x="63" y="1524"/>
                    </a:lnTo>
                    <a:lnTo>
                      <a:pt x="54" y="1529"/>
                    </a:lnTo>
                    <a:lnTo>
                      <a:pt x="44" y="1533"/>
                    </a:lnTo>
                    <a:lnTo>
                      <a:pt x="33" y="1539"/>
                    </a:lnTo>
                    <a:lnTo>
                      <a:pt x="23" y="1541"/>
                    </a:lnTo>
                    <a:lnTo>
                      <a:pt x="15" y="1544"/>
                    </a:lnTo>
                    <a:lnTo>
                      <a:pt x="8" y="1540"/>
                    </a:lnTo>
                    <a:lnTo>
                      <a:pt x="7" y="1534"/>
                    </a:lnTo>
                    <a:lnTo>
                      <a:pt x="0" y="1524"/>
                    </a:lnTo>
                    <a:lnTo>
                      <a:pt x="7" y="1507"/>
                    </a:lnTo>
                    <a:lnTo>
                      <a:pt x="24" y="1487"/>
                    </a:lnTo>
                    <a:lnTo>
                      <a:pt x="48" y="1467"/>
                    </a:lnTo>
                    <a:lnTo>
                      <a:pt x="75" y="1446"/>
                    </a:lnTo>
                    <a:lnTo>
                      <a:pt x="100" y="1427"/>
                    </a:lnTo>
                    <a:lnTo>
                      <a:pt x="120" y="1411"/>
                    </a:lnTo>
                    <a:lnTo>
                      <a:pt x="132" y="1403"/>
                    </a:lnTo>
                    <a:lnTo>
                      <a:pt x="270" y="1367"/>
                    </a:lnTo>
                    <a:lnTo>
                      <a:pt x="277" y="1356"/>
                    </a:lnTo>
                    <a:lnTo>
                      <a:pt x="285" y="1345"/>
                    </a:lnTo>
                    <a:lnTo>
                      <a:pt x="292" y="1332"/>
                    </a:lnTo>
                    <a:lnTo>
                      <a:pt x="301" y="1321"/>
                    </a:lnTo>
                    <a:lnTo>
                      <a:pt x="309" y="1308"/>
                    </a:lnTo>
                    <a:lnTo>
                      <a:pt x="316" y="1296"/>
                    </a:lnTo>
                    <a:lnTo>
                      <a:pt x="321" y="1284"/>
                    </a:lnTo>
                    <a:lnTo>
                      <a:pt x="325" y="1274"/>
                    </a:lnTo>
                    <a:lnTo>
                      <a:pt x="332" y="1245"/>
                    </a:lnTo>
                    <a:lnTo>
                      <a:pt x="346" y="1217"/>
                    </a:lnTo>
                    <a:lnTo>
                      <a:pt x="362" y="1191"/>
                    </a:lnTo>
                    <a:lnTo>
                      <a:pt x="385" y="1167"/>
                    </a:lnTo>
                    <a:lnTo>
                      <a:pt x="408" y="1144"/>
                    </a:lnTo>
                    <a:lnTo>
                      <a:pt x="436" y="1127"/>
                    </a:lnTo>
                    <a:lnTo>
                      <a:pt x="464" y="1113"/>
                    </a:lnTo>
                    <a:lnTo>
                      <a:pt x="494" y="1104"/>
                    </a:lnTo>
                    <a:lnTo>
                      <a:pt x="529" y="1094"/>
                    </a:lnTo>
                    <a:lnTo>
                      <a:pt x="566" y="1094"/>
                    </a:lnTo>
                    <a:lnTo>
                      <a:pt x="601" y="1099"/>
                    </a:lnTo>
                    <a:lnTo>
                      <a:pt x="635" y="1111"/>
                    </a:lnTo>
                    <a:lnTo>
                      <a:pt x="667" y="1126"/>
                    </a:lnTo>
                    <a:lnTo>
                      <a:pt x="697" y="1147"/>
                    </a:lnTo>
                    <a:lnTo>
                      <a:pt x="724" y="1171"/>
                    </a:lnTo>
                    <a:lnTo>
                      <a:pt x="751" y="1199"/>
                    </a:lnTo>
                    <a:lnTo>
                      <a:pt x="830" y="1241"/>
                    </a:lnTo>
                    <a:lnTo>
                      <a:pt x="858" y="1245"/>
                    </a:lnTo>
                    <a:lnTo>
                      <a:pt x="885" y="1248"/>
                    </a:lnTo>
                    <a:lnTo>
                      <a:pt x="914" y="1248"/>
                    </a:lnTo>
                    <a:lnTo>
                      <a:pt x="941" y="1248"/>
                    </a:lnTo>
                    <a:lnTo>
                      <a:pt x="970" y="1246"/>
                    </a:lnTo>
                    <a:lnTo>
                      <a:pt x="998" y="1245"/>
                    </a:lnTo>
                    <a:lnTo>
                      <a:pt x="1027" y="1242"/>
                    </a:lnTo>
                    <a:lnTo>
                      <a:pt x="1054" y="1242"/>
                    </a:lnTo>
                    <a:lnTo>
                      <a:pt x="1100" y="1229"/>
                    </a:lnTo>
                    <a:lnTo>
                      <a:pt x="1149" y="1218"/>
                    </a:lnTo>
                    <a:lnTo>
                      <a:pt x="1196" y="1207"/>
                    </a:lnTo>
                    <a:lnTo>
                      <a:pt x="1247" y="1201"/>
                    </a:lnTo>
                    <a:lnTo>
                      <a:pt x="1297" y="1195"/>
                    </a:lnTo>
                    <a:lnTo>
                      <a:pt x="1347" y="1193"/>
                    </a:lnTo>
                    <a:lnTo>
                      <a:pt x="1397" y="1193"/>
                    </a:lnTo>
                    <a:lnTo>
                      <a:pt x="1448" y="1196"/>
                    </a:lnTo>
                    <a:lnTo>
                      <a:pt x="1463" y="1196"/>
                    </a:lnTo>
                    <a:lnTo>
                      <a:pt x="1480" y="1200"/>
                    </a:lnTo>
                    <a:lnTo>
                      <a:pt x="1495" y="1203"/>
                    </a:lnTo>
                    <a:lnTo>
                      <a:pt x="1513" y="1208"/>
                    </a:lnTo>
                    <a:lnTo>
                      <a:pt x="1530" y="1211"/>
                    </a:lnTo>
                    <a:lnTo>
                      <a:pt x="1546" y="1217"/>
                    </a:lnTo>
                    <a:lnTo>
                      <a:pt x="1564" y="1219"/>
                    </a:lnTo>
                    <a:lnTo>
                      <a:pt x="1582" y="1222"/>
                    </a:lnTo>
                    <a:lnTo>
                      <a:pt x="1586" y="1214"/>
                    </a:lnTo>
                    <a:lnTo>
                      <a:pt x="1592" y="1209"/>
                    </a:lnTo>
                    <a:lnTo>
                      <a:pt x="1597" y="1203"/>
                    </a:lnTo>
                    <a:lnTo>
                      <a:pt x="1601" y="1199"/>
                    </a:lnTo>
                    <a:lnTo>
                      <a:pt x="1592" y="1193"/>
                    </a:lnTo>
                    <a:lnTo>
                      <a:pt x="1584" y="1189"/>
                    </a:lnTo>
                    <a:lnTo>
                      <a:pt x="1575" y="1185"/>
                    </a:lnTo>
                    <a:lnTo>
                      <a:pt x="1567" y="1180"/>
                    </a:lnTo>
                    <a:lnTo>
                      <a:pt x="1557" y="1174"/>
                    </a:lnTo>
                    <a:lnTo>
                      <a:pt x="1550" y="1169"/>
                    </a:lnTo>
                    <a:lnTo>
                      <a:pt x="1545" y="1161"/>
                    </a:lnTo>
                    <a:lnTo>
                      <a:pt x="1543" y="1151"/>
                    </a:lnTo>
                    <a:lnTo>
                      <a:pt x="1547" y="1136"/>
                    </a:lnTo>
                    <a:lnTo>
                      <a:pt x="1555" y="1126"/>
                    </a:lnTo>
                    <a:lnTo>
                      <a:pt x="1565" y="1117"/>
                    </a:lnTo>
                    <a:lnTo>
                      <a:pt x="1579" y="1111"/>
                    </a:lnTo>
                    <a:lnTo>
                      <a:pt x="1592" y="1106"/>
                    </a:lnTo>
                    <a:lnTo>
                      <a:pt x="1607" y="1103"/>
                    </a:lnTo>
                    <a:lnTo>
                      <a:pt x="1622" y="1101"/>
                    </a:lnTo>
                    <a:lnTo>
                      <a:pt x="1637" y="1099"/>
                    </a:lnTo>
                    <a:lnTo>
                      <a:pt x="1645" y="1101"/>
                    </a:lnTo>
                    <a:lnTo>
                      <a:pt x="1655" y="1102"/>
                    </a:lnTo>
                    <a:lnTo>
                      <a:pt x="1666" y="1102"/>
                    </a:lnTo>
                    <a:lnTo>
                      <a:pt x="1677" y="1103"/>
                    </a:lnTo>
                    <a:lnTo>
                      <a:pt x="1687" y="1104"/>
                    </a:lnTo>
                    <a:lnTo>
                      <a:pt x="1696" y="1109"/>
                    </a:lnTo>
                    <a:lnTo>
                      <a:pt x="1704" y="1114"/>
                    </a:lnTo>
                    <a:lnTo>
                      <a:pt x="1712" y="1125"/>
                    </a:lnTo>
                    <a:lnTo>
                      <a:pt x="1719" y="1136"/>
                    </a:lnTo>
                    <a:lnTo>
                      <a:pt x="1726" y="1150"/>
                    </a:lnTo>
                    <a:lnTo>
                      <a:pt x="1729" y="1164"/>
                    </a:lnTo>
                    <a:lnTo>
                      <a:pt x="1734" y="1178"/>
                    </a:lnTo>
                    <a:lnTo>
                      <a:pt x="1738" y="1189"/>
                    </a:lnTo>
                    <a:lnTo>
                      <a:pt x="1742" y="1200"/>
                    </a:lnTo>
                    <a:lnTo>
                      <a:pt x="1748" y="1209"/>
                    </a:lnTo>
                    <a:lnTo>
                      <a:pt x="1757" y="1217"/>
                    </a:lnTo>
                    <a:lnTo>
                      <a:pt x="1807" y="1211"/>
                    </a:lnTo>
                    <a:lnTo>
                      <a:pt x="1858" y="1208"/>
                    </a:lnTo>
                    <a:lnTo>
                      <a:pt x="1908" y="1203"/>
                    </a:lnTo>
                    <a:lnTo>
                      <a:pt x="1961" y="1199"/>
                    </a:lnTo>
                    <a:lnTo>
                      <a:pt x="2012" y="1194"/>
                    </a:lnTo>
                    <a:lnTo>
                      <a:pt x="2065" y="1189"/>
                    </a:lnTo>
                    <a:lnTo>
                      <a:pt x="2118" y="1186"/>
                    </a:lnTo>
                    <a:lnTo>
                      <a:pt x="2171" y="1185"/>
                    </a:lnTo>
                    <a:lnTo>
                      <a:pt x="2175" y="1174"/>
                    </a:lnTo>
                    <a:lnTo>
                      <a:pt x="2178" y="1164"/>
                    </a:lnTo>
                    <a:lnTo>
                      <a:pt x="2180" y="1152"/>
                    </a:lnTo>
                    <a:lnTo>
                      <a:pt x="2183" y="1143"/>
                    </a:lnTo>
                    <a:lnTo>
                      <a:pt x="2185" y="1133"/>
                    </a:lnTo>
                    <a:lnTo>
                      <a:pt x="2187" y="1122"/>
                    </a:lnTo>
                    <a:lnTo>
                      <a:pt x="2191" y="1113"/>
                    </a:lnTo>
                    <a:lnTo>
                      <a:pt x="2195" y="1104"/>
                    </a:lnTo>
                    <a:lnTo>
                      <a:pt x="2201" y="1087"/>
                    </a:lnTo>
                    <a:lnTo>
                      <a:pt x="2212" y="1071"/>
                    </a:lnTo>
                    <a:lnTo>
                      <a:pt x="2222" y="1056"/>
                    </a:lnTo>
                    <a:lnTo>
                      <a:pt x="2236" y="1043"/>
                    </a:lnTo>
                    <a:lnTo>
                      <a:pt x="2250" y="1029"/>
                    </a:lnTo>
                    <a:lnTo>
                      <a:pt x="2266" y="1020"/>
                    </a:lnTo>
                    <a:lnTo>
                      <a:pt x="2283" y="1013"/>
                    </a:lnTo>
                    <a:lnTo>
                      <a:pt x="2300" y="1009"/>
                    </a:lnTo>
                    <a:lnTo>
                      <a:pt x="2310" y="1009"/>
                    </a:lnTo>
                    <a:lnTo>
                      <a:pt x="2320" y="1012"/>
                    </a:lnTo>
                    <a:lnTo>
                      <a:pt x="2329" y="1014"/>
                    </a:lnTo>
                    <a:lnTo>
                      <a:pt x="2341" y="1019"/>
                    </a:lnTo>
                    <a:lnTo>
                      <a:pt x="2349" y="1023"/>
                    </a:lnTo>
                    <a:lnTo>
                      <a:pt x="2357" y="1030"/>
                    </a:lnTo>
                    <a:lnTo>
                      <a:pt x="2363" y="1039"/>
                    </a:lnTo>
                    <a:lnTo>
                      <a:pt x="2368" y="1050"/>
                    </a:lnTo>
                    <a:lnTo>
                      <a:pt x="2373" y="1058"/>
                    </a:lnTo>
                    <a:lnTo>
                      <a:pt x="2374" y="1068"/>
                    </a:lnTo>
                    <a:lnTo>
                      <a:pt x="2372" y="1077"/>
                    </a:lnTo>
                    <a:lnTo>
                      <a:pt x="2370" y="1088"/>
                    </a:lnTo>
                    <a:lnTo>
                      <a:pt x="2365" y="1098"/>
                    </a:lnTo>
                    <a:lnTo>
                      <a:pt x="2360" y="1109"/>
                    </a:lnTo>
                    <a:lnTo>
                      <a:pt x="2355" y="1117"/>
                    </a:lnTo>
                    <a:lnTo>
                      <a:pt x="2351" y="1125"/>
                    </a:lnTo>
                    <a:lnTo>
                      <a:pt x="2342" y="1127"/>
                    </a:lnTo>
                    <a:lnTo>
                      <a:pt x="2333" y="1129"/>
                    </a:lnTo>
                    <a:lnTo>
                      <a:pt x="2322" y="1131"/>
                    </a:lnTo>
                    <a:lnTo>
                      <a:pt x="2313" y="1134"/>
                    </a:lnTo>
                    <a:lnTo>
                      <a:pt x="2303" y="1135"/>
                    </a:lnTo>
                    <a:lnTo>
                      <a:pt x="2293" y="1139"/>
                    </a:lnTo>
                    <a:lnTo>
                      <a:pt x="2285" y="1143"/>
                    </a:lnTo>
                    <a:lnTo>
                      <a:pt x="2278" y="1151"/>
                    </a:lnTo>
                    <a:lnTo>
                      <a:pt x="2274" y="1162"/>
                    </a:lnTo>
                    <a:lnTo>
                      <a:pt x="2291" y="1167"/>
                    </a:lnTo>
                    <a:lnTo>
                      <a:pt x="2322" y="1170"/>
                    </a:lnTo>
                    <a:lnTo>
                      <a:pt x="2365" y="1171"/>
                    </a:lnTo>
                    <a:lnTo>
                      <a:pt x="2409" y="1169"/>
                    </a:lnTo>
                    <a:lnTo>
                      <a:pt x="2450" y="1167"/>
                    </a:lnTo>
                    <a:lnTo>
                      <a:pt x="2479" y="1165"/>
                    </a:lnTo>
                    <a:lnTo>
                      <a:pt x="2495" y="1164"/>
                    </a:lnTo>
                    <a:lnTo>
                      <a:pt x="2496" y="1143"/>
                    </a:lnTo>
                    <a:lnTo>
                      <a:pt x="2506" y="1127"/>
                    </a:lnTo>
                    <a:lnTo>
                      <a:pt x="2518" y="1110"/>
                    </a:lnTo>
                    <a:lnTo>
                      <a:pt x="2530" y="1094"/>
                    </a:lnTo>
                    <a:lnTo>
                      <a:pt x="2538" y="1076"/>
                    </a:lnTo>
                    <a:lnTo>
                      <a:pt x="2543" y="1060"/>
                    </a:lnTo>
                    <a:lnTo>
                      <a:pt x="2538" y="1043"/>
                    </a:lnTo>
                    <a:lnTo>
                      <a:pt x="2524" y="1025"/>
                    </a:lnTo>
                    <a:lnTo>
                      <a:pt x="2522" y="1008"/>
                    </a:lnTo>
                    <a:lnTo>
                      <a:pt x="2523" y="994"/>
                    </a:lnTo>
                    <a:lnTo>
                      <a:pt x="2526" y="979"/>
                    </a:lnTo>
                    <a:lnTo>
                      <a:pt x="2535" y="965"/>
                    </a:lnTo>
                    <a:lnTo>
                      <a:pt x="2541" y="952"/>
                    </a:lnTo>
                    <a:lnTo>
                      <a:pt x="2551" y="940"/>
                    </a:lnTo>
                    <a:lnTo>
                      <a:pt x="2561" y="927"/>
                    </a:lnTo>
                    <a:lnTo>
                      <a:pt x="2574" y="916"/>
                    </a:lnTo>
                    <a:lnTo>
                      <a:pt x="2576" y="902"/>
                    </a:lnTo>
                    <a:lnTo>
                      <a:pt x="2576" y="889"/>
                    </a:lnTo>
                    <a:lnTo>
                      <a:pt x="2571" y="875"/>
                    </a:lnTo>
                    <a:lnTo>
                      <a:pt x="2567" y="864"/>
                    </a:lnTo>
                    <a:lnTo>
                      <a:pt x="2562" y="850"/>
                    </a:lnTo>
                    <a:lnTo>
                      <a:pt x="2559" y="837"/>
                    </a:lnTo>
                    <a:lnTo>
                      <a:pt x="2559" y="824"/>
                    </a:lnTo>
                    <a:lnTo>
                      <a:pt x="2562" y="811"/>
                    </a:lnTo>
                    <a:lnTo>
                      <a:pt x="2565" y="800"/>
                    </a:lnTo>
                    <a:lnTo>
                      <a:pt x="2574" y="782"/>
                    </a:lnTo>
                    <a:lnTo>
                      <a:pt x="2585" y="760"/>
                    </a:lnTo>
                    <a:lnTo>
                      <a:pt x="2599" y="738"/>
                    </a:lnTo>
                    <a:lnTo>
                      <a:pt x="2612" y="714"/>
                    </a:lnTo>
                    <a:lnTo>
                      <a:pt x="2626" y="695"/>
                    </a:lnTo>
                    <a:lnTo>
                      <a:pt x="2637" y="683"/>
                    </a:lnTo>
                    <a:lnTo>
                      <a:pt x="2646" y="679"/>
                    </a:lnTo>
                    <a:lnTo>
                      <a:pt x="2652" y="690"/>
                    </a:lnTo>
                    <a:lnTo>
                      <a:pt x="2651" y="701"/>
                    </a:lnTo>
                    <a:lnTo>
                      <a:pt x="2650" y="706"/>
                    </a:lnTo>
                    <a:lnTo>
                      <a:pt x="2650" y="712"/>
                    </a:lnTo>
                    <a:lnTo>
                      <a:pt x="2650" y="717"/>
                    </a:lnTo>
                    <a:lnTo>
                      <a:pt x="2653" y="725"/>
                    </a:lnTo>
                    <a:lnTo>
                      <a:pt x="2663" y="708"/>
                    </a:lnTo>
                    <a:lnTo>
                      <a:pt x="2665" y="691"/>
                    </a:lnTo>
                    <a:lnTo>
                      <a:pt x="2663" y="674"/>
                    </a:lnTo>
                    <a:lnTo>
                      <a:pt x="2658" y="657"/>
                    </a:lnTo>
                    <a:lnTo>
                      <a:pt x="2651" y="640"/>
                    </a:lnTo>
                    <a:lnTo>
                      <a:pt x="2646" y="624"/>
                    </a:lnTo>
                    <a:lnTo>
                      <a:pt x="2644" y="605"/>
                    </a:lnTo>
                    <a:lnTo>
                      <a:pt x="2649" y="588"/>
                    </a:lnTo>
                    <a:lnTo>
                      <a:pt x="2652" y="567"/>
                    </a:lnTo>
                    <a:lnTo>
                      <a:pt x="2659" y="549"/>
                    </a:lnTo>
                    <a:lnTo>
                      <a:pt x="2668" y="530"/>
                    </a:lnTo>
                    <a:lnTo>
                      <a:pt x="2678" y="514"/>
                    </a:lnTo>
                    <a:lnTo>
                      <a:pt x="2686" y="493"/>
                    </a:lnTo>
                    <a:lnTo>
                      <a:pt x="2693" y="475"/>
                    </a:lnTo>
                    <a:lnTo>
                      <a:pt x="2693" y="454"/>
                    </a:lnTo>
                    <a:lnTo>
                      <a:pt x="2689" y="432"/>
                    </a:lnTo>
                    <a:lnTo>
                      <a:pt x="2691" y="416"/>
                    </a:lnTo>
                    <a:lnTo>
                      <a:pt x="2694" y="401"/>
                    </a:lnTo>
                    <a:lnTo>
                      <a:pt x="2694" y="386"/>
                    </a:lnTo>
                    <a:lnTo>
                      <a:pt x="2695" y="371"/>
                    </a:lnTo>
                    <a:lnTo>
                      <a:pt x="2695" y="357"/>
                    </a:lnTo>
                    <a:lnTo>
                      <a:pt x="2697" y="343"/>
                    </a:lnTo>
                    <a:lnTo>
                      <a:pt x="2701" y="330"/>
                    </a:lnTo>
                    <a:lnTo>
                      <a:pt x="2709" y="315"/>
                    </a:lnTo>
                    <a:lnTo>
                      <a:pt x="2693" y="288"/>
                    </a:lnTo>
                    <a:lnTo>
                      <a:pt x="2680" y="262"/>
                    </a:lnTo>
                    <a:lnTo>
                      <a:pt x="2670" y="233"/>
                    </a:lnTo>
                    <a:lnTo>
                      <a:pt x="2663" y="205"/>
                    </a:lnTo>
                    <a:lnTo>
                      <a:pt x="2658" y="174"/>
                    </a:lnTo>
                    <a:lnTo>
                      <a:pt x="2658" y="146"/>
                    </a:lnTo>
                    <a:lnTo>
                      <a:pt x="2661" y="116"/>
                    </a:lnTo>
                    <a:lnTo>
                      <a:pt x="2671" y="88"/>
                    </a:lnTo>
                    <a:lnTo>
                      <a:pt x="2678" y="86"/>
                    </a:lnTo>
                    <a:lnTo>
                      <a:pt x="2686" y="87"/>
                    </a:lnTo>
                    <a:lnTo>
                      <a:pt x="2693" y="90"/>
                    </a:lnTo>
                    <a:lnTo>
                      <a:pt x="2700" y="94"/>
                    </a:lnTo>
                    <a:lnTo>
                      <a:pt x="2704" y="98"/>
                    </a:lnTo>
                    <a:lnTo>
                      <a:pt x="2711" y="102"/>
                    </a:lnTo>
                    <a:lnTo>
                      <a:pt x="2717" y="106"/>
                    </a:lnTo>
                    <a:lnTo>
                      <a:pt x="2724" y="110"/>
                    </a:lnTo>
                    <a:lnTo>
                      <a:pt x="2732" y="122"/>
                    </a:lnTo>
                    <a:lnTo>
                      <a:pt x="2740" y="133"/>
                    </a:lnTo>
                    <a:lnTo>
                      <a:pt x="2748" y="146"/>
                    </a:lnTo>
                    <a:lnTo>
                      <a:pt x="2756" y="159"/>
                    </a:lnTo>
                    <a:lnTo>
                      <a:pt x="2762" y="170"/>
                    </a:lnTo>
                    <a:lnTo>
                      <a:pt x="2768" y="183"/>
                    </a:lnTo>
                    <a:lnTo>
                      <a:pt x="2771" y="197"/>
                    </a:lnTo>
                    <a:lnTo>
                      <a:pt x="2776" y="213"/>
                    </a:lnTo>
                    <a:lnTo>
                      <a:pt x="2792" y="210"/>
                    </a:lnTo>
                    <a:lnTo>
                      <a:pt x="2820" y="204"/>
                    </a:lnTo>
                    <a:lnTo>
                      <a:pt x="2852" y="195"/>
                    </a:lnTo>
                    <a:lnTo>
                      <a:pt x="2889" y="187"/>
                    </a:lnTo>
                    <a:lnTo>
                      <a:pt x="2921" y="177"/>
                    </a:lnTo>
                    <a:lnTo>
                      <a:pt x="2952" y="170"/>
                    </a:lnTo>
                    <a:lnTo>
                      <a:pt x="2972" y="166"/>
                    </a:lnTo>
                    <a:lnTo>
                      <a:pt x="2981" y="165"/>
                    </a:lnTo>
                    <a:lnTo>
                      <a:pt x="2986" y="130"/>
                    </a:lnTo>
                    <a:lnTo>
                      <a:pt x="2993" y="102"/>
                    </a:lnTo>
                    <a:lnTo>
                      <a:pt x="3000" y="79"/>
                    </a:lnTo>
                    <a:lnTo>
                      <a:pt x="3010" y="58"/>
                    </a:lnTo>
                    <a:lnTo>
                      <a:pt x="3019" y="41"/>
                    </a:lnTo>
                    <a:lnTo>
                      <a:pt x="3030" y="28"/>
                    </a:lnTo>
                    <a:lnTo>
                      <a:pt x="3040" y="17"/>
                    </a:lnTo>
                    <a:lnTo>
                      <a:pt x="3053" y="10"/>
                    </a:lnTo>
                    <a:lnTo>
                      <a:pt x="3064" y="3"/>
                    </a:lnTo>
                    <a:lnTo>
                      <a:pt x="3077" y="0"/>
                    </a:lnTo>
                    <a:lnTo>
                      <a:pt x="3087" y="1"/>
                    </a:lnTo>
                    <a:lnTo>
                      <a:pt x="3099" y="6"/>
                    </a:lnTo>
                    <a:lnTo>
                      <a:pt x="3109" y="15"/>
                    </a:lnTo>
                    <a:lnTo>
                      <a:pt x="3116" y="28"/>
                    </a:lnTo>
                    <a:lnTo>
                      <a:pt x="3122" y="43"/>
                    </a:lnTo>
                    <a:lnTo>
                      <a:pt x="3126" y="64"/>
                    </a:lnTo>
                    <a:lnTo>
                      <a:pt x="3128" y="79"/>
                    </a:lnTo>
                    <a:lnTo>
                      <a:pt x="3130" y="94"/>
                    </a:lnTo>
                    <a:lnTo>
                      <a:pt x="3131" y="109"/>
                    </a:lnTo>
                    <a:lnTo>
                      <a:pt x="3131" y="126"/>
                    </a:lnTo>
                    <a:lnTo>
                      <a:pt x="3128" y="144"/>
                    </a:lnTo>
                    <a:lnTo>
                      <a:pt x="3121" y="162"/>
                    </a:lnTo>
                    <a:lnTo>
                      <a:pt x="3109" y="182"/>
                    </a:lnTo>
                    <a:lnTo>
                      <a:pt x="3091" y="205"/>
                    </a:lnTo>
                    <a:lnTo>
                      <a:pt x="3085" y="212"/>
                    </a:lnTo>
                    <a:lnTo>
                      <a:pt x="3087" y="222"/>
                    </a:lnTo>
                    <a:lnTo>
                      <a:pt x="3093" y="232"/>
                    </a:lnTo>
                    <a:lnTo>
                      <a:pt x="3102" y="243"/>
                    </a:lnTo>
                    <a:lnTo>
                      <a:pt x="3113" y="253"/>
                    </a:lnTo>
                    <a:lnTo>
                      <a:pt x="3123" y="267"/>
                    </a:lnTo>
                    <a:lnTo>
                      <a:pt x="3131" y="278"/>
                    </a:lnTo>
                    <a:lnTo>
                      <a:pt x="3137" y="290"/>
                    </a:lnTo>
                    <a:lnTo>
                      <a:pt x="3139" y="302"/>
                    </a:lnTo>
                    <a:lnTo>
                      <a:pt x="3143" y="316"/>
                    </a:lnTo>
                    <a:lnTo>
                      <a:pt x="3146" y="331"/>
                    </a:lnTo>
                    <a:lnTo>
                      <a:pt x="3149" y="346"/>
                    </a:lnTo>
                    <a:lnTo>
                      <a:pt x="3154" y="357"/>
                    </a:lnTo>
                    <a:lnTo>
                      <a:pt x="3162" y="370"/>
                    </a:lnTo>
                    <a:lnTo>
                      <a:pt x="3174" y="380"/>
                    </a:lnTo>
                    <a:lnTo>
                      <a:pt x="3189" y="388"/>
                    </a:lnTo>
                    <a:lnTo>
                      <a:pt x="3198" y="388"/>
                    </a:lnTo>
                    <a:lnTo>
                      <a:pt x="3207" y="388"/>
                    </a:lnTo>
                    <a:lnTo>
                      <a:pt x="3216" y="390"/>
                    </a:lnTo>
                    <a:lnTo>
                      <a:pt x="3227" y="392"/>
                    </a:lnTo>
                    <a:lnTo>
                      <a:pt x="3235" y="394"/>
                    </a:lnTo>
                    <a:lnTo>
                      <a:pt x="3244" y="399"/>
                    </a:lnTo>
                    <a:lnTo>
                      <a:pt x="3251" y="403"/>
                    </a:lnTo>
                    <a:lnTo>
                      <a:pt x="3259" y="410"/>
                    </a:lnTo>
                    <a:lnTo>
                      <a:pt x="3264" y="408"/>
                    </a:lnTo>
                    <a:lnTo>
                      <a:pt x="3268" y="408"/>
                    </a:lnTo>
                    <a:lnTo>
                      <a:pt x="3271" y="408"/>
                    </a:lnTo>
                    <a:lnTo>
                      <a:pt x="3273" y="412"/>
                    </a:lnTo>
                    <a:lnTo>
                      <a:pt x="3275" y="417"/>
                    </a:lnTo>
                    <a:lnTo>
                      <a:pt x="3279" y="425"/>
                    </a:lnTo>
                    <a:lnTo>
                      <a:pt x="3279" y="435"/>
                    </a:lnTo>
                    <a:lnTo>
                      <a:pt x="3284" y="443"/>
                    </a:lnTo>
                    <a:lnTo>
                      <a:pt x="3291" y="448"/>
                    </a:lnTo>
                    <a:lnTo>
                      <a:pt x="3301" y="454"/>
                    </a:lnTo>
                    <a:lnTo>
                      <a:pt x="3309" y="459"/>
                    </a:lnTo>
                    <a:lnTo>
                      <a:pt x="3318" y="466"/>
                    </a:lnTo>
                    <a:lnTo>
                      <a:pt x="3324" y="474"/>
                    </a:lnTo>
                    <a:lnTo>
                      <a:pt x="3327" y="485"/>
                    </a:lnTo>
                    <a:lnTo>
                      <a:pt x="3325" y="491"/>
                    </a:lnTo>
                    <a:lnTo>
                      <a:pt x="3327" y="499"/>
                    </a:lnTo>
                    <a:lnTo>
                      <a:pt x="3332" y="504"/>
                    </a:lnTo>
                    <a:lnTo>
                      <a:pt x="3339" y="508"/>
                    </a:lnTo>
                    <a:lnTo>
                      <a:pt x="3346" y="511"/>
                    </a:lnTo>
                    <a:lnTo>
                      <a:pt x="3353" y="514"/>
                    </a:lnTo>
                    <a:lnTo>
                      <a:pt x="3359" y="518"/>
                    </a:lnTo>
                    <a:lnTo>
                      <a:pt x="3366" y="521"/>
                    </a:lnTo>
                    <a:lnTo>
                      <a:pt x="3377" y="526"/>
                    </a:lnTo>
                    <a:lnTo>
                      <a:pt x="3385" y="535"/>
                    </a:lnTo>
                    <a:lnTo>
                      <a:pt x="3384" y="543"/>
                    </a:lnTo>
                    <a:lnTo>
                      <a:pt x="3385" y="551"/>
                    </a:lnTo>
                    <a:lnTo>
                      <a:pt x="3388" y="558"/>
                    </a:lnTo>
                    <a:lnTo>
                      <a:pt x="3392" y="565"/>
                    </a:lnTo>
                    <a:lnTo>
                      <a:pt x="3395" y="570"/>
                    </a:lnTo>
                    <a:lnTo>
                      <a:pt x="3399" y="577"/>
                    </a:lnTo>
                    <a:lnTo>
                      <a:pt x="3402" y="583"/>
                    </a:lnTo>
                    <a:lnTo>
                      <a:pt x="3404" y="593"/>
                    </a:lnTo>
                    <a:lnTo>
                      <a:pt x="3395" y="593"/>
                    </a:lnTo>
                    <a:lnTo>
                      <a:pt x="3387" y="594"/>
                    </a:lnTo>
                    <a:lnTo>
                      <a:pt x="3380" y="593"/>
                    </a:lnTo>
                    <a:lnTo>
                      <a:pt x="3374" y="592"/>
                    </a:lnTo>
                    <a:lnTo>
                      <a:pt x="3368" y="587"/>
                    </a:lnTo>
                    <a:lnTo>
                      <a:pt x="3364" y="583"/>
                    </a:lnTo>
                    <a:lnTo>
                      <a:pt x="3361" y="577"/>
                    </a:lnTo>
                    <a:lnTo>
                      <a:pt x="3359" y="571"/>
                    </a:lnTo>
                    <a:lnTo>
                      <a:pt x="3356" y="562"/>
                    </a:lnTo>
                    <a:lnTo>
                      <a:pt x="3356" y="551"/>
                    </a:lnTo>
                    <a:lnTo>
                      <a:pt x="3354" y="543"/>
                    </a:lnTo>
                    <a:lnTo>
                      <a:pt x="3348" y="538"/>
                    </a:lnTo>
                    <a:lnTo>
                      <a:pt x="3338" y="540"/>
                    </a:lnTo>
                    <a:lnTo>
                      <a:pt x="3328" y="541"/>
                    </a:lnTo>
                    <a:lnTo>
                      <a:pt x="3320" y="540"/>
                    </a:lnTo>
                    <a:lnTo>
                      <a:pt x="3313" y="538"/>
                    </a:lnTo>
                    <a:lnTo>
                      <a:pt x="3305" y="535"/>
                    </a:lnTo>
                    <a:lnTo>
                      <a:pt x="3299" y="532"/>
                    </a:lnTo>
                    <a:lnTo>
                      <a:pt x="3294" y="525"/>
                    </a:lnTo>
                    <a:lnTo>
                      <a:pt x="3290" y="518"/>
                    </a:lnTo>
                    <a:lnTo>
                      <a:pt x="3288" y="511"/>
                    </a:lnTo>
                    <a:lnTo>
                      <a:pt x="3288" y="505"/>
                    </a:lnTo>
                    <a:lnTo>
                      <a:pt x="3287" y="498"/>
                    </a:lnTo>
                    <a:lnTo>
                      <a:pt x="3287" y="491"/>
                    </a:lnTo>
                    <a:lnTo>
                      <a:pt x="3283" y="480"/>
                    </a:lnTo>
                    <a:lnTo>
                      <a:pt x="3276" y="470"/>
                    </a:lnTo>
                    <a:lnTo>
                      <a:pt x="3267" y="470"/>
                    </a:lnTo>
                    <a:lnTo>
                      <a:pt x="3259" y="472"/>
                    </a:lnTo>
                    <a:lnTo>
                      <a:pt x="3251" y="470"/>
                    </a:lnTo>
                    <a:lnTo>
                      <a:pt x="3244" y="469"/>
                    </a:lnTo>
                    <a:lnTo>
                      <a:pt x="3237" y="465"/>
                    </a:lnTo>
                    <a:lnTo>
                      <a:pt x="3231" y="461"/>
                    </a:lnTo>
                    <a:lnTo>
                      <a:pt x="3227" y="454"/>
                    </a:lnTo>
                    <a:lnTo>
                      <a:pt x="3224" y="448"/>
                    </a:lnTo>
                    <a:lnTo>
                      <a:pt x="3220" y="438"/>
                    </a:lnTo>
                    <a:lnTo>
                      <a:pt x="3221" y="428"/>
                    </a:lnTo>
                    <a:lnTo>
                      <a:pt x="3219" y="418"/>
                    </a:lnTo>
                    <a:lnTo>
                      <a:pt x="3212" y="413"/>
                    </a:lnTo>
                    <a:lnTo>
                      <a:pt x="3205" y="414"/>
                    </a:lnTo>
                    <a:lnTo>
                      <a:pt x="3198" y="415"/>
                    </a:lnTo>
                    <a:lnTo>
                      <a:pt x="3191" y="414"/>
                    </a:lnTo>
                    <a:lnTo>
                      <a:pt x="3184" y="414"/>
                    </a:lnTo>
                    <a:lnTo>
                      <a:pt x="3177" y="413"/>
                    </a:lnTo>
                    <a:lnTo>
                      <a:pt x="3171" y="413"/>
                    </a:lnTo>
                    <a:lnTo>
                      <a:pt x="3166" y="415"/>
                    </a:lnTo>
                    <a:lnTo>
                      <a:pt x="3161" y="421"/>
                    </a:lnTo>
                    <a:lnTo>
                      <a:pt x="3160" y="431"/>
                    </a:lnTo>
                    <a:lnTo>
                      <a:pt x="3164" y="444"/>
                    </a:lnTo>
                    <a:lnTo>
                      <a:pt x="3170" y="453"/>
                    </a:lnTo>
                    <a:lnTo>
                      <a:pt x="3177" y="463"/>
                    </a:lnTo>
                    <a:lnTo>
                      <a:pt x="3190" y="467"/>
                    </a:lnTo>
                    <a:lnTo>
                      <a:pt x="3204" y="470"/>
                    </a:lnTo>
                    <a:lnTo>
                      <a:pt x="3218" y="474"/>
                    </a:lnTo>
                    <a:lnTo>
                      <a:pt x="3233" y="480"/>
                    </a:lnTo>
                    <a:lnTo>
                      <a:pt x="3244" y="485"/>
                    </a:lnTo>
                    <a:lnTo>
                      <a:pt x="3254" y="493"/>
                    </a:lnTo>
                    <a:lnTo>
                      <a:pt x="3261" y="506"/>
                    </a:lnTo>
                    <a:lnTo>
                      <a:pt x="3266" y="521"/>
                    </a:lnTo>
                    <a:lnTo>
                      <a:pt x="3258" y="538"/>
                    </a:lnTo>
                    <a:lnTo>
                      <a:pt x="3260" y="550"/>
                    </a:lnTo>
                    <a:lnTo>
                      <a:pt x="3268" y="559"/>
                    </a:lnTo>
                    <a:lnTo>
                      <a:pt x="3281" y="564"/>
                    </a:lnTo>
                    <a:lnTo>
                      <a:pt x="3295" y="567"/>
                    </a:lnTo>
                    <a:lnTo>
                      <a:pt x="3310" y="572"/>
                    </a:lnTo>
                    <a:lnTo>
                      <a:pt x="3323" y="578"/>
                    </a:lnTo>
                    <a:lnTo>
                      <a:pt x="3332" y="588"/>
                    </a:lnTo>
                    <a:lnTo>
                      <a:pt x="3329" y="595"/>
                    </a:lnTo>
                    <a:lnTo>
                      <a:pt x="3329" y="604"/>
                    </a:lnTo>
                    <a:lnTo>
                      <a:pt x="3329" y="615"/>
                    </a:lnTo>
                    <a:lnTo>
                      <a:pt x="3331" y="626"/>
                    </a:lnTo>
                    <a:lnTo>
                      <a:pt x="3333" y="635"/>
                    </a:lnTo>
                    <a:lnTo>
                      <a:pt x="3339" y="644"/>
                    </a:lnTo>
                    <a:lnTo>
                      <a:pt x="3348" y="648"/>
                    </a:lnTo>
                    <a:lnTo>
                      <a:pt x="3359" y="650"/>
                    </a:lnTo>
                    <a:lnTo>
                      <a:pt x="3364" y="653"/>
                    </a:lnTo>
                    <a:lnTo>
                      <a:pt x="3371" y="656"/>
                    </a:lnTo>
                    <a:lnTo>
                      <a:pt x="3377" y="660"/>
                    </a:lnTo>
                    <a:lnTo>
                      <a:pt x="3384" y="668"/>
                    </a:lnTo>
                    <a:lnTo>
                      <a:pt x="3383" y="678"/>
                    </a:lnTo>
                    <a:lnTo>
                      <a:pt x="3383" y="689"/>
                    </a:lnTo>
                    <a:lnTo>
                      <a:pt x="3383" y="699"/>
                    </a:lnTo>
                    <a:lnTo>
                      <a:pt x="3384" y="709"/>
                    </a:lnTo>
                    <a:lnTo>
                      <a:pt x="3385" y="719"/>
                    </a:lnTo>
                    <a:lnTo>
                      <a:pt x="3388" y="729"/>
                    </a:lnTo>
                    <a:lnTo>
                      <a:pt x="3391" y="739"/>
                    </a:lnTo>
                    <a:lnTo>
                      <a:pt x="3396" y="749"/>
                    </a:lnTo>
                    <a:lnTo>
                      <a:pt x="3391" y="751"/>
                    </a:lnTo>
                    <a:lnTo>
                      <a:pt x="3386" y="752"/>
                    </a:lnTo>
                    <a:lnTo>
                      <a:pt x="3379" y="752"/>
                    </a:lnTo>
                    <a:lnTo>
                      <a:pt x="3372" y="754"/>
                    </a:lnTo>
                    <a:lnTo>
                      <a:pt x="3361" y="743"/>
                    </a:lnTo>
                    <a:lnTo>
                      <a:pt x="3356" y="728"/>
                    </a:lnTo>
                    <a:lnTo>
                      <a:pt x="3355" y="712"/>
                    </a:lnTo>
                    <a:lnTo>
                      <a:pt x="3354" y="697"/>
                    </a:lnTo>
                    <a:lnTo>
                      <a:pt x="3351" y="682"/>
                    </a:lnTo>
                    <a:lnTo>
                      <a:pt x="3346" y="669"/>
                    </a:lnTo>
                    <a:lnTo>
                      <a:pt x="3332" y="661"/>
                    </a:lnTo>
                    <a:lnTo>
                      <a:pt x="3312" y="661"/>
                    </a:lnTo>
                    <a:lnTo>
                      <a:pt x="3304" y="652"/>
                    </a:lnTo>
                    <a:lnTo>
                      <a:pt x="3299" y="644"/>
                    </a:lnTo>
                    <a:lnTo>
                      <a:pt x="3295" y="635"/>
                    </a:lnTo>
                    <a:lnTo>
                      <a:pt x="3295" y="627"/>
                    </a:lnTo>
                    <a:lnTo>
                      <a:pt x="3293" y="618"/>
                    </a:lnTo>
                    <a:lnTo>
                      <a:pt x="3293" y="608"/>
                    </a:lnTo>
                    <a:lnTo>
                      <a:pt x="3293" y="598"/>
                    </a:lnTo>
                    <a:lnTo>
                      <a:pt x="3293" y="590"/>
                    </a:lnTo>
                    <a:lnTo>
                      <a:pt x="3284" y="590"/>
                    </a:lnTo>
                    <a:lnTo>
                      <a:pt x="3276" y="590"/>
                    </a:lnTo>
                    <a:lnTo>
                      <a:pt x="3271" y="589"/>
                    </a:lnTo>
                    <a:lnTo>
                      <a:pt x="3265" y="589"/>
                    </a:lnTo>
                    <a:lnTo>
                      <a:pt x="3252" y="585"/>
                    </a:lnTo>
                    <a:lnTo>
                      <a:pt x="3242" y="581"/>
                    </a:lnTo>
                    <a:lnTo>
                      <a:pt x="3231" y="570"/>
                    </a:lnTo>
                    <a:lnTo>
                      <a:pt x="3228" y="559"/>
                    </a:lnTo>
                    <a:lnTo>
                      <a:pt x="3226" y="545"/>
                    </a:lnTo>
                    <a:lnTo>
                      <a:pt x="3227" y="534"/>
                    </a:lnTo>
                    <a:lnTo>
                      <a:pt x="3226" y="521"/>
                    </a:lnTo>
                    <a:lnTo>
                      <a:pt x="3223" y="511"/>
                    </a:lnTo>
                    <a:lnTo>
                      <a:pt x="3216" y="502"/>
                    </a:lnTo>
                    <a:lnTo>
                      <a:pt x="3206" y="495"/>
                    </a:lnTo>
                    <a:lnTo>
                      <a:pt x="3198" y="491"/>
                    </a:lnTo>
                    <a:lnTo>
                      <a:pt x="3190" y="489"/>
                    </a:lnTo>
                    <a:lnTo>
                      <a:pt x="3182" y="485"/>
                    </a:lnTo>
                    <a:lnTo>
                      <a:pt x="3175" y="482"/>
                    </a:lnTo>
                    <a:lnTo>
                      <a:pt x="3167" y="478"/>
                    </a:lnTo>
                    <a:lnTo>
                      <a:pt x="3160" y="477"/>
                    </a:lnTo>
                    <a:lnTo>
                      <a:pt x="3155" y="478"/>
                    </a:lnTo>
                    <a:lnTo>
                      <a:pt x="3154" y="483"/>
                    </a:lnTo>
                    <a:lnTo>
                      <a:pt x="3153" y="490"/>
                    </a:lnTo>
                    <a:lnTo>
                      <a:pt x="3154" y="496"/>
                    </a:lnTo>
                    <a:lnTo>
                      <a:pt x="3155" y="500"/>
                    </a:lnTo>
                    <a:lnTo>
                      <a:pt x="3159" y="505"/>
                    </a:lnTo>
                    <a:lnTo>
                      <a:pt x="3164" y="511"/>
                    </a:lnTo>
                    <a:lnTo>
                      <a:pt x="3167" y="518"/>
                    </a:lnTo>
                    <a:lnTo>
                      <a:pt x="3166" y="528"/>
                    </a:lnTo>
                    <a:lnTo>
                      <a:pt x="3168" y="538"/>
                    </a:lnTo>
                    <a:lnTo>
                      <a:pt x="3174" y="545"/>
                    </a:lnTo>
                    <a:lnTo>
                      <a:pt x="3183" y="552"/>
                    </a:lnTo>
                    <a:lnTo>
                      <a:pt x="3192" y="558"/>
                    </a:lnTo>
                    <a:lnTo>
                      <a:pt x="3203" y="565"/>
                    </a:lnTo>
                    <a:lnTo>
                      <a:pt x="3211" y="572"/>
                    </a:lnTo>
                    <a:lnTo>
                      <a:pt x="3219" y="581"/>
                    </a:lnTo>
                    <a:lnTo>
                      <a:pt x="3221" y="586"/>
                    </a:lnTo>
                    <a:lnTo>
                      <a:pt x="3226" y="593"/>
                    </a:lnTo>
                    <a:lnTo>
                      <a:pt x="3227" y="598"/>
                    </a:lnTo>
                    <a:lnTo>
                      <a:pt x="3229" y="605"/>
                    </a:lnTo>
                    <a:lnTo>
                      <a:pt x="3228" y="611"/>
                    </a:lnTo>
                    <a:lnTo>
                      <a:pt x="3228" y="618"/>
                    </a:lnTo>
                    <a:lnTo>
                      <a:pt x="3227" y="624"/>
                    </a:lnTo>
                    <a:lnTo>
                      <a:pt x="3224" y="631"/>
                    </a:lnTo>
                    <a:lnTo>
                      <a:pt x="3220" y="638"/>
                    </a:lnTo>
                    <a:lnTo>
                      <a:pt x="3218" y="645"/>
                    </a:lnTo>
                    <a:lnTo>
                      <a:pt x="3215" y="652"/>
                    </a:lnTo>
                    <a:lnTo>
                      <a:pt x="3214" y="659"/>
                    </a:lnTo>
                    <a:lnTo>
                      <a:pt x="3212" y="664"/>
                    </a:lnTo>
                    <a:lnTo>
                      <a:pt x="3211" y="671"/>
                    </a:lnTo>
                    <a:lnTo>
                      <a:pt x="3208" y="679"/>
                    </a:lnTo>
                    <a:lnTo>
                      <a:pt x="3208" y="686"/>
                    </a:lnTo>
                    <a:lnTo>
                      <a:pt x="3214" y="698"/>
                    </a:lnTo>
                    <a:lnTo>
                      <a:pt x="3226" y="708"/>
                    </a:lnTo>
                    <a:lnTo>
                      <a:pt x="3237" y="716"/>
                    </a:lnTo>
                    <a:lnTo>
                      <a:pt x="3249" y="725"/>
                    </a:lnTo>
                    <a:lnTo>
                      <a:pt x="3257" y="734"/>
                    </a:lnTo>
                    <a:lnTo>
                      <a:pt x="3263" y="745"/>
                    </a:lnTo>
                    <a:lnTo>
                      <a:pt x="3263" y="757"/>
                    </a:lnTo>
                    <a:lnTo>
                      <a:pt x="3257" y="773"/>
                    </a:lnTo>
                    <a:lnTo>
                      <a:pt x="3263" y="790"/>
                    </a:lnTo>
                    <a:lnTo>
                      <a:pt x="3273" y="809"/>
                    </a:lnTo>
                    <a:lnTo>
                      <a:pt x="3287" y="824"/>
                    </a:lnTo>
                    <a:lnTo>
                      <a:pt x="3299" y="840"/>
                    </a:lnTo>
                    <a:lnTo>
                      <a:pt x="3311" y="855"/>
                    </a:lnTo>
                    <a:lnTo>
                      <a:pt x="3319" y="873"/>
                    </a:lnTo>
                    <a:lnTo>
                      <a:pt x="3323" y="893"/>
                    </a:lnTo>
                    <a:lnTo>
                      <a:pt x="3319" y="916"/>
                    </a:lnTo>
                    <a:lnTo>
                      <a:pt x="3320" y="924"/>
                    </a:lnTo>
                    <a:lnTo>
                      <a:pt x="3324" y="935"/>
                    </a:lnTo>
                    <a:lnTo>
                      <a:pt x="3326" y="948"/>
                    </a:lnTo>
                    <a:lnTo>
                      <a:pt x="3329" y="961"/>
                    </a:lnTo>
                    <a:lnTo>
                      <a:pt x="3329" y="970"/>
                    </a:lnTo>
                    <a:lnTo>
                      <a:pt x="3327" y="976"/>
                    </a:lnTo>
                    <a:lnTo>
                      <a:pt x="3320" y="975"/>
                    </a:lnTo>
                    <a:lnTo>
                      <a:pt x="3310" y="968"/>
                    </a:lnTo>
                    <a:lnTo>
                      <a:pt x="3302" y="955"/>
                    </a:lnTo>
                    <a:lnTo>
                      <a:pt x="3298" y="942"/>
                    </a:lnTo>
                    <a:lnTo>
                      <a:pt x="3295" y="929"/>
                    </a:lnTo>
                    <a:lnTo>
                      <a:pt x="3295" y="915"/>
                    </a:lnTo>
                    <a:lnTo>
                      <a:pt x="3293" y="901"/>
                    </a:lnTo>
                    <a:lnTo>
                      <a:pt x="3291" y="887"/>
                    </a:lnTo>
                    <a:lnTo>
                      <a:pt x="3288" y="873"/>
                    </a:lnTo>
                    <a:lnTo>
                      <a:pt x="3284" y="862"/>
                    </a:lnTo>
                    <a:lnTo>
                      <a:pt x="3274" y="847"/>
                    </a:lnTo>
                    <a:lnTo>
                      <a:pt x="3265" y="834"/>
                    </a:lnTo>
                    <a:lnTo>
                      <a:pt x="3256" y="820"/>
                    </a:lnTo>
                    <a:lnTo>
                      <a:pt x="3249" y="809"/>
                    </a:lnTo>
                    <a:lnTo>
                      <a:pt x="3241" y="794"/>
                    </a:lnTo>
                    <a:lnTo>
                      <a:pt x="3234" y="781"/>
                    </a:lnTo>
                    <a:lnTo>
                      <a:pt x="3229" y="766"/>
                    </a:lnTo>
                    <a:lnTo>
                      <a:pt x="3227" y="751"/>
                    </a:lnTo>
                    <a:lnTo>
                      <a:pt x="3223" y="739"/>
                    </a:lnTo>
                    <a:lnTo>
                      <a:pt x="3216" y="727"/>
                    </a:lnTo>
                    <a:lnTo>
                      <a:pt x="3208" y="715"/>
                    </a:lnTo>
                    <a:lnTo>
                      <a:pt x="3200" y="705"/>
                    </a:lnTo>
                    <a:lnTo>
                      <a:pt x="3192" y="695"/>
                    </a:lnTo>
                    <a:lnTo>
                      <a:pt x="3185" y="690"/>
                    </a:lnTo>
                    <a:lnTo>
                      <a:pt x="3181" y="689"/>
                    </a:lnTo>
                    <a:lnTo>
                      <a:pt x="3179" y="694"/>
                    </a:lnTo>
                    <a:lnTo>
                      <a:pt x="3178" y="761"/>
                    </a:lnTo>
                    <a:lnTo>
                      <a:pt x="3174" y="821"/>
                    </a:lnTo>
                    <a:lnTo>
                      <a:pt x="3166" y="875"/>
                    </a:lnTo>
                    <a:lnTo>
                      <a:pt x="3155" y="927"/>
                    </a:lnTo>
                    <a:lnTo>
                      <a:pt x="3143" y="976"/>
                    </a:lnTo>
                    <a:lnTo>
                      <a:pt x="3131" y="1027"/>
                    </a:lnTo>
                    <a:lnTo>
                      <a:pt x="3121" y="1081"/>
                    </a:lnTo>
                    <a:lnTo>
                      <a:pt x="3111" y="1141"/>
                    </a:lnTo>
                    <a:lnTo>
                      <a:pt x="3092" y="1192"/>
                    </a:lnTo>
                    <a:lnTo>
                      <a:pt x="3072" y="1242"/>
                    </a:lnTo>
                    <a:lnTo>
                      <a:pt x="3050" y="1293"/>
                    </a:lnTo>
                    <a:lnTo>
                      <a:pt x="3028" y="1344"/>
                    </a:lnTo>
                    <a:lnTo>
                      <a:pt x="3004" y="1391"/>
                    </a:lnTo>
                    <a:lnTo>
                      <a:pt x="2980" y="1441"/>
                    </a:lnTo>
                    <a:lnTo>
                      <a:pt x="2955" y="1489"/>
                    </a:lnTo>
                    <a:lnTo>
                      <a:pt x="2929" y="1538"/>
                    </a:lnTo>
                    <a:lnTo>
                      <a:pt x="2926" y="1555"/>
                    </a:lnTo>
                    <a:lnTo>
                      <a:pt x="2922" y="1573"/>
                    </a:lnTo>
                    <a:lnTo>
                      <a:pt x="2919" y="1591"/>
                    </a:lnTo>
                    <a:lnTo>
                      <a:pt x="2916" y="1609"/>
                    </a:lnTo>
                    <a:lnTo>
                      <a:pt x="2912" y="1627"/>
                    </a:lnTo>
                    <a:lnTo>
                      <a:pt x="2908" y="1646"/>
                    </a:lnTo>
                    <a:lnTo>
                      <a:pt x="2904" y="1664"/>
                    </a:lnTo>
                    <a:lnTo>
                      <a:pt x="2899" y="1682"/>
                    </a:lnTo>
                    <a:lnTo>
                      <a:pt x="2893" y="1693"/>
                    </a:lnTo>
                    <a:lnTo>
                      <a:pt x="2889" y="1704"/>
                    </a:lnTo>
                    <a:lnTo>
                      <a:pt x="2884" y="1714"/>
                    </a:lnTo>
                    <a:lnTo>
                      <a:pt x="2881" y="1726"/>
                    </a:lnTo>
                    <a:lnTo>
                      <a:pt x="2875" y="1736"/>
                    </a:lnTo>
                    <a:lnTo>
                      <a:pt x="2870" y="1748"/>
                    </a:lnTo>
                    <a:lnTo>
                      <a:pt x="2863" y="1759"/>
                    </a:lnTo>
                    <a:lnTo>
                      <a:pt x="2859" y="1772"/>
                    </a:lnTo>
                    <a:lnTo>
                      <a:pt x="2895" y="1776"/>
                    </a:lnTo>
                    <a:lnTo>
                      <a:pt x="2931" y="1777"/>
                    </a:lnTo>
                    <a:lnTo>
                      <a:pt x="2966" y="1773"/>
                    </a:lnTo>
                    <a:lnTo>
                      <a:pt x="3002" y="1768"/>
                    </a:lnTo>
                    <a:lnTo>
                      <a:pt x="3034" y="1758"/>
                    </a:lnTo>
                    <a:lnTo>
                      <a:pt x="3069" y="1748"/>
                    </a:lnTo>
                    <a:lnTo>
                      <a:pt x="3102" y="1739"/>
                    </a:lnTo>
                    <a:lnTo>
                      <a:pt x="3137" y="1732"/>
                    </a:lnTo>
                    <a:lnTo>
                      <a:pt x="3144" y="1727"/>
                    </a:lnTo>
                    <a:lnTo>
                      <a:pt x="3152" y="1724"/>
                    </a:lnTo>
                    <a:lnTo>
                      <a:pt x="3159" y="1719"/>
                    </a:lnTo>
                    <a:lnTo>
                      <a:pt x="3169" y="1716"/>
                    </a:lnTo>
                    <a:lnTo>
                      <a:pt x="3176" y="1712"/>
                    </a:lnTo>
                    <a:lnTo>
                      <a:pt x="3184" y="1713"/>
                    </a:lnTo>
                    <a:lnTo>
                      <a:pt x="3191" y="1716"/>
                    </a:lnTo>
                    <a:lnTo>
                      <a:pt x="3199" y="1723"/>
                    </a:lnTo>
                    <a:lnTo>
                      <a:pt x="3203" y="1736"/>
                    </a:lnTo>
                    <a:lnTo>
                      <a:pt x="3208" y="1750"/>
                    </a:lnTo>
                    <a:lnTo>
                      <a:pt x="3214" y="1765"/>
                    </a:lnTo>
                    <a:lnTo>
                      <a:pt x="3221" y="1780"/>
                    </a:lnTo>
                    <a:lnTo>
                      <a:pt x="3227" y="1794"/>
                    </a:lnTo>
                    <a:lnTo>
                      <a:pt x="3233" y="1808"/>
                    </a:lnTo>
                    <a:lnTo>
                      <a:pt x="3237" y="1823"/>
                    </a:lnTo>
                    <a:lnTo>
                      <a:pt x="3242" y="1838"/>
                    </a:lnTo>
                    <a:lnTo>
                      <a:pt x="3249" y="1859"/>
                    </a:lnTo>
                    <a:lnTo>
                      <a:pt x="3256" y="1883"/>
                    </a:lnTo>
                    <a:lnTo>
                      <a:pt x="3260" y="1906"/>
                    </a:lnTo>
                    <a:lnTo>
                      <a:pt x="3266" y="1930"/>
                    </a:lnTo>
                    <a:lnTo>
                      <a:pt x="3269" y="1955"/>
                    </a:lnTo>
                    <a:lnTo>
                      <a:pt x="3274" y="1979"/>
                    </a:lnTo>
                    <a:lnTo>
                      <a:pt x="3279" y="2003"/>
                    </a:lnTo>
                    <a:lnTo>
                      <a:pt x="3284" y="2027"/>
                    </a:lnTo>
                    <a:lnTo>
                      <a:pt x="3284" y="2050"/>
                    </a:lnTo>
                    <a:lnTo>
                      <a:pt x="3286" y="2076"/>
                    </a:lnTo>
                    <a:lnTo>
                      <a:pt x="3286" y="2100"/>
                    </a:lnTo>
                    <a:lnTo>
                      <a:pt x="3287" y="2125"/>
                    </a:lnTo>
                    <a:lnTo>
                      <a:pt x="3286" y="2150"/>
                    </a:lnTo>
                    <a:lnTo>
                      <a:pt x="3283" y="2174"/>
                    </a:lnTo>
                    <a:lnTo>
                      <a:pt x="3278" y="2199"/>
                    </a:lnTo>
                    <a:lnTo>
                      <a:pt x="3272" y="2223"/>
                    </a:lnTo>
                    <a:lnTo>
                      <a:pt x="3260" y="2251"/>
                    </a:lnTo>
                    <a:lnTo>
                      <a:pt x="3246" y="2278"/>
                    </a:lnTo>
                    <a:lnTo>
                      <a:pt x="3229" y="2303"/>
                    </a:lnTo>
                    <a:lnTo>
                      <a:pt x="3209" y="2327"/>
                    </a:lnTo>
                    <a:lnTo>
                      <a:pt x="3188" y="2347"/>
                    </a:lnTo>
                    <a:lnTo>
                      <a:pt x="3164" y="2364"/>
                    </a:lnTo>
                    <a:lnTo>
                      <a:pt x="3137" y="2377"/>
                    </a:lnTo>
                    <a:lnTo>
                      <a:pt x="3109" y="2386"/>
                    </a:lnTo>
                    <a:lnTo>
                      <a:pt x="3100" y="2368"/>
                    </a:lnTo>
                    <a:lnTo>
                      <a:pt x="3090" y="2350"/>
                    </a:lnTo>
                    <a:lnTo>
                      <a:pt x="3077" y="2333"/>
                    </a:lnTo>
                    <a:lnTo>
                      <a:pt x="3065" y="2317"/>
                    </a:lnTo>
                    <a:lnTo>
                      <a:pt x="3055" y="2297"/>
                    </a:lnTo>
                    <a:lnTo>
                      <a:pt x="3049" y="2275"/>
                    </a:lnTo>
                    <a:lnTo>
                      <a:pt x="3050" y="2251"/>
                    </a:lnTo>
                    <a:lnTo>
                      <a:pt x="3060" y="2222"/>
                    </a:lnTo>
                    <a:lnTo>
                      <a:pt x="3073" y="2221"/>
                    </a:lnTo>
                    <a:lnTo>
                      <a:pt x="3090" y="2221"/>
                    </a:lnTo>
                    <a:lnTo>
                      <a:pt x="3106" y="2219"/>
                    </a:lnTo>
                    <a:lnTo>
                      <a:pt x="3121" y="2215"/>
                    </a:lnTo>
                    <a:lnTo>
                      <a:pt x="3133" y="2208"/>
                    </a:lnTo>
                    <a:lnTo>
                      <a:pt x="3147" y="2201"/>
                    </a:lnTo>
                    <a:lnTo>
                      <a:pt x="3158" y="2190"/>
                    </a:lnTo>
                    <a:lnTo>
                      <a:pt x="3169" y="2176"/>
                    </a:lnTo>
                    <a:lnTo>
                      <a:pt x="3173" y="2162"/>
                    </a:lnTo>
                    <a:lnTo>
                      <a:pt x="3175" y="2152"/>
                    </a:lnTo>
                    <a:lnTo>
                      <a:pt x="3175" y="2141"/>
                    </a:lnTo>
                    <a:lnTo>
                      <a:pt x="3176" y="2131"/>
                    </a:lnTo>
                    <a:lnTo>
                      <a:pt x="3174" y="2120"/>
                    </a:lnTo>
                    <a:lnTo>
                      <a:pt x="3174" y="2108"/>
                    </a:lnTo>
                    <a:lnTo>
                      <a:pt x="3173" y="2096"/>
                    </a:lnTo>
                    <a:lnTo>
                      <a:pt x="3173" y="2085"/>
                    </a:lnTo>
                    <a:lnTo>
                      <a:pt x="3168" y="2056"/>
                    </a:lnTo>
                    <a:lnTo>
                      <a:pt x="3160" y="2030"/>
                    </a:lnTo>
                    <a:lnTo>
                      <a:pt x="3151" y="2005"/>
                    </a:lnTo>
                    <a:lnTo>
                      <a:pt x="3141" y="1980"/>
                    </a:lnTo>
                    <a:lnTo>
                      <a:pt x="3130" y="1956"/>
                    </a:lnTo>
                    <a:lnTo>
                      <a:pt x="3121" y="1930"/>
                    </a:lnTo>
                    <a:lnTo>
                      <a:pt x="3111" y="1905"/>
                    </a:lnTo>
                    <a:lnTo>
                      <a:pt x="3107" y="1881"/>
                    </a:lnTo>
                    <a:lnTo>
                      <a:pt x="3085" y="1884"/>
                    </a:lnTo>
                    <a:lnTo>
                      <a:pt x="3065" y="1889"/>
                    </a:lnTo>
                    <a:lnTo>
                      <a:pt x="3043" y="1894"/>
                    </a:lnTo>
                    <a:lnTo>
                      <a:pt x="3024" y="1901"/>
                    </a:lnTo>
                    <a:lnTo>
                      <a:pt x="3003" y="1907"/>
                    </a:lnTo>
                    <a:lnTo>
                      <a:pt x="2982" y="1914"/>
                    </a:lnTo>
                    <a:lnTo>
                      <a:pt x="2961" y="1921"/>
                    </a:lnTo>
                    <a:lnTo>
                      <a:pt x="2942" y="1928"/>
                    </a:lnTo>
                    <a:lnTo>
                      <a:pt x="2881" y="1944"/>
                    </a:lnTo>
                    <a:lnTo>
                      <a:pt x="2821" y="1955"/>
                    </a:lnTo>
                    <a:lnTo>
                      <a:pt x="2760" y="1959"/>
                    </a:lnTo>
                    <a:lnTo>
                      <a:pt x="2700" y="1963"/>
                    </a:lnTo>
                    <a:lnTo>
                      <a:pt x="2637" y="1964"/>
                    </a:lnTo>
                    <a:lnTo>
                      <a:pt x="2576" y="1966"/>
                    </a:lnTo>
                    <a:lnTo>
                      <a:pt x="2514" y="1970"/>
                    </a:lnTo>
                    <a:lnTo>
                      <a:pt x="2454" y="1978"/>
                    </a:lnTo>
                    <a:lnTo>
                      <a:pt x="2446" y="1987"/>
                    </a:lnTo>
                    <a:lnTo>
                      <a:pt x="2478" y="2018"/>
                    </a:lnTo>
                    <a:lnTo>
                      <a:pt x="2509" y="2053"/>
                    </a:lnTo>
                    <a:lnTo>
                      <a:pt x="2537" y="2088"/>
                    </a:lnTo>
                    <a:lnTo>
                      <a:pt x="2563" y="2128"/>
                    </a:lnTo>
                    <a:lnTo>
                      <a:pt x="2589" y="2166"/>
                    </a:lnTo>
                    <a:lnTo>
                      <a:pt x="2613" y="2205"/>
                    </a:lnTo>
                    <a:lnTo>
                      <a:pt x="2637" y="2244"/>
                    </a:lnTo>
                    <a:lnTo>
                      <a:pt x="2661" y="2283"/>
                    </a:lnTo>
                    <a:lnTo>
                      <a:pt x="2663" y="2290"/>
                    </a:lnTo>
                    <a:lnTo>
                      <a:pt x="2666" y="2298"/>
                    </a:lnTo>
                    <a:lnTo>
                      <a:pt x="2670" y="2305"/>
                    </a:lnTo>
                    <a:lnTo>
                      <a:pt x="2675" y="2312"/>
                    </a:lnTo>
                    <a:lnTo>
                      <a:pt x="2679" y="2319"/>
                    </a:lnTo>
                    <a:lnTo>
                      <a:pt x="2683" y="2326"/>
                    </a:lnTo>
                    <a:lnTo>
                      <a:pt x="2686" y="2334"/>
                    </a:lnTo>
                    <a:lnTo>
                      <a:pt x="2689" y="2343"/>
                    </a:lnTo>
                    <a:lnTo>
                      <a:pt x="2683" y="2349"/>
                    </a:lnTo>
                    <a:lnTo>
                      <a:pt x="2683" y="2357"/>
                    </a:lnTo>
                    <a:lnTo>
                      <a:pt x="2682" y="2364"/>
                    </a:lnTo>
                    <a:lnTo>
                      <a:pt x="2683" y="2371"/>
                    </a:lnTo>
                    <a:lnTo>
                      <a:pt x="2683" y="2378"/>
                    </a:lnTo>
                    <a:lnTo>
                      <a:pt x="2683" y="2385"/>
                    </a:lnTo>
                    <a:lnTo>
                      <a:pt x="2682" y="2392"/>
                    </a:lnTo>
                    <a:lnTo>
                      <a:pt x="2680" y="2399"/>
                    </a:lnTo>
                    <a:lnTo>
                      <a:pt x="2678" y="2414"/>
                    </a:lnTo>
                    <a:lnTo>
                      <a:pt x="2678" y="2431"/>
                    </a:lnTo>
                    <a:lnTo>
                      <a:pt x="2676" y="2446"/>
                    </a:lnTo>
                    <a:lnTo>
                      <a:pt x="2676" y="2462"/>
                    </a:lnTo>
                    <a:lnTo>
                      <a:pt x="2674" y="2480"/>
                    </a:lnTo>
                    <a:lnTo>
                      <a:pt x="2673" y="2496"/>
                    </a:lnTo>
                    <a:lnTo>
                      <a:pt x="2670" y="2513"/>
                    </a:lnTo>
                    <a:lnTo>
                      <a:pt x="2666" y="2530"/>
                    </a:lnTo>
                    <a:lnTo>
                      <a:pt x="2664" y="2560"/>
                    </a:lnTo>
                    <a:lnTo>
                      <a:pt x="2663" y="2589"/>
                    </a:lnTo>
                    <a:lnTo>
                      <a:pt x="2661" y="2619"/>
                    </a:lnTo>
                    <a:lnTo>
                      <a:pt x="2660" y="2648"/>
                    </a:lnTo>
                    <a:lnTo>
                      <a:pt x="2657" y="2676"/>
                    </a:lnTo>
                    <a:lnTo>
                      <a:pt x="2653" y="2702"/>
                    </a:lnTo>
                    <a:lnTo>
                      <a:pt x="2648" y="2729"/>
                    </a:lnTo>
                    <a:lnTo>
                      <a:pt x="2641" y="2754"/>
                    </a:lnTo>
                    <a:lnTo>
                      <a:pt x="2628" y="2781"/>
                    </a:lnTo>
                    <a:lnTo>
                      <a:pt x="2615" y="2807"/>
                    </a:lnTo>
                    <a:lnTo>
                      <a:pt x="2600" y="2833"/>
                    </a:lnTo>
                    <a:lnTo>
                      <a:pt x="2584" y="2859"/>
                    </a:lnTo>
                    <a:lnTo>
                      <a:pt x="2562" y="2880"/>
                    </a:lnTo>
                    <a:lnTo>
                      <a:pt x="2540" y="2900"/>
                    </a:lnTo>
                    <a:lnTo>
                      <a:pt x="2514" y="2912"/>
                    </a:lnTo>
                    <a:lnTo>
                      <a:pt x="2483" y="29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09560" y="3054600"/>
                <a:ext cx="34560" cy="95040"/>
              </a:xfrm>
              <a:custGeom>
                <a:avLst/>
                <a:gdLst/>
                <a:ahLst/>
                <a:rect l="l" t="t" r="r" b="b"/>
                <a:pathLst>
                  <a:path w="88" h="211">
                    <a:moveTo>
                      <a:pt x="61" y="169"/>
                    </a:moveTo>
                    <a:lnTo>
                      <a:pt x="52" y="178"/>
                    </a:lnTo>
                    <a:lnTo>
                      <a:pt x="42" y="191"/>
                    </a:lnTo>
                    <a:lnTo>
                      <a:pt x="31" y="200"/>
                    </a:lnTo>
                    <a:lnTo>
                      <a:pt x="20" y="211"/>
                    </a:lnTo>
                    <a:lnTo>
                      <a:pt x="11" y="197"/>
                    </a:lnTo>
                    <a:lnTo>
                      <a:pt x="5" y="184"/>
                    </a:lnTo>
                    <a:lnTo>
                      <a:pt x="2" y="168"/>
                    </a:lnTo>
                    <a:lnTo>
                      <a:pt x="1" y="153"/>
                    </a:lnTo>
                    <a:lnTo>
                      <a:pt x="0" y="137"/>
                    </a:lnTo>
                    <a:lnTo>
                      <a:pt x="1" y="121"/>
                    </a:lnTo>
                    <a:lnTo>
                      <a:pt x="3" y="105"/>
                    </a:lnTo>
                    <a:lnTo>
                      <a:pt x="9" y="91"/>
                    </a:lnTo>
                    <a:lnTo>
                      <a:pt x="13" y="78"/>
                    </a:lnTo>
                    <a:lnTo>
                      <a:pt x="19" y="66"/>
                    </a:lnTo>
                    <a:lnTo>
                      <a:pt x="26" y="53"/>
                    </a:lnTo>
                    <a:lnTo>
                      <a:pt x="33" y="41"/>
                    </a:lnTo>
                    <a:lnTo>
                      <a:pt x="41" y="30"/>
                    </a:lnTo>
                    <a:lnTo>
                      <a:pt x="50" y="19"/>
                    </a:lnTo>
                    <a:lnTo>
                      <a:pt x="58" y="9"/>
                    </a:lnTo>
                    <a:lnTo>
                      <a:pt x="69" y="0"/>
                    </a:lnTo>
                    <a:lnTo>
                      <a:pt x="77" y="20"/>
                    </a:lnTo>
                    <a:lnTo>
                      <a:pt x="84" y="41"/>
                    </a:lnTo>
                    <a:lnTo>
                      <a:pt x="87" y="62"/>
                    </a:lnTo>
                    <a:lnTo>
                      <a:pt x="88" y="86"/>
                    </a:lnTo>
                    <a:lnTo>
                      <a:pt x="86" y="107"/>
                    </a:lnTo>
                    <a:lnTo>
                      <a:pt x="82" y="130"/>
                    </a:lnTo>
                    <a:lnTo>
                      <a:pt x="72" y="150"/>
                    </a:lnTo>
                    <a:lnTo>
                      <a:pt x="61" y="169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84280" y="3103200"/>
                <a:ext cx="23040" cy="7704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61" y="121"/>
                    </a:moveTo>
                    <a:lnTo>
                      <a:pt x="56" y="173"/>
                    </a:lnTo>
                    <a:lnTo>
                      <a:pt x="42" y="167"/>
                    </a:lnTo>
                    <a:lnTo>
                      <a:pt x="33" y="159"/>
                    </a:lnTo>
                    <a:lnTo>
                      <a:pt x="24" y="149"/>
                    </a:lnTo>
                    <a:lnTo>
                      <a:pt x="20" y="137"/>
                    </a:lnTo>
                    <a:lnTo>
                      <a:pt x="15" y="122"/>
                    </a:lnTo>
                    <a:lnTo>
                      <a:pt x="13" y="110"/>
                    </a:lnTo>
                    <a:lnTo>
                      <a:pt x="11" y="96"/>
                    </a:lnTo>
                    <a:lnTo>
                      <a:pt x="9" y="83"/>
                    </a:lnTo>
                    <a:lnTo>
                      <a:pt x="7" y="71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1" y="41"/>
                    </a:lnTo>
                    <a:lnTo>
                      <a:pt x="0" y="31"/>
                    </a:lnTo>
                    <a:lnTo>
                      <a:pt x="1" y="21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20" y="10"/>
                    </a:lnTo>
                    <a:lnTo>
                      <a:pt x="31" y="24"/>
                    </a:lnTo>
                    <a:lnTo>
                      <a:pt x="39" y="37"/>
                    </a:lnTo>
                    <a:lnTo>
                      <a:pt x="48" y="53"/>
                    </a:lnTo>
                    <a:lnTo>
                      <a:pt x="52" y="67"/>
                    </a:lnTo>
                    <a:lnTo>
                      <a:pt x="57" y="85"/>
                    </a:lnTo>
                    <a:lnTo>
                      <a:pt x="59" y="103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21720" y="313200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215" y="60"/>
                    </a:moveTo>
                    <a:lnTo>
                      <a:pt x="197" y="43"/>
                    </a:lnTo>
                    <a:lnTo>
                      <a:pt x="188" y="47"/>
                    </a:lnTo>
                    <a:lnTo>
                      <a:pt x="184" y="50"/>
                    </a:lnTo>
                    <a:lnTo>
                      <a:pt x="180" y="49"/>
                    </a:lnTo>
                    <a:lnTo>
                      <a:pt x="177" y="49"/>
                    </a:lnTo>
                    <a:lnTo>
                      <a:pt x="170" y="48"/>
                    </a:lnTo>
                    <a:lnTo>
                      <a:pt x="163" y="45"/>
                    </a:lnTo>
                    <a:lnTo>
                      <a:pt x="156" y="50"/>
                    </a:lnTo>
                    <a:lnTo>
                      <a:pt x="152" y="57"/>
                    </a:lnTo>
                    <a:lnTo>
                      <a:pt x="149" y="62"/>
                    </a:lnTo>
                    <a:lnTo>
                      <a:pt x="142" y="67"/>
                    </a:lnTo>
                    <a:lnTo>
                      <a:pt x="141" y="60"/>
                    </a:lnTo>
                    <a:lnTo>
                      <a:pt x="139" y="53"/>
                    </a:lnTo>
                    <a:lnTo>
                      <a:pt x="133" y="48"/>
                    </a:lnTo>
                    <a:lnTo>
                      <a:pt x="127" y="43"/>
                    </a:lnTo>
                    <a:lnTo>
                      <a:pt x="113" y="41"/>
                    </a:lnTo>
                    <a:lnTo>
                      <a:pt x="103" y="50"/>
                    </a:lnTo>
                    <a:lnTo>
                      <a:pt x="91" y="65"/>
                    </a:lnTo>
                    <a:lnTo>
                      <a:pt x="82" y="87"/>
                    </a:lnTo>
                    <a:lnTo>
                      <a:pt x="74" y="108"/>
                    </a:lnTo>
                    <a:lnTo>
                      <a:pt x="68" y="130"/>
                    </a:lnTo>
                    <a:lnTo>
                      <a:pt x="65" y="149"/>
                    </a:lnTo>
                    <a:lnTo>
                      <a:pt x="62" y="163"/>
                    </a:lnTo>
                    <a:lnTo>
                      <a:pt x="61" y="150"/>
                    </a:lnTo>
                    <a:lnTo>
                      <a:pt x="62" y="139"/>
                    </a:lnTo>
                    <a:lnTo>
                      <a:pt x="65" y="125"/>
                    </a:lnTo>
                    <a:lnTo>
                      <a:pt x="68" y="113"/>
                    </a:lnTo>
                    <a:lnTo>
                      <a:pt x="72" y="101"/>
                    </a:lnTo>
                    <a:lnTo>
                      <a:pt x="77" y="89"/>
                    </a:lnTo>
                    <a:lnTo>
                      <a:pt x="83" y="79"/>
                    </a:lnTo>
                    <a:lnTo>
                      <a:pt x="90" y="67"/>
                    </a:lnTo>
                    <a:lnTo>
                      <a:pt x="82" y="72"/>
                    </a:lnTo>
                    <a:lnTo>
                      <a:pt x="77" y="80"/>
                    </a:lnTo>
                    <a:lnTo>
                      <a:pt x="73" y="87"/>
                    </a:lnTo>
                    <a:lnTo>
                      <a:pt x="69" y="95"/>
                    </a:lnTo>
                    <a:lnTo>
                      <a:pt x="65" y="103"/>
                    </a:lnTo>
                    <a:lnTo>
                      <a:pt x="61" y="112"/>
                    </a:lnTo>
                    <a:lnTo>
                      <a:pt x="59" y="120"/>
                    </a:lnTo>
                    <a:lnTo>
                      <a:pt x="57" y="130"/>
                    </a:lnTo>
                    <a:lnTo>
                      <a:pt x="52" y="123"/>
                    </a:lnTo>
                    <a:lnTo>
                      <a:pt x="52" y="113"/>
                    </a:lnTo>
                    <a:lnTo>
                      <a:pt x="52" y="103"/>
                    </a:lnTo>
                    <a:lnTo>
                      <a:pt x="54" y="93"/>
                    </a:lnTo>
                    <a:lnTo>
                      <a:pt x="54" y="80"/>
                    </a:lnTo>
                    <a:lnTo>
                      <a:pt x="53" y="67"/>
                    </a:lnTo>
                    <a:lnTo>
                      <a:pt x="50" y="56"/>
                    </a:lnTo>
                    <a:lnTo>
                      <a:pt x="43" y="48"/>
                    </a:lnTo>
                    <a:lnTo>
                      <a:pt x="38" y="49"/>
                    </a:lnTo>
                    <a:lnTo>
                      <a:pt x="34" y="57"/>
                    </a:lnTo>
                    <a:lnTo>
                      <a:pt x="28" y="68"/>
                    </a:lnTo>
                    <a:lnTo>
                      <a:pt x="21" y="85"/>
                    </a:lnTo>
                    <a:lnTo>
                      <a:pt x="14" y="98"/>
                    </a:lnTo>
                    <a:lnTo>
                      <a:pt x="9" y="112"/>
                    </a:lnTo>
                    <a:lnTo>
                      <a:pt x="6" y="123"/>
                    </a:lnTo>
                    <a:lnTo>
                      <a:pt x="5" y="130"/>
                    </a:lnTo>
                    <a:lnTo>
                      <a:pt x="4" y="123"/>
                    </a:lnTo>
                    <a:lnTo>
                      <a:pt x="2" y="116"/>
                    </a:lnTo>
                    <a:lnTo>
                      <a:pt x="1" y="110"/>
                    </a:lnTo>
                    <a:lnTo>
                      <a:pt x="1" y="104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1" y="85"/>
                    </a:lnTo>
                    <a:lnTo>
                      <a:pt x="5" y="79"/>
                    </a:lnTo>
                    <a:lnTo>
                      <a:pt x="5" y="58"/>
                    </a:lnTo>
                    <a:lnTo>
                      <a:pt x="20" y="42"/>
                    </a:lnTo>
                    <a:lnTo>
                      <a:pt x="47" y="29"/>
                    </a:lnTo>
                    <a:lnTo>
                      <a:pt x="81" y="20"/>
                    </a:lnTo>
                    <a:lnTo>
                      <a:pt x="117" y="10"/>
                    </a:lnTo>
                    <a:lnTo>
                      <a:pt x="152" y="5"/>
                    </a:lnTo>
                    <a:lnTo>
                      <a:pt x="180" y="0"/>
                    </a:lnTo>
                    <a:lnTo>
                      <a:pt x="197" y="0"/>
                    </a:lnTo>
                    <a:lnTo>
                      <a:pt x="199" y="5"/>
                    </a:lnTo>
                    <a:lnTo>
                      <a:pt x="201" y="12"/>
                    </a:lnTo>
                    <a:lnTo>
                      <a:pt x="203" y="20"/>
                    </a:lnTo>
                    <a:lnTo>
                      <a:pt x="207" y="28"/>
                    </a:lnTo>
                    <a:lnTo>
                      <a:pt x="208" y="35"/>
                    </a:lnTo>
                    <a:lnTo>
                      <a:pt x="210" y="44"/>
                    </a:lnTo>
                    <a:lnTo>
                      <a:pt x="211" y="51"/>
                    </a:lnTo>
                    <a:lnTo>
                      <a:pt x="215" y="6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99760" y="3155400"/>
                <a:ext cx="155160" cy="398880"/>
              </a:xfrm>
              <a:custGeom>
                <a:avLst/>
                <a:gdLst/>
                <a:ahLst/>
                <a:rect l="l" t="t" r="r" b="b"/>
                <a:pathLst>
                  <a:path w="400" h="889">
                    <a:moveTo>
                      <a:pt x="398" y="289"/>
                    </a:moveTo>
                    <a:lnTo>
                      <a:pt x="390" y="310"/>
                    </a:lnTo>
                    <a:lnTo>
                      <a:pt x="376" y="343"/>
                    </a:lnTo>
                    <a:lnTo>
                      <a:pt x="359" y="385"/>
                    </a:lnTo>
                    <a:lnTo>
                      <a:pt x="341" y="430"/>
                    </a:lnTo>
                    <a:lnTo>
                      <a:pt x="323" y="472"/>
                    </a:lnTo>
                    <a:lnTo>
                      <a:pt x="308" y="510"/>
                    </a:lnTo>
                    <a:lnTo>
                      <a:pt x="297" y="536"/>
                    </a:lnTo>
                    <a:lnTo>
                      <a:pt x="295" y="548"/>
                    </a:lnTo>
                    <a:lnTo>
                      <a:pt x="293" y="574"/>
                    </a:lnTo>
                    <a:lnTo>
                      <a:pt x="291" y="598"/>
                    </a:lnTo>
                    <a:lnTo>
                      <a:pt x="288" y="625"/>
                    </a:lnTo>
                    <a:lnTo>
                      <a:pt x="288" y="650"/>
                    </a:lnTo>
                    <a:lnTo>
                      <a:pt x="288" y="674"/>
                    </a:lnTo>
                    <a:lnTo>
                      <a:pt x="291" y="701"/>
                    </a:lnTo>
                    <a:lnTo>
                      <a:pt x="295" y="725"/>
                    </a:lnTo>
                    <a:lnTo>
                      <a:pt x="304" y="752"/>
                    </a:lnTo>
                    <a:lnTo>
                      <a:pt x="303" y="763"/>
                    </a:lnTo>
                    <a:lnTo>
                      <a:pt x="303" y="775"/>
                    </a:lnTo>
                    <a:lnTo>
                      <a:pt x="302" y="785"/>
                    </a:lnTo>
                    <a:lnTo>
                      <a:pt x="300" y="797"/>
                    </a:lnTo>
                    <a:lnTo>
                      <a:pt x="295" y="808"/>
                    </a:lnTo>
                    <a:lnTo>
                      <a:pt x="291" y="819"/>
                    </a:lnTo>
                    <a:lnTo>
                      <a:pt x="284" y="828"/>
                    </a:lnTo>
                    <a:lnTo>
                      <a:pt x="278" y="837"/>
                    </a:lnTo>
                    <a:lnTo>
                      <a:pt x="270" y="840"/>
                    </a:lnTo>
                    <a:lnTo>
                      <a:pt x="256" y="849"/>
                    </a:lnTo>
                    <a:lnTo>
                      <a:pt x="237" y="857"/>
                    </a:lnTo>
                    <a:lnTo>
                      <a:pt x="218" y="868"/>
                    </a:lnTo>
                    <a:lnTo>
                      <a:pt x="196" y="876"/>
                    </a:lnTo>
                    <a:lnTo>
                      <a:pt x="180" y="883"/>
                    </a:lnTo>
                    <a:lnTo>
                      <a:pt x="168" y="887"/>
                    </a:lnTo>
                    <a:lnTo>
                      <a:pt x="165" y="887"/>
                    </a:lnTo>
                    <a:lnTo>
                      <a:pt x="167" y="876"/>
                    </a:lnTo>
                    <a:lnTo>
                      <a:pt x="177" y="866"/>
                    </a:lnTo>
                    <a:lnTo>
                      <a:pt x="191" y="854"/>
                    </a:lnTo>
                    <a:lnTo>
                      <a:pt x="211" y="844"/>
                    </a:lnTo>
                    <a:lnTo>
                      <a:pt x="227" y="832"/>
                    </a:lnTo>
                    <a:lnTo>
                      <a:pt x="244" y="822"/>
                    </a:lnTo>
                    <a:lnTo>
                      <a:pt x="258" y="809"/>
                    </a:lnTo>
                    <a:lnTo>
                      <a:pt x="270" y="797"/>
                    </a:lnTo>
                    <a:lnTo>
                      <a:pt x="270" y="788"/>
                    </a:lnTo>
                    <a:lnTo>
                      <a:pt x="270" y="782"/>
                    </a:lnTo>
                    <a:lnTo>
                      <a:pt x="269" y="773"/>
                    </a:lnTo>
                    <a:lnTo>
                      <a:pt x="269" y="767"/>
                    </a:lnTo>
                    <a:lnTo>
                      <a:pt x="266" y="758"/>
                    </a:lnTo>
                    <a:lnTo>
                      <a:pt x="265" y="752"/>
                    </a:lnTo>
                    <a:lnTo>
                      <a:pt x="264" y="745"/>
                    </a:lnTo>
                    <a:lnTo>
                      <a:pt x="263" y="737"/>
                    </a:lnTo>
                    <a:lnTo>
                      <a:pt x="256" y="730"/>
                    </a:lnTo>
                    <a:lnTo>
                      <a:pt x="250" y="724"/>
                    </a:lnTo>
                    <a:lnTo>
                      <a:pt x="244" y="718"/>
                    </a:lnTo>
                    <a:lnTo>
                      <a:pt x="239" y="712"/>
                    </a:lnTo>
                    <a:lnTo>
                      <a:pt x="231" y="707"/>
                    </a:lnTo>
                    <a:lnTo>
                      <a:pt x="224" y="703"/>
                    </a:lnTo>
                    <a:lnTo>
                      <a:pt x="217" y="700"/>
                    </a:lnTo>
                    <a:lnTo>
                      <a:pt x="210" y="700"/>
                    </a:lnTo>
                    <a:lnTo>
                      <a:pt x="190" y="697"/>
                    </a:lnTo>
                    <a:lnTo>
                      <a:pt x="174" y="702"/>
                    </a:lnTo>
                    <a:lnTo>
                      <a:pt x="158" y="711"/>
                    </a:lnTo>
                    <a:lnTo>
                      <a:pt x="145" y="724"/>
                    </a:lnTo>
                    <a:lnTo>
                      <a:pt x="132" y="738"/>
                    </a:lnTo>
                    <a:lnTo>
                      <a:pt x="127" y="756"/>
                    </a:lnTo>
                    <a:lnTo>
                      <a:pt x="123" y="772"/>
                    </a:lnTo>
                    <a:lnTo>
                      <a:pt x="127" y="788"/>
                    </a:lnTo>
                    <a:lnTo>
                      <a:pt x="132" y="792"/>
                    </a:lnTo>
                    <a:lnTo>
                      <a:pt x="137" y="800"/>
                    </a:lnTo>
                    <a:lnTo>
                      <a:pt x="141" y="808"/>
                    </a:lnTo>
                    <a:lnTo>
                      <a:pt x="146" y="817"/>
                    </a:lnTo>
                    <a:lnTo>
                      <a:pt x="150" y="825"/>
                    </a:lnTo>
                    <a:lnTo>
                      <a:pt x="156" y="834"/>
                    </a:lnTo>
                    <a:lnTo>
                      <a:pt x="161" y="837"/>
                    </a:lnTo>
                    <a:lnTo>
                      <a:pt x="172" y="839"/>
                    </a:lnTo>
                    <a:lnTo>
                      <a:pt x="162" y="849"/>
                    </a:lnTo>
                    <a:lnTo>
                      <a:pt x="154" y="860"/>
                    </a:lnTo>
                    <a:lnTo>
                      <a:pt x="144" y="868"/>
                    </a:lnTo>
                    <a:lnTo>
                      <a:pt x="134" y="877"/>
                    </a:lnTo>
                    <a:lnTo>
                      <a:pt x="122" y="883"/>
                    </a:lnTo>
                    <a:lnTo>
                      <a:pt x="112" y="888"/>
                    </a:lnTo>
                    <a:lnTo>
                      <a:pt x="99" y="889"/>
                    </a:lnTo>
                    <a:lnTo>
                      <a:pt x="87" y="888"/>
                    </a:lnTo>
                    <a:lnTo>
                      <a:pt x="72" y="881"/>
                    </a:lnTo>
                    <a:lnTo>
                      <a:pt x="63" y="874"/>
                    </a:lnTo>
                    <a:lnTo>
                      <a:pt x="56" y="864"/>
                    </a:lnTo>
                    <a:lnTo>
                      <a:pt x="52" y="852"/>
                    </a:lnTo>
                    <a:lnTo>
                      <a:pt x="47" y="839"/>
                    </a:lnTo>
                    <a:lnTo>
                      <a:pt x="45" y="827"/>
                    </a:lnTo>
                    <a:lnTo>
                      <a:pt x="44" y="814"/>
                    </a:lnTo>
                    <a:lnTo>
                      <a:pt x="42" y="802"/>
                    </a:lnTo>
                    <a:lnTo>
                      <a:pt x="41" y="784"/>
                    </a:lnTo>
                    <a:lnTo>
                      <a:pt x="44" y="769"/>
                    </a:lnTo>
                    <a:lnTo>
                      <a:pt x="47" y="754"/>
                    </a:lnTo>
                    <a:lnTo>
                      <a:pt x="53" y="739"/>
                    </a:lnTo>
                    <a:lnTo>
                      <a:pt x="57" y="724"/>
                    </a:lnTo>
                    <a:lnTo>
                      <a:pt x="62" y="709"/>
                    </a:lnTo>
                    <a:lnTo>
                      <a:pt x="66" y="694"/>
                    </a:lnTo>
                    <a:lnTo>
                      <a:pt x="69" y="679"/>
                    </a:lnTo>
                    <a:lnTo>
                      <a:pt x="74" y="679"/>
                    </a:lnTo>
                    <a:lnTo>
                      <a:pt x="87" y="663"/>
                    </a:lnTo>
                    <a:lnTo>
                      <a:pt x="90" y="621"/>
                    </a:lnTo>
                    <a:lnTo>
                      <a:pt x="83" y="559"/>
                    </a:lnTo>
                    <a:lnTo>
                      <a:pt x="71" y="492"/>
                    </a:lnTo>
                    <a:lnTo>
                      <a:pt x="56" y="423"/>
                    </a:lnTo>
                    <a:lnTo>
                      <a:pt x="44" y="364"/>
                    </a:lnTo>
                    <a:lnTo>
                      <a:pt x="36" y="322"/>
                    </a:lnTo>
                    <a:lnTo>
                      <a:pt x="38" y="306"/>
                    </a:lnTo>
                    <a:lnTo>
                      <a:pt x="44" y="305"/>
                    </a:lnTo>
                    <a:lnTo>
                      <a:pt x="53" y="305"/>
                    </a:lnTo>
                    <a:lnTo>
                      <a:pt x="62" y="301"/>
                    </a:lnTo>
                    <a:lnTo>
                      <a:pt x="72" y="298"/>
                    </a:lnTo>
                    <a:lnTo>
                      <a:pt x="81" y="292"/>
                    </a:lnTo>
                    <a:lnTo>
                      <a:pt x="90" y="285"/>
                    </a:lnTo>
                    <a:lnTo>
                      <a:pt x="94" y="276"/>
                    </a:lnTo>
                    <a:lnTo>
                      <a:pt x="98" y="267"/>
                    </a:lnTo>
                    <a:lnTo>
                      <a:pt x="98" y="238"/>
                    </a:lnTo>
                    <a:lnTo>
                      <a:pt x="97" y="216"/>
                    </a:lnTo>
                    <a:lnTo>
                      <a:pt x="91" y="194"/>
                    </a:lnTo>
                    <a:lnTo>
                      <a:pt x="85" y="179"/>
                    </a:lnTo>
                    <a:lnTo>
                      <a:pt x="75" y="164"/>
                    </a:lnTo>
                    <a:lnTo>
                      <a:pt x="64" y="153"/>
                    </a:lnTo>
                    <a:lnTo>
                      <a:pt x="53" y="143"/>
                    </a:lnTo>
                    <a:lnTo>
                      <a:pt x="40" y="135"/>
                    </a:lnTo>
                    <a:lnTo>
                      <a:pt x="0" y="126"/>
                    </a:lnTo>
                    <a:lnTo>
                      <a:pt x="1" y="116"/>
                    </a:lnTo>
                    <a:lnTo>
                      <a:pt x="7" y="109"/>
                    </a:lnTo>
                    <a:lnTo>
                      <a:pt x="15" y="102"/>
                    </a:lnTo>
                    <a:lnTo>
                      <a:pt x="25" y="98"/>
                    </a:lnTo>
                    <a:lnTo>
                      <a:pt x="32" y="98"/>
                    </a:lnTo>
                    <a:lnTo>
                      <a:pt x="38" y="105"/>
                    </a:lnTo>
                    <a:lnTo>
                      <a:pt x="42" y="115"/>
                    </a:lnTo>
                    <a:lnTo>
                      <a:pt x="49" y="124"/>
                    </a:lnTo>
                    <a:lnTo>
                      <a:pt x="53" y="128"/>
                    </a:lnTo>
                    <a:lnTo>
                      <a:pt x="60" y="133"/>
                    </a:lnTo>
                    <a:lnTo>
                      <a:pt x="67" y="135"/>
                    </a:lnTo>
                    <a:lnTo>
                      <a:pt x="74" y="138"/>
                    </a:lnTo>
                    <a:lnTo>
                      <a:pt x="76" y="126"/>
                    </a:lnTo>
                    <a:lnTo>
                      <a:pt x="79" y="116"/>
                    </a:lnTo>
                    <a:lnTo>
                      <a:pt x="84" y="104"/>
                    </a:lnTo>
                    <a:lnTo>
                      <a:pt x="87" y="94"/>
                    </a:lnTo>
                    <a:lnTo>
                      <a:pt x="89" y="102"/>
                    </a:lnTo>
                    <a:lnTo>
                      <a:pt x="91" y="111"/>
                    </a:lnTo>
                    <a:lnTo>
                      <a:pt x="93" y="119"/>
                    </a:lnTo>
                    <a:lnTo>
                      <a:pt x="97" y="128"/>
                    </a:lnTo>
                    <a:lnTo>
                      <a:pt x="99" y="136"/>
                    </a:lnTo>
                    <a:lnTo>
                      <a:pt x="102" y="146"/>
                    </a:lnTo>
                    <a:lnTo>
                      <a:pt x="107" y="154"/>
                    </a:lnTo>
                    <a:lnTo>
                      <a:pt x="112" y="163"/>
                    </a:lnTo>
                    <a:lnTo>
                      <a:pt x="119" y="160"/>
                    </a:lnTo>
                    <a:lnTo>
                      <a:pt x="126" y="157"/>
                    </a:lnTo>
                    <a:lnTo>
                      <a:pt x="130" y="151"/>
                    </a:lnTo>
                    <a:lnTo>
                      <a:pt x="135" y="146"/>
                    </a:lnTo>
                    <a:lnTo>
                      <a:pt x="138" y="136"/>
                    </a:lnTo>
                    <a:lnTo>
                      <a:pt x="144" y="130"/>
                    </a:lnTo>
                    <a:lnTo>
                      <a:pt x="147" y="123"/>
                    </a:lnTo>
                    <a:lnTo>
                      <a:pt x="152" y="116"/>
                    </a:lnTo>
                    <a:lnTo>
                      <a:pt x="152" y="109"/>
                    </a:lnTo>
                    <a:lnTo>
                      <a:pt x="153" y="102"/>
                    </a:lnTo>
                    <a:lnTo>
                      <a:pt x="154" y="93"/>
                    </a:lnTo>
                    <a:lnTo>
                      <a:pt x="158" y="86"/>
                    </a:lnTo>
                    <a:lnTo>
                      <a:pt x="159" y="89"/>
                    </a:lnTo>
                    <a:lnTo>
                      <a:pt x="161" y="93"/>
                    </a:lnTo>
                    <a:lnTo>
                      <a:pt x="165" y="96"/>
                    </a:lnTo>
                    <a:lnTo>
                      <a:pt x="169" y="90"/>
                    </a:lnTo>
                    <a:lnTo>
                      <a:pt x="173" y="83"/>
                    </a:lnTo>
                    <a:lnTo>
                      <a:pt x="175" y="73"/>
                    </a:lnTo>
                    <a:lnTo>
                      <a:pt x="180" y="66"/>
                    </a:lnTo>
                    <a:lnTo>
                      <a:pt x="182" y="71"/>
                    </a:lnTo>
                    <a:lnTo>
                      <a:pt x="186" y="78"/>
                    </a:lnTo>
                    <a:lnTo>
                      <a:pt x="188" y="86"/>
                    </a:lnTo>
                    <a:lnTo>
                      <a:pt x="190" y="94"/>
                    </a:lnTo>
                    <a:lnTo>
                      <a:pt x="192" y="100"/>
                    </a:lnTo>
                    <a:lnTo>
                      <a:pt x="196" y="105"/>
                    </a:lnTo>
                    <a:lnTo>
                      <a:pt x="203" y="108"/>
                    </a:lnTo>
                    <a:lnTo>
                      <a:pt x="211" y="109"/>
                    </a:lnTo>
                    <a:lnTo>
                      <a:pt x="216" y="101"/>
                    </a:lnTo>
                    <a:lnTo>
                      <a:pt x="220" y="94"/>
                    </a:lnTo>
                    <a:lnTo>
                      <a:pt x="224" y="87"/>
                    </a:lnTo>
                    <a:lnTo>
                      <a:pt x="228" y="79"/>
                    </a:lnTo>
                    <a:lnTo>
                      <a:pt x="232" y="71"/>
                    </a:lnTo>
                    <a:lnTo>
                      <a:pt x="235" y="64"/>
                    </a:lnTo>
                    <a:lnTo>
                      <a:pt x="239" y="57"/>
                    </a:lnTo>
                    <a:lnTo>
                      <a:pt x="244" y="51"/>
                    </a:lnTo>
                    <a:lnTo>
                      <a:pt x="246" y="63"/>
                    </a:lnTo>
                    <a:lnTo>
                      <a:pt x="247" y="74"/>
                    </a:lnTo>
                    <a:lnTo>
                      <a:pt x="248" y="87"/>
                    </a:lnTo>
                    <a:lnTo>
                      <a:pt x="252" y="98"/>
                    </a:lnTo>
                    <a:lnTo>
                      <a:pt x="262" y="95"/>
                    </a:lnTo>
                    <a:lnTo>
                      <a:pt x="270" y="89"/>
                    </a:lnTo>
                    <a:lnTo>
                      <a:pt x="276" y="81"/>
                    </a:lnTo>
                    <a:lnTo>
                      <a:pt x="282" y="73"/>
                    </a:lnTo>
                    <a:lnTo>
                      <a:pt x="286" y="61"/>
                    </a:lnTo>
                    <a:lnTo>
                      <a:pt x="292" y="51"/>
                    </a:lnTo>
                    <a:lnTo>
                      <a:pt x="297" y="41"/>
                    </a:lnTo>
                    <a:lnTo>
                      <a:pt x="304" y="31"/>
                    </a:lnTo>
                    <a:lnTo>
                      <a:pt x="311" y="22"/>
                    </a:lnTo>
                    <a:lnTo>
                      <a:pt x="319" y="13"/>
                    </a:lnTo>
                    <a:lnTo>
                      <a:pt x="331" y="6"/>
                    </a:lnTo>
                    <a:lnTo>
                      <a:pt x="342" y="0"/>
                    </a:lnTo>
                    <a:lnTo>
                      <a:pt x="357" y="33"/>
                    </a:lnTo>
                    <a:lnTo>
                      <a:pt x="371" y="66"/>
                    </a:lnTo>
                    <a:lnTo>
                      <a:pt x="383" y="102"/>
                    </a:lnTo>
                    <a:lnTo>
                      <a:pt x="392" y="139"/>
                    </a:lnTo>
                    <a:lnTo>
                      <a:pt x="397" y="176"/>
                    </a:lnTo>
                    <a:lnTo>
                      <a:pt x="400" y="214"/>
                    </a:lnTo>
                    <a:lnTo>
                      <a:pt x="400" y="251"/>
                    </a:lnTo>
                    <a:lnTo>
                      <a:pt x="398" y="289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78600" y="3209040"/>
                <a:ext cx="50040" cy="84240"/>
              </a:xfrm>
              <a:custGeom>
                <a:avLst/>
                <a:gdLst/>
                <a:ahLst/>
                <a:rect l="l" t="t" r="r" b="b"/>
                <a:pathLst>
                  <a:path w="130" h="190">
                    <a:moveTo>
                      <a:pt x="124" y="49"/>
                    </a:moveTo>
                    <a:lnTo>
                      <a:pt x="128" y="64"/>
                    </a:lnTo>
                    <a:lnTo>
                      <a:pt x="130" y="82"/>
                    </a:lnTo>
                    <a:lnTo>
                      <a:pt x="130" y="98"/>
                    </a:lnTo>
                    <a:lnTo>
                      <a:pt x="130" y="116"/>
                    </a:lnTo>
                    <a:lnTo>
                      <a:pt x="126" y="132"/>
                    </a:lnTo>
                    <a:lnTo>
                      <a:pt x="120" y="150"/>
                    </a:lnTo>
                    <a:lnTo>
                      <a:pt x="111" y="165"/>
                    </a:lnTo>
                    <a:lnTo>
                      <a:pt x="101" y="180"/>
                    </a:lnTo>
                    <a:lnTo>
                      <a:pt x="91" y="184"/>
                    </a:lnTo>
                    <a:lnTo>
                      <a:pt x="82" y="188"/>
                    </a:lnTo>
                    <a:lnTo>
                      <a:pt x="70" y="190"/>
                    </a:lnTo>
                    <a:lnTo>
                      <a:pt x="60" y="188"/>
                    </a:lnTo>
                    <a:lnTo>
                      <a:pt x="46" y="180"/>
                    </a:lnTo>
                    <a:lnTo>
                      <a:pt x="36" y="171"/>
                    </a:lnTo>
                    <a:lnTo>
                      <a:pt x="25" y="161"/>
                    </a:lnTo>
                    <a:lnTo>
                      <a:pt x="18" y="150"/>
                    </a:lnTo>
                    <a:lnTo>
                      <a:pt x="10" y="136"/>
                    </a:lnTo>
                    <a:lnTo>
                      <a:pt x="6" y="125"/>
                    </a:lnTo>
                    <a:lnTo>
                      <a:pt x="1" y="111"/>
                    </a:lnTo>
                    <a:lnTo>
                      <a:pt x="0" y="98"/>
                    </a:lnTo>
                    <a:lnTo>
                      <a:pt x="0" y="82"/>
                    </a:lnTo>
                    <a:lnTo>
                      <a:pt x="1" y="66"/>
                    </a:lnTo>
                    <a:lnTo>
                      <a:pt x="3" y="51"/>
                    </a:lnTo>
                    <a:lnTo>
                      <a:pt x="8" y="38"/>
                    </a:lnTo>
                    <a:lnTo>
                      <a:pt x="13" y="26"/>
                    </a:lnTo>
                    <a:lnTo>
                      <a:pt x="21" y="14"/>
                    </a:lnTo>
                    <a:lnTo>
                      <a:pt x="30" y="6"/>
                    </a:lnTo>
                    <a:lnTo>
                      <a:pt x="44" y="3"/>
                    </a:lnTo>
                    <a:lnTo>
                      <a:pt x="54" y="0"/>
                    </a:lnTo>
                    <a:lnTo>
                      <a:pt x="67" y="1"/>
                    </a:lnTo>
                    <a:lnTo>
                      <a:pt x="78" y="4"/>
                    </a:lnTo>
                    <a:lnTo>
                      <a:pt x="91" y="10"/>
                    </a:lnTo>
                    <a:lnTo>
                      <a:pt x="100" y="15"/>
                    </a:lnTo>
                    <a:lnTo>
                      <a:pt x="111" y="26"/>
                    </a:lnTo>
                    <a:lnTo>
                      <a:pt x="119" y="36"/>
                    </a:lnTo>
                    <a:lnTo>
                      <a:pt x="12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87960" y="3219120"/>
                <a:ext cx="27720" cy="284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62" y="13"/>
                    </a:moveTo>
                    <a:lnTo>
                      <a:pt x="73" y="41"/>
                    </a:lnTo>
                    <a:lnTo>
                      <a:pt x="69" y="43"/>
                    </a:lnTo>
                    <a:lnTo>
                      <a:pt x="61" y="50"/>
                    </a:lnTo>
                    <a:lnTo>
                      <a:pt x="50" y="56"/>
                    </a:lnTo>
                    <a:lnTo>
                      <a:pt x="38" y="63"/>
                    </a:lnTo>
                    <a:lnTo>
                      <a:pt x="23" y="64"/>
                    </a:lnTo>
                    <a:lnTo>
                      <a:pt x="12" y="63"/>
                    </a:lnTo>
                    <a:lnTo>
                      <a:pt x="2" y="55"/>
                    </a:lnTo>
                    <a:lnTo>
                      <a:pt x="0" y="41"/>
                    </a:lnTo>
                    <a:lnTo>
                      <a:pt x="1" y="19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51" y="6"/>
                    </a:lnTo>
                    <a:lnTo>
                      <a:pt x="58" y="10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97600" y="3222720"/>
                <a:ext cx="24480" cy="34920"/>
              </a:xfrm>
              <a:custGeom>
                <a:avLst/>
                <a:gdLst/>
                <a:ahLst/>
                <a:rect l="l" t="t" r="r" b="b"/>
                <a:pathLst>
                  <a:path w="63" h="78">
                    <a:moveTo>
                      <a:pt x="17" y="78"/>
                    </a:moveTo>
                    <a:lnTo>
                      <a:pt x="10" y="75"/>
                    </a:lnTo>
                    <a:lnTo>
                      <a:pt x="6" y="69"/>
                    </a:lnTo>
                    <a:lnTo>
                      <a:pt x="2" y="58"/>
                    </a:lnTo>
                    <a:lnTo>
                      <a:pt x="1" y="45"/>
                    </a:lnTo>
                    <a:lnTo>
                      <a:pt x="0" y="33"/>
                    </a:lnTo>
                    <a:lnTo>
                      <a:pt x="3" y="20"/>
                    </a:lnTo>
                    <a:lnTo>
                      <a:pt x="8" y="11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2"/>
                    </a:lnTo>
                    <a:lnTo>
                      <a:pt x="48" y="7"/>
                    </a:lnTo>
                    <a:lnTo>
                      <a:pt x="54" y="17"/>
                    </a:lnTo>
                    <a:lnTo>
                      <a:pt x="57" y="27"/>
                    </a:lnTo>
                    <a:lnTo>
                      <a:pt x="60" y="40"/>
                    </a:lnTo>
                    <a:lnTo>
                      <a:pt x="61" y="52"/>
                    </a:lnTo>
                    <a:lnTo>
                      <a:pt x="63" y="65"/>
                    </a:lnTo>
                    <a:lnTo>
                      <a:pt x="55" y="70"/>
                    </a:lnTo>
                    <a:lnTo>
                      <a:pt x="47" y="71"/>
                    </a:lnTo>
                    <a:lnTo>
                      <a:pt x="40" y="71"/>
                    </a:lnTo>
                    <a:lnTo>
                      <a:pt x="35" y="72"/>
                    </a:lnTo>
                    <a:lnTo>
                      <a:pt x="25" y="73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65920" y="3279240"/>
                <a:ext cx="38520" cy="293760"/>
              </a:xfrm>
              <a:custGeom>
                <a:avLst/>
                <a:gdLst/>
                <a:ahLst/>
                <a:rect l="l" t="t" r="r" b="b"/>
                <a:pathLst>
                  <a:path w="99" h="654">
                    <a:moveTo>
                      <a:pt x="91" y="42"/>
                    </a:moveTo>
                    <a:lnTo>
                      <a:pt x="92" y="55"/>
                    </a:lnTo>
                    <a:lnTo>
                      <a:pt x="95" y="72"/>
                    </a:lnTo>
                    <a:lnTo>
                      <a:pt x="97" y="89"/>
                    </a:lnTo>
                    <a:lnTo>
                      <a:pt x="99" y="109"/>
                    </a:lnTo>
                    <a:lnTo>
                      <a:pt x="98" y="125"/>
                    </a:lnTo>
                    <a:lnTo>
                      <a:pt x="96" y="142"/>
                    </a:lnTo>
                    <a:lnTo>
                      <a:pt x="90" y="158"/>
                    </a:lnTo>
                    <a:lnTo>
                      <a:pt x="81" y="173"/>
                    </a:lnTo>
                    <a:lnTo>
                      <a:pt x="75" y="187"/>
                    </a:lnTo>
                    <a:lnTo>
                      <a:pt x="75" y="202"/>
                    </a:lnTo>
                    <a:lnTo>
                      <a:pt x="77" y="216"/>
                    </a:lnTo>
                    <a:lnTo>
                      <a:pt x="82" y="231"/>
                    </a:lnTo>
                    <a:lnTo>
                      <a:pt x="85" y="244"/>
                    </a:lnTo>
                    <a:lnTo>
                      <a:pt x="89" y="257"/>
                    </a:lnTo>
                    <a:lnTo>
                      <a:pt x="89" y="271"/>
                    </a:lnTo>
                    <a:lnTo>
                      <a:pt x="86" y="286"/>
                    </a:lnTo>
                    <a:lnTo>
                      <a:pt x="77" y="304"/>
                    </a:lnTo>
                    <a:lnTo>
                      <a:pt x="69" y="330"/>
                    </a:lnTo>
                    <a:lnTo>
                      <a:pt x="61" y="361"/>
                    </a:lnTo>
                    <a:lnTo>
                      <a:pt x="55" y="396"/>
                    </a:lnTo>
                    <a:lnTo>
                      <a:pt x="48" y="431"/>
                    </a:lnTo>
                    <a:lnTo>
                      <a:pt x="46" y="461"/>
                    </a:lnTo>
                    <a:lnTo>
                      <a:pt x="47" y="485"/>
                    </a:lnTo>
                    <a:lnTo>
                      <a:pt x="54" y="501"/>
                    </a:lnTo>
                    <a:lnTo>
                      <a:pt x="50" y="511"/>
                    </a:lnTo>
                    <a:lnTo>
                      <a:pt x="51" y="524"/>
                    </a:lnTo>
                    <a:lnTo>
                      <a:pt x="53" y="536"/>
                    </a:lnTo>
                    <a:lnTo>
                      <a:pt x="55" y="547"/>
                    </a:lnTo>
                    <a:lnTo>
                      <a:pt x="56" y="558"/>
                    </a:lnTo>
                    <a:lnTo>
                      <a:pt x="58" y="569"/>
                    </a:lnTo>
                    <a:lnTo>
                      <a:pt x="56" y="579"/>
                    </a:lnTo>
                    <a:lnTo>
                      <a:pt x="54" y="593"/>
                    </a:lnTo>
                    <a:lnTo>
                      <a:pt x="46" y="600"/>
                    </a:lnTo>
                    <a:lnTo>
                      <a:pt x="41" y="608"/>
                    </a:lnTo>
                    <a:lnTo>
                      <a:pt x="37" y="616"/>
                    </a:lnTo>
                    <a:lnTo>
                      <a:pt x="32" y="624"/>
                    </a:lnTo>
                    <a:lnTo>
                      <a:pt x="26" y="631"/>
                    </a:lnTo>
                    <a:lnTo>
                      <a:pt x="21" y="639"/>
                    </a:lnTo>
                    <a:lnTo>
                      <a:pt x="15" y="648"/>
                    </a:lnTo>
                    <a:lnTo>
                      <a:pt x="9" y="654"/>
                    </a:lnTo>
                    <a:lnTo>
                      <a:pt x="20" y="627"/>
                    </a:lnTo>
                    <a:lnTo>
                      <a:pt x="22" y="601"/>
                    </a:lnTo>
                    <a:lnTo>
                      <a:pt x="18" y="575"/>
                    </a:lnTo>
                    <a:lnTo>
                      <a:pt x="11" y="551"/>
                    </a:lnTo>
                    <a:lnTo>
                      <a:pt x="3" y="525"/>
                    </a:lnTo>
                    <a:lnTo>
                      <a:pt x="0" y="499"/>
                    </a:lnTo>
                    <a:lnTo>
                      <a:pt x="1" y="472"/>
                    </a:lnTo>
                    <a:lnTo>
                      <a:pt x="14" y="446"/>
                    </a:lnTo>
                    <a:lnTo>
                      <a:pt x="21" y="433"/>
                    </a:lnTo>
                    <a:lnTo>
                      <a:pt x="29" y="421"/>
                    </a:lnTo>
                    <a:lnTo>
                      <a:pt x="36" y="407"/>
                    </a:lnTo>
                    <a:lnTo>
                      <a:pt x="41" y="392"/>
                    </a:lnTo>
                    <a:lnTo>
                      <a:pt x="45" y="377"/>
                    </a:lnTo>
                    <a:lnTo>
                      <a:pt x="47" y="362"/>
                    </a:lnTo>
                    <a:lnTo>
                      <a:pt x="46" y="346"/>
                    </a:lnTo>
                    <a:lnTo>
                      <a:pt x="45" y="330"/>
                    </a:lnTo>
                    <a:lnTo>
                      <a:pt x="32" y="308"/>
                    </a:lnTo>
                    <a:lnTo>
                      <a:pt x="28" y="287"/>
                    </a:lnTo>
                    <a:lnTo>
                      <a:pt x="30" y="267"/>
                    </a:lnTo>
                    <a:lnTo>
                      <a:pt x="37" y="248"/>
                    </a:lnTo>
                    <a:lnTo>
                      <a:pt x="45" y="227"/>
                    </a:lnTo>
                    <a:lnTo>
                      <a:pt x="54" y="207"/>
                    </a:lnTo>
                    <a:lnTo>
                      <a:pt x="59" y="186"/>
                    </a:lnTo>
                    <a:lnTo>
                      <a:pt x="61" y="166"/>
                    </a:lnTo>
                    <a:lnTo>
                      <a:pt x="51" y="144"/>
                    </a:lnTo>
                    <a:lnTo>
                      <a:pt x="45" y="124"/>
                    </a:lnTo>
                    <a:lnTo>
                      <a:pt x="43" y="102"/>
                    </a:lnTo>
                    <a:lnTo>
                      <a:pt x="45" y="82"/>
                    </a:lnTo>
                    <a:lnTo>
                      <a:pt x="47" y="61"/>
                    </a:lnTo>
                    <a:lnTo>
                      <a:pt x="55" y="40"/>
                    </a:lnTo>
                    <a:lnTo>
                      <a:pt x="65" y="22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4" y="9"/>
                    </a:lnTo>
                    <a:lnTo>
                      <a:pt x="83" y="21"/>
                    </a:lnTo>
                    <a:lnTo>
                      <a:pt x="82" y="25"/>
                    </a:lnTo>
                    <a:lnTo>
                      <a:pt x="82" y="31"/>
                    </a:lnTo>
                    <a:lnTo>
                      <a:pt x="84" y="36"/>
                    </a:lnTo>
                    <a:lnTo>
                      <a:pt x="91" y="42"/>
                    </a:lnTo>
                    <a:close/>
                  </a:path>
                </a:pathLst>
              </a:custGeom>
              <a:solidFill>
                <a:srgbClr val="ff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9600" y="3307320"/>
                <a:ext cx="904680" cy="976680"/>
              </a:xfrm>
              <a:custGeom>
                <a:avLst/>
                <a:gdLst/>
                <a:ahLst/>
                <a:rect l="l" t="t" r="r" b="b"/>
                <a:pathLst>
                  <a:path w="2339" h="2174">
                    <a:moveTo>
                      <a:pt x="2334" y="300"/>
                    </a:moveTo>
                    <a:lnTo>
                      <a:pt x="2319" y="377"/>
                    </a:lnTo>
                    <a:lnTo>
                      <a:pt x="2300" y="454"/>
                    </a:lnTo>
                    <a:lnTo>
                      <a:pt x="2278" y="532"/>
                    </a:lnTo>
                    <a:lnTo>
                      <a:pt x="2255" y="608"/>
                    </a:lnTo>
                    <a:lnTo>
                      <a:pt x="2226" y="680"/>
                    </a:lnTo>
                    <a:lnTo>
                      <a:pt x="2195" y="752"/>
                    </a:lnTo>
                    <a:lnTo>
                      <a:pt x="2161" y="824"/>
                    </a:lnTo>
                    <a:lnTo>
                      <a:pt x="2124" y="895"/>
                    </a:lnTo>
                    <a:lnTo>
                      <a:pt x="2123" y="874"/>
                    </a:lnTo>
                    <a:lnTo>
                      <a:pt x="2120" y="856"/>
                    </a:lnTo>
                    <a:lnTo>
                      <a:pt x="2117" y="837"/>
                    </a:lnTo>
                    <a:lnTo>
                      <a:pt x="2113" y="820"/>
                    </a:lnTo>
                    <a:lnTo>
                      <a:pt x="2109" y="800"/>
                    </a:lnTo>
                    <a:lnTo>
                      <a:pt x="2105" y="782"/>
                    </a:lnTo>
                    <a:lnTo>
                      <a:pt x="2102" y="764"/>
                    </a:lnTo>
                    <a:lnTo>
                      <a:pt x="2101" y="745"/>
                    </a:lnTo>
                    <a:lnTo>
                      <a:pt x="2094" y="740"/>
                    </a:lnTo>
                    <a:lnTo>
                      <a:pt x="2087" y="737"/>
                    </a:lnTo>
                    <a:lnTo>
                      <a:pt x="2079" y="735"/>
                    </a:lnTo>
                    <a:lnTo>
                      <a:pt x="2072" y="739"/>
                    </a:lnTo>
                    <a:lnTo>
                      <a:pt x="2067" y="755"/>
                    </a:lnTo>
                    <a:lnTo>
                      <a:pt x="2067" y="773"/>
                    </a:lnTo>
                    <a:lnTo>
                      <a:pt x="2070" y="790"/>
                    </a:lnTo>
                    <a:lnTo>
                      <a:pt x="2074" y="807"/>
                    </a:lnTo>
                    <a:lnTo>
                      <a:pt x="2078" y="826"/>
                    </a:lnTo>
                    <a:lnTo>
                      <a:pt x="2081" y="843"/>
                    </a:lnTo>
                    <a:lnTo>
                      <a:pt x="2083" y="862"/>
                    </a:lnTo>
                    <a:lnTo>
                      <a:pt x="2086" y="884"/>
                    </a:lnTo>
                    <a:lnTo>
                      <a:pt x="2083" y="930"/>
                    </a:lnTo>
                    <a:lnTo>
                      <a:pt x="2079" y="977"/>
                    </a:lnTo>
                    <a:lnTo>
                      <a:pt x="2070" y="1023"/>
                    </a:lnTo>
                    <a:lnTo>
                      <a:pt x="2059" y="1069"/>
                    </a:lnTo>
                    <a:lnTo>
                      <a:pt x="2042" y="1111"/>
                    </a:lnTo>
                    <a:lnTo>
                      <a:pt x="2023" y="1155"/>
                    </a:lnTo>
                    <a:lnTo>
                      <a:pt x="2001" y="1195"/>
                    </a:lnTo>
                    <a:lnTo>
                      <a:pt x="1976" y="1233"/>
                    </a:lnTo>
                    <a:lnTo>
                      <a:pt x="1941" y="1263"/>
                    </a:lnTo>
                    <a:lnTo>
                      <a:pt x="1906" y="1289"/>
                    </a:lnTo>
                    <a:lnTo>
                      <a:pt x="1866" y="1312"/>
                    </a:lnTo>
                    <a:lnTo>
                      <a:pt x="1827" y="1331"/>
                    </a:lnTo>
                    <a:lnTo>
                      <a:pt x="1783" y="1346"/>
                    </a:lnTo>
                    <a:lnTo>
                      <a:pt x="1741" y="1359"/>
                    </a:lnTo>
                    <a:lnTo>
                      <a:pt x="1696" y="1366"/>
                    </a:lnTo>
                    <a:lnTo>
                      <a:pt x="1653" y="1371"/>
                    </a:lnTo>
                    <a:lnTo>
                      <a:pt x="1653" y="1362"/>
                    </a:lnTo>
                    <a:lnTo>
                      <a:pt x="1654" y="1345"/>
                    </a:lnTo>
                    <a:lnTo>
                      <a:pt x="1654" y="1323"/>
                    </a:lnTo>
                    <a:lnTo>
                      <a:pt x="1656" y="1300"/>
                    </a:lnTo>
                    <a:lnTo>
                      <a:pt x="1655" y="1276"/>
                    </a:lnTo>
                    <a:lnTo>
                      <a:pt x="1654" y="1257"/>
                    </a:lnTo>
                    <a:lnTo>
                      <a:pt x="1651" y="1247"/>
                    </a:lnTo>
                    <a:lnTo>
                      <a:pt x="1646" y="1248"/>
                    </a:lnTo>
                    <a:lnTo>
                      <a:pt x="1640" y="1256"/>
                    </a:lnTo>
                    <a:lnTo>
                      <a:pt x="1633" y="1276"/>
                    </a:lnTo>
                    <a:lnTo>
                      <a:pt x="1626" y="1304"/>
                    </a:lnTo>
                    <a:lnTo>
                      <a:pt x="1620" y="1334"/>
                    </a:lnTo>
                    <a:lnTo>
                      <a:pt x="1613" y="1364"/>
                    </a:lnTo>
                    <a:lnTo>
                      <a:pt x="1609" y="1391"/>
                    </a:lnTo>
                    <a:lnTo>
                      <a:pt x="1608" y="1411"/>
                    </a:lnTo>
                    <a:lnTo>
                      <a:pt x="1610" y="1424"/>
                    </a:lnTo>
                    <a:lnTo>
                      <a:pt x="1616" y="1433"/>
                    </a:lnTo>
                    <a:lnTo>
                      <a:pt x="1624" y="1443"/>
                    </a:lnTo>
                    <a:lnTo>
                      <a:pt x="1632" y="1454"/>
                    </a:lnTo>
                    <a:lnTo>
                      <a:pt x="1643" y="1464"/>
                    </a:lnTo>
                    <a:lnTo>
                      <a:pt x="1651" y="1473"/>
                    </a:lnTo>
                    <a:lnTo>
                      <a:pt x="1660" y="1485"/>
                    </a:lnTo>
                    <a:lnTo>
                      <a:pt x="1669" y="1495"/>
                    </a:lnTo>
                    <a:lnTo>
                      <a:pt x="1678" y="1506"/>
                    </a:lnTo>
                    <a:lnTo>
                      <a:pt x="1699" y="1531"/>
                    </a:lnTo>
                    <a:lnTo>
                      <a:pt x="1721" y="1559"/>
                    </a:lnTo>
                    <a:lnTo>
                      <a:pt x="1742" y="1586"/>
                    </a:lnTo>
                    <a:lnTo>
                      <a:pt x="1764" y="1616"/>
                    </a:lnTo>
                    <a:lnTo>
                      <a:pt x="1782" y="1644"/>
                    </a:lnTo>
                    <a:lnTo>
                      <a:pt x="1800" y="1676"/>
                    </a:lnTo>
                    <a:lnTo>
                      <a:pt x="1815" y="1706"/>
                    </a:lnTo>
                    <a:lnTo>
                      <a:pt x="1828" y="1741"/>
                    </a:lnTo>
                    <a:lnTo>
                      <a:pt x="1843" y="1758"/>
                    </a:lnTo>
                    <a:lnTo>
                      <a:pt x="1843" y="1810"/>
                    </a:lnTo>
                    <a:lnTo>
                      <a:pt x="1842" y="1862"/>
                    </a:lnTo>
                    <a:lnTo>
                      <a:pt x="1839" y="1914"/>
                    </a:lnTo>
                    <a:lnTo>
                      <a:pt x="1834" y="1967"/>
                    </a:lnTo>
                    <a:lnTo>
                      <a:pt x="1827" y="2019"/>
                    </a:lnTo>
                    <a:lnTo>
                      <a:pt x="1819" y="2070"/>
                    </a:lnTo>
                    <a:lnTo>
                      <a:pt x="1808" y="2122"/>
                    </a:lnTo>
                    <a:lnTo>
                      <a:pt x="1798" y="2174"/>
                    </a:lnTo>
                    <a:lnTo>
                      <a:pt x="1766" y="2169"/>
                    </a:lnTo>
                    <a:lnTo>
                      <a:pt x="1772" y="2128"/>
                    </a:lnTo>
                    <a:lnTo>
                      <a:pt x="1775" y="2081"/>
                    </a:lnTo>
                    <a:lnTo>
                      <a:pt x="1776" y="2028"/>
                    </a:lnTo>
                    <a:lnTo>
                      <a:pt x="1778" y="1976"/>
                    </a:lnTo>
                    <a:lnTo>
                      <a:pt x="1778" y="1925"/>
                    </a:lnTo>
                    <a:lnTo>
                      <a:pt x="1780" y="1878"/>
                    </a:lnTo>
                    <a:lnTo>
                      <a:pt x="1785" y="1839"/>
                    </a:lnTo>
                    <a:lnTo>
                      <a:pt x="1794" y="1811"/>
                    </a:lnTo>
                    <a:lnTo>
                      <a:pt x="1793" y="1802"/>
                    </a:lnTo>
                    <a:lnTo>
                      <a:pt x="1793" y="1794"/>
                    </a:lnTo>
                    <a:lnTo>
                      <a:pt x="1791" y="1784"/>
                    </a:lnTo>
                    <a:lnTo>
                      <a:pt x="1791" y="1776"/>
                    </a:lnTo>
                    <a:lnTo>
                      <a:pt x="1764" y="1743"/>
                    </a:lnTo>
                    <a:lnTo>
                      <a:pt x="1735" y="1712"/>
                    </a:lnTo>
                    <a:lnTo>
                      <a:pt x="1707" y="1681"/>
                    </a:lnTo>
                    <a:lnTo>
                      <a:pt x="1680" y="1652"/>
                    </a:lnTo>
                    <a:lnTo>
                      <a:pt x="1651" y="1623"/>
                    </a:lnTo>
                    <a:lnTo>
                      <a:pt x="1621" y="1594"/>
                    </a:lnTo>
                    <a:lnTo>
                      <a:pt x="1591" y="1567"/>
                    </a:lnTo>
                    <a:lnTo>
                      <a:pt x="1558" y="1539"/>
                    </a:lnTo>
                    <a:lnTo>
                      <a:pt x="1545" y="1526"/>
                    </a:lnTo>
                    <a:lnTo>
                      <a:pt x="1528" y="1514"/>
                    </a:lnTo>
                    <a:lnTo>
                      <a:pt x="1506" y="1498"/>
                    </a:lnTo>
                    <a:lnTo>
                      <a:pt x="1487" y="1481"/>
                    </a:lnTo>
                    <a:lnTo>
                      <a:pt x="1466" y="1463"/>
                    </a:lnTo>
                    <a:lnTo>
                      <a:pt x="1448" y="1447"/>
                    </a:lnTo>
                    <a:lnTo>
                      <a:pt x="1434" y="1432"/>
                    </a:lnTo>
                    <a:lnTo>
                      <a:pt x="1426" y="1421"/>
                    </a:lnTo>
                    <a:lnTo>
                      <a:pt x="1426" y="1393"/>
                    </a:lnTo>
                    <a:lnTo>
                      <a:pt x="1430" y="1362"/>
                    </a:lnTo>
                    <a:lnTo>
                      <a:pt x="1437" y="1328"/>
                    </a:lnTo>
                    <a:lnTo>
                      <a:pt x="1445" y="1297"/>
                    </a:lnTo>
                    <a:lnTo>
                      <a:pt x="1450" y="1269"/>
                    </a:lnTo>
                    <a:lnTo>
                      <a:pt x="1451" y="1251"/>
                    </a:lnTo>
                    <a:lnTo>
                      <a:pt x="1446" y="1242"/>
                    </a:lnTo>
                    <a:lnTo>
                      <a:pt x="1435" y="1248"/>
                    </a:lnTo>
                    <a:lnTo>
                      <a:pt x="1396" y="1255"/>
                    </a:lnTo>
                    <a:lnTo>
                      <a:pt x="1316" y="1259"/>
                    </a:lnTo>
                    <a:lnTo>
                      <a:pt x="1204" y="1257"/>
                    </a:lnTo>
                    <a:lnTo>
                      <a:pt x="1073" y="1254"/>
                    </a:lnTo>
                    <a:lnTo>
                      <a:pt x="930" y="1247"/>
                    </a:lnTo>
                    <a:lnTo>
                      <a:pt x="785" y="1239"/>
                    </a:lnTo>
                    <a:lnTo>
                      <a:pt x="653" y="1229"/>
                    </a:lnTo>
                    <a:lnTo>
                      <a:pt x="542" y="1221"/>
                    </a:lnTo>
                    <a:lnTo>
                      <a:pt x="535" y="1227"/>
                    </a:lnTo>
                    <a:lnTo>
                      <a:pt x="542" y="1251"/>
                    </a:lnTo>
                    <a:lnTo>
                      <a:pt x="557" y="1282"/>
                    </a:lnTo>
                    <a:lnTo>
                      <a:pt x="581" y="1321"/>
                    </a:lnTo>
                    <a:lnTo>
                      <a:pt x="604" y="1361"/>
                    </a:lnTo>
                    <a:lnTo>
                      <a:pt x="628" y="1398"/>
                    </a:lnTo>
                    <a:lnTo>
                      <a:pt x="646" y="1429"/>
                    </a:lnTo>
                    <a:lnTo>
                      <a:pt x="657" y="1450"/>
                    </a:lnTo>
                    <a:lnTo>
                      <a:pt x="641" y="1492"/>
                    </a:lnTo>
                    <a:lnTo>
                      <a:pt x="623" y="1532"/>
                    </a:lnTo>
                    <a:lnTo>
                      <a:pt x="602" y="1571"/>
                    </a:lnTo>
                    <a:lnTo>
                      <a:pt x="582" y="1612"/>
                    </a:lnTo>
                    <a:lnTo>
                      <a:pt x="559" y="1650"/>
                    </a:lnTo>
                    <a:lnTo>
                      <a:pt x="537" y="1689"/>
                    </a:lnTo>
                    <a:lnTo>
                      <a:pt x="515" y="1728"/>
                    </a:lnTo>
                    <a:lnTo>
                      <a:pt x="494" y="1766"/>
                    </a:lnTo>
                    <a:lnTo>
                      <a:pt x="494" y="1779"/>
                    </a:lnTo>
                    <a:lnTo>
                      <a:pt x="533" y="1806"/>
                    </a:lnTo>
                    <a:lnTo>
                      <a:pt x="574" y="1832"/>
                    </a:lnTo>
                    <a:lnTo>
                      <a:pt x="613" y="1859"/>
                    </a:lnTo>
                    <a:lnTo>
                      <a:pt x="655" y="1888"/>
                    </a:lnTo>
                    <a:lnTo>
                      <a:pt x="693" y="1916"/>
                    </a:lnTo>
                    <a:lnTo>
                      <a:pt x="731" y="1949"/>
                    </a:lnTo>
                    <a:lnTo>
                      <a:pt x="766" y="1985"/>
                    </a:lnTo>
                    <a:lnTo>
                      <a:pt x="797" y="2025"/>
                    </a:lnTo>
                    <a:lnTo>
                      <a:pt x="790" y="2028"/>
                    </a:lnTo>
                    <a:lnTo>
                      <a:pt x="783" y="2032"/>
                    </a:lnTo>
                    <a:lnTo>
                      <a:pt x="776" y="2034"/>
                    </a:lnTo>
                    <a:lnTo>
                      <a:pt x="769" y="2036"/>
                    </a:lnTo>
                    <a:lnTo>
                      <a:pt x="761" y="2036"/>
                    </a:lnTo>
                    <a:lnTo>
                      <a:pt x="753" y="2038"/>
                    </a:lnTo>
                    <a:lnTo>
                      <a:pt x="744" y="2038"/>
                    </a:lnTo>
                    <a:lnTo>
                      <a:pt x="737" y="2038"/>
                    </a:lnTo>
                    <a:lnTo>
                      <a:pt x="729" y="2027"/>
                    </a:lnTo>
                    <a:lnTo>
                      <a:pt x="723" y="2018"/>
                    </a:lnTo>
                    <a:lnTo>
                      <a:pt x="716" y="2006"/>
                    </a:lnTo>
                    <a:lnTo>
                      <a:pt x="709" y="1998"/>
                    </a:lnTo>
                    <a:lnTo>
                      <a:pt x="701" y="1989"/>
                    </a:lnTo>
                    <a:lnTo>
                      <a:pt x="693" y="1983"/>
                    </a:lnTo>
                    <a:lnTo>
                      <a:pt x="682" y="1978"/>
                    </a:lnTo>
                    <a:lnTo>
                      <a:pt x="671" y="1976"/>
                    </a:lnTo>
                    <a:lnTo>
                      <a:pt x="642" y="1963"/>
                    </a:lnTo>
                    <a:lnTo>
                      <a:pt x="612" y="1951"/>
                    </a:lnTo>
                    <a:lnTo>
                      <a:pt x="582" y="1942"/>
                    </a:lnTo>
                    <a:lnTo>
                      <a:pt x="552" y="1934"/>
                    </a:lnTo>
                    <a:lnTo>
                      <a:pt x="522" y="1925"/>
                    </a:lnTo>
                    <a:lnTo>
                      <a:pt x="492" y="1916"/>
                    </a:lnTo>
                    <a:lnTo>
                      <a:pt x="462" y="1907"/>
                    </a:lnTo>
                    <a:lnTo>
                      <a:pt x="434" y="1896"/>
                    </a:lnTo>
                    <a:lnTo>
                      <a:pt x="421" y="1888"/>
                    </a:lnTo>
                    <a:lnTo>
                      <a:pt x="409" y="1881"/>
                    </a:lnTo>
                    <a:lnTo>
                      <a:pt x="397" y="1874"/>
                    </a:lnTo>
                    <a:lnTo>
                      <a:pt x="384" y="1868"/>
                    </a:lnTo>
                    <a:lnTo>
                      <a:pt x="372" y="1860"/>
                    </a:lnTo>
                    <a:lnTo>
                      <a:pt x="361" y="1853"/>
                    </a:lnTo>
                    <a:lnTo>
                      <a:pt x="350" y="1844"/>
                    </a:lnTo>
                    <a:lnTo>
                      <a:pt x="341" y="1833"/>
                    </a:lnTo>
                    <a:lnTo>
                      <a:pt x="356" y="1814"/>
                    </a:lnTo>
                    <a:lnTo>
                      <a:pt x="379" y="1785"/>
                    </a:lnTo>
                    <a:lnTo>
                      <a:pt x="408" y="1747"/>
                    </a:lnTo>
                    <a:lnTo>
                      <a:pt x="437" y="1706"/>
                    </a:lnTo>
                    <a:lnTo>
                      <a:pt x="464" y="1664"/>
                    </a:lnTo>
                    <a:lnTo>
                      <a:pt x="485" y="1624"/>
                    </a:lnTo>
                    <a:lnTo>
                      <a:pt x="496" y="1590"/>
                    </a:lnTo>
                    <a:lnTo>
                      <a:pt x="496" y="1567"/>
                    </a:lnTo>
                    <a:lnTo>
                      <a:pt x="454" y="1548"/>
                    </a:lnTo>
                    <a:lnTo>
                      <a:pt x="414" y="1530"/>
                    </a:lnTo>
                    <a:lnTo>
                      <a:pt x="372" y="1511"/>
                    </a:lnTo>
                    <a:lnTo>
                      <a:pt x="334" y="1494"/>
                    </a:lnTo>
                    <a:lnTo>
                      <a:pt x="294" y="1473"/>
                    </a:lnTo>
                    <a:lnTo>
                      <a:pt x="254" y="1454"/>
                    </a:lnTo>
                    <a:lnTo>
                      <a:pt x="215" y="1433"/>
                    </a:lnTo>
                    <a:lnTo>
                      <a:pt x="176" y="1411"/>
                    </a:lnTo>
                    <a:lnTo>
                      <a:pt x="165" y="1403"/>
                    </a:lnTo>
                    <a:lnTo>
                      <a:pt x="154" y="1395"/>
                    </a:lnTo>
                    <a:lnTo>
                      <a:pt x="144" y="1388"/>
                    </a:lnTo>
                    <a:lnTo>
                      <a:pt x="136" y="1381"/>
                    </a:lnTo>
                    <a:lnTo>
                      <a:pt x="127" y="1373"/>
                    </a:lnTo>
                    <a:lnTo>
                      <a:pt x="117" y="1365"/>
                    </a:lnTo>
                    <a:lnTo>
                      <a:pt x="108" y="1357"/>
                    </a:lnTo>
                    <a:lnTo>
                      <a:pt x="99" y="1350"/>
                    </a:lnTo>
                    <a:lnTo>
                      <a:pt x="82" y="1334"/>
                    </a:lnTo>
                    <a:lnTo>
                      <a:pt x="69" y="1317"/>
                    </a:lnTo>
                    <a:lnTo>
                      <a:pt x="57" y="1299"/>
                    </a:lnTo>
                    <a:lnTo>
                      <a:pt x="50" y="1281"/>
                    </a:lnTo>
                    <a:lnTo>
                      <a:pt x="41" y="1262"/>
                    </a:lnTo>
                    <a:lnTo>
                      <a:pt x="33" y="1244"/>
                    </a:lnTo>
                    <a:lnTo>
                      <a:pt x="23" y="1225"/>
                    </a:lnTo>
                    <a:lnTo>
                      <a:pt x="14" y="1210"/>
                    </a:lnTo>
                    <a:lnTo>
                      <a:pt x="5" y="1170"/>
                    </a:lnTo>
                    <a:lnTo>
                      <a:pt x="1" y="1132"/>
                    </a:lnTo>
                    <a:lnTo>
                      <a:pt x="0" y="1094"/>
                    </a:lnTo>
                    <a:lnTo>
                      <a:pt x="3" y="1057"/>
                    </a:lnTo>
                    <a:lnTo>
                      <a:pt x="7" y="1020"/>
                    </a:lnTo>
                    <a:lnTo>
                      <a:pt x="15" y="983"/>
                    </a:lnTo>
                    <a:lnTo>
                      <a:pt x="24" y="946"/>
                    </a:lnTo>
                    <a:lnTo>
                      <a:pt x="37" y="910"/>
                    </a:lnTo>
                    <a:lnTo>
                      <a:pt x="52" y="887"/>
                    </a:lnTo>
                    <a:lnTo>
                      <a:pt x="67" y="865"/>
                    </a:lnTo>
                    <a:lnTo>
                      <a:pt x="82" y="842"/>
                    </a:lnTo>
                    <a:lnTo>
                      <a:pt x="98" y="821"/>
                    </a:lnTo>
                    <a:lnTo>
                      <a:pt x="112" y="798"/>
                    </a:lnTo>
                    <a:lnTo>
                      <a:pt x="128" y="777"/>
                    </a:lnTo>
                    <a:lnTo>
                      <a:pt x="145" y="757"/>
                    </a:lnTo>
                    <a:lnTo>
                      <a:pt x="167" y="739"/>
                    </a:lnTo>
                    <a:lnTo>
                      <a:pt x="183" y="728"/>
                    </a:lnTo>
                    <a:lnTo>
                      <a:pt x="199" y="716"/>
                    </a:lnTo>
                    <a:lnTo>
                      <a:pt x="218" y="706"/>
                    </a:lnTo>
                    <a:lnTo>
                      <a:pt x="236" y="695"/>
                    </a:lnTo>
                    <a:lnTo>
                      <a:pt x="254" y="686"/>
                    </a:lnTo>
                    <a:lnTo>
                      <a:pt x="273" y="680"/>
                    </a:lnTo>
                    <a:lnTo>
                      <a:pt x="293" y="676"/>
                    </a:lnTo>
                    <a:lnTo>
                      <a:pt x="314" y="675"/>
                    </a:lnTo>
                    <a:lnTo>
                      <a:pt x="350" y="667"/>
                    </a:lnTo>
                    <a:lnTo>
                      <a:pt x="390" y="661"/>
                    </a:lnTo>
                    <a:lnTo>
                      <a:pt x="428" y="656"/>
                    </a:lnTo>
                    <a:lnTo>
                      <a:pt x="468" y="654"/>
                    </a:lnTo>
                    <a:lnTo>
                      <a:pt x="505" y="652"/>
                    </a:lnTo>
                    <a:lnTo>
                      <a:pt x="544" y="652"/>
                    </a:lnTo>
                    <a:lnTo>
                      <a:pt x="583" y="652"/>
                    </a:lnTo>
                    <a:lnTo>
                      <a:pt x="622" y="655"/>
                    </a:lnTo>
                    <a:lnTo>
                      <a:pt x="637" y="657"/>
                    </a:lnTo>
                    <a:lnTo>
                      <a:pt x="653" y="661"/>
                    </a:lnTo>
                    <a:lnTo>
                      <a:pt x="669" y="662"/>
                    </a:lnTo>
                    <a:lnTo>
                      <a:pt x="687" y="664"/>
                    </a:lnTo>
                    <a:lnTo>
                      <a:pt x="703" y="664"/>
                    </a:lnTo>
                    <a:lnTo>
                      <a:pt x="721" y="667"/>
                    </a:lnTo>
                    <a:lnTo>
                      <a:pt x="736" y="670"/>
                    </a:lnTo>
                    <a:lnTo>
                      <a:pt x="753" y="677"/>
                    </a:lnTo>
                    <a:lnTo>
                      <a:pt x="760" y="727"/>
                    </a:lnTo>
                    <a:lnTo>
                      <a:pt x="777" y="775"/>
                    </a:lnTo>
                    <a:lnTo>
                      <a:pt x="803" y="820"/>
                    </a:lnTo>
                    <a:lnTo>
                      <a:pt x="837" y="862"/>
                    </a:lnTo>
                    <a:lnTo>
                      <a:pt x="875" y="899"/>
                    </a:lnTo>
                    <a:lnTo>
                      <a:pt x="917" y="931"/>
                    </a:lnTo>
                    <a:lnTo>
                      <a:pt x="962" y="959"/>
                    </a:lnTo>
                    <a:lnTo>
                      <a:pt x="1007" y="983"/>
                    </a:lnTo>
                    <a:lnTo>
                      <a:pt x="1060" y="997"/>
                    </a:lnTo>
                    <a:lnTo>
                      <a:pt x="1118" y="1005"/>
                    </a:lnTo>
                    <a:lnTo>
                      <a:pt x="1174" y="1006"/>
                    </a:lnTo>
                    <a:lnTo>
                      <a:pt x="1232" y="1000"/>
                    </a:lnTo>
                    <a:lnTo>
                      <a:pt x="1287" y="985"/>
                    </a:lnTo>
                    <a:lnTo>
                      <a:pt x="1338" y="966"/>
                    </a:lnTo>
                    <a:lnTo>
                      <a:pt x="1387" y="936"/>
                    </a:lnTo>
                    <a:lnTo>
                      <a:pt x="1433" y="900"/>
                    </a:lnTo>
                    <a:lnTo>
                      <a:pt x="1453" y="869"/>
                    </a:lnTo>
                    <a:lnTo>
                      <a:pt x="1473" y="839"/>
                    </a:lnTo>
                    <a:lnTo>
                      <a:pt x="1487" y="805"/>
                    </a:lnTo>
                    <a:lnTo>
                      <a:pt x="1498" y="774"/>
                    </a:lnTo>
                    <a:lnTo>
                      <a:pt x="1506" y="738"/>
                    </a:lnTo>
                    <a:lnTo>
                      <a:pt x="1515" y="704"/>
                    </a:lnTo>
                    <a:lnTo>
                      <a:pt x="1524" y="667"/>
                    </a:lnTo>
                    <a:lnTo>
                      <a:pt x="1533" y="630"/>
                    </a:lnTo>
                    <a:lnTo>
                      <a:pt x="1539" y="627"/>
                    </a:lnTo>
                    <a:lnTo>
                      <a:pt x="1555" y="625"/>
                    </a:lnTo>
                    <a:lnTo>
                      <a:pt x="1578" y="623"/>
                    </a:lnTo>
                    <a:lnTo>
                      <a:pt x="1607" y="622"/>
                    </a:lnTo>
                    <a:lnTo>
                      <a:pt x="1635" y="618"/>
                    </a:lnTo>
                    <a:lnTo>
                      <a:pt x="1660" y="618"/>
                    </a:lnTo>
                    <a:lnTo>
                      <a:pt x="1678" y="617"/>
                    </a:lnTo>
                    <a:lnTo>
                      <a:pt x="1688" y="619"/>
                    </a:lnTo>
                    <a:lnTo>
                      <a:pt x="1693" y="624"/>
                    </a:lnTo>
                    <a:lnTo>
                      <a:pt x="1696" y="632"/>
                    </a:lnTo>
                    <a:lnTo>
                      <a:pt x="1695" y="642"/>
                    </a:lnTo>
                    <a:lnTo>
                      <a:pt x="1691" y="654"/>
                    </a:lnTo>
                    <a:lnTo>
                      <a:pt x="1685" y="664"/>
                    </a:lnTo>
                    <a:lnTo>
                      <a:pt x="1680" y="675"/>
                    </a:lnTo>
                    <a:lnTo>
                      <a:pt x="1675" y="685"/>
                    </a:lnTo>
                    <a:lnTo>
                      <a:pt x="1673" y="697"/>
                    </a:lnTo>
                    <a:lnTo>
                      <a:pt x="1663" y="729"/>
                    </a:lnTo>
                    <a:lnTo>
                      <a:pt x="1668" y="744"/>
                    </a:lnTo>
                    <a:lnTo>
                      <a:pt x="1683" y="744"/>
                    </a:lnTo>
                    <a:lnTo>
                      <a:pt x="1706" y="735"/>
                    </a:lnTo>
                    <a:lnTo>
                      <a:pt x="1730" y="716"/>
                    </a:lnTo>
                    <a:lnTo>
                      <a:pt x="1755" y="694"/>
                    </a:lnTo>
                    <a:lnTo>
                      <a:pt x="1776" y="672"/>
                    </a:lnTo>
                    <a:lnTo>
                      <a:pt x="1791" y="655"/>
                    </a:lnTo>
                    <a:lnTo>
                      <a:pt x="1809" y="645"/>
                    </a:lnTo>
                    <a:lnTo>
                      <a:pt x="1826" y="634"/>
                    </a:lnTo>
                    <a:lnTo>
                      <a:pt x="1840" y="620"/>
                    </a:lnTo>
                    <a:lnTo>
                      <a:pt x="1854" y="608"/>
                    </a:lnTo>
                    <a:lnTo>
                      <a:pt x="1864" y="593"/>
                    </a:lnTo>
                    <a:lnTo>
                      <a:pt x="1876" y="577"/>
                    </a:lnTo>
                    <a:lnTo>
                      <a:pt x="1887" y="560"/>
                    </a:lnTo>
                    <a:lnTo>
                      <a:pt x="1899" y="547"/>
                    </a:lnTo>
                    <a:lnTo>
                      <a:pt x="1903" y="536"/>
                    </a:lnTo>
                    <a:lnTo>
                      <a:pt x="1910" y="525"/>
                    </a:lnTo>
                    <a:lnTo>
                      <a:pt x="1916" y="510"/>
                    </a:lnTo>
                    <a:lnTo>
                      <a:pt x="1922" y="496"/>
                    </a:lnTo>
                    <a:lnTo>
                      <a:pt x="1924" y="482"/>
                    </a:lnTo>
                    <a:lnTo>
                      <a:pt x="1924" y="469"/>
                    </a:lnTo>
                    <a:lnTo>
                      <a:pt x="1921" y="457"/>
                    </a:lnTo>
                    <a:lnTo>
                      <a:pt x="1914" y="450"/>
                    </a:lnTo>
                    <a:lnTo>
                      <a:pt x="1906" y="442"/>
                    </a:lnTo>
                    <a:lnTo>
                      <a:pt x="1905" y="435"/>
                    </a:lnTo>
                    <a:lnTo>
                      <a:pt x="1906" y="425"/>
                    </a:lnTo>
                    <a:lnTo>
                      <a:pt x="1911" y="417"/>
                    </a:lnTo>
                    <a:lnTo>
                      <a:pt x="1917" y="406"/>
                    </a:lnTo>
                    <a:lnTo>
                      <a:pt x="1923" y="394"/>
                    </a:lnTo>
                    <a:lnTo>
                      <a:pt x="1928" y="383"/>
                    </a:lnTo>
                    <a:lnTo>
                      <a:pt x="1931" y="372"/>
                    </a:lnTo>
                    <a:lnTo>
                      <a:pt x="1930" y="358"/>
                    </a:lnTo>
                    <a:lnTo>
                      <a:pt x="1929" y="343"/>
                    </a:lnTo>
                    <a:lnTo>
                      <a:pt x="1926" y="324"/>
                    </a:lnTo>
                    <a:lnTo>
                      <a:pt x="1926" y="307"/>
                    </a:lnTo>
                    <a:lnTo>
                      <a:pt x="1926" y="287"/>
                    </a:lnTo>
                    <a:lnTo>
                      <a:pt x="1930" y="268"/>
                    </a:lnTo>
                    <a:lnTo>
                      <a:pt x="1936" y="253"/>
                    </a:lnTo>
                    <a:lnTo>
                      <a:pt x="1948" y="242"/>
                    </a:lnTo>
                    <a:lnTo>
                      <a:pt x="1967" y="229"/>
                    </a:lnTo>
                    <a:lnTo>
                      <a:pt x="1971" y="243"/>
                    </a:lnTo>
                    <a:lnTo>
                      <a:pt x="1963" y="277"/>
                    </a:lnTo>
                    <a:lnTo>
                      <a:pt x="1953" y="325"/>
                    </a:lnTo>
                    <a:lnTo>
                      <a:pt x="1940" y="380"/>
                    </a:lnTo>
                    <a:lnTo>
                      <a:pt x="1931" y="440"/>
                    </a:lnTo>
                    <a:lnTo>
                      <a:pt x="1932" y="496"/>
                    </a:lnTo>
                    <a:lnTo>
                      <a:pt x="1948" y="542"/>
                    </a:lnTo>
                    <a:lnTo>
                      <a:pt x="1962" y="554"/>
                    </a:lnTo>
                    <a:lnTo>
                      <a:pt x="1977" y="562"/>
                    </a:lnTo>
                    <a:lnTo>
                      <a:pt x="1992" y="567"/>
                    </a:lnTo>
                    <a:lnTo>
                      <a:pt x="2011" y="572"/>
                    </a:lnTo>
                    <a:lnTo>
                      <a:pt x="2027" y="573"/>
                    </a:lnTo>
                    <a:lnTo>
                      <a:pt x="2044" y="574"/>
                    </a:lnTo>
                    <a:lnTo>
                      <a:pt x="2064" y="574"/>
                    </a:lnTo>
                    <a:lnTo>
                      <a:pt x="2083" y="574"/>
                    </a:lnTo>
                    <a:lnTo>
                      <a:pt x="2094" y="570"/>
                    </a:lnTo>
                    <a:lnTo>
                      <a:pt x="2106" y="567"/>
                    </a:lnTo>
                    <a:lnTo>
                      <a:pt x="2119" y="565"/>
                    </a:lnTo>
                    <a:lnTo>
                      <a:pt x="2132" y="564"/>
                    </a:lnTo>
                    <a:lnTo>
                      <a:pt x="2143" y="560"/>
                    </a:lnTo>
                    <a:lnTo>
                      <a:pt x="2155" y="558"/>
                    </a:lnTo>
                    <a:lnTo>
                      <a:pt x="2166" y="554"/>
                    </a:lnTo>
                    <a:lnTo>
                      <a:pt x="2179" y="548"/>
                    </a:lnTo>
                    <a:lnTo>
                      <a:pt x="2185" y="540"/>
                    </a:lnTo>
                    <a:lnTo>
                      <a:pt x="2195" y="529"/>
                    </a:lnTo>
                    <a:lnTo>
                      <a:pt x="2206" y="513"/>
                    </a:lnTo>
                    <a:lnTo>
                      <a:pt x="2218" y="499"/>
                    </a:lnTo>
                    <a:lnTo>
                      <a:pt x="2228" y="482"/>
                    </a:lnTo>
                    <a:lnTo>
                      <a:pt x="2238" y="467"/>
                    </a:lnTo>
                    <a:lnTo>
                      <a:pt x="2245" y="453"/>
                    </a:lnTo>
                    <a:lnTo>
                      <a:pt x="2250" y="444"/>
                    </a:lnTo>
                    <a:lnTo>
                      <a:pt x="2250" y="437"/>
                    </a:lnTo>
                    <a:lnTo>
                      <a:pt x="2251" y="430"/>
                    </a:lnTo>
                    <a:lnTo>
                      <a:pt x="2251" y="423"/>
                    </a:lnTo>
                    <a:lnTo>
                      <a:pt x="2251" y="416"/>
                    </a:lnTo>
                    <a:lnTo>
                      <a:pt x="2248" y="408"/>
                    </a:lnTo>
                    <a:lnTo>
                      <a:pt x="2247" y="401"/>
                    </a:lnTo>
                    <a:lnTo>
                      <a:pt x="2245" y="393"/>
                    </a:lnTo>
                    <a:lnTo>
                      <a:pt x="2243" y="388"/>
                    </a:lnTo>
                    <a:lnTo>
                      <a:pt x="2233" y="368"/>
                    </a:lnTo>
                    <a:lnTo>
                      <a:pt x="2230" y="346"/>
                    </a:lnTo>
                    <a:lnTo>
                      <a:pt x="2228" y="320"/>
                    </a:lnTo>
                    <a:lnTo>
                      <a:pt x="2229" y="296"/>
                    </a:lnTo>
                    <a:lnTo>
                      <a:pt x="2230" y="270"/>
                    </a:lnTo>
                    <a:lnTo>
                      <a:pt x="2232" y="247"/>
                    </a:lnTo>
                    <a:lnTo>
                      <a:pt x="2236" y="222"/>
                    </a:lnTo>
                    <a:lnTo>
                      <a:pt x="2239" y="202"/>
                    </a:lnTo>
                    <a:lnTo>
                      <a:pt x="2241" y="187"/>
                    </a:lnTo>
                    <a:lnTo>
                      <a:pt x="2247" y="173"/>
                    </a:lnTo>
                    <a:lnTo>
                      <a:pt x="2254" y="159"/>
                    </a:lnTo>
                    <a:lnTo>
                      <a:pt x="2262" y="146"/>
                    </a:lnTo>
                    <a:lnTo>
                      <a:pt x="2269" y="133"/>
                    </a:lnTo>
                    <a:lnTo>
                      <a:pt x="2277" y="121"/>
                    </a:lnTo>
                    <a:lnTo>
                      <a:pt x="2284" y="108"/>
                    </a:lnTo>
                    <a:lnTo>
                      <a:pt x="2291" y="95"/>
                    </a:lnTo>
                    <a:lnTo>
                      <a:pt x="2327" y="0"/>
                    </a:lnTo>
                    <a:lnTo>
                      <a:pt x="2328" y="35"/>
                    </a:lnTo>
                    <a:lnTo>
                      <a:pt x="2331" y="73"/>
                    </a:lnTo>
                    <a:lnTo>
                      <a:pt x="2335" y="112"/>
                    </a:lnTo>
                    <a:lnTo>
                      <a:pt x="2338" y="148"/>
                    </a:lnTo>
                    <a:lnTo>
                      <a:pt x="2339" y="185"/>
                    </a:lnTo>
                    <a:lnTo>
                      <a:pt x="2339" y="225"/>
                    </a:lnTo>
                    <a:lnTo>
                      <a:pt x="2337" y="260"/>
                    </a:lnTo>
                    <a:lnTo>
                      <a:pt x="2334" y="30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6480" y="383580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207" h="140">
                    <a:moveTo>
                      <a:pt x="107" y="0"/>
                    </a:moveTo>
                    <a:lnTo>
                      <a:pt x="83" y="0"/>
                    </a:lnTo>
                    <a:lnTo>
                      <a:pt x="64" y="5"/>
                    </a:lnTo>
                    <a:lnTo>
                      <a:pt x="45" y="12"/>
                    </a:lnTo>
                    <a:lnTo>
                      <a:pt x="30" y="21"/>
                    </a:lnTo>
                    <a:lnTo>
                      <a:pt x="17" y="31"/>
                    </a:lnTo>
                    <a:lnTo>
                      <a:pt x="8" y="43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1" y="84"/>
                    </a:lnTo>
                    <a:lnTo>
                      <a:pt x="6" y="95"/>
                    </a:lnTo>
                    <a:lnTo>
                      <a:pt x="13" y="105"/>
                    </a:lnTo>
                    <a:lnTo>
                      <a:pt x="24" y="115"/>
                    </a:lnTo>
                    <a:lnTo>
                      <a:pt x="37" y="124"/>
                    </a:lnTo>
                    <a:lnTo>
                      <a:pt x="53" y="131"/>
                    </a:lnTo>
                    <a:lnTo>
                      <a:pt x="69" y="136"/>
                    </a:lnTo>
                    <a:lnTo>
                      <a:pt x="89" y="140"/>
                    </a:lnTo>
                    <a:lnTo>
                      <a:pt x="104" y="131"/>
                    </a:lnTo>
                    <a:lnTo>
                      <a:pt x="118" y="121"/>
                    </a:lnTo>
                    <a:lnTo>
                      <a:pt x="132" y="111"/>
                    </a:lnTo>
                    <a:lnTo>
                      <a:pt x="147" y="102"/>
                    </a:lnTo>
                    <a:lnTo>
                      <a:pt x="159" y="92"/>
                    </a:lnTo>
                    <a:lnTo>
                      <a:pt x="174" y="81"/>
                    </a:lnTo>
                    <a:lnTo>
                      <a:pt x="188" y="70"/>
                    </a:lnTo>
                    <a:lnTo>
                      <a:pt x="202" y="57"/>
                    </a:lnTo>
                    <a:lnTo>
                      <a:pt x="204" y="54"/>
                    </a:lnTo>
                    <a:lnTo>
                      <a:pt x="207" y="51"/>
                    </a:lnTo>
                    <a:lnTo>
                      <a:pt x="200" y="40"/>
                    </a:lnTo>
                    <a:lnTo>
                      <a:pt x="192" y="31"/>
                    </a:lnTo>
                    <a:lnTo>
                      <a:pt x="181" y="21"/>
                    </a:lnTo>
                    <a:lnTo>
                      <a:pt x="170" y="15"/>
                    </a:lnTo>
                    <a:lnTo>
                      <a:pt x="154" y="8"/>
                    </a:lnTo>
                    <a:lnTo>
                      <a:pt x="140" y="4"/>
                    </a:lnTo>
                    <a:lnTo>
                      <a:pt x="12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68080" y="3814920"/>
                <a:ext cx="47880" cy="41040"/>
              </a:xfrm>
              <a:custGeom>
                <a:avLst/>
                <a:gdLst/>
                <a:ahLst/>
                <a:rect l="l" t="t" r="r" b="b"/>
                <a:pathLst>
                  <a:path w="123" h="93">
                    <a:moveTo>
                      <a:pt x="0" y="90"/>
                    </a:moveTo>
                    <a:lnTo>
                      <a:pt x="5" y="71"/>
                    </a:lnTo>
                    <a:lnTo>
                      <a:pt x="16" y="53"/>
                    </a:lnTo>
                    <a:lnTo>
                      <a:pt x="27" y="35"/>
                    </a:lnTo>
                    <a:lnTo>
                      <a:pt x="42" y="22"/>
                    </a:lnTo>
                    <a:lnTo>
                      <a:pt x="60" y="11"/>
                    </a:lnTo>
                    <a:lnTo>
                      <a:pt x="78" y="4"/>
                    </a:lnTo>
                    <a:lnTo>
                      <a:pt x="98" y="0"/>
                    </a:lnTo>
                    <a:lnTo>
                      <a:pt x="123" y="5"/>
                    </a:lnTo>
                    <a:lnTo>
                      <a:pt x="120" y="15"/>
                    </a:lnTo>
                    <a:lnTo>
                      <a:pt x="117" y="26"/>
                    </a:lnTo>
                    <a:lnTo>
                      <a:pt x="114" y="36"/>
                    </a:lnTo>
                    <a:lnTo>
                      <a:pt x="110" y="48"/>
                    </a:lnTo>
                    <a:lnTo>
                      <a:pt x="104" y="59"/>
                    </a:lnTo>
                    <a:lnTo>
                      <a:pt x="99" y="71"/>
                    </a:lnTo>
                    <a:lnTo>
                      <a:pt x="92" y="81"/>
                    </a:lnTo>
                    <a:lnTo>
                      <a:pt x="85" y="93"/>
                    </a:lnTo>
                    <a:lnTo>
                      <a:pt x="75" y="90"/>
                    </a:lnTo>
                    <a:lnTo>
                      <a:pt x="64" y="90"/>
                    </a:lnTo>
                    <a:lnTo>
                      <a:pt x="54" y="90"/>
                    </a:lnTo>
                    <a:lnTo>
                      <a:pt x="42" y="91"/>
                    </a:lnTo>
                    <a:lnTo>
                      <a:pt x="31" y="91"/>
                    </a:lnTo>
                    <a:lnTo>
                      <a:pt x="20" y="91"/>
                    </a:lnTo>
                    <a:lnTo>
                      <a:pt x="1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65000" y="3693600"/>
                <a:ext cx="64080" cy="61920"/>
              </a:xfrm>
              <a:custGeom>
                <a:avLst/>
                <a:gdLst/>
                <a:ahLst/>
                <a:rect l="l" t="t" r="r" b="b"/>
                <a:pathLst>
                  <a:path w="165" h="139">
                    <a:moveTo>
                      <a:pt x="60" y="0"/>
                    </a:moveTo>
                    <a:lnTo>
                      <a:pt x="58" y="0"/>
                    </a:lnTo>
                    <a:lnTo>
                      <a:pt x="57" y="0"/>
                    </a:lnTo>
                    <a:lnTo>
                      <a:pt x="53" y="6"/>
                    </a:lnTo>
                    <a:lnTo>
                      <a:pt x="48" y="13"/>
                    </a:lnTo>
                    <a:lnTo>
                      <a:pt x="43" y="19"/>
                    </a:lnTo>
                    <a:lnTo>
                      <a:pt x="40" y="27"/>
                    </a:lnTo>
                    <a:lnTo>
                      <a:pt x="31" y="38"/>
                    </a:lnTo>
                    <a:lnTo>
                      <a:pt x="23" y="51"/>
                    </a:lnTo>
                    <a:lnTo>
                      <a:pt x="19" y="59"/>
                    </a:lnTo>
                    <a:lnTo>
                      <a:pt x="15" y="68"/>
                    </a:lnTo>
                    <a:lnTo>
                      <a:pt x="12" y="78"/>
                    </a:lnTo>
                    <a:lnTo>
                      <a:pt x="10" y="89"/>
                    </a:lnTo>
                    <a:lnTo>
                      <a:pt x="6" y="97"/>
                    </a:lnTo>
                    <a:lnTo>
                      <a:pt x="4" y="107"/>
                    </a:lnTo>
                    <a:lnTo>
                      <a:pt x="2" y="116"/>
                    </a:lnTo>
                    <a:lnTo>
                      <a:pt x="0" y="126"/>
                    </a:lnTo>
                    <a:lnTo>
                      <a:pt x="5" y="127"/>
                    </a:lnTo>
                    <a:lnTo>
                      <a:pt x="12" y="130"/>
                    </a:lnTo>
                    <a:lnTo>
                      <a:pt x="20" y="132"/>
                    </a:lnTo>
                    <a:lnTo>
                      <a:pt x="28" y="134"/>
                    </a:lnTo>
                    <a:lnTo>
                      <a:pt x="35" y="135"/>
                    </a:lnTo>
                    <a:lnTo>
                      <a:pt x="42" y="137"/>
                    </a:lnTo>
                    <a:lnTo>
                      <a:pt x="50" y="138"/>
                    </a:lnTo>
                    <a:lnTo>
                      <a:pt x="60" y="139"/>
                    </a:lnTo>
                    <a:lnTo>
                      <a:pt x="80" y="137"/>
                    </a:lnTo>
                    <a:lnTo>
                      <a:pt x="100" y="133"/>
                    </a:lnTo>
                    <a:lnTo>
                      <a:pt x="116" y="126"/>
                    </a:lnTo>
                    <a:lnTo>
                      <a:pt x="132" y="118"/>
                    </a:lnTo>
                    <a:lnTo>
                      <a:pt x="146" y="107"/>
                    </a:lnTo>
                    <a:lnTo>
                      <a:pt x="155" y="95"/>
                    </a:lnTo>
                    <a:lnTo>
                      <a:pt x="161" y="82"/>
                    </a:lnTo>
                    <a:lnTo>
                      <a:pt x="165" y="68"/>
                    </a:lnTo>
                    <a:lnTo>
                      <a:pt x="161" y="55"/>
                    </a:lnTo>
                    <a:lnTo>
                      <a:pt x="155" y="42"/>
                    </a:lnTo>
                    <a:lnTo>
                      <a:pt x="146" y="30"/>
                    </a:lnTo>
                    <a:lnTo>
                      <a:pt x="132" y="21"/>
                    </a:lnTo>
                    <a:lnTo>
                      <a:pt x="116" y="11"/>
                    </a:lnTo>
                    <a:lnTo>
                      <a:pt x="100" y="5"/>
                    </a:lnTo>
                    <a:lnTo>
                      <a:pt x="8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6520" y="3671280"/>
                <a:ext cx="39960" cy="410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60" y="2"/>
                    </a:moveTo>
                    <a:lnTo>
                      <a:pt x="70" y="0"/>
                    </a:lnTo>
                    <a:lnTo>
                      <a:pt x="80" y="0"/>
                    </a:lnTo>
                    <a:lnTo>
                      <a:pt x="91" y="1"/>
                    </a:lnTo>
                    <a:lnTo>
                      <a:pt x="102" y="4"/>
                    </a:lnTo>
                    <a:lnTo>
                      <a:pt x="100" y="15"/>
                    </a:lnTo>
                    <a:lnTo>
                      <a:pt x="98" y="25"/>
                    </a:lnTo>
                    <a:lnTo>
                      <a:pt x="94" y="35"/>
                    </a:lnTo>
                    <a:lnTo>
                      <a:pt x="91" y="47"/>
                    </a:lnTo>
                    <a:lnTo>
                      <a:pt x="85" y="57"/>
                    </a:lnTo>
                    <a:lnTo>
                      <a:pt x="79" y="68"/>
                    </a:lnTo>
                    <a:lnTo>
                      <a:pt x="72" y="79"/>
                    </a:lnTo>
                    <a:lnTo>
                      <a:pt x="65" y="91"/>
                    </a:lnTo>
                    <a:lnTo>
                      <a:pt x="56" y="90"/>
                    </a:lnTo>
                    <a:lnTo>
                      <a:pt x="47" y="90"/>
                    </a:lnTo>
                    <a:lnTo>
                      <a:pt x="39" y="90"/>
                    </a:lnTo>
                    <a:lnTo>
                      <a:pt x="32" y="90"/>
                    </a:lnTo>
                    <a:lnTo>
                      <a:pt x="23" y="90"/>
                    </a:lnTo>
                    <a:lnTo>
                      <a:pt x="15" y="90"/>
                    </a:lnTo>
                    <a:lnTo>
                      <a:pt x="6" y="90"/>
                    </a:lnTo>
                    <a:lnTo>
                      <a:pt x="0" y="91"/>
                    </a:lnTo>
                    <a:lnTo>
                      <a:pt x="6" y="79"/>
                    </a:lnTo>
                    <a:lnTo>
                      <a:pt x="15" y="68"/>
                    </a:lnTo>
                    <a:lnTo>
                      <a:pt x="21" y="56"/>
                    </a:lnTo>
                    <a:lnTo>
                      <a:pt x="30" y="46"/>
                    </a:lnTo>
                    <a:lnTo>
                      <a:pt x="36" y="34"/>
                    </a:lnTo>
                    <a:lnTo>
                      <a:pt x="43" y="24"/>
                    </a:lnTo>
                    <a:lnTo>
                      <a:pt x="51" y="14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5040" y="3959640"/>
                <a:ext cx="82440" cy="62640"/>
              </a:xfrm>
              <a:custGeom>
                <a:avLst/>
                <a:gdLst/>
                <a:ahLst/>
                <a:rect l="l" t="t" r="r" b="b"/>
                <a:pathLst>
                  <a:path w="213" h="140">
                    <a:moveTo>
                      <a:pt x="106" y="0"/>
                    </a:moveTo>
                    <a:lnTo>
                      <a:pt x="85" y="0"/>
                    </a:lnTo>
                    <a:lnTo>
                      <a:pt x="66" y="5"/>
                    </a:lnTo>
                    <a:lnTo>
                      <a:pt x="48" y="11"/>
                    </a:lnTo>
                    <a:lnTo>
                      <a:pt x="34" y="19"/>
                    </a:lnTo>
                    <a:lnTo>
                      <a:pt x="21" y="28"/>
                    </a:lnTo>
                    <a:lnTo>
                      <a:pt x="10" y="38"/>
                    </a:lnTo>
                    <a:lnTo>
                      <a:pt x="3" y="50"/>
                    </a:lnTo>
                    <a:lnTo>
                      <a:pt x="0" y="63"/>
                    </a:lnTo>
                    <a:lnTo>
                      <a:pt x="15" y="68"/>
                    </a:lnTo>
                    <a:lnTo>
                      <a:pt x="30" y="75"/>
                    </a:lnTo>
                    <a:lnTo>
                      <a:pt x="45" y="82"/>
                    </a:lnTo>
                    <a:lnTo>
                      <a:pt x="60" y="90"/>
                    </a:lnTo>
                    <a:lnTo>
                      <a:pt x="75" y="96"/>
                    </a:lnTo>
                    <a:lnTo>
                      <a:pt x="90" y="102"/>
                    </a:lnTo>
                    <a:lnTo>
                      <a:pt x="105" y="109"/>
                    </a:lnTo>
                    <a:lnTo>
                      <a:pt x="120" y="116"/>
                    </a:lnTo>
                    <a:lnTo>
                      <a:pt x="120" y="119"/>
                    </a:lnTo>
                    <a:lnTo>
                      <a:pt x="121" y="125"/>
                    </a:lnTo>
                    <a:lnTo>
                      <a:pt x="121" y="132"/>
                    </a:lnTo>
                    <a:lnTo>
                      <a:pt x="122" y="140"/>
                    </a:lnTo>
                    <a:lnTo>
                      <a:pt x="139" y="135"/>
                    </a:lnTo>
                    <a:lnTo>
                      <a:pt x="157" y="131"/>
                    </a:lnTo>
                    <a:lnTo>
                      <a:pt x="172" y="124"/>
                    </a:lnTo>
                    <a:lnTo>
                      <a:pt x="186" y="117"/>
                    </a:lnTo>
                    <a:lnTo>
                      <a:pt x="197" y="107"/>
                    </a:lnTo>
                    <a:lnTo>
                      <a:pt x="205" y="96"/>
                    </a:lnTo>
                    <a:lnTo>
                      <a:pt x="211" y="83"/>
                    </a:lnTo>
                    <a:lnTo>
                      <a:pt x="213" y="72"/>
                    </a:lnTo>
                    <a:lnTo>
                      <a:pt x="210" y="57"/>
                    </a:lnTo>
                    <a:lnTo>
                      <a:pt x="204" y="43"/>
                    </a:lnTo>
                    <a:lnTo>
                      <a:pt x="194" y="30"/>
                    </a:lnTo>
                    <a:lnTo>
                      <a:pt x="180" y="20"/>
                    </a:lnTo>
                    <a:lnTo>
                      <a:pt x="164" y="11"/>
                    </a:lnTo>
                    <a:lnTo>
                      <a:pt x="146" y="5"/>
                    </a:lnTo>
                    <a:lnTo>
                      <a:pt x="12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7360" y="3938040"/>
                <a:ext cx="47160" cy="42120"/>
              </a:xfrm>
              <a:custGeom>
                <a:avLst/>
                <a:gdLst/>
                <a:ahLst/>
                <a:rect l="l" t="t" r="r" b="b"/>
                <a:pathLst>
                  <a:path w="122" h="93">
                    <a:moveTo>
                      <a:pt x="0" y="89"/>
                    </a:moveTo>
                    <a:lnTo>
                      <a:pt x="5" y="69"/>
                    </a:lnTo>
                    <a:lnTo>
                      <a:pt x="17" y="53"/>
                    </a:lnTo>
                    <a:lnTo>
                      <a:pt x="28" y="36"/>
                    </a:lnTo>
                    <a:lnTo>
                      <a:pt x="43" y="23"/>
                    </a:lnTo>
                    <a:lnTo>
                      <a:pt x="58" y="9"/>
                    </a:lnTo>
                    <a:lnTo>
                      <a:pt x="78" y="2"/>
                    </a:lnTo>
                    <a:lnTo>
                      <a:pt x="99" y="0"/>
                    </a:lnTo>
                    <a:lnTo>
                      <a:pt x="122" y="5"/>
                    </a:lnTo>
                    <a:lnTo>
                      <a:pt x="118" y="16"/>
                    </a:lnTo>
                    <a:lnTo>
                      <a:pt x="116" y="26"/>
                    </a:lnTo>
                    <a:lnTo>
                      <a:pt x="113" y="37"/>
                    </a:lnTo>
                    <a:lnTo>
                      <a:pt x="109" y="48"/>
                    </a:lnTo>
                    <a:lnTo>
                      <a:pt x="103" y="59"/>
                    </a:lnTo>
                    <a:lnTo>
                      <a:pt x="98" y="70"/>
                    </a:lnTo>
                    <a:lnTo>
                      <a:pt x="91" y="82"/>
                    </a:lnTo>
                    <a:lnTo>
                      <a:pt x="84" y="93"/>
                    </a:lnTo>
                    <a:lnTo>
                      <a:pt x="72" y="91"/>
                    </a:lnTo>
                    <a:lnTo>
                      <a:pt x="62" y="91"/>
                    </a:lnTo>
                    <a:lnTo>
                      <a:pt x="51" y="91"/>
                    </a:lnTo>
                    <a:lnTo>
                      <a:pt x="41" y="91"/>
                    </a:lnTo>
                    <a:lnTo>
                      <a:pt x="31" y="90"/>
                    </a:lnTo>
                    <a:lnTo>
                      <a:pt x="20" y="90"/>
                    </a:lnTo>
                    <a:lnTo>
                      <a:pt x="9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14800" y="4055040"/>
                <a:ext cx="43920" cy="4824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9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3" y="12"/>
                    </a:lnTo>
                    <a:lnTo>
                      <a:pt x="24" y="25"/>
                    </a:lnTo>
                    <a:lnTo>
                      <a:pt x="36" y="38"/>
                    </a:lnTo>
                    <a:lnTo>
                      <a:pt x="49" y="52"/>
                    </a:lnTo>
                    <a:lnTo>
                      <a:pt x="59" y="65"/>
                    </a:lnTo>
                    <a:lnTo>
                      <a:pt x="73" y="79"/>
                    </a:lnTo>
                    <a:lnTo>
                      <a:pt x="84" y="93"/>
                    </a:lnTo>
                    <a:lnTo>
                      <a:pt x="98" y="107"/>
                    </a:lnTo>
                    <a:lnTo>
                      <a:pt x="104" y="98"/>
                    </a:lnTo>
                    <a:lnTo>
                      <a:pt x="110" y="89"/>
                    </a:lnTo>
                    <a:lnTo>
                      <a:pt x="113" y="78"/>
                    </a:lnTo>
                    <a:lnTo>
                      <a:pt x="116" y="68"/>
                    </a:lnTo>
                    <a:lnTo>
                      <a:pt x="112" y="53"/>
                    </a:lnTo>
                    <a:lnTo>
                      <a:pt x="106" y="40"/>
                    </a:lnTo>
                    <a:lnTo>
                      <a:pt x="96" y="29"/>
                    </a:lnTo>
                    <a:lnTo>
                      <a:pt x="83" y="19"/>
                    </a:lnTo>
                    <a:lnTo>
                      <a:pt x="67" y="10"/>
                    </a:lnTo>
                    <a:lnTo>
                      <a:pt x="49" y="4"/>
                    </a:lnTo>
                    <a:lnTo>
                      <a:pt x="2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0120" y="4033440"/>
                <a:ext cx="34560" cy="4104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36"/>
                    </a:moveTo>
                    <a:lnTo>
                      <a:pt x="7" y="26"/>
                    </a:lnTo>
                    <a:lnTo>
                      <a:pt x="15" y="19"/>
                    </a:lnTo>
                    <a:lnTo>
                      <a:pt x="25" y="12"/>
                    </a:lnTo>
                    <a:lnTo>
                      <a:pt x="35" y="7"/>
                    </a:lnTo>
                    <a:lnTo>
                      <a:pt x="45" y="3"/>
                    </a:lnTo>
                    <a:lnTo>
                      <a:pt x="56" y="0"/>
                    </a:lnTo>
                    <a:lnTo>
                      <a:pt x="68" y="0"/>
                    </a:lnTo>
                    <a:lnTo>
                      <a:pt x="83" y="1"/>
                    </a:lnTo>
                    <a:lnTo>
                      <a:pt x="86" y="7"/>
                    </a:lnTo>
                    <a:lnTo>
                      <a:pt x="91" y="14"/>
                    </a:lnTo>
                    <a:lnTo>
                      <a:pt x="89" y="22"/>
                    </a:lnTo>
                    <a:lnTo>
                      <a:pt x="86" y="31"/>
                    </a:lnTo>
                    <a:lnTo>
                      <a:pt x="83" y="41"/>
                    </a:lnTo>
                    <a:lnTo>
                      <a:pt x="79" y="52"/>
                    </a:lnTo>
                    <a:lnTo>
                      <a:pt x="72" y="61"/>
                    </a:lnTo>
                    <a:lnTo>
                      <a:pt x="68" y="72"/>
                    </a:lnTo>
                    <a:lnTo>
                      <a:pt x="61" y="81"/>
                    </a:lnTo>
                    <a:lnTo>
                      <a:pt x="55" y="91"/>
                    </a:lnTo>
                    <a:lnTo>
                      <a:pt x="52" y="90"/>
                    </a:lnTo>
                    <a:lnTo>
                      <a:pt x="49" y="89"/>
                    </a:lnTo>
                    <a:lnTo>
                      <a:pt x="42" y="82"/>
                    </a:lnTo>
                    <a:lnTo>
                      <a:pt x="37" y="75"/>
                    </a:lnTo>
                    <a:lnTo>
                      <a:pt x="30" y="68"/>
                    </a:lnTo>
                    <a:lnTo>
                      <a:pt x="24" y="63"/>
                    </a:lnTo>
                    <a:lnTo>
                      <a:pt x="16" y="56"/>
                    </a:lnTo>
                    <a:lnTo>
                      <a:pt x="10" y="50"/>
                    </a:lnTo>
                    <a:lnTo>
                      <a:pt x="4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9360" y="3814920"/>
                <a:ext cx="82080" cy="58320"/>
              </a:xfrm>
              <a:custGeom>
                <a:avLst/>
                <a:gdLst/>
                <a:ahLst/>
                <a:rect l="l" t="t" r="r" b="b"/>
                <a:pathLst>
                  <a:path w="214" h="131">
                    <a:moveTo>
                      <a:pt x="46" y="128"/>
                    </a:moveTo>
                    <a:lnTo>
                      <a:pt x="36" y="123"/>
                    </a:lnTo>
                    <a:lnTo>
                      <a:pt x="27" y="117"/>
                    </a:lnTo>
                    <a:lnTo>
                      <a:pt x="18" y="109"/>
                    </a:lnTo>
                    <a:lnTo>
                      <a:pt x="12" y="103"/>
                    </a:lnTo>
                    <a:lnTo>
                      <a:pt x="6" y="95"/>
                    </a:lnTo>
                    <a:lnTo>
                      <a:pt x="3" y="87"/>
                    </a:lnTo>
                    <a:lnTo>
                      <a:pt x="0" y="79"/>
                    </a:lnTo>
                    <a:lnTo>
                      <a:pt x="0" y="71"/>
                    </a:lnTo>
                    <a:lnTo>
                      <a:pt x="1" y="56"/>
                    </a:lnTo>
                    <a:lnTo>
                      <a:pt x="8" y="42"/>
                    </a:lnTo>
                    <a:lnTo>
                      <a:pt x="18" y="29"/>
                    </a:lnTo>
                    <a:lnTo>
                      <a:pt x="31" y="20"/>
                    </a:lnTo>
                    <a:lnTo>
                      <a:pt x="46" y="11"/>
                    </a:lnTo>
                    <a:lnTo>
                      <a:pt x="65" y="5"/>
                    </a:lnTo>
                    <a:lnTo>
                      <a:pt x="84" y="0"/>
                    </a:lnTo>
                    <a:lnTo>
                      <a:pt x="106" y="0"/>
                    </a:lnTo>
                    <a:lnTo>
                      <a:pt x="126" y="0"/>
                    </a:lnTo>
                    <a:lnTo>
                      <a:pt x="147" y="5"/>
                    </a:lnTo>
                    <a:lnTo>
                      <a:pt x="164" y="11"/>
                    </a:lnTo>
                    <a:lnTo>
                      <a:pt x="180" y="20"/>
                    </a:lnTo>
                    <a:lnTo>
                      <a:pt x="193" y="29"/>
                    </a:lnTo>
                    <a:lnTo>
                      <a:pt x="204" y="42"/>
                    </a:lnTo>
                    <a:lnTo>
                      <a:pt x="210" y="56"/>
                    </a:lnTo>
                    <a:lnTo>
                      <a:pt x="214" y="71"/>
                    </a:lnTo>
                    <a:lnTo>
                      <a:pt x="211" y="79"/>
                    </a:lnTo>
                    <a:lnTo>
                      <a:pt x="209" y="87"/>
                    </a:lnTo>
                    <a:lnTo>
                      <a:pt x="204" y="95"/>
                    </a:lnTo>
                    <a:lnTo>
                      <a:pt x="199" y="104"/>
                    </a:lnTo>
                    <a:lnTo>
                      <a:pt x="189" y="112"/>
                    </a:lnTo>
                    <a:lnTo>
                      <a:pt x="180" y="119"/>
                    </a:lnTo>
                    <a:lnTo>
                      <a:pt x="170" y="125"/>
                    </a:lnTo>
                    <a:lnTo>
                      <a:pt x="159" y="131"/>
                    </a:lnTo>
                    <a:lnTo>
                      <a:pt x="146" y="129"/>
                    </a:lnTo>
                    <a:lnTo>
                      <a:pt x="131" y="129"/>
                    </a:lnTo>
                    <a:lnTo>
                      <a:pt x="117" y="129"/>
                    </a:lnTo>
                    <a:lnTo>
                      <a:pt x="104" y="129"/>
                    </a:lnTo>
                    <a:lnTo>
                      <a:pt x="89" y="128"/>
                    </a:lnTo>
                    <a:lnTo>
                      <a:pt x="74" y="128"/>
                    </a:lnTo>
                    <a:lnTo>
                      <a:pt x="60" y="128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1320" y="3858120"/>
                <a:ext cx="39960" cy="1512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0" y="2"/>
                    </a:moveTo>
                    <a:lnTo>
                      <a:pt x="1" y="8"/>
                    </a:lnTo>
                    <a:lnTo>
                      <a:pt x="5" y="17"/>
                    </a:lnTo>
                    <a:lnTo>
                      <a:pt x="7" y="24"/>
                    </a:lnTo>
                    <a:lnTo>
                      <a:pt x="13" y="31"/>
                    </a:lnTo>
                    <a:lnTo>
                      <a:pt x="24" y="31"/>
                    </a:lnTo>
                    <a:lnTo>
                      <a:pt x="36" y="31"/>
                    </a:lnTo>
                    <a:lnTo>
                      <a:pt x="47" y="31"/>
                    </a:lnTo>
                    <a:lnTo>
                      <a:pt x="59" y="32"/>
                    </a:lnTo>
                    <a:lnTo>
                      <a:pt x="69" y="32"/>
                    </a:lnTo>
                    <a:lnTo>
                      <a:pt x="82" y="32"/>
                    </a:lnTo>
                    <a:lnTo>
                      <a:pt x="92" y="32"/>
                    </a:lnTo>
                    <a:lnTo>
                      <a:pt x="104" y="34"/>
                    </a:lnTo>
                    <a:lnTo>
                      <a:pt x="99" y="24"/>
                    </a:lnTo>
                    <a:lnTo>
                      <a:pt x="96" y="17"/>
                    </a:lnTo>
                    <a:lnTo>
                      <a:pt x="90" y="7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54360" y="4062240"/>
                <a:ext cx="144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48960" y="4109760"/>
                <a:ext cx="61920" cy="4716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15" y="0"/>
                    </a:moveTo>
                    <a:lnTo>
                      <a:pt x="7" y="8"/>
                    </a:lnTo>
                    <a:lnTo>
                      <a:pt x="3" y="17"/>
                    </a:lnTo>
                    <a:lnTo>
                      <a:pt x="0" y="26"/>
                    </a:lnTo>
                    <a:lnTo>
                      <a:pt x="0" y="37"/>
                    </a:lnTo>
                    <a:lnTo>
                      <a:pt x="1" y="50"/>
                    </a:lnTo>
                    <a:lnTo>
                      <a:pt x="8" y="63"/>
                    </a:lnTo>
                    <a:lnTo>
                      <a:pt x="17" y="75"/>
                    </a:lnTo>
                    <a:lnTo>
                      <a:pt x="31" y="85"/>
                    </a:lnTo>
                    <a:lnTo>
                      <a:pt x="45" y="93"/>
                    </a:lnTo>
                    <a:lnTo>
                      <a:pt x="63" y="100"/>
                    </a:lnTo>
                    <a:lnTo>
                      <a:pt x="84" y="104"/>
                    </a:lnTo>
                    <a:lnTo>
                      <a:pt x="107" y="106"/>
                    </a:lnTo>
                    <a:lnTo>
                      <a:pt x="114" y="105"/>
                    </a:lnTo>
                    <a:lnTo>
                      <a:pt x="121" y="105"/>
                    </a:lnTo>
                    <a:lnTo>
                      <a:pt x="128" y="104"/>
                    </a:lnTo>
                    <a:lnTo>
                      <a:pt x="135" y="104"/>
                    </a:lnTo>
                    <a:lnTo>
                      <a:pt x="148" y="100"/>
                    </a:lnTo>
                    <a:lnTo>
                      <a:pt x="160" y="97"/>
                    </a:lnTo>
                    <a:lnTo>
                      <a:pt x="142" y="84"/>
                    </a:lnTo>
                    <a:lnTo>
                      <a:pt x="123" y="73"/>
                    </a:lnTo>
                    <a:lnTo>
                      <a:pt x="105" y="60"/>
                    </a:lnTo>
                    <a:lnTo>
                      <a:pt x="88" y="47"/>
                    </a:lnTo>
                    <a:lnTo>
                      <a:pt x="68" y="34"/>
                    </a:lnTo>
                    <a:lnTo>
                      <a:pt x="51" y="23"/>
                    </a:lnTo>
                    <a:lnTo>
                      <a:pt x="33" y="1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44280" y="4070160"/>
                <a:ext cx="20160" cy="29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7"/>
                    </a:moveTo>
                    <a:lnTo>
                      <a:pt x="41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4" y="27"/>
                    </a:lnTo>
                    <a:lnTo>
                      <a:pt x="6" y="35"/>
                    </a:lnTo>
                    <a:lnTo>
                      <a:pt x="8" y="42"/>
                    </a:lnTo>
                    <a:lnTo>
                      <a:pt x="12" y="50"/>
                    </a:lnTo>
                    <a:lnTo>
                      <a:pt x="15" y="58"/>
                    </a:lnTo>
                    <a:lnTo>
                      <a:pt x="20" y="66"/>
                    </a:lnTo>
                    <a:lnTo>
                      <a:pt x="23" y="58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39" y="29"/>
                    </a:lnTo>
                    <a:lnTo>
                      <a:pt x="44" y="22"/>
                    </a:lnTo>
                    <a:lnTo>
                      <a:pt x="49" y="14"/>
                    </a:lnTo>
                    <a:lnTo>
                      <a:pt x="53" y="7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33760" y="3903840"/>
                <a:ext cx="72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62840" y="3829320"/>
                <a:ext cx="66240" cy="62640"/>
              </a:xfrm>
              <a:custGeom>
                <a:avLst/>
                <a:gdLst/>
                <a:ahLst/>
                <a:rect l="l" t="t" r="r" b="b"/>
                <a:pathLst>
                  <a:path w="171" h="140">
                    <a:moveTo>
                      <a:pt x="63" y="140"/>
                    </a:moveTo>
                    <a:lnTo>
                      <a:pt x="56" y="140"/>
                    </a:lnTo>
                    <a:lnTo>
                      <a:pt x="53" y="140"/>
                    </a:lnTo>
                    <a:lnTo>
                      <a:pt x="46" y="126"/>
                    </a:lnTo>
                    <a:lnTo>
                      <a:pt x="40" y="116"/>
                    </a:lnTo>
                    <a:lnTo>
                      <a:pt x="34" y="103"/>
                    </a:lnTo>
                    <a:lnTo>
                      <a:pt x="30" y="93"/>
                    </a:lnTo>
                    <a:lnTo>
                      <a:pt x="23" y="81"/>
                    </a:lnTo>
                    <a:lnTo>
                      <a:pt x="17" y="70"/>
                    </a:lnTo>
                    <a:lnTo>
                      <a:pt x="11" y="60"/>
                    </a:lnTo>
                    <a:lnTo>
                      <a:pt x="6" y="49"/>
                    </a:lnTo>
                    <a:lnTo>
                      <a:pt x="3" y="39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6" y="11"/>
                    </a:lnTo>
                    <a:lnTo>
                      <a:pt x="12" y="8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83" y="0"/>
                    </a:lnTo>
                    <a:lnTo>
                      <a:pt x="104" y="4"/>
                    </a:lnTo>
                    <a:lnTo>
                      <a:pt x="121" y="10"/>
                    </a:lnTo>
                    <a:lnTo>
                      <a:pt x="137" y="20"/>
                    </a:lnTo>
                    <a:lnTo>
                      <a:pt x="151" y="30"/>
                    </a:lnTo>
                    <a:lnTo>
                      <a:pt x="161" y="42"/>
                    </a:lnTo>
                    <a:lnTo>
                      <a:pt x="167" y="56"/>
                    </a:lnTo>
                    <a:lnTo>
                      <a:pt x="171" y="71"/>
                    </a:lnTo>
                    <a:lnTo>
                      <a:pt x="167" y="85"/>
                    </a:lnTo>
                    <a:lnTo>
                      <a:pt x="161" y="98"/>
                    </a:lnTo>
                    <a:lnTo>
                      <a:pt x="151" y="108"/>
                    </a:lnTo>
                    <a:lnTo>
                      <a:pt x="137" y="120"/>
                    </a:lnTo>
                    <a:lnTo>
                      <a:pt x="121" y="126"/>
                    </a:lnTo>
                    <a:lnTo>
                      <a:pt x="104" y="133"/>
                    </a:lnTo>
                    <a:lnTo>
                      <a:pt x="83" y="138"/>
                    </a:lnTo>
                    <a:lnTo>
                      <a:pt x="63" y="14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76520" y="387612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2"/>
                    </a:moveTo>
                    <a:lnTo>
                      <a:pt x="27" y="9"/>
                    </a:lnTo>
                    <a:lnTo>
                      <a:pt x="24" y="17"/>
                    </a:lnTo>
                    <a:lnTo>
                      <a:pt x="19" y="24"/>
                    </a:lnTo>
                    <a:lnTo>
                      <a:pt x="15" y="33"/>
                    </a:lnTo>
                    <a:lnTo>
                      <a:pt x="10" y="24"/>
                    </a:lnTo>
                    <a:lnTo>
                      <a:pt x="6" y="16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71320" y="337428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18760" y="3391560"/>
                <a:ext cx="53280" cy="226440"/>
              </a:xfrm>
              <a:custGeom>
                <a:avLst/>
                <a:gdLst/>
                <a:ahLst/>
                <a:rect l="l" t="t" r="r" b="b"/>
                <a:pathLst>
                  <a:path w="137" h="505">
                    <a:moveTo>
                      <a:pt x="106" y="303"/>
                    </a:moveTo>
                    <a:lnTo>
                      <a:pt x="104" y="311"/>
                    </a:lnTo>
                    <a:lnTo>
                      <a:pt x="99" y="333"/>
                    </a:lnTo>
                    <a:lnTo>
                      <a:pt x="91" y="358"/>
                    </a:lnTo>
                    <a:lnTo>
                      <a:pt x="84" y="390"/>
                    </a:lnTo>
                    <a:lnTo>
                      <a:pt x="75" y="421"/>
                    </a:lnTo>
                    <a:lnTo>
                      <a:pt x="67" y="447"/>
                    </a:lnTo>
                    <a:lnTo>
                      <a:pt x="59" y="468"/>
                    </a:lnTo>
                    <a:lnTo>
                      <a:pt x="55" y="478"/>
                    </a:lnTo>
                    <a:lnTo>
                      <a:pt x="47" y="482"/>
                    </a:lnTo>
                    <a:lnTo>
                      <a:pt x="41" y="487"/>
                    </a:lnTo>
                    <a:lnTo>
                      <a:pt x="34" y="490"/>
                    </a:lnTo>
                    <a:lnTo>
                      <a:pt x="29" y="493"/>
                    </a:lnTo>
                    <a:lnTo>
                      <a:pt x="21" y="496"/>
                    </a:lnTo>
                    <a:lnTo>
                      <a:pt x="14" y="499"/>
                    </a:lnTo>
                    <a:lnTo>
                      <a:pt x="7" y="502"/>
                    </a:lnTo>
                    <a:lnTo>
                      <a:pt x="0" y="505"/>
                    </a:lnTo>
                    <a:lnTo>
                      <a:pt x="7" y="490"/>
                    </a:lnTo>
                    <a:lnTo>
                      <a:pt x="10" y="475"/>
                    </a:lnTo>
                    <a:lnTo>
                      <a:pt x="11" y="459"/>
                    </a:lnTo>
                    <a:lnTo>
                      <a:pt x="11" y="442"/>
                    </a:lnTo>
                    <a:lnTo>
                      <a:pt x="9" y="424"/>
                    </a:lnTo>
                    <a:lnTo>
                      <a:pt x="9" y="408"/>
                    </a:lnTo>
                    <a:lnTo>
                      <a:pt x="11" y="391"/>
                    </a:lnTo>
                    <a:lnTo>
                      <a:pt x="19" y="377"/>
                    </a:lnTo>
                    <a:lnTo>
                      <a:pt x="23" y="365"/>
                    </a:lnTo>
                    <a:lnTo>
                      <a:pt x="30" y="355"/>
                    </a:lnTo>
                    <a:lnTo>
                      <a:pt x="37" y="345"/>
                    </a:lnTo>
                    <a:lnTo>
                      <a:pt x="45" y="334"/>
                    </a:lnTo>
                    <a:lnTo>
                      <a:pt x="49" y="322"/>
                    </a:lnTo>
                    <a:lnTo>
                      <a:pt x="53" y="311"/>
                    </a:lnTo>
                    <a:lnTo>
                      <a:pt x="55" y="300"/>
                    </a:lnTo>
                    <a:lnTo>
                      <a:pt x="52" y="288"/>
                    </a:lnTo>
                    <a:lnTo>
                      <a:pt x="38" y="258"/>
                    </a:lnTo>
                    <a:lnTo>
                      <a:pt x="38" y="235"/>
                    </a:lnTo>
                    <a:lnTo>
                      <a:pt x="46" y="214"/>
                    </a:lnTo>
                    <a:lnTo>
                      <a:pt x="61" y="196"/>
                    </a:lnTo>
                    <a:lnTo>
                      <a:pt x="74" y="178"/>
                    </a:lnTo>
                    <a:lnTo>
                      <a:pt x="86" y="161"/>
                    </a:lnTo>
                    <a:lnTo>
                      <a:pt x="92" y="141"/>
                    </a:lnTo>
                    <a:lnTo>
                      <a:pt x="90" y="120"/>
                    </a:lnTo>
                    <a:lnTo>
                      <a:pt x="81" y="103"/>
                    </a:lnTo>
                    <a:lnTo>
                      <a:pt x="77" y="86"/>
                    </a:lnTo>
                    <a:lnTo>
                      <a:pt x="77" y="70"/>
                    </a:lnTo>
                    <a:lnTo>
                      <a:pt x="82" y="55"/>
                    </a:lnTo>
                    <a:lnTo>
                      <a:pt x="87" y="39"/>
                    </a:lnTo>
                    <a:lnTo>
                      <a:pt x="97" y="24"/>
                    </a:lnTo>
                    <a:lnTo>
                      <a:pt x="106" y="10"/>
                    </a:lnTo>
                    <a:lnTo>
                      <a:pt x="120" y="0"/>
                    </a:lnTo>
                    <a:lnTo>
                      <a:pt x="114" y="15"/>
                    </a:lnTo>
                    <a:lnTo>
                      <a:pt x="114" y="30"/>
                    </a:lnTo>
                    <a:lnTo>
                      <a:pt x="119" y="45"/>
                    </a:lnTo>
                    <a:lnTo>
                      <a:pt x="126" y="60"/>
                    </a:lnTo>
                    <a:lnTo>
                      <a:pt x="130" y="73"/>
                    </a:lnTo>
                    <a:lnTo>
                      <a:pt x="136" y="90"/>
                    </a:lnTo>
                    <a:lnTo>
                      <a:pt x="137" y="106"/>
                    </a:lnTo>
                    <a:lnTo>
                      <a:pt x="135" y="124"/>
                    </a:lnTo>
                    <a:lnTo>
                      <a:pt x="123" y="143"/>
                    </a:lnTo>
                    <a:lnTo>
                      <a:pt x="111" y="165"/>
                    </a:lnTo>
                    <a:lnTo>
                      <a:pt x="100" y="186"/>
                    </a:lnTo>
                    <a:lnTo>
                      <a:pt x="92" y="210"/>
                    </a:lnTo>
                    <a:lnTo>
                      <a:pt x="86" y="234"/>
                    </a:lnTo>
                    <a:lnTo>
                      <a:pt x="87" y="257"/>
                    </a:lnTo>
                    <a:lnTo>
                      <a:pt x="92" y="280"/>
                    </a:lnTo>
                    <a:lnTo>
                      <a:pt x="106" y="303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64560" y="3478680"/>
                <a:ext cx="27000" cy="4032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4" y="30"/>
                    </a:moveTo>
                    <a:lnTo>
                      <a:pt x="62" y="35"/>
                    </a:lnTo>
                    <a:lnTo>
                      <a:pt x="65" y="40"/>
                    </a:lnTo>
                    <a:lnTo>
                      <a:pt x="65" y="43"/>
                    </a:lnTo>
                    <a:lnTo>
                      <a:pt x="64" y="47"/>
                    </a:lnTo>
                    <a:lnTo>
                      <a:pt x="66" y="51"/>
                    </a:lnTo>
                    <a:lnTo>
                      <a:pt x="68" y="57"/>
                    </a:lnTo>
                    <a:lnTo>
                      <a:pt x="69" y="63"/>
                    </a:lnTo>
                    <a:lnTo>
                      <a:pt x="68" y="72"/>
                    </a:lnTo>
                    <a:lnTo>
                      <a:pt x="60" y="76"/>
                    </a:lnTo>
                    <a:lnTo>
                      <a:pt x="52" y="81"/>
                    </a:lnTo>
                    <a:lnTo>
                      <a:pt x="44" y="85"/>
                    </a:lnTo>
                    <a:lnTo>
                      <a:pt x="37" y="88"/>
                    </a:lnTo>
                    <a:lnTo>
                      <a:pt x="28" y="88"/>
                    </a:lnTo>
                    <a:lnTo>
                      <a:pt x="20" y="88"/>
                    </a:lnTo>
                    <a:lnTo>
                      <a:pt x="13" y="85"/>
                    </a:lnTo>
                    <a:lnTo>
                      <a:pt x="6" y="80"/>
                    </a:lnTo>
                    <a:lnTo>
                      <a:pt x="4" y="72"/>
                    </a:lnTo>
                    <a:lnTo>
                      <a:pt x="2" y="65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7" y="15"/>
                    </a:lnTo>
                    <a:lnTo>
                      <a:pt x="14" y="8"/>
                    </a:lnTo>
                    <a:lnTo>
                      <a:pt x="21" y="2"/>
                    </a:lnTo>
                    <a:lnTo>
                      <a:pt x="30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8" y="16"/>
                    </a:lnTo>
                    <a:lnTo>
                      <a:pt x="64" y="3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97080" y="3516480"/>
                <a:ext cx="53280" cy="60120"/>
              </a:xfrm>
              <a:custGeom>
                <a:avLst/>
                <a:gdLst/>
                <a:ahLst/>
                <a:rect l="l" t="t" r="r" b="b"/>
                <a:pathLst>
                  <a:path w="137" h="135">
                    <a:moveTo>
                      <a:pt x="134" y="44"/>
                    </a:moveTo>
                    <a:lnTo>
                      <a:pt x="122" y="55"/>
                    </a:lnTo>
                    <a:lnTo>
                      <a:pt x="111" y="64"/>
                    </a:lnTo>
                    <a:lnTo>
                      <a:pt x="97" y="72"/>
                    </a:lnTo>
                    <a:lnTo>
                      <a:pt x="84" y="82"/>
                    </a:lnTo>
                    <a:lnTo>
                      <a:pt x="69" y="89"/>
                    </a:lnTo>
                    <a:lnTo>
                      <a:pt x="58" y="99"/>
                    </a:lnTo>
                    <a:lnTo>
                      <a:pt x="47" y="109"/>
                    </a:lnTo>
                    <a:lnTo>
                      <a:pt x="43" y="125"/>
                    </a:lnTo>
                    <a:lnTo>
                      <a:pt x="36" y="125"/>
                    </a:lnTo>
                    <a:lnTo>
                      <a:pt x="30" y="127"/>
                    </a:lnTo>
                    <a:lnTo>
                      <a:pt x="24" y="128"/>
                    </a:lnTo>
                    <a:lnTo>
                      <a:pt x="21" y="130"/>
                    </a:lnTo>
                    <a:lnTo>
                      <a:pt x="9" y="132"/>
                    </a:lnTo>
                    <a:lnTo>
                      <a:pt x="0" y="135"/>
                    </a:lnTo>
                    <a:lnTo>
                      <a:pt x="1" y="117"/>
                    </a:lnTo>
                    <a:lnTo>
                      <a:pt x="5" y="99"/>
                    </a:lnTo>
                    <a:lnTo>
                      <a:pt x="12" y="82"/>
                    </a:lnTo>
                    <a:lnTo>
                      <a:pt x="20" y="67"/>
                    </a:lnTo>
                    <a:lnTo>
                      <a:pt x="29" y="48"/>
                    </a:lnTo>
                    <a:lnTo>
                      <a:pt x="41" y="34"/>
                    </a:lnTo>
                    <a:lnTo>
                      <a:pt x="54" y="20"/>
                    </a:lnTo>
                    <a:lnTo>
                      <a:pt x="71" y="10"/>
                    </a:lnTo>
                    <a:lnTo>
                      <a:pt x="83" y="3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1" y="4"/>
                    </a:lnTo>
                    <a:lnTo>
                      <a:pt x="131" y="10"/>
                    </a:lnTo>
                    <a:lnTo>
                      <a:pt x="137" y="19"/>
                    </a:lnTo>
                    <a:lnTo>
                      <a:pt x="137" y="30"/>
                    </a:lnTo>
                    <a:lnTo>
                      <a:pt x="134" y="44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76360" y="3551400"/>
                <a:ext cx="253440" cy="121320"/>
              </a:xfrm>
              <a:custGeom>
                <a:avLst/>
                <a:gdLst/>
                <a:ahLst/>
                <a:rect l="l" t="t" r="r" b="b"/>
                <a:pathLst>
                  <a:path w="655" h="270">
                    <a:moveTo>
                      <a:pt x="583" y="154"/>
                    </a:moveTo>
                    <a:lnTo>
                      <a:pt x="591" y="152"/>
                    </a:lnTo>
                    <a:lnTo>
                      <a:pt x="601" y="152"/>
                    </a:lnTo>
                    <a:lnTo>
                      <a:pt x="610" y="150"/>
                    </a:lnTo>
                    <a:lnTo>
                      <a:pt x="619" y="149"/>
                    </a:lnTo>
                    <a:lnTo>
                      <a:pt x="628" y="148"/>
                    </a:lnTo>
                    <a:lnTo>
                      <a:pt x="638" y="148"/>
                    </a:lnTo>
                    <a:lnTo>
                      <a:pt x="646" y="149"/>
                    </a:lnTo>
                    <a:lnTo>
                      <a:pt x="655" y="154"/>
                    </a:lnTo>
                    <a:lnTo>
                      <a:pt x="643" y="158"/>
                    </a:lnTo>
                    <a:lnTo>
                      <a:pt x="634" y="166"/>
                    </a:lnTo>
                    <a:lnTo>
                      <a:pt x="624" y="173"/>
                    </a:lnTo>
                    <a:lnTo>
                      <a:pt x="616" y="182"/>
                    </a:lnTo>
                    <a:lnTo>
                      <a:pt x="605" y="188"/>
                    </a:lnTo>
                    <a:lnTo>
                      <a:pt x="596" y="195"/>
                    </a:lnTo>
                    <a:lnTo>
                      <a:pt x="584" y="197"/>
                    </a:lnTo>
                    <a:lnTo>
                      <a:pt x="573" y="199"/>
                    </a:lnTo>
                    <a:lnTo>
                      <a:pt x="538" y="189"/>
                    </a:lnTo>
                    <a:lnTo>
                      <a:pt x="504" y="180"/>
                    </a:lnTo>
                    <a:lnTo>
                      <a:pt x="469" y="170"/>
                    </a:lnTo>
                    <a:lnTo>
                      <a:pt x="434" y="162"/>
                    </a:lnTo>
                    <a:lnTo>
                      <a:pt x="400" y="155"/>
                    </a:lnTo>
                    <a:lnTo>
                      <a:pt x="365" y="157"/>
                    </a:lnTo>
                    <a:lnTo>
                      <a:pt x="332" y="164"/>
                    </a:lnTo>
                    <a:lnTo>
                      <a:pt x="299" y="182"/>
                    </a:lnTo>
                    <a:lnTo>
                      <a:pt x="280" y="193"/>
                    </a:lnTo>
                    <a:lnTo>
                      <a:pt x="253" y="209"/>
                    </a:lnTo>
                    <a:lnTo>
                      <a:pt x="220" y="227"/>
                    </a:lnTo>
                    <a:lnTo>
                      <a:pt x="184" y="245"/>
                    </a:lnTo>
                    <a:lnTo>
                      <a:pt x="146" y="259"/>
                    </a:lnTo>
                    <a:lnTo>
                      <a:pt x="113" y="269"/>
                    </a:lnTo>
                    <a:lnTo>
                      <a:pt x="83" y="270"/>
                    </a:lnTo>
                    <a:lnTo>
                      <a:pt x="62" y="262"/>
                    </a:lnTo>
                    <a:lnTo>
                      <a:pt x="0" y="204"/>
                    </a:lnTo>
                    <a:lnTo>
                      <a:pt x="2" y="192"/>
                    </a:lnTo>
                    <a:lnTo>
                      <a:pt x="5" y="179"/>
                    </a:lnTo>
                    <a:lnTo>
                      <a:pt x="9" y="166"/>
                    </a:lnTo>
                    <a:lnTo>
                      <a:pt x="12" y="154"/>
                    </a:lnTo>
                    <a:lnTo>
                      <a:pt x="15" y="140"/>
                    </a:lnTo>
                    <a:lnTo>
                      <a:pt x="19" y="128"/>
                    </a:lnTo>
                    <a:lnTo>
                      <a:pt x="24" y="116"/>
                    </a:lnTo>
                    <a:lnTo>
                      <a:pt x="32" y="105"/>
                    </a:lnTo>
                    <a:lnTo>
                      <a:pt x="48" y="80"/>
                    </a:lnTo>
                    <a:lnTo>
                      <a:pt x="69" y="58"/>
                    </a:lnTo>
                    <a:lnTo>
                      <a:pt x="93" y="38"/>
                    </a:lnTo>
                    <a:lnTo>
                      <a:pt x="121" y="22"/>
                    </a:lnTo>
                    <a:lnTo>
                      <a:pt x="149" y="9"/>
                    </a:lnTo>
                    <a:lnTo>
                      <a:pt x="179" y="2"/>
                    </a:lnTo>
                    <a:lnTo>
                      <a:pt x="211" y="0"/>
                    </a:lnTo>
                    <a:lnTo>
                      <a:pt x="242" y="5"/>
                    </a:lnTo>
                    <a:lnTo>
                      <a:pt x="310" y="31"/>
                    </a:lnTo>
                    <a:lnTo>
                      <a:pt x="338" y="57"/>
                    </a:lnTo>
                    <a:lnTo>
                      <a:pt x="368" y="82"/>
                    </a:lnTo>
                    <a:lnTo>
                      <a:pt x="400" y="105"/>
                    </a:lnTo>
                    <a:lnTo>
                      <a:pt x="433" y="125"/>
                    </a:lnTo>
                    <a:lnTo>
                      <a:pt x="468" y="139"/>
                    </a:lnTo>
                    <a:lnTo>
                      <a:pt x="505" y="149"/>
                    </a:lnTo>
                    <a:lnTo>
                      <a:pt x="543" y="154"/>
                    </a:lnTo>
                    <a:lnTo>
                      <a:pt x="583" y="154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58040" y="355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130" y="85"/>
                    </a:moveTo>
                    <a:lnTo>
                      <a:pt x="40" y="91"/>
                    </a:lnTo>
                    <a:lnTo>
                      <a:pt x="42" y="82"/>
                    </a:lnTo>
                    <a:lnTo>
                      <a:pt x="45" y="75"/>
                    </a:lnTo>
                    <a:lnTo>
                      <a:pt x="45" y="67"/>
                    </a:lnTo>
                    <a:lnTo>
                      <a:pt x="43" y="59"/>
                    </a:lnTo>
                    <a:lnTo>
                      <a:pt x="36" y="51"/>
                    </a:lnTo>
                    <a:lnTo>
                      <a:pt x="28" y="47"/>
                    </a:lnTo>
                    <a:lnTo>
                      <a:pt x="19" y="45"/>
                    </a:lnTo>
                    <a:lnTo>
                      <a:pt x="12" y="44"/>
                    </a:lnTo>
                    <a:lnTo>
                      <a:pt x="4" y="39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5" y="21"/>
                    </a:lnTo>
                    <a:lnTo>
                      <a:pt x="21" y="5"/>
                    </a:lnTo>
                    <a:lnTo>
                      <a:pt x="42" y="0"/>
                    </a:lnTo>
                    <a:lnTo>
                      <a:pt x="63" y="3"/>
                    </a:lnTo>
                    <a:lnTo>
                      <a:pt x="85" y="15"/>
                    </a:lnTo>
                    <a:lnTo>
                      <a:pt x="105" y="29"/>
                    </a:lnTo>
                    <a:lnTo>
                      <a:pt x="120" y="48"/>
                    </a:lnTo>
                    <a:lnTo>
                      <a:pt x="128" y="67"/>
                    </a:lnTo>
                    <a:lnTo>
                      <a:pt x="130" y="85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58000" y="356328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0" y="47"/>
                    </a:moveTo>
                    <a:lnTo>
                      <a:pt x="3" y="35"/>
                    </a:lnTo>
                    <a:lnTo>
                      <a:pt x="8" y="24"/>
                    </a:lnTo>
                    <a:lnTo>
                      <a:pt x="15" y="11"/>
                    </a:lnTo>
                    <a:lnTo>
                      <a:pt x="23" y="0"/>
                    </a:lnTo>
                    <a:lnTo>
                      <a:pt x="21" y="11"/>
                    </a:lnTo>
                    <a:lnTo>
                      <a:pt x="15" y="23"/>
                    </a:lnTo>
                    <a:lnTo>
                      <a:pt x="5" y="34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57320" y="3587760"/>
                <a:ext cx="283680" cy="158040"/>
              </a:xfrm>
              <a:custGeom>
                <a:avLst/>
                <a:gdLst/>
                <a:ahLst/>
                <a:rect l="l" t="t" r="r" b="b"/>
                <a:pathLst>
                  <a:path w="734" h="351">
                    <a:moveTo>
                      <a:pt x="373" y="351"/>
                    </a:moveTo>
                    <a:lnTo>
                      <a:pt x="329" y="348"/>
                    </a:lnTo>
                    <a:lnTo>
                      <a:pt x="289" y="340"/>
                    </a:lnTo>
                    <a:lnTo>
                      <a:pt x="248" y="327"/>
                    </a:lnTo>
                    <a:lnTo>
                      <a:pt x="211" y="308"/>
                    </a:lnTo>
                    <a:lnTo>
                      <a:pt x="176" y="285"/>
                    </a:lnTo>
                    <a:lnTo>
                      <a:pt x="142" y="260"/>
                    </a:lnTo>
                    <a:lnTo>
                      <a:pt x="110" y="231"/>
                    </a:lnTo>
                    <a:lnTo>
                      <a:pt x="80" y="202"/>
                    </a:lnTo>
                    <a:lnTo>
                      <a:pt x="71" y="190"/>
                    </a:lnTo>
                    <a:lnTo>
                      <a:pt x="58" y="172"/>
                    </a:lnTo>
                    <a:lnTo>
                      <a:pt x="42" y="148"/>
                    </a:lnTo>
                    <a:lnTo>
                      <a:pt x="26" y="121"/>
                    </a:lnTo>
                    <a:lnTo>
                      <a:pt x="11" y="93"/>
                    </a:lnTo>
                    <a:lnTo>
                      <a:pt x="3" y="69"/>
                    </a:lnTo>
                    <a:lnTo>
                      <a:pt x="0" y="53"/>
                    </a:lnTo>
                    <a:lnTo>
                      <a:pt x="8" y="46"/>
                    </a:lnTo>
                    <a:lnTo>
                      <a:pt x="23" y="44"/>
                    </a:lnTo>
                    <a:lnTo>
                      <a:pt x="41" y="43"/>
                    </a:lnTo>
                    <a:lnTo>
                      <a:pt x="57" y="41"/>
                    </a:lnTo>
                    <a:lnTo>
                      <a:pt x="73" y="41"/>
                    </a:lnTo>
                    <a:lnTo>
                      <a:pt x="88" y="40"/>
                    </a:lnTo>
                    <a:lnTo>
                      <a:pt x="105" y="40"/>
                    </a:lnTo>
                    <a:lnTo>
                      <a:pt x="123" y="40"/>
                    </a:lnTo>
                    <a:lnTo>
                      <a:pt x="140" y="41"/>
                    </a:lnTo>
                    <a:lnTo>
                      <a:pt x="157" y="67"/>
                    </a:lnTo>
                    <a:lnTo>
                      <a:pt x="177" y="95"/>
                    </a:lnTo>
                    <a:lnTo>
                      <a:pt x="198" y="120"/>
                    </a:lnTo>
                    <a:lnTo>
                      <a:pt x="224" y="145"/>
                    </a:lnTo>
                    <a:lnTo>
                      <a:pt x="249" y="165"/>
                    </a:lnTo>
                    <a:lnTo>
                      <a:pt x="278" y="181"/>
                    </a:lnTo>
                    <a:lnTo>
                      <a:pt x="308" y="191"/>
                    </a:lnTo>
                    <a:lnTo>
                      <a:pt x="342" y="200"/>
                    </a:lnTo>
                    <a:lnTo>
                      <a:pt x="396" y="200"/>
                    </a:lnTo>
                    <a:lnTo>
                      <a:pt x="444" y="193"/>
                    </a:lnTo>
                    <a:lnTo>
                      <a:pt x="486" y="181"/>
                    </a:lnTo>
                    <a:lnTo>
                      <a:pt x="524" y="163"/>
                    </a:lnTo>
                    <a:lnTo>
                      <a:pt x="552" y="136"/>
                    </a:lnTo>
                    <a:lnTo>
                      <a:pt x="577" y="103"/>
                    </a:lnTo>
                    <a:lnTo>
                      <a:pt x="594" y="60"/>
                    </a:lnTo>
                    <a:lnTo>
                      <a:pt x="608" y="10"/>
                    </a:lnTo>
                    <a:lnTo>
                      <a:pt x="622" y="6"/>
                    </a:lnTo>
                    <a:lnTo>
                      <a:pt x="638" y="3"/>
                    </a:lnTo>
                    <a:lnTo>
                      <a:pt x="653" y="1"/>
                    </a:lnTo>
                    <a:lnTo>
                      <a:pt x="669" y="1"/>
                    </a:lnTo>
                    <a:lnTo>
                      <a:pt x="684" y="0"/>
                    </a:lnTo>
                    <a:lnTo>
                      <a:pt x="702" y="0"/>
                    </a:lnTo>
                    <a:lnTo>
                      <a:pt x="718" y="1"/>
                    </a:lnTo>
                    <a:lnTo>
                      <a:pt x="734" y="3"/>
                    </a:lnTo>
                    <a:lnTo>
                      <a:pt x="724" y="93"/>
                    </a:lnTo>
                    <a:lnTo>
                      <a:pt x="703" y="166"/>
                    </a:lnTo>
                    <a:lnTo>
                      <a:pt x="672" y="221"/>
                    </a:lnTo>
                    <a:lnTo>
                      <a:pt x="633" y="264"/>
                    </a:lnTo>
                    <a:lnTo>
                      <a:pt x="582" y="294"/>
                    </a:lnTo>
                    <a:lnTo>
                      <a:pt x="522" y="318"/>
                    </a:lnTo>
                    <a:lnTo>
                      <a:pt x="450" y="335"/>
                    </a:lnTo>
                    <a:lnTo>
                      <a:pt x="373" y="351"/>
                    </a:lnTo>
                    <a:close/>
                  </a:path>
                </a:pathLst>
              </a:custGeom>
              <a:solidFill>
                <a:srgbClr val="ff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24640" y="3591000"/>
                <a:ext cx="156240" cy="73440"/>
              </a:xfrm>
              <a:custGeom>
                <a:avLst/>
                <a:gdLst/>
                <a:ahLst/>
                <a:rect l="l" t="t" r="r" b="b"/>
                <a:pathLst>
                  <a:path w="404" h="164">
                    <a:moveTo>
                      <a:pt x="404" y="2"/>
                    </a:moveTo>
                    <a:lnTo>
                      <a:pt x="404" y="22"/>
                    </a:lnTo>
                    <a:lnTo>
                      <a:pt x="401" y="40"/>
                    </a:lnTo>
                    <a:lnTo>
                      <a:pt x="393" y="58"/>
                    </a:lnTo>
                    <a:lnTo>
                      <a:pt x="386" y="76"/>
                    </a:lnTo>
                    <a:lnTo>
                      <a:pt x="374" y="92"/>
                    </a:lnTo>
                    <a:lnTo>
                      <a:pt x="361" y="107"/>
                    </a:lnTo>
                    <a:lnTo>
                      <a:pt x="348" y="121"/>
                    </a:lnTo>
                    <a:lnTo>
                      <a:pt x="330" y="136"/>
                    </a:lnTo>
                    <a:lnTo>
                      <a:pt x="303" y="148"/>
                    </a:lnTo>
                    <a:lnTo>
                      <a:pt x="271" y="157"/>
                    </a:lnTo>
                    <a:lnTo>
                      <a:pt x="240" y="162"/>
                    </a:lnTo>
                    <a:lnTo>
                      <a:pt x="209" y="164"/>
                    </a:lnTo>
                    <a:lnTo>
                      <a:pt x="177" y="160"/>
                    </a:lnTo>
                    <a:lnTo>
                      <a:pt x="146" y="153"/>
                    </a:lnTo>
                    <a:lnTo>
                      <a:pt x="117" y="143"/>
                    </a:lnTo>
                    <a:lnTo>
                      <a:pt x="90" y="130"/>
                    </a:lnTo>
                    <a:lnTo>
                      <a:pt x="76" y="119"/>
                    </a:lnTo>
                    <a:lnTo>
                      <a:pt x="64" y="110"/>
                    </a:lnTo>
                    <a:lnTo>
                      <a:pt x="51" y="98"/>
                    </a:lnTo>
                    <a:lnTo>
                      <a:pt x="40" y="87"/>
                    </a:lnTo>
                    <a:lnTo>
                      <a:pt x="28" y="73"/>
                    </a:lnTo>
                    <a:lnTo>
                      <a:pt x="18" y="59"/>
                    </a:lnTo>
                    <a:lnTo>
                      <a:pt x="8" y="46"/>
                    </a:lnTo>
                    <a:lnTo>
                      <a:pt x="0" y="33"/>
                    </a:lnTo>
                    <a:lnTo>
                      <a:pt x="49" y="28"/>
                    </a:lnTo>
                    <a:lnTo>
                      <a:pt x="98" y="22"/>
                    </a:lnTo>
                    <a:lnTo>
                      <a:pt x="149" y="16"/>
                    </a:lnTo>
                    <a:lnTo>
                      <a:pt x="201" y="12"/>
                    </a:lnTo>
                    <a:lnTo>
                      <a:pt x="252" y="3"/>
                    </a:lnTo>
                    <a:lnTo>
                      <a:pt x="303" y="1"/>
                    </a:lnTo>
                    <a:lnTo>
                      <a:pt x="353" y="0"/>
                    </a:lnTo>
                    <a:lnTo>
                      <a:pt x="404" y="2"/>
                    </a:lnTo>
                    <a:close/>
                  </a:path>
                </a:pathLst>
              </a:custGeom>
              <a:solidFill>
                <a:srgbClr val="ff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59800" y="3652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45" y="23"/>
                    </a:moveTo>
                    <a:lnTo>
                      <a:pt x="54" y="31"/>
                    </a:lnTo>
                    <a:lnTo>
                      <a:pt x="64" y="40"/>
                    </a:lnTo>
                    <a:lnTo>
                      <a:pt x="75" y="47"/>
                    </a:lnTo>
                    <a:lnTo>
                      <a:pt x="85" y="57"/>
                    </a:lnTo>
                    <a:lnTo>
                      <a:pt x="71" y="69"/>
                    </a:lnTo>
                    <a:lnTo>
                      <a:pt x="61" y="74"/>
                    </a:lnTo>
                    <a:lnTo>
                      <a:pt x="51" y="70"/>
                    </a:lnTo>
                    <a:lnTo>
                      <a:pt x="41" y="62"/>
                    </a:lnTo>
                    <a:lnTo>
                      <a:pt x="31" y="48"/>
                    </a:lnTo>
                    <a:lnTo>
                      <a:pt x="22" y="37"/>
                    </a:lnTo>
                    <a:lnTo>
                      <a:pt x="1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22" y="1"/>
                    </a:lnTo>
                    <a:lnTo>
                      <a:pt x="29" y="3"/>
                    </a:lnTo>
                    <a:lnTo>
                      <a:pt x="36" y="8"/>
                    </a:lnTo>
                    <a:lnTo>
                      <a:pt x="41" y="15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f17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8000" y="3676320"/>
                <a:ext cx="110160" cy="144360"/>
              </a:xfrm>
              <a:custGeom>
                <a:avLst/>
                <a:gdLst/>
                <a:ahLst/>
                <a:rect l="l" t="t" r="r" b="b"/>
                <a:pathLst>
                  <a:path w="285" h="322">
                    <a:moveTo>
                      <a:pt x="285" y="41"/>
                    </a:moveTo>
                    <a:lnTo>
                      <a:pt x="279" y="52"/>
                    </a:lnTo>
                    <a:lnTo>
                      <a:pt x="272" y="66"/>
                    </a:lnTo>
                    <a:lnTo>
                      <a:pt x="262" y="76"/>
                    </a:lnTo>
                    <a:lnTo>
                      <a:pt x="253" y="87"/>
                    </a:lnTo>
                    <a:lnTo>
                      <a:pt x="241" y="96"/>
                    </a:lnTo>
                    <a:lnTo>
                      <a:pt x="231" y="106"/>
                    </a:lnTo>
                    <a:lnTo>
                      <a:pt x="223" y="119"/>
                    </a:lnTo>
                    <a:lnTo>
                      <a:pt x="218" y="134"/>
                    </a:lnTo>
                    <a:lnTo>
                      <a:pt x="215" y="154"/>
                    </a:lnTo>
                    <a:lnTo>
                      <a:pt x="211" y="175"/>
                    </a:lnTo>
                    <a:lnTo>
                      <a:pt x="208" y="195"/>
                    </a:lnTo>
                    <a:lnTo>
                      <a:pt x="207" y="216"/>
                    </a:lnTo>
                    <a:lnTo>
                      <a:pt x="203" y="236"/>
                    </a:lnTo>
                    <a:lnTo>
                      <a:pt x="204" y="258"/>
                    </a:lnTo>
                    <a:lnTo>
                      <a:pt x="206" y="278"/>
                    </a:lnTo>
                    <a:lnTo>
                      <a:pt x="210" y="300"/>
                    </a:lnTo>
                    <a:lnTo>
                      <a:pt x="207" y="290"/>
                    </a:lnTo>
                    <a:lnTo>
                      <a:pt x="204" y="283"/>
                    </a:lnTo>
                    <a:lnTo>
                      <a:pt x="201" y="276"/>
                    </a:lnTo>
                    <a:lnTo>
                      <a:pt x="197" y="269"/>
                    </a:lnTo>
                    <a:lnTo>
                      <a:pt x="193" y="261"/>
                    </a:lnTo>
                    <a:lnTo>
                      <a:pt x="188" y="254"/>
                    </a:lnTo>
                    <a:lnTo>
                      <a:pt x="186" y="246"/>
                    </a:lnTo>
                    <a:lnTo>
                      <a:pt x="187" y="237"/>
                    </a:lnTo>
                    <a:lnTo>
                      <a:pt x="178" y="230"/>
                    </a:lnTo>
                    <a:lnTo>
                      <a:pt x="169" y="231"/>
                    </a:lnTo>
                    <a:lnTo>
                      <a:pt x="158" y="235"/>
                    </a:lnTo>
                    <a:lnTo>
                      <a:pt x="150" y="240"/>
                    </a:lnTo>
                    <a:lnTo>
                      <a:pt x="140" y="251"/>
                    </a:lnTo>
                    <a:lnTo>
                      <a:pt x="128" y="261"/>
                    </a:lnTo>
                    <a:lnTo>
                      <a:pt x="117" y="270"/>
                    </a:lnTo>
                    <a:lnTo>
                      <a:pt x="106" y="280"/>
                    </a:lnTo>
                    <a:lnTo>
                      <a:pt x="95" y="289"/>
                    </a:lnTo>
                    <a:lnTo>
                      <a:pt x="84" y="299"/>
                    </a:lnTo>
                    <a:lnTo>
                      <a:pt x="75" y="310"/>
                    </a:lnTo>
                    <a:lnTo>
                      <a:pt x="67" y="322"/>
                    </a:lnTo>
                    <a:lnTo>
                      <a:pt x="68" y="300"/>
                    </a:lnTo>
                    <a:lnTo>
                      <a:pt x="74" y="281"/>
                    </a:lnTo>
                    <a:lnTo>
                      <a:pt x="80" y="263"/>
                    </a:lnTo>
                    <a:lnTo>
                      <a:pt x="88" y="246"/>
                    </a:lnTo>
                    <a:lnTo>
                      <a:pt x="95" y="228"/>
                    </a:lnTo>
                    <a:lnTo>
                      <a:pt x="103" y="210"/>
                    </a:lnTo>
                    <a:lnTo>
                      <a:pt x="109" y="192"/>
                    </a:lnTo>
                    <a:lnTo>
                      <a:pt x="114" y="173"/>
                    </a:lnTo>
                    <a:lnTo>
                      <a:pt x="106" y="169"/>
                    </a:lnTo>
                    <a:lnTo>
                      <a:pt x="99" y="169"/>
                    </a:lnTo>
                    <a:lnTo>
                      <a:pt x="92" y="168"/>
                    </a:lnTo>
                    <a:lnTo>
                      <a:pt x="86" y="171"/>
                    </a:lnTo>
                    <a:lnTo>
                      <a:pt x="77" y="173"/>
                    </a:lnTo>
                    <a:lnTo>
                      <a:pt x="68" y="177"/>
                    </a:lnTo>
                    <a:lnTo>
                      <a:pt x="61" y="181"/>
                    </a:lnTo>
                    <a:lnTo>
                      <a:pt x="54" y="185"/>
                    </a:lnTo>
                    <a:lnTo>
                      <a:pt x="46" y="188"/>
                    </a:lnTo>
                    <a:lnTo>
                      <a:pt x="39" y="194"/>
                    </a:lnTo>
                    <a:lnTo>
                      <a:pt x="32" y="199"/>
                    </a:lnTo>
                    <a:lnTo>
                      <a:pt x="27" y="205"/>
                    </a:lnTo>
                    <a:lnTo>
                      <a:pt x="20" y="209"/>
                    </a:lnTo>
                    <a:lnTo>
                      <a:pt x="14" y="215"/>
                    </a:lnTo>
                    <a:lnTo>
                      <a:pt x="6" y="221"/>
                    </a:lnTo>
                    <a:lnTo>
                      <a:pt x="0" y="226"/>
                    </a:lnTo>
                    <a:lnTo>
                      <a:pt x="5" y="211"/>
                    </a:lnTo>
                    <a:lnTo>
                      <a:pt x="12" y="198"/>
                    </a:lnTo>
                    <a:lnTo>
                      <a:pt x="17" y="184"/>
                    </a:lnTo>
                    <a:lnTo>
                      <a:pt x="24" y="169"/>
                    </a:lnTo>
                    <a:lnTo>
                      <a:pt x="31" y="155"/>
                    </a:lnTo>
                    <a:lnTo>
                      <a:pt x="38" y="142"/>
                    </a:lnTo>
                    <a:lnTo>
                      <a:pt x="46" y="131"/>
                    </a:lnTo>
                    <a:lnTo>
                      <a:pt x="57" y="120"/>
                    </a:lnTo>
                    <a:lnTo>
                      <a:pt x="59" y="115"/>
                    </a:lnTo>
                    <a:lnTo>
                      <a:pt x="60" y="109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53" y="96"/>
                    </a:lnTo>
                    <a:lnTo>
                      <a:pt x="46" y="96"/>
                    </a:lnTo>
                    <a:lnTo>
                      <a:pt x="39" y="97"/>
                    </a:lnTo>
                    <a:lnTo>
                      <a:pt x="34" y="101"/>
                    </a:lnTo>
                    <a:lnTo>
                      <a:pt x="26" y="103"/>
                    </a:lnTo>
                    <a:lnTo>
                      <a:pt x="19" y="105"/>
                    </a:lnTo>
                    <a:lnTo>
                      <a:pt x="9" y="106"/>
                    </a:lnTo>
                    <a:lnTo>
                      <a:pt x="2" y="106"/>
                    </a:lnTo>
                    <a:lnTo>
                      <a:pt x="6" y="94"/>
                    </a:lnTo>
                    <a:lnTo>
                      <a:pt x="14" y="83"/>
                    </a:lnTo>
                    <a:lnTo>
                      <a:pt x="21" y="73"/>
                    </a:lnTo>
                    <a:lnTo>
                      <a:pt x="31" y="66"/>
                    </a:lnTo>
                    <a:lnTo>
                      <a:pt x="42" y="57"/>
                    </a:lnTo>
                    <a:lnTo>
                      <a:pt x="52" y="50"/>
                    </a:lnTo>
                    <a:lnTo>
                      <a:pt x="62" y="44"/>
                    </a:lnTo>
                    <a:lnTo>
                      <a:pt x="75" y="38"/>
                    </a:lnTo>
                    <a:lnTo>
                      <a:pt x="91" y="29"/>
                    </a:lnTo>
                    <a:lnTo>
                      <a:pt x="110" y="23"/>
                    </a:lnTo>
                    <a:lnTo>
                      <a:pt x="127" y="20"/>
                    </a:lnTo>
                    <a:lnTo>
                      <a:pt x="148" y="16"/>
                    </a:lnTo>
                    <a:lnTo>
                      <a:pt x="166" y="13"/>
                    </a:lnTo>
                    <a:lnTo>
                      <a:pt x="186" y="11"/>
                    </a:lnTo>
                    <a:lnTo>
                      <a:pt x="206" y="6"/>
                    </a:lnTo>
                    <a:lnTo>
                      <a:pt x="225" y="1"/>
                    </a:lnTo>
                    <a:lnTo>
                      <a:pt x="234" y="0"/>
                    </a:lnTo>
                    <a:lnTo>
                      <a:pt x="244" y="3"/>
                    </a:lnTo>
                    <a:lnTo>
                      <a:pt x="251" y="7"/>
                    </a:lnTo>
                    <a:lnTo>
                      <a:pt x="260" y="14"/>
                    </a:lnTo>
                    <a:lnTo>
                      <a:pt x="266" y="20"/>
                    </a:lnTo>
                    <a:lnTo>
                      <a:pt x="272" y="27"/>
                    </a:lnTo>
                    <a:lnTo>
                      <a:pt x="278" y="34"/>
                    </a:lnTo>
                    <a:lnTo>
                      <a:pt x="285" y="41"/>
                    </a:lnTo>
                    <a:close/>
                  </a:path>
                </a:pathLst>
              </a:custGeom>
              <a:solidFill>
                <a:srgbClr val="fff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72040" y="3834720"/>
                <a:ext cx="235080" cy="239040"/>
              </a:xfrm>
              <a:custGeom>
                <a:avLst/>
                <a:gdLst/>
                <a:ahLst/>
                <a:rect l="l" t="t" r="r" b="b"/>
                <a:pathLst>
                  <a:path w="608" h="532">
                    <a:moveTo>
                      <a:pt x="528" y="0"/>
                    </a:moveTo>
                    <a:lnTo>
                      <a:pt x="546" y="51"/>
                    </a:lnTo>
                    <a:lnTo>
                      <a:pt x="564" y="105"/>
                    </a:lnTo>
                    <a:lnTo>
                      <a:pt x="580" y="158"/>
                    </a:lnTo>
                    <a:lnTo>
                      <a:pt x="594" y="215"/>
                    </a:lnTo>
                    <a:lnTo>
                      <a:pt x="602" y="270"/>
                    </a:lnTo>
                    <a:lnTo>
                      <a:pt x="608" y="328"/>
                    </a:lnTo>
                    <a:lnTo>
                      <a:pt x="608" y="387"/>
                    </a:lnTo>
                    <a:lnTo>
                      <a:pt x="603" y="447"/>
                    </a:lnTo>
                    <a:lnTo>
                      <a:pt x="599" y="457"/>
                    </a:lnTo>
                    <a:lnTo>
                      <a:pt x="594" y="467"/>
                    </a:lnTo>
                    <a:lnTo>
                      <a:pt x="588" y="478"/>
                    </a:lnTo>
                    <a:lnTo>
                      <a:pt x="583" y="491"/>
                    </a:lnTo>
                    <a:lnTo>
                      <a:pt x="576" y="501"/>
                    </a:lnTo>
                    <a:lnTo>
                      <a:pt x="569" y="511"/>
                    </a:lnTo>
                    <a:lnTo>
                      <a:pt x="562" y="522"/>
                    </a:lnTo>
                    <a:lnTo>
                      <a:pt x="557" y="532"/>
                    </a:lnTo>
                    <a:lnTo>
                      <a:pt x="552" y="522"/>
                    </a:lnTo>
                    <a:lnTo>
                      <a:pt x="548" y="512"/>
                    </a:lnTo>
                    <a:lnTo>
                      <a:pt x="545" y="501"/>
                    </a:lnTo>
                    <a:lnTo>
                      <a:pt x="543" y="491"/>
                    </a:lnTo>
                    <a:lnTo>
                      <a:pt x="541" y="478"/>
                    </a:lnTo>
                    <a:lnTo>
                      <a:pt x="541" y="466"/>
                    </a:lnTo>
                    <a:lnTo>
                      <a:pt x="540" y="455"/>
                    </a:lnTo>
                    <a:lnTo>
                      <a:pt x="539" y="444"/>
                    </a:lnTo>
                    <a:lnTo>
                      <a:pt x="545" y="403"/>
                    </a:lnTo>
                    <a:lnTo>
                      <a:pt x="546" y="364"/>
                    </a:lnTo>
                    <a:lnTo>
                      <a:pt x="541" y="327"/>
                    </a:lnTo>
                    <a:lnTo>
                      <a:pt x="534" y="289"/>
                    </a:lnTo>
                    <a:lnTo>
                      <a:pt x="523" y="252"/>
                    </a:lnTo>
                    <a:lnTo>
                      <a:pt x="510" y="215"/>
                    </a:lnTo>
                    <a:lnTo>
                      <a:pt x="498" y="178"/>
                    </a:lnTo>
                    <a:lnTo>
                      <a:pt x="490" y="142"/>
                    </a:lnTo>
                    <a:lnTo>
                      <a:pt x="488" y="134"/>
                    </a:lnTo>
                    <a:lnTo>
                      <a:pt x="487" y="127"/>
                    </a:lnTo>
                    <a:lnTo>
                      <a:pt x="486" y="119"/>
                    </a:lnTo>
                    <a:lnTo>
                      <a:pt x="485" y="113"/>
                    </a:lnTo>
                    <a:lnTo>
                      <a:pt x="482" y="106"/>
                    </a:lnTo>
                    <a:lnTo>
                      <a:pt x="481" y="99"/>
                    </a:lnTo>
                    <a:lnTo>
                      <a:pt x="479" y="94"/>
                    </a:lnTo>
                    <a:lnTo>
                      <a:pt x="478" y="89"/>
                    </a:lnTo>
                    <a:lnTo>
                      <a:pt x="471" y="88"/>
                    </a:lnTo>
                    <a:lnTo>
                      <a:pt x="465" y="88"/>
                    </a:lnTo>
                    <a:lnTo>
                      <a:pt x="459" y="90"/>
                    </a:lnTo>
                    <a:lnTo>
                      <a:pt x="456" y="94"/>
                    </a:lnTo>
                    <a:lnTo>
                      <a:pt x="444" y="99"/>
                    </a:lnTo>
                    <a:lnTo>
                      <a:pt x="435" y="106"/>
                    </a:lnTo>
                    <a:lnTo>
                      <a:pt x="381" y="119"/>
                    </a:lnTo>
                    <a:lnTo>
                      <a:pt x="329" y="135"/>
                    </a:lnTo>
                    <a:lnTo>
                      <a:pt x="277" y="149"/>
                    </a:lnTo>
                    <a:lnTo>
                      <a:pt x="224" y="164"/>
                    </a:lnTo>
                    <a:lnTo>
                      <a:pt x="170" y="175"/>
                    </a:lnTo>
                    <a:lnTo>
                      <a:pt x="115" y="185"/>
                    </a:lnTo>
                    <a:lnTo>
                      <a:pt x="58" y="190"/>
                    </a:lnTo>
                    <a:lnTo>
                      <a:pt x="0" y="192"/>
                    </a:lnTo>
                    <a:lnTo>
                      <a:pt x="27" y="178"/>
                    </a:lnTo>
                    <a:lnTo>
                      <a:pt x="54" y="165"/>
                    </a:lnTo>
                    <a:lnTo>
                      <a:pt x="80" y="150"/>
                    </a:lnTo>
                    <a:lnTo>
                      <a:pt x="106" y="134"/>
                    </a:lnTo>
                    <a:lnTo>
                      <a:pt x="129" y="114"/>
                    </a:lnTo>
                    <a:lnTo>
                      <a:pt x="152" y="95"/>
                    </a:lnTo>
                    <a:lnTo>
                      <a:pt x="174" y="73"/>
                    </a:lnTo>
                    <a:lnTo>
                      <a:pt x="195" y="49"/>
                    </a:lnTo>
                    <a:lnTo>
                      <a:pt x="220" y="51"/>
                    </a:lnTo>
                    <a:lnTo>
                      <a:pt x="246" y="53"/>
                    </a:lnTo>
                    <a:lnTo>
                      <a:pt x="270" y="52"/>
                    </a:lnTo>
                    <a:lnTo>
                      <a:pt x="298" y="51"/>
                    </a:lnTo>
                    <a:lnTo>
                      <a:pt x="323" y="47"/>
                    </a:lnTo>
                    <a:lnTo>
                      <a:pt x="350" y="44"/>
                    </a:lnTo>
                    <a:lnTo>
                      <a:pt x="374" y="39"/>
                    </a:lnTo>
                    <a:lnTo>
                      <a:pt x="400" y="36"/>
                    </a:lnTo>
                    <a:lnTo>
                      <a:pt x="415" y="32"/>
                    </a:lnTo>
                    <a:lnTo>
                      <a:pt x="432" y="30"/>
                    </a:lnTo>
                    <a:lnTo>
                      <a:pt x="447" y="24"/>
                    </a:lnTo>
                    <a:lnTo>
                      <a:pt x="464" y="20"/>
                    </a:lnTo>
                    <a:lnTo>
                      <a:pt x="479" y="14"/>
                    </a:lnTo>
                    <a:lnTo>
                      <a:pt x="495" y="8"/>
                    </a:lnTo>
                    <a:lnTo>
                      <a:pt x="510" y="2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7600" y="3941640"/>
                <a:ext cx="240480" cy="359280"/>
              </a:xfrm>
              <a:custGeom>
                <a:avLst/>
                <a:gdLst/>
                <a:ahLst/>
                <a:rect l="l" t="t" r="r" b="b"/>
                <a:pathLst>
                  <a:path w="622" h="801">
                    <a:moveTo>
                      <a:pt x="622" y="160"/>
                    </a:moveTo>
                    <a:lnTo>
                      <a:pt x="587" y="195"/>
                    </a:lnTo>
                    <a:lnTo>
                      <a:pt x="551" y="227"/>
                    </a:lnTo>
                    <a:lnTo>
                      <a:pt x="515" y="258"/>
                    </a:lnTo>
                    <a:lnTo>
                      <a:pt x="478" y="287"/>
                    </a:lnTo>
                    <a:lnTo>
                      <a:pt x="438" y="315"/>
                    </a:lnTo>
                    <a:lnTo>
                      <a:pt x="400" y="339"/>
                    </a:lnTo>
                    <a:lnTo>
                      <a:pt x="360" y="362"/>
                    </a:lnTo>
                    <a:lnTo>
                      <a:pt x="320" y="385"/>
                    </a:lnTo>
                    <a:lnTo>
                      <a:pt x="305" y="395"/>
                    </a:lnTo>
                    <a:lnTo>
                      <a:pt x="294" y="407"/>
                    </a:lnTo>
                    <a:lnTo>
                      <a:pt x="285" y="421"/>
                    </a:lnTo>
                    <a:lnTo>
                      <a:pt x="279" y="439"/>
                    </a:lnTo>
                    <a:lnTo>
                      <a:pt x="271" y="452"/>
                    </a:lnTo>
                    <a:lnTo>
                      <a:pt x="265" y="469"/>
                    </a:lnTo>
                    <a:lnTo>
                      <a:pt x="258" y="482"/>
                    </a:lnTo>
                    <a:lnTo>
                      <a:pt x="251" y="499"/>
                    </a:lnTo>
                    <a:lnTo>
                      <a:pt x="246" y="507"/>
                    </a:lnTo>
                    <a:lnTo>
                      <a:pt x="240" y="516"/>
                    </a:lnTo>
                    <a:lnTo>
                      <a:pt x="234" y="525"/>
                    </a:lnTo>
                    <a:lnTo>
                      <a:pt x="230" y="534"/>
                    </a:lnTo>
                    <a:lnTo>
                      <a:pt x="224" y="542"/>
                    </a:lnTo>
                    <a:lnTo>
                      <a:pt x="220" y="553"/>
                    </a:lnTo>
                    <a:lnTo>
                      <a:pt x="215" y="562"/>
                    </a:lnTo>
                    <a:lnTo>
                      <a:pt x="213" y="571"/>
                    </a:lnTo>
                    <a:lnTo>
                      <a:pt x="206" y="575"/>
                    </a:lnTo>
                    <a:lnTo>
                      <a:pt x="200" y="582"/>
                    </a:lnTo>
                    <a:lnTo>
                      <a:pt x="193" y="591"/>
                    </a:lnTo>
                    <a:lnTo>
                      <a:pt x="187" y="604"/>
                    </a:lnTo>
                    <a:lnTo>
                      <a:pt x="180" y="616"/>
                    </a:lnTo>
                    <a:lnTo>
                      <a:pt x="173" y="629"/>
                    </a:lnTo>
                    <a:lnTo>
                      <a:pt x="165" y="639"/>
                    </a:lnTo>
                    <a:lnTo>
                      <a:pt x="157" y="651"/>
                    </a:lnTo>
                    <a:lnTo>
                      <a:pt x="143" y="670"/>
                    </a:lnTo>
                    <a:lnTo>
                      <a:pt x="130" y="690"/>
                    </a:lnTo>
                    <a:lnTo>
                      <a:pt x="115" y="710"/>
                    </a:lnTo>
                    <a:lnTo>
                      <a:pt x="101" y="730"/>
                    </a:lnTo>
                    <a:lnTo>
                      <a:pt x="84" y="748"/>
                    </a:lnTo>
                    <a:lnTo>
                      <a:pt x="68" y="766"/>
                    </a:lnTo>
                    <a:lnTo>
                      <a:pt x="50" y="784"/>
                    </a:lnTo>
                    <a:lnTo>
                      <a:pt x="31" y="801"/>
                    </a:lnTo>
                    <a:lnTo>
                      <a:pt x="21" y="797"/>
                    </a:lnTo>
                    <a:lnTo>
                      <a:pt x="11" y="792"/>
                    </a:lnTo>
                    <a:lnTo>
                      <a:pt x="5" y="782"/>
                    </a:lnTo>
                    <a:lnTo>
                      <a:pt x="0" y="775"/>
                    </a:lnTo>
                    <a:lnTo>
                      <a:pt x="2" y="763"/>
                    </a:lnTo>
                    <a:lnTo>
                      <a:pt x="8" y="752"/>
                    </a:lnTo>
                    <a:lnTo>
                      <a:pt x="15" y="743"/>
                    </a:lnTo>
                    <a:lnTo>
                      <a:pt x="24" y="734"/>
                    </a:lnTo>
                    <a:lnTo>
                      <a:pt x="33" y="722"/>
                    </a:lnTo>
                    <a:lnTo>
                      <a:pt x="44" y="713"/>
                    </a:lnTo>
                    <a:lnTo>
                      <a:pt x="51" y="703"/>
                    </a:lnTo>
                    <a:lnTo>
                      <a:pt x="58" y="694"/>
                    </a:lnTo>
                    <a:lnTo>
                      <a:pt x="75" y="669"/>
                    </a:lnTo>
                    <a:lnTo>
                      <a:pt x="90" y="645"/>
                    </a:lnTo>
                    <a:lnTo>
                      <a:pt x="104" y="620"/>
                    </a:lnTo>
                    <a:lnTo>
                      <a:pt x="118" y="594"/>
                    </a:lnTo>
                    <a:lnTo>
                      <a:pt x="129" y="568"/>
                    </a:lnTo>
                    <a:lnTo>
                      <a:pt x="141" y="541"/>
                    </a:lnTo>
                    <a:lnTo>
                      <a:pt x="152" y="515"/>
                    </a:lnTo>
                    <a:lnTo>
                      <a:pt x="167" y="490"/>
                    </a:lnTo>
                    <a:lnTo>
                      <a:pt x="172" y="466"/>
                    </a:lnTo>
                    <a:lnTo>
                      <a:pt x="176" y="443"/>
                    </a:lnTo>
                    <a:lnTo>
                      <a:pt x="181" y="419"/>
                    </a:lnTo>
                    <a:lnTo>
                      <a:pt x="186" y="396"/>
                    </a:lnTo>
                    <a:lnTo>
                      <a:pt x="188" y="372"/>
                    </a:lnTo>
                    <a:lnTo>
                      <a:pt x="191" y="347"/>
                    </a:lnTo>
                    <a:lnTo>
                      <a:pt x="194" y="323"/>
                    </a:lnTo>
                    <a:lnTo>
                      <a:pt x="195" y="300"/>
                    </a:lnTo>
                    <a:lnTo>
                      <a:pt x="223" y="273"/>
                    </a:lnTo>
                    <a:lnTo>
                      <a:pt x="247" y="245"/>
                    </a:lnTo>
                    <a:lnTo>
                      <a:pt x="266" y="213"/>
                    </a:lnTo>
                    <a:lnTo>
                      <a:pt x="285" y="181"/>
                    </a:lnTo>
                    <a:lnTo>
                      <a:pt x="298" y="145"/>
                    </a:lnTo>
                    <a:lnTo>
                      <a:pt x="307" y="110"/>
                    </a:lnTo>
                    <a:lnTo>
                      <a:pt x="314" y="73"/>
                    </a:lnTo>
                    <a:lnTo>
                      <a:pt x="317" y="35"/>
                    </a:lnTo>
                    <a:lnTo>
                      <a:pt x="311" y="0"/>
                    </a:lnTo>
                    <a:lnTo>
                      <a:pt x="348" y="22"/>
                    </a:lnTo>
                    <a:lnTo>
                      <a:pt x="385" y="44"/>
                    </a:lnTo>
                    <a:lnTo>
                      <a:pt x="425" y="65"/>
                    </a:lnTo>
                    <a:lnTo>
                      <a:pt x="464" y="87"/>
                    </a:lnTo>
                    <a:lnTo>
                      <a:pt x="502" y="105"/>
                    </a:lnTo>
                    <a:lnTo>
                      <a:pt x="541" y="125"/>
                    </a:lnTo>
                    <a:lnTo>
                      <a:pt x="581" y="143"/>
                    </a:lnTo>
                    <a:lnTo>
                      <a:pt x="622" y="160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61760" y="4046040"/>
                <a:ext cx="52560" cy="6084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0" y="130"/>
                    </a:moveTo>
                    <a:lnTo>
                      <a:pt x="6" y="131"/>
                    </a:lnTo>
                    <a:lnTo>
                      <a:pt x="14" y="133"/>
                    </a:lnTo>
                    <a:lnTo>
                      <a:pt x="21" y="134"/>
                    </a:lnTo>
                    <a:lnTo>
                      <a:pt x="32" y="136"/>
                    </a:lnTo>
                    <a:lnTo>
                      <a:pt x="51" y="133"/>
                    </a:lnTo>
                    <a:lnTo>
                      <a:pt x="71" y="128"/>
                    </a:lnTo>
                    <a:lnTo>
                      <a:pt x="88" y="121"/>
                    </a:lnTo>
                    <a:lnTo>
                      <a:pt x="104" y="113"/>
                    </a:lnTo>
                    <a:lnTo>
                      <a:pt x="117" y="101"/>
                    </a:lnTo>
                    <a:lnTo>
                      <a:pt x="126" y="90"/>
                    </a:lnTo>
                    <a:lnTo>
                      <a:pt x="132" y="77"/>
                    </a:lnTo>
                    <a:lnTo>
                      <a:pt x="135" y="63"/>
                    </a:lnTo>
                    <a:lnTo>
                      <a:pt x="133" y="53"/>
                    </a:lnTo>
                    <a:lnTo>
                      <a:pt x="130" y="43"/>
                    </a:lnTo>
                    <a:lnTo>
                      <a:pt x="124" y="32"/>
                    </a:lnTo>
                    <a:lnTo>
                      <a:pt x="117" y="24"/>
                    </a:lnTo>
                    <a:lnTo>
                      <a:pt x="105" y="16"/>
                    </a:lnTo>
                    <a:lnTo>
                      <a:pt x="95" y="8"/>
                    </a:lnTo>
                    <a:lnTo>
                      <a:pt x="80" y="2"/>
                    </a:lnTo>
                    <a:lnTo>
                      <a:pt x="66" y="0"/>
                    </a:lnTo>
                    <a:lnTo>
                      <a:pt x="59" y="8"/>
                    </a:lnTo>
                    <a:lnTo>
                      <a:pt x="52" y="18"/>
                    </a:lnTo>
                    <a:lnTo>
                      <a:pt x="45" y="26"/>
                    </a:lnTo>
                    <a:lnTo>
                      <a:pt x="39" y="36"/>
                    </a:lnTo>
                    <a:lnTo>
                      <a:pt x="29" y="44"/>
                    </a:lnTo>
                    <a:lnTo>
                      <a:pt x="20" y="52"/>
                    </a:lnTo>
                    <a:lnTo>
                      <a:pt x="12" y="60"/>
                    </a:lnTo>
                    <a:lnTo>
                      <a:pt x="4" y="68"/>
                    </a:lnTo>
                    <a:lnTo>
                      <a:pt x="3" y="76"/>
                    </a:lnTo>
                    <a:lnTo>
                      <a:pt x="3" y="83"/>
                    </a:lnTo>
                    <a:lnTo>
                      <a:pt x="3" y="91"/>
                    </a:lnTo>
                    <a:lnTo>
                      <a:pt x="3" y="99"/>
                    </a:lnTo>
                    <a:lnTo>
                      <a:pt x="2" y="106"/>
                    </a:lnTo>
                    <a:lnTo>
                      <a:pt x="2" y="114"/>
                    </a:lnTo>
                    <a:lnTo>
                      <a:pt x="0" y="122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376520" y="402156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65" h="92">
                    <a:moveTo>
                      <a:pt x="57" y="0"/>
                    </a:moveTo>
                    <a:lnTo>
                      <a:pt x="61" y="1"/>
                    </a:lnTo>
                    <a:lnTo>
                      <a:pt x="65" y="2"/>
                    </a:lnTo>
                    <a:lnTo>
                      <a:pt x="62" y="14"/>
                    </a:lnTo>
                    <a:lnTo>
                      <a:pt x="60" y="24"/>
                    </a:lnTo>
                    <a:lnTo>
                      <a:pt x="56" y="35"/>
                    </a:lnTo>
                    <a:lnTo>
                      <a:pt x="53" y="47"/>
                    </a:lnTo>
                    <a:lnTo>
                      <a:pt x="46" y="57"/>
                    </a:lnTo>
                    <a:lnTo>
                      <a:pt x="41" y="68"/>
                    </a:lnTo>
                    <a:lnTo>
                      <a:pt x="34" y="80"/>
                    </a:lnTo>
                    <a:lnTo>
                      <a:pt x="27" y="92"/>
                    </a:lnTo>
                    <a:lnTo>
                      <a:pt x="20" y="92"/>
                    </a:lnTo>
                    <a:lnTo>
                      <a:pt x="13" y="92"/>
                    </a:lnTo>
                    <a:lnTo>
                      <a:pt x="5" y="92"/>
                    </a:lnTo>
                    <a:lnTo>
                      <a:pt x="0" y="92"/>
                    </a:lnTo>
                    <a:lnTo>
                      <a:pt x="8" y="80"/>
                    </a:lnTo>
                    <a:lnTo>
                      <a:pt x="16" y="70"/>
                    </a:lnTo>
                    <a:lnTo>
                      <a:pt x="23" y="57"/>
                    </a:lnTo>
                    <a:lnTo>
                      <a:pt x="31" y="47"/>
                    </a:lnTo>
                    <a:lnTo>
                      <a:pt x="36" y="35"/>
                    </a:lnTo>
                    <a:lnTo>
                      <a:pt x="43" y="24"/>
                    </a:lnTo>
                    <a:lnTo>
                      <a:pt x="50" y="1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38360" y="4046760"/>
                <a:ext cx="41760" cy="57240"/>
              </a:xfrm>
              <a:custGeom>
                <a:avLst/>
                <a:gdLst/>
                <a:ahLst/>
                <a:rect l="l" t="t" r="r" b="b"/>
                <a:pathLst>
                  <a:path w="109" h="128">
                    <a:moveTo>
                      <a:pt x="109" y="87"/>
                    </a:moveTo>
                    <a:lnTo>
                      <a:pt x="102" y="93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79" y="112"/>
                    </a:lnTo>
                    <a:lnTo>
                      <a:pt x="71" y="117"/>
                    </a:lnTo>
                    <a:lnTo>
                      <a:pt x="63" y="121"/>
                    </a:lnTo>
                    <a:lnTo>
                      <a:pt x="54" y="125"/>
                    </a:lnTo>
                    <a:lnTo>
                      <a:pt x="46" y="128"/>
                    </a:lnTo>
                    <a:lnTo>
                      <a:pt x="34" y="117"/>
                    </a:lnTo>
                    <a:lnTo>
                      <a:pt x="25" y="106"/>
                    </a:lnTo>
                    <a:lnTo>
                      <a:pt x="15" y="94"/>
                    </a:lnTo>
                    <a:lnTo>
                      <a:pt x="10" y="81"/>
                    </a:lnTo>
                    <a:lnTo>
                      <a:pt x="5" y="65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2"/>
                    </a:lnTo>
                    <a:lnTo>
                      <a:pt x="12" y="21"/>
                    </a:lnTo>
                    <a:lnTo>
                      <a:pt x="22" y="21"/>
                    </a:lnTo>
                    <a:lnTo>
                      <a:pt x="33" y="19"/>
                    </a:lnTo>
                    <a:lnTo>
                      <a:pt x="43" y="18"/>
                    </a:lnTo>
                    <a:lnTo>
                      <a:pt x="51" y="14"/>
                    </a:lnTo>
                    <a:lnTo>
                      <a:pt x="60" y="9"/>
                    </a:lnTo>
                    <a:lnTo>
                      <a:pt x="69" y="5"/>
                    </a:lnTo>
                    <a:lnTo>
                      <a:pt x="79" y="0"/>
                    </a:lnTo>
                    <a:lnTo>
                      <a:pt x="79" y="11"/>
                    </a:lnTo>
                    <a:lnTo>
                      <a:pt x="81" y="23"/>
                    </a:lnTo>
                    <a:lnTo>
                      <a:pt x="84" y="34"/>
                    </a:lnTo>
                    <a:lnTo>
                      <a:pt x="89" y="45"/>
                    </a:lnTo>
                    <a:lnTo>
                      <a:pt x="93" y="54"/>
                    </a:lnTo>
                    <a:lnTo>
                      <a:pt x="97" y="65"/>
                    </a:lnTo>
                    <a:lnTo>
                      <a:pt x="103" y="76"/>
                    </a:lnTo>
                    <a:lnTo>
                      <a:pt x="109" y="87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36440" y="4231800"/>
                <a:ext cx="58680" cy="57600"/>
              </a:xfrm>
              <a:custGeom>
                <a:avLst/>
                <a:gdLst/>
                <a:ahLst/>
                <a:rect l="l" t="t" r="r" b="b"/>
                <a:pathLst>
                  <a:path w="152" h="128">
                    <a:moveTo>
                      <a:pt x="152" y="128"/>
                    </a:moveTo>
                    <a:lnTo>
                      <a:pt x="137" y="125"/>
                    </a:lnTo>
                    <a:lnTo>
                      <a:pt x="125" y="124"/>
                    </a:lnTo>
                    <a:lnTo>
                      <a:pt x="111" y="122"/>
                    </a:lnTo>
                    <a:lnTo>
                      <a:pt x="98" y="122"/>
                    </a:lnTo>
                    <a:lnTo>
                      <a:pt x="83" y="121"/>
                    </a:lnTo>
                    <a:lnTo>
                      <a:pt x="69" y="121"/>
                    </a:lnTo>
                    <a:lnTo>
                      <a:pt x="57" y="119"/>
                    </a:lnTo>
                    <a:lnTo>
                      <a:pt x="45" y="118"/>
                    </a:lnTo>
                    <a:lnTo>
                      <a:pt x="35" y="119"/>
                    </a:lnTo>
                    <a:lnTo>
                      <a:pt x="23" y="120"/>
                    </a:lnTo>
                    <a:lnTo>
                      <a:pt x="10" y="120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3" y="109"/>
                    </a:lnTo>
                    <a:lnTo>
                      <a:pt x="6" y="102"/>
                    </a:lnTo>
                    <a:lnTo>
                      <a:pt x="9" y="97"/>
                    </a:lnTo>
                    <a:lnTo>
                      <a:pt x="10" y="90"/>
                    </a:lnTo>
                    <a:lnTo>
                      <a:pt x="13" y="84"/>
                    </a:lnTo>
                    <a:lnTo>
                      <a:pt x="14" y="76"/>
                    </a:lnTo>
                    <a:lnTo>
                      <a:pt x="14" y="70"/>
                    </a:lnTo>
                    <a:lnTo>
                      <a:pt x="15" y="64"/>
                    </a:lnTo>
                    <a:lnTo>
                      <a:pt x="17" y="57"/>
                    </a:lnTo>
                    <a:lnTo>
                      <a:pt x="18" y="50"/>
                    </a:lnTo>
                    <a:lnTo>
                      <a:pt x="21" y="44"/>
                    </a:lnTo>
                    <a:lnTo>
                      <a:pt x="22" y="37"/>
                    </a:lnTo>
                    <a:lnTo>
                      <a:pt x="23" y="30"/>
                    </a:lnTo>
                    <a:lnTo>
                      <a:pt x="22" y="23"/>
                    </a:lnTo>
                    <a:lnTo>
                      <a:pt x="22" y="15"/>
                    </a:lnTo>
                    <a:lnTo>
                      <a:pt x="30" y="12"/>
                    </a:lnTo>
                    <a:lnTo>
                      <a:pt x="42" y="10"/>
                    </a:lnTo>
                    <a:lnTo>
                      <a:pt x="52" y="10"/>
                    </a:lnTo>
                    <a:lnTo>
                      <a:pt x="62" y="10"/>
                    </a:lnTo>
                    <a:lnTo>
                      <a:pt x="72" y="8"/>
                    </a:lnTo>
                    <a:lnTo>
                      <a:pt x="82" y="7"/>
                    </a:lnTo>
                    <a:lnTo>
                      <a:pt x="92" y="4"/>
                    </a:lnTo>
                    <a:lnTo>
                      <a:pt x="103" y="0"/>
                    </a:lnTo>
                    <a:lnTo>
                      <a:pt x="111" y="14"/>
                    </a:lnTo>
                    <a:lnTo>
                      <a:pt x="119" y="29"/>
                    </a:lnTo>
                    <a:lnTo>
                      <a:pt x="125" y="44"/>
                    </a:lnTo>
                    <a:lnTo>
                      <a:pt x="132" y="61"/>
                    </a:lnTo>
                    <a:lnTo>
                      <a:pt x="136" y="76"/>
                    </a:lnTo>
                    <a:lnTo>
                      <a:pt x="141" y="95"/>
                    </a:lnTo>
                    <a:lnTo>
                      <a:pt x="145" y="111"/>
                    </a:lnTo>
                    <a:lnTo>
                      <a:pt x="152" y="128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5680" y="3630600"/>
                <a:ext cx="60120" cy="79920"/>
              </a:xfrm>
              <a:custGeom>
                <a:avLst/>
                <a:gdLst/>
                <a:ahLst/>
                <a:rect l="l" t="t" r="r" b="b"/>
                <a:pathLst>
                  <a:path w="155" h="177">
                    <a:moveTo>
                      <a:pt x="17" y="62"/>
                    </a:moveTo>
                    <a:lnTo>
                      <a:pt x="26" y="45"/>
                    </a:lnTo>
                    <a:lnTo>
                      <a:pt x="39" y="30"/>
                    </a:lnTo>
                    <a:lnTo>
                      <a:pt x="53" y="17"/>
                    </a:lnTo>
                    <a:lnTo>
                      <a:pt x="67" y="9"/>
                    </a:lnTo>
                    <a:lnTo>
                      <a:pt x="80" y="2"/>
                    </a:lnTo>
                    <a:lnTo>
                      <a:pt x="95" y="0"/>
                    </a:lnTo>
                    <a:lnTo>
                      <a:pt x="112" y="0"/>
                    </a:lnTo>
                    <a:lnTo>
                      <a:pt x="127" y="4"/>
                    </a:lnTo>
                    <a:lnTo>
                      <a:pt x="137" y="10"/>
                    </a:lnTo>
                    <a:lnTo>
                      <a:pt x="145" y="19"/>
                    </a:lnTo>
                    <a:lnTo>
                      <a:pt x="151" y="31"/>
                    </a:lnTo>
                    <a:lnTo>
                      <a:pt x="155" y="47"/>
                    </a:lnTo>
                    <a:lnTo>
                      <a:pt x="155" y="62"/>
                    </a:lnTo>
                    <a:lnTo>
                      <a:pt x="153" y="78"/>
                    </a:lnTo>
                    <a:lnTo>
                      <a:pt x="148" y="95"/>
                    </a:lnTo>
                    <a:lnTo>
                      <a:pt x="142" y="115"/>
                    </a:lnTo>
                    <a:lnTo>
                      <a:pt x="130" y="130"/>
                    </a:lnTo>
                    <a:lnTo>
                      <a:pt x="118" y="145"/>
                    </a:lnTo>
                    <a:lnTo>
                      <a:pt x="105" y="155"/>
                    </a:lnTo>
                    <a:lnTo>
                      <a:pt x="90" y="167"/>
                    </a:lnTo>
                    <a:lnTo>
                      <a:pt x="75" y="173"/>
                    </a:lnTo>
                    <a:lnTo>
                      <a:pt x="61" y="176"/>
                    </a:lnTo>
                    <a:lnTo>
                      <a:pt x="46" y="177"/>
                    </a:lnTo>
                    <a:lnTo>
                      <a:pt x="32" y="175"/>
                    </a:lnTo>
                    <a:lnTo>
                      <a:pt x="20" y="167"/>
                    </a:lnTo>
                    <a:lnTo>
                      <a:pt x="11" y="155"/>
                    </a:lnTo>
                    <a:lnTo>
                      <a:pt x="4" y="143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5"/>
                    </a:lnTo>
                    <a:lnTo>
                      <a:pt x="8" y="78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25200" y="3619800"/>
                <a:ext cx="47880" cy="40320"/>
              </a:xfrm>
              <a:custGeom>
                <a:avLst/>
                <a:gdLst/>
                <a:ahLst/>
                <a:rect l="l" t="t" r="r" b="b"/>
                <a:pathLst>
                  <a:path w="124" h="91">
                    <a:moveTo>
                      <a:pt x="0" y="89"/>
                    </a:moveTo>
                    <a:lnTo>
                      <a:pt x="5" y="71"/>
                    </a:lnTo>
                    <a:lnTo>
                      <a:pt x="16" y="53"/>
                    </a:lnTo>
                    <a:lnTo>
                      <a:pt x="30" y="36"/>
                    </a:lnTo>
                    <a:lnTo>
                      <a:pt x="45" y="23"/>
                    </a:lnTo>
                    <a:lnTo>
                      <a:pt x="60" y="11"/>
                    </a:lnTo>
                    <a:lnTo>
                      <a:pt x="78" y="3"/>
                    </a:lnTo>
                    <a:lnTo>
                      <a:pt x="100" y="0"/>
                    </a:lnTo>
                    <a:lnTo>
                      <a:pt x="124" y="6"/>
                    </a:lnTo>
                    <a:lnTo>
                      <a:pt x="121" y="16"/>
                    </a:lnTo>
                    <a:lnTo>
                      <a:pt x="118" y="27"/>
                    </a:lnTo>
                    <a:lnTo>
                      <a:pt x="115" y="37"/>
                    </a:lnTo>
                    <a:lnTo>
                      <a:pt x="111" y="49"/>
                    </a:lnTo>
                    <a:lnTo>
                      <a:pt x="106" y="59"/>
                    </a:lnTo>
                    <a:lnTo>
                      <a:pt x="101" y="71"/>
                    </a:lnTo>
                    <a:lnTo>
                      <a:pt x="94" y="81"/>
                    </a:lnTo>
                    <a:lnTo>
                      <a:pt x="87" y="91"/>
                    </a:lnTo>
                    <a:lnTo>
                      <a:pt x="75" y="90"/>
                    </a:lnTo>
                    <a:lnTo>
                      <a:pt x="64" y="90"/>
                    </a:lnTo>
                    <a:lnTo>
                      <a:pt x="54" y="90"/>
                    </a:lnTo>
                    <a:lnTo>
                      <a:pt x="43" y="90"/>
                    </a:lnTo>
                    <a:lnTo>
                      <a:pt x="32" y="90"/>
                    </a:lnTo>
                    <a:lnTo>
                      <a:pt x="20" y="90"/>
                    </a:lnTo>
                    <a:lnTo>
                      <a:pt x="1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3280" y="3730320"/>
                <a:ext cx="82440" cy="62640"/>
              </a:xfrm>
              <a:custGeom>
                <a:avLst/>
                <a:gdLst/>
                <a:ahLst/>
                <a:rect l="l" t="t" r="r" b="b"/>
                <a:pathLst>
                  <a:path w="214" h="140">
                    <a:moveTo>
                      <a:pt x="107" y="0"/>
                    </a:moveTo>
                    <a:lnTo>
                      <a:pt x="126" y="0"/>
                    </a:lnTo>
                    <a:lnTo>
                      <a:pt x="147" y="5"/>
                    </a:lnTo>
                    <a:lnTo>
                      <a:pt x="164" y="11"/>
                    </a:lnTo>
                    <a:lnTo>
                      <a:pt x="180" y="20"/>
                    </a:lnTo>
                    <a:lnTo>
                      <a:pt x="194" y="29"/>
                    </a:lnTo>
                    <a:lnTo>
                      <a:pt x="205" y="42"/>
                    </a:lnTo>
                    <a:lnTo>
                      <a:pt x="210" y="56"/>
                    </a:lnTo>
                    <a:lnTo>
                      <a:pt x="214" y="72"/>
                    </a:lnTo>
                    <a:lnTo>
                      <a:pt x="210" y="85"/>
                    </a:lnTo>
                    <a:lnTo>
                      <a:pt x="205" y="97"/>
                    </a:lnTo>
                    <a:lnTo>
                      <a:pt x="194" y="108"/>
                    </a:lnTo>
                    <a:lnTo>
                      <a:pt x="180" y="120"/>
                    </a:lnTo>
                    <a:lnTo>
                      <a:pt x="164" y="127"/>
                    </a:lnTo>
                    <a:lnTo>
                      <a:pt x="147" y="134"/>
                    </a:lnTo>
                    <a:lnTo>
                      <a:pt x="126" y="138"/>
                    </a:lnTo>
                    <a:lnTo>
                      <a:pt x="107" y="140"/>
                    </a:lnTo>
                    <a:lnTo>
                      <a:pt x="85" y="138"/>
                    </a:lnTo>
                    <a:lnTo>
                      <a:pt x="65" y="134"/>
                    </a:lnTo>
                    <a:lnTo>
                      <a:pt x="47" y="127"/>
                    </a:lnTo>
                    <a:lnTo>
                      <a:pt x="32" y="120"/>
                    </a:lnTo>
                    <a:lnTo>
                      <a:pt x="19" y="108"/>
                    </a:lnTo>
                    <a:lnTo>
                      <a:pt x="9" y="97"/>
                    </a:lnTo>
                    <a:lnTo>
                      <a:pt x="2" y="85"/>
                    </a:lnTo>
                    <a:lnTo>
                      <a:pt x="0" y="72"/>
                    </a:lnTo>
                    <a:lnTo>
                      <a:pt x="2" y="56"/>
                    </a:lnTo>
                    <a:lnTo>
                      <a:pt x="9" y="42"/>
                    </a:lnTo>
                    <a:lnTo>
                      <a:pt x="19" y="29"/>
                    </a:lnTo>
                    <a:lnTo>
                      <a:pt x="32" y="20"/>
                    </a:lnTo>
                    <a:lnTo>
                      <a:pt x="47" y="11"/>
                    </a:lnTo>
                    <a:lnTo>
                      <a:pt x="65" y="5"/>
                    </a:lnTo>
                    <a:lnTo>
                      <a:pt x="85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6600" y="3708720"/>
                <a:ext cx="47160" cy="40320"/>
              </a:xfrm>
              <a:custGeom>
                <a:avLst/>
                <a:gdLst/>
                <a:ahLst/>
                <a:rect l="l" t="t" r="r" b="b"/>
                <a:pathLst>
                  <a:path w="122" h="90">
                    <a:moveTo>
                      <a:pt x="122" y="88"/>
                    </a:moveTo>
                    <a:lnTo>
                      <a:pt x="113" y="69"/>
                    </a:lnTo>
                    <a:lnTo>
                      <a:pt x="104" y="52"/>
                    </a:lnTo>
                    <a:lnTo>
                      <a:pt x="90" y="33"/>
                    </a:lnTo>
                    <a:lnTo>
                      <a:pt x="76" y="21"/>
                    </a:lnTo>
                    <a:lnTo>
                      <a:pt x="59" y="9"/>
                    </a:lnTo>
                    <a:lnTo>
                      <a:pt x="41" y="2"/>
                    </a:lnTo>
                    <a:lnTo>
                      <a:pt x="21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4"/>
                    </a:lnTo>
                    <a:lnTo>
                      <a:pt x="6" y="34"/>
                    </a:lnTo>
                    <a:lnTo>
                      <a:pt x="10" y="47"/>
                    </a:lnTo>
                    <a:lnTo>
                      <a:pt x="14" y="58"/>
                    </a:lnTo>
                    <a:lnTo>
                      <a:pt x="21" y="69"/>
                    </a:lnTo>
                    <a:lnTo>
                      <a:pt x="28" y="79"/>
                    </a:lnTo>
                    <a:lnTo>
                      <a:pt x="37" y="90"/>
                    </a:lnTo>
                    <a:lnTo>
                      <a:pt x="47" y="89"/>
                    </a:lnTo>
                    <a:lnTo>
                      <a:pt x="58" y="89"/>
                    </a:lnTo>
                    <a:lnTo>
                      <a:pt x="68" y="89"/>
                    </a:lnTo>
                    <a:lnTo>
                      <a:pt x="78" y="89"/>
                    </a:lnTo>
                    <a:lnTo>
                      <a:pt x="89" y="89"/>
                    </a:lnTo>
                    <a:lnTo>
                      <a:pt x="100" y="89"/>
                    </a:lnTo>
                    <a:lnTo>
                      <a:pt x="111" y="88"/>
                    </a:lnTo>
                    <a:lnTo>
                      <a:pt x="122" y="88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27320" y="3684600"/>
                <a:ext cx="79560" cy="66240"/>
              </a:xfrm>
              <a:custGeom>
                <a:avLst/>
                <a:gdLst/>
                <a:ahLst/>
                <a:rect l="l" t="t" r="r" b="b"/>
                <a:pathLst>
                  <a:path w="207" h="146">
                    <a:moveTo>
                      <a:pt x="126" y="8"/>
                    </a:moveTo>
                    <a:lnTo>
                      <a:pt x="144" y="14"/>
                    </a:lnTo>
                    <a:lnTo>
                      <a:pt x="162" y="24"/>
                    </a:lnTo>
                    <a:lnTo>
                      <a:pt x="177" y="34"/>
                    </a:lnTo>
                    <a:lnTo>
                      <a:pt x="191" y="49"/>
                    </a:lnTo>
                    <a:lnTo>
                      <a:pt x="199" y="63"/>
                    </a:lnTo>
                    <a:lnTo>
                      <a:pt x="204" y="77"/>
                    </a:lnTo>
                    <a:lnTo>
                      <a:pt x="207" y="91"/>
                    </a:lnTo>
                    <a:lnTo>
                      <a:pt x="206" y="106"/>
                    </a:lnTo>
                    <a:lnTo>
                      <a:pt x="198" y="117"/>
                    </a:lnTo>
                    <a:lnTo>
                      <a:pt x="188" y="129"/>
                    </a:lnTo>
                    <a:lnTo>
                      <a:pt x="174" y="136"/>
                    </a:lnTo>
                    <a:lnTo>
                      <a:pt x="159" y="143"/>
                    </a:lnTo>
                    <a:lnTo>
                      <a:pt x="141" y="146"/>
                    </a:lnTo>
                    <a:lnTo>
                      <a:pt x="124" y="146"/>
                    </a:lnTo>
                    <a:lnTo>
                      <a:pt x="103" y="144"/>
                    </a:lnTo>
                    <a:lnTo>
                      <a:pt x="83" y="141"/>
                    </a:lnTo>
                    <a:lnTo>
                      <a:pt x="63" y="131"/>
                    </a:lnTo>
                    <a:lnTo>
                      <a:pt x="44" y="122"/>
                    </a:lnTo>
                    <a:lnTo>
                      <a:pt x="29" y="111"/>
                    </a:lnTo>
                    <a:lnTo>
                      <a:pt x="18" y="98"/>
                    </a:lnTo>
                    <a:lnTo>
                      <a:pt x="7" y="84"/>
                    </a:lnTo>
                    <a:lnTo>
                      <a:pt x="1" y="70"/>
                    </a:lnTo>
                    <a:lnTo>
                      <a:pt x="0" y="56"/>
                    </a:lnTo>
                    <a:lnTo>
                      <a:pt x="4" y="42"/>
                    </a:lnTo>
                    <a:lnTo>
                      <a:pt x="8" y="27"/>
                    </a:lnTo>
                    <a:lnTo>
                      <a:pt x="18" y="17"/>
                    </a:lnTo>
                    <a:lnTo>
                      <a:pt x="30" y="9"/>
                    </a:lnTo>
                    <a:lnTo>
                      <a:pt x="46" y="4"/>
                    </a:lnTo>
                    <a:lnTo>
                      <a:pt x="64" y="0"/>
                    </a:lnTo>
                    <a:lnTo>
                      <a:pt x="83" y="0"/>
                    </a:lnTo>
                    <a:lnTo>
                      <a:pt x="104" y="2"/>
                    </a:lnTo>
                    <a:lnTo>
                      <a:pt x="126" y="8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2880" y="3659400"/>
                <a:ext cx="35280" cy="52920"/>
              </a:xfrm>
              <a:custGeom>
                <a:avLst/>
                <a:gdLst/>
                <a:ahLst/>
                <a:rect l="l" t="t" r="r" b="b"/>
                <a:pathLst>
                  <a:path w="92" h="119">
                    <a:moveTo>
                      <a:pt x="92" y="119"/>
                    </a:moveTo>
                    <a:lnTo>
                      <a:pt x="90" y="99"/>
                    </a:lnTo>
                    <a:lnTo>
                      <a:pt x="87" y="78"/>
                    </a:lnTo>
                    <a:lnTo>
                      <a:pt x="80" y="59"/>
                    </a:lnTo>
                    <a:lnTo>
                      <a:pt x="72" y="42"/>
                    </a:lnTo>
                    <a:lnTo>
                      <a:pt x="59" y="24"/>
                    </a:lnTo>
                    <a:lnTo>
                      <a:pt x="43" y="12"/>
                    </a:lnTo>
                    <a:lnTo>
                      <a:pt x="24" y="2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21"/>
                    </a:lnTo>
                    <a:lnTo>
                      <a:pt x="0" y="32"/>
                    </a:lnTo>
                    <a:lnTo>
                      <a:pt x="1" y="45"/>
                    </a:lnTo>
                    <a:lnTo>
                      <a:pt x="1" y="57"/>
                    </a:lnTo>
                    <a:lnTo>
                      <a:pt x="3" y="69"/>
                    </a:lnTo>
                    <a:lnTo>
                      <a:pt x="6" y="81"/>
                    </a:lnTo>
                    <a:lnTo>
                      <a:pt x="10" y="95"/>
                    </a:lnTo>
                    <a:lnTo>
                      <a:pt x="20" y="96"/>
                    </a:lnTo>
                    <a:lnTo>
                      <a:pt x="30" y="100"/>
                    </a:lnTo>
                    <a:lnTo>
                      <a:pt x="40" y="104"/>
                    </a:lnTo>
                    <a:lnTo>
                      <a:pt x="52" y="107"/>
                    </a:lnTo>
                    <a:lnTo>
                      <a:pt x="61" y="110"/>
                    </a:lnTo>
                    <a:lnTo>
                      <a:pt x="70" y="113"/>
                    </a:lnTo>
                    <a:lnTo>
                      <a:pt x="81" y="115"/>
                    </a:lnTo>
                    <a:lnTo>
                      <a:pt x="92" y="119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59040" y="3805920"/>
                <a:ext cx="3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76240" y="3825720"/>
                <a:ext cx="144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83440" y="3839040"/>
                <a:ext cx="81720" cy="62640"/>
              </a:xfrm>
              <a:custGeom>
                <a:avLst/>
                <a:gdLst/>
                <a:ahLst/>
                <a:rect l="l" t="t" r="r" b="b"/>
                <a:pathLst>
                  <a:path w="214" h="139">
                    <a:moveTo>
                      <a:pt x="106" y="0"/>
                    </a:moveTo>
                    <a:lnTo>
                      <a:pt x="126" y="0"/>
                    </a:lnTo>
                    <a:lnTo>
                      <a:pt x="147" y="4"/>
                    </a:lnTo>
                    <a:lnTo>
                      <a:pt x="164" y="10"/>
                    </a:lnTo>
                    <a:lnTo>
                      <a:pt x="180" y="19"/>
                    </a:lnTo>
                    <a:lnTo>
                      <a:pt x="194" y="28"/>
                    </a:lnTo>
                    <a:lnTo>
                      <a:pt x="204" y="41"/>
                    </a:lnTo>
                    <a:lnTo>
                      <a:pt x="210" y="55"/>
                    </a:lnTo>
                    <a:lnTo>
                      <a:pt x="214" y="70"/>
                    </a:lnTo>
                    <a:lnTo>
                      <a:pt x="210" y="83"/>
                    </a:lnTo>
                    <a:lnTo>
                      <a:pt x="204" y="95"/>
                    </a:lnTo>
                    <a:lnTo>
                      <a:pt x="194" y="107"/>
                    </a:lnTo>
                    <a:lnTo>
                      <a:pt x="180" y="118"/>
                    </a:lnTo>
                    <a:lnTo>
                      <a:pt x="164" y="127"/>
                    </a:lnTo>
                    <a:lnTo>
                      <a:pt x="147" y="133"/>
                    </a:lnTo>
                    <a:lnTo>
                      <a:pt x="126" y="137"/>
                    </a:lnTo>
                    <a:lnTo>
                      <a:pt x="106" y="139"/>
                    </a:lnTo>
                    <a:lnTo>
                      <a:pt x="84" y="137"/>
                    </a:lnTo>
                    <a:lnTo>
                      <a:pt x="65" y="133"/>
                    </a:lnTo>
                    <a:lnTo>
                      <a:pt x="46" y="127"/>
                    </a:lnTo>
                    <a:lnTo>
                      <a:pt x="31" y="118"/>
                    </a:lnTo>
                    <a:lnTo>
                      <a:pt x="19" y="107"/>
                    </a:lnTo>
                    <a:lnTo>
                      <a:pt x="8" y="95"/>
                    </a:lnTo>
                    <a:lnTo>
                      <a:pt x="1" y="83"/>
                    </a:lnTo>
                    <a:lnTo>
                      <a:pt x="0" y="70"/>
                    </a:lnTo>
                    <a:lnTo>
                      <a:pt x="1" y="55"/>
                    </a:lnTo>
                    <a:lnTo>
                      <a:pt x="8" y="41"/>
                    </a:lnTo>
                    <a:lnTo>
                      <a:pt x="19" y="28"/>
                    </a:lnTo>
                    <a:lnTo>
                      <a:pt x="31" y="19"/>
                    </a:lnTo>
                    <a:lnTo>
                      <a:pt x="46" y="10"/>
                    </a:lnTo>
                    <a:lnTo>
                      <a:pt x="65" y="4"/>
                    </a:lnTo>
                    <a:lnTo>
                      <a:pt x="84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21960" y="3814920"/>
                <a:ext cx="48600" cy="41040"/>
              </a:xfrm>
              <a:custGeom>
                <a:avLst/>
                <a:gdLst/>
                <a:ahLst/>
                <a:rect l="l" t="t" r="r" b="b"/>
                <a:pathLst>
                  <a:path w="124" h="93">
                    <a:moveTo>
                      <a:pt x="0" y="90"/>
                    </a:moveTo>
                    <a:lnTo>
                      <a:pt x="7" y="71"/>
                    </a:lnTo>
                    <a:lnTo>
                      <a:pt x="17" y="53"/>
                    </a:lnTo>
                    <a:lnTo>
                      <a:pt x="30" y="35"/>
                    </a:lnTo>
                    <a:lnTo>
                      <a:pt x="45" y="22"/>
                    </a:lnTo>
                    <a:lnTo>
                      <a:pt x="61" y="11"/>
                    </a:lnTo>
                    <a:lnTo>
                      <a:pt x="79" y="4"/>
                    </a:lnTo>
                    <a:lnTo>
                      <a:pt x="100" y="0"/>
                    </a:lnTo>
                    <a:lnTo>
                      <a:pt x="124" y="5"/>
                    </a:lnTo>
                    <a:lnTo>
                      <a:pt x="121" y="15"/>
                    </a:lnTo>
                    <a:lnTo>
                      <a:pt x="118" y="26"/>
                    </a:lnTo>
                    <a:lnTo>
                      <a:pt x="115" y="36"/>
                    </a:lnTo>
                    <a:lnTo>
                      <a:pt x="112" y="48"/>
                    </a:lnTo>
                    <a:lnTo>
                      <a:pt x="106" y="59"/>
                    </a:lnTo>
                    <a:lnTo>
                      <a:pt x="101" y="71"/>
                    </a:lnTo>
                    <a:lnTo>
                      <a:pt x="94" y="81"/>
                    </a:lnTo>
                    <a:lnTo>
                      <a:pt x="86" y="93"/>
                    </a:lnTo>
                    <a:lnTo>
                      <a:pt x="76" y="90"/>
                    </a:lnTo>
                    <a:lnTo>
                      <a:pt x="65" y="90"/>
                    </a:lnTo>
                    <a:lnTo>
                      <a:pt x="55" y="90"/>
                    </a:lnTo>
                    <a:lnTo>
                      <a:pt x="45" y="91"/>
                    </a:lnTo>
                    <a:lnTo>
                      <a:pt x="33" y="91"/>
                    </a:lnTo>
                    <a:lnTo>
                      <a:pt x="22" y="91"/>
                    </a:lnTo>
                    <a:lnTo>
                      <a:pt x="1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68080" y="3720600"/>
                <a:ext cx="144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50160" y="3700800"/>
                <a:ext cx="3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61960" y="3626280"/>
                <a:ext cx="82440" cy="61920"/>
              </a:xfrm>
              <a:custGeom>
                <a:avLst/>
                <a:gdLst/>
                <a:ahLst/>
                <a:rect l="l" t="t" r="r" b="b"/>
                <a:pathLst>
                  <a:path w="213" h="140">
                    <a:moveTo>
                      <a:pt x="107" y="140"/>
                    </a:moveTo>
                    <a:lnTo>
                      <a:pt x="84" y="137"/>
                    </a:lnTo>
                    <a:lnTo>
                      <a:pt x="64" y="134"/>
                    </a:lnTo>
                    <a:lnTo>
                      <a:pt x="45" y="127"/>
                    </a:lnTo>
                    <a:lnTo>
                      <a:pt x="31" y="119"/>
                    </a:lnTo>
                    <a:lnTo>
                      <a:pt x="18" y="107"/>
                    </a:lnTo>
                    <a:lnTo>
                      <a:pt x="9" y="96"/>
                    </a:lnTo>
                    <a:lnTo>
                      <a:pt x="2" y="82"/>
                    </a:lnTo>
                    <a:lnTo>
                      <a:pt x="0" y="69"/>
                    </a:lnTo>
                    <a:lnTo>
                      <a:pt x="2" y="56"/>
                    </a:lnTo>
                    <a:lnTo>
                      <a:pt x="9" y="42"/>
                    </a:lnTo>
                    <a:lnTo>
                      <a:pt x="18" y="29"/>
                    </a:lnTo>
                    <a:lnTo>
                      <a:pt x="31" y="20"/>
                    </a:lnTo>
                    <a:lnTo>
                      <a:pt x="45" y="11"/>
                    </a:lnTo>
                    <a:lnTo>
                      <a:pt x="64" y="5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28" y="0"/>
                    </a:lnTo>
                    <a:lnTo>
                      <a:pt x="147" y="5"/>
                    </a:lnTo>
                    <a:lnTo>
                      <a:pt x="165" y="11"/>
                    </a:lnTo>
                    <a:lnTo>
                      <a:pt x="182" y="20"/>
                    </a:lnTo>
                    <a:lnTo>
                      <a:pt x="194" y="29"/>
                    </a:lnTo>
                    <a:lnTo>
                      <a:pt x="204" y="42"/>
                    </a:lnTo>
                    <a:lnTo>
                      <a:pt x="210" y="56"/>
                    </a:lnTo>
                    <a:lnTo>
                      <a:pt x="213" y="69"/>
                    </a:lnTo>
                    <a:lnTo>
                      <a:pt x="210" y="82"/>
                    </a:lnTo>
                    <a:lnTo>
                      <a:pt x="204" y="96"/>
                    </a:lnTo>
                    <a:lnTo>
                      <a:pt x="194" y="107"/>
                    </a:lnTo>
                    <a:lnTo>
                      <a:pt x="182" y="119"/>
                    </a:lnTo>
                    <a:lnTo>
                      <a:pt x="165" y="127"/>
                    </a:lnTo>
                    <a:lnTo>
                      <a:pt x="147" y="134"/>
                    </a:lnTo>
                    <a:lnTo>
                      <a:pt x="128" y="137"/>
                    </a:lnTo>
                    <a:lnTo>
                      <a:pt x="107" y="14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57280" y="3671280"/>
                <a:ext cx="47160" cy="42120"/>
              </a:xfrm>
              <a:custGeom>
                <a:avLst/>
                <a:gdLst/>
                <a:ahLst/>
                <a:rect l="l" t="t" r="r" b="b"/>
                <a:pathLst>
                  <a:path w="122" h="92">
                    <a:moveTo>
                      <a:pt x="122" y="4"/>
                    </a:moveTo>
                    <a:lnTo>
                      <a:pt x="114" y="22"/>
                    </a:lnTo>
                    <a:lnTo>
                      <a:pt x="105" y="39"/>
                    </a:lnTo>
                    <a:lnTo>
                      <a:pt x="92" y="55"/>
                    </a:lnTo>
                    <a:lnTo>
                      <a:pt x="78" y="71"/>
                    </a:lnTo>
                    <a:lnTo>
                      <a:pt x="60" y="82"/>
                    </a:lnTo>
                    <a:lnTo>
                      <a:pt x="43" y="90"/>
                    </a:lnTo>
                    <a:lnTo>
                      <a:pt x="22" y="9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3" y="65"/>
                    </a:lnTo>
                    <a:lnTo>
                      <a:pt x="7" y="55"/>
                    </a:lnTo>
                    <a:lnTo>
                      <a:pt x="12" y="45"/>
                    </a:lnTo>
                    <a:lnTo>
                      <a:pt x="16" y="33"/>
                    </a:lnTo>
                    <a:lnTo>
                      <a:pt x="23" y="22"/>
                    </a:lnTo>
                    <a:lnTo>
                      <a:pt x="29" y="11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59" y="1"/>
                    </a:lnTo>
                    <a:lnTo>
                      <a:pt x="69" y="1"/>
                    </a:lnTo>
                    <a:lnTo>
                      <a:pt x="81" y="2"/>
                    </a:lnTo>
                    <a:lnTo>
                      <a:pt x="90" y="2"/>
                    </a:lnTo>
                    <a:lnTo>
                      <a:pt x="100" y="2"/>
                    </a:lnTo>
                    <a:lnTo>
                      <a:pt x="111" y="2"/>
                    </a:lnTo>
                    <a:lnTo>
                      <a:pt x="122" y="4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222080" y="2192040"/>
              <a:ext cx="982080" cy="1507680"/>
              <a:chOff x="4222080" y="2192040"/>
              <a:chExt cx="982080" cy="15076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4222080" y="2192040"/>
                <a:ext cx="982080" cy="1507680"/>
              </a:xfrm>
              <a:custGeom>
                <a:avLst/>
                <a:gdLst/>
                <a:ahLst/>
                <a:rect l="l" t="t" r="r" b="b"/>
                <a:pathLst>
                  <a:path w="3768" h="5576">
                    <a:moveTo>
                      <a:pt x="67" y="0"/>
                    </a:moveTo>
                    <a:lnTo>
                      <a:pt x="86" y="18"/>
                    </a:lnTo>
                    <a:lnTo>
                      <a:pt x="101" y="40"/>
                    </a:lnTo>
                    <a:lnTo>
                      <a:pt x="112" y="62"/>
                    </a:lnTo>
                    <a:lnTo>
                      <a:pt x="125" y="86"/>
                    </a:lnTo>
                    <a:lnTo>
                      <a:pt x="135" y="107"/>
                    </a:lnTo>
                    <a:lnTo>
                      <a:pt x="147" y="128"/>
                    </a:lnTo>
                    <a:lnTo>
                      <a:pt x="164" y="147"/>
                    </a:lnTo>
                    <a:lnTo>
                      <a:pt x="190" y="164"/>
                    </a:lnTo>
                    <a:lnTo>
                      <a:pt x="206" y="171"/>
                    </a:lnTo>
                    <a:lnTo>
                      <a:pt x="231" y="185"/>
                    </a:lnTo>
                    <a:lnTo>
                      <a:pt x="263" y="200"/>
                    </a:lnTo>
                    <a:lnTo>
                      <a:pt x="296" y="217"/>
                    </a:lnTo>
                    <a:lnTo>
                      <a:pt x="328" y="231"/>
                    </a:lnTo>
                    <a:lnTo>
                      <a:pt x="357" y="244"/>
                    </a:lnTo>
                    <a:lnTo>
                      <a:pt x="381" y="251"/>
                    </a:lnTo>
                    <a:lnTo>
                      <a:pt x="394" y="251"/>
                    </a:lnTo>
                    <a:lnTo>
                      <a:pt x="392" y="231"/>
                    </a:lnTo>
                    <a:lnTo>
                      <a:pt x="386" y="213"/>
                    </a:lnTo>
                    <a:lnTo>
                      <a:pt x="378" y="196"/>
                    </a:lnTo>
                    <a:lnTo>
                      <a:pt x="368" y="178"/>
                    </a:lnTo>
                    <a:lnTo>
                      <a:pt x="360" y="160"/>
                    </a:lnTo>
                    <a:lnTo>
                      <a:pt x="352" y="142"/>
                    </a:lnTo>
                    <a:lnTo>
                      <a:pt x="349" y="123"/>
                    </a:lnTo>
                    <a:lnTo>
                      <a:pt x="349" y="106"/>
                    </a:lnTo>
                    <a:lnTo>
                      <a:pt x="356" y="99"/>
                    </a:lnTo>
                    <a:lnTo>
                      <a:pt x="367" y="98"/>
                    </a:lnTo>
                    <a:lnTo>
                      <a:pt x="380" y="101"/>
                    </a:lnTo>
                    <a:lnTo>
                      <a:pt x="391" y="106"/>
                    </a:lnTo>
                    <a:lnTo>
                      <a:pt x="420" y="137"/>
                    </a:lnTo>
                    <a:lnTo>
                      <a:pt x="450" y="170"/>
                    </a:lnTo>
                    <a:lnTo>
                      <a:pt x="474" y="202"/>
                    </a:lnTo>
                    <a:lnTo>
                      <a:pt x="498" y="237"/>
                    </a:lnTo>
                    <a:lnTo>
                      <a:pt x="516" y="270"/>
                    </a:lnTo>
                    <a:lnTo>
                      <a:pt x="531" y="307"/>
                    </a:lnTo>
                    <a:lnTo>
                      <a:pt x="542" y="344"/>
                    </a:lnTo>
                    <a:lnTo>
                      <a:pt x="549" y="383"/>
                    </a:lnTo>
                    <a:lnTo>
                      <a:pt x="604" y="454"/>
                    </a:lnTo>
                    <a:lnTo>
                      <a:pt x="654" y="525"/>
                    </a:lnTo>
                    <a:lnTo>
                      <a:pt x="698" y="598"/>
                    </a:lnTo>
                    <a:lnTo>
                      <a:pt x="739" y="673"/>
                    </a:lnTo>
                    <a:lnTo>
                      <a:pt x="775" y="749"/>
                    </a:lnTo>
                    <a:lnTo>
                      <a:pt x="806" y="828"/>
                    </a:lnTo>
                    <a:lnTo>
                      <a:pt x="831" y="910"/>
                    </a:lnTo>
                    <a:lnTo>
                      <a:pt x="854" y="993"/>
                    </a:lnTo>
                    <a:lnTo>
                      <a:pt x="867" y="1026"/>
                    </a:lnTo>
                    <a:lnTo>
                      <a:pt x="878" y="1061"/>
                    </a:lnTo>
                    <a:lnTo>
                      <a:pt x="886" y="1095"/>
                    </a:lnTo>
                    <a:lnTo>
                      <a:pt x="894" y="1132"/>
                    </a:lnTo>
                    <a:lnTo>
                      <a:pt x="903" y="1165"/>
                    </a:lnTo>
                    <a:lnTo>
                      <a:pt x="920" y="1197"/>
                    </a:lnTo>
                    <a:lnTo>
                      <a:pt x="945" y="1227"/>
                    </a:lnTo>
                    <a:lnTo>
                      <a:pt x="980" y="1253"/>
                    </a:lnTo>
                    <a:lnTo>
                      <a:pt x="1038" y="1253"/>
                    </a:lnTo>
                    <a:lnTo>
                      <a:pt x="1097" y="1257"/>
                    </a:lnTo>
                    <a:lnTo>
                      <a:pt x="1154" y="1262"/>
                    </a:lnTo>
                    <a:lnTo>
                      <a:pt x="1212" y="1269"/>
                    </a:lnTo>
                    <a:lnTo>
                      <a:pt x="1267" y="1276"/>
                    </a:lnTo>
                    <a:lnTo>
                      <a:pt x="1323" y="1285"/>
                    </a:lnTo>
                    <a:lnTo>
                      <a:pt x="1376" y="1295"/>
                    </a:lnTo>
                    <a:lnTo>
                      <a:pt x="1431" y="1308"/>
                    </a:lnTo>
                    <a:lnTo>
                      <a:pt x="1470" y="1295"/>
                    </a:lnTo>
                    <a:lnTo>
                      <a:pt x="1511" y="1286"/>
                    </a:lnTo>
                    <a:lnTo>
                      <a:pt x="1554" y="1280"/>
                    </a:lnTo>
                    <a:lnTo>
                      <a:pt x="1600" y="1278"/>
                    </a:lnTo>
                    <a:lnTo>
                      <a:pt x="1643" y="1278"/>
                    </a:lnTo>
                    <a:lnTo>
                      <a:pt x="1685" y="1283"/>
                    </a:lnTo>
                    <a:lnTo>
                      <a:pt x="1727" y="1292"/>
                    </a:lnTo>
                    <a:lnTo>
                      <a:pt x="1768" y="1308"/>
                    </a:lnTo>
                    <a:lnTo>
                      <a:pt x="1783" y="1310"/>
                    </a:lnTo>
                    <a:lnTo>
                      <a:pt x="1799" y="1313"/>
                    </a:lnTo>
                    <a:lnTo>
                      <a:pt x="1815" y="1315"/>
                    </a:lnTo>
                    <a:lnTo>
                      <a:pt x="1835" y="1318"/>
                    </a:lnTo>
                    <a:lnTo>
                      <a:pt x="1852" y="1318"/>
                    </a:lnTo>
                    <a:lnTo>
                      <a:pt x="1869" y="1319"/>
                    </a:lnTo>
                    <a:lnTo>
                      <a:pt x="1888" y="1318"/>
                    </a:lnTo>
                    <a:lnTo>
                      <a:pt x="1908" y="1317"/>
                    </a:lnTo>
                    <a:lnTo>
                      <a:pt x="1927" y="1291"/>
                    </a:lnTo>
                    <a:lnTo>
                      <a:pt x="1944" y="1266"/>
                    </a:lnTo>
                    <a:lnTo>
                      <a:pt x="1956" y="1239"/>
                    </a:lnTo>
                    <a:lnTo>
                      <a:pt x="1964" y="1213"/>
                    </a:lnTo>
                    <a:lnTo>
                      <a:pt x="1968" y="1184"/>
                    </a:lnTo>
                    <a:lnTo>
                      <a:pt x="1969" y="1156"/>
                    </a:lnTo>
                    <a:lnTo>
                      <a:pt x="1968" y="1125"/>
                    </a:lnTo>
                    <a:lnTo>
                      <a:pt x="1965" y="1093"/>
                    </a:lnTo>
                    <a:lnTo>
                      <a:pt x="1953" y="1079"/>
                    </a:lnTo>
                    <a:lnTo>
                      <a:pt x="1942" y="1067"/>
                    </a:lnTo>
                    <a:lnTo>
                      <a:pt x="1930" y="1055"/>
                    </a:lnTo>
                    <a:lnTo>
                      <a:pt x="1919" y="1042"/>
                    </a:lnTo>
                    <a:lnTo>
                      <a:pt x="1906" y="1029"/>
                    </a:lnTo>
                    <a:lnTo>
                      <a:pt x="1899" y="1016"/>
                    </a:lnTo>
                    <a:lnTo>
                      <a:pt x="1892" y="1001"/>
                    </a:lnTo>
                    <a:lnTo>
                      <a:pt x="1890" y="986"/>
                    </a:lnTo>
                    <a:lnTo>
                      <a:pt x="1797" y="986"/>
                    </a:lnTo>
                    <a:lnTo>
                      <a:pt x="1795" y="975"/>
                    </a:lnTo>
                    <a:lnTo>
                      <a:pt x="1794" y="965"/>
                    </a:lnTo>
                    <a:lnTo>
                      <a:pt x="1792" y="954"/>
                    </a:lnTo>
                    <a:lnTo>
                      <a:pt x="1788" y="945"/>
                    </a:lnTo>
                    <a:lnTo>
                      <a:pt x="1781" y="936"/>
                    </a:lnTo>
                    <a:lnTo>
                      <a:pt x="1771" y="931"/>
                    </a:lnTo>
                    <a:lnTo>
                      <a:pt x="1757" y="928"/>
                    </a:lnTo>
                    <a:lnTo>
                      <a:pt x="1743" y="930"/>
                    </a:lnTo>
                    <a:lnTo>
                      <a:pt x="1729" y="931"/>
                    </a:lnTo>
                    <a:lnTo>
                      <a:pt x="1717" y="932"/>
                    </a:lnTo>
                    <a:lnTo>
                      <a:pt x="1704" y="931"/>
                    </a:lnTo>
                    <a:lnTo>
                      <a:pt x="1691" y="930"/>
                    </a:lnTo>
                    <a:lnTo>
                      <a:pt x="1679" y="927"/>
                    </a:lnTo>
                    <a:lnTo>
                      <a:pt x="1666" y="925"/>
                    </a:lnTo>
                    <a:lnTo>
                      <a:pt x="1655" y="922"/>
                    </a:lnTo>
                    <a:lnTo>
                      <a:pt x="1645" y="920"/>
                    </a:lnTo>
                    <a:lnTo>
                      <a:pt x="1653" y="911"/>
                    </a:lnTo>
                    <a:lnTo>
                      <a:pt x="1658" y="901"/>
                    </a:lnTo>
                    <a:lnTo>
                      <a:pt x="1661" y="889"/>
                    </a:lnTo>
                    <a:lnTo>
                      <a:pt x="1665" y="880"/>
                    </a:lnTo>
                    <a:lnTo>
                      <a:pt x="1658" y="867"/>
                    </a:lnTo>
                    <a:lnTo>
                      <a:pt x="1650" y="858"/>
                    </a:lnTo>
                    <a:lnTo>
                      <a:pt x="1640" y="848"/>
                    </a:lnTo>
                    <a:lnTo>
                      <a:pt x="1630" y="839"/>
                    </a:lnTo>
                    <a:lnTo>
                      <a:pt x="1619" y="830"/>
                    </a:lnTo>
                    <a:lnTo>
                      <a:pt x="1608" y="823"/>
                    </a:lnTo>
                    <a:lnTo>
                      <a:pt x="1596" y="816"/>
                    </a:lnTo>
                    <a:lnTo>
                      <a:pt x="1584" y="809"/>
                    </a:lnTo>
                    <a:lnTo>
                      <a:pt x="1586" y="802"/>
                    </a:lnTo>
                    <a:lnTo>
                      <a:pt x="1594" y="798"/>
                    </a:lnTo>
                    <a:lnTo>
                      <a:pt x="1601" y="795"/>
                    </a:lnTo>
                    <a:lnTo>
                      <a:pt x="1612" y="792"/>
                    </a:lnTo>
                    <a:lnTo>
                      <a:pt x="1622" y="789"/>
                    </a:lnTo>
                    <a:lnTo>
                      <a:pt x="1632" y="786"/>
                    </a:lnTo>
                    <a:lnTo>
                      <a:pt x="1640" y="781"/>
                    </a:lnTo>
                    <a:lnTo>
                      <a:pt x="1649" y="775"/>
                    </a:lnTo>
                    <a:lnTo>
                      <a:pt x="1698" y="769"/>
                    </a:lnTo>
                    <a:lnTo>
                      <a:pt x="1745" y="754"/>
                    </a:lnTo>
                    <a:lnTo>
                      <a:pt x="1786" y="729"/>
                    </a:lnTo>
                    <a:lnTo>
                      <a:pt x="1824" y="701"/>
                    </a:lnTo>
                    <a:lnTo>
                      <a:pt x="1861" y="669"/>
                    </a:lnTo>
                    <a:lnTo>
                      <a:pt x="1899" y="638"/>
                    </a:lnTo>
                    <a:lnTo>
                      <a:pt x="1938" y="611"/>
                    </a:lnTo>
                    <a:lnTo>
                      <a:pt x="1985" y="592"/>
                    </a:lnTo>
                    <a:lnTo>
                      <a:pt x="2007" y="587"/>
                    </a:lnTo>
                    <a:lnTo>
                      <a:pt x="2031" y="585"/>
                    </a:lnTo>
                    <a:lnTo>
                      <a:pt x="2052" y="583"/>
                    </a:lnTo>
                    <a:lnTo>
                      <a:pt x="2074" y="585"/>
                    </a:lnTo>
                    <a:lnTo>
                      <a:pt x="2095" y="587"/>
                    </a:lnTo>
                    <a:lnTo>
                      <a:pt x="2116" y="594"/>
                    </a:lnTo>
                    <a:lnTo>
                      <a:pt x="2134" y="603"/>
                    </a:lnTo>
                    <a:lnTo>
                      <a:pt x="2154" y="615"/>
                    </a:lnTo>
                    <a:lnTo>
                      <a:pt x="2164" y="609"/>
                    </a:lnTo>
                    <a:lnTo>
                      <a:pt x="2175" y="606"/>
                    </a:lnTo>
                    <a:lnTo>
                      <a:pt x="2186" y="603"/>
                    </a:lnTo>
                    <a:lnTo>
                      <a:pt x="2198" y="602"/>
                    </a:lnTo>
                    <a:lnTo>
                      <a:pt x="2209" y="600"/>
                    </a:lnTo>
                    <a:lnTo>
                      <a:pt x="2223" y="601"/>
                    </a:lnTo>
                    <a:lnTo>
                      <a:pt x="2235" y="602"/>
                    </a:lnTo>
                    <a:lnTo>
                      <a:pt x="2247" y="605"/>
                    </a:lnTo>
                    <a:lnTo>
                      <a:pt x="2262" y="620"/>
                    </a:lnTo>
                    <a:lnTo>
                      <a:pt x="2277" y="639"/>
                    </a:lnTo>
                    <a:lnTo>
                      <a:pt x="2288" y="658"/>
                    </a:lnTo>
                    <a:lnTo>
                      <a:pt x="2300" y="677"/>
                    </a:lnTo>
                    <a:lnTo>
                      <a:pt x="2311" y="696"/>
                    </a:lnTo>
                    <a:lnTo>
                      <a:pt x="2324" y="715"/>
                    </a:lnTo>
                    <a:lnTo>
                      <a:pt x="2337" y="733"/>
                    </a:lnTo>
                    <a:lnTo>
                      <a:pt x="2354" y="753"/>
                    </a:lnTo>
                    <a:lnTo>
                      <a:pt x="2367" y="761"/>
                    </a:lnTo>
                    <a:lnTo>
                      <a:pt x="2382" y="768"/>
                    </a:lnTo>
                    <a:lnTo>
                      <a:pt x="2396" y="774"/>
                    </a:lnTo>
                    <a:lnTo>
                      <a:pt x="2415" y="778"/>
                    </a:lnTo>
                    <a:lnTo>
                      <a:pt x="2430" y="780"/>
                    </a:lnTo>
                    <a:lnTo>
                      <a:pt x="2447" y="783"/>
                    </a:lnTo>
                    <a:lnTo>
                      <a:pt x="2467" y="784"/>
                    </a:lnTo>
                    <a:lnTo>
                      <a:pt x="2485" y="785"/>
                    </a:lnTo>
                    <a:lnTo>
                      <a:pt x="2483" y="811"/>
                    </a:lnTo>
                    <a:lnTo>
                      <a:pt x="2475" y="836"/>
                    </a:lnTo>
                    <a:lnTo>
                      <a:pt x="2460" y="860"/>
                    </a:lnTo>
                    <a:lnTo>
                      <a:pt x="2444" y="885"/>
                    </a:lnTo>
                    <a:lnTo>
                      <a:pt x="2422" y="906"/>
                    </a:lnTo>
                    <a:lnTo>
                      <a:pt x="2398" y="926"/>
                    </a:lnTo>
                    <a:lnTo>
                      <a:pt x="2372" y="944"/>
                    </a:lnTo>
                    <a:lnTo>
                      <a:pt x="2346" y="960"/>
                    </a:lnTo>
                    <a:lnTo>
                      <a:pt x="2330" y="969"/>
                    </a:lnTo>
                    <a:lnTo>
                      <a:pt x="2322" y="981"/>
                    </a:lnTo>
                    <a:lnTo>
                      <a:pt x="2318" y="993"/>
                    </a:lnTo>
                    <a:lnTo>
                      <a:pt x="2318" y="1009"/>
                    </a:lnTo>
                    <a:lnTo>
                      <a:pt x="2316" y="1023"/>
                    </a:lnTo>
                    <a:lnTo>
                      <a:pt x="2316" y="1037"/>
                    </a:lnTo>
                    <a:lnTo>
                      <a:pt x="2314" y="1049"/>
                    </a:lnTo>
                    <a:lnTo>
                      <a:pt x="2309" y="1063"/>
                    </a:lnTo>
                    <a:lnTo>
                      <a:pt x="2299" y="1088"/>
                    </a:lnTo>
                    <a:lnTo>
                      <a:pt x="2283" y="1112"/>
                    </a:lnTo>
                    <a:lnTo>
                      <a:pt x="2261" y="1135"/>
                    </a:lnTo>
                    <a:lnTo>
                      <a:pt x="2240" y="1159"/>
                    </a:lnTo>
                    <a:lnTo>
                      <a:pt x="2219" y="1181"/>
                    </a:lnTo>
                    <a:lnTo>
                      <a:pt x="2203" y="1207"/>
                    </a:lnTo>
                    <a:lnTo>
                      <a:pt x="2196" y="1235"/>
                    </a:lnTo>
                    <a:lnTo>
                      <a:pt x="2202" y="1267"/>
                    </a:lnTo>
                    <a:lnTo>
                      <a:pt x="2201" y="1281"/>
                    </a:lnTo>
                    <a:lnTo>
                      <a:pt x="2203" y="1296"/>
                    </a:lnTo>
                    <a:lnTo>
                      <a:pt x="2207" y="1309"/>
                    </a:lnTo>
                    <a:lnTo>
                      <a:pt x="2217" y="1322"/>
                    </a:lnTo>
                    <a:lnTo>
                      <a:pt x="2226" y="1332"/>
                    </a:lnTo>
                    <a:lnTo>
                      <a:pt x="2239" y="1341"/>
                    </a:lnTo>
                    <a:lnTo>
                      <a:pt x="2254" y="1349"/>
                    </a:lnTo>
                    <a:lnTo>
                      <a:pt x="2272" y="1359"/>
                    </a:lnTo>
                    <a:lnTo>
                      <a:pt x="2292" y="1361"/>
                    </a:lnTo>
                    <a:lnTo>
                      <a:pt x="2311" y="1366"/>
                    </a:lnTo>
                    <a:lnTo>
                      <a:pt x="2331" y="1371"/>
                    </a:lnTo>
                    <a:lnTo>
                      <a:pt x="2352" y="1377"/>
                    </a:lnTo>
                    <a:lnTo>
                      <a:pt x="2372" y="1380"/>
                    </a:lnTo>
                    <a:lnTo>
                      <a:pt x="2393" y="1382"/>
                    </a:lnTo>
                    <a:lnTo>
                      <a:pt x="2414" y="1379"/>
                    </a:lnTo>
                    <a:lnTo>
                      <a:pt x="2436" y="1372"/>
                    </a:lnTo>
                    <a:lnTo>
                      <a:pt x="2458" y="1370"/>
                    </a:lnTo>
                    <a:lnTo>
                      <a:pt x="2483" y="1370"/>
                    </a:lnTo>
                    <a:lnTo>
                      <a:pt x="2506" y="1371"/>
                    </a:lnTo>
                    <a:lnTo>
                      <a:pt x="2531" y="1375"/>
                    </a:lnTo>
                    <a:lnTo>
                      <a:pt x="2551" y="1380"/>
                    </a:lnTo>
                    <a:lnTo>
                      <a:pt x="2571" y="1390"/>
                    </a:lnTo>
                    <a:lnTo>
                      <a:pt x="2588" y="1402"/>
                    </a:lnTo>
                    <a:lnTo>
                      <a:pt x="2604" y="1422"/>
                    </a:lnTo>
                    <a:lnTo>
                      <a:pt x="2612" y="1434"/>
                    </a:lnTo>
                    <a:lnTo>
                      <a:pt x="2617" y="1448"/>
                    </a:lnTo>
                    <a:lnTo>
                      <a:pt x="2620" y="1463"/>
                    </a:lnTo>
                    <a:lnTo>
                      <a:pt x="2624" y="1478"/>
                    </a:lnTo>
                    <a:lnTo>
                      <a:pt x="2625" y="1493"/>
                    </a:lnTo>
                    <a:lnTo>
                      <a:pt x="2629" y="1508"/>
                    </a:lnTo>
                    <a:lnTo>
                      <a:pt x="2633" y="1523"/>
                    </a:lnTo>
                    <a:lnTo>
                      <a:pt x="2640" y="1538"/>
                    </a:lnTo>
                    <a:lnTo>
                      <a:pt x="2634" y="1543"/>
                    </a:lnTo>
                    <a:lnTo>
                      <a:pt x="2632" y="1551"/>
                    </a:lnTo>
                    <a:lnTo>
                      <a:pt x="2630" y="1561"/>
                    </a:lnTo>
                    <a:lnTo>
                      <a:pt x="2632" y="1573"/>
                    </a:lnTo>
                    <a:lnTo>
                      <a:pt x="2632" y="1583"/>
                    </a:lnTo>
                    <a:lnTo>
                      <a:pt x="2634" y="1595"/>
                    </a:lnTo>
                    <a:lnTo>
                      <a:pt x="2635" y="1607"/>
                    </a:lnTo>
                    <a:lnTo>
                      <a:pt x="2636" y="1619"/>
                    </a:lnTo>
                    <a:lnTo>
                      <a:pt x="2670" y="1662"/>
                    </a:lnTo>
                    <a:lnTo>
                      <a:pt x="2710" y="1704"/>
                    </a:lnTo>
                    <a:lnTo>
                      <a:pt x="2755" y="1744"/>
                    </a:lnTo>
                    <a:lnTo>
                      <a:pt x="2801" y="1785"/>
                    </a:lnTo>
                    <a:lnTo>
                      <a:pt x="2845" y="1825"/>
                    </a:lnTo>
                    <a:lnTo>
                      <a:pt x="2885" y="1869"/>
                    </a:lnTo>
                    <a:lnTo>
                      <a:pt x="2921" y="1913"/>
                    </a:lnTo>
                    <a:lnTo>
                      <a:pt x="2948" y="1963"/>
                    </a:lnTo>
                    <a:lnTo>
                      <a:pt x="2949" y="1972"/>
                    </a:lnTo>
                    <a:lnTo>
                      <a:pt x="2954" y="1981"/>
                    </a:lnTo>
                    <a:lnTo>
                      <a:pt x="2961" y="1987"/>
                    </a:lnTo>
                    <a:lnTo>
                      <a:pt x="2969" y="1993"/>
                    </a:lnTo>
                    <a:lnTo>
                      <a:pt x="2989" y="1906"/>
                    </a:lnTo>
                    <a:lnTo>
                      <a:pt x="3013" y="1822"/>
                    </a:lnTo>
                    <a:lnTo>
                      <a:pt x="3039" y="1739"/>
                    </a:lnTo>
                    <a:lnTo>
                      <a:pt x="3069" y="1658"/>
                    </a:lnTo>
                    <a:lnTo>
                      <a:pt x="3097" y="1575"/>
                    </a:lnTo>
                    <a:lnTo>
                      <a:pt x="3129" y="1494"/>
                    </a:lnTo>
                    <a:lnTo>
                      <a:pt x="3158" y="1413"/>
                    </a:lnTo>
                    <a:lnTo>
                      <a:pt x="3191" y="1330"/>
                    </a:lnTo>
                    <a:lnTo>
                      <a:pt x="3197" y="1296"/>
                    </a:lnTo>
                    <a:lnTo>
                      <a:pt x="3202" y="1262"/>
                    </a:lnTo>
                    <a:lnTo>
                      <a:pt x="3204" y="1227"/>
                    </a:lnTo>
                    <a:lnTo>
                      <a:pt x="3210" y="1193"/>
                    </a:lnTo>
                    <a:lnTo>
                      <a:pt x="3218" y="1159"/>
                    </a:lnTo>
                    <a:lnTo>
                      <a:pt x="3234" y="1128"/>
                    </a:lnTo>
                    <a:lnTo>
                      <a:pt x="3255" y="1097"/>
                    </a:lnTo>
                    <a:lnTo>
                      <a:pt x="3288" y="1073"/>
                    </a:lnTo>
                    <a:lnTo>
                      <a:pt x="3305" y="1061"/>
                    </a:lnTo>
                    <a:lnTo>
                      <a:pt x="3322" y="1051"/>
                    </a:lnTo>
                    <a:lnTo>
                      <a:pt x="3339" y="1040"/>
                    </a:lnTo>
                    <a:lnTo>
                      <a:pt x="3358" y="1030"/>
                    </a:lnTo>
                    <a:lnTo>
                      <a:pt x="3374" y="1018"/>
                    </a:lnTo>
                    <a:lnTo>
                      <a:pt x="3391" y="1007"/>
                    </a:lnTo>
                    <a:lnTo>
                      <a:pt x="3407" y="993"/>
                    </a:lnTo>
                    <a:lnTo>
                      <a:pt x="3424" y="980"/>
                    </a:lnTo>
                    <a:lnTo>
                      <a:pt x="3431" y="978"/>
                    </a:lnTo>
                    <a:lnTo>
                      <a:pt x="3436" y="979"/>
                    </a:lnTo>
                    <a:lnTo>
                      <a:pt x="3438" y="981"/>
                    </a:lnTo>
                    <a:lnTo>
                      <a:pt x="3442" y="986"/>
                    </a:lnTo>
                    <a:lnTo>
                      <a:pt x="3443" y="990"/>
                    </a:lnTo>
                    <a:lnTo>
                      <a:pt x="3447" y="996"/>
                    </a:lnTo>
                    <a:lnTo>
                      <a:pt x="3449" y="1002"/>
                    </a:lnTo>
                    <a:lnTo>
                      <a:pt x="3453" y="1007"/>
                    </a:lnTo>
                    <a:lnTo>
                      <a:pt x="3450" y="1020"/>
                    </a:lnTo>
                    <a:lnTo>
                      <a:pt x="3445" y="1034"/>
                    </a:lnTo>
                    <a:lnTo>
                      <a:pt x="3436" y="1047"/>
                    </a:lnTo>
                    <a:lnTo>
                      <a:pt x="3424" y="1061"/>
                    </a:lnTo>
                    <a:lnTo>
                      <a:pt x="3410" y="1073"/>
                    </a:lnTo>
                    <a:lnTo>
                      <a:pt x="3397" y="1085"/>
                    </a:lnTo>
                    <a:lnTo>
                      <a:pt x="3385" y="1098"/>
                    </a:lnTo>
                    <a:lnTo>
                      <a:pt x="3375" y="1113"/>
                    </a:lnTo>
                    <a:lnTo>
                      <a:pt x="3379" y="1117"/>
                    </a:lnTo>
                    <a:lnTo>
                      <a:pt x="3407" y="1104"/>
                    </a:lnTo>
                    <a:lnTo>
                      <a:pt x="3440" y="1092"/>
                    </a:lnTo>
                    <a:lnTo>
                      <a:pt x="3472" y="1079"/>
                    </a:lnTo>
                    <a:lnTo>
                      <a:pt x="3507" y="1067"/>
                    </a:lnTo>
                    <a:lnTo>
                      <a:pt x="3535" y="1049"/>
                    </a:lnTo>
                    <a:lnTo>
                      <a:pt x="3564" y="1031"/>
                    </a:lnTo>
                    <a:lnTo>
                      <a:pt x="3586" y="1009"/>
                    </a:lnTo>
                    <a:lnTo>
                      <a:pt x="3604" y="983"/>
                    </a:lnTo>
                    <a:lnTo>
                      <a:pt x="3612" y="966"/>
                    </a:lnTo>
                    <a:lnTo>
                      <a:pt x="3617" y="949"/>
                    </a:lnTo>
                    <a:lnTo>
                      <a:pt x="3618" y="929"/>
                    </a:lnTo>
                    <a:lnTo>
                      <a:pt x="3620" y="911"/>
                    </a:lnTo>
                    <a:lnTo>
                      <a:pt x="3625" y="892"/>
                    </a:lnTo>
                    <a:lnTo>
                      <a:pt x="3634" y="877"/>
                    </a:lnTo>
                    <a:lnTo>
                      <a:pt x="3649" y="864"/>
                    </a:lnTo>
                    <a:lnTo>
                      <a:pt x="3674" y="856"/>
                    </a:lnTo>
                    <a:lnTo>
                      <a:pt x="3687" y="886"/>
                    </a:lnTo>
                    <a:lnTo>
                      <a:pt x="3748" y="842"/>
                    </a:lnTo>
                    <a:lnTo>
                      <a:pt x="3757" y="854"/>
                    </a:lnTo>
                    <a:lnTo>
                      <a:pt x="3763" y="869"/>
                    </a:lnTo>
                    <a:lnTo>
                      <a:pt x="3767" y="887"/>
                    </a:lnTo>
                    <a:lnTo>
                      <a:pt x="3768" y="906"/>
                    </a:lnTo>
                    <a:lnTo>
                      <a:pt x="3767" y="924"/>
                    </a:lnTo>
                    <a:lnTo>
                      <a:pt x="3766" y="942"/>
                    </a:lnTo>
                    <a:lnTo>
                      <a:pt x="3764" y="959"/>
                    </a:lnTo>
                    <a:lnTo>
                      <a:pt x="3764" y="976"/>
                    </a:lnTo>
                    <a:lnTo>
                      <a:pt x="3758" y="984"/>
                    </a:lnTo>
                    <a:lnTo>
                      <a:pt x="3756" y="995"/>
                    </a:lnTo>
                    <a:lnTo>
                      <a:pt x="3752" y="1006"/>
                    </a:lnTo>
                    <a:lnTo>
                      <a:pt x="3751" y="1018"/>
                    </a:lnTo>
                    <a:lnTo>
                      <a:pt x="3747" y="1029"/>
                    </a:lnTo>
                    <a:lnTo>
                      <a:pt x="3745" y="1040"/>
                    </a:lnTo>
                    <a:lnTo>
                      <a:pt x="3740" y="1052"/>
                    </a:lnTo>
                    <a:lnTo>
                      <a:pt x="3731" y="1063"/>
                    </a:lnTo>
                    <a:lnTo>
                      <a:pt x="3701" y="1086"/>
                    </a:lnTo>
                    <a:lnTo>
                      <a:pt x="3676" y="1113"/>
                    </a:lnTo>
                    <a:lnTo>
                      <a:pt x="3649" y="1142"/>
                    </a:lnTo>
                    <a:lnTo>
                      <a:pt x="3623" y="1172"/>
                    </a:lnTo>
                    <a:lnTo>
                      <a:pt x="3594" y="1198"/>
                    </a:lnTo>
                    <a:lnTo>
                      <a:pt x="3564" y="1224"/>
                    </a:lnTo>
                    <a:lnTo>
                      <a:pt x="3528" y="1245"/>
                    </a:lnTo>
                    <a:lnTo>
                      <a:pt x="3490" y="1261"/>
                    </a:lnTo>
                    <a:lnTo>
                      <a:pt x="3411" y="1333"/>
                    </a:lnTo>
                    <a:lnTo>
                      <a:pt x="3363" y="1417"/>
                    </a:lnTo>
                    <a:lnTo>
                      <a:pt x="3331" y="1504"/>
                    </a:lnTo>
                    <a:lnTo>
                      <a:pt x="3315" y="1598"/>
                    </a:lnTo>
                    <a:lnTo>
                      <a:pt x="3303" y="1692"/>
                    </a:lnTo>
                    <a:lnTo>
                      <a:pt x="3289" y="1786"/>
                    </a:lnTo>
                    <a:lnTo>
                      <a:pt x="3269" y="1879"/>
                    </a:lnTo>
                    <a:lnTo>
                      <a:pt x="3236" y="1966"/>
                    </a:lnTo>
                    <a:lnTo>
                      <a:pt x="3216" y="2010"/>
                    </a:lnTo>
                    <a:lnTo>
                      <a:pt x="3195" y="2055"/>
                    </a:lnTo>
                    <a:lnTo>
                      <a:pt x="3173" y="2100"/>
                    </a:lnTo>
                    <a:lnTo>
                      <a:pt x="3151" y="2145"/>
                    </a:lnTo>
                    <a:lnTo>
                      <a:pt x="3128" y="2188"/>
                    </a:lnTo>
                    <a:lnTo>
                      <a:pt x="3106" y="2233"/>
                    </a:lnTo>
                    <a:lnTo>
                      <a:pt x="3085" y="2276"/>
                    </a:lnTo>
                    <a:lnTo>
                      <a:pt x="3067" y="2321"/>
                    </a:lnTo>
                    <a:lnTo>
                      <a:pt x="3059" y="2323"/>
                    </a:lnTo>
                    <a:lnTo>
                      <a:pt x="3055" y="2329"/>
                    </a:lnTo>
                    <a:lnTo>
                      <a:pt x="3054" y="2333"/>
                    </a:lnTo>
                    <a:lnTo>
                      <a:pt x="3048" y="2336"/>
                    </a:lnTo>
                    <a:lnTo>
                      <a:pt x="3038" y="2337"/>
                    </a:lnTo>
                    <a:lnTo>
                      <a:pt x="3030" y="2342"/>
                    </a:lnTo>
                    <a:lnTo>
                      <a:pt x="2979" y="2322"/>
                    </a:lnTo>
                    <a:lnTo>
                      <a:pt x="2929" y="2296"/>
                    </a:lnTo>
                    <a:lnTo>
                      <a:pt x="2884" y="2265"/>
                    </a:lnTo>
                    <a:lnTo>
                      <a:pt x="2842" y="2232"/>
                    </a:lnTo>
                    <a:lnTo>
                      <a:pt x="2801" y="2195"/>
                    </a:lnTo>
                    <a:lnTo>
                      <a:pt x="2762" y="2158"/>
                    </a:lnTo>
                    <a:lnTo>
                      <a:pt x="2724" y="2121"/>
                    </a:lnTo>
                    <a:lnTo>
                      <a:pt x="2686" y="2087"/>
                    </a:lnTo>
                    <a:lnTo>
                      <a:pt x="2652" y="2050"/>
                    </a:lnTo>
                    <a:lnTo>
                      <a:pt x="2625" y="2012"/>
                    </a:lnTo>
                    <a:lnTo>
                      <a:pt x="2598" y="1974"/>
                    </a:lnTo>
                    <a:lnTo>
                      <a:pt x="2571" y="1936"/>
                    </a:lnTo>
                    <a:lnTo>
                      <a:pt x="2543" y="1899"/>
                    </a:lnTo>
                    <a:lnTo>
                      <a:pt x="2510" y="1866"/>
                    </a:lnTo>
                    <a:lnTo>
                      <a:pt x="2473" y="1837"/>
                    </a:lnTo>
                    <a:lnTo>
                      <a:pt x="2428" y="1816"/>
                    </a:lnTo>
                    <a:lnTo>
                      <a:pt x="2412" y="1858"/>
                    </a:lnTo>
                    <a:lnTo>
                      <a:pt x="2394" y="1900"/>
                    </a:lnTo>
                    <a:lnTo>
                      <a:pt x="2375" y="1942"/>
                    </a:lnTo>
                    <a:lnTo>
                      <a:pt x="2357" y="1985"/>
                    </a:lnTo>
                    <a:lnTo>
                      <a:pt x="2337" y="2028"/>
                    </a:lnTo>
                    <a:lnTo>
                      <a:pt x="2320" y="2071"/>
                    </a:lnTo>
                    <a:lnTo>
                      <a:pt x="2304" y="2114"/>
                    </a:lnTo>
                    <a:lnTo>
                      <a:pt x="2293" y="2160"/>
                    </a:lnTo>
                    <a:lnTo>
                      <a:pt x="2272" y="2193"/>
                    </a:lnTo>
                    <a:lnTo>
                      <a:pt x="2257" y="2228"/>
                    </a:lnTo>
                    <a:lnTo>
                      <a:pt x="2245" y="2262"/>
                    </a:lnTo>
                    <a:lnTo>
                      <a:pt x="2236" y="2299"/>
                    </a:lnTo>
                    <a:lnTo>
                      <a:pt x="2226" y="2337"/>
                    </a:lnTo>
                    <a:lnTo>
                      <a:pt x="2219" y="2373"/>
                    </a:lnTo>
                    <a:lnTo>
                      <a:pt x="2208" y="2410"/>
                    </a:lnTo>
                    <a:lnTo>
                      <a:pt x="2198" y="2448"/>
                    </a:lnTo>
                    <a:lnTo>
                      <a:pt x="2204" y="2592"/>
                    </a:lnTo>
                    <a:lnTo>
                      <a:pt x="2247" y="2721"/>
                    </a:lnTo>
                    <a:lnTo>
                      <a:pt x="2316" y="2842"/>
                    </a:lnTo>
                    <a:lnTo>
                      <a:pt x="2404" y="2956"/>
                    </a:lnTo>
                    <a:lnTo>
                      <a:pt x="2495" y="3068"/>
                    </a:lnTo>
                    <a:lnTo>
                      <a:pt x="2585" y="3183"/>
                    </a:lnTo>
                    <a:lnTo>
                      <a:pt x="2661" y="3307"/>
                    </a:lnTo>
                    <a:lnTo>
                      <a:pt x="2714" y="3441"/>
                    </a:lnTo>
                    <a:lnTo>
                      <a:pt x="2715" y="3511"/>
                    </a:lnTo>
                    <a:lnTo>
                      <a:pt x="2704" y="3578"/>
                    </a:lnTo>
                    <a:lnTo>
                      <a:pt x="2683" y="3641"/>
                    </a:lnTo>
                    <a:lnTo>
                      <a:pt x="2654" y="3703"/>
                    </a:lnTo>
                    <a:lnTo>
                      <a:pt x="2620" y="3765"/>
                    </a:lnTo>
                    <a:lnTo>
                      <a:pt x="2586" y="3825"/>
                    </a:lnTo>
                    <a:lnTo>
                      <a:pt x="2554" y="3886"/>
                    </a:lnTo>
                    <a:lnTo>
                      <a:pt x="2531" y="3949"/>
                    </a:lnTo>
                    <a:lnTo>
                      <a:pt x="2485" y="4065"/>
                    </a:lnTo>
                    <a:lnTo>
                      <a:pt x="2436" y="4180"/>
                    </a:lnTo>
                    <a:lnTo>
                      <a:pt x="2384" y="4295"/>
                    </a:lnTo>
                    <a:lnTo>
                      <a:pt x="2335" y="4411"/>
                    </a:lnTo>
                    <a:lnTo>
                      <a:pt x="2290" y="4529"/>
                    </a:lnTo>
                    <a:lnTo>
                      <a:pt x="2255" y="4647"/>
                    </a:lnTo>
                    <a:lnTo>
                      <a:pt x="2231" y="4767"/>
                    </a:lnTo>
                    <a:lnTo>
                      <a:pt x="2223" y="4890"/>
                    </a:lnTo>
                    <a:lnTo>
                      <a:pt x="2225" y="4925"/>
                    </a:lnTo>
                    <a:lnTo>
                      <a:pt x="2238" y="4959"/>
                    </a:lnTo>
                    <a:lnTo>
                      <a:pt x="2255" y="4993"/>
                    </a:lnTo>
                    <a:lnTo>
                      <a:pt x="2277" y="5025"/>
                    </a:lnTo>
                    <a:lnTo>
                      <a:pt x="2297" y="5057"/>
                    </a:lnTo>
                    <a:lnTo>
                      <a:pt x="2316" y="5092"/>
                    </a:lnTo>
                    <a:lnTo>
                      <a:pt x="2330" y="5126"/>
                    </a:lnTo>
                    <a:lnTo>
                      <a:pt x="2337" y="5164"/>
                    </a:lnTo>
                    <a:lnTo>
                      <a:pt x="2342" y="5172"/>
                    </a:lnTo>
                    <a:lnTo>
                      <a:pt x="2346" y="5183"/>
                    </a:lnTo>
                    <a:lnTo>
                      <a:pt x="2350" y="5195"/>
                    </a:lnTo>
                    <a:lnTo>
                      <a:pt x="2354" y="5206"/>
                    </a:lnTo>
                    <a:lnTo>
                      <a:pt x="2359" y="5217"/>
                    </a:lnTo>
                    <a:lnTo>
                      <a:pt x="2368" y="5228"/>
                    </a:lnTo>
                    <a:lnTo>
                      <a:pt x="2379" y="5236"/>
                    </a:lnTo>
                    <a:lnTo>
                      <a:pt x="2394" y="5245"/>
                    </a:lnTo>
                    <a:lnTo>
                      <a:pt x="2409" y="5243"/>
                    </a:lnTo>
                    <a:lnTo>
                      <a:pt x="2426" y="5241"/>
                    </a:lnTo>
                    <a:lnTo>
                      <a:pt x="2443" y="5239"/>
                    </a:lnTo>
                    <a:lnTo>
                      <a:pt x="2462" y="5238"/>
                    </a:lnTo>
                    <a:lnTo>
                      <a:pt x="2479" y="5238"/>
                    </a:lnTo>
                    <a:lnTo>
                      <a:pt x="2495" y="5242"/>
                    </a:lnTo>
                    <a:lnTo>
                      <a:pt x="2507" y="5249"/>
                    </a:lnTo>
                    <a:lnTo>
                      <a:pt x="2517" y="5262"/>
                    </a:lnTo>
                    <a:lnTo>
                      <a:pt x="2515" y="5271"/>
                    </a:lnTo>
                    <a:lnTo>
                      <a:pt x="2517" y="5278"/>
                    </a:lnTo>
                    <a:lnTo>
                      <a:pt x="2523" y="5283"/>
                    </a:lnTo>
                    <a:lnTo>
                      <a:pt x="2532" y="5290"/>
                    </a:lnTo>
                    <a:lnTo>
                      <a:pt x="2538" y="5294"/>
                    </a:lnTo>
                    <a:lnTo>
                      <a:pt x="2545" y="5299"/>
                    </a:lnTo>
                    <a:lnTo>
                      <a:pt x="2548" y="5305"/>
                    </a:lnTo>
                    <a:lnTo>
                      <a:pt x="2547" y="5315"/>
                    </a:lnTo>
                    <a:lnTo>
                      <a:pt x="2543" y="5322"/>
                    </a:lnTo>
                    <a:lnTo>
                      <a:pt x="2539" y="5330"/>
                    </a:lnTo>
                    <a:lnTo>
                      <a:pt x="2533" y="5339"/>
                    </a:lnTo>
                    <a:lnTo>
                      <a:pt x="2527" y="5348"/>
                    </a:lnTo>
                    <a:lnTo>
                      <a:pt x="2518" y="5355"/>
                    </a:lnTo>
                    <a:lnTo>
                      <a:pt x="2510" y="5361"/>
                    </a:lnTo>
                    <a:lnTo>
                      <a:pt x="2500" y="5364"/>
                    </a:lnTo>
                    <a:lnTo>
                      <a:pt x="2490" y="5365"/>
                    </a:lnTo>
                    <a:lnTo>
                      <a:pt x="2469" y="5362"/>
                    </a:lnTo>
                    <a:lnTo>
                      <a:pt x="2447" y="5362"/>
                    </a:lnTo>
                    <a:lnTo>
                      <a:pt x="2425" y="5361"/>
                    </a:lnTo>
                    <a:lnTo>
                      <a:pt x="2405" y="5361"/>
                    </a:lnTo>
                    <a:lnTo>
                      <a:pt x="2384" y="5358"/>
                    </a:lnTo>
                    <a:lnTo>
                      <a:pt x="2367" y="5352"/>
                    </a:lnTo>
                    <a:lnTo>
                      <a:pt x="2352" y="5343"/>
                    </a:lnTo>
                    <a:lnTo>
                      <a:pt x="2342" y="5328"/>
                    </a:lnTo>
                    <a:lnTo>
                      <a:pt x="2290" y="5317"/>
                    </a:lnTo>
                    <a:lnTo>
                      <a:pt x="2251" y="5298"/>
                    </a:lnTo>
                    <a:lnTo>
                      <a:pt x="2220" y="5271"/>
                    </a:lnTo>
                    <a:lnTo>
                      <a:pt x="2196" y="5240"/>
                    </a:lnTo>
                    <a:lnTo>
                      <a:pt x="2177" y="5203"/>
                    </a:lnTo>
                    <a:lnTo>
                      <a:pt x="2162" y="5166"/>
                    </a:lnTo>
                    <a:lnTo>
                      <a:pt x="2151" y="5128"/>
                    </a:lnTo>
                    <a:lnTo>
                      <a:pt x="2140" y="5094"/>
                    </a:lnTo>
                    <a:lnTo>
                      <a:pt x="2118" y="5066"/>
                    </a:lnTo>
                    <a:lnTo>
                      <a:pt x="2089" y="5051"/>
                    </a:lnTo>
                    <a:lnTo>
                      <a:pt x="2052" y="5042"/>
                    </a:lnTo>
                    <a:lnTo>
                      <a:pt x="2013" y="5036"/>
                    </a:lnTo>
                    <a:lnTo>
                      <a:pt x="1976" y="5028"/>
                    </a:lnTo>
                    <a:lnTo>
                      <a:pt x="1944" y="5016"/>
                    </a:lnTo>
                    <a:lnTo>
                      <a:pt x="1924" y="4995"/>
                    </a:lnTo>
                    <a:lnTo>
                      <a:pt x="1915" y="4960"/>
                    </a:lnTo>
                    <a:lnTo>
                      <a:pt x="1912" y="4936"/>
                    </a:lnTo>
                    <a:lnTo>
                      <a:pt x="1917" y="4916"/>
                    </a:lnTo>
                    <a:lnTo>
                      <a:pt x="1928" y="4897"/>
                    </a:lnTo>
                    <a:lnTo>
                      <a:pt x="1943" y="4882"/>
                    </a:lnTo>
                    <a:lnTo>
                      <a:pt x="1960" y="4865"/>
                    </a:lnTo>
                    <a:lnTo>
                      <a:pt x="1976" y="4850"/>
                    </a:lnTo>
                    <a:lnTo>
                      <a:pt x="1990" y="4833"/>
                    </a:lnTo>
                    <a:lnTo>
                      <a:pt x="2001" y="4816"/>
                    </a:lnTo>
                    <a:lnTo>
                      <a:pt x="2011" y="4794"/>
                    </a:lnTo>
                    <a:lnTo>
                      <a:pt x="2026" y="4761"/>
                    </a:lnTo>
                    <a:lnTo>
                      <a:pt x="2039" y="4721"/>
                    </a:lnTo>
                    <a:lnTo>
                      <a:pt x="2054" y="4682"/>
                    </a:lnTo>
                    <a:lnTo>
                      <a:pt x="2068" y="4642"/>
                    </a:lnTo>
                    <a:lnTo>
                      <a:pt x="2080" y="4608"/>
                    </a:lnTo>
                    <a:lnTo>
                      <a:pt x="2090" y="4584"/>
                    </a:lnTo>
                    <a:lnTo>
                      <a:pt x="2096" y="4576"/>
                    </a:lnTo>
                    <a:lnTo>
                      <a:pt x="2098" y="4474"/>
                    </a:lnTo>
                    <a:lnTo>
                      <a:pt x="2100" y="4376"/>
                    </a:lnTo>
                    <a:lnTo>
                      <a:pt x="2100" y="4278"/>
                    </a:lnTo>
                    <a:lnTo>
                      <a:pt x="2103" y="4182"/>
                    </a:lnTo>
                    <a:lnTo>
                      <a:pt x="2109" y="4086"/>
                    </a:lnTo>
                    <a:lnTo>
                      <a:pt x="2123" y="3992"/>
                    </a:lnTo>
                    <a:lnTo>
                      <a:pt x="2146" y="3899"/>
                    </a:lnTo>
                    <a:lnTo>
                      <a:pt x="2182" y="3810"/>
                    </a:lnTo>
                    <a:lnTo>
                      <a:pt x="2188" y="3774"/>
                    </a:lnTo>
                    <a:lnTo>
                      <a:pt x="2202" y="3739"/>
                    </a:lnTo>
                    <a:lnTo>
                      <a:pt x="2222" y="3708"/>
                    </a:lnTo>
                    <a:lnTo>
                      <a:pt x="2244" y="3677"/>
                    </a:lnTo>
                    <a:lnTo>
                      <a:pt x="2266" y="3645"/>
                    </a:lnTo>
                    <a:lnTo>
                      <a:pt x="2292" y="3615"/>
                    </a:lnTo>
                    <a:lnTo>
                      <a:pt x="2315" y="3583"/>
                    </a:lnTo>
                    <a:lnTo>
                      <a:pt x="2337" y="3553"/>
                    </a:lnTo>
                    <a:lnTo>
                      <a:pt x="2284" y="3487"/>
                    </a:lnTo>
                    <a:lnTo>
                      <a:pt x="2233" y="3424"/>
                    </a:lnTo>
                    <a:lnTo>
                      <a:pt x="2183" y="3359"/>
                    </a:lnTo>
                    <a:lnTo>
                      <a:pt x="2138" y="3294"/>
                    </a:lnTo>
                    <a:lnTo>
                      <a:pt x="2093" y="3226"/>
                    </a:lnTo>
                    <a:lnTo>
                      <a:pt x="2052" y="3159"/>
                    </a:lnTo>
                    <a:lnTo>
                      <a:pt x="2012" y="3091"/>
                    </a:lnTo>
                    <a:lnTo>
                      <a:pt x="1976" y="3023"/>
                    </a:lnTo>
                    <a:lnTo>
                      <a:pt x="1969" y="3033"/>
                    </a:lnTo>
                    <a:lnTo>
                      <a:pt x="1967" y="3048"/>
                    </a:lnTo>
                    <a:lnTo>
                      <a:pt x="1965" y="3060"/>
                    </a:lnTo>
                    <a:lnTo>
                      <a:pt x="1968" y="3074"/>
                    </a:lnTo>
                    <a:lnTo>
                      <a:pt x="1969" y="3087"/>
                    </a:lnTo>
                    <a:lnTo>
                      <a:pt x="1972" y="3102"/>
                    </a:lnTo>
                    <a:lnTo>
                      <a:pt x="1970" y="3116"/>
                    </a:lnTo>
                    <a:lnTo>
                      <a:pt x="1969" y="3130"/>
                    </a:lnTo>
                    <a:lnTo>
                      <a:pt x="1969" y="3244"/>
                    </a:lnTo>
                    <a:lnTo>
                      <a:pt x="1964" y="3362"/>
                    </a:lnTo>
                    <a:lnTo>
                      <a:pt x="1953" y="3480"/>
                    </a:lnTo>
                    <a:lnTo>
                      <a:pt x="1940" y="3600"/>
                    </a:lnTo>
                    <a:lnTo>
                      <a:pt x="1922" y="3720"/>
                    </a:lnTo>
                    <a:lnTo>
                      <a:pt x="1905" y="3840"/>
                    </a:lnTo>
                    <a:lnTo>
                      <a:pt x="1887" y="3959"/>
                    </a:lnTo>
                    <a:lnTo>
                      <a:pt x="1869" y="4081"/>
                    </a:lnTo>
                    <a:lnTo>
                      <a:pt x="1861" y="4128"/>
                    </a:lnTo>
                    <a:lnTo>
                      <a:pt x="1857" y="4176"/>
                    </a:lnTo>
                    <a:lnTo>
                      <a:pt x="1853" y="4223"/>
                    </a:lnTo>
                    <a:lnTo>
                      <a:pt x="1852" y="4273"/>
                    </a:lnTo>
                    <a:lnTo>
                      <a:pt x="1850" y="4320"/>
                    </a:lnTo>
                    <a:lnTo>
                      <a:pt x="1848" y="4366"/>
                    </a:lnTo>
                    <a:lnTo>
                      <a:pt x="1846" y="4413"/>
                    </a:lnTo>
                    <a:lnTo>
                      <a:pt x="1842" y="4461"/>
                    </a:lnTo>
                    <a:lnTo>
                      <a:pt x="1837" y="4544"/>
                    </a:lnTo>
                    <a:lnTo>
                      <a:pt x="1824" y="4627"/>
                    </a:lnTo>
                    <a:lnTo>
                      <a:pt x="1808" y="4707"/>
                    </a:lnTo>
                    <a:lnTo>
                      <a:pt x="1795" y="4789"/>
                    </a:lnTo>
                    <a:lnTo>
                      <a:pt x="1786" y="4867"/>
                    </a:lnTo>
                    <a:lnTo>
                      <a:pt x="1787" y="4947"/>
                    </a:lnTo>
                    <a:lnTo>
                      <a:pt x="1800" y="5024"/>
                    </a:lnTo>
                    <a:lnTo>
                      <a:pt x="1834" y="5101"/>
                    </a:lnTo>
                    <a:lnTo>
                      <a:pt x="1839" y="5113"/>
                    </a:lnTo>
                    <a:lnTo>
                      <a:pt x="1846" y="5126"/>
                    </a:lnTo>
                    <a:lnTo>
                      <a:pt x="1852" y="5140"/>
                    </a:lnTo>
                    <a:lnTo>
                      <a:pt x="1858" y="5154"/>
                    </a:lnTo>
                    <a:lnTo>
                      <a:pt x="1861" y="5167"/>
                    </a:lnTo>
                    <a:lnTo>
                      <a:pt x="1862" y="5180"/>
                    </a:lnTo>
                    <a:lnTo>
                      <a:pt x="1860" y="5194"/>
                    </a:lnTo>
                    <a:lnTo>
                      <a:pt x="1853" y="5207"/>
                    </a:lnTo>
                    <a:lnTo>
                      <a:pt x="1842" y="5221"/>
                    </a:lnTo>
                    <a:lnTo>
                      <a:pt x="1829" y="5231"/>
                    </a:lnTo>
                    <a:lnTo>
                      <a:pt x="1814" y="5239"/>
                    </a:lnTo>
                    <a:lnTo>
                      <a:pt x="1800" y="5246"/>
                    </a:lnTo>
                    <a:lnTo>
                      <a:pt x="1786" y="5251"/>
                    </a:lnTo>
                    <a:lnTo>
                      <a:pt x="1772" y="5259"/>
                    </a:lnTo>
                    <a:lnTo>
                      <a:pt x="1759" y="5268"/>
                    </a:lnTo>
                    <a:lnTo>
                      <a:pt x="1751" y="5281"/>
                    </a:lnTo>
                    <a:lnTo>
                      <a:pt x="1740" y="5309"/>
                    </a:lnTo>
                    <a:lnTo>
                      <a:pt x="1731" y="5339"/>
                    </a:lnTo>
                    <a:lnTo>
                      <a:pt x="1724" y="5369"/>
                    </a:lnTo>
                    <a:lnTo>
                      <a:pt x="1717" y="5400"/>
                    </a:lnTo>
                    <a:lnTo>
                      <a:pt x="1708" y="5429"/>
                    </a:lnTo>
                    <a:lnTo>
                      <a:pt x="1698" y="5461"/>
                    </a:lnTo>
                    <a:lnTo>
                      <a:pt x="1688" y="5490"/>
                    </a:lnTo>
                    <a:lnTo>
                      <a:pt x="1677" y="5519"/>
                    </a:lnTo>
                    <a:lnTo>
                      <a:pt x="1659" y="5533"/>
                    </a:lnTo>
                    <a:lnTo>
                      <a:pt x="1635" y="5544"/>
                    </a:lnTo>
                    <a:lnTo>
                      <a:pt x="1612" y="5551"/>
                    </a:lnTo>
                    <a:lnTo>
                      <a:pt x="1589" y="5556"/>
                    </a:lnTo>
                    <a:lnTo>
                      <a:pt x="1562" y="5559"/>
                    </a:lnTo>
                    <a:lnTo>
                      <a:pt x="1537" y="5562"/>
                    </a:lnTo>
                    <a:lnTo>
                      <a:pt x="1511" y="5565"/>
                    </a:lnTo>
                    <a:lnTo>
                      <a:pt x="1489" y="5572"/>
                    </a:lnTo>
                    <a:lnTo>
                      <a:pt x="1390" y="5576"/>
                    </a:lnTo>
                    <a:lnTo>
                      <a:pt x="1384" y="5573"/>
                    </a:lnTo>
                    <a:lnTo>
                      <a:pt x="1381" y="5569"/>
                    </a:lnTo>
                    <a:lnTo>
                      <a:pt x="1377" y="5564"/>
                    </a:lnTo>
                    <a:lnTo>
                      <a:pt x="1376" y="5559"/>
                    </a:lnTo>
                    <a:lnTo>
                      <a:pt x="1374" y="5553"/>
                    </a:lnTo>
                    <a:lnTo>
                      <a:pt x="1376" y="5548"/>
                    </a:lnTo>
                    <a:lnTo>
                      <a:pt x="1377" y="5542"/>
                    </a:lnTo>
                    <a:lnTo>
                      <a:pt x="1382" y="5539"/>
                    </a:lnTo>
                    <a:lnTo>
                      <a:pt x="1401" y="5507"/>
                    </a:lnTo>
                    <a:lnTo>
                      <a:pt x="1417" y="5489"/>
                    </a:lnTo>
                    <a:lnTo>
                      <a:pt x="1431" y="5478"/>
                    </a:lnTo>
                    <a:lnTo>
                      <a:pt x="1446" y="5470"/>
                    </a:lnTo>
                    <a:lnTo>
                      <a:pt x="1459" y="5456"/>
                    </a:lnTo>
                    <a:lnTo>
                      <a:pt x="1477" y="5432"/>
                    </a:lnTo>
                    <a:lnTo>
                      <a:pt x="1496" y="5393"/>
                    </a:lnTo>
                    <a:lnTo>
                      <a:pt x="1526" y="5331"/>
                    </a:lnTo>
                    <a:lnTo>
                      <a:pt x="1527" y="5290"/>
                    </a:lnTo>
                    <a:lnTo>
                      <a:pt x="1539" y="5251"/>
                    </a:lnTo>
                    <a:lnTo>
                      <a:pt x="1558" y="5214"/>
                    </a:lnTo>
                    <a:lnTo>
                      <a:pt x="1581" y="5177"/>
                    </a:lnTo>
                    <a:lnTo>
                      <a:pt x="1601" y="5140"/>
                    </a:lnTo>
                    <a:lnTo>
                      <a:pt x="1618" y="5103"/>
                    </a:lnTo>
                    <a:lnTo>
                      <a:pt x="1627" y="5064"/>
                    </a:lnTo>
                    <a:lnTo>
                      <a:pt x="1624" y="5024"/>
                    </a:lnTo>
                    <a:lnTo>
                      <a:pt x="1622" y="4991"/>
                    </a:lnTo>
                    <a:lnTo>
                      <a:pt x="1617" y="4959"/>
                    </a:lnTo>
                    <a:lnTo>
                      <a:pt x="1608" y="4928"/>
                    </a:lnTo>
                    <a:lnTo>
                      <a:pt x="1600" y="4898"/>
                    </a:lnTo>
                    <a:lnTo>
                      <a:pt x="1590" y="4866"/>
                    </a:lnTo>
                    <a:lnTo>
                      <a:pt x="1581" y="4836"/>
                    </a:lnTo>
                    <a:lnTo>
                      <a:pt x="1573" y="4804"/>
                    </a:lnTo>
                    <a:lnTo>
                      <a:pt x="1570" y="4773"/>
                    </a:lnTo>
                    <a:lnTo>
                      <a:pt x="1559" y="4693"/>
                    </a:lnTo>
                    <a:lnTo>
                      <a:pt x="1552" y="4617"/>
                    </a:lnTo>
                    <a:lnTo>
                      <a:pt x="1548" y="4544"/>
                    </a:lnTo>
                    <a:lnTo>
                      <a:pt x="1548" y="4472"/>
                    </a:lnTo>
                    <a:lnTo>
                      <a:pt x="1550" y="4399"/>
                    </a:lnTo>
                    <a:lnTo>
                      <a:pt x="1557" y="4327"/>
                    </a:lnTo>
                    <a:lnTo>
                      <a:pt x="1565" y="4252"/>
                    </a:lnTo>
                    <a:lnTo>
                      <a:pt x="1580" y="4174"/>
                    </a:lnTo>
                    <a:lnTo>
                      <a:pt x="1570" y="4085"/>
                    </a:lnTo>
                    <a:lnTo>
                      <a:pt x="1563" y="3998"/>
                    </a:lnTo>
                    <a:lnTo>
                      <a:pt x="1554" y="3914"/>
                    </a:lnTo>
                    <a:lnTo>
                      <a:pt x="1548" y="3830"/>
                    </a:lnTo>
                    <a:lnTo>
                      <a:pt x="1541" y="3743"/>
                    </a:lnTo>
                    <a:lnTo>
                      <a:pt x="1537" y="3658"/>
                    </a:lnTo>
                    <a:lnTo>
                      <a:pt x="1537" y="3569"/>
                    </a:lnTo>
                    <a:lnTo>
                      <a:pt x="1542" y="3478"/>
                    </a:lnTo>
                    <a:lnTo>
                      <a:pt x="1541" y="3422"/>
                    </a:lnTo>
                    <a:lnTo>
                      <a:pt x="1546" y="3366"/>
                    </a:lnTo>
                    <a:lnTo>
                      <a:pt x="1552" y="3309"/>
                    </a:lnTo>
                    <a:lnTo>
                      <a:pt x="1558" y="3253"/>
                    </a:lnTo>
                    <a:lnTo>
                      <a:pt x="1559" y="3197"/>
                    </a:lnTo>
                    <a:lnTo>
                      <a:pt x="1554" y="3142"/>
                    </a:lnTo>
                    <a:lnTo>
                      <a:pt x="1539" y="3088"/>
                    </a:lnTo>
                    <a:lnTo>
                      <a:pt x="1514" y="3036"/>
                    </a:lnTo>
                    <a:lnTo>
                      <a:pt x="1498" y="2988"/>
                    </a:lnTo>
                    <a:lnTo>
                      <a:pt x="1485" y="2941"/>
                    </a:lnTo>
                    <a:lnTo>
                      <a:pt x="1474" y="2892"/>
                    </a:lnTo>
                    <a:lnTo>
                      <a:pt x="1468" y="2844"/>
                    </a:lnTo>
                    <a:lnTo>
                      <a:pt x="1466" y="2794"/>
                    </a:lnTo>
                    <a:lnTo>
                      <a:pt x="1472" y="2746"/>
                    </a:lnTo>
                    <a:lnTo>
                      <a:pt x="1484" y="2700"/>
                    </a:lnTo>
                    <a:lnTo>
                      <a:pt x="1509" y="2656"/>
                    </a:lnTo>
                    <a:lnTo>
                      <a:pt x="1522" y="2626"/>
                    </a:lnTo>
                    <a:lnTo>
                      <a:pt x="1536" y="2598"/>
                    </a:lnTo>
                    <a:lnTo>
                      <a:pt x="1548" y="2570"/>
                    </a:lnTo>
                    <a:lnTo>
                      <a:pt x="1562" y="2542"/>
                    </a:lnTo>
                    <a:lnTo>
                      <a:pt x="1573" y="2513"/>
                    </a:lnTo>
                    <a:lnTo>
                      <a:pt x="1585" y="2485"/>
                    </a:lnTo>
                    <a:lnTo>
                      <a:pt x="1596" y="2456"/>
                    </a:lnTo>
                    <a:lnTo>
                      <a:pt x="1607" y="2429"/>
                    </a:lnTo>
                    <a:lnTo>
                      <a:pt x="1614" y="2328"/>
                    </a:lnTo>
                    <a:lnTo>
                      <a:pt x="1616" y="2227"/>
                    </a:lnTo>
                    <a:lnTo>
                      <a:pt x="1608" y="2126"/>
                    </a:lnTo>
                    <a:lnTo>
                      <a:pt x="1598" y="2027"/>
                    </a:lnTo>
                    <a:lnTo>
                      <a:pt x="1581" y="1927"/>
                    </a:lnTo>
                    <a:lnTo>
                      <a:pt x="1559" y="1829"/>
                    </a:lnTo>
                    <a:lnTo>
                      <a:pt x="1534" y="1733"/>
                    </a:lnTo>
                    <a:lnTo>
                      <a:pt x="1509" y="1639"/>
                    </a:lnTo>
                    <a:lnTo>
                      <a:pt x="1478" y="1591"/>
                    </a:lnTo>
                    <a:lnTo>
                      <a:pt x="1436" y="1564"/>
                    </a:lnTo>
                    <a:lnTo>
                      <a:pt x="1384" y="1548"/>
                    </a:lnTo>
                    <a:lnTo>
                      <a:pt x="1330" y="1544"/>
                    </a:lnTo>
                    <a:lnTo>
                      <a:pt x="1270" y="1544"/>
                    </a:lnTo>
                    <a:lnTo>
                      <a:pt x="1208" y="1547"/>
                    </a:lnTo>
                    <a:lnTo>
                      <a:pt x="1149" y="1547"/>
                    </a:lnTo>
                    <a:lnTo>
                      <a:pt x="1095" y="1541"/>
                    </a:lnTo>
                    <a:lnTo>
                      <a:pt x="1055" y="1536"/>
                    </a:lnTo>
                    <a:lnTo>
                      <a:pt x="1017" y="1533"/>
                    </a:lnTo>
                    <a:lnTo>
                      <a:pt x="978" y="1530"/>
                    </a:lnTo>
                    <a:lnTo>
                      <a:pt x="940" y="1528"/>
                    </a:lnTo>
                    <a:lnTo>
                      <a:pt x="902" y="1524"/>
                    </a:lnTo>
                    <a:lnTo>
                      <a:pt x="863" y="1521"/>
                    </a:lnTo>
                    <a:lnTo>
                      <a:pt x="826" y="1515"/>
                    </a:lnTo>
                    <a:lnTo>
                      <a:pt x="792" y="1508"/>
                    </a:lnTo>
                    <a:lnTo>
                      <a:pt x="751" y="1468"/>
                    </a:lnTo>
                    <a:lnTo>
                      <a:pt x="697" y="1375"/>
                    </a:lnTo>
                    <a:lnTo>
                      <a:pt x="654" y="1278"/>
                    </a:lnTo>
                    <a:lnTo>
                      <a:pt x="618" y="1178"/>
                    </a:lnTo>
                    <a:lnTo>
                      <a:pt x="591" y="1076"/>
                    </a:lnTo>
                    <a:lnTo>
                      <a:pt x="567" y="972"/>
                    </a:lnTo>
                    <a:lnTo>
                      <a:pt x="546" y="867"/>
                    </a:lnTo>
                    <a:lnTo>
                      <a:pt x="527" y="762"/>
                    </a:lnTo>
                    <a:lnTo>
                      <a:pt x="509" y="659"/>
                    </a:lnTo>
                    <a:lnTo>
                      <a:pt x="499" y="609"/>
                    </a:lnTo>
                    <a:lnTo>
                      <a:pt x="484" y="561"/>
                    </a:lnTo>
                    <a:lnTo>
                      <a:pt x="464" y="515"/>
                    </a:lnTo>
                    <a:lnTo>
                      <a:pt x="439" y="473"/>
                    </a:lnTo>
                    <a:lnTo>
                      <a:pt x="404" y="433"/>
                    </a:lnTo>
                    <a:lnTo>
                      <a:pt x="364" y="400"/>
                    </a:lnTo>
                    <a:lnTo>
                      <a:pt x="316" y="371"/>
                    </a:lnTo>
                    <a:lnTo>
                      <a:pt x="259" y="351"/>
                    </a:lnTo>
                    <a:lnTo>
                      <a:pt x="240" y="343"/>
                    </a:lnTo>
                    <a:lnTo>
                      <a:pt x="223" y="336"/>
                    </a:lnTo>
                    <a:lnTo>
                      <a:pt x="206" y="327"/>
                    </a:lnTo>
                    <a:lnTo>
                      <a:pt x="190" y="320"/>
                    </a:lnTo>
                    <a:lnTo>
                      <a:pt x="170" y="312"/>
                    </a:lnTo>
                    <a:lnTo>
                      <a:pt x="153" y="305"/>
                    </a:lnTo>
                    <a:lnTo>
                      <a:pt x="135" y="299"/>
                    </a:lnTo>
                    <a:lnTo>
                      <a:pt x="116" y="294"/>
                    </a:lnTo>
                    <a:lnTo>
                      <a:pt x="89" y="263"/>
                    </a:lnTo>
                    <a:lnTo>
                      <a:pt x="70" y="231"/>
                    </a:lnTo>
                    <a:lnTo>
                      <a:pt x="56" y="197"/>
                    </a:lnTo>
                    <a:lnTo>
                      <a:pt x="45" y="163"/>
                    </a:lnTo>
                    <a:lnTo>
                      <a:pt x="35" y="126"/>
                    </a:lnTo>
                    <a:lnTo>
                      <a:pt x="26" y="92"/>
                    </a:lnTo>
                    <a:lnTo>
                      <a:pt x="16" y="57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055480" y="2195640"/>
                <a:ext cx="140400" cy="134280"/>
              </a:xfrm>
              <a:custGeom>
                <a:avLst/>
                <a:gdLst/>
                <a:ahLst/>
                <a:rect l="l" t="t" r="r" b="b"/>
                <a:pathLst>
                  <a:path w="541" h="499">
                    <a:moveTo>
                      <a:pt x="350" y="304"/>
                    </a:moveTo>
                    <a:lnTo>
                      <a:pt x="352" y="308"/>
                    </a:lnTo>
                    <a:lnTo>
                      <a:pt x="359" y="310"/>
                    </a:lnTo>
                    <a:lnTo>
                      <a:pt x="366" y="308"/>
                    </a:lnTo>
                    <a:lnTo>
                      <a:pt x="375" y="304"/>
                    </a:lnTo>
                    <a:lnTo>
                      <a:pt x="382" y="297"/>
                    </a:lnTo>
                    <a:lnTo>
                      <a:pt x="391" y="291"/>
                    </a:lnTo>
                    <a:lnTo>
                      <a:pt x="397" y="284"/>
                    </a:lnTo>
                    <a:lnTo>
                      <a:pt x="404" y="278"/>
                    </a:lnTo>
                    <a:lnTo>
                      <a:pt x="404" y="257"/>
                    </a:lnTo>
                    <a:lnTo>
                      <a:pt x="402" y="239"/>
                    </a:lnTo>
                    <a:lnTo>
                      <a:pt x="394" y="222"/>
                    </a:lnTo>
                    <a:lnTo>
                      <a:pt x="387" y="204"/>
                    </a:lnTo>
                    <a:lnTo>
                      <a:pt x="377" y="186"/>
                    </a:lnTo>
                    <a:lnTo>
                      <a:pt x="367" y="168"/>
                    </a:lnTo>
                    <a:lnTo>
                      <a:pt x="359" y="151"/>
                    </a:lnTo>
                    <a:lnTo>
                      <a:pt x="354" y="133"/>
                    </a:lnTo>
                    <a:lnTo>
                      <a:pt x="375" y="161"/>
                    </a:lnTo>
                    <a:lnTo>
                      <a:pt x="398" y="189"/>
                    </a:lnTo>
                    <a:lnTo>
                      <a:pt x="421" y="216"/>
                    </a:lnTo>
                    <a:lnTo>
                      <a:pt x="445" y="246"/>
                    </a:lnTo>
                    <a:lnTo>
                      <a:pt x="463" y="276"/>
                    </a:lnTo>
                    <a:lnTo>
                      <a:pt x="481" y="308"/>
                    </a:lnTo>
                    <a:lnTo>
                      <a:pt x="492" y="341"/>
                    </a:lnTo>
                    <a:lnTo>
                      <a:pt x="498" y="378"/>
                    </a:lnTo>
                    <a:lnTo>
                      <a:pt x="499" y="392"/>
                    </a:lnTo>
                    <a:lnTo>
                      <a:pt x="506" y="406"/>
                    </a:lnTo>
                    <a:lnTo>
                      <a:pt x="516" y="420"/>
                    </a:lnTo>
                    <a:lnTo>
                      <a:pt x="529" y="436"/>
                    </a:lnTo>
                    <a:lnTo>
                      <a:pt x="536" y="449"/>
                    </a:lnTo>
                    <a:lnTo>
                      <a:pt x="541" y="463"/>
                    </a:lnTo>
                    <a:lnTo>
                      <a:pt x="538" y="476"/>
                    </a:lnTo>
                    <a:lnTo>
                      <a:pt x="525" y="489"/>
                    </a:lnTo>
                    <a:lnTo>
                      <a:pt x="516" y="491"/>
                    </a:lnTo>
                    <a:lnTo>
                      <a:pt x="509" y="494"/>
                    </a:lnTo>
                    <a:lnTo>
                      <a:pt x="501" y="496"/>
                    </a:lnTo>
                    <a:lnTo>
                      <a:pt x="494" y="498"/>
                    </a:lnTo>
                    <a:lnTo>
                      <a:pt x="485" y="498"/>
                    </a:lnTo>
                    <a:lnTo>
                      <a:pt x="478" y="499"/>
                    </a:lnTo>
                    <a:lnTo>
                      <a:pt x="469" y="498"/>
                    </a:lnTo>
                    <a:lnTo>
                      <a:pt x="460" y="498"/>
                    </a:lnTo>
                    <a:lnTo>
                      <a:pt x="446" y="458"/>
                    </a:lnTo>
                    <a:lnTo>
                      <a:pt x="414" y="421"/>
                    </a:lnTo>
                    <a:lnTo>
                      <a:pt x="364" y="386"/>
                    </a:lnTo>
                    <a:lnTo>
                      <a:pt x="306" y="352"/>
                    </a:lnTo>
                    <a:lnTo>
                      <a:pt x="242" y="319"/>
                    </a:lnTo>
                    <a:lnTo>
                      <a:pt x="181" y="292"/>
                    </a:lnTo>
                    <a:lnTo>
                      <a:pt x="127" y="267"/>
                    </a:lnTo>
                    <a:lnTo>
                      <a:pt x="88" y="247"/>
                    </a:lnTo>
                    <a:lnTo>
                      <a:pt x="70" y="216"/>
                    </a:lnTo>
                    <a:lnTo>
                      <a:pt x="58" y="187"/>
                    </a:lnTo>
                    <a:lnTo>
                      <a:pt x="47" y="156"/>
                    </a:lnTo>
                    <a:lnTo>
                      <a:pt x="37" y="125"/>
                    </a:lnTo>
                    <a:lnTo>
                      <a:pt x="27" y="93"/>
                    </a:lnTo>
                    <a:lnTo>
                      <a:pt x="18" y="62"/>
                    </a:lnTo>
                    <a:lnTo>
                      <a:pt x="9" y="31"/>
                    </a:lnTo>
                    <a:lnTo>
                      <a:pt x="0" y="0"/>
                    </a:lnTo>
                    <a:lnTo>
                      <a:pt x="11" y="19"/>
                    </a:lnTo>
                    <a:lnTo>
                      <a:pt x="24" y="38"/>
                    </a:lnTo>
                    <a:lnTo>
                      <a:pt x="35" y="57"/>
                    </a:lnTo>
                    <a:lnTo>
                      <a:pt x="46" y="79"/>
                    </a:lnTo>
                    <a:lnTo>
                      <a:pt x="54" y="98"/>
                    </a:lnTo>
                    <a:lnTo>
                      <a:pt x="66" y="119"/>
                    </a:lnTo>
                    <a:lnTo>
                      <a:pt x="75" y="139"/>
                    </a:lnTo>
                    <a:lnTo>
                      <a:pt x="88" y="161"/>
                    </a:lnTo>
                    <a:lnTo>
                      <a:pt x="122" y="176"/>
                    </a:lnTo>
                    <a:lnTo>
                      <a:pt x="160" y="189"/>
                    </a:lnTo>
                    <a:lnTo>
                      <a:pt x="196" y="202"/>
                    </a:lnTo>
                    <a:lnTo>
                      <a:pt x="233" y="217"/>
                    </a:lnTo>
                    <a:lnTo>
                      <a:pt x="266" y="233"/>
                    </a:lnTo>
                    <a:lnTo>
                      <a:pt x="298" y="252"/>
                    </a:lnTo>
                    <a:lnTo>
                      <a:pt x="325" y="275"/>
                    </a:lnTo>
                    <a:lnTo>
                      <a:pt x="350" y="30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350960" y="2350440"/>
                <a:ext cx="717120" cy="1198440"/>
              </a:xfrm>
              <a:custGeom>
                <a:avLst/>
                <a:gdLst/>
                <a:ahLst/>
                <a:rect l="l" t="t" r="r" b="b"/>
                <a:pathLst>
                  <a:path w="2753" h="4435">
                    <a:moveTo>
                      <a:pt x="352" y="713"/>
                    </a:moveTo>
                    <a:lnTo>
                      <a:pt x="411" y="709"/>
                    </a:lnTo>
                    <a:lnTo>
                      <a:pt x="474" y="708"/>
                    </a:lnTo>
                    <a:lnTo>
                      <a:pt x="537" y="708"/>
                    </a:lnTo>
                    <a:lnTo>
                      <a:pt x="601" y="712"/>
                    </a:lnTo>
                    <a:lnTo>
                      <a:pt x="664" y="716"/>
                    </a:lnTo>
                    <a:lnTo>
                      <a:pt x="727" y="724"/>
                    </a:lnTo>
                    <a:lnTo>
                      <a:pt x="788" y="733"/>
                    </a:lnTo>
                    <a:lnTo>
                      <a:pt x="848" y="746"/>
                    </a:lnTo>
                    <a:lnTo>
                      <a:pt x="848" y="752"/>
                    </a:lnTo>
                    <a:lnTo>
                      <a:pt x="848" y="760"/>
                    </a:lnTo>
                    <a:lnTo>
                      <a:pt x="847" y="768"/>
                    </a:lnTo>
                    <a:lnTo>
                      <a:pt x="846" y="779"/>
                    </a:lnTo>
                    <a:lnTo>
                      <a:pt x="845" y="787"/>
                    </a:lnTo>
                    <a:lnTo>
                      <a:pt x="846" y="796"/>
                    </a:lnTo>
                    <a:lnTo>
                      <a:pt x="850" y="803"/>
                    </a:lnTo>
                    <a:lnTo>
                      <a:pt x="857" y="811"/>
                    </a:lnTo>
                    <a:lnTo>
                      <a:pt x="868" y="807"/>
                    </a:lnTo>
                    <a:lnTo>
                      <a:pt x="879" y="802"/>
                    </a:lnTo>
                    <a:lnTo>
                      <a:pt x="889" y="796"/>
                    </a:lnTo>
                    <a:lnTo>
                      <a:pt x="899" y="790"/>
                    </a:lnTo>
                    <a:lnTo>
                      <a:pt x="908" y="782"/>
                    </a:lnTo>
                    <a:lnTo>
                      <a:pt x="917" y="776"/>
                    </a:lnTo>
                    <a:lnTo>
                      <a:pt x="927" y="768"/>
                    </a:lnTo>
                    <a:lnTo>
                      <a:pt x="940" y="763"/>
                    </a:lnTo>
                    <a:lnTo>
                      <a:pt x="968" y="747"/>
                    </a:lnTo>
                    <a:lnTo>
                      <a:pt x="1001" y="738"/>
                    </a:lnTo>
                    <a:lnTo>
                      <a:pt x="1034" y="732"/>
                    </a:lnTo>
                    <a:lnTo>
                      <a:pt x="1071" y="730"/>
                    </a:lnTo>
                    <a:lnTo>
                      <a:pt x="1107" y="730"/>
                    </a:lnTo>
                    <a:lnTo>
                      <a:pt x="1144" y="733"/>
                    </a:lnTo>
                    <a:lnTo>
                      <a:pt x="1178" y="737"/>
                    </a:lnTo>
                    <a:lnTo>
                      <a:pt x="1214" y="743"/>
                    </a:lnTo>
                    <a:lnTo>
                      <a:pt x="1233" y="751"/>
                    </a:lnTo>
                    <a:lnTo>
                      <a:pt x="1250" y="760"/>
                    </a:lnTo>
                    <a:lnTo>
                      <a:pt x="1265" y="771"/>
                    </a:lnTo>
                    <a:lnTo>
                      <a:pt x="1277" y="785"/>
                    </a:lnTo>
                    <a:lnTo>
                      <a:pt x="1287" y="797"/>
                    </a:lnTo>
                    <a:lnTo>
                      <a:pt x="1297" y="811"/>
                    </a:lnTo>
                    <a:lnTo>
                      <a:pt x="1305" y="826"/>
                    </a:lnTo>
                    <a:lnTo>
                      <a:pt x="1316" y="841"/>
                    </a:lnTo>
                    <a:lnTo>
                      <a:pt x="1330" y="857"/>
                    </a:lnTo>
                    <a:lnTo>
                      <a:pt x="1348" y="873"/>
                    </a:lnTo>
                    <a:lnTo>
                      <a:pt x="1367" y="887"/>
                    </a:lnTo>
                    <a:lnTo>
                      <a:pt x="1390" y="900"/>
                    </a:lnTo>
                    <a:lnTo>
                      <a:pt x="1412" y="909"/>
                    </a:lnTo>
                    <a:lnTo>
                      <a:pt x="1438" y="917"/>
                    </a:lnTo>
                    <a:lnTo>
                      <a:pt x="1463" y="922"/>
                    </a:lnTo>
                    <a:lnTo>
                      <a:pt x="1489" y="924"/>
                    </a:lnTo>
                    <a:lnTo>
                      <a:pt x="1523" y="922"/>
                    </a:lnTo>
                    <a:lnTo>
                      <a:pt x="1555" y="915"/>
                    </a:lnTo>
                    <a:lnTo>
                      <a:pt x="1586" y="903"/>
                    </a:lnTo>
                    <a:lnTo>
                      <a:pt x="1614" y="887"/>
                    </a:lnTo>
                    <a:lnTo>
                      <a:pt x="1640" y="866"/>
                    </a:lnTo>
                    <a:lnTo>
                      <a:pt x="1664" y="845"/>
                    </a:lnTo>
                    <a:lnTo>
                      <a:pt x="1686" y="822"/>
                    </a:lnTo>
                    <a:lnTo>
                      <a:pt x="1710" y="801"/>
                    </a:lnTo>
                    <a:lnTo>
                      <a:pt x="1733" y="808"/>
                    </a:lnTo>
                    <a:lnTo>
                      <a:pt x="1757" y="818"/>
                    </a:lnTo>
                    <a:lnTo>
                      <a:pt x="1781" y="830"/>
                    </a:lnTo>
                    <a:lnTo>
                      <a:pt x="1806" y="840"/>
                    </a:lnTo>
                    <a:lnTo>
                      <a:pt x="1831" y="846"/>
                    </a:lnTo>
                    <a:lnTo>
                      <a:pt x="1856" y="847"/>
                    </a:lnTo>
                    <a:lnTo>
                      <a:pt x="1882" y="842"/>
                    </a:lnTo>
                    <a:lnTo>
                      <a:pt x="1907" y="828"/>
                    </a:lnTo>
                    <a:lnTo>
                      <a:pt x="1921" y="826"/>
                    </a:lnTo>
                    <a:lnTo>
                      <a:pt x="1936" y="824"/>
                    </a:lnTo>
                    <a:lnTo>
                      <a:pt x="1952" y="821"/>
                    </a:lnTo>
                    <a:lnTo>
                      <a:pt x="1969" y="821"/>
                    </a:lnTo>
                    <a:lnTo>
                      <a:pt x="1984" y="821"/>
                    </a:lnTo>
                    <a:lnTo>
                      <a:pt x="1998" y="825"/>
                    </a:lnTo>
                    <a:lnTo>
                      <a:pt x="2013" y="831"/>
                    </a:lnTo>
                    <a:lnTo>
                      <a:pt x="2026" y="841"/>
                    </a:lnTo>
                    <a:lnTo>
                      <a:pt x="2042" y="857"/>
                    </a:lnTo>
                    <a:lnTo>
                      <a:pt x="2051" y="883"/>
                    </a:lnTo>
                    <a:lnTo>
                      <a:pt x="2055" y="913"/>
                    </a:lnTo>
                    <a:lnTo>
                      <a:pt x="2060" y="948"/>
                    </a:lnTo>
                    <a:lnTo>
                      <a:pt x="2062" y="983"/>
                    </a:lnTo>
                    <a:lnTo>
                      <a:pt x="2070" y="1019"/>
                    </a:lnTo>
                    <a:lnTo>
                      <a:pt x="2085" y="1051"/>
                    </a:lnTo>
                    <a:lnTo>
                      <a:pt x="2108" y="1078"/>
                    </a:lnTo>
                    <a:lnTo>
                      <a:pt x="2131" y="1111"/>
                    </a:lnTo>
                    <a:lnTo>
                      <a:pt x="2161" y="1145"/>
                    </a:lnTo>
                    <a:lnTo>
                      <a:pt x="2191" y="1176"/>
                    </a:lnTo>
                    <a:lnTo>
                      <a:pt x="2224" y="1208"/>
                    </a:lnTo>
                    <a:lnTo>
                      <a:pt x="2253" y="1239"/>
                    </a:lnTo>
                    <a:lnTo>
                      <a:pt x="2284" y="1271"/>
                    </a:lnTo>
                    <a:lnTo>
                      <a:pt x="2310" y="1304"/>
                    </a:lnTo>
                    <a:lnTo>
                      <a:pt x="2333" y="1339"/>
                    </a:lnTo>
                    <a:lnTo>
                      <a:pt x="2347" y="1356"/>
                    </a:lnTo>
                    <a:lnTo>
                      <a:pt x="2360" y="1377"/>
                    </a:lnTo>
                    <a:lnTo>
                      <a:pt x="2375" y="1401"/>
                    </a:lnTo>
                    <a:lnTo>
                      <a:pt x="2392" y="1425"/>
                    </a:lnTo>
                    <a:lnTo>
                      <a:pt x="2407" y="1447"/>
                    </a:lnTo>
                    <a:lnTo>
                      <a:pt x="2423" y="1466"/>
                    </a:lnTo>
                    <a:lnTo>
                      <a:pt x="2440" y="1480"/>
                    </a:lnTo>
                    <a:lnTo>
                      <a:pt x="2460" y="1489"/>
                    </a:lnTo>
                    <a:lnTo>
                      <a:pt x="2468" y="1472"/>
                    </a:lnTo>
                    <a:lnTo>
                      <a:pt x="2473" y="1456"/>
                    </a:lnTo>
                    <a:lnTo>
                      <a:pt x="2475" y="1439"/>
                    </a:lnTo>
                    <a:lnTo>
                      <a:pt x="2479" y="1421"/>
                    </a:lnTo>
                    <a:lnTo>
                      <a:pt x="2480" y="1403"/>
                    </a:lnTo>
                    <a:lnTo>
                      <a:pt x="2481" y="1386"/>
                    </a:lnTo>
                    <a:lnTo>
                      <a:pt x="2481" y="1368"/>
                    </a:lnTo>
                    <a:lnTo>
                      <a:pt x="2485" y="1353"/>
                    </a:lnTo>
                    <a:lnTo>
                      <a:pt x="2498" y="1289"/>
                    </a:lnTo>
                    <a:lnTo>
                      <a:pt x="2519" y="1224"/>
                    </a:lnTo>
                    <a:lnTo>
                      <a:pt x="2541" y="1160"/>
                    </a:lnTo>
                    <a:lnTo>
                      <a:pt x="2567" y="1096"/>
                    </a:lnTo>
                    <a:lnTo>
                      <a:pt x="2594" y="1032"/>
                    </a:lnTo>
                    <a:lnTo>
                      <a:pt x="2623" y="967"/>
                    </a:lnTo>
                    <a:lnTo>
                      <a:pt x="2651" y="906"/>
                    </a:lnTo>
                    <a:lnTo>
                      <a:pt x="2678" y="847"/>
                    </a:lnTo>
                    <a:lnTo>
                      <a:pt x="2690" y="825"/>
                    </a:lnTo>
                    <a:lnTo>
                      <a:pt x="2703" y="824"/>
                    </a:lnTo>
                    <a:lnTo>
                      <a:pt x="2715" y="840"/>
                    </a:lnTo>
                    <a:lnTo>
                      <a:pt x="2726" y="867"/>
                    </a:lnTo>
                    <a:lnTo>
                      <a:pt x="2735" y="900"/>
                    </a:lnTo>
                    <a:lnTo>
                      <a:pt x="2742" y="933"/>
                    </a:lnTo>
                    <a:lnTo>
                      <a:pt x="2747" y="959"/>
                    </a:lnTo>
                    <a:lnTo>
                      <a:pt x="2751" y="974"/>
                    </a:lnTo>
                    <a:lnTo>
                      <a:pt x="2753" y="1054"/>
                    </a:lnTo>
                    <a:lnTo>
                      <a:pt x="2750" y="1133"/>
                    </a:lnTo>
                    <a:lnTo>
                      <a:pt x="2738" y="1209"/>
                    </a:lnTo>
                    <a:lnTo>
                      <a:pt x="2721" y="1287"/>
                    </a:lnTo>
                    <a:lnTo>
                      <a:pt x="2697" y="1360"/>
                    </a:lnTo>
                    <a:lnTo>
                      <a:pt x="2668" y="1433"/>
                    </a:lnTo>
                    <a:lnTo>
                      <a:pt x="2635" y="1506"/>
                    </a:lnTo>
                    <a:lnTo>
                      <a:pt x="2601" y="1576"/>
                    </a:lnTo>
                    <a:lnTo>
                      <a:pt x="2592" y="1576"/>
                    </a:lnTo>
                    <a:lnTo>
                      <a:pt x="2582" y="1592"/>
                    </a:lnTo>
                    <a:lnTo>
                      <a:pt x="2571" y="1607"/>
                    </a:lnTo>
                    <a:lnTo>
                      <a:pt x="2561" y="1622"/>
                    </a:lnTo>
                    <a:lnTo>
                      <a:pt x="2553" y="1637"/>
                    </a:lnTo>
                    <a:lnTo>
                      <a:pt x="2543" y="1652"/>
                    </a:lnTo>
                    <a:lnTo>
                      <a:pt x="2533" y="1667"/>
                    </a:lnTo>
                    <a:lnTo>
                      <a:pt x="2522" y="1681"/>
                    </a:lnTo>
                    <a:lnTo>
                      <a:pt x="2509" y="1697"/>
                    </a:lnTo>
                    <a:lnTo>
                      <a:pt x="2437" y="1680"/>
                    </a:lnTo>
                    <a:lnTo>
                      <a:pt x="2362" y="1639"/>
                    </a:lnTo>
                    <a:lnTo>
                      <a:pt x="2284" y="1577"/>
                    </a:lnTo>
                    <a:lnTo>
                      <a:pt x="2210" y="1504"/>
                    </a:lnTo>
                    <a:lnTo>
                      <a:pt x="2139" y="1423"/>
                    </a:lnTo>
                    <a:lnTo>
                      <a:pt x="2076" y="1347"/>
                    </a:lnTo>
                    <a:lnTo>
                      <a:pt x="2023" y="1279"/>
                    </a:lnTo>
                    <a:lnTo>
                      <a:pt x="1985" y="1228"/>
                    </a:lnTo>
                    <a:lnTo>
                      <a:pt x="1969" y="1214"/>
                    </a:lnTo>
                    <a:lnTo>
                      <a:pt x="1954" y="1201"/>
                    </a:lnTo>
                    <a:lnTo>
                      <a:pt x="1939" y="1188"/>
                    </a:lnTo>
                    <a:lnTo>
                      <a:pt x="1926" y="1175"/>
                    </a:lnTo>
                    <a:lnTo>
                      <a:pt x="1911" y="1163"/>
                    </a:lnTo>
                    <a:lnTo>
                      <a:pt x="1898" y="1153"/>
                    </a:lnTo>
                    <a:lnTo>
                      <a:pt x="1882" y="1144"/>
                    </a:lnTo>
                    <a:lnTo>
                      <a:pt x="1865" y="1139"/>
                    </a:lnTo>
                    <a:lnTo>
                      <a:pt x="1856" y="1153"/>
                    </a:lnTo>
                    <a:lnTo>
                      <a:pt x="1849" y="1170"/>
                    </a:lnTo>
                    <a:lnTo>
                      <a:pt x="1845" y="1187"/>
                    </a:lnTo>
                    <a:lnTo>
                      <a:pt x="1843" y="1205"/>
                    </a:lnTo>
                    <a:lnTo>
                      <a:pt x="1840" y="1223"/>
                    </a:lnTo>
                    <a:lnTo>
                      <a:pt x="1838" y="1242"/>
                    </a:lnTo>
                    <a:lnTo>
                      <a:pt x="1836" y="1261"/>
                    </a:lnTo>
                    <a:lnTo>
                      <a:pt x="1833" y="1279"/>
                    </a:lnTo>
                    <a:lnTo>
                      <a:pt x="1819" y="1352"/>
                    </a:lnTo>
                    <a:lnTo>
                      <a:pt x="1789" y="1421"/>
                    </a:lnTo>
                    <a:lnTo>
                      <a:pt x="1749" y="1489"/>
                    </a:lnTo>
                    <a:lnTo>
                      <a:pt x="1704" y="1556"/>
                    </a:lnTo>
                    <a:lnTo>
                      <a:pt x="1657" y="1621"/>
                    </a:lnTo>
                    <a:lnTo>
                      <a:pt x="1616" y="1689"/>
                    </a:lnTo>
                    <a:lnTo>
                      <a:pt x="1586" y="1762"/>
                    </a:lnTo>
                    <a:lnTo>
                      <a:pt x="1571" y="1840"/>
                    </a:lnTo>
                    <a:lnTo>
                      <a:pt x="1561" y="1904"/>
                    </a:lnTo>
                    <a:lnTo>
                      <a:pt x="1568" y="1966"/>
                    </a:lnTo>
                    <a:lnTo>
                      <a:pt x="1581" y="2026"/>
                    </a:lnTo>
                    <a:lnTo>
                      <a:pt x="1606" y="2085"/>
                    </a:lnTo>
                    <a:lnTo>
                      <a:pt x="1635" y="2140"/>
                    </a:lnTo>
                    <a:lnTo>
                      <a:pt x="1670" y="2195"/>
                    </a:lnTo>
                    <a:lnTo>
                      <a:pt x="1707" y="2249"/>
                    </a:lnTo>
                    <a:lnTo>
                      <a:pt x="1746" y="2302"/>
                    </a:lnTo>
                    <a:lnTo>
                      <a:pt x="1797" y="2360"/>
                    </a:lnTo>
                    <a:lnTo>
                      <a:pt x="1848" y="2418"/>
                    </a:lnTo>
                    <a:lnTo>
                      <a:pt x="1899" y="2478"/>
                    </a:lnTo>
                    <a:lnTo>
                      <a:pt x="1948" y="2539"/>
                    </a:lnTo>
                    <a:lnTo>
                      <a:pt x="1992" y="2599"/>
                    </a:lnTo>
                    <a:lnTo>
                      <a:pt x="2037" y="2662"/>
                    </a:lnTo>
                    <a:lnTo>
                      <a:pt x="2079" y="2726"/>
                    </a:lnTo>
                    <a:lnTo>
                      <a:pt x="2115" y="2791"/>
                    </a:lnTo>
                    <a:lnTo>
                      <a:pt x="2122" y="2895"/>
                    </a:lnTo>
                    <a:lnTo>
                      <a:pt x="2095" y="3037"/>
                    </a:lnTo>
                    <a:lnTo>
                      <a:pt x="2042" y="3203"/>
                    </a:lnTo>
                    <a:lnTo>
                      <a:pt x="1973" y="3384"/>
                    </a:lnTo>
                    <a:lnTo>
                      <a:pt x="1894" y="3569"/>
                    </a:lnTo>
                    <a:lnTo>
                      <a:pt x="1816" y="3750"/>
                    </a:lnTo>
                    <a:lnTo>
                      <a:pt x="1749" y="3914"/>
                    </a:lnTo>
                    <a:lnTo>
                      <a:pt x="1702" y="4052"/>
                    </a:lnTo>
                    <a:lnTo>
                      <a:pt x="1693" y="4056"/>
                    </a:lnTo>
                    <a:lnTo>
                      <a:pt x="1684" y="4061"/>
                    </a:lnTo>
                    <a:lnTo>
                      <a:pt x="1676" y="4064"/>
                    </a:lnTo>
                    <a:lnTo>
                      <a:pt x="1667" y="4068"/>
                    </a:lnTo>
                    <a:lnTo>
                      <a:pt x="1657" y="4070"/>
                    </a:lnTo>
                    <a:lnTo>
                      <a:pt x="1650" y="4071"/>
                    </a:lnTo>
                    <a:lnTo>
                      <a:pt x="1640" y="4070"/>
                    </a:lnTo>
                    <a:lnTo>
                      <a:pt x="1633" y="4068"/>
                    </a:lnTo>
                    <a:lnTo>
                      <a:pt x="1619" y="4059"/>
                    </a:lnTo>
                    <a:lnTo>
                      <a:pt x="1613" y="4049"/>
                    </a:lnTo>
                    <a:lnTo>
                      <a:pt x="1609" y="4036"/>
                    </a:lnTo>
                    <a:lnTo>
                      <a:pt x="1609" y="4024"/>
                    </a:lnTo>
                    <a:lnTo>
                      <a:pt x="1609" y="4010"/>
                    </a:lnTo>
                    <a:lnTo>
                      <a:pt x="1612" y="3998"/>
                    </a:lnTo>
                    <a:lnTo>
                      <a:pt x="1611" y="3985"/>
                    </a:lnTo>
                    <a:lnTo>
                      <a:pt x="1611" y="3975"/>
                    </a:lnTo>
                    <a:lnTo>
                      <a:pt x="1616" y="3923"/>
                    </a:lnTo>
                    <a:lnTo>
                      <a:pt x="1620" y="3871"/>
                    </a:lnTo>
                    <a:lnTo>
                      <a:pt x="1622" y="3819"/>
                    </a:lnTo>
                    <a:lnTo>
                      <a:pt x="1623" y="3768"/>
                    </a:lnTo>
                    <a:lnTo>
                      <a:pt x="1622" y="3716"/>
                    </a:lnTo>
                    <a:lnTo>
                      <a:pt x="1622" y="3664"/>
                    </a:lnTo>
                    <a:lnTo>
                      <a:pt x="1622" y="3611"/>
                    </a:lnTo>
                    <a:lnTo>
                      <a:pt x="1623" y="3560"/>
                    </a:lnTo>
                    <a:lnTo>
                      <a:pt x="1635" y="3490"/>
                    </a:lnTo>
                    <a:lnTo>
                      <a:pt x="1651" y="3418"/>
                    </a:lnTo>
                    <a:lnTo>
                      <a:pt x="1668" y="3349"/>
                    </a:lnTo>
                    <a:lnTo>
                      <a:pt x="1694" y="3283"/>
                    </a:lnTo>
                    <a:lnTo>
                      <a:pt x="1723" y="3216"/>
                    </a:lnTo>
                    <a:lnTo>
                      <a:pt x="1761" y="3153"/>
                    </a:lnTo>
                    <a:lnTo>
                      <a:pt x="1806" y="3093"/>
                    </a:lnTo>
                    <a:lnTo>
                      <a:pt x="1865" y="3038"/>
                    </a:lnTo>
                    <a:lnTo>
                      <a:pt x="1923" y="2982"/>
                    </a:lnTo>
                    <a:lnTo>
                      <a:pt x="1845" y="2921"/>
                    </a:lnTo>
                    <a:lnTo>
                      <a:pt x="1778" y="2854"/>
                    </a:lnTo>
                    <a:lnTo>
                      <a:pt x="1719" y="2783"/>
                    </a:lnTo>
                    <a:lnTo>
                      <a:pt x="1667" y="2709"/>
                    </a:lnTo>
                    <a:lnTo>
                      <a:pt x="1618" y="2632"/>
                    </a:lnTo>
                    <a:lnTo>
                      <a:pt x="1574" y="2554"/>
                    </a:lnTo>
                    <a:lnTo>
                      <a:pt x="1529" y="2478"/>
                    </a:lnTo>
                    <a:lnTo>
                      <a:pt x="1484" y="2402"/>
                    </a:lnTo>
                    <a:lnTo>
                      <a:pt x="1475" y="2384"/>
                    </a:lnTo>
                    <a:lnTo>
                      <a:pt x="1468" y="2368"/>
                    </a:lnTo>
                    <a:lnTo>
                      <a:pt x="1459" y="2350"/>
                    </a:lnTo>
                    <a:lnTo>
                      <a:pt x="1452" y="2335"/>
                    </a:lnTo>
                    <a:lnTo>
                      <a:pt x="1444" y="2319"/>
                    </a:lnTo>
                    <a:lnTo>
                      <a:pt x="1438" y="2302"/>
                    </a:lnTo>
                    <a:lnTo>
                      <a:pt x="1433" y="2285"/>
                    </a:lnTo>
                    <a:lnTo>
                      <a:pt x="1435" y="2269"/>
                    </a:lnTo>
                    <a:lnTo>
                      <a:pt x="1419" y="2278"/>
                    </a:lnTo>
                    <a:lnTo>
                      <a:pt x="1409" y="2291"/>
                    </a:lnTo>
                    <a:lnTo>
                      <a:pt x="1401" y="2306"/>
                    </a:lnTo>
                    <a:lnTo>
                      <a:pt x="1399" y="2324"/>
                    </a:lnTo>
                    <a:lnTo>
                      <a:pt x="1396" y="2341"/>
                    </a:lnTo>
                    <a:lnTo>
                      <a:pt x="1396" y="2359"/>
                    </a:lnTo>
                    <a:lnTo>
                      <a:pt x="1395" y="2374"/>
                    </a:lnTo>
                    <a:lnTo>
                      <a:pt x="1394" y="2389"/>
                    </a:lnTo>
                    <a:lnTo>
                      <a:pt x="1399" y="2593"/>
                    </a:lnTo>
                    <a:lnTo>
                      <a:pt x="1393" y="2607"/>
                    </a:lnTo>
                    <a:lnTo>
                      <a:pt x="1390" y="2623"/>
                    </a:lnTo>
                    <a:lnTo>
                      <a:pt x="1389" y="2639"/>
                    </a:lnTo>
                    <a:lnTo>
                      <a:pt x="1390" y="2657"/>
                    </a:lnTo>
                    <a:lnTo>
                      <a:pt x="1390" y="2675"/>
                    </a:lnTo>
                    <a:lnTo>
                      <a:pt x="1391" y="2693"/>
                    </a:lnTo>
                    <a:lnTo>
                      <a:pt x="1393" y="2712"/>
                    </a:lnTo>
                    <a:lnTo>
                      <a:pt x="1394" y="2731"/>
                    </a:lnTo>
                    <a:lnTo>
                      <a:pt x="1389" y="2843"/>
                    </a:lnTo>
                    <a:lnTo>
                      <a:pt x="1383" y="2958"/>
                    </a:lnTo>
                    <a:lnTo>
                      <a:pt x="1374" y="3072"/>
                    </a:lnTo>
                    <a:lnTo>
                      <a:pt x="1362" y="3188"/>
                    </a:lnTo>
                    <a:lnTo>
                      <a:pt x="1346" y="3301"/>
                    </a:lnTo>
                    <a:lnTo>
                      <a:pt x="1326" y="3414"/>
                    </a:lnTo>
                    <a:lnTo>
                      <a:pt x="1302" y="3526"/>
                    </a:lnTo>
                    <a:lnTo>
                      <a:pt x="1276" y="3637"/>
                    </a:lnTo>
                    <a:lnTo>
                      <a:pt x="1277" y="3705"/>
                    </a:lnTo>
                    <a:lnTo>
                      <a:pt x="1279" y="3773"/>
                    </a:lnTo>
                    <a:lnTo>
                      <a:pt x="1279" y="3842"/>
                    </a:lnTo>
                    <a:lnTo>
                      <a:pt x="1279" y="3913"/>
                    </a:lnTo>
                    <a:lnTo>
                      <a:pt x="1274" y="3981"/>
                    </a:lnTo>
                    <a:lnTo>
                      <a:pt x="1267" y="4051"/>
                    </a:lnTo>
                    <a:lnTo>
                      <a:pt x="1255" y="4119"/>
                    </a:lnTo>
                    <a:lnTo>
                      <a:pt x="1238" y="4189"/>
                    </a:lnTo>
                    <a:lnTo>
                      <a:pt x="1230" y="4219"/>
                    </a:lnTo>
                    <a:lnTo>
                      <a:pt x="1225" y="4250"/>
                    </a:lnTo>
                    <a:lnTo>
                      <a:pt x="1218" y="4280"/>
                    </a:lnTo>
                    <a:lnTo>
                      <a:pt x="1213" y="4311"/>
                    </a:lnTo>
                    <a:lnTo>
                      <a:pt x="1206" y="4340"/>
                    </a:lnTo>
                    <a:lnTo>
                      <a:pt x="1199" y="4371"/>
                    </a:lnTo>
                    <a:lnTo>
                      <a:pt x="1192" y="4403"/>
                    </a:lnTo>
                    <a:lnTo>
                      <a:pt x="1186" y="4433"/>
                    </a:lnTo>
                    <a:lnTo>
                      <a:pt x="1176" y="4435"/>
                    </a:lnTo>
                    <a:lnTo>
                      <a:pt x="1167" y="4434"/>
                    </a:lnTo>
                    <a:lnTo>
                      <a:pt x="1159" y="4431"/>
                    </a:lnTo>
                    <a:lnTo>
                      <a:pt x="1153" y="4427"/>
                    </a:lnTo>
                    <a:lnTo>
                      <a:pt x="1129" y="4371"/>
                    </a:lnTo>
                    <a:lnTo>
                      <a:pt x="1111" y="4316"/>
                    </a:lnTo>
                    <a:lnTo>
                      <a:pt x="1098" y="4260"/>
                    </a:lnTo>
                    <a:lnTo>
                      <a:pt x="1090" y="4204"/>
                    </a:lnTo>
                    <a:lnTo>
                      <a:pt x="1084" y="4146"/>
                    </a:lnTo>
                    <a:lnTo>
                      <a:pt x="1079" y="4086"/>
                    </a:lnTo>
                    <a:lnTo>
                      <a:pt x="1074" y="4027"/>
                    </a:lnTo>
                    <a:lnTo>
                      <a:pt x="1070" y="3968"/>
                    </a:lnTo>
                    <a:lnTo>
                      <a:pt x="1076" y="3924"/>
                    </a:lnTo>
                    <a:lnTo>
                      <a:pt x="1079" y="3879"/>
                    </a:lnTo>
                    <a:lnTo>
                      <a:pt x="1080" y="3834"/>
                    </a:lnTo>
                    <a:lnTo>
                      <a:pt x="1081" y="3791"/>
                    </a:lnTo>
                    <a:lnTo>
                      <a:pt x="1084" y="3746"/>
                    </a:lnTo>
                    <a:lnTo>
                      <a:pt x="1091" y="3704"/>
                    </a:lnTo>
                    <a:lnTo>
                      <a:pt x="1103" y="3662"/>
                    </a:lnTo>
                    <a:lnTo>
                      <a:pt x="1124" y="3623"/>
                    </a:lnTo>
                    <a:lnTo>
                      <a:pt x="1106" y="3513"/>
                    </a:lnTo>
                    <a:lnTo>
                      <a:pt x="1091" y="3400"/>
                    </a:lnTo>
                    <a:lnTo>
                      <a:pt x="1077" y="3287"/>
                    </a:lnTo>
                    <a:lnTo>
                      <a:pt x="1068" y="3172"/>
                    </a:lnTo>
                    <a:lnTo>
                      <a:pt x="1060" y="3055"/>
                    </a:lnTo>
                    <a:lnTo>
                      <a:pt x="1060" y="2942"/>
                    </a:lnTo>
                    <a:lnTo>
                      <a:pt x="1065" y="2829"/>
                    </a:lnTo>
                    <a:lnTo>
                      <a:pt x="1079" y="2721"/>
                    </a:lnTo>
                    <a:lnTo>
                      <a:pt x="1081" y="2693"/>
                    </a:lnTo>
                    <a:lnTo>
                      <a:pt x="1084" y="2668"/>
                    </a:lnTo>
                    <a:lnTo>
                      <a:pt x="1084" y="2642"/>
                    </a:lnTo>
                    <a:lnTo>
                      <a:pt x="1085" y="2618"/>
                    </a:lnTo>
                    <a:lnTo>
                      <a:pt x="1085" y="2592"/>
                    </a:lnTo>
                    <a:lnTo>
                      <a:pt x="1086" y="2567"/>
                    </a:lnTo>
                    <a:lnTo>
                      <a:pt x="1089" y="2540"/>
                    </a:lnTo>
                    <a:lnTo>
                      <a:pt x="1095" y="2514"/>
                    </a:lnTo>
                    <a:lnTo>
                      <a:pt x="1095" y="2505"/>
                    </a:lnTo>
                    <a:lnTo>
                      <a:pt x="1095" y="2498"/>
                    </a:lnTo>
                    <a:lnTo>
                      <a:pt x="1095" y="2490"/>
                    </a:lnTo>
                    <a:lnTo>
                      <a:pt x="1096" y="2482"/>
                    </a:lnTo>
                    <a:lnTo>
                      <a:pt x="1095" y="2473"/>
                    </a:lnTo>
                    <a:lnTo>
                      <a:pt x="1095" y="2466"/>
                    </a:lnTo>
                    <a:lnTo>
                      <a:pt x="1095" y="2459"/>
                    </a:lnTo>
                    <a:lnTo>
                      <a:pt x="1095" y="2452"/>
                    </a:lnTo>
                    <a:lnTo>
                      <a:pt x="1093" y="2445"/>
                    </a:lnTo>
                    <a:lnTo>
                      <a:pt x="1090" y="2441"/>
                    </a:lnTo>
                    <a:lnTo>
                      <a:pt x="1084" y="2438"/>
                    </a:lnTo>
                    <a:lnTo>
                      <a:pt x="1079" y="2436"/>
                    </a:lnTo>
                    <a:lnTo>
                      <a:pt x="1045" y="2460"/>
                    </a:lnTo>
                    <a:lnTo>
                      <a:pt x="1025" y="2395"/>
                    </a:lnTo>
                    <a:lnTo>
                      <a:pt x="1013" y="2329"/>
                    </a:lnTo>
                    <a:lnTo>
                      <a:pt x="1009" y="2262"/>
                    </a:lnTo>
                    <a:lnTo>
                      <a:pt x="1013" y="2193"/>
                    </a:lnTo>
                    <a:lnTo>
                      <a:pt x="1025" y="2126"/>
                    </a:lnTo>
                    <a:lnTo>
                      <a:pt x="1047" y="2062"/>
                    </a:lnTo>
                    <a:lnTo>
                      <a:pt x="1077" y="2001"/>
                    </a:lnTo>
                    <a:lnTo>
                      <a:pt x="1121" y="1944"/>
                    </a:lnTo>
                    <a:lnTo>
                      <a:pt x="1124" y="1926"/>
                    </a:lnTo>
                    <a:lnTo>
                      <a:pt x="1129" y="1909"/>
                    </a:lnTo>
                    <a:lnTo>
                      <a:pt x="1134" y="1891"/>
                    </a:lnTo>
                    <a:lnTo>
                      <a:pt x="1140" y="1874"/>
                    </a:lnTo>
                    <a:lnTo>
                      <a:pt x="1143" y="1856"/>
                    </a:lnTo>
                    <a:lnTo>
                      <a:pt x="1146" y="1838"/>
                    </a:lnTo>
                    <a:lnTo>
                      <a:pt x="1146" y="1819"/>
                    </a:lnTo>
                    <a:lnTo>
                      <a:pt x="1144" y="1801"/>
                    </a:lnTo>
                    <a:lnTo>
                      <a:pt x="1154" y="1700"/>
                    </a:lnTo>
                    <a:lnTo>
                      <a:pt x="1156" y="1600"/>
                    </a:lnTo>
                    <a:lnTo>
                      <a:pt x="1151" y="1499"/>
                    </a:lnTo>
                    <a:lnTo>
                      <a:pt x="1140" y="1397"/>
                    </a:lnTo>
                    <a:lnTo>
                      <a:pt x="1121" y="1295"/>
                    </a:lnTo>
                    <a:lnTo>
                      <a:pt x="1095" y="1194"/>
                    </a:lnTo>
                    <a:lnTo>
                      <a:pt x="1064" y="1096"/>
                    </a:lnTo>
                    <a:lnTo>
                      <a:pt x="1029" y="1001"/>
                    </a:lnTo>
                    <a:lnTo>
                      <a:pt x="985" y="975"/>
                    </a:lnTo>
                    <a:lnTo>
                      <a:pt x="938" y="960"/>
                    </a:lnTo>
                    <a:lnTo>
                      <a:pt x="887" y="949"/>
                    </a:lnTo>
                    <a:lnTo>
                      <a:pt x="835" y="945"/>
                    </a:lnTo>
                    <a:lnTo>
                      <a:pt x="781" y="941"/>
                    </a:lnTo>
                    <a:lnTo>
                      <a:pt x="727" y="940"/>
                    </a:lnTo>
                    <a:lnTo>
                      <a:pt x="675" y="938"/>
                    </a:lnTo>
                    <a:lnTo>
                      <a:pt x="623" y="934"/>
                    </a:lnTo>
                    <a:lnTo>
                      <a:pt x="579" y="928"/>
                    </a:lnTo>
                    <a:lnTo>
                      <a:pt x="534" y="923"/>
                    </a:lnTo>
                    <a:lnTo>
                      <a:pt x="491" y="917"/>
                    </a:lnTo>
                    <a:lnTo>
                      <a:pt x="448" y="912"/>
                    </a:lnTo>
                    <a:lnTo>
                      <a:pt x="405" y="903"/>
                    </a:lnTo>
                    <a:lnTo>
                      <a:pt x="365" y="892"/>
                    </a:lnTo>
                    <a:lnTo>
                      <a:pt x="324" y="878"/>
                    </a:lnTo>
                    <a:lnTo>
                      <a:pt x="287" y="860"/>
                    </a:lnTo>
                    <a:lnTo>
                      <a:pt x="232" y="758"/>
                    </a:lnTo>
                    <a:lnTo>
                      <a:pt x="179" y="656"/>
                    </a:lnTo>
                    <a:lnTo>
                      <a:pt x="131" y="550"/>
                    </a:lnTo>
                    <a:lnTo>
                      <a:pt x="89" y="443"/>
                    </a:lnTo>
                    <a:lnTo>
                      <a:pt x="53" y="333"/>
                    </a:lnTo>
                    <a:lnTo>
                      <a:pt x="26" y="223"/>
                    </a:lnTo>
                    <a:lnTo>
                      <a:pt x="8" y="112"/>
                    </a:lnTo>
                    <a:lnTo>
                      <a:pt x="0" y="0"/>
                    </a:lnTo>
                    <a:lnTo>
                      <a:pt x="75" y="38"/>
                    </a:lnTo>
                    <a:lnTo>
                      <a:pt x="131" y="90"/>
                    </a:lnTo>
                    <a:lnTo>
                      <a:pt x="168" y="148"/>
                    </a:lnTo>
                    <a:lnTo>
                      <a:pt x="193" y="213"/>
                    </a:lnTo>
                    <a:lnTo>
                      <a:pt x="211" y="280"/>
                    </a:lnTo>
                    <a:lnTo>
                      <a:pt x="230" y="349"/>
                    </a:lnTo>
                    <a:lnTo>
                      <a:pt x="251" y="414"/>
                    </a:lnTo>
                    <a:lnTo>
                      <a:pt x="282" y="476"/>
                    </a:lnTo>
                    <a:lnTo>
                      <a:pt x="291" y="503"/>
                    </a:lnTo>
                    <a:lnTo>
                      <a:pt x="302" y="534"/>
                    </a:lnTo>
                    <a:lnTo>
                      <a:pt x="310" y="562"/>
                    </a:lnTo>
                    <a:lnTo>
                      <a:pt x="319" y="593"/>
                    </a:lnTo>
                    <a:lnTo>
                      <a:pt x="326" y="623"/>
                    </a:lnTo>
                    <a:lnTo>
                      <a:pt x="334" y="652"/>
                    </a:lnTo>
                    <a:lnTo>
                      <a:pt x="342" y="683"/>
                    </a:lnTo>
                    <a:lnTo>
                      <a:pt x="352" y="71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738320" y="261936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0"/>
                    </a:moveTo>
                    <a:lnTo>
                      <a:pt x="64" y="1"/>
                    </a:lnTo>
                    <a:lnTo>
                      <a:pt x="74" y="7"/>
                    </a:lnTo>
                    <a:lnTo>
                      <a:pt x="81" y="15"/>
                    </a:lnTo>
                    <a:lnTo>
                      <a:pt x="91" y="27"/>
                    </a:lnTo>
                    <a:lnTo>
                      <a:pt x="97" y="40"/>
                    </a:lnTo>
                    <a:lnTo>
                      <a:pt x="102" y="56"/>
                    </a:lnTo>
                    <a:lnTo>
                      <a:pt x="105" y="72"/>
                    </a:lnTo>
                    <a:lnTo>
                      <a:pt x="107" y="92"/>
                    </a:lnTo>
                    <a:lnTo>
                      <a:pt x="105" y="109"/>
                    </a:lnTo>
                    <a:lnTo>
                      <a:pt x="102" y="125"/>
                    </a:lnTo>
                    <a:lnTo>
                      <a:pt x="97" y="140"/>
                    </a:lnTo>
                    <a:lnTo>
                      <a:pt x="91" y="153"/>
                    </a:lnTo>
                    <a:lnTo>
                      <a:pt x="81" y="162"/>
                    </a:lnTo>
                    <a:lnTo>
                      <a:pt x="74" y="170"/>
                    </a:lnTo>
                    <a:lnTo>
                      <a:pt x="64" y="175"/>
                    </a:lnTo>
                    <a:lnTo>
                      <a:pt x="54" y="177"/>
                    </a:lnTo>
                    <a:lnTo>
                      <a:pt x="42" y="175"/>
                    </a:lnTo>
                    <a:lnTo>
                      <a:pt x="32" y="170"/>
                    </a:lnTo>
                    <a:lnTo>
                      <a:pt x="21" y="162"/>
                    </a:lnTo>
                    <a:lnTo>
                      <a:pt x="14" y="153"/>
                    </a:lnTo>
                    <a:lnTo>
                      <a:pt x="6" y="140"/>
                    </a:lnTo>
                    <a:lnTo>
                      <a:pt x="2" y="125"/>
                    </a:lnTo>
                    <a:lnTo>
                      <a:pt x="0" y="109"/>
                    </a:lnTo>
                    <a:lnTo>
                      <a:pt x="0" y="92"/>
                    </a:lnTo>
                    <a:lnTo>
                      <a:pt x="0" y="72"/>
                    </a:lnTo>
                    <a:lnTo>
                      <a:pt x="2" y="56"/>
                    </a:lnTo>
                    <a:lnTo>
                      <a:pt x="6" y="40"/>
                    </a:lnTo>
                    <a:lnTo>
                      <a:pt x="14" y="27"/>
                    </a:lnTo>
                    <a:lnTo>
                      <a:pt x="21" y="15"/>
                    </a:lnTo>
                    <a:lnTo>
                      <a:pt x="32" y="7"/>
                    </a:lnTo>
                    <a:lnTo>
                      <a:pt x="42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736520" y="2668680"/>
                <a:ext cx="27360" cy="4860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53" y="181"/>
                    </a:moveTo>
                    <a:lnTo>
                      <a:pt x="62" y="179"/>
                    </a:lnTo>
                    <a:lnTo>
                      <a:pt x="72" y="174"/>
                    </a:lnTo>
                    <a:lnTo>
                      <a:pt x="82" y="165"/>
                    </a:lnTo>
                    <a:lnTo>
                      <a:pt x="91" y="154"/>
                    </a:lnTo>
                    <a:lnTo>
                      <a:pt x="97" y="140"/>
                    </a:lnTo>
                    <a:lnTo>
                      <a:pt x="102" y="126"/>
                    </a:lnTo>
                    <a:lnTo>
                      <a:pt x="104" y="109"/>
                    </a:lnTo>
                    <a:lnTo>
                      <a:pt x="107" y="91"/>
                    </a:lnTo>
                    <a:lnTo>
                      <a:pt x="104" y="72"/>
                    </a:lnTo>
                    <a:lnTo>
                      <a:pt x="102" y="56"/>
                    </a:lnTo>
                    <a:lnTo>
                      <a:pt x="97" y="40"/>
                    </a:lnTo>
                    <a:lnTo>
                      <a:pt x="91" y="27"/>
                    </a:lnTo>
                    <a:lnTo>
                      <a:pt x="82" y="16"/>
                    </a:lnTo>
                    <a:lnTo>
                      <a:pt x="72" y="8"/>
                    </a:lnTo>
                    <a:lnTo>
                      <a:pt x="62" y="1"/>
                    </a:lnTo>
                    <a:lnTo>
                      <a:pt x="53" y="0"/>
                    </a:lnTo>
                    <a:lnTo>
                      <a:pt x="41" y="1"/>
                    </a:lnTo>
                    <a:lnTo>
                      <a:pt x="32" y="8"/>
                    </a:lnTo>
                    <a:lnTo>
                      <a:pt x="23" y="16"/>
                    </a:lnTo>
                    <a:lnTo>
                      <a:pt x="16" y="27"/>
                    </a:lnTo>
                    <a:lnTo>
                      <a:pt x="7" y="40"/>
                    </a:lnTo>
                    <a:lnTo>
                      <a:pt x="3" y="56"/>
                    </a:lnTo>
                    <a:lnTo>
                      <a:pt x="0" y="72"/>
                    </a:lnTo>
                    <a:lnTo>
                      <a:pt x="0" y="91"/>
                    </a:lnTo>
                    <a:lnTo>
                      <a:pt x="0" y="109"/>
                    </a:lnTo>
                    <a:lnTo>
                      <a:pt x="3" y="126"/>
                    </a:lnTo>
                    <a:lnTo>
                      <a:pt x="7" y="140"/>
                    </a:lnTo>
                    <a:lnTo>
                      <a:pt x="16" y="154"/>
                    </a:lnTo>
                    <a:lnTo>
                      <a:pt x="23" y="165"/>
                    </a:lnTo>
                    <a:lnTo>
                      <a:pt x="32" y="174"/>
                    </a:lnTo>
                    <a:lnTo>
                      <a:pt x="41" y="179"/>
                    </a:lnTo>
                    <a:lnTo>
                      <a:pt x="5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692960" y="264168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1" y="85"/>
                    </a:moveTo>
                    <a:lnTo>
                      <a:pt x="0" y="76"/>
                    </a:lnTo>
                    <a:lnTo>
                      <a:pt x="2" y="67"/>
                    </a:lnTo>
                    <a:lnTo>
                      <a:pt x="8" y="57"/>
                    </a:lnTo>
                    <a:lnTo>
                      <a:pt x="19" y="47"/>
                    </a:lnTo>
                    <a:lnTo>
                      <a:pt x="30" y="37"/>
                    </a:lnTo>
                    <a:lnTo>
                      <a:pt x="46" y="28"/>
                    </a:lnTo>
                    <a:lnTo>
                      <a:pt x="62" y="19"/>
                    </a:lnTo>
                    <a:lnTo>
                      <a:pt x="83" y="12"/>
                    </a:lnTo>
                    <a:lnTo>
                      <a:pt x="103" y="5"/>
                    </a:lnTo>
                    <a:lnTo>
                      <a:pt x="124" y="2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6" y="2"/>
                    </a:lnTo>
                    <a:lnTo>
                      <a:pt x="188" y="6"/>
                    </a:lnTo>
                    <a:lnTo>
                      <a:pt x="198" y="11"/>
                    </a:lnTo>
                    <a:lnTo>
                      <a:pt x="206" y="18"/>
                    </a:lnTo>
                    <a:lnTo>
                      <a:pt x="206" y="26"/>
                    </a:lnTo>
                    <a:lnTo>
                      <a:pt x="204" y="36"/>
                    </a:lnTo>
                    <a:lnTo>
                      <a:pt x="197" y="45"/>
                    </a:lnTo>
                    <a:lnTo>
                      <a:pt x="189" y="57"/>
                    </a:lnTo>
                    <a:lnTo>
                      <a:pt x="177" y="66"/>
                    </a:lnTo>
                    <a:lnTo>
                      <a:pt x="162" y="75"/>
                    </a:lnTo>
                    <a:lnTo>
                      <a:pt x="144" y="83"/>
                    </a:lnTo>
                    <a:lnTo>
                      <a:pt x="124" y="91"/>
                    </a:lnTo>
                    <a:lnTo>
                      <a:pt x="102" y="97"/>
                    </a:lnTo>
                    <a:lnTo>
                      <a:pt x="82" y="102"/>
                    </a:lnTo>
                    <a:lnTo>
                      <a:pt x="62" y="104"/>
                    </a:lnTo>
                    <a:lnTo>
                      <a:pt x="45" y="105"/>
                    </a:lnTo>
                    <a:lnTo>
                      <a:pt x="29" y="102"/>
                    </a:lnTo>
                    <a:lnTo>
                      <a:pt x="18" y="98"/>
                    </a:lnTo>
                    <a:lnTo>
                      <a:pt x="7" y="92"/>
                    </a:lnTo>
                    <a:lnTo>
                      <a:pt x="1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755960" y="2646000"/>
                <a:ext cx="34200" cy="2772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132" y="87"/>
                    </a:moveTo>
                    <a:lnTo>
                      <a:pt x="133" y="76"/>
                    </a:lnTo>
                    <a:lnTo>
                      <a:pt x="131" y="66"/>
                    </a:lnTo>
                    <a:lnTo>
                      <a:pt x="125" y="56"/>
                    </a:lnTo>
                    <a:lnTo>
                      <a:pt x="115" y="47"/>
                    </a:lnTo>
                    <a:lnTo>
                      <a:pt x="101" y="37"/>
                    </a:lnTo>
                    <a:lnTo>
                      <a:pt x="87" y="27"/>
                    </a:lnTo>
                    <a:lnTo>
                      <a:pt x="68" y="19"/>
                    </a:lnTo>
                    <a:lnTo>
                      <a:pt x="48" y="13"/>
                    </a:lnTo>
                    <a:lnTo>
                      <a:pt x="36" y="8"/>
                    </a:lnTo>
                    <a:lnTo>
                      <a:pt x="24" y="5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3" y="12"/>
                    </a:lnTo>
                    <a:lnTo>
                      <a:pt x="7" y="24"/>
                    </a:lnTo>
                    <a:lnTo>
                      <a:pt x="10" y="37"/>
                    </a:lnTo>
                    <a:lnTo>
                      <a:pt x="14" y="50"/>
                    </a:lnTo>
                    <a:lnTo>
                      <a:pt x="18" y="62"/>
                    </a:lnTo>
                    <a:lnTo>
                      <a:pt x="21" y="74"/>
                    </a:lnTo>
                    <a:lnTo>
                      <a:pt x="25" y="87"/>
                    </a:lnTo>
                    <a:lnTo>
                      <a:pt x="29" y="100"/>
                    </a:lnTo>
                    <a:lnTo>
                      <a:pt x="46" y="102"/>
                    </a:lnTo>
                    <a:lnTo>
                      <a:pt x="64" y="104"/>
                    </a:lnTo>
                    <a:lnTo>
                      <a:pt x="79" y="104"/>
                    </a:lnTo>
                    <a:lnTo>
                      <a:pt x="95" y="104"/>
                    </a:lnTo>
                    <a:lnTo>
                      <a:pt x="106" y="101"/>
                    </a:lnTo>
                    <a:lnTo>
                      <a:pt x="119" y="98"/>
                    </a:lnTo>
                    <a:lnTo>
                      <a:pt x="126" y="93"/>
                    </a:lnTo>
                    <a:lnTo>
                      <a:pt x="13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692960" y="266724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206" y="89"/>
                    </a:moveTo>
                    <a:lnTo>
                      <a:pt x="206" y="78"/>
                    </a:lnTo>
                    <a:lnTo>
                      <a:pt x="204" y="69"/>
                    </a:lnTo>
                    <a:lnTo>
                      <a:pt x="197" y="59"/>
                    </a:lnTo>
                    <a:lnTo>
                      <a:pt x="189" y="49"/>
                    </a:lnTo>
                    <a:lnTo>
                      <a:pt x="177" y="39"/>
                    </a:lnTo>
                    <a:lnTo>
                      <a:pt x="162" y="30"/>
                    </a:lnTo>
                    <a:lnTo>
                      <a:pt x="144" y="22"/>
                    </a:lnTo>
                    <a:lnTo>
                      <a:pt x="124" y="16"/>
                    </a:lnTo>
                    <a:lnTo>
                      <a:pt x="102" y="9"/>
                    </a:lnTo>
                    <a:lnTo>
                      <a:pt x="82" y="3"/>
                    </a:lnTo>
                    <a:lnTo>
                      <a:pt x="62" y="0"/>
                    </a:lnTo>
                    <a:lnTo>
                      <a:pt x="45" y="1"/>
                    </a:lnTo>
                    <a:lnTo>
                      <a:pt x="29" y="3"/>
                    </a:lnTo>
                    <a:lnTo>
                      <a:pt x="18" y="8"/>
                    </a:lnTo>
                    <a:lnTo>
                      <a:pt x="7" y="13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2" y="38"/>
                    </a:lnTo>
                    <a:lnTo>
                      <a:pt x="8" y="48"/>
                    </a:lnTo>
                    <a:lnTo>
                      <a:pt x="19" y="59"/>
                    </a:lnTo>
                    <a:lnTo>
                      <a:pt x="30" y="68"/>
                    </a:lnTo>
                    <a:lnTo>
                      <a:pt x="46" y="78"/>
                    </a:lnTo>
                    <a:lnTo>
                      <a:pt x="62" y="87"/>
                    </a:lnTo>
                    <a:lnTo>
                      <a:pt x="83" y="96"/>
                    </a:lnTo>
                    <a:lnTo>
                      <a:pt x="103" y="100"/>
                    </a:lnTo>
                    <a:lnTo>
                      <a:pt x="124" y="104"/>
                    </a:lnTo>
                    <a:lnTo>
                      <a:pt x="142" y="105"/>
                    </a:lnTo>
                    <a:lnTo>
                      <a:pt x="161" y="106"/>
                    </a:lnTo>
                    <a:lnTo>
                      <a:pt x="176" y="103"/>
                    </a:lnTo>
                    <a:lnTo>
                      <a:pt x="188" y="100"/>
                    </a:lnTo>
                    <a:lnTo>
                      <a:pt x="198" y="95"/>
                    </a:lnTo>
                    <a:lnTo>
                      <a:pt x="206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755600" y="267120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103" h="93">
                    <a:moveTo>
                      <a:pt x="0" y="6"/>
                    </a:moveTo>
                    <a:lnTo>
                      <a:pt x="17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66" y="1"/>
                    </a:lnTo>
                    <a:lnTo>
                      <a:pt x="77" y="3"/>
                    </a:lnTo>
                    <a:lnTo>
                      <a:pt x="90" y="7"/>
                    </a:lnTo>
                    <a:lnTo>
                      <a:pt x="97" y="12"/>
                    </a:lnTo>
                    <a:lnTo>
                      <a:pt x="103" y="19"/>
                    </a:lnTo>
                    <a:lnTo>
                      <a:pt x="103" y="27"/>
                    </a:lnTo>
                    <a:lnTo>
                      <a:pt x="101" y="37"/>
                    </a:lnTo>
                    <a:lnTo>
                      <a:pt x="95" y="47"/>
                    </a:lnTo>
                    <a:lnTo>
                      <a:pt x="86" y="58"/>
                    </a:lnTo>
                    <a:lnTo>
                      <a:pt x="74" y="68"/>
                    </a:lnTo>
                    <a:lnTo>
                      <a:pt x="60" y="77"/>
                    </a:lnTo>
                    <a:lnTo>
                      <a:pt x="43" y="85"/>
                    </a:lnTo>
                    <a:lnTo>
                      <a:pt x="26" y="93"/>
                    </a:lnTo>
                    <a:lnTo>
                      <a:pt x="21" y="81"/>
                    </a:lnTo>
                    <a:lnTo>
                      <a:pt x="17" y="71"/>
                    </a:lnTo>
                    <a:lnTo>
                      <a:pt x="14" y="59"/>
                    </a:lnTo>
                    <a:lnTo>
                      <a:pt x="12" y="49"/>
                    </a:lnTo>
                    <a:lnTo>
                      <a:pt x="8" y="37"/>
                    </a:lnTo>
                    <a:lnTo>
                      <a:pt x="5" y="27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27880" y="265464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160" h="114">
                    <a:moveTo>
                      <a:pt x="78" y="0"/>
                    </a:moveTo>
                    <a:lnTo>
                      <a:pt x="92" y="0"/>
                    </a:lnTo>
                    <a:lnTo>
                      <a:pt x="110" y="4"/>
                    </a:lnTo>
                    <a:lnTo>
                      <a:pt x="123" y="9"/>
                    </a:lnTo>
                    <a:lnTo>
                      <a:pt x="135" y="16"/>
                    </a:lnTo>
                    <a:lnTo>
                      <a:pt x="145" y="24"/>
                    </a:lnTo>
                    <a:lnTo>
                      <a:pt x="153" y="33"/>
                    </a:lnTo>
                    <a:lnTo>
                      <a:pt x="158" y="44"/>
                    </a:lnTo>
                    <a:lnTo>
                      <a:pt x="160" y="57"/>
                    </a:lnTo>
                    <a:lnTo>
                      <a:pt x="158" y="67"/>
                    </a:lnTo>
                    <a:lnTo>
                      <a:pt x="153" y="78"/>
                    </a:lnTo>
                    <a:lnTo>
                      <a:pt x="145" y="87"/>
                    </a:lnTo>
                    <a:lnTo>
                      <a:pt x="135" y="96"/>
                    </a:lnTo>
                    <a:lnTo>
                      <a:pt x="123" y="102"/>
                    </a:lnTo>
                    <a:lnTo>
                      <a:pt x="110" y="109"/>
                    </a:lnTo>
                    <a:lnTo>
                      <a:pt x="92" y="112"/>
                    </a:lnTo>
                    <a:lnTo>
                      <a:pt x="78" y="114"/>
                    </a:lnTo>
                    <a:lnTo>
                      <a:pt x="63" y="112"/>
                    </a:lnTo>
                    <a:lnTo>
                      <a:pt x="48" y="109"/>
                    </a:lnTo>
                    <a:lnTo>
                      <a:pt x="33" y="102"/>
                    </a:lnTo>
                    <a:lnTo>
                      <a:pt x="23" y="96"/>
                    </a:lnTo>
                    <a:lnTo>
                      <a:pt x="12" y="87"/>
                    </a:lnTo>
                    <a:lnTo>
                      <a:pt x="6" y="78"/>
                    </a:lnTo>
                    <a:lnTo>
                      <a:pt x="1" y="67"/>
                    </a:lnTo>
                    <a:lnTo>
                      <a:pt x="0" y="57"/>
                    </a:lnTo>
                    <a:lnTo>
                      <a:pt x="1" y="44"/>
                    </a:lnTo>
                    <a:lnTo>
                      <a:pt x="6" y="33"/>
                    </a:lnTo>
                    <a:lnTo>
                      <a:pt x="12" y="24"/>
                    </a:lnTo>
                    <a:lnTo>
                      <a:pt x="23" y="16"/>
                    </a:lnTo>
                    <a:lnTo>
                      <a:pt x="33" y="9"/>
                    </a:lnTo>
                    <a:lnTo>
                      <a:pt x="48" y="4"/>
                    </a:lnTo>
                    <a:lnTo>
                      <a:pt x="63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640760" y="275364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0"/>
                    </a:moveTo>
                    <a:lnTo>
                      <a:pt x="64" y="1"/>
                    </a:lnTo>
                    <a:lnTo>
                      <a:pt x="74" y="7"/>
                    </a:lnTo>
                    <a:lnTo>
                      <a:pt x="81" y="15"/>
                    </a:lnTo>
                    <a:lnTo>
                      <a:pt x="90" y="26"/>
                    </a:lnTo>
                    <a:lnTo>
                      <a:pt x="97" y="38"/>
                    </a:lnTo>
                    <a:lnTo>
                      <a:pt x="102" y="55"/>
                    </a:lnTo>
                    <a:lnTo>
                      <a:pt x="105" y="71"/>
                    </a:lnTo>
                    <a:lnTo>
                      <a:pt x="107" y="90"/>
                    </a:lnTo>
                    <a:lnTo>
                      <a:pt x="105" y="108"/>
                    </a:lnTo>
                    <a:lnTo>
                      <a:pt x="102" y="124"/>
                    </a:lnTo>
                    <a:lnTo>
                      <a:pt x="97" y="138"/>
                    </a:lnTo>
                    <a:lnTo>
                      <a:pt x="90" y="152"/>
                    </a:lnTo>
                    <a:lnTo>
                      <a:pt x="81" y="162"/>
                    </a:lnTo>
                    <a:lnTo>
                      <a:pt x="74" y="170"/>
                    </a:lnTo>
                    <a:lnTo>
                      <a:pt x="64" y="175"/>
                    </a:lnTo>
                    <a:lnTo>
                      <a:pt x="54" y="177"/>
                    </a:lnTo>
                    <a:lnTo>
                      <a:pt x="43" y="175"/>
                    </a:lnTo>
                    <a:lnTo>
                      <a:pt x="33" y="170"/>
                    </a:lnTo>
                    <a:lnTo>
                      <a:pt x="22" y="162"/>
                    </a:lnTo>
                    <a:lnTo>
                      <a:pt x="15" y="152"/>
                    </a:lnTo>
                    <a:lnTo>
                      <a:pt x="7" y="138"/>
                    </a:lnTo>
                    <a:lnTo>
                      <a:pt x="4" y="124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0" y="71"/>
                    </a:lnTo>
                    <a:lnTo>
                      <a:pt x="4" y="55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2" y="15"/>
                    </a:lnTo>
                    <a:lnTo>
                      <a:pt x="33" y="7"/>
                    </a:lnTo>
                    <a:lnTo>
                      <a:pt x="43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46520" y="2803320"/>
                <a:ext cx="20160" cy="45360"/>
              </a:xfrm>
              <a:custGeom>
                <a:avLst/>
                <a:gdLst/>
                <a:ahLst/>
                <a:rect l="l" t="t" r="r" b="b"/>
                <a:pathLst>
                  <a:path w="77" h="169">
                    <a:moveTo>
                      <a:pt x="77" y="10"/>
                    </a:moveTo>
                    <a:lnTo>
                      <a:pt x="65" y="2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6"/>
                    </a:lnTo>
                    <a:lnTo>
                      <a:pt x="23" y="14"/>
                    </a:lnTo>
                    <a:lnTo>
                      <a:pt x="14" y="26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99"/>
                    </a:lnTo>
                    <a:lnTo>
                      <a:pt x="1" y="111"/>
                    </a:lnTo>
                    <a:lnTo>
                      <a:pt x="3" y="123"/>
                    </a:lnTo>
                    <a:lnTo>
                      <a:pt x="7" y="134"/>
                    </a:lnTo>
                    <a:lnTo>
                      <a:pt x="11" y="143"/>
                    </a:lnTo>
                    <a:lnTo>
                      <a:pt x="16" y="152"/>
                    </a:lnTo>
                    <a:lnTo>
                      <a:pt x="22" y="160"/>
                    </a:lnTo>
                    <a:lnTo>
                      <a:pt x="29" y="169"/>
                    </a:lnTo>
                    <a:lnTo>
                      <a:pt x="29" y="164"/>
                    </a:lnTo>
                    <a:lnTo>
                      <a:pt x="30" y="143"/>
                    </a:lnTo>
                    <a:lnTo>
                      <a:pt x="34" y="123"/>
                    </a:lnTo>
                    <a:lnTo>
                      <a:pt x="38" y="102"/>
                    </a:lnTo>
                    <a:lnTo>
                      <a:pt x="45" y="84"/>
                    </a:lnTo>
                    <a:lnTo>
                      <a:pt x="51" y="64"/>
                    </a:lnTo>
                    <a:lnTo>
                      <a:pt x="59" y="45"/>
                    </a:lnTo>
                    <a:lnTo>
                      <a:pt x="67" y="28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631400" y="278064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4" y="66"/>
                    </a:moveTo>
                    <a:lnTo>
                      <a:pt x="0" y="57"/>
                    </a:lnTo>
                    <a:lnTo>
                      <a:pt x="1" y="49"/>
                    </a:lnTo>
                    <a:lnTo>
                      <a:pt x="6" y="40"/>
                    </a:lnTo>
                    <a:lnTo>
                      <a:pt x="15" y="32"/>
                    </a:lnTo>
                    <a:lnTo>
                      <a:pt x="26" y="23"/>
                    </a:lnTo>
                    <a:lnTo>
                      <a:pt x="39" y="14"/>
                    </a:lnTo>
                    <a:lnTo>
                      <a:pt x="53" y="6"/>
                    </a:lnTo>
                    <a:lnTo>
                      <a:pt x="70" y="0"/>
                    </a:lnTo>
                    <a:lnTo>
                      <a:pt x="63" y="9"/>
                    </a:lnTo>
                    <a:lnTo>
                      <a:pt x="57" y="19"/>
                    </a:lnTo>
                    <a:lnTo>
                      <a:pt x="49" y="29"/>
                    </a:lnTo>
                    <a:lnTo>
                      <a:pt x="43" y="39"/>
                    </a:lnTo>
                    <a:lnTo>
                      <a:pt x="36" y="49"/>
                    </a:lnTo>
                    <a:lnTo>
                      <a:pt x="29" y="59"/>
                    </a:lnTo>
                    <a:lnTo>
                      <a:pt x="22" y="69"/>
                    </a:lnTo>
                    <a:lnTo>
                      <a:pt x="16" y="79"/>
                    </a:lnTo>
                    <a:lnTo>
                      <a:pt x="7" y="74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58760" y="2778840"/>
                <a:ext cx="54000" cy="29520"/>
              </a:xfrm>
              <a:custGeom>
                <a:avLst/>
                <a:gdLst/>
                <a:ahLst/>
                <a:rect l="l" t="t" r="r" b="b"/>
                <a:pathLst>
                  <a:path w="206" h="108">
                    <a:moveTo>
                      <a:pt x="205" y="88"/>
                    </a:moveTo>
                    <a:lnTo>
                      <a:pt x="206" y="78"/>
                    </a:lnTo>
                    <a:lnTo>
                      <a:pt x="205" y="68"/>
                    </a:lnTo>
                    <a:lnTo>
                      <a:pt x="199" y="58"/>
                    </a:lnTo>
                    <a:lnTo>
                      <a:pt x="189" y="48"/>
                    </a:lnTo>
                    <a:lnTo>
                      <a:pt x="177" y="38"/>
                    </a:lnTo>
                    <a:lnTo>
                      <a:pt x="162" y="29"/>
                    </a:lnTo>
                    <a:lnTo>
                      <a:pt x="145" y="21"/>
                    </a:lnTo>
                    <a:lnTo>
                      <a:pt x="126" y="15"/>
                    </a:lnTo>
                    <a:lnTo>
                      <a:pt x="104" y="8"/>
                    </a:lnTo>
                    <a:lnTo>
                      <a:pt x="85" y="4"/>
                    </a:lnTo>
                    <a:lnTo>
                      <a:pt x="65" y="0"/>
                    </a:lnTo>
                    <a:lnTo>
                      <a:pt x="48" y="2"/>
                    </a:lnTo>
                    <a:lnTo>
                      <a:pt x="32" y="4"/>
                    </a:lnTo>
                    <a:lnTo>
                      <a:pt x="21" y="8"/>
                    </a:lnTo>
                    <a:lnTo>
                      <a:pt x="11" y="13"/>
                    </a:lnTo>
                    <a:lnTo>
                      <a:pt x="3" y="22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8" y="49"/>
                    </a:lnTo>
                    <a:lnTo>
                      <a:pt x="18" y="61"/>
                    </a:lnTo>
                    <a:lnTo>
                      <a:pt x="29" y="70"/>
                    </a:lnTo>
                    <a:lnTo>
                      <a:pt x="45" y="79"/>
                    </a:lnTo>
                    <a:lnTo>
                      <a:pt x="64" y="87"/>
                    </a:lnTo>
                    <a:lnTo>
                      <a:pt x="86" y="95"/>
                    </a:lnTo>
                    <a:lnTo>
                      <a:pt x="105" y="100"/>
                    </a:lnTo>
                    <a:lnTo>
                      <a:pt x="126" y="105"/>
                    </a:lnTo>
                    <a:lnTo>
                      <a:pt x="145" y="107"/>
                    </a:lnTo>
                    <a:lnTo>
                      <a:pt x="163" y="108"/>
                    </a:lnTo>
                    <a:lnTo>
                      <a:pt x="177" y="105"/>
                    </a:lnTo>
                    <a:lnTo>
                      <a:pt x="189" y="101"/>
                    </a:lnTo>
                    <a:lnTo>
                      <a:pt x="199" y="95"/>
                    </a:lnTo>
                    <a:lnTo>
                      <a:pt x="205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645080" y="2803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0"/>
                    </a:moveTo>
                    <a:lnTo>
                      <a:pt x="6" y="5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4" y="27"/>
                    </a:lnTo>
                    <a:lnTo>
                      <a:pt x="4" y="21"/>
                    </a:lnTo>
                    <a:lnTo>
                      <a:pt x="7" y="14"/>
                    </a:lnTo>
                    <a:lnTo>
                      <a:pt x="11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658760" y="2805480"/>
                <a:ext cx="54000" cy="2772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3" y="87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8" y="58"/>
                    </a:lnTo>
                    <a:lnTo>
                      <a:pt x="18" y="48"/>
                    </a:lnTo>
                    <a:lnTo>
                      <a:pt x="29" y="38"/>
                    </a:lnTo>
                    <a:lnTo>
                      <a:pt x="45" y="29"/>
                    </a:lnTo>
                    <a:lnTo>
                      <a:pt x="64" y="20"/>
                    </a:lnTo>
                    <a:lnTo>
                      <a:pt x="86" y="13"/>
                    </a:lnTo>
                    <a:lnTo>
                      <a:pt x="105" y="6"/>
                    </a:lnTo>
                    <a:lnTo>
                      <a:pt x="126" y="3"/>
                    </a:lnTo>
                    <a:lnTo>
                      <a:pt x="145" y="0"/>
                    </a:lnTo>
                    <a:lnTo>
                      <a:pt x="163" y="1"/>
                    </a:lnTo>
                    <a:lnTo>
                      <a:pt x="177" y="2"/>
                    </a:lnTo>
                    <a:lnTo>
                      <a:pt x="189" y="6"/>
                    </a:lnTo>
                    <a:lnTo>
                      <a:pt x="199" y="12"/>
                    </a:lnTo>
                    <a:lnTo>
                      <a:pt x="205" y="19"/>
                    </a:lnTo>
                    <a:lnTo>
                      <a:pt x="206" y="27"/>
                    </a:lnTo>
                    <a:lnTo>
                      <a:pt x="205" y="37"/>
                    </a:lnTo>
                    <a:lnTo>
                      <a:pt x="199" y="46"/>
                    </a:lnTo>
                    <a:lnTo>
                      <a:pt x="189" y="58"/>
                    </a:lnTo>
                    <a:lnTo>
                      <a:pt x="177" y="68"/>
                    </a:lnTo>
                    <a:lnTo>
                      <a:pt x="162" y="77"/>
                    </a:lnTo>
                    <a:lnTo>
                      <a:pt x="145" y="85"/>
                    </a:lnTo>
                    <a:lnTo>
                      <a:pt x="126" y="93"/>
                    </a:lnTo>
                    <a:lnTo>
                      <a:pt x="104" y="99"/>
                    </a:lnTo>
                    <a:lnTo>
                      <a:pt x="85" y="103"/>
                    </a:lnTo>
                    <a:lnTo>
                      <a:pt x="65" y="105"/>
                    </a:lnTo>
                    <a:lnTo>
                      <a:pt x="48" y="106"/>
                    </a:lnTo>
                    <a:lnTo>
                      <a:pt x="32" y="103"/>
                    </a:lnTo>
                    <a:lnTo>
                      <a:pt x="21" y="100"/>
                    </a:lnTo>
                    <a:lnTo>
                      <a:pt x="11" y="94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4638960" y="2788560"/>
                <a:ext cx="33120" cy="3060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78" y="0"/>
                    </a:moveTo>
                    <a:lnTo>
                      <a:pt x="89" y="0"/>
                    </a:lnTo>
                    <a:lnTo>
                      <a:pt x="102" y="2"/>
                    </a:lnTo>
                    <a:lnTo>
                      <a:pt x="116" y="6"/>
                    </a:lnTo>
                    <a:lnTo>
                      <a:pt x="127" y="13"/>
                    </a:lnTo>
                    <a:lnTo>
                      <a:pt x="118" y="26"/>
                    </a:lnTo>
                    <a:lnTo>
                      <a:pt x="111" y="38"/>
                    </a:lnTo>
                    <a:lnTo>
                      <a:pt x="102" y="50"/>
                    </a:lnTo>
                    <a:lnTo>
                      <a:pt x="96" y="63"/>
                    </a:lnTo>
                    <a:lnTo>
                      <a:pt x="89" y="76"/>
                    </a:lnTo>
                    <a:lnTo>
                      <a:pt x="82" y="88"/>
                    </a:lnTo>
                    <a:lnTo>
                      <a:pt x="76" y="100"/>
                    </a:lnTo>
                    <a:lnTo>
                      <a:pt x="73" y="114"/>
                    </a:lnTo>
                    <a:lnTo>
                      <a:pt x="58" y="111"/>
                    </a:lnTo>
                    <a:lnTo>
                      <a:pt x="44" y="108"/>
                    </a:lnTo>
                    <a:lnTo>
                      <a:pt x="31" y="102"/>
                    </a:lnTo>
                    <a:lnTo>
                      <a:pt x="21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5" y="33"/>
                    </a:lnTo>
                    <a:lnTo>
                      <a:pt x="11" y="24"/>
                    </a:lnTo>
                    <a:lnTo>
                      <a:pt x="21" y="15"/>
                    </a:lnTo>
                    <a:lnTo>
                      <a:pt x="31" y="8"/>
                    </a:lnTo>
                    <a:lnTo>
                      <a:pt x="46" y="3"/>
                    </a:lnTo>
                    <a:lnTo>
                      <a:pt x="60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589280" y="297684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74" y="83"/>
                    </a:moveTo>
                    <a:lnTo>
                      <a:pt x="64" y="88"/>
                    </a:lnTo>
                    <a:lnTo>
                      <a:pt x="53" y="90"/>
                    </a:lnTo>
                    <a:lnTo>
                      <a:pt x="42" y="88"/>
                    </a:lnTo>
                    <a:lnTo>
                      <a:pt x="32" y="82"/>
                    </a:lnTo>
                    <a:lnTo>
                      <a:pt x="22" y="73"/>
                    </a:lnTo>
                    <a:lnTo>
                      <a:pt x="15" y="63"/>
                    </a:lnTo>
                    <a:lnTo>
                      <a:pt x="8" y="49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9" y="10"/>
                    </a:lnTo>
                    <a:lnTo>
                      <a:pt x="18" y="21"/>
                    </a:lnTo>
                    <a:lnTo>
                      <a:pt x="26" y="31"/>
                    </a:lnTo>
                    <a:lnTo>
                      <a:pt x="36" y="43"/>
                    </a:lnTo>
                    <a:lnTo>
                      <a:pt x="45" y="53"/>
                    </a:lnTo>
                    <a:lnTo>
                      <a:pt x="56" y="63"/>
                    </a:lnTo>
                    <a:lnTo>
                      <a:pt x="64" y="73"/>
                    </a:lnTo>
                    <a:lnTo>
                      <a:pt x="7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577760" y="300240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177"/>
                    </a:moveTo>
                    <a:lnTo>
                      <a:pt x="62" y="175"/>
                    </a:lnTo>
                    <a:lnTo>
                      <a:pt x="72" y="170"/>
                    </a:lnTo>
                    <a:lnTo>
                      <a:pt x="81" y="161"/>
                    </a:lnTo>
                    <a:lnTo>
                      <a:pt x="89" y="151"/>
                    </a:lnTo>
                    <a:lnTo>
                      <a:pt x="96" y="137"/>
                    </a:lnTo>
                    <a:lnTo>
                      <a:pt x="101" y="123"/>
                    </a:lnTo>
                    <a:lnTo>
                      <a:pt x="103" y="107"/>
                    </a:lnTo>
                    <a:lnTo>
                      <a:pt x="107" y="90"/>
                    </a:lnTo>
                    <a:lnTo>
                      <a:pt x="103" y="71"/>
                    </a:lnTo>
                    <a:lnTo>
                      <a:pt x="101" y="55"/>
                    </a:lnTo>
                    <a:lnTo>
                      <a:pt x="96" y="37"/>
                    </a:lnTo>
                    <a:lnTo>
                      <a:pt x="89" y="25"/>
                    </a:lnTo>
                    <a:lnTo>
                      <a:pt x="81" y="14"/>
                    </a:lnTo>
                    <a:lnTo>
                      <a:pt x="72" y="6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39" y="1"/>
                    </a:lnTo>
                    <a:lnTo>
                      <a:pt x="29" y="6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7"/>
                    </a:lnTo>
                    <a:lnTo>
                      <a:pt x="2" y="55"/>
                    </a:lnTo>
                    <a:lnTo>
                      <a:pt x="0" y="71"/>
                    </a:lnTo>
                    <a:lnTo>
                      <a:pt x="0" y="90"/>
                    </a:lnTo>
                    <a:lnTo>
                      <a:pt x="0" y="107"/>
                    </a:lnTo>
                    <a:lnTo>
                      <a:pt x="2" y="123"/>
                    </a:lnTo>
                    <a:lnTo>
                      <a:pt x="6" y="137"/>
                    </a:lnTo>
                    <a:lnTo>
                      <a:pt x="13" y="151"/>
                    </a:lnTo>
                    <a:lnTo>
                      <a:pt x="19" y="161"/>
                    </a:lnTo>
                    <a:lnTo>
                      <a:pt x="29" y="170"/>
                    </a:lnTo>
                    <a:lnTo>
                      <a:pt x="39" y="175"/>
                    </a:lnTo>
                    <a:lnTo>
                      <a:pt x="54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598280" y="297900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207" y="85"/>
                    </a:moveTo>
                    <a:lnTo>
                      <a:pt x="207" y="75"/>
                    </a:lnTo>
                    <a:lnTo>
                      <a:pt x="204" y="66"/>
                    </a:lnTo>
                    <a:lnTo>
                      <a:pt x="198" y="56"/>
                    </a:lnTo>
                    <a:lnTo>
                      <a:pt x="191" y="47"/>
                    </a:lnTo>
                    <a:lnTo>
                      <a:pt x="177" y="37"/>
                    </a:lnTo>
                    <a:lnTo>
                      <a:pt x="163" y="28"/>
                    </a:lnTo>
                    <a:lnTo>
                      <a:pt x="144" y="18"/>
                    </a:lnTo>
                    <a:lnTo>
                      <a:pt x="126" y="11"/>
                    </a:lnTo>
                    <a:lnTo>
                      <a:pt x="104" y="5"/>
                    </a:lnTo>
                    <a:lnTo>
                      <a:pt x="83" y="2"/>
                    </a:lnTo>
                    <a:lnTo>
                      <a:pt x="63" y="0"/>
                    </a:lnTo>
                    <a:lnTo>
                      <a:pt x="47" y="1"/>
                    </a:lnTo>
                    <a:lnTo>
                      <a:pt x="31" y="3"/>
                    </a:lnTo>
                    <a:lnTo>
                      <a:pt x="17" y="7"/>
                    </a:lnTo>
                    <a:lnTo>
                      <a:pt x="7" y="12"/>
                    </a:lnTo>
                    <a:lnTo>
                      <a:pt x="3" y="21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7" y="47"/>
                    </a:lnTo>
                    <a:lnTo>
                      <a:pt x="17" y="57"/>
                    </a:lnTo>
                    <a:lnTo>
                      <a:pt x="28" y="66"/>
                    </a:lnTo>
                    <a:lnTo>
                      <a:pt x="46" y="75"/>
                    </a:lnTo>
                    <a:lnTo>
                      <a:pt x="63" y="83"/>
                    </a:lnTo>
                    <a:lnTo>
                      <a:pt x="84" y="91"/>
                    </a:lnTo>
                    <a:lnTo>
                      <a:pt x="105" y="97"/>
                    </a:lnTo>
                    <a:lnTo>
                      <a:pt x="126" y="101"/>
                    </a:lnTo>
                    <a:lnTo>
                      <a:pt x="143" y="103"/>
                    </a:lnTo>
                    <a:lnTo>
                      <a:pt x="163" y="104"/>
                    </a:lnTo>
                    <a:lnTo>
                      <a:pt x="177" y="101"/>
                    </a:lnTo>
                    <a:lnTo>
                      <a:pt x="190" y="98"/>
                    </a:lnTo>
                    <a:lnTo>
                      <a:pt x="200" y="92"/>
                    </a:lnTo>
                    <a:lnTo>
                      <a:pt x="207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568040" y="300384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2" y="0"/>
                    </a:moveTo>
                    <a:lnTo>
                      <a:pt x="8" y="2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3" y="24"/>
                    </a:lnTo>
                    <a:lnTo>
                      <a:pt x="8" y="34"/>
                    </a:lnTo>
                    <a:lnTo>
                      <a:pt x="17" y="46"/>
                    </a:lnTo>
                    <a:lnTo>
                      <a:pt x="28" y="55"/>
                    </a:lnTo>
                    <a:lnTo>
                      <a:pt x="46" y="64"/>
                    </a:lnTo>
                    <a:lnTo>
                      <a:pt x="62" y="72"/>
                    </a:lnTo>
                    <a:lnTo>
                      <a:pt x="81" y="81"/>
                    </a:lnTo>
                    <a:lnTo>
                      <a:pt x="72" y="70"/>
                    </a:lnTo>
                    <a:lnTo>
                      <a:pt x="63" y="61"/>
                    </a:lnTo>
                    <a:lnTo>
                      <a:pt x="54" y="50"/>
                    </a:lnTo>
                    <a:lnTo>
                      <a:pt x="47" y="41"/>
                    </a:lnTo>
                    <a:lnTo>
                      <a:pt x="37" y="29"/>
                    </a:lnTo>
                    <a:lnTo>
                      <a:pt x="28" y="19"/>
                    </a:lnTo>
                    <a:lnTo>
                      <a:pt x="2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598280" y="300456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3" y="89"/>
                    </a:moveTo>
                    <a:lnTo>
                      <a:pt x="0" y="78"/>
                    </a:lnTo>
                    <a:lnTo>
                      <a:pt x="3" y="69"/>
                    </a:lnTo>
                    <a:lnTo>
                      <a:pt x="7" y="59"/>
                    </a:lnTo>
                    <a:lnTo>
                      <a:pt x="17" y="50"/>
                    </a:lnTo>
                    <a:lnTo>
                      <a:pt x="28" y="40"/>
                    </a:lnTo>
                    <a:lnTo>
                      <a:pt x="46" y="29"/>
                    </a:lnTo>
                    <a:lnTo>
                      <a:pt x="63" y="21"/>
                    </a:lnTo>
                    <a:lnTo>
                      <a:pt x="84" y="15"/>
                    </a:lnTo>
                    <a:lnTo>
                      <a:pt x="105" y="8"/>
                    </a:lnTo>
                    <a:lnTo>
                      <a:pt x="126" y="3"/>
                    </a:lnTo>
                    <a:lnTo>
                      <a:pt x="143" y="0"/>
                    </a:lnTo>
                    <a:lnTo>
                      <a:pt x="163" y="1"/>
                    </a:lnTo>
                    <a:lnTo>
                      <a:pt x="177" y="3"/>
                    </a:lnTo>
                    <a:lnTo>
                      <a:pt x="190" y="7"/>
                    </a:lnTo>
                    <a:lnTo>
                      <a:pt x="200" y="12"/>
                    </a:lnTo>
                    <a:lnTo>
                      <a:pt x="207" y="21"/>
                    </a:lnTo>
                    <a:lnTo>
                      <a:pt x="207" y="28"/>
                    </a:lnTo>
                    <a:lnTo>
                      <a:pt x="204" y="39"/>
                    </a:lnTo>
                    <a:lnTo>
                      <a:pt x="198" y="49"/>
                    </a:lnTo>
                    <a:lnTo>
                      <a:pt x="191" y="59"/>
                    </a:lnTo>
                    <a:lnTo>
                      <a:pt x="177" y="68"/>
                    </a:lnTo>
                    <a:lnTo>
                      <a:pt x="163" y="78"/>
                    </a:lnTo>
                    <a:lnTo>
                      <a:pt x="144" y="86"/>
                    </a:lnTo>
                    <a:lnTo>
                      <a:pt x="126" y="96"/>
                    </a:lnTo>
                    <a:lnTo>
                      <a:pt x="104" y="100"/>
                    </a:lnTo>
                    <a:lnTo>
                      <a:pt x="83" y="104"/>
                    </a:lnTo>
                    <a:lnTo>
                      <a:pt x="63" y="105"/>
                    </a:lnTo>
                    <a:lnTo>
                      <a:pt x="47" y="106"/>
                    </a:lnTo>
                    <a:lnTo>
                      <a:pt x="31" y="103"/>
                    </a:lnTo>
                    <a:lnTo>
                      <a:pt x="17" y="100"/>
                    </a:lnTo>
                    <a:lnTo>
                      <a:pt x="7" y="95"/>
                    </a:lnTo>
                    <a:lnTo>
                      <a:pt x="3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576680" y="2988720"/>
                <a:ext cx="35280" cy="30600"/>
              </a:xfrm>
              <a:custGeom>
                <a:avLst/>
                <a:gdLst/>
                <a:ahLst/>
                <a:rect l="l" t="t" r="r" b="b"/>
                <a:pathLst>
                  <a:path w="135" h="114">
                    <a:moveTo>
                      <a:pt x="135" y="97"/>
                    </a:moveTo>
                    <a:lnTo>
                      <a:pt x="127" y="100"/>
                    </a:lnTo>
                    <a:lnTo>
                      <a:pt x="121" y="103"/>
                    </a:lnTo>
                    <a:lnTo>
                      <a:pt x="113" y="106"/>
                    </a:lnTo>
                    <a:lnTo>
                      <a:pt x="107" y="109"/>
                    </a:lnTo>
                    <a:lnTo>
                      <a:pt x="100" y="110"/>
                    </a:lnTo>
                    <a:lnTo>
                      <a:pt x="92" y="112"/>
                    </a:lnTo>
                    <a:lnTo>
                      <a:pt x="85" y="113"/>
                    </a:lnTo>
                    <a:lnTo>
                      <a:pt x="79" y="114"/>
                    </a:lnTo>
                    <a:lnTo>
                      <a:pt x="62" y="112"/>
                    </a:lnTo>
                    <a:lnTo>
                      <a:pt x="48" y="109"/>
                    </a:lnTo>
                    <a:lnTo>
                      <a:pt x="34" y="103"/>
                    </a:lnTo>
                    <a:lnTo>
                      <a:pt x="23" y="96"/>
                    </a:lnTo>
                    <a:lnTo>
                      <a:pt x="14" y="85"/>
                    </a:lnTo>
                    <a:lnTo>
                      <a:pt x="6" y="75"/>
                    </a:lnTo>
                    <a:lnTo>
                      <a:pt x="0" y="64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4" y="35"/>
                    </a:lnTo>
                    <a:lnTo>
                      <a:pt x="7" y="27"/>
                    </a:lnTo>
                    <a:lnTo>
                      <a:pt x="15" y="21"/>
                    </a:lnTo>
                    <a:lnTo>
                      <a:pt x="21" y="14"/>
                    </a:lnTo>
                    <a:lnTo>
                      <a:pt x="31" y="9"/>
                    </a:lnTo>
                    <a:lnTo>
                      <a:pt x="41" y="3"/>
                    </a:lnTo>
                    <a:lnTo>
                      <a:pt x="53" y="0"/>
                    </a:lnTo>
                    <a:lnTo>
                      <a:pt x="62" y="11"/>
                    </a:lnTo>
                    <a:lnTo>
                      <a:pt x="73" y="23"/>
                    </a:lnTo>
                    <a:lnTo>
                      <a:pt x="81" y="35"/>
                    </a:lnTo>
                    <a:lnTo>
                      <a:pt x="92" y="48"/>
                    </a:lnTo>
                    <a:lnTo>
                      <a:pt x="102" y="59"/>
                    </a:lnTo>
                    <a:lnTo>
                      <a:pt x="112" y="71"/>
                    </a:lnTo>
                    <a:lnTo>
                      <a:pt x="123" y="83"/>
                    </a:lnTo>
                    <a:lnTo>
                      <a:pt x="135" y="9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4610160" y="3209400"/>
                <a:ext cx="20160" cy="39960"/>
              </a:xfrm>
              <a:custGeom>
                <a:avLst/>
                <a:gdLst/>
                <a:ahLst/>
                <a:rect l="l" t="t" r="r" b="b"/>
                <a:pathLst>
                  <a:path w="79" h="147">
                    <a:moveTo>
                      <a:pt x="65" y="0"/>
                    </a:moveTo>
                    <a:lnTo>
                      <a:pt x="68" y="5"/>
                    </a:lnTo>
                    <a:lnTo>
                      <a:pt x="70" y="12"/>
                    </a:lnTo>
                    <a:lnTo>
                      <a:pt x="71" y="18"/>
                    </a:lnTo>
                    <a:lnTo>
                      <a:pt x="75" y="26"/>
                    </a:lnTo>
                    <a:lnTo>
                      <a:pt x="76" y="33"/>
                    </a:lnTo>
                    <a:lnTo>
                      <a:pt x="77" y="41"/>
                    </a:lnTo>
                    <a:lnTo>
                      <a:pt x="77" y="51"/>
                    </a:lnTo>
                    <a:lnTo>
                      <a:pt x="79" y="60"/>
                    </a:lnTo>
                    <a:lnTo>
                      <a:pt x="76" y="77"/>
                    </a:lnTo>
                    <a:lnTo>
                      <a:pt x="74" y="93"/>
                    </a:lnTo>
                    <a:lnTo>
                      <a:pt x="68" y="108"/>
                    </a:lnTo>
                    <a:lnTo>
                      <a:pt x="61" y="121"/>
                    </a:lnTo>
                    <a:lnTo>
                      <a:pt x="53" y="131"/>
                    </a:lnTo>
                    <a:lnTo>
                      <a:pt x="44" y="139"/>
                    </a:lnTo>
                    <a:lnTo>
                      <a:pt x="34" y="144"/>
                    </a:lnTo>
                    <a:lnTo>
                      <a:pt x="26" y="147"/>
                    </a:lnTo>
                    <a:lnTo>
                      <a:pt x="13" y="143"/>
                    </a:lnTo>
                    <a:lnTo>
                      <a:pt x="0" y="136"/>
                    </a:lnTo>
                    <a:lnTo>
                      <a:pt x="5" y="118"/>
                    </a:lnTo>
                    <a:lnTo>
                      <a:pt x="12" y="101"/>
                    </a:lnTo>
                    <a:lnTo>
                      <a:pt x="20" y="83"/>
                    </a:lnTo>
                    <a:lnTo>
                      <a:pt x="28" y="67"/>
                    </a:lnTo>
                    <a:lnTo>
                      <a:pt x="36" y="50"/>
                    </a:lnTo>
                    <a:lnTo>
                      <a:pt x="44" y="33"/>
                    </a:lnTo>
                    <a:lnTo>
                      <a:pt x="54" y="1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606920" y="3250800"/>
                <a:ext cx="27360" cy="4752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3" y="177"/>
                    </a:moveTo>
                    <a:lnTo>
                      <a:pt x="63" y="175"/>
                    </a:lnTo>
                    <a:lnTo>
                      <a:pt x="72" y="170"/>
                    </a:lnTo>
                    <a:lnTo>
                      <a:pt x="81" y="161"/>
                    </a:lnTo>
                    <a:lnTo>
                      <a:pt x="91" y="151"/>
                    </a:lnTo>
                    <a:lnTo>
                      <a:pt x="97" y="136"/>
                    </a:lnTo>
                    <a:lnTo>
                      <a:pt x="102" y="122"/>
                    </a:lnTo>
                    <a:lnTo>
                      <a:pt x="104" y="105"/>
                    </a:lnTo>
                    <a:lnTo>
                      <a:pt x="107" y="86"/>
                    </a:lnTo>
                    <a:lnTo>
                      <a:pt x="104" y="68"/>
                    </a:lnTo>
                    <a:lnTo>
                      <a:pt x="102" y="53"/>
                    </a:lnTo>
                    <a:lnTo>
                      <a:pt x="97" y="37"/>
                    </a:lnTo>
                    <a:lnTo>
                      <a:pt x="91" y="25"/>
                    </a:lnTo>
                    <a:lnTo>
                      <a:pt x="81" y="14"/>
                    </a:lnTo>
                    <a:lnTo>
                      <a:pt x="72" y="6"/>
                    </a:lnTo>
                    <a:lnTo>
                      <a:pt x="63" y="1"/>
                    </a:lnTo>
                    <a:lnTo>
                      <a:pt x="53" y="0"/>
                    </a:lnTo>
                    <a:lnTo>
                      <a:pt x="40" y="1"/>
                    </a:lnTo>
                    <a:lnTo>
                      <a:pt x="31" y="6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7"/>
                    </a:lnTo>
                    <a:lnTo>
                      <a:pt x="2" y="53"/>
                    </a:lnTo>
                    <a:lnTo>
                      <a:pt x="0" y="68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6" y="136"/>
                    </a:lnTo>
                    <a:lnTo>
                      <a:pt x="13" y="151"/>
                    </a:lnTo>
                    <a:lnTo>
                      <a:pt x="19" y="161"/>
                    </a:lnTo>
                    <a:lnTo>
                      <a:pt x="31" y="170"/>
                    </a:lnTo>
                    <a:lnTo>
                      <a:pt x="40" y="175"/>
                    </a:lnTo>
                    <a:lnTo>
                      <a:pt x="53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563720" y="322344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5">
                    <a:moveTo>
                      <a:pt x="1" y="88"/>
                    </a:moveTo>
                    <a:lnTo>
                      <a:pt x="0" y="78"/>
                    </a:lnTo>
                    <a:lnTo>
                      <a:pt x="2" y="68"/>
                    </a:lnTo>
                    <a:lnTo>
                      <a:pt x="8" y="58"/>
                    </a:lnTo>
                    <a:lnTo>
                      <a:pt x="18" y="49"/>
                    </a:lnTo>
                    <a:lnTo>
                      <a:pt x="31" y="37"/>
                    </a:lnTo>
                    <a:lnTo>
                      <a:pt x="47" y="28"/>
                    </a:lnTo>
                    <a:lnTo>
                      <a:pt x="64" y="19"/>
                    </a:lnTo>
                    <a:lnTo>
                      <a:pt x="84" y="12"/>
                    </a:lnTo>
                    <a:lnTo>
                      <a:pt x="104" y="5"/>
                    </a:lnTo>
                    <a:lnTo>
                      <a:pt x="124" y="2"/>
                    </a:lnTo>
                    <a:lnTo>
                      <a:pt x="143" y="0"/>
                    </a:lnTo>
                    <a:lnTo>
                      <a:pt x="162" y="1"/>
                    </a:lnTo>
                    <a:lnTo>
                      <a:pt x="176" y="2"/>
                    </a:lnTo>
                    <a:lnTo>
                      <a:pt x="189" y="6"/>
                    </a:lnTo>
                    <a:lnTo>
                      <a:pt x="198" y="11"/>
                    </a:lnTo>
                    <a:lnTo>
                      <a:pt x="205" y="18"/>
                    </a:lnTo>
                    <a:lnTo>
                      <a:pt x="205" y="26"/>
                    </a:lnTo>
                    <a:lnTo>
                      <a:pt x="203" y="36"/>
                    </a:lnTo>
                    <a:lnTo>
                      <a:pt x="197" y="47"/>
                    </a:lnTo>
                    <a:lnTo>
                      <a:pt x="188" y="58"/>
                    </a:lnTo>
                    <a:lnTo>
                      <a:pt x="175" y="67"/>
                    </a:lnTo>
                    <a:lnTo>
                      <a:pt x="160" y="77"/>
                    </a:lnTo>
                    <a:lnTo>
                      <a:pt x="141" y="85"/>
                    </a:lnTo>
                    <a:lnTo>
                      <a:pt x="124" y="95"/>
                    </a:lnTo>
                    <a:lnTo>
                      <a:pt x="102" y="99"/>
                    </a:lnTo>
                    <a:lnTo>
                      <a:pt x="81" y="103"/>
                    </a:lnTo>
                    <a:lnTo>
                      <a:pt x="63" y="104"/>
                    </a:lnTo>
                    <a:lnTo>
                      <a:pt x="45" y="105"/>
                    </a:lnTo>
                    <a:lnTo>
                      <a:pt x="29" y="102"/>
                    </a:lnTo>
                    <a:lnTo>
                      <a:pt x="17" y="100"/>
                    </a:lnTo>
                    <a:lnTo>
                      <a:pt x="7" y="93"/>
                    </a:lnTo>
                    <a:lnTo>
                      <a:pt x="1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626720" y="324396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22" y="27"/>
                    </a:moveTo>
                    <a:lnTo>
                      <a:pt x="22" y="20"/>
                    </a:lnTo>
                    <a:lnTo>
                      <a:pt x="22" y="12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9" y="9"/>
                    </a:lnTo>
                    <a:lnTo>
                      <a:pt x="6" y="20"/>
                    </a:lnTo>
                    <a:lnTo>
                      <a:pt x="3" y="30"/>
                    </a:lnTo>
                    <a:lnTo>
                      <a:pt x="0" y="40"/>
                    </a:lnTo>
                    <a:lnTo>
                      <a:pt x="12" y="35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563720" y="324900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7">
                    <a:moveTo>
                      <a:pt x="205" y="88"/>
                    </a:moveTo>
                    <a:lnTo>
                      <a:pt x="205" y="78"/>
                    </a:lnTo>
                    <a:lnTo>
                      <a:pt x="203" y="68"/>
                    </a:lnTo>
                    <a:lnTo>
                      <a:pt x="197" y="58"/>
                    </a:lnTo>
                    <a:lnTo>
                      <a:pt x="188" y="48"/>
                    </a:lnTo>
                    <a:lnTo>
                      <a:pt x="175" y="38"/>
                    </a:lnTo>
                    <a:lnTo>
                      <a:pt x="160" y="29"/>
                    </a:lnTo>
                    <a:lnTo>
                      <a:pt x="141" y="21"/>
                    </a:lnTo>
                    <a:lnTo>
                      <a:pt x="124" y="15"/>
                    </a:lnTo>
                    <a:lnTo>
                      <a:pt x="102" y="8"/>
                    </a:lnTo>
                    <a:lnTo>
                      <a:pt x="81" y="4"/>
                    </a:lnTo>
                    <a:lnTo>
                      <a:pt x="63" y="0"/>
                    </a:lnTo>
                    <a:lnTo>
                      <a:pt x="45" y="2"/>
                    </a:lnTo>
                    <a:lnTo>
                      <a:pt x="29" y="4"/>
                    </a:lnTo>
                    <a:lnTo>
                      <a:pt x="17" y="8"/>
                    </a:lnTo>
                    <a:lnTo>
                      <a:pt x="7" y="13"/>
                    </a:lnTo>
                    <a:lnTo>
                      <a:pt x="1" y="22"/>
                    </a:lnTo>
                    <a:lnTo>
                      <a:pt x="0" y="30"/>
                    </a:lnTo>
                    <a:lnTo>
                      <a:pt x="2" y="39"/>
                    </a:lnTo>
                    <a:lnTo>
                      <a:pt x="8" y="49"/>
                    </a:lnTo>
                    <a:lnTo>
                      <a:pt x="18" y="60"/>
                    </a:lnTo>
                    <a:lnTo>
                      <a:pt x="31" y="69"/>
                    </a:lnTo>
                    <a:lnTo>
                      <a:pt x="47" y="78"/>
                    </a:lnTo>
                    <a:lnTo>
                      <a:pt x="64" y="86"/>
                    </a:lnTo>
                    <a:lnTo>
                      <a:pt x="84" y="95"/>
                    </a:lnTo>
                    <a:lnTo>
                      <a:pt x="104" y="100"/>
                    </a:lnTo>
                    <a:lnTo>
                      <a:pt x="124" y="105"/>
                    </a:lnTo>
                    <a:lnTo>
                      <a:pt x="143" y="106"/>
                    </a:lnTo>
                    <a:lnTo>
                      <a:pt x="162" y="107"/>
                    </a:lnTo>
                    <a:lnTo>
                      <a:pt x="176" y="104"/>
                    </a:lnTo>
                    <a:lnTo>
                      <a:pt x="189" y="100"/>
                    </a:lnTo>
                    <a:lnTo>
                      <a:pt x="198" y="94"/>
                    </a:lnTo>
                    <a:lnTo>
                      <a:pt x="205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626720" y="325476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20" y="0"/>
                    </a:moveTo>
                    <a:lnTo>
                      <a:pt x="32" y="5"/>
                    </a:lnTo>
                    <a:lnTo>
                      <a:pt x="42" y="13"/>
                    </a:lnTo>
                    <a:lnTo>
                      <a:pt x="42" y="19"/>
                    </a:lnTo>
                    <a:lnTo>
                      <a:pt x="42" y="25"/>
                    </a:lnTo>
                    <a:lnTo>
                      <a:pt x="37" y="33"/>
                    </a:lnTo>
                    <a:lnTo>
                      <a:pt x="34" y="40"/>
                    </a:lnTo>
                    <a:lnTo>
                      <a:pt x="26" y="46"/>
                    </a:lnTo>
                    <a:lnTo>
                      <a:pt x="19" y="54"/>
                    </a:lnTo>
                    <a:lnTo>
                      <a:pt x="9" y="61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3" y="52"/>
                    </a:lnTo>
                    <a:lnTo>
                      <a:pt x="5" y="43"/>
                    </a:lnTo>
                    <a:lnTo>
                      <a:pt x="8" y="35"/>
                    </a:lnTo>
                    <a:lnTo>
                      <a:pt x="10" y="25"/>
                    </a:lnTo>
                    <a:lnTo>
                      <a:pt x="14" y="17"/>
                    </a:lnTo>
                    <a:lnTo>
                      <a:pt x="16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99000" y="3236400"/>
                <a:ext cx="35280" cy="30600"/>
              </a:xfrm>
              <a:custGeom>
                <a:avLst/>
                <a:gdLst/>
                <a:ahLst/>
                <a:rect l="l" t="t" r="r" b="b"/>
                <a:pathLst>
                  <a:path w="135" h="113">
                    <a:moveTo>
                      <a:pt x="53" y="0"/>
                    </a:moveTo>
                    <a:lnTo>
                      <a:pt x="68" y="0"/>
                    </a:lnTo>
                    <a:lnTo>
                      <a:pt x="84" y="4"/>
                    </a:lnTo>
                    <a:lnTo>
                      <a:pt x="98" y="9"/>
                    </a:lnTo>
                    <a:lnTo>
                      <a:pt x="111" y="16"/>
                    </a:lnTo>
                    <a:lnTo>
                      <a:pt x="120" y="24"/>
                    </a:lnTo>
                    <a:lnTo>
                      <a:pt x="128" y="33"/>
                    </a:lnTo>
                    <a:lnTo>
                      <a:pt x="133" y="43"/>
                    </a:lnTo>
                    <a:lnTo>
                      <a:pt x="135" y="56"/>
                    </a:lnTo>
                    <a:lnTo>
                      <a:pt x="133" y="67"/>
                    </a:lnTo>
                    <a:lnTo>
                      <a:pt x="128" y="78"/>
                    </a:lnTo>
                    <a:lnTo>
                      <a:pt x="120" y="87"/>
                    </a:lnTo>
                    <a:lnTo>
                      <a:pt x="111" y="97"/>
                    </a:lnTo>
                    <a:lnTo>
                      <a:pt x="98" y="103"/>
                    </a:lnTo>
                    <a:lnTo>
                      <a:pt x="84" y="108"/>
                    </a:lnTo>
                    <a:lnTo>
                      <a:pt x="68" y="111"/>
                    </a:lnTo>
                    <a:lnTo>
                      <a:pt x="53" y="113"/>
                    </a:lnTo>
                    <a:lnTo>
                      <a:pt x="45" y="112"/>
                    </a:lnTo>
                    <a:lnTo>
                      <a:pt x="38" y="111"/>
                    </a:lnTo>
                    <a:lnTo>
                      <a:pt x="31" y="109"/>
                    </a:lnTo>
                    <a:lnTo>
                      <a:pt x="22" y="108"/>
                    </a:lnTo>
                    <a:lnTo>
                      <a:pt x="10" y="102"/>
                    </a:lnTo>
                    <a:lnTo>
                      <a:pt x="0" y="95"/>
                    </a:lnTo>
                    <a:lnTo>
                      <a:pt x="2" y="83"/>
                    </a:lnTo>
                    <a:lnTo>
                      <a:pt x="5" y="71"/>
                    </a:lnTo>
                    <a:lnTo>
                      <a:pt x="8" y="59"/>
                    </a:lnTo>
                    <a:lnTo>
                      <a:pt x="12" y="48"/>
                    </a:lnTo>
                    <a:lnTo>
                      <a:pt x="15" y="35"/>
                    </a:lnTo>
                    <a:lnTo>
                      <a:pt x="18" y="24"/>
                    </a:lnTo>
                    <a:lnTo>
                      <a:pt x="23" y="13"/>
                    </a:lnTo>
                    <a:lnTo>
                      <a:pt x="29" y="3"/>
                    </a:lnTo>
                    <a:lnTo>
                      <a:pt x="4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764600" y="3165120"/>
                <a:ext cx="26280" cy="47880"/>
              </a:xfrm>
              <a:custGeom>
                <a:avLst/>
                <a:gdLst/>
                <a:ahLst/>
                <a:rect l="l" t="t" r="r" b="b"/>
                <a:pathLst>
                  <a:path w="102" h="178">
                    <a:moveTo>
                      <a:pt x="48" y="0"/>
                    </a:moveTo>
                    <a:lnTo>
                      <a:pt x="59" y="1"/>
                    </a:lnTo>
                    <a:lnTo>
                      <a:pt x="70" y="7"/>
                    </a:lnTo>
                    <a:lnTo>
                      <a:pt x="79" y="15"/>
                    </a:lnTo>
                    <a:lnTo>
                      <a:pt x="87" y="26"/>
                    </a:lnTo>
                    <a:lnTo>
                      <a:pt x="92" y="38"/>
                    </a:lnTo>
                    <a:lnTo>
                      <a:pt x="97" y="55"/>
                    </a:lnTo>
                    <a:lnTo>
                      <a:pt x="99" y="71"/>
                    </a:lnTo>
                    <a:lnTo>
                      <a:pt x="102" y="90"/>
                    </a:lnTo>
                    <a:lnTo>
                      <a:pt x="99" y="106"/>
                    </a:lnTo>
                    <a:lnTo>
                      <a:pt x="97" y="122"/>
                    </a:lnTo>
                    <a:lnTo>
                      <a:pt x="92" y="136"/>
                    </a:lnTo>
                    <a:lnTo>
                      <a:pt x="87" y="150"/>
                    </a:lnTo>
                    <a:lnTo>
                      <a:pt x="79" y="161"/>
                    </a:lnTo>
                    <a:lnTo>
                      <a:pt x="70" y="171"/>
                    </a:lnTo>
                    <a:lnTo>
                      <a:pt x="59" y="176"/>
                    </a:lnTo>
                    <a:lnTo>
                      <a:pt x="48" y="178"/>
                    </a:lnTo>
                    <a:lnTo>
                      <a:pt x="40" y="176"/>
                    </a:lnTo>
                    <a:lnTo>
                      <a:pt x="33" y="174"/>
                    </a:lnTo>
                    <a:lnTo>
                      <a:pt x="26" y="169"/>
                    </a:lnTo>
                    <a:lnTo>
                      <a:pt x="21" y="163"/>
                    </a:lnTo>
                    <a:lnTo>
                      <a:pt x="14" y="154"/>
                    </a:lnTo>
                    <a:lnTo>
                      <a:pt x="10" y="146"/>
                    </a:lnTo>
                    <a:lnTo>
                      <a:pt x="6" y="136"/>
                    </a:lnTo>
                    <a:lnTo>
                      <a:pt x="3" y="127"/>
                    </a:lnTo>
                    <a:lnTo>
                      <a:pt x="1" y="11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1" y="49"/>
                    </a:lnTo>
                    <a:lnTo>
                      <a:pt x="5" y="37"/>
                    </a:lnTo>
                    <a:lnTo>
                      <a:pt x="8" y="26"/>
                    </a:lnTo>
                    <a:lnTo>
                      <a:pt x="16" y="18"/>
                    </a:lnTo>
                    <a:lnTo>
                      <a:pt x="22" y="10"/>
                    </a:lnTo>
                    <a:lnTo>
                      <a:pt x="29" y="5"/>
                    </a:lnTo>
                    <a:lnTo>
                      <a:pt x="3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762440" y="3213720"/>
                <a:ext cx="25920" cy="48600"/>
              </a:xfrm>
              <a:custGeom>
                <a:avLst/>
                <a:gdLst/>
                <a:ahLst/>
                <a:rect l="l" t="t" r="r" b="b"/>
                <a:pathLst>
                  <a:path w="101" h="179">
                    <a:moveTo>
                      <a:pt x="49" y="179"/>
                    </a:moveTo>
                    <a:lnTo>
                      <a:pt x="59" y="176"/>
                    </a:lnTo>
                    <a:lnTo>
                      <a:pt x="69" y="171"/>
                    </a:lnTo>
                    <a:lnTo>
                      <a:pt x="76" y="162"/>
                    </a:lnTo>
                    <a:lnTo>
                      <a:pt x="85" y="152"/>
                    </a:lnTo>
                    <a:lnTo>
                      <a:pt x="91" y="138"/>
                    </a:lnTo>
                    <a:lnTo>
                      <a:pt x="96" y="123"/>
                    </a:lnTo>
                    <a:lnTo>
                      <a:pt x="99" y="106"/>
                    </a:lnTo>
                    <a:lnTo>
                      <a:pt x="101" y="90"/>
                    </a:lnTo>
                    <a:lnTo>
                      <a:pt x="99" y="70"/>
                    </a:lnTo>
                    <a:lnTo>
                      <a:pt x="96" y="54"/>
                    </a:lnTo>
                    <a:lnTo>
                      <a:pt x="91" y="38"/>
                    </a:lnTo>
                    <a:lnTo>
                      <a:pt x="85" y="25"/>
                    </a:lnTo>
                    <a:lnTo>
                      <a:pt x="76" y="14"/>
                    </a:lnTo>
                    <a:lnTo>
                      <a:pt x="69" y="6"/>
                    </a:lnTo>
                    <a:lnTo>
                      <a:pt x="59" y="1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31" y="3"/>
                    </a:lnTo>
                    <a:lnTo>
                      <a:pt x="22" y="8"/>
                    </a:lnTo>
                    <a:lnTo>
                      <a:pt x="17" y="15"/>
                    </a:lnTo>
                    <a:lnTo>
                      <a:pt x="10" y="22"/>
                    </a:lnTo>
                    <a:lnTo>
                      <a:pt x="6" y="32"/>
                    </a:lnTo>
                    <a:lnTo>
                      <a:pt x="2" y="41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90"/>
                    </a:lnTo>
                    <a:lnTo>
                      <a:pt x="1" y="102"/>
                    </a:lnTo>
                    <a:lnTo>
                      <a:pt x="2" y="113"/>
                    </a:lnTo>
                    <a:lnTo>
                      <a:pt x="4" y="125"/>
                    </a:lnTo>
                    <a:lnTo>
                      <a:pt x="5" y="138"/>
                    </a:lnTo>
                    <a:lnTo>
                      <a:pt x="7" y="150"/>
                    </a:lnTo>
                    <a:lnTo>
                      <a:pt x="10" y="155"/>
                    </a:lnTo>
                    <a:lnTo>
                      <a:pt x="14" y="161"/>
                    </a:lnTo>
                    <a:lnTo>
                      <a:pt x="18" y="165"/>
                    </a:lnTo>
                    <a:lnTo>
                      <a:pt x="25" y="170"/>
                    </a:lnTo>
                    <a:lnTo>
                      <a:pt x="36" y="176"/>
                    </a:lnTo>
                    <a:lnTo>
                      <a:pt x="49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718520" y="318708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3" y="87"/>
                    </a:moveTo>
                    <a:lnTo>
                      <a:pt x="0" y="76"/>
                    </a:lnTo>
                    <a:lnTo>
                      <a:pt x="3" y="66"/>
                    </a:lnTo>
                    <a:lnTo>
                      <a:pt x="8" y="56"/>
                    </a:lnTo>
                    <a:lnTo>
                      <a:pt x="17" y="47"/>
                    </a:lnTo>
                    <a:lnTo>
                      <a:pt x="28" y="38"/>
                    </a:lnTo>
                    <a:lnTo>
                      <a:pt x="44" y="29"/>
                    </a:lnTo>
                    <a:lnTo>
                      <a:pt x="63" y="19"/>
                    </a:lnTo>
                    <a:lnTo>
                      <a:pt x="84" y="12"/>
                    </a:lnTo>
                    <a:lnTo>
                      <a:pt x="104" y="6"/>
                    </a:lnTo>
                    <a:lnTo>
                      <a:pt x="126" y="3"/>
                    </a:lnTo>
                    <a:lnTo>
                      <a:pt x="143" y="0"/>
                    </a:lnTo>
                    <a:lnTo>
                      <a:pt x="161" y="0"/>
                    </a:lnTo>
                    <a:lnTo>
                      <a:pt x="177" y="1"/>
                    </a:lnTo>
                    <a:lnTo>
                      <a:pt x="190" y="5"/>
                    </a:lnTo>
                    <a:lnTo>
                      <a:pt x="200" y="10"/>
                    </a:lnTo>
                    <a:lnTo>
                      <a:pt x="207" y="19"/>
                    </a:lnTo>
                    <a:lnTo>
                      <a:pt x="207" y="28"/>
                    </a:lnTo>
                    <a:lnTo>
                      <a:pt x="205" y="37"/>
                    </a:lnTo>
                    <a:lnTo>
                      <a:pt x="197" y="47"/>
                    </a:lnTo>
                    <a:lnTo>
                      <a:pt x="189" y="57"/>
                    </a:lnTo>
                    <a:lnTo>
                      <a:pt x="174" y="66"/>
                    </a:lnTo>
                    <a:lnTo>
                      <a:pt x="160" y="76"/>
                    </a:lnTo>
                    <a:lnTo>
                      <a:pt x="143" y="85"/>
                    </a:lnTo>
                    <a:lnTo>
                      <a:pt x="126" y="93"/>
                    </a:lnTo>
                    <a:lnTo>
                      <a:pt x="102" y="99"/>
                    </a:lnTo>
                    <a:lnTo>
                      <a:pt x="83" y="103"/>
                    </a:lnTo>
                    <a:lnTo>
                      <a:pt x="63" y="105"/>
                    </a:lnTo>
                    <a:lnTo>
                      <a:pt x="46" y="106"/>
                    </a:lnTo>
                    <a:lnTo>
                      <a:pt x="30" y="103"/>
                    </a:lnTo>
                    <a:lnTo>
                      <a:pt x="17" y="100"/>
                    </a:lnTo>
                    <a:lnTo>
                      <a:pt x="8" y="94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781880" y="320004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32" h="67">
                    <a:moveTo>
                      <a:pt x="32" y="54"/>
                    </a:moveTo>
                    <a:lnTo>
                      <a:pt x="32" y="47"/>
                    </a:lnTo>
                    <a:lnTo>
                      <a:pt x="32" y="41"/>
                    </a:lnTo>
                    <a:lnTo>
                      <a:pt x="30" y="33"/>
                    </a:lnTo>
                    <a:lnTo>
                      <a:pt x="27" y="27"/>
                    </a:lnTo>
                    <a:lnTo>
                      <a:pt x="21" y="19"/>
                    </a:lnTo>
                    <a:lnTo>
                      <a:pt x="15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2" y="59"/>
                    </a:lnTo>
                    <a:lnTo>
                      <a:pt x="4" y="67"/>
                    </a:lnTo>
                    <a:lnTo>
                      <a:pt x="13" y="65"/>
                    </a:lnTo>
                    <a:lnTo>
                      <a:pt x="21" y="63"/>
                    </a:lnTo>
                    <a:lnTo>
                      <a:pt x="27" y="58"/>
                    </a:lnTo>
                    <a:lnTo>
                      <a:pt x="32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718520" y="321264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207" y="85"/>
                    </a:moveTo>
                    <a:lnTo>
                      <a:pt x="207" y="75"/>
                    </a:lnTo>
                    <a:lnTo>
                      <a:pt x="205" y="67"/>
                    </a:lnTo>
                    <a:lnTo>
                      <a:pt x="197" y="57"/>
                    </a:lnTo>
                    <a:lnTo>
                      <a:pt x="189" y="48"/>
                    </a:lnTo>
                    <a:lnTo>
                      <a:pt x="174" y="38"/>
                    </a:lnTo>
                    <a:lnTo>
                      <a:pt x="160" y="27"/>
                    </a:lnTo>
                    <a:lnTo>
                      <a:pt x="143" y="18"/>
                    </a:lnTo>
                    <a:lnTo>
                      <a:pt x="126" y="11"/>
                    </a:lnTo>
                    <a:lnTo>
                      <a:pt x="102" y="5"/>
                    </a:lnTo>
                    <a:lnTo>
                      <a:pt x="83" y="2"/>
                    </a:lnTo>
                    <a:lnTo>
                      <a:pt x="63" y="0"/>
                    </a:lnTo>
                    <a:lnTo>
                      <a:pt x="46" y="1"/>
                    </a:lnTo>
                    <a:lnTo>
                      <a:pt x="30" y="2"/>
                    </a:lnTo>
                    <a:lnTo>
                      <a:pt x="17" y="6"/>
                    </a:lnTo>
                    <a:lnTo>
                      <a:pt x="8" y="11"/>
                    </a:lnTo>
                    <a:lnTo>
                      <a:pt x="3" y="18"/>
                    </a:lnTo>
                    <a:lnTo>
                      <a:pt x="0" y="26"/>
                    </a:lnTo>
                    <a:lnTo>
                      <a:pt x="3" y="37"/>
                    </a:lnTo>
                    <a:lnTo>
                      <a:pt x="8" y="46"/>
                    </a:lnTo>
                    <a:lnTo>
                      <a:pt x="17" y="57"/>
                    </a:lnTo>
                    <a:lnTo>
                      <a:pt x="28" y="66"/>
                    </a:lnTo>
                    <a:lnTo>
                      <a:pt x="44" y="75"/>
                    </a:lnTo>
                    <a:lnTo>
                      <a:pt x="63" y="84"/>
                    </a:lnTo>
                    <a:lnTo>
                      <a:pt x="84" y="92"/>
                    </a:lnTo>
                    <a:lnTo>
                      <a:pt x="104" y="97"/>
                    </a:lnTo>
                    <a:lnTo>
                      <a:pt x="126" y="101"/>
                    </a:lnTo>
                    <a:lnTo>
                      <a:pt x="143" y="103"/>
                    </a:lnTo>
                    <a:lnTo>
                      <a:pt x="161" y="104"/>
                    </a:lnTo>
                    <a:lnTo>
                      <a:pt x="177" y="101"/>
                    </a:lnTo>
                    <a:lnTo>
                      <a:pt x="190" y="98"/>
                    </a:lnTo>
                    <a:lnTo>
                      <a:pt x="200" y="92"/>
                    </a:lnTo>
                    <a:lnTo>
                      <a:pt x="207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782240" y="32173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0"/>
                    </a:moveTo>
                    <a:lnTo>
                      <a:pt x="9" y="2"/>
                    </a:lnTo>
                    <a:lnTo>
                      <a:pt x="17" y="5"/>
                    </a:lnTo>
                    <a:lnTo>
                      <a:pt x="23" y="9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7"/>
                    </a:lnTo>
                    <a:lnTo>
                      <a:pt x="27" y="32"/>
                    </a:lnTo>
                    <a:lnTo>
                      <a:pt x="26" y="38"/>
                    </a:lnTo>
                    <a:lnTo>
                      <a:pt x="21" y="43"/>
                    </a:lnTo>
                    <a:lnTo>
                      <a:pt x="17" y="49"/>
                    </a:lnTo>
                    <a:lnTo>
                      <a:pt x="11" y="54"/>
                    </a:lnTo>
                    <a:lnTo>
                      <a:pt x="5" y="60"/>
                    </a:lnTo>
                    <a:lnTo>
                      <a:pt x="4" y="52"/>
                    </a:lnTo>
                    <a:lnTo>
                      <a:pt x="4" y="45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754520" y="3199680"/>
                <a:ext cx="36000" cy="30960"/>
              </a:xfrm>
              <a:custGeom>
                <a:avLst/>
                <a:gdLst/>
                <a:ahLst/>
                <a:rect l="l" t="t" r="r" b="b"/>
                <a:pathLst>
                  <a:path w="140" h="117">
                    <a:moveTo>
                      <a:pt x="58" y="0"/>
                    </a:moveTo>
                    <a:lnTo>
                      <a:pt x="73" y="0"/>
                    </a:lnTo>
                    <a:lnTo>
                      <a:pt x="89" y="4"/>
                    </a:lnTo>
                    <a:lnTo>
                      <a:pt x="103" y="9"/>
                    </a:lnTo>
                    <a:lnTo>
                      <a:pt x="115" y="17"/>
                    </a:lnTo>
                    <a:lnTo>
                      <a:pt x="125" y="25"/>
                    </a:lnTo>
                    <a:lnTo>
                      <a:pt x="132" y="36"/>
                    </a:lnTo>
                    <a:lnTo>
                      <a:pt x="137" y="48"/>
                    </a:lnTo>
                    <a:lnTo>
                      <a:pt x="140" y="60"/>
                    </a:lnTo>
                    <a:lnTo>
                      <a:pt x="137" y="70"/>
                    </a:lnTo>
                    <a:lnTo>
                      <a:pt x="132" y="82"/>
                    </a:lnTo>
                    <a:lnTo>
                      <a:pt x="125" y="91"/>
                    </a:lnTo>
                    <a:lnTo>
                      <a:pt x="115" y="100"/>
                    </a:lnTo>
                    <a:lnTo>
                      <a:pt x="103" y="106"/>
                    </a:lnTo>
                    <a:lnTo>
                      <a:pt x="89" y="112"/>
                    </a:lnTo>
                    <a:lnTo>
                      <a:pt x="73" y="115"/>
                    </a:lnTo>
                    <a:lnTo>
                      <a:pt x="58" y="117"/>
                    </a:lnTo>
                    <a:lnTo>
                      <a:pt x="50" y="116"/>
                    </a:lnTo>
                    <a:lnTo>
                      <a:pt x="42" y="115"/>
                    </a:lnTo>
                    <a:lnTo>
                      <a:pt x="35" y="113"/>
                    </a:lnTo>
                    <a:lnTo>
                      <a:pt x="29" y="112"/>
                    </a:lnTo>
                    <a:lnTo>
                      <a:pt x="18" y="106"/>
                    </a:lnTo>
                    <a:lnTo>
                      <a:pt x="9" y="101"/>
                    </a:lnTo>
                    <a:lnTo>
                      <a:pt x="7" y="90"/>
                    </a:lnTo>
                    <a:lnTo>
                      <a:pt x="5" y="79"/>
                    </a:lnTo>
                    <a:lnTo>
                      <a:pt x="3" y="69"/>
                    </a:lnTo>
                    <a:lnTo>
                      <a:pt x="3" y="60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1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1" y="2"/>
                    </a:lnTo>
                    <a:lnTo>
                      <a:pt x="39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4529160" y="2580120"/>
                <a:ext cx="18720" cy="46800"/>
              </a:xfrm>
              <a:custGeom>
                <a:avLst/>
                <a:gdLst/>
                <a:ahLst/>
                <a:rect l="l" t="t" r="r" b="b"/>
                <a:pathLst>
                  <a:path w="74" h="174">
                    <a:moveTo>
                      <a:pt x="50" y="174"/>
                    </a:moveTo>
                    <a:lnTo>
                      <a:pt x="62" y="171"/>
                    </a:lnTo>
                    <a:lnTo>
                      <a:pt x="74" y="167"/>
                    </a:lnTo>
                    <a:lnTo>
                      <a:pt x="68" y="142"/>
                    </a:lnTo>
                    <a:lnTo>
                      <a:pt x="65" y="118"/>
                    </a:lnTo>
                    <a:lnTo>
                      <a:pt x="63" y="95"/>
                    </a:lnTo>
                    <a:lnTo>
                      <a:pt x="62" y="72"/>
                    </a:lnTo>
                    <a:lnTo>
                      <a:pt x="58" y="50"/>
                    </a:lnTo>
                    <a:lnTo>
                      <a:pt x="55" y="31"/>
                    </a:lnTo>
                    <a:lnTo>
                      <a:pt x="49" y="13"/>
                    </a:lnTo>
                    <a:lnTo>
                      <a:pt x="42" y="0"/>
                    </a:lnTo>
                    <a:lnTo>
                      <a:pt x="32" y="3"/>
                    </a:lnTo>
                    <a:lnTo>
                      <a:pt x="25" y="9"/>
                    </a:lnTo>
                    <a:lnTo>
                      <a:pt x="17" y="17"/>
                    </a:lnTo>
                    <a:lnTo>
                      <a:pt x="11" y="29"/>
                    </a:lnTo>
                    <a:lnTo>
                      <a:pt x="5" y="40"/>
                    </a:lnTo>
                    <a:lnTo>
                      <a:pt x="2" y="54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0" y="102"/>
                    </a:lnTo>
                    <a:lnTo>
                      <a:pt x="2" y="118"/>
                    </a:lnTo>
                    <a:lnTo>
                      <a:pt x="6" y="133"/>
                    </a:lnTo>
                    <a:lnTo>
                      <a:pt x="15" y="147"/>
                    </a:lnTo>
                    <a:lnTo>
                      <a:pt x="21" y="157"/>
                    </a:lnTo>
                    <a:lnTo>
                      <a:pt x="30" y="167"/>
                    </a:lnTo>
                    <a:lnTo>
                      <a:pt x="39" y="172"/>
                    </a:lnTo>
                    <a:lnTo>
                      <a:pt x="5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540680" y="2571840"/>
                <a:ext cx="39600" cy="118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49" y="26"/>
                    </a:moveTo>
                    <a:lnTo>
                      <a:pt x="151" y="24"/>
                    </a:lnTo>
                    <a:lnTo>
                      <a:pt x="153" y="20"/>
                    </a:lnTo>
                    <a:lnTo>
                      <a:pt x="140" y="10"/>
                    </a:lnTo>
                    <a:lnTo>
                      <a:pt x="125" y="4"/>
                    </a:lnTo>
                    <a:lnTo>
                      <a:pt x="111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3" y="3"/>
                    </a:lnTo>
                    <a:lnTo>
                      <a:pt x="48" y="5"/>
                    </a:lnTo>
                    <a:lnTo>
                      <a:pt x="34" y="7"/>
                    </a:lnTo>
                    <a:lnTo>
                      <a:pt x="25" y="11"/>
                    </a:lnTo>
                    <a:lnTo>
                      <a:pt x="17" y="16"/>
                    </a:lnTo>
                    <a:lnTo>
                      <a:pt x="9" y="19"/>
                    </a:lnTo>
                    <a:lnTo>
                      <a:pt x="0" y="23"/>
                    </a:lnTo>
                    <a:lnTo>
                      <a:pt x="6" y="25"/>
                    </a:lnTo>
                    <a:lnTo>
                      <a:pt x="13" y="28"/>
                    </a:lnTo>
                    <a:lnTo>
                      <a:pt x="21" y="30"/>
                    </a:lnTo>
                    <a:lnTo>
                      <a:pt x="29" y="33"/>
                    </a:lnTo>
                    <a:lnTo>
                      <a:pt x="49" y="39"/>
                    </a:lnTo>
                    <a:lnTo>
                      <a:pt x="70" y="43"/>
                    </a:lnTo>
                    <a:lnTo>
                      <a:pt x="89" y="45"/>
                    </a:lnTo>
                    <a:lnTo>
                      <a:pt x="107" y="45"/>
                    </a:lnTo>
                    <a:lnTo>
                      <a:pt x="121" y="42"/>
                    </a:lnTo>
                    <a:lnTo>
                      <a:pt x="133" y="39"/>
                    </a:lnTo>
                    <a:lnTo>
                      <a:pt x="143" y="33"/>
                    </a:lnTo>
                    <a:lnTo>
                      <a:pt x="1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541040" y="2581200"/>
                <a:ext cx="52920" cy="28440"/>
              </a:xfrm>
              <a:custGeom>
                <a:avLst/>
                <a:gdLst/>
                <a:ahLst/>
                <a:rect l="l" t="t" r="r" b="b"/>
                <a:pathLst>
                  <a:path w="203" h="105">
                    <a:moveTo>
                      <a:pt x="1" y="88"/>
                    </a:moveTo>
                    <a:lnTo>
                      <a:pt x="0" y="78"/>
                    </a:lnTo>
                    <a:lnTo>
                      <a:pt x="2" y="67"/>
                    </a:lnTo>
                    <a:lnTo>
                      <a:pt x="7" y="57"/>
                    </a:lnTo>
                    <a:lnTo>
                      <a:pt x="17" y="48"/>
                    </a:lnTo>
                    <a:lnTo>
                      <a:pt x="28" y="38"/>
                    </a:lnTo>
                    <a:lnTo>
                      <a:pt x="43" y="28"/>
                    </a:lnTo>
                    <a:lnTo>
                      <a:pt x="62" y="19"/>
                    </a:lnTo>
                    <a:lnTo>
                      <a:pt x="82" y="11"/>
                    </a:lnTo>
                    <a:lnTo>
                      <a:pt x="102" y="5"/>
                    </a:lnTo>
                    <a:lnTo>
                      <a:pt x="123" y="2"/>
                    </a:lnTo>
                    <a:lnTo>
                      <a:pt x="142" y="0"/>
                    </a:lnTo>
                    <a:lnTo>
                      <a:pt x="160" y="1"/>
                    </a:lnTo>
                    <a:lnTo>
                      <a:pt x="174" y="3"/>
                    </a:lnTo>
                    <a:lnTo>
                      <a:pt x="186" y="7"/>
                    </a:lnTo>
                    <a:lnTo>
                      <a:pt x="196" y="12"/>
                    </a:lnTo>
                    <a:lnTo>
                      <a:pt x="202" y="22"/>
                    </a:lnTo>
                    <a:lnTo>
                      <a:pt x="203" y="29"/>
                    </a:lnTo>
                    <a:lnTo>
                      <a:pt x="202" y="38"/>
                    </a:lnTo>
                    <a:lnTo>
                      <a:pt x="196" y="47"/>
                    </a:lnTo>
                    <a:lnTo>
                      <a:pt x="186" y="57"/>
                    </a:lnTo>
                    <a:lnTo>
                      <a:pt x="174" y="66"/>
                    </a:lnTo>
                    <a:lnTo>
                      <a:pt x="159" y="77"/>
                    </a:lnTo>
                    <a:lnTo>
                      <a:pt x="142" y="86"/>
                    </a:lnTo>
                    <a:lnTo>
                      <a:pt x="123" y="95"/>
                    </a:lnTo>
                    <a:lnTo>
                      <a:pt x="101" y="99"/>
                    </a:lnTo>
                    <a:lnTo>
                      <a:pt x="81" y="103"/>
                    </a:lnTo>
                    <a:lnTo>
                      <a:pt x="63" y="104"/>
                    </a:lnTo>
                    <a:lnTo>
                      <a:pt x="44" y="105"/>
                    </a:lnTo>
                    <a:lnTo>
                      <a:pt x="28" y="102"/>
                    </a:lnTo>
                    <a:lnTo>
                      <a:pt x="17" y="99"/>
                    </a:lnTo>
                    <a:lnTo>
                      <a:pt x="7" y="94"/>
                    </a:lnTo>
                    <a:lnTo>
                      <a:pt x="1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533120" y="257148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81" y="90"/>
                    </a:moveTo>
                    <a:lnTo>
                      <a:pt x="80" y="90"/>
                    </a:lnTo>
                    <a:lnTo>
                      <a:pt x="77" y="90"/>
                    </a:lnTo>
                    <a:lnTo>
                      <a:pt x="60" y="88"/>
                    </a:lnTo>
                    <a:lnTo>
                      <a:pt x="45" y="85"/>
                    </a:lnTo>
                    <a:lnTo>
                      <a:pt x="30" y="79"/>
                    </a:lnTo>
                    <a:lnTo>
                      <a:pt x="21" y="73"/>
                    </a:lnTo>
                    <a:lnTo>
                      <a:pt x="11" y="63"/>
                    </a:lnTo>
                    <a:lnTo>
                      <a:pt x="5" y="53"/>
                    </a:lnTo>
                    <a:lnTo>
                      <a:pt x="0" y="42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3" y="7"/>
                    </a:lnTo>
                    <a:lnTo>
                      <a:pt x="43" y="12"/>
                    </a:lnTo>
                    <a:lnTo>
                      <a:pt x="53" y="21"/>
                    </a:lnTo>
                    <a:lnTo>
                      <a:pt x="59" y="25"/>
                    </a:lnTo>
                    <a:lnTo>
                      <a:pt x="65" y="32"/>
                    </a:lnTo>
                    <a:lnTo>
                      <a:pt x="69" y="38"/>
                    </a:lnTo>
                    <a:lnTo>
                      <a:pt x="73" y="47"/>
                    </a:lnTo>
                    <a:lnTo>
                      <a:pt x="76" y="57"/>
                    </a:lnTo>
                    <a:lnTo>
                      <a:pt x="78" y="67"/>
                    </a:lnTo>
                    <a:lnTo>
                      <a:pt x="80" y="78"/>
                    </a:lnTo>
                    <a:lnTo>
                      <a:pt x="81" y="9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4919760" y="2542320"/>
                <a:ext cx="28080" cy="47520"/>
              </a:xfrm>
              <a:custGeom>
                <a:avLst/>
                <a:gdLst/>
                <a:ahLst/>
                <a:rect l="l" t="t" r="r" b="b"/>
                <a:pathLst>
                  <a:path w="107" h="178">
                    <a:moveTo>
                      <a:pt x="54" y="0"/>
                    </a:moveTo>
                    <a:lnTo>
                      <a:pt x="63" y="1"/>
                    </a:lnTo>
                    <a:lnTo>
                      <a:pt x="73" y="6"/>
                    </a:lnTo>
                    <a:lnTo>
                      <a:pt x="81" y="15"/>
                    </a:lnTo>
                    <a:lnTo>
                      <a:pt x="91" y="26"/>
                    </a:lnTo>
                    <a:lnTo>
                      <a:pt x="97" y="38"/>
                    </a:lnTo>
                    <a:lnTo>
                      <a:pt x="102" y="54"/>
                    </a:lnTo>
                    <a:lnTo>
                      <a:pt x="105" y="72"/>
                    </a:lnTo>
                    <a:lnTo>
                      <a:pt x="107" y="91"/>
                    </a:lnTo>
                    <a:lnTo>
                      <a:pt x="105" y="106"/>
                    </a:lnTo>
                    <a:lnTo>
                      <a:pt x="102" y="123"/>
                    </a:lnTo>
                    <a:lnTo>
                      <a:pt x="97" y="137"/>
                    </a:lnTo>
                    <a:lnTo>
                      <a:pt x="91" y="151"/>
                    </a:lnTo>
                    <a:lnTo>
                      <a:pt x="81" y="161"/>
                    </a:lnTo>
                    <a:lnTo>
                      <a:pt x="73" y="171"/>
                    </a:lnTo>
                    <a:lnTo>
                      <a:pt x="63" y="176"/>
                    </a:lnTo>
                    <a:lnTo>
                      <a:pt x="54" y="178"/>
                    </a:lnTo>
                    <a:lnTo>
                      <a:pt x="43" y="176"/>
                    </a:lnTo>
                    <a:lnTo>
                      <a:pt x="33" y="171"/>
                    </a:lnTo>
                    <a:lnTo>
                      <a:pt x="23" y="161"/>
                    </a:lnTo>
                    <a:lnTo>
                      <a:pt x="15" y="151"/>
                    </a:lnTo>
                    <a:lnTo>
                      <a:pt x="7" y="137"/>
                    </a:lnTo>
                    <a:lnTo>
                      <a:pt x="4" y="123"/>
                    </a:lnTo>
                    <a:lnTo>
                      <a:pt x="0" y="106"/>
                    </a:lnTo>
                    <a:lnTo>
                      <a:pt x="0" y="91"/>
                    </a:lnTo>
                    <a:lnTo>
                      <a:pt x="0" y="72"/>
                    </a:lnTo>
                    <a:lnTo>
                      <a:pt x="4" y="54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3" y="15"/>
                    </a:lnTo>
                    <a:lnTo>
                      <a:pt x="33" y="6"/>
                    </a:lnTo>
                    <a:lnTo>
                      <a:pt x="43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4874400" y="256428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4" y="85"/>
                    </a:moveTo>
                    <a:lnTo>
                      <a:pt x="0" y="75"/>
                    </a:lnTo>
                    <a:lnTo>
                      <a:pt x="2" y="67"/>
                    </a:lnTo>
                    <a:lnTo>
                      <a:pt x="7" y="57"/>
                    </a:lnTo>
                    <a:lnTo>
                      <a:pt x="18" y="48"/>
                    </a:lnTo>
                    <a:lnTo>
                      <a:pt x="30" y="38"/>
                    </a:lnTo>
                    <a:lnTo>
                      <a:pt x="46" y="27"/>
                    </a:lnTo>
                    <a:lnTo>
                      <a:pt x="64" y="18"/>
                    </a:lnTo>
                    <a:lnTo>
                      <a:pt x="86" y="11"/>
                    </a:lnTo>
                    <a:lnTo>
                      <a:pt x="105" y="5"/>
                    </a:lnTo>
                    <a:lnTo>
                      <a:pt x="124" y="2"/>
                    </a:lnTo>
                    <a:lnTo>
                      <a:pt x="144" y="0"/>
                    </a:lnTo>
                    <a:lnTo>
                      <a:pt x="162" y="1"/>
                    </a:lnTo>
                    <a:lnTo>
                      <a:pt x="177" y="2"/>
                    </a:lnTo>
                    <a:lnTo>
                      <a:pt x="190" y="6"/>
                    </a:lnTo>
                    <a:lnTo>
                      <a:pt x="198" y="11"/>
                    </a:lnTo>
                    <a:lnTo>
                      <a:pt x="206" y="18"/>
                    </a:lnTo>
                    <a:lnTo>
                      <a:pt x="207" y="26"/>
                    </a:lnTo>
                    <a:lnTo>
                      <a:pt x="206" y="36"/>
                    </a:lnTo>
                    <a:lnTo>
                      <a:pt x="198" y="46"/>
                    </a:lnTo>
                    <a:lnTo>
                      <a:pt x="190" y="56"/>
                    </a:lnTo>
                    <a:lnTo>
                      <a:pt x="176" y="65"/>
                    </a:lnTo>
                    <a:lnTo>
                      <a:pt x="161" y="74"/>
                    </a:lnTo>
                    <a:lnTo>
                      <a:pt x="143" y="83"/>
                    </a:lnTo>
                    <a:lnTo>
                      <a:pt x="123" y="91"/>
                    </a:lnTo>
                    <a:lnTo>
                      <a:pt x="102" y="97"/>
                    </a:lnTo>
                    <a:lnTo>
                      <a:pt x="84" y="101"/>
                    </a:lnTo>
                    <a:lnTo>
                      <a:pt x="64" y="103"/>
                    </a:lnTo>
                    <a:lnTo>
                      <a:pt x="48" y="104"/>
                    </a:lnTo>
                    <a:lnTo>
                      <a:pt x="32" y="101"/>
                    </a:lnTo>
                    <a:lnTo>
                      <a:pt x="21" y="98"/>
                    </a:lnTo>
                    <a:lnTo>
                      <a:pt x="11" y="92"/>
                    </a:lnTo>
                    <a:lnTo>
                      <a:pt x="4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4937040" y="256752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204" y="88"/>
                    </a:moveTo>
                    <a:lnTo>
                      <a:pt x="205" y="78"/>
                    </a:lnTo>
                    <a:lnTo>
                      <a:pt x="203" y="67"/>
                    </a:lnTo>
                    <a:lnTo>
                      <a:pt x="197" y="57"/>
                    </a:lnTo>
                    <a:lnTo>
                      <a:pt x="189" y="48"/>
                    </a:lnTo>
                    <a:lnTo>
                      <a:pt x="175" y="38"/>
                    </a:lnTo>
                    <a:lnTo>
                      <a:pt x="160" y="29"/>
                    </a:lnTo>
                    <a:lnTo>
                      <a:pt x="143" y="21"/>
                    </a:lnTo>
                    <a:lnTo>
                      <a:pt x="125" y="14"/>
                    </a:lnTo>
                    <a:lnTo>
                      <a:pt x="102" y="7"/>
                    </a:lnTo>
                    <a:lnTo>
                      <a:pt x="82" y="3"/>
                    </a:lnTo>
                    <a:lnTo>
                      <a:pt x="64" y="0"/>
                    </a:lnTo>
                    <a:lnTo>
                      <a:pt x="45" y="1"/>
                    </a:lnTo>
                    <a:lnTo>
                      <a:pt x="29" y="3"/>
                    </a:lnTo>
                    <a:lnTo>
                      <a:pt x="18" y="7"/>
                    </a:lnTo>
                    <a:lnTo>
                      <a:pt x="8" y="12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" y="35"/>
                    </a:lnTo>
                    <a:lnTo>
                      <a:pt x="4" y="42"/>
                    </a:lnTo>
                    <a:lnTo>
                      <a:pt x="10" y="51"/>
                    </a:lnTo>
                    <a:lnTo>
                      <a:pt x="17" y="59"/>
                    </a:lnTo>
                    <a:lnTo>
                      <a:pt x="28" y="67"/>
                    </a:lnTo>
                    <a:lnTo>
                      <a:pt x="39" y="76"/>
                    </a:lnTo>
                    <a:lnTo>
                      <a:pt x="55" y="85"/>
                    </a:lnTo>
                    <a:lnTo>
                      <a:pt x="66" y="87"/>
                    </a:lnTo>
                    <a:lnTo>
                      <a:pt x="77" y="90"/>
                    </a:lnTo>
                    <a:lnTo>
                      <a:pt x="87" y="92"/>
                    </a:lnTo>
                    <a:lnTo>
                      <a:pt x="98" y="95"/>
                    </a:lnTo>
                    <a:lnTo>
                      <a:pt x="109" y="97"/>
                    </a:lnTo>
                    <a:lnTo>
                      <a:pt x="121" y="100"/>
                    </a:lnTo>
                    <a:lnTo>
                      <a:pt x="134" y="102"/>
                    </a:lnTo>
                    <a:lnTo>
                      <a:pt x="146" y="104"/>
                    </a:lnTo>
                    <a:lnTo>
                      <a:pt x="156" y="104"/>
                    </a:lnTo>
                    <a:lnTo>
                      <a:pt x="166" y="104"/>
                    </a:lnTo>
                    <a:lnTo>
                      <a:pt x="175" y="103"/>
                    </a:lnTo>
                    <a:lnTo>
                      <a:pt x="183" y="102"/>
                    </a:lnTo>
                    <a:lnTo>
                      <a:pt x="191" y="99"/>
                    </a:lnTo>
                    <a:lnTo>
                      <a:pt x="197" y="96"/>
                    </a:lnTo>
                    <a:lnTo>
                      <a:pt x="201" y="92"/>
                    </a:lnTo>
                    <a:lnTo>
                      <a:pt x="204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4877280" y="2589120"/>
                <a:ext cx="50760" cy="14760"/>
              </a:xfrm>
              <a:custGeom>
                <a:avLst/>
                <a:gdLst/>
                <a:ahLst/>
                <a:rect l="l" t="t" r="r" b="b"/>
                <a:pathLst>
                  <a:path w="197" h="55">
                    <a:moveTo>
                      <a:pt x="197" y="55"/>
                    </a:moveTo>
                    <a:lnTo>
                      <a:pt x="191" y="49"/>
                    </a:lnTo>
                    <a:lnTo>
                      <a:pt x="183" y="44"/>
                    </a:lnTo>
                    <a:lnTo>
                      <a:pt x="175" y="37"/>
                    </a:lnTo>
                    <a:lnTo>
                      <a:pt x="167" y="32"/>
                    </a:lnTo>
                    <a:lnTo>
                      <a:pt x="156" y="26"/>
                    </a:lnTo>
                    <a:lnTo>
                      <a:pt x="146" y="21"/>
                    </a:lnTo>
                    <a:lnTo>
                      <a:pt x="134" y="15"/>
                    </a:lnTo>
                    <a:lnTo>
                      <a:pt x="123" y="11"/>
                    </a:lnTo>
                    <a:lnTo>
                      <a:pt x="102" y="5"/>
                    </a:lnTo>
                    <a:lnTo>
                      <a:pt x="84" y="2"/>
                    </a:lnTo>
                    <a:lnTo>
                      <a:pt x="64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21" y="7"/>
                    </a:lnTo>
                    <a:lnTo>
                      <a:pt x="11" y="12"/>
                    </a:lnTo>
                    <a:lnTo>
                      <a:pt x="4" y="21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42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4" y="44"/>
                    </a:lnTo>
                    <a:lnTo>
                      <a:pt x="44" y="45"/>
                    </a:lnTo>
                    <a:lnTo>
                      <a:pt x="54" y="45"/>
                    </a:lnTo>
                    <a:lnTo>
                      <a:pt x="64" y="45"/>
                    </a:lnTo>
                    <a:lnTo>
                      <a:pt x="75" y="46"/>
                    </a:lnTo>
                    <a:lnTo>
                      <a:pt x="86" y="48"/>
                    </a:lnTo>
                    <a:lnTo>
                      <a:pt x="97" y="49"/>
                    </a:lnTo>
                    <a:lnTo>
                      <a:pt x="111" y="51"/>
                    </a:lnTo>
                    <a:lnTo>
                      <a:pt x="124" y="52"/>
                    </a:lnTo>
                    <a:lnTo>
                      <a:pt x="140" y="54"/>
                    </a:lnTo>
                    <a:lnTo>
                      <a:pt x="154" y="54"/>
                    </a:lnTo>
                    <a:lnTo>
                      <a:pt x="169" y="54"/>
                    </a:lnTo>
                    <a:lnTo>
                      <a:pt x="182" y="54"/>
                    </a:lnTo>
                    <a:lnTo>
                      <a:pt x="19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910760" y="2577240"/>
                <a:ext cx="39960" cy="24120"/>
              </a:xfrm>
              <a:custGeom>
                <a:avLst/>
                <a:gdLst/>
                <a:ahLst/>
                <a:rect l="l" t="t" r="r" b="b"/>
                <a:pathLst>
                  <a:path w="155" h="90">
                    <a:moveTo>
                      <a:pt x="77" y="0"/>
                    </a:moveTo>
                    <a:lnTo>
                      <a:pt x="91" y="0"/>
                    </a:lnTo>
                    <a:lnTo>
                      <a:pt x="107" y="3"/>
                    </a:lnTo>
                    <a:lnTo>
                      <a:pt x="119" y="8"/>
                    </a:lnTo>
                    <a:lnTo>
                      <a:pt x="132" y="15"/>
                    </a:lnTo>
                    <a:lnTo>
                      <a:pt x="140" y="23"/>
                    </a:lnTo>
                    <a:lnTo>
                      <a:pt x="148" y="32"/>
                    </a:lnTo>
                    <a:lnTo>
                      <a:pt x="152" y="44"/>
                    </a:lnTo>
                    <a:lnTo>
                      <a:pt x="155" y="56"/>
                    </a:lnTo>
                    <a:lnTo>
                      <a:pt x="154" y="64"/>
                    </a:lnTo>
                    <a:lnTo>
                      <a:pt x="151" y="73"/>
                    </a:lnTo>
                    <a:lnTo>
                      <a:pt x="146" y="81"/>
                    </a:lnTo>
                    <a:lnTo>
                      <a:pt x="139" y="90"/>
                    </a:lnTo>
                    <a:lnTo>
                      <a:pt x="122" y="88"/>
                    </a:lnTo>
                    <a:lnTo>
                      <a:pt x="106" y="86"/>
                    </a:lnTo>
                    <a:lnTo>
                      <a:pt x="87" y="83"/>
                    </a:lnTo>
                    <a:lnTo>
                      <a:pt x="71" y="82"/>
                    </a:lnTo>
                    <a:lnTo>
                      <a:pt x="54" y="79"/>
                    </a:lnTo>
                    <a:lnTo>
                      <a:pt x="38" y="77"/>
                    </a:lnTo>
                    <a:lnTo>
                      <a:pt x="21" y="75"/>
                    </a:lnTo>
                    <a:lnTo>
                      <a:pt x="5" y="73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5" y="32"/>
                    </a:lnTo>
                    <a:lnTo>
                      <a:pt x="11" y="23"/>
                    </a:lnTo>
                    <a:lnTo>
                      <a:pt x="21" y="15"/>
                    </a:lnTo>
                    <a:lnTo>
                      <a:pt x="31" y="8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416840" y="274860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106" h="178">
                    <a:moveTo>
                      <a:pt x="70" y="4"/>
                    </a:moveTo>
                    <a:lnTo>
                      <a:pt x="76" y="9"/>
                    </a:lnTo>
                    <a:lnTo>
                      <a:pt x="84" y="17"/>
                    </a:lnTo>
                    <a:lnTo>
                      <a:pt x="89" y="26"/>
                    </a:lnTo>
                    <a:lnTo>
                      <a:pt x="95" y="37"/>
                    </a:lnTo>
                    <a:lnTo>
                      <a:pt x="98" y="48"/>
                    </a:lnTo>
                    <a:lnTo>
                      <a:pt x="102" y="60"/>
                    </a:lnTo>
                    <a:lnTo>
                      <a:pt x="105" y="74"/>
                    </a:lnTo>
                    <a:lnTo>
                      <a:pt x="106" y="88"/>
                    </a:lnTo>
                    <a:lnTo>
                      <a:pt x="103" y="105"/>
                    </a:lnTo>
                    <a:lnTo>
                      <a:pt x="101" y="123"/>
                    </a:lnTo>
                    <a:lnTo>
                      <a:pt x="96" y="137"/>
                    </a:lnTo>
                    <a:lnTo>
                      <a:pt x="90" y="151"/>
                    </a:lnTo>
                    <a:lnTo>
                      <a:pt x="81" y="161"/>
                    </a:lnTo>
                    <a:lnTo>
                      <a:pt x="74" y="171"/>
                    </a:lnTo>
                    <a:lnTo>
                      <a:pt x="64" y="176"/>
                    </a:lnTo>
                    <a:lnTo>
                      <a:pt x="53" y="178"/>
                    </a:lnTo>
                    <a:lnTo>
                      <a:pt x="42" y="176"/>
                    </a:lnTo>
                    <a:lnTo>
                      <a:pt x="32" y="171"/>
                    </a:lnTo>
                    <a:lnTo>
                      <a:pt x="22" y="161"/>
                    </a:lnTo>
                    <a:lnTo>
                      <a:pt x="15" y="151"/>
                    </a:lnTo>
                    <a:lnTo>
                      <a:pt x="7" y="137"/>
                    </a:lnTo>
                    <a:lnTo>
                      <a:pt x="4" y="123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2" y="57"/>
                    </a:lnTo>
                    <a:lnTo>
                      <a:pt x="5" y="43"/>
                    </a:lnTo>
                    <a:lnTo>
                      <a:pt x="11" y="32"/>
                    </a:lnTo>
                    <a:lnTo>
                      <a:pt x="16" y="21"/>
                    </a:lnTo>
                    <a:lnTo>
                      <a:pt x="23" y="12"/>
                    </a:lnTo>
                    <a:lnTo>
                      <a:pt x="31" y="4"/>
                    </a:lnTo>
                    <a:lnTo>
                      <a:pt x="41" y="0"/>
                    </a:lnTo>
                    <a:lnTo>
                      <a:pt x="52" y="8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88760" y="2771280"/>
                <a:ext cx="35640" cy="27360"/>
              </a:xfrm>
              <a:custGeom>
                <a:avLst/>
                <a:gdLst/>
                <a:ahLst/>
                <a:rect l="l" t="t" r="r" b="b"/>
                <a:pathLst>
                  <a:path w="139" h="100">
                    <a:moveTo>
                      <a:pt x="4" y="84"/>
                    </a:moveTo>
                    <a:lnTo>
                      <a:pt x="0" y="73"/>
                    </a:lnTo>
                    <a:lnTo>
                      <a:pt x="2" y="64"/>
                    </a:lnTo>
                    <a:lnTo>
                      <a:pt x="7" y="54"/>
                    </a:lnTo>
                    <a:lnTo>
                      <a:pt x="17" y="45"/>
                    </a:lnTo>
                    <a:lnTo>
                      <a:pt x="28" y="35"/>
                    </a:lnTo>
                    <a:lnTo>
                      <a:pt x="44" y="25"/>
                    </a:lnTo>
                    <a:lnTo>
                      <a:pt x="61" y="16"/>
                    </a:lnTo>
                    <a:lnTo>
                      <a:pt x="81" y="10"/>
                    </a:lnTo>
                    <a:lnTo>
                      <a:pt x="88" y="7"/>
                    </a:lnTo>
                    <a:lnTo>
                      <a:pt x="96" y="5"/>
                    </a:lnTo>
                    <a:lnTo>
                      <a:pt x="103" y="3"/>
                    </a:lnTo>
                    <a:lnTo>
                      <a:pt x="112" y="2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6"/>
                    </a:lnTo>
                    <a:lnTo>
                      <a:pt x="123" y="16"/>
                    </a:lnTo>
                    <a:lnTo>
                      <a:pt x="116" y="26"/>
                    </a:lnTo>
                    <a:lnTo>
                      <a:pt x="108" y="38"/>
                    </a:lnTo>
                    <a:lnTo>
                      <a:pt x="101" y="48"/>
                    </a:lnTo>
                    <a:lnTo>
                      <a:pt x="95" y="59"/>
                    </a:lnTo>
                    <a:lnTo>
                      <a:pt x="87" y="69"/>
                    </a:lnTo>
                    <a:lnTo>
                      <a:pt x="80" y="79"/>
                    </a:lnTo>
                    <a:lnTo>
                      <a:pt x="72" y="90"/>
                    </a:lnTo>
                    <a:lnTo>
                      <a:pt x="65" y="100"/>
                    </a:lnTo>
                    <a:lnTo>
                      <a:pt x="54" y="100"/>
                    </a:lnTo>
                    <a:lnTo>
                      <a:pt x="42" y="100"/>
                    </a:lnTo>
                    <a:lnTo>
                      <a:pt x="32" y="99"/>
                    </a:lnTo>
                    <a:lnTo>
                      <a:pt x="24" y="98"/>
                    </a:lnTo>
                    <a:lnTo>
                      <a:pt x="16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434120" y="277524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153" h="97">
                    <a:moveTo>
                      <a:pt x="152" y="87"/>
                    </a:moveTo>
                    <a:lnTo>
                      <a:pt x="153" y="77"/>
                    </a:lnTo>
                    <a:lnTo>
                      <a:pt x="151" y="66"/>
                    </a:lnTo>
                    <a:lnTo>
                      <a:pt x="144" y="56"/>
                    </a:lnTo>
                    <a:lnTo>
                      <a:pt x="136" y="47"/>
                    </a:lnTo>
                    <a:lnTo>
                      <a:pt x="122" y="36"/>
                    </a:lnTo>
                    <a:lnTo>
                      <a:pt x="106" y="27"/>
                    </a:lnTo>
                    <a:lnTo>
                      <a:pt x="88" y="18"/>
                    </a:lnTo>
                    <a:lnTo>
                      <a:pt x="69" y="10"/>
                    </a:lnTo>
                    <a:lnTo>
                      <a:pt x="60" y="7"/>
                    </a:lnTo>
                    <a:lnTo>
                      <a:pt x="51" y="5"/>
                    </a:lnTo>
                    <a:lnTo>
                      <a:pt x="40" y="3"/>
                    </a:lnTo>
                    <a:lnTo>
                      <a:pt x="32" y="2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34" y="29"/>
                    </a:lnTo>
                    <a:lnTo>
                      <a:pt x="51" y="42"/>
                    </a:lnTo>
                    <a:lnTo>
                      <a:pt x="68" y="55"/>
                    </a:lnTo>
                    <a:lnTo>
                      <a:pt x="84" y="66"/>
                    </a:lnTo>
                    <a:lnTo>
                      <a:pt x="101" y="79"/>
                    </a:lnTo>
                    <a:lnTo>
                      <a:pt x="119" y="88"/>
                    </a:lnTo>
                    <a:lnTo>
                      <a:pt x="136" y="97"/>
                    </a:lnTo>
                    <a:lnTo>
                      <a:pt x="144" y="93"/>
                    </a:lnTo>
                    <a:lnTo>
                      <a:pt x="15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4405320" y="279648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4" y="2"/>
                    </a:moveTo>
                    <a:lnTo>
                      <a:pt x="61" y="0"/>
                    </a:lnTo>
                    <a:lnTo>
                      <a:pt x="49" y="1"/>
                    </a:lnTo>
                    <a:lnTo>
                      <a:pt x="37" y="1"/>
                    </a:lnTo>
                    <a:lnTo>
                      <a:pt x="28" y="4"/>
                    </a:lnTo>
                    <a:lnTo>
                      <a:pt x="20" y="6"/>
                    </a:lnTo>
                    <a:lnTo>
                      <a:pt x="12" y="10"/>
                    </a:lnTo>
                    <a:lnTo>
                      <a:pt x="6" y="13"/>
                    </a:lnTo>
                    <a:lnTo>
                      <a:pt x="4" y="19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43"/>
                    </a:lnTo>
                    <a:lnTo>
                      <a:pt x="12" y="44"/>
                    </a:lnTo>
                    <a:lnTo>
                      <a:pt x="22" y="45"/>
                    </a:lnTo>
                    <a:lnTo>
                      <a:pt x="31" y="45"/>
                    </a:lnTo>
                    <a:lnTo>
                      <a:pt x="40" y="46"/>
                    </a:lnTo>
                    <a:lnTo>
                      <a:pt x="49" y="35"/>
                    </a:lnTo>
                    <a:lnTo>
                      <a:pt x="58" y="25"/>
                    </a:lnTo>
                    <a:lnTo>
                      <a:pt x="61" y="19"/>
                    </a:lnTo>
                    <a:lnTo>
                      <a:pt x="65" y="13"/>
                    </a:lnTo>
                    <a:lnTo>
                      <a:pt x="69" y="7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406760" y="2784240"/>
                <a:ext cx="41040" cy="24120"/>
              </a:xfrm>
              <a:custGeom>
                <a:avLst/>
                <a:gdLst/>
                <a:ahLst/>
                <a:rect l="l" t="t" r="r" b="b"/>
                <a:pathLst>
                  <a:path w="158" h="90">
                    <a:moveTo>
                      <a:pt x="79" y="0"/>
                    </a:moveTo>
                    <a:lnTo>
                      <a:pt x="93" y="0"/>
                    </a:lnTo>
                    <a:lnTo>
                      <a:pt x="106" y="3"/>
                    </a:lnTo>
                    <a:lnTo>
                      <a:pt x="119" y="8"/>
                    </a:lnTo>
                    <a:lnTo>
                      <a:pt x="131" y="15"/>
                    </a:lnTo>
                    <a:lnTo>
                      <a:pt x="141" y="22"/>
                    </a:lnTo>
                    <a:lnTo>
                      <a:pt x="148" y="31"/>
                    </a:lnTo>
                    <a:lnTo>
                      <a:pt x="154" y="41"/>
                    </a:lnTo>
                    <a:lnTo>
                      <a:pt x="158" y="53"/>
                    </a:lnTo>
                    <a:lnTo>
                      <a:pt x="151" y="62"/>
                    </a:lnTo>
                    <a:lnTo>
                      <a:pt x="143" y="71"/>
                    </a:lnTo>
                    <a:lnTo>
                      <a:pt x="136" y="79"/>
                    </a:lnTo>
                    <a:lnTo>
                      <a:pt x="128" y="90"/>
                    </a:lnTo>
                    <a:lnTo>
                      <a:pt x="112" y="89"/>
                    </a:lnTo>
                    <a:lnTo>
                      <a:pt x="98" y="87"/>
                    </a:lnTo>
                    <a:lnTo>
                      <a:pt x="82" y="82"/>
                    </a:lnTo>
                    <a:lnTo>
                      <a:pt x="66" y="77"/>
                    </a:lnTo>
                    <a:lnTo>
                      <a:pt x="50" y="70"/>
                    </a:lnTo>
                    <a:lnTo>
                      <a:pt x="34" y="63"/>
                    </a:lnTo>
                    <a:lnTo>
                      <a:pt x="18" y="54"/>
                    </a:lnTo>
                    <a:lnTo>
                      <a:pt x="0" y="46"/>
                    </a:lnTo>
                    <a:lnTo>
                      <a:pt x="3" y="36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6" y="12"/>
                    </a:lnTo>
                    <a:lnTo>
                      <a:pt x="36" y="6"/>
                    </a:lnTo>
                    <a:lnTo>
                      <a:pt x="50" y="3"/>
                    </a:lnTo>
                    <a:lnTo>
                      <a:pt x="63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956480" y="2344320"/>
                <a:ext cx="165600" cy="82080"/>
              </a:xfrm>
              <a:custGeom>
                <a:avLst/>
                <a:gdLst/>
                <a:ahLst/>
                <a:rect l="l" t="t" r="r" b="b"/>
                <a:pathLst>
                  <a:path w="635" h="304">
                    <a:moveTo>
                      <a:pt x="200" y="96"/>
                    </a:moveTo>
                    <a:lnTo>
                      <a:pt x="172" y="104"/>
                    </a:lnTo>
                    <a:lnTo>
                      <a:pt x="144" y="110"/>
                    </a:lnTo>
                    <a:lnTo>
                      <a:pt x="112" y="115"/>
                    </a:lnTo>
                    <a:lnTo>
                      <a:pt x="83" y="122"/>
                    </a:lnTo>
                    <a:lnTo>
                      <a:pt x="55" y="129"/>
                    </a:lnTo>
                    <a:lnTo>
                      <a:pt x="31" y="143"/>
                    </a:lnTo>
                    <a:lnTo>
                      <a:pt x="11" y="160"/>
                    </a:lnTo>
                    <a:lnTo>
                      <a:pt x="0" y="186"/>
                    </a:lnTo>
                    <a:lnTo>
                      <a:pt x="8" y="188"/>
                    </a:lnTo>
                    <a:lnTo>
                      <a:pt x="17" y="193"/>
                    </a:lnTo>
                    <a:lnTo>
                      <a:pt x="26" y="197"/>
                    </a:lnTo>
                    <a:lnTo>
                      <a:pt x="35" y="202"/>
                    </a:lnTo>
                    <a:lnTo>
                      <a:pt x="44" y="205"/>
                    </a:lnTo>
                    <a:lnTo>
                      <a:pt x="58" y="208"/>
                    </a:lnTo>
                    <a:lnTo>
                      <a:pt x="71" y="209"/>
                    </a:lnTo>
                    <a:lnTo>
                      <a:pt x="90" y="209"/>
                    </a:lnTo>
                    <a:lnTo>
                      <a:pt x="98" y="208"/>
                    </a:lnTo>
                    <a:lnTo>
                      <a:pt x="96" y="213"/>
                    </a:lnTo>
                    <a:lnTo>
                      <a:pt x="85" y="220"/>
                    </a:lnTo>
                    <a:lnTo>
                      <a:pt x="71" y="232"/>
                    </a:lnTo>
                    <a:lnTo>
                      <a:pt x="58" y="244"/>
                    </a:lnTo>
                    <a:lnTo>
                      <a:pt x="50" y="257"/>
                    </a:lnTo>
                    <a:lnTo>
                      <a:pt x="55" y="269"/>
                    </a:lnTo>
                    <a:lnTo>
                      <a:pt x="77" y="283"/>
                    </a:lnTo>
                    <a:lnTo>
                      <a:pt x="103" y="288"/>
                    </a:lnTo>
                    <a:lnTo>
                      <a:pt x="128" y="288"/>
                    </a:lnTo>
                    <a:lnTo>
                      <a:pt x="146" y="281"/>
                    </a:lnTo>
                    <a:lnTo>
                      <a:pt x="162" y="273"/>
                    </a:lnTo>
                    <a:lnTo>
                      <a:pt x="173" y="263"/>
                    </a:lnTo>
                    <a:lnTo>
                      <a:pt x="182" y="255"/>
                    </a:lnTo>
                    <a:lnTo>
                      <a:pt x="186" y="248"/>
                    </a:lnTo>
                    <a:lnTo>
                      <a:pt x="188" y="246"/>
                    </a:lnTo>
                    <a:lnTo>
                      <a:pt x="192" y="253"/>
                    </a:lnTo>
                    <a:lnTo>
                      <a:pt x="196" y="262"/>
                    </a:lnTo>
                    <a:lnTo>
                      <a:pt x="199" y="270"/>
                    </a:lnTo>
                    <a:lnTo>
                      <a:pt x="203" y="278"/>
                    </a:lnTo>
                    <a:lnTo>
                      <a:pt x="207" y="286"/>
                    </a:lnTo>
                    <a:lnTo>
                      <a:pt x="215" y="293"/>
                    </a:lnTo>
                    <a:lnTo>
                      <a:pt x="225" y="298"/>
                    </a:lnTo>
                    <a:lnTo>
                      <a:pt x="240" y="303"/>
                    </a:lnTo>
                    <a:lnTo>
                      <a:pt x="264" y="304"/>
                    </a:lnTo>
                    <a:lnTo>
                      <a:pt x="285" y="304"/>
                    </a:lnTo>
                    <a:lnTo>
                      <a:pt x="303" y="301"/>
                    </a:lnTo>
                    <a:lnTo>
                      <a:pt x="319" y="296"/>
                    </a:lnTo>
                    <a:lnTo>
                      <a:pt x="330" y="288"/>
                    </a:lnTo>
                    <a:lnTo>
                      <a:pt x="340" y="277"/>
                    </a:lnTo>
                    <a:lnTo>
                      <a:pt x="347" y="263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3" y="251"/>
                    </a:lnTo>
                    <a:lnTo>
                      <a:pt x="379" y="259"/>
                    </a:lnTo>
                    <a:lnTo>
                      <a:pt x="399" y="267"/>
                    </a:lnTo>
                    <a:lnTo>
                      <a:pt x="421" y="271"/>
                    </a:lnTo>
                    <a:lnTo>
                      <a:pt x="448" y="272"/>
                    </a:lnTo>
                    <a:lnTo>
                      <a:pt x="476" y="265"/>
                    </a:lnTo>
                    <a:lnTo>
                      <a:pt x="508" y="249"/>
                    </a:lnTo>
                    <a:lnTo>
                      <a:pt x="517" y="238"/>
                    </a:lnTo>
                    <a:lnTo>
                      <a:pt x="519" y="227"/>
                    </a:lnTo>
                    <a:lnTo>
                      <a:pt x="518" y="217"/>
                    </a:lnTo>
                    <a:lnTo>
                      <a:pt x="513" y="209"/>
                    </a:lnTo>
                    <a:lnTo>
                      <a:pt x="506" y="200"/>
                    </a:lnTo>
                    <a:lnTo>
                      <a:pt x="498" y="195"/>
                    </a:lnTo>
                    <a:lnTo>
                      <a:pt x="492" y="191"/>
                    </a:lnTo>
                    <a:lnTo>
                      <a:pt x="491" y="190"/>
                    </a:lnTo>
                    <a:lnTo>
                      <a:pt x="507" y="188"/>
                    </a:lnTo>
                    <a:lnTo>
                      <a:pt x="528" y="188"/>
                    </a:lnTo>
                    <a:lnTo>
                      <a:pt x="553" y="188"/>
                    </a:lnTo>
                    <a:lnTo>
                      <a:pt x="578" y="187"/>
                    </a:lnTo>
                    <a:lnTo>
                      <a:pt x="601" y="180"/>
                    </a:lnTo>
                    <a:lnTo>
                      <a:pt x="619" y="171"/>
                    </a:lnTo>
                    <a:lnTo>
                      <a:pt x="631" y="154"/>
                    </a:lnTo>
                    <a:lnTo>
                      <a:pt x="635" y="129"/>
                    </a:lnTo>
                    <a:lnTo>
                      <a:pt x="629" y="108"/>
                    </a:lnTo>
                    <a:lnTo>
                      <a:pt x="618" y="94"/>
                    </a:lnTo>
                    <a:lnTo>
                      <a:pt x="603" y="84"/>
                    </a:lnTo>
                    <a:lnTo>
                      <a:pt x="587" y="78"/>
                    </a:lnTo>
                    <a:lnTo>
                      <a:pt x="571" y="74"/>
                    </a:lnTo>
                    <a:lnTo>
                      <a:pt x="556" y="74"/>
                    </a:lnTo>
                    <a:lnTo>
                      <a:pt x="546" y="74"/>
                    </a:lnTo>
                    <a:lnTo>
                      <a:pt x="544" y="75"/>
                    </a:lnTo>
                    <a:lnTo>
                      <a:pt x="588" y="42"/>
                    </a:lnTo>
                    <a:lnTo>
                      <a:pt x="603" y="19"/>
                    </a:lnTo>
                    <a:lnTo>
                      <a:pt x="593" y="5"/>
                    </a:lnTo>
                    <a:lnTo>
                      <a:pt x="566" y="0"/>
                    </a:lnTo>
                    <a:lnTo>
                      <a:pt x="525" y="2"/>
                    </a:lnTo>
                    <a:lnTo>
                      <a:pt x="482" y="13"/>
                    </a:lnTo>
                    <a:lnTo>
                      <a:pt x="442" y="31"/>
                    </a:lnTo>
                    <a:lnTo>
                      <a:pt x="409" y="58"/>
                    </a:lnTo>
                    <a:lnTo>
                      <a:pt x="380" y="83"/>
                    </a:lnTo>
                    <a:lnTo>
                      <a:pt x="348" y="100"/>
                    </a:lnTo>
                    <a:lnTo>
                      <a:pt x="314" y="111"/>
                    </a:lnTo>
                    <a:lnTo>
                      <a:pt x="280" y="117"/>
                    </a:lnTo>
                    <a:lnTo>
                      <a:pt x="250" y="117"/>
                    </a:lnTo>
                    <a:lnTo>
                      <a:pt x="224" y="114"/>
                    </a:lnTo>
                    <a:lnTo>
                      <a:pt x="207" y="106"/>
                    </a:lnTo>
                    <a:lnTo>
                      <a:pt x="20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294800" y="2624760"/>
                <a:ext cx="165600" cy="64800"/>
              </a:xfrm>
              <a:custGeom>
                <a:avLst/>
                <a:gdLst/>
                <a:ahLst/>
                <a:rect l="l" t="t" r="r" b="b"/>
                <a:pathLst>
                  <a:path w="637" h="239">
                    <a:moveTo>
                      <a:pt x="222" y="14"/>
                    </a:moveTo>
                    <a:lnTo>
                      <a:pt x="192" y="16"/>
                    </a:lnTo>
                    <a:lnTo>
                      <a:pt x="162" y="16"/>
                    </a:lnTo>
                    <a:lnTo>
                      <a:pt x="132" y="14"/>
                    </a:lnTo>
                    <a:lnTo>
                      <a:pt x="101" y="14"/>
                    </a:lnTo>
                    <a:lnTo>
                      <a:pt x="72" y="15"/>
                    </a:lnTo>
                    <a:lnTo>
                      <a:pt x="43" y="21"/>
                    </a:lnTo>
                    <a:lnTo>
                      <a:pt x="19" y="32"/>
                    </a:lnTo>
                    <a:lnTo>
                      <a:pt x="0" y="53"/>
                    </a:lnTo>
                    <a:lnTo>
                      <a:pt x="8" y="59"/>
                    </a:lnTo>
                    <a:lnTo>
                      <a:pt x="16" y="67"/>
                    </a:lnTo>
                    <a:lnTo>
                      <a:pt x="24" y="73"/>
                    </a:lnTo>
                    <a:lnTo>
                      <a:pt x="31" y="80"/>
                    </a:lnTo>
                    <a:lnTo>
                      <a:pt x="37" y="85"/>
                    </a:lnTo>
                    <a:lnTo>
                      <a:pt x="47" y="90"/>
                    </a:lnTo>
                    <a:lnTo>
                      <a:pt x="61" y="94"/>
                    </a:lnTo>
                    <a:lnTo>
                      <a:pt x="78" y="97"/>
                    </a:lnTo>
                    <a:lnTo>
                      <a:pt x="87" y="98"/>
                    </a:lnTo>
                    <a:lnTo>
                      <a:pt x="83" y="101"/>
                    </a:lnTo>
                    <a:lnTo>
                      <a:pt x="69" y="106"/>
                    </a:lnTo>
                    <a:lnTo>
                      <a:pt x="52" y="114"/>
                    </a:lnTo>
                    <a:lnTo>
                      <a:pt x="36" y="122"/>
                    </a:lnTo>
                    <a:lnTo>
                      <a:pt x="26" y="133"/>
                    </a:lnTo>
                    <a:lnTo>
                      <a:pt x="25" y="146"/>
                    </a:lnTo>
                    <a:lnTo>
                      <a:pt x="41" y="164"/>
                    </a:lnTo>
                    <a:lnTo>
                      <a:pt x="66" y="176"/>
                    </a:lnTo>
                    <a:lnTo>
                      <a:pt x="88" y="181"/>
                    </a:lnTo>
                    <a:lnTo>
                      <a:pt x="107" y="180"/>
                    </a:lnTo>
                    <a:lnTo>
                      <a:pt x="127" y="176"/>
                    </a:lnTo>
                    <a:lnTo>
                      <a:pt x="141" y="169"/>
                    </a:lnTo>
                    <a:lnTo>
                      <a:pt x="151" y="161"/>
                    </a:lnTo>
                    <a:lnTo>
                      <a:pt x="157" y="155"/>
                    </a:lnTo>
                    <a:lnTo>
                      <a:pt x="160" y="153"/>
                    </a:lnTo>
                    <a:lnTo>
                      <a:pt x="160" y="161"/>
                    </a:lnTo>
                    <a:lnTo>
                      <a:pt x="160" y="171"/>
                    </a:lnTo>
                    <a:lnTo>
                      <a:pt x="160" y="180"/>
                    </a:lnTo>
                    <a:lnTo>
                      <a:pt x="162" y="190"/>
                    </a:lnTo>
                    <a:lnTo>
                      <a:pt x="164" y="199"/>
                    </a:lnTo>
                    <a:lnTo>
                      <a:pt x="169" y="208"/>
                    </a:lnTo>
                    <a:lnTo>
                      <a:pt x="178" y="216"/>
                    </a:lnTo>
                    <a:lnTo>
                      <a:pt x="194" y="224"/>
                    </a:lnTo>
                    <a:lnTo>
                      <a:pt x="216" y="229"/>
                    </a:lnTo>
                    <a:lnTo>
                      <a:pt x="236" y="233"/>
                    </a:lnTo>
                    <a:lnTo>
                      <a:pt x="254" y="234"/>
                    </a:lnTo>
                    <a:lnTo>
                      <a:pt x="270" y="233"/>
                    </a:lnTo>
                    <a:lnTo>
                      <a:pt x="282" y="228"/>
                    </a:lnTo>
                    <a:lnTo>
                      <a:pt x="295" y="220"/>
                    </a:lnTo>
                    <a:lnTo>
                      <a:pt x="304" y="207"/>
                    </a:lnTo>
                    <a:lnTo>
                      <a:pt x="317" y="193"/>
                    </a:lnTo>
                    <a:lnTo>
                      <a:pt x="319" y="192"/>
                    </a:lnTo>
                    <a:lnTo>
                      <a:pt x="327" y="199"/>
                    </a:lnTo>
                    <a:lnTo>
                      <a:pt x="338" y="209"/>
                    </a:lnTo>
                    <a:lnTo>
                      <a:pt x="354" y="222"/>
                    </a:lnTo>
                    <a:lnTo>
                      <a:pt x="372" y="231"/>
                    </a:lnTo>
                    <a:lnTo>
                      <a:pt x="399" y="239"/>
                    </a:lnTo>
                    <a:lnTo>
                      <a:pt x="428" y="239"/>
                    </a:lnTo>
                    <a:lnTo>
                      <a:pt x="463" y="230"/>
                    </a:lnTo>
                    <a:lnTo>
                      <a:pt x="476" y="222"/>
                    </a:lnTo>
                    <a:lnTo>
                      <a:pt x="484" y="214"/>
                    </a:lnTo>
                    <a:lnTo>
                      <a:pt x="485" y="203"/>
                    </a:lnTo>
                    <a:lnTo>
                      <a:pt x="485" y="194"/>
                    </a:lnTo>
                    <a:lnTo>
                      <a:pt x="481" y="184"/>
                    </a:lnTo>
                    <a:lnTo>
                      <a:pt x="477" y="177"/>
                    </a:lnTo>
                    <a:lnTo>
                      <a:pt x="473" y="172"/>
                    </a:lnTo>
                    <a:lnTo>
                      <a:pt x="472" y="171"/>
                    </a:lnTo>
                    <a:lnTo>
                      <a:pt x="487" y="172"/>
                    </a:lnTo>
                    <a:lnTo>
                      <a:pt x="509" y="177"/>
                    </a:lnTo>
                    <a:lnTo>
                      <a:pt x="532" y="182"/>
                    </a:lnTo>
                    <a:lnTo>
                      <a:pt x="557" y="187"/>
                    </a:lnTo>
                    <a:lnTo>
                      <a:pt x="580" y="186"/>
                    </a:lnTo>
                    <a:lnTo>
                      <a:pt x="602" y="181"/>
                    </a:lnTo>
                    <a:lnTo>
                      <a:pt x="618" y="167"/>
                    </a:lnTo>
                    <a:lnTo>
                      <a:pt x="632" y="143"/>
                    </a:lnTo>
                    <a:lnTo>
                      <a:pt x="632" y="123"/>
                    </a:lnTo>
                    <a:lnTo>
                      <a:pt x="625" y="106"/>
                    </a:lnTo>
                    <a:lnTo>
                      <a:pt x="614" y="94"/>
                    </a:lnTo>
                    <a:lnTo>
                      <a:pt x="601" y="86"/>
                    </a:lnTo>
                    <a:lnTo>
                      <a:pt x="586" y="79"/>
                    </a:lnTo>
                    <a:lnTo>
                      <a:pt x="574" y="76"/>
                    </a:lnTo>
                    <a:lnTo>
                      <a:pt x="566" y="74"/>
                    </a:lnTo>
                    <a:lnTo>
                      <a:pt x="562" y="74"/>
                    </a:lnTo>
                    <a:lnTo>
                      <a:pt x="615" y="53"/>
                    </a:lnTo>
                    <a:lnTo>
                      <a:pt x="637" y="35"/>
                    </a:lnTo>
                    <a:lnTo>
                      <a:pt x="631" y="19"/>
                    </a:lnTo>
                    <a:lnTo>
                      <a:pt x="605" y="7"/>
                    </a:lnTo>
                    <a:lnTo>
                      <a:pt x="567" y="0"/>
                    </a:lnTo>
                    <a:lnTo>
                      <a:pt x="521" y="0"/>
                    </a:lnTo>
                    <a:lnTo>
                      <a:pt x="474" y="8"/>
                    </a:lnTo>
                    <a:lnTo>
                      <a:pt x="434" y="27"/>
                    </a:lnTo>
                    <a:lnTo>
                      <a:pt x="399" y="42"/>
                    </a:lnTo>
                    <a:lnTo>
                      <a:pt x="364" y="51"/>
                    </a:lnTo>
                    <a:lnTo>
                      <a:pt x="327" y="54"/>
                    </a:lnTo>
                    <a:lnTo>
                      <a:pt x="293" y="52"/>
                    </a:lnTo>
                    <a:lnTo>
                      <a:pt x="264" y="45"/>
                    </a:lnTo>
                    <a:lnTo>
                      <a:pt x="240" y="36"/>
                    </a:lnTo>
                    <a:lnTo>
                      <a:pt x="226" y="25"/>
                    </a:lnTo>
                    <a:lnTo>
                      <a:pt x="22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541400" y="3391200"/>
                <a:ext cx="165240" cy="65160"/>
              </a:xfrm>
              <a:custGeom>
                <a:avLst/>
                <a:gdLst/>
                <a:ahLst/>
                <a:rect l="l" t="t" r="r" b="b"/>
                <a:pathLst>
                  <a:path w="635" h="242">
                    <a:moveTo>
                      <a:pt x="220" y="16"/>
                    </a:moveTo>
                    <a:lnTo>
                      <a:pt x="190" y="18"/>
                    </a:lnTo>
                    <a:lnTo>
                      <a:pt x="160" y="17"/>
                    </a:lnTo>
                    <a:lnTo>
                      <a:pt x="130" y="15"/>
                    </a:lnTo>
                    <a:lnTo>
                      <a:pt x="99" y="14"/>
                    </a:lnTo>
                    <a:lnTo>
                      <a:pt x="70" y="15"/>
                    </a:lnTo>
                    <a:lnTo>
                      <a:pt x="43" y="21"/>
                    </a:lnTo>
                    <a:lnTo>
                      <a:pt x="18" y="33"/>
                    </a:lnTo>
                    <a:lnTo>
                      <a:pt x="0" y="57"/>
                    </a:lnTo>
                    <a:lnTo>
                      <a:pt x="6" y="62"/>
                    </a:lnTo>
                    <a:lnTo>
                      <a:pt x="13" y="69"/>
                    </a:lnTo>
                    <a:lnTo>
                      <a:pt x="20" y="75"/>
                    </a:lnTo>
                    <a:lnTo>
                      <a:pt x="28" y="82"/>
                    </a:lnTo>
                    <a:lnTo>
                      <a:pt x="35" y="88"/>
                    </a:lnTo>
                    <a:lnTo>
                      <a:pt x="46" y="94"/>
                    </a:lnTo>
                    <a:lnTo>
                      <a:pt x="60" y="98"/>
                    </a:lnTo>
                    <a:lnTo>
                      <a:pt x="77" y="101"/>
                    </a:lnTo>
                    <a:lnTo>
                      <a:pt x="86" y="102"/>
                    </a:lnTo>
                    <a:lnTo>
                      <a:pt x="82" y="105"/>
                    </a:lnTo>
                    <a:lnTo>
                      <a:pt x="68" y="110"/>
                    </a:lnTo>
                    <a:lnTo>
                      <a:pt x="52" y="117"/>
                    </a:lnTo>
                    <a:lnTo>
                      <a:pt x="34" y="125"/>
                    </a:lnTo>
                    <a:lnTo>
                      <a:pt x="24" y="137"/>
                    </a:lnTo>
                    <a:lnTo>
                      <a:pt x="24" y="151"/>
                    </a:lnTo>
                    <a:lnTo>
                      <a:pt x="40" y="167"/>
                    </a:lnTo>
                    <a:lnTo>
                      <a:pt x="65" y="179"/>
                    </a:lnTo>
                    <a:lnTo>
                      <a:pt x="87" y="184"/>
                    </a:lnTo>
                    <a:lnTo>
                      <a:pt x="107" y="182"/>
                    </a:lnTo>
                    <a:lnTo>
                      <a:pt x="125" y="177"/>
                    </a:lnTo>
                    <a:lnTo>
                      <a:pt x="139" y="169"/>
                    </a:lnTo>
                    <a:lnTo>
                      <a:pt x="149" y="162"/>
                    </a:lnTo>
                    <a:lnTo>
                      <a:pt x="155" y="156"/>
                    </a:lnTo>
                    <a:lnTo>
                      <a:pt x="158" y="154"/>
                    </a:lnTo>
                    <a:lnTo>
                      <a:pt x="158" y="163"/>
                    </a:lnTo>
                    <a:lnTo>
                      <a:pt x="160" y="173"/>
                    </a:lnTo>
                    <a:lnTo>
                      <a:pt x="160" y="182"/>
                    </a:lnTo>
                    <a:lnTo>
                      <a:pt x="161" y="192"/>
                    </a:lnTo>
                    <a:lnTo>
                      <a:pt x="162" y="200"/>
                    </a:lnTo>
                    <a:lnTo>
                      <a:pt x="167" y="209"/>
                    </a:lnTo>
                    <a:lnTo>
                      <a:pt x="177" y="216"/>
                    </a:lnTo>
                    <a:lnTo>
                      <a:pt x="192" y="224"/>
                    </a:lnTo>
                    <a:lnTo>
                      <a:pt x="213" y="229"/>
                    </a:lnTo>
                    <a:lnTo>
                      <a:pt x="232" y="233"/>
                    </a:lnTo>
                    <a:lnTo>
                      <a:pt x="251" y="235"/>
                    </a:lnTo>
                    <a:lnTo>
                      <a:pt x="267" y="234"/>
                    </a:lnTo>
                    <a:lnTo>
                      <a:pt x="280" y="229"/>
                    </a:lnTo>
                    <a:lnTo>
                      <a:pt x="293" y="221"/>
                    </a:lnTo>
                    <a:lnTo>
                      <a:pt x="302" y="209"/>
                    </a:lnTo>
                    <a:lnTo>
                      <a:pt x="315" y="194"/>
                    </a:lnTo>
                    <a:lnTo>
                      <a:pt x="318" y="195"/>
                    </a:lnTo>
                    <a:lnTo>
                      <a:pt x="326" y="202"/>
                    </a:lnTo>
                    <a:lnTo>
                      <a:pt x="337" y="212"/>
                    </a:lnTo>
                    <a:lnTo>
                      <a:pt x="353" y="224"/>
                    </a:lnTo>
                    <a:lnTo>
                      <a:pt x="373" y="234"/>
                    </a:lnTo>
                    <a:lnTo>
                      <a:pt x="398" y="242"/>
                    </a:lnTo>
                    <a:lnTo>
                      <a:pt x="427" y="242"/>
                    </a:lnTo>
                    <a:lnTo>
                      <a:pt x="462" y="234"/>
                    </a:lnTo>
                    <a:lnTo>
                      <a:pt x="475" y="225"/>
                    </a:lnTo>
                    <a:lnTo>
                      <a:pt x="481" y="217"/>
                    </a:lnTo>
                    <a:lnTo>
                      <a:pt x="482" y="207"/>
                    </a:lnTo>
                    <a:lnTo>
                      <a:pt x="481" y="198"/>
                    </a:lnTo>
                    <a:lnTo>
                      <a:pt x="476" y="187"/>
                    </a:lnTo>
                    <a:lnTo>
                      <a:pt x="471" y="180"/>
                    </a:lnTo>
                    <a:lnTo>
                      <a:pt x="467" y="175"/>
                    </a:lnTo>
                    <a:lnTo>
                      <a:pt x="466" y="174"/>
                    </a:lnTo>
                    <a:lnTo>
                      <a:pt x="482" y="174"/>
                    </a:lnTo>
                    <a:lnTo>
                      <a:pt x="503" y="179"/>
                    </a:lnTo>
                    <a:lnTo>
                      <a:pt x="527" y="184"/>
                    </a:lnTo>
                    <a:lnTo>
                      <a:pt x="551" y="190"/>
                    </a:lnTo>
                    <a:lnTo>
                      <a:pt x="576" y="190"/>
                    </a:lnTo>
                    <a:lnTo>
                      <a:pt x="597" y="184"/>
                    </a:lnTo>
                    <a:lnTo>
                      <a:pt x="614" y="170"/>
                    </a:lnTo>
                    <a:lnTo>
                      <a:pt x="627" y="148"/>
                    </a:lnTo>
                    <a:lnTo>
                      <a:pt x="629" y="126"/>
                    </a:lnTo>
                    <a:lnTo>
                      <a:pt x="623" y="111"/>
                    </a:lnTo>
                    <a:lnTo>
                      <a:pt x="611" y="98"/>
                    </a:lnTo>
                    <a:lnTo>
                      <a:pt x="599" y="90"/>
                    </a:lnTo>
                    <a:lnTo>
                      <a:pt x="584" y="82"/>
                    </a:lnTo>
                    <a:lnTo>
                      <a:pt x="572" y="79"/>
                    </a:lnTo>
                    <a:lnTo>
                      <a:pt x="563" y="77"/>
                    </a:lnTo>
                    <a:lnTo>
                      <a:pt x="561" y="77"/>
                    </a:lnTo>
                    <a:lnTo>
                      <a:pt x="613" y="56"/>
                    </a:lnTo>
                    <a:lnTo>
                      <a:pt x="635" y="36"/>
                    </a:lnTo>
                    <a:lnTo>
                      <a:pt x="629" y="18"/>
                    </a:lnTo>
                    <a:lnTo>
                      <a:pt x="604" y="7"/>
                    </a:lnTo>
                    <a:lnTo>
                      <a:pt x="565" y="0"/>
                    </a:lnTo>
                    <a:lnTo>
                      <a:pt x="519" y="0"/>
                    </a:lnTo>
                    <a:lnTo>
                      <a:pt x="472" y="8"/>
                    </a:lnTo>
                    <a:lnTo>
                      <a:pt x="434" y="26"/>
                    </a:lnTo>
                    <a:lnTo>
                      <a:pt x="397" y="43"/>
                    </a:lnTo>
                    <a:lnTo>
                      <a:pt x="360" y="54"/>
                    </a:lnTo>
                    <a:lnTo>
                      <a:pt x="323" y="57"/>
                    </a:lnTo>
                    <a:lnTo>
                      <a:pt x="289" y="55"/>
                    </a:lnTo>
                    <a:lnTo>
                      <a:pt x="259" y="47"/>
                    </a:lnTo>
                    <a:lnTo>
                      <a:pt x="236" y="38"/>
                    </a:lnTo>
                    <a:lnTo>
                      <a:pt x="222" y="26"/>
                    </a:lnTo>
                    <a:lnTo>
                      <a:pt x="2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696560" y="3454200"/>
                <a:ext cx="165600" cy="65160"/>
              </a:xfrm>
              <a:custGeom>
                <a:avLst/>
                <a:gdLst/>
                <a:ahLst/>
                <a:rect l="l" t="t" r="r" b="b"/>
                <a:pathLst>
                  <a:path w="636" h="243">
                    <a:moveTo>
                      <a:pt x="222" y="18"/>
                    </a:moveTo>
                    <a:lnTo>
                      <a:pt x="190" y="20"/>
                    </a:lnTo>
                    <a:lnTo>
                      <a:pt x="161" y="19"/>
                    </a:lnTo>
                    <a:lnTo>
                      <a:pt x="129" y="17"/>
                    </a:lnTo>
                    <a:lnTo>
                      <a:pt x="101" y="16"/>
                    </a:lnTo>
                    <a:lnTo>
                      <a:pt x="70" y="17"/>
                    </a:lnTo>
                    <a:lnTo>
                      <a:pt x="44" y="23"/>
                    </a:lnTo>
                    <a:lnTo>
                      <a:pt x="21" y="35"/>
                    </a:lnTo>
                    <a:lnTo>
                      <a:pt x="0" y="59"/>
                    </a:lnTo>
                    <a:lnTo>
                      <a:pt x="7" y="64"/>
                    </a:lnTo>
                    <a:lnTo>
                      <a:pt x="16" y="70"/>
                    </a:lnTo>
                    <a:lnTo>
                      <a:pt x="21" y="76"/>
                    </a:lnTo>
                    <a:lnTo>
                      <a:pt x="28" y="83"/>
                    </a:lnTo>
                    <a:lnTo>
                      <a:pt x="34" y="89"/>
                    </a:lnTo>
                    <a:lnTo>
                      <a:pt x="44" y="95"/>
                    </a:lnTo>
                    <a:lnTo>
                      <a:pt x="56" y="99"/>
                    </a:lnTo>
                    <a:lnTo>
                      <a:pt x="75" y="102"/>
                    </a:lnTo>
                    <a:lnTo>
                      <a:pt x="85" y="103"/>
                    </a:lnTo>
                    <a:lnTo>
                      <a:pt x="82" y="106"/>
                    </a:lnTo>
                    <a:lnTo>
                      <a:pt x="67" y="112"/>
                    </a:lnTo>
                    <a:lnTo>
                      <a:pt x="51" y="119"/>
                    </a:lnTo>
                    <a:lnTo>
                      <a:pt x="34" y="127"/>
                    </a:lnTo>
                    <a:lnTo>
                      <a:pt x="24" y="138"/>
                    </a:lnTo>
                    <a:lnTo>
                      <a:pt x="24" y="151"/>
                    </a:lnTo>
                    <a:lnTo>
                      <a:pt x="41" y="169"/>
                    </a:lnTo>
                    <a:lnTo>
                      <a:pt x="65" y="181"/>
                    </a:lnTo>
                    <a:lnTo>
                      <a:pt x="88" y="186"/>
                    </a:lnTo>
                    <a:lnTo>
                      <a:pt x="107" y="184"/>
                    </a:lnTo>
                    <a:lnTo>
                      <a:pt x="124" y="179"/>
                    </a:lnTo>
                    <a:lnTo>
                      <a:pt x="136" y="171"/>
                    </a:lnTo>
                    <a:lnTo>
                      <a:pt x="147" y="164"/>
                    </a:lnTo>
                    <a:lnTo>
                      <a:pt x="154" y="157"/>
                    </a:lnTo>
                    <a:lnTo>
                      <a:pt x="156" y="155"/>
                    </a:lnTo>
                    <a:lnTo>
                      <a:pt x="157" y="165"/>
                    </a:lnTo>
                    <a:lnTo>
                      <a:pt x="158" y="175"/>
                    </a:lnTo>
                    <a:lnTo>
                      <a:pt x="158" y="184"/>
                    </a:lnTo>
                    <a:lnTo>
                      <a:pt x="160" y="194"/>
                    </a:lnTo>
                    <a:lnTo>
                      <a:pt x="161" y="202"/>
                    </a:lnTo>
                    <a:lnTo>
                      <a:pt x="167" y="212"/>
                    </a:lnTo>
                    <a:lnTo>
                      <a:pt x="176" y="218"/>
                    </a:lnTo>
                    <a:lnTo>
                      <a:pt x="189" y="225"/>
                    </a:lnTo>
                    <a:lnTo>
                      <a:pt x="213" y="231"/>
                    </a:lnTo>
                    <a:lnTo>
                      <a:pt x="232" y="236"/>
                    </a:lnTo>
                    <a:lnTo>
                      <a:pt x="251" y="238"/>
                    </a:lnTo>
                    <a:lnTo>
                      <a:pt x="268" y="237"/>
                    </a:lnTo>
                    <a:lnTo>
                      <a:pt x="282" y="232"/>
                    </a:lnTo>
                    <a:lnTo>
                      <a:pt x="294" y="225"/>
                    </a:lnTo>
                    <a:lnTo>
                      <a:pt x="305" y="213"/>
                    </a:lnTo>
                    <a:lnTo>
                      <a:pt x="316" y="198"/>
                    </a:lnTo>
                    <a:lnTo>
                      <a:pt x="318" y="197"/>
                    </a:lnTo>
                    <a:lnTo>
                      <a:pt x="326" y="204"/>
                    </a:lnTo>
                    <a:lnTo>
                      <a:pt x="338" y="215"/>
                    </a:lnTo>
                    <a:lnTo>
                      <a:pt x="354" y="226"/>
                    </a:lnTo>
                    <a:lnTo>
                      <a:pt x="373" y="235"/>
                    </a:lnTo>
                    <a:lnTo>
                      <a:pt x="400" y="242"/>
                    </a:lnTo>
                    <a:lnTo>
                      <a:pt x="428" y="243"/>
                    </a:lnTo>
                    <a:lnTo>
                      <a:pt x="464" y="235"/>
                    </a:lnTo>
                    <a:lnTo>
                      <a:pt x="476" y="227"/>
                    </a:lnTo>
                    <a:lnTo>
                      <a:pt x="482" y="218"/>
                    </a:lnTo>
                    <a:lnTo>
                      <a:pt x="483" y="207"/>
                    </a:lnTo>
                    <a:lnTo>
                      <a:pt x="482" y="198"/>
                    </a:lnTo>
                    <a:lnTo>
                      <a:pt x="477" y="188"/>
                    </a:lnTo>
                    <a:lnTo>
                      <a:pt x="474" y="181"/>
                    </a:lnTo>
                    <a:lnTo>
                      <a:pt x="470" y="176"/>
                    </a:lnTo>
                    <a:lnTo>
                      <a:pt x="469" y="175"/>
                    </a:lnTo>
                    <a:lnTo>
                      <a:pt x="483" y="176"/>
                    </a:lnTo>
                    <a:lnTo>
                      <a:pt x="504" y="181"/>
                    </a:lnTo>
                    <a:lnTo>
                      <a:pt x="529" y="186"/>
                    </a:lnTo>
                    <a:lnTo>
                      <a:pt x="554" y="191"/>
                    </a:lnTo>
                    <a:lnTo>
                      <a:pt x="576" y="191"/>
                    </a:lnTo>
                    <a:lnTo>
                      <a:pt x="599" y="186"/>
                    </a:lnTo>
                    <a:lnTo>
                      <a:pt x="615" y="172"/>
                    </a:lnTo>
                    <a:lnTo>
                      <a:pt x="628" y="148"/>
                    </a:lnTo>
                    <a:lnTo>
                      <a:pt x="629" y="127"/>
                    </a:lnTo>
                    <a:lnTo>
                      <a:pt x="623" y="112"/>
                    </a:lnTo>
                    <a:lnTo>
                      <a:pt x="613" y="98"/>
                    </a:lnTo>
                    <a:lnTo>
                      <a:pt x="600" y="90"/>
                    </a:lnTo>
                    <a:lnTo>
                      <a:pt x="587" y="84"/>
                    </a:lnTo>
                    <a:lnTo>
                      <a:pt x="573" y="81"/>
                    </a:lnTo>
                    <a:lnTo>
                      <a:pt x="565" y="79"/>
                    </a:lnTo>
                    <a:lnTo>
                      <a:pt x="562" y="79"/>
                    </a:lnTo>
                    <a:lnTo>
                      <a:pt x="615" y="56"/>
                    </a:lnTo>
                    <a:lnTo>
                      <a:pt x="636" y="37"/>
                    </a:lnTo>
                    <a:lnTo>
                      <a:pt x="630" y="20"/>
                    </a:lnTo>
                    <a:lnTo>
                      <a:pt x="605" y="9"/>
                    </a:lnTo>
                    <a:lnTo>
                      <a:pt x="565" y="0"/>
                    </a:lnTo>
                    <a:lnTo>
                      <a:pt x="520" y="1"/>
                    </a:lnTo>
                    <a:lnTo>
                      <a:pt x="471" y="10"/>
                    </a:lnTo>
                    <a:lnTo>
                      <a:pt x="431" y="28"/>
                    </a:lnTo>
                    <a:lnTo>
                      <a:pt x="396" y="44"/>
                    </a:lnTo>
                    <a:lnTo>
                      <a:pt x="360" y="54"/>
                    </a:lnTo>
                    <a:lnTo>
                      <a:pt x="322" y="59"/>
                    </a:lnTo>
                    <a:lnTo>
                      <a:pt x="290" y="56"/>
                    </a:lnTo>
                    <a:lnTo>
                      <a:pt x="259" y="49"/>
                    </a:lnTo>
                    <a:lnTo>
                      <a:pt x="238" y="40"/>
                    </a:lnTo>
                    <a:lnTo>
                      <a:pt x="225" y="29"/>
                    </a:lnTo>
                    <a:lnTo>
                      <a:pt x="2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576320" y="2358360"/>
                <a:ext cx="189720" cy="95400"/>
              </a:xfrm>
              <a:custGeom>
                <a:avLst/>
                <a:gdLst/>
                <a:ahLst/>
                <a:rect l="l" t="t" r="r" b="b"/>
                <a:pathLst>
                  <a:path w="726" h="355">
                    <a:moveTo>
                      <a:pt x="401" y="20"/>
                    </a:moveTo>
                    <a:lnTo>
                      <a:pt x="410" y="25"/>
                    </a:lnTo>
                    <a:lnTo>
                      <a:pt x="416" y="33"/>
                    </a:lnTo>
                    <a:lnTo>
                      <a:pt x="421" y="41"/>
                    </a:lnTo>
                    <a:lnTo>
                      <a:pt x="426" y="49"/>
                    </a:lnTo>
                    <a:lnTo>
                      <a:pt x="430" y="55"/>
                    </a:lnTo>
                    <a:lnTo>
                      <a:pt x="437" y="62"/>
                    </a:lnTo>
                    <a:lnTo>
                      <a:pt x="444" y="67"/>
                    </a:lnTo>
                    <a:lnTo>
                      <a:pt x="456" y="70"/>
                    </a:lnTo>
                    <a:lnTo>
                      <a:pt x="459" y="60"/>
                    </a:lnTo>
                    <a:lnTo>
                      <a:pt x="468" y="51"/>
                    </a:lnTo>
                    <a:lnTo>
                      <a:pt x="475" y="42"/>
                    </a:lnTo>
                    <a:lnTo>
                      <a:pt x="484" y="34"/>
                    </a:lnTo>
                    <a:lnTo>
                      <a:pt x="492" y="25"/>
                    </a:lnTo>
                    <a:lnTo>
                      <a:pt x="502" y="17"/>
                    </a:lnTo>
                    <a:lnTo>
                      <a:pt x="513" y="9"/>
                    </a:lnTo>
                    <a:lnTo>
                      <a:pt x="524" y="3"/>
                    </a:lnTo>
                    <a:lnTo>
                      <a:pt x="544" y="5"/>
                    </a:lnTo>
                    <a:lnTo>
                      <a:pt x="559" y="13"/>
                    </a:lnTo>
                    <a:lnTo>
                      <a:pt x="570" y="23"/>
                    </a:lnTo>
                    <a:lnTo>
                      <a:pt x="579" y="37"/>
                    </a:lnTo>
                    <a:lnTo>
                      <a:pt x="584" y="50"/>
                    </a:lnTo>
                    <a:lnTo>
                      <a:pt x="589" y="65"/>
                    </a:lnTo>
                    <a:lnTo>
                      <a:pt x="595" y="80"/>
                    </a:lnTo>
                    <a:lnTo>
                      <a:pt x="600" y="94"/>
                    </a:lnTo>
                    <a:lnTo>
                      <a:pt x="609" y="115"/>
                    </a:lnTo>
                    <a:lnTo>
                      <a:pt x="622" y="137"/>
                    </a:lnTo>
                    <a:lnTo>
                      <a:pt x="634" y="158"/>
                    </a:lnTo>
                    <a:lnTo>
                      <a:pt x="649" y="180"/>
                    </a:lnTo>
                    <a:lnTo>
                      <a:pt x="665" y="200"/>
                    </a:lnTo>
                    <a:lnTo>
                      <a:pt x="683" y="219"/>
                    </a:lnTo>
                    <a:lnTo>
                      <a:pt x="702" y="237"/>
                    </a:lnTo>
                    <a:lnTo>
                      <a:pt x="726" y="254"/>
                    </a:lnTo>
                    <a:lnTo>
                      <a:pt x="725" y="261"/>
                    </a:lnTo>
                    <a:lnTo>
                      <a:pt x="722" y="265"/>
                    </a:lnTo>
                    <a:lnTo>
                      <a:pt x="714" y="268"/>
                    </a:lnTo>
                    <a:lnTo>
                      <a:pt x="713" y="271"/>
                    </a:lnTo>
                    <a:lnTo>
                      <a:pt x="702" y="265"/>
                    </a:lnTo>
                    <a:lnTo>
                      <a:pt x="694" y="258"/>
                    </a:lnTo>
                    <a:lnTo>
                      <a:pt x="687" y="249"/>
                    </a:lnTo>
                    <a:lnTo>
                      <a:pt x="682" y="240"/>
                    </a:lnTo>
                    <a:lnTo>
                      <a:pt x="676" y="228"/>
                    </a:lnTo>
                    <a:lnTo>
                      <a:pt x="671" y="219"/>
                    </a:lnTo>
                    <a:lnTo>
                      <a:pt x="666" y="209"/>
                    </a:lnTo>
                    <a:lnTo>
                      <a:pt x="661" y="201"/>
                    </a:lnTo>
                    <a:lnTo>
                      <a:pt x="633" y="185"/>
                    </a:lnTo>
                    <a:lnTo>
                      <a:pt x="606" y="172"/>
                    </a:lnTo>
                    <a:lnTo>
                      <a:pt x="576" y="160"/>
                    </a:lnTo>
                    <a:lnTo>
                      <a:pt x="549" y="150"/>
                    </a:lnTo>
                    <a:lnTo>
                      <a:pt x="520" y="137"/>
                    </a:lnTo>
                    <a:lnTo>
                      <a:pt x="494" y="124"/>
                    </a:lnTo>
                    <a:lnTo>
                      <a:pt x="469" y="109"/>
                    </a:lnTo>
                    <a:lnTo>
                      <a:pt x="447" y="91"/>
                    </a:lnTo>
                    <a:lnTo>
                      <a:pt x="415" y="102"/>
                    </a:lnTo>
                    <a:lnTo>
                      <a:pt x="385" y="119"/>
                    </a:lnTo>
                    <a:lnTo>
                      <a:pt x="361" y="140"/>
                    </a:lnTo>
                    <a:lnTo>
                      <a:pt x="339" y="164"/>
                    </a:lnTo>
                    <a:lnTo>
                      <a:pt x="321" y="190"/>
                    </a:lnTo>
                    <a:lnTo>
                      <a:pt x="308" y="217"/>
                    </a:lnTo>
                    <a:lnTo>
                      <a:pt x="298" y="245"/>
                    </a:lnTo>
                    <a:lnTo>
                      <a:pt x="292" y="274"/>
                    </a:lnTo>
                    <a:lnTo>
                      <a:pt x="292" y="283"/>
                    </a:lnTo>
                    <a:lnTo>
                      <a:pt x="295" y="293"/>
                    </a:lnTo>
                    <a:lnTo>
                      <a:pt x="298" y="303"/>
                    </a:lnTo>
                    <a:lnTo>
                      <a:pt x="300" y="314"/>
                    </a:lnTo>
                    <a:lnTo>
                      <a:pt x="300" y="323"/>
                    </a:lnTo>
                    <a:lnTo>
                      <a:pt x="302" y="332"/>
                    </a:lnTo>
                    <a:lnTo>
                      <a:pt x="299" y="339"/>
                    </a:lnTo>
                    <a:lnTo>
                      <a:pt x="295" y="345"/>
                    </a:lnTo>
                    <a:lnTo>
                      <a:pt x="286" y="344"/>
                    </a:lnTo>
                    <a:lnTo>
                      <a:pt x="275" y="342"/>
                    </a:lnTo>
                    <a:lnTo>
                      <a:pt x="263" y="340"/>
                    </a:lnTo>
                    <a:lnTo>
                      <a:pt x="254" y="338"/>
                    </a:lnTo>
                    <a:lnTo>
                      <a:pt x="243" y="336"/>
                    </a:lnTo>
                    <a:lnTo>
                      <a:pt x="231" y="338"/>
                    </a:lnTo>
                    <a:lnTo>
                      <a:pt x="220" y="342"/>
                    </a:lnTo>
                    <a:lnTo>
                      <a:pt x="209" y="352"/>
                    </a:lnTo>
                    <a:lnTo>
                      <a:pt x="139" y="355"/>
                    </a:lnTo>
                    <a:lnTo>
                      <a:pt x="137" y="336"/>
                    </a:lnTo>
                    <a:lnTo>
                      <a:pt x="137" y="317"/>
                    </a:lnTo>
                    <a:lnTo>
                      <a:pt x="138" y="299"/>
                    </a:lnTo>
                    <a:lnTo>
                      <a:pt x="143" y="281"/>
                    </a:lnTo>
                    <a:lnTo>
                      <a:pt x="146" y="264"/>
                    </a:lnTo>
                    <a:lnTo>
                      <a:pt x="154" y="247"/>
                    </a:lnTo>
                    <a:lnTo>
                      <a:pt x="161" y="229"/>
                    </a:lnTo>
                    <a:lnTo>
                      <a:pt x="169" y="214"/>
                    </a:lnTo>
                    <a:lnTo>
                      <a:pt x="161" y="207"/>
                    </a:lnTo>
                    <a:lnTo>
                      <a:pt x="148" y="215"/>
                    </a:lnTo>
                    <a:lnTo>
                      <a:pt x="139" y="226"/>
                    </a:lnTo>
                    <a:lnTo>
                      <a:pt x="132" y="239"/>
                    </a:lnTo>
                    <a:lnTo>
                      <a:pt x="127" y="252"/>
                    </a:lnTo>
                    <a:lnTo>
                      <a:pt x="118" y="264"/>
                    </a:lnTo>
                    <a:lnTo>
                      <a:pt x="110" y="274"/>
                    </a:lnTo>
                    <a:lnTo>
                      <a:pt x="96" y="283"/>
                    </a:lnTo>
                    <a:lnTo>
                      <a:pt x="78" y="288"/>
                    </a:lnTo>
                    <a:lnTo>
                      <a:pt x="68" y="291"/>
                    </a:lnTo>
                    <a:lnTo>
                      <a:pt x="58" y="294"/>
                    </a:lnTo>
                    <a:lnTo>
                      <a:pt x="48" y="295"/>
                    </a:lnTo>
                    <a:lnTo>
                      <a:pt x="39" y="296"/>
                    </a:lnTo>
                    <a:lnTo>
                      <a:pt x="28" y="295"/>
                    </a:lnTo>
                    <a:lnTo>
                      <a:pt x="18" y="295"/>
                    </a:lnTo>
                    <a:lnTo>
                      <a:pt x="9" y="296"/>
                    </a:lnTo>
                    <a:lnTo>
                      <a:pt x="0" y="298"/>
                    </a:lnTo>
                    <a:lnTo>
                      <a:pt x="43" y="263"/>
                    </a:lnTo>
                    <a:lnTo>
                      <a:pt x="79" y="224"/>
                    </a:lnTo>
                    <a:lnTo>
                      <a:pt x="111" y="185"/>
                    </a:lnTo>
                    <a:lnTo>
                      <a:pt x="139" y="144"/>
                    </a:lnTo>
                    <a:lnTo>
                      <a:pt x="169" y="102"/>
                    </a:lnTo>
                    <a:lnTo>
                      <a:pt x="203" y="64"/>
                    </a:lnTo>
                    <a:lnTo>
                      <a:pt x="244" y="30"/>
                    </a:lnTo>
                    <a:lnTo>
                      <a:pt x="295" y="0"/>
                    </a:lnTo>
                    <a:lnTo>
                      <a:pt x="308" y="1"/>
                    </a:lnTo>
                    <a:lnTo>
                      <a:pt x="321" y="2"/>
                    </a:lnTo>
                    <a:lnTo>
                      <a:pt x="334" y="3"/>
                    </a:lnTo>
                    <a:lnTo>
                      <a:pt x="348" y="4"/>
                    </a:lnTo>
                    <a:lnTo>
                      <a:pt x="361" y="5"/>
                    </a:lnTo>
                    <a:lnTo>
                      <a:pt x="374" y="8"/>
                    </a:lnTo>
                    <a:lnTo>
                      <a:pt x="387" y="12"/>
                    </a:lnTo>
                    <a:lnTo>
                      <a:pt x="401" y="2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605840" y="2388960"/>
                <a:ext cx="88920" cy="171720"/>
              </a:xfrm>
              <a:custGeom>
                <a:avLst/>
                <a:gdLst/>
                <a:ahLst/>
                <a:rect l="l" t="t" r="r" b="b"/>
                <a:pathLst>
                  <a:path w="342" h="636">
                    <a:moveTo>
                      <a:pt x="340" y="297"/>
                    </a:moveTo>
                    <a:lnTo>
                      <a:pt x="334" y="311"/>
                    </a:lnTo>
                    <a:lnTo>
                      <a:pt x="328" y="326"/>
                    </a:lnTo>
                    <a:lnTo>
                      <a:pt x="319" y="340"/>
                    </a:lnTo>
                    <a:lnTo>
                      <a:pt x="312" y="354"/>
                    </a:lnTo>
                    <a:lnTo>
                      <a:pt x="303" y="367"/>
                    </a:lnTo>
                    <a:lnTo>
                      <a:pt x="294" y="381"/>
                    </a:lnTo>
                    <a:lnTo>
                      <a:pt x="287" y="395"/>
                    </a:lnTo>
                    <a:lnTo>
                      <a:pt x="282" y="408"/>
                    </a:lnTo>
                    <a:lnTo>
                      <a:pt x="273" y="415"/>
                    </a:lnTo>
                    <a:lnTo>
                      <a:pt x="265" y="422"/>
                    </a:lnTo>
                    <a:lnTo>
                      <a:pt x="252" y="428"/>
                    </a:lnTo>
                    <a:lnTo>
                      <a:pt x="243" y="433"/>
                    </a:lnTo>
                    <a:lnTo>
                      <a:pt x="230" y="435"/>
                    </a:lnTo>
                    <a:lnTo>
                      <a:pt x="218" y="438"/>
                    </a:lnTo>
                    <a:lnTo>
                      <a:pt x="207" y="438"/>
                    </a:lnTo>
                    <a:lnTo>
                      <a:pt x="197" y="438"/>
                    </a:lnTo>
                    <a:lnTo>
                      <a:pt x="187" y="436"/>
                    </a:lnTo>
                    <a:lnTo>
                      <a:pt x="180" y="434"/>
                    </a:lnTo>
                    <a:lnTo>
                      <a:pt x="174" y="430"/>
                    </a:lnTo>
                    <a:lnTo>
                      <a:pt x="168" y="427"/>
                    </a:lnTo>
                    <a:lnTo>
                      <a:pt x="160" y="421"/>
                    </a:lnTo>
                    <a:lnTo>
                      <a:pt x="154" y="417"/>
                    </a:lnTo>
                    <a:lnTo>
                      <a:pt x="147" y="413"/>
                    </a:lnTo>
                    <a:lnTo>
                      <a:pt x="139" y="411"/>
                    </a:lnTo>
                    <a:lnTo>
                      <a:pt x="128" y="417"/>
                    </a:lnTo>
                    <a:lnTo>
                      <a:pt x="123" y="425"/>
                    </a:lnTo>
                    <a:lnTo>
                      <a:pt x="122" y="432"/>
                    </a:lnTo>
                    <a:lnTo>
                      <a:pt x="126" y="439"/>
                    </a:lnTo>
                    <a:lnTo>
                      <a:pt x="129" y="444"/>
                    </a:lnTo>
                    <a:lnTo>
                      <a:pt x="137" y="450"/>
                    </a:lnTo>
                    <a:lnTo>
                      <a:pt x="144" y="453"/>
                    </a:lnTo>
                    <a:lnTo>
                      <a:pt x="152" y="455"/>
                    </a:lnTo>
                    <a:lnTo>
                      <a:pt x="184" y="457"/>
                    </a:lnTo>
                    <a:lnTo>
                      <a:pt x="207" y="469"/>
                    </a:lnTo>
                    <a:lnTo>
                      <a:pt x="219" y="488"/>
                    </a:lnTo>
                    <a:lnTo>
                      <a:pt x="225" y="513"/>
                    </a:lnTo>
                    <a:lnTo>
                      <a:pt x="227" y="540"/>
                    </a:lnTo>
                    <a:lnTo>
                      <a:pt x="225" y="568"/>
                    </a:lnTo>
                    <a:lnTo>
                      <a:pt x="223" y="595"/>
                    </a:lnTo>
                    <a:lnTo>
                      <a:pt x="224" y="618"/>
                    </a:lnTo>
                    <a:lnTo>
                      <a:pt x="216" y="630"/>
                    </a:lnTo>
                    <a:lnTo>
                      <a:pt x="197" y="636"/>
                    </a:lnTo>
                    <a:lnTo>
                      <a:pt x="168" y="636"/>
                    </a:lnTo>
                    <a:lnTo>
                      <a:pt x="136" y="632"/>
                    </a:lnTo>
                    <a:lnTo>
                      <a:pt x="97" y="622"/>
                    </a:lnTo>
                    <a:lnTo>
                      <a:pt x="60" y="611"/>
                    </a:lnTo>
                    <a:lnTo>
                      <a:pt x="28" y="598"/>
                    </a:lnTo>
                    <a:lnTo>
                      <a:pt x="3" y="585"/>
                    </a:lnTo>
                    <a:lnTo>
                      <a:pt x="0" y="569"/>
                    </a:lnTo>
                    <a:lnTo>
                      <a:pt x="6" y="542"/>
                    </a:lnTo>
                    <a:lnTo>
                      <a:pt x="15" y="502"/>
                    </a:lnTo>
                    <a:lnTo>
                      <a:pt x="27" y="457"/>
                    </a:lnTo>
                    <a:lnTo>
                      <a:pt x="36" y="409"/>
                    </a:lnTo>
                    <a:lnTo>
                      <a:pt x="42" y="363"/>
                    </a:lnTo>
                    <a:lnTo>
                      <a:pt x="41" y="325"/>
                    </a:lnTo>
                    <a:lnTo>
                      <a:pt x="32" y="297"/>
                    </a:lnTo>
                    <a:lnTo>
                      <a:pt x="25" y="288"/>
                    </a:lnTo>
                    <a:lnTo>
                      <a:pt x="26" y="280"/>
                    </a:lnTo>
                    <a:lnTo>
                      <a:pt x="28" y="269"/>
                    </a:lnTo>
                    <a:lnTo>
                      <a:pt x="32" y="260"/>
                    </a:lnTo>
                    <a:lnTo>
                      <a:pt x="39" y="259"/>
                    </a:lnTo>
                    <a:lnTo>
                      <a:pt x="48" y="262"/>
                    </a:lnTo>
                    <a:lnTo>
                      <a:pt x="55" y="266"/>
                    </a:lnTo>
                    <a:lnTo>
                      <a:pt x="64" y="272"/>
                    </a:lnTo>
                    <a:lnTo>
                      <a:pt x="72" y="274"/>
                    </a:lnTo>
                    <a:lnTo>
                      <a:pt x="79" y="277"/>
                    </a:lnTo>
                    <a:lnTo>
                      <a:pt x="86" y="275"/>
                    </a:lnTo>
                    <a:lnTo>
                      <a:pt x="94" y="271"/>
                    </a:lnTo>
                    <a:lnTo>
                      <a:pt x="83" y="245"/>
                    </a:lnTo>
                    <a:lnTo>
                      <a:pt x="73" y="221"/>
                    </a:lnTo>
                    <a:lnTo>
                      <a:pt x="64" y="195"/>
                    </a:lnTo>
                    <a:lnTo>
                      <a:pt x="62" y="171"/>
                    </a:lnTo>
                    <a:lnTo>
                      <a:pt x="62" y="144"/>
                    </a:lnTo>
                    <a:lnTo>
                      <a:pt x="67" y="120"/>
                    </a:lnTo>
                    <a:lnTo>
                      <a:pt x="79" y="95"/>
                    </a:lnTo>
                    <a:lnTo>
                      <a:pt x="97" y="73"/>
                    </a:lnTo>
                    <a:lnTo>
                      <a:pt x="168" y="0"/>
                    </a:lnTo>
                    <a:lnTo>
                      <a:pt x="185" y="10"/>
                    </a:lnTo>
                    <a:lnTo>
                      <a:pt x="203" y="23"/>
                    </a:lnTo>
                    <a:lnTo>
                      <a:pt x="220" y="34"/>
                    </a:lnTo>
                    <a:lnTo>
                      <a:pt x="239" y="45"/>
                    </a:lnTo>
                    <a:lnTo>
                      <a:pt x="257" y="53"/>
                    </a:lnTo>
                    <a:lnTo>
                      <a:pt x="277" y="62"/>
                    </a:lnTo>
                    <a:lnTo>
                      <a:pt x="297" y="69"/>
                    </a:lnTo>
                    <a:lnTo>
                      <a:pt x="319" y="73"/>
                    </a:lnTo>
                    <a:lnTo>
                      <a:pt x="331" y="97"/>
                    </a:lnTo>
                    <a:lnTo>
                      <a:pt x="339" y="125"/>
                    </a:lnTo>
                    <a:lnTo>
                      <a:pt x="341" y="153"/>
                    </a:lnTo>
                    <a:lnTo>
                      <a:pt x="342" y="183"/>
                    </a:lnTo>
                    <a:lnTo>
                      <a:pt x="340" y="210"/>
                    </a:lnTo>
                    <a:lnTo>
                      <a:pt x="339" y="240"/>
                    </a:lnTo>
                    <a:lnTo>
                      <a:pt x="337" y="268"/>
                    </a:lnTo>
                    <a:lnTo>
                      <a:pt x="340" y="297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506840" y="2344320"/>
                <a:ext cx="318600" cy="77040"/>
              </a:xfrm>
              <a:custGeom>
                <a:avLst/>
                <a:gdLst/>
                <a:ahLst/>
                <a:rect l="l" t="t" r="r" b="b"/>
                <a:pathLst>
                  <a:path w="1223" h="287">
                    <a:moveTo>
                      <a:pt x="591" y="49"/>
                    </a:moveTo>
                    <a:lnTo>
                      <a:pt x="713" y="29"/>
                    </a:lnTo>
                    <a:lnTo>
                      <a:pt x="829" y="13"/>
                    </a:lnTo>
                    <a:lnTo>
                      <a:pt x="932" y="3"/>
                    </a:lnTo>
                    <a:lnTo>
                      <a:pt x="1027" y="0"/>
                    </a:lnTo>
                    <a:lnTo>
                      <a:pt x="1104" y="0"/>
                    </a:lnTo>
                    <a:lnTo>
                      <a:pt x="1165" y="6"/>
                    </a:lnTo>
                    <a:lnTo>
                      <a:pt x="1205" y="17"/>
                    </a:lnTo>
                    <a:lnTo>
                      <a:pt x="1223" y="36"/>
                    </a:lnTo>
                    <a:lnTo>
                      <a:pt x="1213" y="55"/>
                    </a:lnTo>
                    <a:lnTo>
                      <a:pt x="1181" y="79"/>
                    </a:lnTo>
                    <a:lnTo>
                      <a:pt x="1127" y="105"/>
                    </a:lnTo>
                    <a:lnTo>
                      <a:pt x="1056" y="133"/>
                    </a:lnTo>
                    <a:lnTo>
                      <a:pt x="969" y="159"/>
                    </a:lnTo>
                    <a:lnTo>
                      <a:pt x="868" y="186"/>
                    </a:lnTo>
                    <a:lnTo>
                      <a:pt x="755" y="212"/>
                    </a:lnTo>
                    <a:lnTo>
                      <a:pt x="637" y="237"/>
                    </a:lnTo>
                    <a:lnTo>
                      <a:pt x="512" y="256"/>
                    </a:lnTo>
                    <a:lnTo>
                      <a:pt x="395" y="271"/>
                    </a:lnTo>
                    <a:lnTo>
                      <a:pt x="288" y="280"/>
                    </a:lnTo>
                    <a:lnTo>
                      <a:pt x="196" y="287"/>
                    </a:lnTo>
                    <a:lnTo>
                      <a:pt x="116" y="286"/>
                    </a:lnTo>
                    <a:lnTo>
                      <a:pt x="55" y="280"/>
                    </a:lnTo>
                    <a:lnTo>
                      <a:pt x="16" y="269"/>
                    </a:lnTo>
                    <a:lnTo>
                      <a:pt x="0" y="254"/>
                    </a:lnTo>
                    <a:lnTo>
                      <a:pt x="7" y="231"/>
                    </a:lnTo>
                    <a:lnTo>
                      <a:pt x="38" y="207"/>
                    </a:lnTo>
                    <a:lnTo>
                      <a:pt x="91" y="180"/>
                    </a:lnTo>
                    <a:lnTo>
                      <a:pt x="164" y="154"/>
                    </a:lnTo>
                    <a:lnTo>
                      <a:pt x="252" y="125"/>
                    </a:lnTo>
                    <a:lnTo>
                      <a:pt x="355" y="99"/>
                    </a:lnTo>
                    <a:lnTo>
                      <a:pt x="468" y="71"/>
                    </a:lnTo>
                    <a:lnTo>
                      <a:pt x="5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564080" y="2405520"/>
                <a:ext cx="22680" cy="183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2" y="0"/>
                    </a:moveTo>
                    <a:lnTo>
                      <a:pt x="87" y="18"/>
                    </a:lnTo>
                    <a:lnTo>
                      <a:pt x="71" y="51"/>
                    </a:lnTo>
                    <a:lnTo>
                      <a:pt x="57" y="68"/>
                    </a:lnTo>
                    <a:lnTo>
                      <a:pt x="41" y="67"/>
                    </a:lnTo>
                    <a:lnTo>
                      <a:pt x="26" y="58"/>
                    </a:lnTo>
                    <a:lnTo>
                      <a:pt x="12" y="40"/>
                    </a:lnTo>
                    <a:lnTo>
                      <a:pt x="5" y="23"/>
                    </a:lnTo>
                    <a:lnTo>
                      <a:pt x="0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650840" y="2422080"/>
                <a:ext cx="15840" cy="8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0" y="33"/>
                    </a:moveTo>
                    <a:lnTo>
                      <a:pt x="3" y="27"/>
                    </a:lnTo>
                    <a:lnTo>
                      <a:pt x="10" y="20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3" y="4"/>
                    </a:lnTo>
                    <a:lnTo>
                      <a:pt x="43" y="2"/>
                    </a:lnTo>
                    <a:lnTo>
                      <a:pt x="51" y="0"/>
                    </a:lnTo>
                    <a:lnTo>
                      <a:pt x="61" y="2"/>
                    </a:lnTo>
                    <a:lnTo>
                      <a:pt x="54" y="5"/>
                    </a:lnTo>
                    <a:lnTo>
                      <a:pt x="46" y="10"/>
                    </a:lnTo>
                    <a:lnTo>
                      <a:pt x="39" y="14"/>
                    </a:lnTo>
                    <a:lnTo>
                      <a:pt x="33" y="19"/>
                    </a:lnTo>
                    <a:lnTo>
                      <a:pt x="24" y="23"/>
                    </a:lnTo>
                    <a:lnTo>
                      <a:pt x="16" y="28"/>
                    </a:lnTo>
                    <a:lnTo>
                      <a:pt x="7" y="3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609080" y="2417760"/>
                <a:ext cx="16560" cy="468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5" y="17"/>
                    </a:moveTo>
                    <a:lnTo>
                      <a:pt x="58" y="13"/>
                    </a:lnTo>
                    <a:lnTo>
                      <a:pt x="49" y="8"/>
                    </a:lnTo>
                    <a:lnTo>
                      <a:pt x="41" y="5"/>
                    </a:lnTo>
                    <a:lnTo>
                      <a:pt x="33" y="3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5" y="9"/>
                    </a:lnTo>
                    <a:lnTo>
                      <a:pt x="23" y="12"/>
                    </a:lnTo>
                    <a:lnTo>
                      <a:pt x="32" y="15"/>
                    </a:lnTo>
                    <a:lnTo>
                      <a:pt x="39" y="16"/>
                    </a:lnTo>
                    <a:lnTo>
                      <a:pt x="48" y="17"/>
                    </a:lnTo>
                    <a:lnTo>
                      <a:pt x="57" y="17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620600" y="2428200"/>
                <a:ext cx="13320" cy="41400"/>
              </a:xfrm>
              <a:custGeom>
                <a:avLst/>
                <a:gdLst/>
                <a:ahLst/>
                <a:rect l="l" t="t" r="r" b="b"/>
                <a:pathLst>
                  <a:path w="53" h="154">
                    <a:moveTo>
                      <a:pt x="12" y="0"/>
                    </a:moveTo>
                    <a:lnTo>
                      <a:pt x="11" y="17"/>
                    </a:lnTo>
                    <a:lnTo>
                      <a:pt x="13" y="35"/>
                    </a:lnTo>
                    <a:lnTo>
                      <a:pt x="16" y="51"/>
                    </a:lnTo>
                    <a:lnTo>
                      <a:pt x="22" y="67"/>
                    </a:lnTo>
                    <a:lnTo>
                      <a:pt x="29" y="83"/>
                    </a:lnTo>
                    <a:lnTo>
                      <a:pt x="37" y="98"/>
                    </a:lnTo>
                    <a:lnTo>
                      <a:pt x="44" y="114"/>
                    </a:lnTo>
                    <a:lnTo>
                      <a:pt x="53" y="131"/>
                    </a:lnTo>
                    <a:lnTo>
                      <a:pt x="53" y="136"/>
                    </a:lnTo>
                    <a:lnTo>
                      <a:pt x="52" y="142"/>
                    </a:lnTo>
                    <a:lnTo>
                      <a:pt x="48" y="146"/>
                    </a:lnTo>
                    <a:lnTo>
                      <a:pt x="44" y="150"/>
                    </a:lnTo>
                    <a:lnTo>
                      <a:pt x="37" y="152"/>
                    </a:lnTo>
                    <a:lnTo>
                      <a:pt x="31" y="154"/>
                    </a:lnTo>
                    <a:lnTo>
                      <a:pt x="22" y="154"/>
                    </a:lnTo>
                    <a:lnTo>
                      <a:pt x="16" y="154"/>
                    </a:lnTo>
                    <a:lnTo>
                      <a:pt x="0" y="154"/>
                    </a:lnTo>
                    <a:lnTo>
                      <a:pt x="2" y="149"/>
                    </a:lnTo>
                    <a:lnTo>
                      <a:pt x="10" y="146"/>
                    </a:lnTo>
                    <a:lnTo>
                      <a:pt x="17" y="144"/>
                    </a:lnTo>
                    <a:lnTo>
                      <a:pt x="28" y="142"/>
                    </a:lnTo>
                    <a:lnTo>
                      <a:pt x="34" y="138"/>
                    </a:lnTo>
                    <a:lnTo>
                      <a:pt x="39" y="135"/>
                    </a:lnTo>
                    <a:lnTo>
                      <a:pt x="38" y="129"/>
                    </a:lnTo>
                    <a:lnTo>
                      <a:pt x="33" y="121"/>
                    </a:lnTo>
                    <a:lnTo>
                      <a:pt x="23" y="106"/>
                    </a:lnTo>
                    <a:lnTo>
                      <a:pt x="16" y="92"/>
                    </a:lnTo>
                    <a:lnTo>
                      <a:pt x="8" y="77"/>
                    </a:lnTo>
                    <a:lnTo>
                      <a:pt x="3" y="61"/>
                    </a:lnTo>
                    <a:lnTo>
                      <a:pt x="0" y="45"/>
                    </a:lnTo>
                    <a:lnTo>
                      <a:pt x="0" y="30"/>
                    </a:lnTo>
                    <a:lnTo>
                      <a:pt x="3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644720" y="2431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3" y="31"/>
                    </a:moveTo>
                    <a:lnTo>
                      <a:pt x="0" y="23"/>
                    </a:lnTo>
                    <a:lnTo>
                      <a:pt x="1" y="18"/>
                    </a:lnTo>
                    <a:lnTo>
                      <a:pt x="3" y="12"/>
                    </a:lnTo>
                    <a:lnTo>
                      <a:pt x="12" y="8"/>
                    </a:lnTo>
                    <a:lnTo>
                      <a:pt x="18" y="5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1" y="2"/>
                    </a:lnTo>
                    <a:lnTo>
                      <a:pt x="56" y="5"/>
                    </a:lnTo>
                    <a:lnTo>
                      <a:pt x="62" y="8"/>
                    </a:lnTo>
                    <a:lnTo>
                      <a:pt x="70" y="16"/>
                    </a:lnTo>
                    <a:lnTo>
                      <a:pt x="65" y="21"/>
                    </a:lnTo>
                    <a:lnTo>
                      <a:pt x="56" y="21"/>
                    </a:lnTo>
                    <a:lnTo>
                      <a:pt x="49" y="24"/>
                    </a:lnTo>
                    <a:lnTo>
                      <a:pt x="40" y="27"/>
                    </a:lnTo>
                    <a:lnTo>
                      <a:pt x="33" y="32"/>
                    </a:lnTo>
                    <a:lnTo>
                      <a:pt x="24" y="34"/>
                    </a:lnTo>
                    <a:lnTo>
                      <a:pt x="17" y="36"/>
                    </a:lnTo>
                    <a:lnTo>
                      <a:pt x="10" y="35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609440" y="242820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4" y="21"/>
                    </a:moveTo>
                    <a:lnTo>
                      <a:pt x="65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13" y="21"/>
                    </a:lnTo>
                    <a:lnTo>
                      <a:pt x="22" y="23"/>
                    </a:lnTo>
                    <a:lnTo>
                      <a:pt x="29" y="26"/>
                    </a:lnTo>
                    <a:lnTo>
                      <a:pt x="39" y="29"/>
                    </a:lnTo>
                    <a:lnTo>
                      <a:pt x="45" y="29"/>
                    </a:lnTo>
                    <a:lnTo>
                      <a:pt x="53" y="29"/>
                    </a:lnTo>
                    <a:lnTo>
                      <a:pt x="59" y="26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248360" y="243072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8" y="56"/>
                    </a:moveTo>
                    <a:lnTo>
                      <a:pt x="5" y="57"/>
                    </a:lnTo>
                    <a:lnTo>
                      <a:pt x="2" y="53"/>
                    </a:lnTo>
                    <a:lnTo>
                      <a:pt x="0" y="45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7" y="12"/>
                    </a:lnTo>
                    <a:lnTo>
                      <a:pt x="16" y="4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38" y="7"/>
                    </a:lnTo>
                    <a:lnTo>
                      <a:pt x="36" y="16"/>
                    </a:lnTo>
                    <a:lnTo>
                      <a:pt x="29" y="26"/>
                    </a:lnTo>
                    <a:lnTo>
                      <a:pt x="22" y="35"/>
                    </a:lnTo>
                    <a:lnTo>
                      <a:pt x="15" y="44"/>
                    </a:lnTo>
                    <a:lnTo>
                      <a:pt x="10" y="51"/>
                    </a:lnTo>
                    <a:lnTo>
                      <a:pt x="8" y="56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4229280" y="2432520"/>
                <a:ext cx="132120" cy="140760"/>
              </a:xfrm>
              <a:custGeom>
                <a:avLst/>
                <a:gdLst/>
                <a:ahLst/>
                <a:rect l="l" t="t" r="r" b="b"/>
                <a:pathLst>
                  <a:path w="510" h="523">
                    <a:moveTo>
                      <a:pt x="390" y="184"/>
                    </a:moveTo>
                    <a:lnTo>
                      <a:pt x="390" y="191"/>
                    </a:lnTo>
                    <a:lnTo>
                      <a:pt x="397" y="196"/>
                    </a:lnTo>
                    <a:lnTo>
                      <a:pt x="403" y="198"/>
                    </a:lnTo>
                    <a:lnTo>
                      <a:pt x="406" y="194"/>
                    </a:lnTo>
                    <a:lnTo>
                      <a:pt x="414" y="182"/>
                    </a:lnTo>
                    <a:lnTo>
                      <a:pt x="425" y="165"/>
                    </a:lnTo>
                    <a:lnTo>
                      <a:pt x="438" y="144"/>
                    </a:lnTo>
                    <a:lnTo>
                      <a:pt x="454" y="124"/>
                    </a:lnTo>
                    <a:lnTo>
                      <a:pt x="469" y="102"/>
                    </a:lnTo>
                    <a:lnTo>
                      <a:pt x="484" y="83"/>
                    </a:lnTo>
                    <a:lnTo>
                      <a:pt x="498" y="68"/>
                    </a:lnTo>
                    <a:lnTo>
                      <a:pt x="510" y="57"/>
                    </a:lnTo>
                    <a:lnTo>
                      <a:pt x="510" y="84"/>
                    </a:lnTo>
                    <a:lnTo>
                      <a:pt x="494" y="105"/>
                    </a:lnTo>
                    <a:lnTo>
                      <a:pt x="480" y="129"/>
                    </a:lnTo>
                    <a:lnTo>
                      <a:pt x="466" y="150"/>
                    </a:lnTo>
                    <a:lnTo>
                      <a:pt x="451" y="174"/>
                    </a:lnTo>
                    <a:lnTo>
                      <a:pt x="434" y="195"/>
                    </a:lnTo>
                    <a:lnTo>
                      <a:pt x="418" y="217"/>
                    </a:lnTo>
                    <a:lnTo>
                      <a:pt x="399" y="238"/>
                    </a:lnTo>
                    <a:lnTo>
                      <a:pt x="382" y="258"/>
                    </a:lnTo>
                    <a:lnTo>
                      <a:pt x="370" y="272"/>
                    </a:lnTo>
                    <a:lnTo>
                      <a:pt x="357" y="284"/>
                    </a:lnTo>
                    <a:lnTo>
                      <a:pt x="342" y="295"/>
                    </a:lnTo>
                    <a:lnTo>
                      <a:pt x="328" y="305"/>
                    </a:lnTo>
                    <a:lnTo>
                      <a:pt x="309" y="313"/>
                    </a:lnTo>
                    <a:lnTo>
                      <a:pt x="292" y="322"/>
                    </a:lnTo>
                    <a:lnTo>
                      <a:pt x="275" y="330"/>
                    </a:lnTo>
                    <a:lnTo>
                      <a:pt x="259" y="338"/>
                    </a:lnTo>
                    <a:lnTo>
                      <a:pt x="224" y="352"/>
                    </a:lnTo>
                    <a:lnTo>
                      <a:pt x="195" y="371"/>
                    </a:lnTo>
                    <a:lnTo>
                      <a:pt x="168" y="391"/>
                    </a:lnTo>
                    <a:lnTo>
                      <a:pt x="147" y="415"/>
                    </a:lnTo>
                    <a:lnTo>
                      <a:pt x="127" y="440"/>
                    </a:lnTo>
                    <a:lnTo>
                      <a:pt x="110" y="466"/>
                    </a:lnTo>
                    <a:lnTo>
                      <a:pt x="94" y="495"/>
                    </a:lnTo>
                    <a:lnTo>
                      <a:pt x="83" y="523"/>
                    </a:lnTo>
                    <a:lnTo>
                      <a:pt x="52" y="515"/>
                    </a:lnTo>
                    <a:lnTo>
                      <a:pt x="31" y="496"/>
                    </a:lnTo>
                    <a:lnTo>
                      <a:pt x="15" y="466"/>
                    </a:lnTo>
                    <a:lnTo>
                      <a:pt x="8" y="433"/>
                    </a:lnTo>
                    <a:lnTo>
                      <a:pt x="1" y="396"/>
                    </a:lnTo>
                    <a:lnTo>
                      <a:pt x="0" y="361"/>
                    </a:lnTo>
                    <a:lnTo>
                      <a:pt x="0" y="329"/>
                    </a:lnTo>
                    <a:lnTo>
                      <a:pt x="1" y="305"/>
                    </a:lnTo>
                    <a:lnTo>
                      <a:pt x="9" y="280"/>
                    </a:lnTo>
                    <a:lnTo>
                      <a:pt x="32" y="248"/>
                    </a:lnTo>
                    <a:lnTo>
                      <a:pt x="63" y="213"/>
                    </a:lnTo>
                    <a:lnTo>
                      <a:pt x="99" y="180"/>
                    </a:lnTo>
                    <a:lnTo>
                      <a:pt x="133" y="149"/>
                    </a:lnTo>
                    <a:lnTo>
                      <a:pt x="164" y="129"/>
                    </a:lnTo>
                    <a:lnTo>
                      <a:pt x="184" y="119"/>
                    </a:lnTo>
                    <a:lnTo>
                      <a:pt x="193" y="124"/>
                    </a:lnTo>
                    <a:lnTo>
                      <a:pt x="190" y="138"/>
                    </a:lnTo>
                    <a:lnTo>
                      <a:pt x="184" y="151"/>
                    </a:lnTo>
                    <a:lnTo>
                      <a:pt x="176" y="163"/>
                    </a:lnTo>
                    <a:lnTo>
                      <a:pt x="168" y="173"/>
                    </a:lnTo>
                    <a:lnTo>
                      <a:pt x="155" y="181"/>
                    </a:lnTo>
                    <a:lnTo>
                      <a:pt x="142" y="189"/>
                    </a:lnTo>
                    <a:lnTo>
                      <a:pt x="126" y="196"/>
                    </a:lnTo>
                    <a:lnTo>
                      <a:pt x="107" y="204"/>
                    </a:lnTo>
                    <a:lnTo>
                      <a:pt x="99" y="200"/>
                    </a:lnTo>
                    <a:lnTo>
                      <a:pt x="92" y="203"/>
                    </a:lnTo>
                    <a:lnTo>
                      <a:pt x="89" y="212"/>
                    </a:lnTo>
                    <a:lnTo>
                      <a:pt x="89" y="223"/>
                    </a:lnTo>
                    <a:lnTo>
                      <a:pt x="89" y="235"/>
                    </a:lnTo>
                    <a:lnTo>
                      <a:pt x="91" y="248"/>
                    </a:lnTo>
                    <a:lnTo>
                      <a:pt x="95" y="259"/>
                    </a:lnTo>
                    <a:lnTo>
                      <a:pt x="102" y="269"/>
                    </a:lnTo>
                    <a:lnTo>
                      <a:pt x="111" y="275"/>
                    </a:lnTo>
                    <a:lnTo>
                      <a:pt x="121" y="276"/>
                    </a:lnTo>
                    <a:lnTo>
                      <a:pt x="132" y="272"/>
                    </a:lnTo>
                    <a:lnTo>
                      <a:pt x="144" y="265"/>
                    </a:lnTo>
                    <a:lnTo>
                      <a:pt x="157" y="254"/>
                    </a:lnTo>
                    <a:lnTo>
                      <a:pt x="171" y="245"/>
                    </a:lnTo>
                    <a:lnTo>
                      <a:pt x="186" y="237"/>
                    </a:lnTo>
                    <a:lnTo>
                      <a:pt x="206" y="232"/>
                    </a:lnTo>
                    <a:lnTo>
                      <a:pt x="218" y="225"/>
                    </a:lnTo>
                    <a:lnTo>
                      <a:pt x="230" y="220"/>
                    </a:lnTo>
                    <a:lnTo>
                      <a:pt x="243" y="213"/>
                    </a:lnTo>
                    <a:lnTo>
                      <a:pt x="257" y="206"/>
                    </a:lnTo>
                    <a:lnTo>
                      <a:pt x="271" y="199"/>
                    </a:lnTo>
                    <a:lnTo>
                      <a:pt x="286" y="193"/>
                    </a:lnTo>
                    <a:lnTo>
                      <a:pt x="301" y="189"/>
                    </a:lnTo>
                    <a:lnTo>
                      <a:pt x="320" y="187"/>
                    </a:lnTo>
                    <a:lnTo>
                      <a:pt x="390" y="137"/>
                    </a:lnTo>
                    <a:lnTo>
                      <a:pt x="397" y="118"/>
                    </a:lnTo>
                    <a:lnTo>
                      <a:pt x="408" y="100"/>
                    </a:lnTo>
                    <a:lnTo>
                      <a:pt x="421" y="83"/>
                    </a:lnTo>
                    <a:lnTo>
                      <a:pt x="436" y="68"/>
                    </a:lnTo>
                    <a:lnTo>
                      <a:pt x="452" y="51"/>
                    </a:lnTo>
                    <a:lnTo>
                      <a:pt x="468" y="36"/>
                    </a:lnTo>
                    <a:lnTo>
                      <a:pt x="482" y="20"/>
                    </a:lnTo>
                    <a:lnTo>
                      <a:pt x="496" y="4"/>
                    </a:lnTo>
                    <a:lnTo>
                      <a:pt x="510" y="0"/>
                    </a:lnTo>
                    <a:lnTo>
                      <a:pt x="499" y="25"/>
                    </a:lnTo>
                    <a:lnTo>
                      <a:pt x="488" y="49"/>
                    </a:lnTo>
                    <a:lnTo>
                      <a:pt x="472" y="72"/>
                    </a:lnTo>
                    <a:lnTo>
                      <a:pt x="456" y="94"/>
                    </a:lnTo>
                    <a:lnTo>
                      <a:pt x="436" y="116"/>
                    </a:lnTo>
                    <a:lnTo>
                      <a:pt x="419" y="138"/>
                    </a:lnTo>
                    <a:lnTo>
                      <a:pt x="403" y="159"/>
                    </a:lnTo>
                    <a:lnTo>
                      <a:pt x="390" y="18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621320" y="24757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4"/>
                    </a:moveTo>
                    <a:lnTo>
                      <a:pt x="59" y="17"/>
                    </a:lnTo>
                    <a:lnTo>
                      <a:pt x="52" y="21"/>
                    </a:lnTo>
                    <a:lnTo>
                      <a:pt x="43" y="23"/>
                    </a:lnTo>
                    <a:lnTo>
                      <a:pt x="34" y="25"/>
                    </a:lnTo>
                    <a:lnTo>
                      <a:pt x="24" y="25"/>
                    </a:lnTo>
                    <a:lnTo>
                      <a:pt x="16" y="26"/>
                    </a:lnTo>
                    <a:lnTo>
                      <a:pt x="7" y="26"/>
                    </a:lnTo>
                    <a:lnTo>
                      <a:pt x="0" y="27"/>
                    </a:lnTo>
                    <a:lnTo>
                      <a:pt x="2" y="17"/>
                    </a:lnTo>
                    <a:lnTo>
                      <a:pt x="11" y="11"/>
                    </a:lnTo>
                    <a:lnTo>
                      <a:pt x="21" y="5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50" y="2"/>
                    </a:lnTo>
                    <a:lnTo>
                      <a:pt x="58" y="6"/>
                    </a:lnTo>
                    <a:lnTo>
                      <a:pt x="6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4620960" y="248436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9"/>
                    </a:moveTo>
                    <a:lnTo>
                      <a:pt x="47" y="17"/>
                    </a:lnTo>
                    <a:lnTo>
                      <a:pt x="37" y="26"/>
                    </a:lnTo>
                    <a:lnTo>
                      <a:pt x="31" y="28"/>
                    </a:lnTo>
                    <a:lnTo>
                      <a:pt x="23" y="31"/>
                    </a:lnTo>
                    <a:lnTo>
                      <a:pt x="15" y="32"/>
                    </a:lnTo>
                    <a:lnTo>
                      <a:pt x="7" y="33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4" y="7"/>
                    </a:lnTo>
                    <a:lnTo>
                      <a:pt x="11" y="4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0"/>
                    </a:lnTo>
                    <a:lnTo>
                      <a:pt x="46" y="2"/>
                    </a:lnTo>
                    <a:lnTo>
                      <a:pt x="52" y="4"/>
                    </a:lnTo>
                    <a:lnTo>
                      <a:pt x="5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4550040" y="3466800"/>
                <a:ext cx="138960" cy="169560"/>
              </a:xfrm>
              <a:custGeom>
                <a:avLst/>
                <a:gdLst/>
                <a:ahLst/>
                <a:rect l="l" t="t" r="r" b="b"/>
                <a:pathLst>
                  <a:path w="534" h="627">
                    <a:moveTo>
                      <a:pt x="222" y="111"/>
                    </a:moveTo>
                    <a:lnTo>
                      <a:pt x="215" y="139"/>
                    </a:lnTo>
                    <a:lnTo>
                      <a:pt x="212" y="168"/>
                    </a:lnTo>
                    <a:lnTo>
                      <a:pt x="211" y="196"/>
                    </a:lnTo>
                    <a:lnTo>
                      <a:pt x="215" y="225"/>
                    </a:lnTo>
                    <a:lnTo>
                      <a:pt x="221" y="251"/>
                    </a:lnTo>
                    <a:lnTo>
                      <a:pt x="233" y="277"/>
                    </a:lnTo>
                    <a:lnTo>
                      <a:pt x="253" y="299"/>
                    </a:lnTo>
                    <a:lnTo>
                      <a:pt x="279" y="320"/>
                    </a:lnTo>
                    <a:lnTo>
                      <a:pt x="297" y="361"/>
                    </a:lnTo>
                    <a:lnTo>
                      <a:pt x="316" y="406"/>
                    </a:lnTo>
                    <a:lnTo>
                      <a:pt x="332" y="452"/>
                    </a:lnTo>
                    <a:lnTo>
                      <a:pt x="351" y="498"/>
                    </a:lnTo>
                    <a:lnTo>
                      <a:pt x="377" y="536"/>
                    </a:lnTo>
                    <a:lnTo>
                      <a:pt x="414" y="566"/>
                    </a:lnTo>
                    <a:lnTo>
                      <a:pt x="463" y="586"/>
                    </a:lnTo>
                    <a:lnTo>
                      <a:pt x="530" y="593"/>
                    </a:lnTo>
                    <a:lnTo>
                      <a:pt x="534" y="594"/>
                    </a:lnTo>
                    <a:lnTo>
                      <a:pt x="534" y="598"/>
                    </a:lnTo>
                    <a:lnTo>
                      <a:pt x="532" y="603"/>
                    </a:lnTo>
                    <a:lnTo>
                      <a:pt x="530" y="609"/>
                    </a:lnTo>
                    <a:lnTo>
                      <a:pt x="525" y="614"/>
                    </a:lnTo>
                    <a:lnTo>
                      <a:pt x="521" y="620"/>
                    </a:lnTo>
                    <a:lnTo>
                      <a:pt x="516" y="625"/>
                    </a:lnTo>
                    <a:lnTo>
                      <a:pt x="514" y="627"/>
                    </a:lnTo>
                    <a:lnTo>
                      <a:pt x="498" y="627"/>
                    </a:lnTo>
                    <a:lnTo>
                      <a:pt x="479" y="627"/>
                    </a:lnTo>
                    <a:lnTo>
                      <a:pt x="462" y="626"/>
                    </a:lnTo>
                    <a:lnTo>
                      <a:pt x="445" y="624"/>
                    </a:lnTo>
                    <a:lnTo>
                      <a:pt x="427" y="617"/>
                    </a:lnTo>
                    <a:lnTo>
                      <a:pt x="412" y="611"/>
                    </a:lnTo>
                    <a:lnTo>
                      <a:pt x="401" y="600"/>
                    </a:lnTo>
                    <a:lnTo>
                      <a:pt x="394" y="587"/>
                    </a:lnTo>
                    <a:lnTo>
                      <a:pt x="390" y="583"/>
                    </a:lnTo>
                    <a:lnTo>
                      <a:pt x="381" y="578"/>
                    </a:lnTo>
                    <a:lnTo>
                      <a:pt x="367" y="570"/>
                    </a:lnTo>
                    <a:lnTo>
                      <a:pt x="353" y="563"/>
                    </a:lnTo>
                    <a:lnTo>
                      <a:pt x="338" y="554"/>
                    </a:lnTo>
                    <a:lnTo>
                      <a:pt x="326" y="548"/>
                    </a:lnTo>
                    <a:lnTo>
                      <a:pt x="316" y="544"/>
                    </a:lnTo>
                    <a:lnTo>
                      <a:pt x="313" y="543"/>
                    </a:lnTo>
                    <a:lnTo>
                      <a:pt x="266" y="516"/>
                    </a:lnTo>
                    <a:lnTo>
                      <a:pt x="232" y="477"/>
                    </a:lnTo>
                    <a:lnTo>
                      <a:pt x="206" y="430"/>
                    </a:lnTo>
                    <a:lnTo>
                      <a:pt x="184" y="382"/>
                    </a:lnTo>
                    <a:lnTo>
                      <a:pt x="157" y="336"/>
                    </a:lnTo>
                    <a:lnTo>
                      <a:pt x="127" y="299"/>
                    </a:lnTo>
                    <a:lnTo>
                      <a:pt x="87" y="276"/>
                    </a:lnTo>
                    <a:lnTo>
                      <a:pt x="34" y="273"/>
                    </a:lnTo>
                    <a:lnTo>
                      <a:pt x="23" y="270"/>
                    </a:lnTo>
                    <a:lnTo>
                      <a:pt x="12" y="264"/>
                    </a:lnTo>
                    <a:lnTo>
                      <a:pt x="3" y="256"/>
                    </a:lnTo>
                    <a:lnTo>
                      <a:pt x="0" y="248"/>
                    </a:lnTo>
                    <a:lnTo>
                      <a:pt x="4" y="216"/>
                    </a:lnTo>
                    <a:lnTo>
                      <a:pt x="16" y="186"/>
                    </a:lnTo>
                    <a:lnTo>
                      <a:pt x="34" y="156"/>
                    </a:lnTo>
                    <a:lnTo>
                      <a:pt x="57" y="129"/>
                    </a:lnTo>
                    <a:lnTo>
                      <a:pt x="78" y="100"/>
                    </a:lnTo>
                    <a:lnTo>
                      <a:pt x="99" y="72"/>
                    </a:lnTo>
                    <a:lnTo>
                      <a:pt x="119" y="43"/>
                    </a:lnTo>
                    <a:lnTo>
                      <a:pt x="132" y="15"/>
                    </a:lnTo>
                    <a:lnTo>
                      <a:pt x="138" y="5"/>
                    </a:lnTo>
                    <a:lnTo>
                      <a:pt x="148" y="1"/>
                    </a:lnTo>
                    <a:lnTo>
                      <a:pt x="159" y="0"/>
                    </a:lnTo>
                    <a:lnTo>
                      <a:pt x="175" y="2"/>
                    </a:lnTo>
                    <a:lnTo>
                      <a:pt x="189" y="4"/>
                    </a:lnTo>
                    <a:lnTo>
                      <a:pt x="202" y="7"/>
                    </a:lnTo>
                    <a:lnTo>
                      <a:pt x="213" y="12"/>
                    </a:lnTo>
                    <a:lnTo>
                      <a:pt x="222" y="15"/>
                    </a:lnTo>
                    <a:lnTo>
                      <a:pt x="222" y="111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735800" y="3565080"/>
                <a:ext cx="102600" cy="129960"/>
              </a:xfrm>
              <a:custGeom>
                <a:avLst/>
                <a:gdLst/>
                <a:ahLst/>
                <a:rect l="l" t="t" r="r" b="b"/>
                <a:pathLst>
                  <a:path w="396" h="482">
                    <a:moveTo>
                      <a:pt x="260" y="213"/>
                    </a:moveTo>
                    <a:lnTo>
                      <a:pt x="257" y="240"/>
                    </a:lnTo>
                    <a:lnTo>
                      <a:pt x="257" y="268"/>
                    </a:lnTo>
                    <a:lnTo>
                      <a:pt x="257" y="295"/>
                    </a:lnTo>
                    <a:lnTo>
                      <a:pt x="258" y="324"/>
                    </a:lnTo>
                    <a:lnTo>
                      <a:pt x="257" y="351"/>
                    </a:lnTo>
                    <a:lnTo>
                      <a:pt x="253" y="381"/>
                    </a:lnTo>
                    <a:lnTo>
                      <a:pt x="246" y="408"/>
                    </a:lnTo>
                    <a:lnTo>
                      <a:pt x="234" y="437"/>
                    </a:lnTo>
                    <a:lnTo>
                      <a:pt x="225" y="433"/>
                    </a:lnTo>
                    <a:lnTo>
                      <a:pt x="217" y="429"/>
                    </a:lnTo>
                    <a:lnTo>
                      <a:pt x="210" y="424"/>
                    </a:lnTo>
                    <a:lnTo>
                      <a:pt x="204" y="419"/>
                    </a:lnTo>
                    <a:lnTo>
                      <a:pt x="195" y="414"/>
                    </a:lnTo>
                    <a:lnTo>
                      <a:pt x="188" y="411"/>
                    </a:lnTo>
                    <a:lnTo>
                      <a:pt x="179" y="409"/>
                    </a:lnTo>
                    <a:lnTo>
                      <a:pt x="169" y="410"/>
                    </a:lnTo>
                    <a:lnTo>
                      <a:pt x="146" y="415"/>
                    </a:lnTo>
                    <a:lnTo>
                      <a:pt x="126" y="425"/>
                    </a:lnTo>
                    <a:lnTo>
                      <a:pt x="105" y="438"/>
                    </a:lnTo>
                    <a:lnTo>
                      <a:pt x="87" y="453"/>
                    </a:lnTo>
                    <a:lnTo>
                      <a:pt x="67" y="467"/>
                    </a:lnTo>
                    <a:lnTo>
                      <a:pt x="47" y="477"/>
                    </a:lnTo>
                    <a:lnTo>
                      <a:pt x="26" y="482"/>
                    </a:lnTo>
                    <a:lnTo>
                      <a:pt x="5" y="480"/>
                    </a:lnTo>
                    <a:lnTo>
                      <a:pt x="0" y="477"/>
                    </a:lnTo>
                    <a:lnTo>
                      <a:pt x="3" y="474"/>
                    </a:lnTo>
                    <a:lnTo>
                      <a:pt x="8" y="471"/>
                    </a:lnTo>
                    <a:lnTo>
                      <a:pt x="16" y="469"/>
                    </a:lnTo>
                    <a:lnTo>
                      <a:pt x="24" y="465"/>
                    </a:lnTo>
                    <a:lnTo>
                      <a:pt x="31" y="460"/>
                    </a:lnTo>
                    <a:lnTo>
                      <a:pt x="37" y="455"/>
                    </a:lnTo>
                    <a:lnTo>
                      <a:pt x="42" y="450"/>
                    </a:lnTo>
                    <a:lnTo>
                      <a:pt x="50" y="432"/>
                    </a:lnTo>
                    <a:lnTo>
                      <a:pt x="61" y="414"/>
                    </a:lnTo>
                    <a:lnTo>
                      <a:pt x="74" y="393"/>
                    </a:lnTo>
                    <a:lnTo>
                      <a:pt x="90" y="371"/>
                    </a:lnTo>
                    <a:lnTo>
                      <a:pt x="106" y="343"/>
                    </a:lnTo>
                    <a:lnTo>
                      <a:pt x="124" y="315"/>
                    </a:lnTo>
                    <a:lnTo>
                      <a:pt x="137" y="280"/>
                    </a:lnTo>
                    <a:lnTo>
                      <a:pt x="149" y="242"/>
                    </a:lnTo>
                    <a:lnTo>
                      <a:pt x="156" y="210"/>
                    </a:lnTo>
                    <a:lnTo>
                      <a:pt x="167" y="179"/>
                    </a:lnTo>
                    <a:lnTo>
                      <a:pt x="180" y="149"/>
                    </a:lnTo>
                    <a:lnTo>
                      <a:pt x="196" y="121"/>
                    </a:lnTo>
                    <a:lnTo>
                      <a:pt x="213" y="93"/>
                    </a:lnTo>
                    <a:lnTo>
                      <a:pt x="236" y="66"/>
                    </a:lnTo>
                    <a:lnTo>
                      <a:pt x="259" y="38"/>
                    </a:lnTo>
                    <a:lnTo>
                      <a:pt x="285" y="12"/>
                    </a:lnTo>
                    <a:lnTo>
                      <a:pt x="303" y="3"/>
                    </a:lnTo>
                    <a:lnTo>
                      <a:pt x="321" y="0"/>
                    </a:lnTo>
                    <a:lnTo>
                      <a:pt x="335" y="0"/>
                    </a:lnTo>
                    <a:lnTo>
                      <a:pt x="351" y="6"/>
                    </a:lnTo>
                    <a:lnTo>
                      <a:pt x="365" y="12"/>
                    </a:lnTo>
                    <a:lnTo>
                      <a:pt x="377" y="23"/>
                    </a:lnTo>
                    <a:lnTo>
                      <a:pt x="387" y="35"/>
                    </a:lnTo>
                    <a:lnTo>
                      <a:pt x="396" y="51"/>
                    </a:lnTo>
                    <a:lnTo>
                      <a:pt x="396" y="74"/>
                    </a:lnTo>
                    <a:lnTo>
                      <a:pt x="385" y="94"/>
                    </a:lnTo>
                    <a:lnTo>
                      <a:pt x="364" y="112"/>
                    </a:lnTo>
                    <a:lnTo>
                      <a:pt x="340" y="130"/>
                    </a:lnTo>
                    <a:lnTo>
                      <a:pt x="314" y="146"/>
                    </a:lnTo>
                    <a:lnTo>
                      <a:pt x="290" y="166"/>
                    </a:lnTo>
                    <a:lnTo>
                      <a:pt x="270" y="187"/>
                    </a:lnTo>
                    <a:lnTo>
                      <a:pt x="260" y="213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553640" y="361368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1" y="9"/>
                    </a:moveTo>
                    <a:lnTo>
                      <a:pt x="55" y="19"/>
                    </a:lnTo>
                    <a:lnTo>
                      <a:pt x="46" y="18"/>
                    </a:lnTo>
                    <a:lnTo>
                      <a:pt x="39" y="17"/>
                    </a:lnTo>
                    <a:lnTo>
                      <a:pt x="30" y="15"/>
                    </a:lnTo>
                    <a:lnTo>
                      <a:pt x="21" y="14"/>
                    </a:lnTo>
                    <a:lnTo>
                      <a:pt x="13" y="11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3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4814280" y="3657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13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821840" y="367308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790160" y="3681360"/>
                <a:ext cx="21240" cy="10440"/>
              </a:xfrm>
              <a:custGeom>
                <a:avLst/>
                <a:gdLst/>
                <a:ahLst/>
                <a:rect l="l" t="t" r="r" b="b"/>
                <a:pathLst>
                  <a:path w="83" h="40">
                    <a:moveTo>
                      <a:pt x="8" y="39"/>
                    </a:moveTo>
                    <a:lnTo>
                      <a:pt x="0" y="36"/>
                    </a:lnTo>
                    <a:lnTo>
                      <a:pt x="3" y="30"/>
                    </a:lnTo>
                    <a:lnTo>
                      <a:pt x="11" y="24"/>
                    </a:lnTo>
                    <a:lnTo>
                      <a:pt x="24" y="18"/>
                    </a:lnTo>
                    <a:lnTo>
                      <a:pt x="35" y="12"/>
                    </a:lnTo>
                    <a:lnTo>
                      <a:pt x="47" y="7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9" y="0"/>
                    </a:lnTo>
                    <a:lnTo>
                      <a:pt x="79" y="2"/>
                    </a:lnTo>
                    <a:lnTo>
                      <a:pt x="83" y="7"/>
                    </a:lnTo>
                    <a:lnTo>
                      <a:pt x="81" y="16"/>
                    </a:lnTo>
                    <a:lnTo>
                      <a:pt x="78" y="22"/>
                    </a:lnTo>
                    <a:lnTo>
                      <a:pt x="69" y="29"/>
                    </a:lnTo>
                    <a:lnTo>
                      <a:pt x="60" y="32"/>
                    </a:lnTo>
                    <a:lnTo>
                      <a:pt x="51" y="37"/>
                    </a:lnTo>
                    <a:lnTo>
                      <a:pt x="40" y="39"/>
                    </a:lnTo>
                    <a:lnTo>
                      <a:pt x="28" y="40"/>
                    </a:lnTo>
                    <a:lnTo>
                      <a:pt x="17" y="39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518360" y="2347920"/>
                <a:ext cx="295560" cy="66960"/>
              </a:xfrm>
              <a:custGeom>
                <a:avLst/>
                <a:gdLst/>
                <a:ahLst/>
                <a:rect l="l" t="t" r="r" b="b"/>
                <a:pathLst>
                  <a:path w="1133" h="248">
                    <a:moveTo>
                      <a:pt x="547" y="42"/>
                    </a:moveTo>
                    <a:lnTo>
                      <a:pt x="660" y="24"/>
                    </a:lnTo>
                    <a:lnTo>
                      <a:pt x="767" y="11"/>
                    </a:lnTo>
                    <a:lnTo>
                      <a:pt x="866" y="3"/>
                    </a:lnTo>
                    <a:lnTo>
                      <a:pt x="952" y="0"/>
                    </a:lnTo>
                    <a:lnTo>
                      <a:pt x="1023" y="0"/>
                    </a:lnTo>
                    <a:lnTo>
                      <a:pt x="1080" y="6"/>
                    </a:lnTo>
                    <a:lnTo>
                      <a:pt x="1117" y="16"/>
                    </a:lnTo>
                    <a:lnTo>
                      <a:pt x="1133" y="32"/>
                    </a:lnTo>
                    <a:lnTo>
                      <a:pt x="1124" y="49"/>
                    </a:lnTo>
                    <a:lnTo>
                      <a:pt x="1095" y="71"/>
                    </a:lnTo>
                    <a:lnTo>
                      <a:pt x="1046" y="92"/>
                    </a:lnTo>
                    <a:lnTo>
                      <a:pt x="980" y="115"/>
                    </a:lnTo>
                    <a:lnTo>
                      <a:pt x="898" y="139"/>
                    </a:lnTo>
                    <a:lnTo>
                      <a:pt x="804" y="162"/>
                    </a:lnTo>
                    <a:lnTo>
                      <a:pt x="698" y="185"/>
                    </a:lnTo>
                    <a:lnTo>
                      <a:pt x="586" y="206"/>
                    </a:lnTo>
                    <a:lnTo>
                      <a:pt x="472" y="223"/>
                    </a:lnTo>
                    <a:lnTo>
                      <a:pt x="365" y="236"/>
                    </a:lnTo>
                    <a:lnTo>
                      <a:pt x="265" y="244"/>
                    </a:lnTo>
                    <a:lnTo>
                      <a:pt x="180" y="248"/>
                    </a:lnTo>
                    <a:lnTo>
                      <a:pt x="106" y="247"/>
                    </a:lnTo>
                    <a:lnTo>
                      <a:pt x="51" y="242"/>
                    </a:lnTo>
                    <a:lnTo>
                      <a:pt x="14" y="233"/>
                    </a:lnTo>
                    <a:lnTo>
                      <a:pt x="0" y="220"/>
                    </a:lnTo>
                    <a:lnTo>
                      <a:pt x="6" y="200"/>
                    </a:lnTo>
                    <a:lnTo>
                      <a:pt x="36" y="179"/>
                    </a:lnTo>
                    <a:lnTo>
                      <a:pt x="85" y="155"/>
                    </a:lnTo>
                    <a:lnTo>
                      <a:pt x="152" y="133"/>
                    </a:lnTo>
                    <a:lnTo>
                      <a:pt x="232" y="108"/>
                    </a:lnTo>
                    <a:lnTo>
                      <a:pt x="327" y="86"/>
                    </a:lnTo>
                    <a:lnTo>
                      <a:pt x="431" y="63"/>
                    </a:lnTo>
                    <a:lnTo>
                      <a:pt x="547" y="42"/>
                    </a:lnTo>
                    <a:close/>
                  </a:path>
                </a:pathLst>
              </a:custGeom>
              <a:solidFill>
                <a:srgbClr val="b0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609800" y="23166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460" h="265">
                    <a:moveTo>
                      <a:pt x="460" y="182"/>
                    </a:moveTo>
                    <a:lnTo>
                      <a:pt x="404" y="202"/>
                    </a:lnTo>
                    <a:lnTo>
                      <a:pt x="350" y="221"/>
                    </a:lnTo>
                    <a:lnTo>
                      <a:pt x="295" y="238"/>
                    </a:lnTo>
                    <a:lnTo>
                      <a:pt x="240" y="251"/>
                    </a:lnTo>
                    <a:lnTo>
                      <a:pt x="184" y="259"/>
                    </a:lnTo>
                    <a:lnTo>
                      <a:pt x="127" y="265"/>
                    </a:lnTo>
                    <a:lnTo>
                      <a:pt x="71" y="265"/>
                    </a:lnTo>
                    <a:lnTo>
                      <a:pt x="16" y="261"/>
                    </a:lnTo>
                    <a:lnTo>
                      <a:pt x="0" y="153"/>
                    </a:lnTo>
                    <a:lnTo>
                      <a:pt x="29" y="74"/>
                    </a:lnTo>
                    <a:lnTo>
                      <a:pt x="88" y="23"/>
                    </a:lnTo>
                    <a:lnTo>
                      <a:pt x="167" y="0"/>
                    </a:lnTo>
                    <a:lnTo>
                      <a:pt x="253" y="3"/>
                    </a:lnTo>
                    <a:lnTo>
                      <a:pt x="339" y="35"/>
                    </a:lnTo>
                    <a:lnTo>
                      <a:pt x="410" y="94"/>
                    </a:lnTo>
                    <a:lnTo>
                      <a:pt x="46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615200" y="2320560"/>
                <a:ext cx="111600" cy="68040"/>
              </a:xfrm>
              <a:custGeom>
                <a:avLst/>
                <a:gdLst/>
                <a:ahLst/>
                <a:rect l="l" t="t" r="r" b="b"/>
                <a:pathLst>
                  <a:path w="428" h="252">
                    <a:moveTo>
                      <a:pt x="428" y="173"/>
                    </a:moveTo>
                    <a:lnTo>
                      <a:pt x="376" y="191"/>
                    </a:lnTo>
                    <a:lnTo>
                      <a:pt x="325" y="209"/>
                    </a:lnTo>
                    <a:lnTo>
                      <a:pt x="274" y="224"/>
                    </a:lnTo>
                    <a:lnTo>
                      <a:pt x="223" y="237"/>
                    </a:lnTo>
                    <a:lnTo>
                      <a:pt x="170" y="245"/>
                    </a:lnTo>
                    <a:lnTo>
                      <a:pt x="119" y="251"/>
                    </a:lnTo>
                    <a:lnTo>
                      <a:pt x="67" y="252"/>
                    </a:lnTo>
                    <a:lnTo>
                      <a:pt x="14" y="249"/>
                    </a:lnTo>
                    <a:lnTo>
                      <a:pt x="0" y="146"/>
                    </a:lnTo>
                    <a:lnTo>
                      <a:pt x="26" y="71"/>
                    </a:lnTo>
                    <a:lnTo>
                      <a:pt x="82" y="22"/>
                    </a:lnTo>
                    <a:lnTo>
                      <a:pt x="156" y="0"/>
                    </a:lnTo>
                    <a:lnTo>
                      <a:pt x="236" y="2"/>
                    </a:lnTo>
                    <a:lnTo>
                      <a:pt x="317" y="33"/>
                    </a:lnTo>
                    <a:lnTo>
                      <a:pt x="383" y="89"/>
                    </a:lnTo>
                    <a:lnTo>
                      <a:pt x="428" y="173"/>
                    </a:lnTo>
                    <a:close/>
                  </a:path>
                </a:pathLst>
              </a:custGeom>
              <a:solidFill>
                <a:srgbClr val="009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610880" y="23432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46" h="73">
                    <a:moveTo>
                      <a:pt x="24" y="0"/>
                    </a:moveTo>
                    <a:lnTo>
                      <a:pt x="31" y="2"/>
                    </a:lnTo>
                    <a:lnTo>
                      <a:pt x="39" y="10"/>
                    </a:lnTo>
                    <a:lnTo>
                      <a:pt x="40" y="15"/>
                    </a:lnTo>
                    <a:lnTo>
                      <a:pt x="42" y="21"/>
                    </a:lnTo>
                    <a:lnTo>
                      <a:pt x="45" y="28"/>
                    </a:lnTo>
                    <a:lnTo>
                      <a:pt x="46" y="37"/>
                    </a:lnTo>
                    <a:lnTo>
                      <a:pt x="45" y="44"/>
                    </a:lnTo>
                    <a:lnTo>
                      <a:pt x="42" y="51"/>
                    </a:lnTo>
                    <a:lnTo>
                      <a:pt x="40" y="56"/>
                    </a:lnTo>
                    <a:lnTo>
                      <a:pt x="39" y="62"/>
                    </a:lnTo>
                    <a:lnTo>
                      <a:pt x="31" y="70"/>
                    </a:lnTo>
                    <a:lnTo>
                      <a:pt x="24" y="73"/>
                    </a:lnTo>
                    <a:lnTo>
                      <a:pt x="14" y="70"/>
                    </a:lnTo>
                    <a:lnTo>
                      <a:pt x="8" y="62"/>
                    </a:lnTo>
                    <a:lnTo>
                      <a:pt x="4" y="56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28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8" y="10"/>
                    </a:lnTo>
                    <a:lnTo>
                      <a:pt x="1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656240" y="2365920"/>
                <a:ext cx="7920" cy="1656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18" y="0"/>
                    </a:moveTo>
                    <a:lnTo>
                      <a:pt x="24" y="2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42"/>
                    </a:lnTo>
                    <a:lnTo>
                      <a:pt x="30" y="47"/>
                    </a:lnTo>
                    <a:lnTo>
                      <a:pt x="29" y="54"/>
                    </a:lnTo>
                    <a:lnTo>
                      <a:pt x="24" y="60"/>
                    </a:lnTo>
                    <a:lnTo>
                      <a:pt x="18" y="63"/>
                    </a:lnTo>
                    <a:lnTo>
                      <a:pt x="9" y="60"/>
                    </a:lnTo>
                    <a:lnTo>
                      <a:pt x="4" y="54"/>
                    </a:lnTo>
                    <a:lnTo>
                      <a:pt x="2" y="47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609800" y="23637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46" h="74">
                    <a:moveTo>
                      <a:pt x="25" y="74"/>
                    </a:moveTo>
                    <a:lnTo>
                      <a:pt x="32" y="71"/>
                    </a:lnTo>
                    <a:lnTo>
                      <a:pt x="38" y="63"/>
                    </a:lnTo>
                    <a:lnTo>
                      <a:pt x="41" y="56"/>
                    </a:lnTo>
                    <a:lnTo>
                      <a:pt x="43" y="51"/>
                    </a:lnTo>
                    <a:lnTo>
                      <a:pt x="44" y="44"/>
                    </a:lnTo>
                    <a:lnTo>
                      <a:pt x="46" y="37"/>
                    </a:lnTo>
                    <a:lnTo>
                      <a:pt x="44" y="29"/>
                    </a:lnTo>
                    <a:lnTo>
                      <a:pt x="43" y="22"/>
                    </a:lnTo>
                    <a:lnTo>
                      <a:pt x="41" y="16"/>
                    </a:lnTo>
                    <a:lnTo>
                      <a:pt x="38" y="11"/>
                    </a:lnTo>
                    <a:lnTo>
                      <a:pt x="32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44"/>
                    </a:lnTo>
                    <a:lnTo>
                      <a:pt x="1" y="51"/>
                    </a:lnTo>
                    <a:lnTo>
                      <a:pt x="4" y="56"/>
                    </a:lnTo>
                    <a:lnTo>
                      <a:pt x="7" y="63"/>
                    </a:lnTo>
                    <a:lnTo>
                      <a:pt x="15" y="71"/>
                    </a:lnTo>
                    <a:lnTo>
                      <a:pt x="25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4654800" y="2382480"/>
                <a:ext cx="9000" cy="16560"/>
              </a:xfrm>
              <a:custGeom>
                <a:avLst/>
                <a:gdLst/>
                <a:ahLst/>
                <a:rect l="l" t="t" r="r" b="b"/>
                <a:pathLst>
                  <a:path w="37" h="60">
                    <a:moveTo>
                      <a:pt x="21" y="60"/>
                    </a:moveTo>
                    <a:lnTo>
                      <a:pt x="26" y="57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5" y="41"/>
                    </a:lnTo>
                    <a:lnTo>
                      <a:pt x="36" y="34"/>
                    </a:lnTo>
                    <a:lnTo>
                      <a:pt x="37" y="29"/>
                    </a:lnTo>
                    <a:lnTo>
                      <a:pt x="36" y="23"/>
                    </a:lnTo>
                    <a:lnTo>
                      <a:pt x="35" y="17"/>
                    </a:lnTo>
                    <a:lnTo>
                      <a:pt x="32" y="11"/>
                    </a:lnTo>
                    <a:lnTo>
                      <a:pt x="31" y="8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2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4591800" y="23522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0" y="35"/>
                    </a:moveTo>
                    <a:lnTo>
                      <a:pt x="0" y="26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9" y="10"/>
                    </a:lnTo>
                    <a:lnTo>
                      <a:pt x="26" y="7"/>
                    </a:lnTo>
                    <a:lnTo>
                      <a:pt x="34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6" y="1"/>
                    </a:lnTo>
                    <a:lnTo>
                      <a:pt x="78" y="3"/>
                    </a:lnTo>
                    <a:lnTo>
                      <a:pt x="88" y="9"/>
                    </a:lnTo>
                    <a:lnTo>
                      <a:pt x="87" y="16"/>
                    </a:lnTo>
                    <a:lnTo>
                      <a:pt x="79" y="24"/>
                    </a:lnTo>
                    <a:lnTo>
                      <a:pt x="72" y="27"/>
                    </a:lnTo>
                    <a:lnTo>
                      <a:pt x="66" y="31"/>
                    </a:lnTo>
                    <a:lnTo>
                      <a:pt x="57" y="34"/>
                    </a:lnTo>
                    <a:lnTo>
                      <a:pt x="50" y="38"/>
                    </a:lnTo>
                    <a:lnTo>
                      <a:pt x="41" y="39"/>
                    </a:lnTo>
                    <a:lnTo>
                      <a:pt x="34" y="42"/>
                    </a:lnTo>
                    <a:lnTo>
                      <a:pt x="26" y="42"/>
                    </a:lnTo>
                    <a:lnTo>
                      <a:pt x="19" y="43"/>
                    </a:lnTo>
                    <a:lnTo>
                      <a:pt x="5" y="3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639680" y="23734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71" h="36">
                    <a:moveTo>
                      <a:pt x="1" y="32"/>
                    </a:moveTo>
                    <a:lnTo>
                      <a:pt x="0" y="24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29" y="4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1" y="8"/>
                    </a:lnTo>
                    <a:lnTo>
                      <a:pt x="70" y="13"/>
                    </a:lnTo>
                    <a:lnTo>
                      <a:pt x="65" y="19"/>
                    </a:lnTo>
                    <a:lnTo>
                      <a:pt x="60" y="23"/>
                    </a:lnTo>
                    <a:lnTo>
                      <a:pt x="55" y="26"/>
                    </a:lnTo>
                    <a:lnTo>
                      <a:pt x="48" y="29"/>
                    </a:lnTo>
                    <a:lnTo>
                      <a:pt x="42" y="32"/>
                    </a:lnTo>
                    <a:lnTo>
                      <a:pt x="33" y="33"/>
                    </a:lnTo>
                    <a:lnTo>
                      <a:pt x="26" y="35"/>
                    </a:lnTo>
                    <a:lnTo>
                      <a:pt x="19" y="35"/>
                    </a:lnTo>
                    <a:lnTo>
                      <a:pt x="14" y="36"/>
                    </a:lnTo>
                    <a:lnTo>
                      <a:pt x="5" y="35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618080" y="235404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82" y="36"/>
                    </a:moveTo>
                    <a:lnTo>
                      <a:pt x="81" y="27"/>
                    </a:lnTo>
                    <a:lnTo>
                      <a:pt x="76" y="19"/>
                    </a:lnTo>
                    <a:lnTo>
                      <a:pt x="70" y="14"/>
                    </a:lnTo>
                    <a:lnTo>
                      <a:pt x="65" y="11"/>
                    </a:lnTo>
                    <a:lnTo>
                      <a:pt x="58" y="8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31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6" y="3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6" y="23"/>
                    </a:lnTo>
                    <a:lnTo>
                      <a:pt x="10" y="27"/>
                    </a:lnTo>
                    <a:lnTo>
                      <a:pt x="16" y="31"/>
                    </a:lnTo>
                    <a:lnTo>
                      <a:pt x="23" y="34"/>
                    </a:lnTo>
                    <a:lnTo>
                      <a:pt x="33" y="39"/>
                    </a:lnTo>
                    <a:lnTo>
                      <a:pt x="40" y="40"/>
                    </a:lnTo>
                    <a:lnTo>
                      <a:pt x="50" y="42"/>
                    </a:lnTo>
                    <a:lnTo>
                      <a:pt x="58" y="42"/>
                    </a:lnTo>
                    <a:lnTo>
                      <a:pt x="65" y="44"/>
                    </a:lnTo>
                    <a:lnTo>
                      <a:pt x="75" y="41"/>
                    </a:lnTo>
                    <a:lnTo>
                      <a:pt x="8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671000" y="2365920"/>
                <a:ext cx="46800" cy="18360"/>
              </a:xfrm>
              <a:custGeom>
                <a:avLst/>
                <a:gdLst/>
                <a:ahLst/>
                <a:rect l="l" t="t" r="r" b="b"/>
                <a:pathLst>
                  <a:path w="181" h="69">
                    <a:moveTo>
                      <a:pt x="181" y="42"/>
                    </a:moveTo>
                    <a:lnTo>
                      <a:pt x="179" y="26"/>
                    </a:lnTo>
                    <a:lnTo>
                      <a:pt x="163" y="16"/>
                    </a:lnTo>
                    <a:lnTo>
                      <a:pt x="136" y="8"/>
                    </a:lnTo>
                    <a:lnTo>
                      <a:pt x="106" y="4"/>
                    </a:lnTo>
                    <a:lnTo>
                      <a:pt x="70" y="1"/>
                    </a:lnTo>
                    <a:lnTo>
                      <a:pt x="3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8" y="10"/>
                    </a:lnTo>
                    <a:lnTo>
                      <a:pt x="21" y="20"/>
                    </a:lnTo>
                    <a:lnTo>
                      <a:pt x="38" y="32"/>
                    </a:lnTo>
                    <a:lnTo>
                      <a:pt x="55" y="44"/>
                    </a:lnTo>
                    <a:lnTo>
                      <a:pt x="75" y="56"/>
                    </a:lnTo>
                    <a:lnTo>
                      <a:pt x="93" y="64"/>
                    </a:lnTo>
                    <a:lnTo>
                      <a:pt x="110" y="69"/>
                    </a:lnTo>
                    <a:lnTo>
                      <a:pt x="122" y="69"/>
                    </a:lnTo>
                    <a:lnTo>
                      <a:pt x="133" y="69"/>
                    </a:lnTo>
                    <a:lnTo>
                      <a:pt x="142" y="68"/>
                    </a:lnTo>
                    <a:lnTo>
                      <a:pt x="152" y="66"/>
                    </a:lnTo>
                    <a:lnTo>
                      <a:pt x="161" y="62"/>
                    </a:lnTo>
                    <a:lnTo>
                      <a:pt x="168" y="57"/>
                    </a:lnTo>
                    <a:lnTo>
                      <a:pt x="175" y="49"/>
                    </a:lnTo>
                    <a:lnTo>
                      <a:pt x="181" y="42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665600" y="23875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129" h="79">
                    <a:moveTo>
                      <a:pt x="126" y="15"/>
                    </a:moveTo>
                    <a:lnTo>
                      <a:pt x="129" y="27"/>
                    </a:lnTo>
                    <a:lnTo>
                      <a:pt x="120" y="38"/>
                    </a:lnTo>
                    <a:lnTo>
                      <a:pt x="103" y="48"/>
                    </a:lnTo>
                    <a:lnTo>
                      <a:pt x="80" y="58"/>
                    </a:lnTo>
                    <a:lnTo>
                      <a:pt x="54" y="65"/>
                    </a:lnTo>
                    <a:lnTo>
                      <a:pt x="30" y="72"/>
                    </a:lnTo>
                    <a:lnTo>
                      <a:pt x="9" y="76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3" y="70"/>
                    </a:lnTo>
                    <a:lnTo>
                      <a:pt x="9" y="59"/>
                    </a:lnTo>
                    <a:lnTo>
                      <a:pt x="20" y="48"/>
                    </a:lnTo>
                    <a:lnTo>
                      <a:pt x="30" y="35"/>
                    </a:lnTo>
                    <a:lnTo>
                      <a:pt x="41" y="23"/>
                    </a:lnTo>
                    <a:lnTo>
                      <a:pt x="52" y="12"/>
                    </a:lnTo>
                    <a:lnTo>
                      <a:pt x="65" y="6"/>
                    </a:lnTo>
                    <a:lnTo>
                      <a:pt x="73" y="3"/>
                    </a:lnTo>
                    <a:lnTo>
                      <a:pt x="83" y="1"/>
                    </a:lnTo>
                    <a:lnTo>
                      <a:pt x="91" y="0"/>
                    </a:lnTo>
                    <a:lnTo>
                      <a:pt x="99" y="1"/>
                    </a:lnTo>
                    <a:lnTo>
                      <a:pt x="105" y="2"/>
                    </a:lnTo>
                    <a:lnTo>
                      <a:pt x="113" y="5"/>
                    </a:lnTo>
                    <a:lnTo>
                      <a:pt x="119" y="9"/>
                    </a:lnTo>
                    <a:lnTo>
                      <a:pt x="126" y="15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564440" y="23522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133" h="69">
                    <a:moveTo>
                      <a:pt x="3" y="51"/>
                    </a:moveTo>
                    <a:lnTo>
                      <a:pt x="0" y="36"/>
                    </a:lnTo>
                    <a:lnTo>
                      <a:pt x="9" y="27"/>
                    </a:lnTo>
                    <a:lnTo>
                      <a:pt x="28" y="19"/>
                    </a:lnTo>
                    <a:lnTo>
                      <a:pt x="52" y="13"/>
                    </a:lnTo>
                    <a:lnTo>
                      <a:pt x="77" y="7"/>
                    </a:lnTo>
                    <a:lnTo>
                      <a:pt x="103" y="3"/>
                    </a:lnTo>
                    <a:lnTo>
                      <a:pt x="121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27" y="6"/>
                    </a:lnTo>
                    <a:lnTo>
                      <a:pt x="120" y="15"/>
                    </a:lnTo>
                    <a:lnTo>
                      <a:pt x="110" y="27"/>
                    </a:lnTo>
                    <a:lnTo>
                      <a:pt x="98" y="38"/>
                    </a:lnTo>
                    <a:lnTo>
                      <a:pt x="85" y="51"/>
                    </a:lnTo>
                    <a:lnTo>
                      <a:pt x="71" y="60"/>
                    </a:lnTo>
                    <a:lnTo>
                      <a:pt x="61" y="67"/>
                    </a:lnTo>
                    <a:lnTo>
                      <a:pt x="51" y="68"/>
                    </a:lnTo>
                    <a:lnTo>
                      <a:pt x="42" y="69"/>
                    </a:lnTo>
                    <a:lnTo>
                      <a:pt x="34" y="69"/>
                    </a:lnTo>
                    <a:lnTo>
                      <a:pt x="26" y="68"/>
                    </a:lnTo>
                    <a:lnTo>
                      <a:pt x="19" y="65"/>
                    </a:lnTo>
                    <a:lnTo>
                      <a:pt x="12" y="62"/>
                    </a:lnTo>
                    <a:lnTo>
                      <a:pt x="5" y="56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662000" y="237456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70" y="30"/>
                    </a:moveTo>
                    <a:lnTo>
                      <a:pt x="70" y="23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6" y="9"/>
                    </a:lnTo>
                    <a:lnTo>
                      <a:pt x="48" y="6"/>
                    </a:lnTo>
                    <a:lnTo>
                      <a:pt x="42" y="3"/>
                    </a:lnTo>
                    <a:lnTo>
                      <a:pt x="35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5" y="21"/>
                    </a:lnTo>
                    <a:lnTo>
                      <a:pt x="14" y="27"/>
                    </a:lnTo>
                    <a:lnTo>
                      <a:pt x="26" y="33"/>
                    </a:lnTo>
                    <a:lnTo>
                      <a:pt x="32" y="34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54" y="37"/>
                    </a:lnTo>
                    <a:lnTo>
                      <a:pt x="64" y="35"/>
                    </a:lnTo>
                    <a:lnTo>
                      <a:pt x="7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4591800" y="2363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88" h="44">
                    <a:moveTo>
                      <a:pt x="88" y="37"/>
                    </a:moveTo>
                    <a:lnTo>
                      <a:pt x="87" y="28"/>
                    </a:lnTo>
                    <a:lnTo>
                      <a:pt x="79" y="20"/>
                    </a:lnTo>
                    <a:lnTo>
                      <a:pt x="72" y="16"/>
                    </a:lnTo>
                    <a:lnTo>
                      <a:pt x="66" y="12"/>
                    </a:lnTo>
                    <a:lnTo>
                      <a:pt x="57" y="8"/>
                    </a:lnTo>
                    <a:lnTo>
                      <a:pt x="50" y="6"/>
                    </a:lnTo>
                    <a:lnTo>
                      <a:pt x="41" y="3"/>
                    </a:lnTo>
                    <a:lnTo>
                      <a:pt x="34" y="1"/>
                    </a:lnTo>
                    <a:lnTo>
                      <a:pt x="26" y="0"/>
                    </a:lnTo>
                    <a:lnTo>
                      <a:pt x="19" y="1"/>
                    </a:lnTo>
                    <a:lnTo>
                      <a:pt x="5" y="4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9" y="34"/>
                    </a:lnTo>
                    <a:lnTo>
                      <a:pt x="26" y="37"/>
                    </a:lnTo>
                    <a:lnTo>
                      <a:pt x="34" y="40"/>
                    </a:lnTo>
                    <a:lnTo>
                      <a:pt x="42" y="41"/>
                    </a:lnTo>
                    <a:lnTo>
                      <a:pt x="51" y="43"/>
                    </a:lnTo>
                    <a:lnTo>
                      <a:pt x="58" y="43"/>
                    </a:lnTo>
                    <a:lnTo>
                      <a:pt x="66" y="44"/>
                    </a:lnTo>
                    <a:lnTo>
                      <a:pt x="78" y="42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639680" y="23821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28"/>
                    </a:moveTo>
                    <a:lnTo>
                      <a:pt x="70" y="22"/>
                    </a:lnTo>
                    <a:lnTo>
                      <a:pt x="65" y="16"/>
                    </a:lnTo>
                    <a:lnTo>
                      <a:pt x="60" y="13"/>
                    </a:lnTo>
                    <a:lnTo>
                      <a:pt x="55" y="10"/>
                    </a:lnTo>
                    <a:lnTo>
                      <a:pt x="48" y="7"/>
                    </a:lnTo>
                    <a:lnTo>
                      <a:pt x="42" y="5"/>
                    </a:lnTo>
                    <a:lnTo>
                      <a:pt x="33" y="2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5" y="1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6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2" y="28"/>
                    </a:lnTo>
                    <a:lnTo>
                      <a:pt x="29" y="31"/>
                    </a:lnTo>
                    <a:lnTo>
                      <a:pt x="40" y="34"/>
                    </a:lnTo>
                    <a:lnTo>
                      <a:pt x="54" y="35"/>
                    </a:lnTo>
                    <a:lnTo>
                      <a:pt x="64" y="33"/>
                    </a:lnTo>
                    <a:lnTo>
                      <a:pt x="7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618080" y="236484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1" y="36"/>
                    </a:moveTo>
                    <a:lnTo>
                      <a:pt x="0" y="28"/>
                    </a:lnTo>
                    <a:lnTo>
                      <a:pt x="6" y="20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23" y="9"/>
                    </a:lnTo>
                    <a:lnTo>
                      <a:pt x="33" y="7"/>
                    </a:lnTo>
                    <a:lnTo>
                      <a:pt x="40" y="4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5" y="1"/>
                    </a:lnTo>
                    <a:lnTo>
                      <a:pt x="82" y="7"/>
                    </a:lnTo>
                    <a:lnTo>
                      <a:pt x="81" y="14"/>
                    </a:lnTo>
                    <a:lnTo>
                      <a:pt x="76" y="23"/>
                    </a:lnTo>
                    <a:lnTo>
                      <a:pt x="70" y="27"/>
                    </a:lnTo>
                    <a:lnTo>
                      <a:pt x="65" y="31"/>
                    </a:lnTo>
                    <a:lnTo>
                      <a:pt x="58" y="35"/>
                    </a:lnTo>
                    <a:lnTo>
                      <a:pt x="50" y="40"/>
                    </a:lnTo>
                    <a:lnTo>
                      <a:pt x="39" y="41"/>
                    </a:lnTo>
                    <a:lnTo>
                      <a:pt x="31" y="43"/>
                    </a:lnTo>
                    <a:lnTo>
                      <a:pt x="23" y="43"/>
                    </a:lnTo>
                    <a:lnTo>
                      <a:pt x="17" y="44"/>
                    </a:lnTo>
                    <a:lnTo>
                      <a:pt x="6" y="41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662000" y="23835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1" y="29"/>
                    </a:moveTo>
                    <a:lnTo>
                      <a:pt x="0" y="23"/>
                    </a:lnTo>
                    <a:lnTo>
                      <a:pt x="5" y="16"/>
                    </a:lnTo>
                    <a:lnTo>
                      <a:pt x="14" y="8"/>
                    </a:lnTo>
                    <a:lnTo>
                      <a:pt x="26" y="3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0" y="7"/>
                    </a:lnTo>
                    <a:lnTo>
                      <a:pt x="70" y="12"/>
                    </a:lnTo>
                    <a:lnTo>
                      <a:pt x="65" y="19"/>
                    </a:lnTo>
                    <a:lnTo>
                      <a:pt x="61" y="22"/>
                    </a:lnTo>
                    <a:lnTo>
                      <a:pt x="56" y="26"/>
                    </a:lnTo>
                    <a:lnTo>
                      <a:pt x="48" y="29"/>
                    </a:lnTo>
                    <a:lnTo>
                      <a:pt x="42" y="33"/>
                    </a:lnTo>
                    <a:lnTo>
                      <a:pt x="35" y="34"/>
                    </a:lnTo>
                    <a:lnTo>
                      <a:pt x="27" y="36"/>
                    </a:lnTo>
                    <a:lnTo>
                      <a:pt x="20" y="36"/>
                    </a:lnTo>
                    <a:lnTo>
                      <a:pt x="16" y="36"/>
                    </a:lnTo>
                    <a:lnTo>
                      <a:pt x="5" y="33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606920" y="235728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2" y="0"/>
                    </a:moveTo>
                    <a:lnTo>
                      <a:pt x="43" y="2"/>
                    </a:lnTo>
                    <a:lnTo>
                      <a:pt x="54" y="8"/>
                    </a:lnTo>
                    <a:lnTo>
                      <a:pt x="61" y="16"/>
                    </a:lnTo>
                    <a:lnTo>
                      <a:pt x="65" y="27"/>
                    </a:lnTo>
                    <a:lnTo>
                      <a:pt x="61" y="37"/>
                    </a:lnTo>
                    <a:lnTo>
                      <a:pt x="54" y="44"/>
                    </a:lnTo>
                    <a:lnTo>
                      <a:pt x="43" y="49"/>
                    </a:lnTo>
                    <a:lnTo>
                      <a:pt x="32" y="51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7" y="44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1" y="16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652280" y="23778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9" y="0"/>
                    </a:moveTo>
                    <a:lnTo>
                      <a:pt x="39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3" y="21"/>
                    </a:lnTo>
                    <a:lnTo>
                      <a:pt x="50" y="28"/>
                    </a:lnTo>
                    <a:lnTo>
                      <a:pt x="46" y="34"/>
                    </a:lnTo>
                    <a:lnTo>
                      <a:pt x="39" y="39"/>
                    </a:lnTo>
                    <a:lnTo>
                      <a:pt x="29" y="41"/>
                    </a:lnTo>
                    <a:lnTo>
                      <a:pt x="16" y="39"/>
                    </a:lnTo>
                    <a:lnTo>
                      <a:pt x="7" y="34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7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65120" y="2344320"/>
                <a:ext cx="156600" cy="77040"/>
              </a:xfrm>
              <a:custGeom>
                <a:avLst/>
                <a:gdLst/>
                <a:ahLst/>
                <a:rect l="l" t="t" r="r" b="b"/>
                <a:pathLst>
                  <a:path w="602" h="287">
                    <a:moveTo>
                      <a:pt x="188" y="91"/>
                    </a:moveTo>
                    <a:lnTo>
                      <a:pt x="161" y="99"/>
                    </a:lnTo>
                    <a:lnTo>
                      <a:pt x="135" y="105"/>
                    </a:lnTo>
                    <a:lnTo>
                      <a:pt x="106" y="110"/>
                    </a:lnTo>
                    <a:lnTo>
                      <a:pt x="79" y="116"/>
                    </a:lnTo>
                    <a:lnTo>
                      <a:pt x="51" y="123"/>
                    </a:lnTo>
                    <a:lnTo>
                      <a:pt x="29" y="135"/>
                    </a:lnTo>
                    <a:lnTo>
                      <a:pt x="11" y="151"/>
                    </a:lnTo>
                    <a:lnTo>
                      <a:pt x="0" y="173"/>
                    </a:lnTo>
                    <a:lnTo>
                      <a:pt x="8" y="176"/>
                    </a:lnTo>
                    <a:lnTo>
                      <a:pt x="17" y="183"/>
                    </a:lnTo>
                    <a:lnTo>
                      <a:pt x="24" y="188"/>
                    </a:lnTo>
                    <a:lnTo>
                      <a:pt x="34" y="193"/>
                    </a:lnTo>
                    <a:lnTo>
                      <a:pt x="42" y="195"/>
                    </a:lnTo>
                    <a:lnTo>
                      <a:pt x="54" y="198"/>
                    </a:lnTo>
                    <a:lnTo>
                      <a:pt x="67" y="198"/>
                    </a:lnTo>
                    <a:lnTo>
                      <a:pt x="85" y="197"/>
                    </a:lnTo>
                    <a:lnTo>
                      <a:pt x="93" y="196"/>
                    </a:lnTo>
                    <a:lnTo>
                      <a:pt x="90" y="200"/>
                    </a:lnTo>
                    <a:lnTo>
                      <a:pt x="79" y="207"/>
                    </a:lnTo>
                    <a:lnTo>
                      <a:pt x="66" y="218"/>
                    </a:lnTo>
                    <a:lnTo>
                      <a:pt x="54" y="229"/>
                    </a:lnTo>
                    <a:lnTo>
                      <a:pt x="48" y="242"/>
                    </a:lnTo>
                    <a:lnTo>
                      <a:pt x="51" y="254"/>
                    </a:lnTo>
                    <a:lnTo>
                      <a:pt x="74" y="267"/>
                    </a:lnTo>
                    <a:lnTo>
                      <a:pt x="98" y="272"/>
                    </a:lnTo>
                    <a:lnTo>
                      <a:pt x="122" y="272"/>
                    </a:lnTo>
                    <a:lnTo>
                      <a:pt x="139" y="266"/>
                    </a:lnTo>
                    <a:lnTo>
                      <a:pt x="152" y="258"/>
                    </a:lnTo>
                    <a:lnTo>
                      <a:pt x="162" y="248"/>
                    </a:lnTo>
                    <a:lnTo>
                      <a:pt x="168" y="240"/>
                    </a:lnTo>
                    <a:lnTo>
                      <a:pt x="172" y="233"/>
                    </a:lnTo>
                    <a:lnTo>
                      <a:pt x="175" y="230"/>
                    </a:lnTo>
                    <a:lnTo>
                      <a:pt x="178" y="237"/>
                    </a:lnTo>
                    <a:lnTo>
                      <a:pt x="183" y="246"/>
                    </a:lnTo>
                    <a:lnTo>
                      <a:pt x="187" y="254"/>
                    </a:lnTo>
                    <a:lnTo>
                      <a:pt x="191" y="263"/>
                    </a:lnTo>
                    <a:lnTo>
                      <a:pt x="194" y="270"/>
                    </a:lnTo>
                    <a:lnTo>
                      <a:pt x="203" y="277"/>
                    </a:lnTo>
                    <a:lnTo>
                      <a:pt x="214" y="282"/>
                    </a:lnTo>
                    <a:lnTo>
                      <a:pt x="229" y="287"/>
                    </a:lnTo>
                    <a:lnTo>
                      <a:pt x="252" y="286"/>
                    </a:lnTo>
                    <a:lnTo>
                      <a:pt x="271" y="286"/>
                    </a:lnTo>
                    <a:lnTo>
                      <a:pt x="285" y="282"/>
                    </a:lnTo>
                    <a:lnTo>
                      <a:pt x="300" y="279"/>
                    </a:lnTo>
                    <a:lnTo>
                      <a:pt x="311" y="272"/>
                    </a:lnTo>
                    <a:lnTo>
                      <a:pt x="320" y="262"/>
                    </a:lnTo>
                    <a:lnTo>
                      <a:pt x="326" y="249"/>
                    </a:lnTo>
                    <a:lnTo>
                      <a:pt x="331" y="234"/>
                    </a:lnTo>
                    <a:lnTo>
                      <a:pt x="333" y="233"/>
                    </a:lnTo>
                    <a:lnTo>
                      <a:pt x="342" y="238"/>
                    </a:lnTo>
                    <a:lnTo>
                      <a:pt x="356" y="245"/>
                    </a:lnTo>
                    <a:lnTo>
                      <a:pt x="375" y="252"/>
                    </a:lnTo>
                    <a:lnTo>
                      <a:pt x="396" y="256"/>
                    </a:lnTo>
                    <a:lnTo>
                      <a:pt x="422" y="257"/>
                    </a:lnTo>
                    <a:lnTo>
                      <a:pt x="449" y="251"/>
                    </a:lnTo>
                    <a:lnTo>
                      <a:pt x="479" y="237"/>
                    </a:lnTo>
                    <a:lnTo>
                      <a:pt x="487" y="225"/>
                    </a:lnTo>
                    <a:lnTo>
                      <a:pt x="491" y="216"/>
                    </a:lnTo>
                    <a:lnTo>
                      <a:pt x="489" y="206"/>
                    </a:lnTo>
                    <a:lnTo>
                      <a:pt x="485" y="198"/>
                    </a:lnTo>
                    <a:lnTo>
                      <a:pt x="479" y="190"/>
                    </a:lnTo>
                    <a:lnTo>
                      <a:pt x="473" y="185"/>
                    </a:lnTo>
                    <a:lnTo>
                      <a:pt x="468" y="180"/>
                    </a:lnTo>
                    <a:lnTo>
                      <a:pt x="466" y="180"/>
                    </a:lnTo>
                    <a:lnTo>
                      <a:pt x="480" y="177"/>
                    </a:lnTo>
                    <a:lnTo>
                      <a:pt x="502" y="177"/>
                    </a:lnTo>
                    <a:lnTo>
                      <a:pt x="524" y="176"/>
                    </a:lnTo>
                    <a:lnTo>
                      <a:pt x="549" y="175"/>
                    </a:lnTo>
                    <a:lnTo>
                      <a:pt x="571" y="170"/>
                    </a:lnTo>
                    <a:lnTo>
                      <a:pt x="588" y="161"/>
                    </a:lnTo>
                    <a:lnTo>
                      <a:pt x="598" y="146"/>
                    </a:lnTo>
                    <a:lnTo>
                      <a:pt x="602" y="123"/>
                    </a:lnTo>
                    <a:lnTo>
                      <a:pt x="594" y="103"/>
                    </a:lnTo>
                    <a:lnTo>
                      <a:pt x="583" y="89"/>
                    </a:lnTo>
                    <a:lnTo>
                      <a:pt x="570" y="78"/>
                    </a:lnTo>
                    <a:lnTo>
                      <a:pt x="554" y="73"/>
                    </a:lnTo>
                    <a:lnTo>
                      <a:pt x="539" y="68"/>
                    </a:lnTo>
                    <a:lnTo>
                      <a:pt x="527" y="68"/>
                    </a:lnTo>
                    <a:lnTo>
                      <a:pt x="518" y="68"/>
                    </a:lnTo>
                    <a:lnTo>
                      <a:pt x="516" y="69"/>
                    </a:lnTo>
                    <a:lnTo>
                      <a:pt x="557" y="39"/>
                    </a:lnTo>
                    <a:lnTo>
                      <a:pt x="572" y="18"/>
                    </a:lnTo>
                    <a:lnTo>
                      <a:pt x="561" y="5"/>
                    </a:lnTo>
                    <a:lnTo>
                      <a:pt x="535" y="0"/>
                    </a:lnTo>
                    <a:lnTo>
                      <a:pt x="498" y="2"/>
                    </a:lnTo>
                    <a:lnTo>
                      <a:pt x="457" y="12"/>
                    </a:lnTo>
                    <a:lnTo>
                      <a:pt x="415" y="30"/>
                    </a:lnTo>
                    <a:lnTo>
                      <a:pt x="385" y="56"/>
                    </a:lnTo>
                    <a:lnTo>
                      <a:pt x="357" y="78"/>
                    </a:lnTo>
                    <a:lnTo>
                      <a:pt x="328" y="94"/>
                    </a:lnTo>
                    <a:lnTo>
                      <a:pt x="295" y="103"/>
                    </a:lnTo>
                    <a:lnTo>
                      <a:pt x="264" y="109"/>
                    </a:lnTo>
                    <a:lnTo>
                      <a:pt x="234" y="109"/>
                    </a:lnTo>
                    <a:lnTo>
                      <a:pt x="210" y="106"/>
                    </a:lnTo>
                    <a:lnTo>
                      <a:pt x="193" y="100"/>
                    </a:lnTo>
                    <a:lnTo>
                      <a:pt x="188" y="91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298400" y="2622600"/>
                <a:ext cx="157320" cy="61560"/>
              </a:xfrm>
              <a:custGeom>
                <a:avLst/>
                <a:gdLst/>
                <a:ahLst/>
                <a:rect l="l" t="t" r="r" b="b"/>
                <a:pathLst>
                  <a:path w="604" h="228">
                    <a:moveTo>
                      <a:pt x="210" y="16"/>
                    </a:moveTo>
                    <a:lnTo>
                      <a:pt x="183" y="18"/>
                    </a:lnTo>
                    <a:lnTo>
                      <a:pt x="153" y="17"/>
                    </a:lnTo>
                    <a:lnTo>
                      <a:pt x="125" y="15"/>
                    </a:lnTo>
                    <a:lnTo>
                      <a:pt x="96" y="14"/>
                    </a:lnTo>
                    <a:lnTo>
                      <a:pt x="68" y="14"/>
                    </a:lnTo>
                    <a:lnTo>
                      <a:pt x="43" y="20"/>
                    </a:lnTo>
                    <a:lnTo>
                      <a:pt x="19" y="31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6" y="62"/>
                    </a:lnTo>
                    <a:lnTo>
                      <a:pt x="23" y="68"/>
                    </a:lnTo>
                    <a:lnTo>
                      <a:pt x="30" y="76"/>
                    </a:lnTo>
                    <a:lnTo>
                      <a:pt x="37" y="81"/>
                    </a:lnTo>
                    <a:lnTo>
                      <a:pt x="47" y="86"/>
                    </a:lnTo>
                    <a:lnTo>
                      <a:pt x="58" y="90"/>
                    </a:lnTo>
                    <a:lnTo>
                      <a:pt x="74" y="93"/>
                    </a:lnTo>
                    <a:lnTo>
                      <a:pt x="83" y="94"/>
                    </a:lnTo>
                    <a:lnTo>
                      <a:pt x="79" y="97"/>
                    </a:lnTo>
                    <a:lnTo>
                      <a:pt x="67" y="102"/>
                    </a:lnTo>
                    <a:lnTo>
                      <a:pt x="52" y="109"/>
                    </a:lnTo>
                    <a:lnTo>
                      <a:pt x="35" y="116"/>
                    </a:lnTo>
                    <a:lnTo>
                      <a:pt x="25" y="128"/>
                    </a:lnTo>
                    <a:lnTo>
                      <a:pt x="25" y="140"/>
                    </a:lnTo>
                    <a:lnTo>
                      <a:pt x="42" y="156"/>
                    </a:lnTo>
                    <a:lnTo>
                      <a:pt x="64" y="168"/>
                    </a:lnTo>
                    <a:lnTo>
                      <a:pt x="85" y="174"/>
                    </a:lnTo>
                    <a:lnTo>
                      <a:pt x="105" y="172"/>
                    </a:lnTo>
                    <a:lnTo>
                      <a:pt x="121" y="167"/>
                    </a:lnTo>
                    <a:lnTo>
                      <a:pt x="133" y="160"/>
                    </a:lnTo>
                    <a:lnTo>
                      <a:pt x="143" y="153"/>
                    </a:lnTo>
                    <a:lnTo>
                      <a:pt x="149" y="148"/>
                    </a:lnTo>
                    <a:lnTo>
                      <a:pt x="152" y="146"/>
                    </a:lnTo>
                    <a:lnTo>
                      <a:pt x="153" y="154"/>
                    </a:lnTo>
                    <a:lnTo>
                      <a:pt x="154" y="163"/>
                    </a:lnTo>
                    <a:lnTo>
                      <a:pt x="154" y="173"/>
                    </a:lnTo>
                    <a:lnTo>
                      <a:pt x="156" y="182"/>
                    </a:lnTo>
                    <a:lnTo>
                      <a:pt x="157" y="190"/>
                    </a:lnTo>
                    <a:lnTo>
                      <a:pt x="163" y="198"/>
                    </a:lnTo>
                    <a:lnTo>
                      <a:pt x="172" y="205"/>
                    </a:lnTo>
                    <a:lnTo>
                      <a:pt x="185" y="212"/>
                    </a:lnTo>
                    <a:lnTo>
                      <a:pt x="205" y="218"/>
                    </a:lnTo>
                    <a:lnTo>
                      <a:pt x="224" y="223"/>
                    </a:lnTo>
                    <a:lnTo>
                      <a:pt x="242" y="224"/>
                    </a:lnTo>
                    <a:lnTo>
                      <a:pt x="258" y="223"/>
                    </a:lnTo>
                    <a:lnTo>
                      <a:pt x="269" y="217"/>
                    </a:lnTo>
                    <a:lnTo>
                      <a:pt x="280" y="210"/>
                    </a:lnTo>
                    <a:lnTo>
                      <a:pt x="290" y="199"/>
                    </a:lnTo>
                    <a:lnTo>
                      <a:pt x="301" y="186"/>
                    </a:lnTo>
                    <a:lnTo>
                      <a:pt x="303" y="185"/>
                    </a:lnTo>
                    <a:lnTo>
                      <a:pt x="311" y="191"/>
                    </a:lnTo>
                    <a:lnTo>
                      <a:pt x="322" y="201"/>
                    </a:lnTo>
                    <a:lnTo>
                      <a:pt x="338" y="212"/>
                    </a:lnTo>
                    <a:lnTo>
                      <a:pt x="356" y="221"/>
                    </a:lnTo>
                    <a:lnTo>
                      <a:pt x="381" y="228"/>
                    </a:lnTo>
                    <a:lnTo>
                      <a:pt x="409" y="228"/>
                    </a:lnTo>
                    <a:lnTo>
                      <a:pt x="444" y="219"/>
                    </a:lnTo>
                    <a:lnTo>
                      <a:pt x="455" y="210"/>
                    </a:lnTo>
                    <a:lnTo>
                      <a:pt x="461" y="202"/>
                    </a:lnTo>
                    <a:lnTo>
                      <a:pt x="461" y="193"/>
                    </a:lnTo>
                    <a:lnTo>
                      <a:pt x="460" y="184"/>
                    </a:lnTo>
                    <a:lnTo>
                      <a:pt x="455" y="175"/>
                    </a:lnTo>
                    <a:lnTo>
                      <a:pt x="451" y="168"/>
                    </a:lnTo>
                    <a:lnTo>
                      <a:pt x="447" y="163"/>
                    </a:lnTo>
                    <a:lnTo>
                      <a:pt x="447" y="162"/>
                    </a:lnTo>
                    <a:lnTo>
                      <a:pt x="461" y="163"/>
                    </a:lnTo>
                    <a:lnTo>
                      <a:pt x="481" y="168"/>
                    </a:lnTo>
                    <a:lnTo>
                      <a:pt x="503" y="173"/>
                    </a:lnTo>
                    <a:lnTo>
                      <a:pt x="527" y="178"/>
                    </a:lnTo>
                    <a:lnTo>
                      <a:pt x="550" y="178"/>
                    </a:lnTo>
                    <a:lnTo>
                      <a:pt x="570" y="173"/>
                    </a:lnTo>
                    <a:lnTo>
                      <a:pt x="588" y="160"/>
                    </a:lnTo>
                    <a:lnTo>
                      <a:pt x="599" y="139"/>
                    </a:lnTo>
                    <a:lnTo>
                      <a:pt x="599" y="118"/>
                    </a:lnTo>
                    <a:lnTo>
                      <a:pt x="594" y="103"/>
                    </a:lnTo>
                    <a:lnTo>
                      <a:pt x="583" y="91"/>
                    </a:lnTo>
                    <a:lnTo>
                      <a:pt x="570" y="83"/>
                    </a:lnTo>
                    <a:lnTo>
                      <a:pt x="557" y="77"/>
                    </a:lnTo>
                    <a:lnTo>
                      <a:pt x="545" y="74"/>
                    </a:lnTo>
                    <a:lnTo>
                      <a:pt x="536" y="73"/>
                    </a:lnTo>
                    <a:lnTo>
                      <a:pt x="534" y="73"/>
                    </a:lnTo>
                    <a:lnTo>
                      <a:pt x="584" y="52"/>
                    </a:lnTo>
                    <a:lnTo>
                      <a:pt x="604" y="34"/>
                    </a:lnTo>
                    <a:lnTo>
                      <a:pt x="599" y="18"/>
                    </a:lnTo>
                    <a:lnTo>
                      <a:pt x="577" y="7"/>
                    </a:lnTo>
                    <a:lnTo>
                      <a:pt x="538" y="0"/>
                    </a:lnTo>
                    <a:lnTo>
                      <a:pt x="497" y="0"/>
                    </a:lnTo>
                    <a:lnTo>
                      <a:pt x="452" y="8"/>
                    </a:lnTo>
                    <a:lnTo>
                      <a:pt x="414" y="26"/>
                    </a:lnTo>
                    <a:lnTo>
                      <a:pt x="381" y="40"/>
                    </a:lnTo>
                    <a:lnTo>
                      <a:pt x="346" y="48"/>
                    </a:lnTo>
                    <a:lnTo>
                      <a:pt x="312" y="51"/>
                    </a:lnTo>
                    <a:lnTo>
                      <a:pt x="280" y="50"/>
                    </a:lnTo>
                    <a:lnTo>
                      <a:pt x="250" y="45"/>
                    </a:lnTo>
                    <a:lnTo>
                      <a:pt x="227" y="37"/>
                    </a:lnTo>
                    <a:lnTo>
                      <a:pt x="212" y="27"/>
                    </a:lnTo>
                    <a:lnTo>
                      <a:pt x="210" y="16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550400" y="3387240"/>
                <a:ext cx="155520" cy="60840"/>
              </a:xfrm>
              <a:custGeom>
                <a:avLst/>
                <a:gdLst/>
                <a:ahLst/>
                <a:rect l="l" t="t" r="r" b="b"/>
                <a:pathLst>
                  <a:path w="600" h="227">
                    <a:moveTo>
                      <a:pt x="194" y="12"/>
                    </a:moveTo>
                    <a:lnTo>
                      <a:pt x="166" y="14"/>
                    </a:lnTo>
                    <a:lnTo>
                      <a:pt x="141" y="14"/>
                    </a:lnTo>
                    <a:lnTo>
                      <a:pt x="115" y="12"/>
                    </a:lnTo>
                    <a:lnTo>
                      <a:pt x="88" y="12"/>
                    </a:lnTo>
                    <a:lnTo>
                      <a:pt x="62" y="13"/>
                    </a:lnTo>
                    <a:lnTo>
                      <a:pt x="38" y="19"/>
                    </a:lnTo>
                    <a:lnTo>
                      <a:pt x="17" y="30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5" y="62"/>
                    </a:lnTo>
                    <a:lnTo>
                      <a:pt x="20" y="69"/>
                    </a:lnTo>
                    <a:lnTo>
                      <a:pt x="27" y="76"/>
                    </a:lnTo>
                    <a:lnTo>
                      <a:pt x="33" y="81"/>
                    </a:lnTo>
                    <a:lnTo>
                      <a:pt x="43" y="86"/>
                    </a:lnTo>
                    <a:lnTo>
                      <a:pt x="57" y="89"/>
                    </a:lnTo>
                    <a:lnTo>
                      <a:pt x="74" y="92"/>
                    </a:lnTo>
                    <a:lnTo>
                      <a:pt x="81" y="93"/>
                    </a:lnTo>
                    <a:lnTo>
                      <a:pt x="78" y="96"/>
                    </a:lnTo>
                    <a:lnTo>
                      <a:pt x="65" y="101"/>
                    </a:lnTo>
                    <a:lnTo>
                      <a:pt x="51" y="109"/>
                    </a:lnTo>
                    <a:lnTo>
                      <a:pt x="33" y="117"/>
                    </a:lnTo>
                    <a:lnTo>
                      <a:pt x="25" y="127"/>
                    </a:lnTo>
                    <a:lnTo>
                      <a:pt x="25" y="139"/>
                    </a:lnTo>
                    <a:lnTo>
                      <a:pt x="41" y="156"/>
                    </a:lnTo>
                    <a:lnTo>
                      <a:pt x="63" y="167"/>
                    </a:lnTo>
                    <a:lnTo>
                      <a:pt x="84" y="172"/>
                    </a:lnTo>
                    <a:lnTo>
                      <a:pt x="101" y="171"/>
                    </a:lnTo>
                    <a:lnTo>
                      <a:pt x="120" y="167"/>
                    </a:lnTo>
                    <a:lnTo>
                      <a:pt x="132" y="160"/>
                    </a:lnTo>
                    <a:lnTo>
                      <a:pt x="143" y="152"/>
                    </a:lnTo>
                    <a:lnTo>
                      <a:pt x="149" y="147"/>
                    </a:lnTo>
                    <a:lnTo>
                      <a:pt x="152" y="145"/>
                    </a:lnTo>
                    <a:lnTo>
                      <a:pt x="152" y="154"/>
                    </a:lnTo>
                    <a:lnTo>
                      <a:pt x="152" y="163"/>
                    </a:lnTo>
                    <a:lnTo>
                      <a:pt x="150" y="172"/>
                    </a:lnTo>
                    <a:lnTo>
                      <a:pt x="152" y="181"/>
                    </a:lnTo>
                    <a:lnTo>
                      <a:pt x="153" y="189"/>
                    </a:lnTo>
                    <a:lnTo>
                      <a:pt x="158" y="197"/>
                    </a:lnTo>
                    <a:lnTo>
                      <a:pt x="166" y="205"/>
                    </a:lnTo>
                    <a:lnTo>
                      <a:pt x="181" y="213"/>
                    </a:lnTo>
                    <a:lnTo>
                      <a:pt x="201" y="218"/>
                    </a:lnTo>
                    <a:lnTo>
                      <a:pt x="221" y="222"/>
                    </a:lnTo>
                    <a:lnTo>
                      <a:pt x="238" y="223"/>
                    </a:lnTo>
                    <a:lnTo>
                      <a:pt x="253" y="222"/>
                    </a:lnTo>
                    <a:lnTo>
                      <a:pt x="265" y="218"/>
                    </a:lnTo>
                    <a:lnTo>
                      <a:pt x="276" y="211"/>
                    </a:lnTo>
                    <a:lnTo>
                      <a:pt x="286" y="199"/>
                    </a:lnTo>
                    <a:lnTo>
                      <a:pt x="294" y="186"/>
                    </a:lnTo>
                    <a:lnTo>
                      <a:pt x="297" y="185"/>
                    </a:lnTo>
                    <a:lnTo>
                      <a:pt x="306" y="191"/>
                    </a:lnTo>
                    <a:lnTo>
                      <a:pt x="317" y="200"/>
                    </a:lnTo>
                    <a:lnTo>
                      <a:pt x="333" y="212"/>
                    </a:lnTo>
                    <a:lnTo>
                      <a:pt x="351" y="221"/>
                    </a:lnTo>
                    <a:lnTo>
                      <a:pt x="377" y="227"/>
                    </a:lnTo>
                    <a:lnTo>
                      <a:pt x="405" y="227"/>
                    </a:lnTo>
                    <a:lnTo>
                      <a:pt x="440" y="219"/>
                    </a:lnTo>
                    <a:lnTo>
                      <a:pt x="451" y="211"/>
                    </a:lnTo>
                    <a:lnTo>
                      <a:pt x="456" y="202"/>
                    </a:lnTo>
                    <a:lnTo>
                      <a:pt x="457" y="193"/>
                    </a:lnTo>
                    <a:lnTo>
                      <a:pt x="456" y="184"/>
                    </a:lnTo>
                    <a:lnTo>
                      <a:pt x="451" y="175"/>
                    </a:lnTo>
                    <a:lnTo>
                      <a:pt x="447" y="169"/>
                    </a:lnTo>
                    <a:lnTo>
                      <a:pt x="443" y="164"/>
                    </a:lnTo>
                    <a:lnTo>
                      <a:pt x="443" y="163"/>
                    </a:lnTo>
                    <a:lnTo>
                      <a:pt x="457" y="164"/>
                    </a:lnTo>
                    <a:lnTo>
                      <a:pt x="477" y="169"/>
                    </a:lnTo>
                    <a:lnTo>
                      <a:pt x="499" y="173"/>
                    </a:lnTo>
                    <a:lnTo>
                      <a:pt x="522" y="178"/>
                    </a:lnTo>
                    <a:lnTo>
                      <a:pt x="543" y="178"/>
                    </a:lnTo>
                    <a:lnTo>
                      <a:pt x="567" y="173"/>
                    </a:lnTo>
                    <a:lnTo>
                      <a:pt x="583" y="161"/>
                    </a:lnTo>
                    <a:lnTo>
                      <a:pt x="595" y="139"/>
                    </a:lnTo>
                    <a:lnTo>
                      <a:pt x="594" y="118"/>
                    </a:lnTo>
                    <a:lnTo>
                      <a:pt x="589" y="103"/>
                    </a:lnTo>
                    <a:lnTo>
                      <a:pt x="578" y="90"/>
                    </a:lnTo>
                    <a:lnTo>
                      <a:pt x="565" y="82"/>
                    </a:lnTo>
                    <a:lnTo>
                      <a:pt x="551" y="76"/>
                    </a:lnTo>
                    <a:lnTo>
                      <a:pt x="540" y="73"/>
                    </a:lnTo>
                    <a:lnTo>
                      <a:pt x="531" y="72"/>
                    </a:lnTo>
                    <a:lnTo>
                      <a:pt x="528" y="72"/>
                    </a:lnTo>
                    <a:lnTo>
                      <a:pt x="579" y="51"/>
                    </a:lnTo>
                    <a:lnTo>
                      <a:pt x="600" y="32"/>
                    </a:lnTo>
                    <a:lnTo>
                      <a:pt x="595" y="17"/>
                    </a:lnTo>
                    <a:lnTo>
                      <a:pt x="573" y="7"/>
                    </a:lnTo>
                    <a:lnTo>
                      <a:pt x="535" y="0"/>
                    </a:lnTo>
                    <a:lnTo>
                      <a:pt x="493" y="1"/>
                    </a:lnTo>
                    <a:lnTo>
                      <a:pt x="448" y="8"/>
                    </a:lnTo>
                    <a:lnTo>
                      <a:pt x="410" y="25"/>
                    </a:lnTo>
                    <a:lnTo>
                      <a:pt x="377" y="39"/>
                    </a:lnTo>
                    <a:lnTo>
                      <a:pt x="340" y="47"/>
                    </a:lnTo>
                    <a:lnTo>
                      <a:pt x="303" y="49"/>
                    </a:lnTo>
                    <a:lnTo>
                      <a:pt x="269" y="47"/>
                    </a:lnTo>
                    <a:lnTo>
                      <a:pt x="235" y="41"/>
                    </a:lnTo>
                    <a:lnTo>
                      <a:pt x="212" y="32"/>
                    </a:lnTo>
                    <a:lnTo>
                      <a:pt x="197" y="22"/>
                    </a:lnTo>
                    <a:lnTo>
                      <a:pt x="194" y="12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701600" y="3452040"/>
                <a:ext cx="156600" cy="61560"/>
              </a:xfrm>
              <a:custGeom>
                <a:avLst/>
                <a:gdLst/>
                <a:ahLst/>
                <a:rect l="l" t="t" r="r" b="b"/>
                <a:pathLst>
                  <a:path w="603" h="228">
                    <a:moveTo>
                      <a:pt x="229" y="23"/>
                    </a:moveTo>
                    <a:lnTo>
                      <a:pt x="201" y="24"/>
                    </a:lnTo>
                    <a:lnTo>
                      <a:pt x="169" y="23"/>
                    </a:lnTo>
                    <a:lnTo>
                      <a:pt x="137" y="20"/>
                    </a:lnTo>
                    <a:lnTo>
                      <a:pt x="105" y="18"/>
                    </a:lnTo>
                    <a:lnTo>
                      <a:pt x="73" y="16"/>
                    </a:lnTo>
                    <a:lnTo>
                      <a:pt x="44" y="21"/>
                    </a:lnTo>
                    <a:lnTo>
                      <a:pt x="19" y="32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5" y="62"/>
                    </a:lnTo>
                    <a:lnTo>
                      <a:pt x="21" y="70"/>
                    </a:lnTo>
                    <a:lnTo>
                      <a:pt x="28" y="77"/>
                    </a:lnTo>
                    <a:lnTo>
                      <a:pt x="36" y="82"/>
                    </a:lnTo>
                    <a:lnTo>
                      <a:pt x="46" y="87"/>
                    </a:lnTo>
                    <a:lnTo>
                      <a:pt x="57" y="90"/>
                    </a:lnTo>
                    <a:lnTo>
                      <a:pt x="74" y="93"/>
                    </a:lnTo>
                    <a:lnTo>
                      <a:pt x="83" y="94"/>
                    </a:lnTo>
                    <a:lnTo>
                      <a:pt x="79" y="97"/>
                    </a:lnTo>
                    <a:lnTo>
                      <a:pt x="67" y="102"/>
                    </a:lnTo>
                    <a:lnTo>
                      <a:pt x="51" y="109"/>
                    </a:lnTo>
                    <a:lnTo>
                      <a:pt x="35" y="118"/>
                    </a:lnTo>
                    <a:lnTo>
                      <a:pt x="25" y="128"/>
                    </a:lnTo>
                    <a:lnTo>
                      <a:pt x="25" y="140"/>
                    </a:lnTo>
                    <a:lnTo>
                      <a:pt x="41" y="156"/>
                    </a:lnTo>
                    <a:lnTo>
                      <a:pt x="64" y="169"/>
                    </a:lnTo>
                    <a:lnTo>
                      <a:pt x="85" y="174"/>
                    </a:lnTo>
                    <a:lnTo>
                      <a:pt x="104" y="173"/>
                    </a:lnTo>
                    <a:lnTo>
                      <a:pt x="120" y="169"/>
                    </a:lnTo>
                    <a:lnTo>
                      <a:pt x="133" y="161"/>
                    </a:lnTo>
                    <a:lnTo>
                      <a:pt x="143" y="154"/>
                    </a:lnTo>
                    <a:lnTo>
                      <a:pt x="149" y="148"/>
                    </a:lnTo>
                    <a:lnTo>
                      <a:pt x="152" y="146"/>
                    </a:lnTo>
                    <a:lnTo>
                      <a:pt x="152" y="154"/>
                    </a:lnTo>
                    <a:lnTo>
                      <a:pt x="153" y="163"/>
                    </a:lnTo>
                    <a:lnTo>
                      <a:pt x="153" y="173"/>
                    </a:lnTo>
                    <a:lnTo>
                      <a:pt x="154" y="182"/>
                    </a:lnTo>
                    <a:lnTo>
                      <a:pt x="155" y="190"/>
                    </a:lnTo>
                    <a:lnTo>
                      <a:pt x="160" y="198"/>
                    </a:lnTo>
                    <a:lnTo>
                      <a:pt x="168" y="205"/>
                    </a:lnTo>
                    <a:lnTo>
                      <a:pt x="180" y="213"/>
                    </a:lnTo>
                    <a:lnTo>
                      <a:pt x="201" y="218"/>
                    </a:lnTo>
                    <a:lnTo>
                      <a:pt x="221" y="223"/>
                    </a:lnTo>
                    <a:lnTo>
                      <a:pt x="237" y="224"/>
                    </a:lnTo>
                    <a:lnTo>
                      <a:pt x="254" y="223"/>
                    </a:lnTo>
                    <a:lnTo>
                      <a:pt x="266" y="218"/>
                    </a:lnTo>
                    <a:lnTo>
                      <a:pt x="278" y="211"/>
                    </a:lnTo>
                    <a:lnTo>
                      <a:pt x="288" y="200"/>
                    </a:lnTo>
                    <a:lnTo>
                      <a:pt x="299" y="187"/>
                    </a:lnTo>
                    <a:lnTo>
                      <a:pt x="302" y="186"/>
                    </a:lnTo>
                    <a:lnTo>
                      <a:pt x="309" y="192"/>
                    </a:lnTo>
                    <a:lnTo>
                      <a:pt x="322" y="201"/>
                    </a:lnTo>
                    <a:lnTo>
                      <a:pt x="336" y="212"/>
                    </a:lnTo>
                    <a:lnTo>
                      <a:pt x="355" y="222"/>
                    </a:lnTo>
                    <a:lnTo>
                      <a:pt x="379" y="228"/>
                    </a:lnTo>
                    <a:lnTo>
                      <a:pt x="406" y="228"/>
                    </a:lnTo>
                    <a:lnTo>
                      <a:pt x="438" y="220"/>
                    </a:lnTo>
                    <a:lnTo>
                      <a:pt x="452" y="211"/>
                    </a:lnTo>
                    <a:lnTo>
                      <a:pt x="458" y="203"/>
                    </a:lnTo>
                    <a:lnTo>
                      <a:pt x="459" y="194"/>
                    </a:lnTo>
                    <a:lnTo>
                      <a:pt x="458" y="185"/>
                    </a:lnTo>
                    <a:lnTo>
                      <a:pt x="453" y="176"/>
                    </a:lnTo>
                    <a:lnTo>
                      <a:pt x="448" y="170"/>
                    </a:lnTo>
                    <a:lnTo>
                      <a:pt x="445" y="164"/>
                    </a:lnTo>
                    <a:lnTo>
                      <a:pt x="443" y="163"/>
                    </a:lnTo>
                    <a:lnTo>
                      <a:pt x="458" y="164"/>
                    </a:lnTo>
                    <a:lnTo>
                      <a:pt x="478" y="170"/>
                    </a:lnTo>
                    <a:lnTo>
                      <a:pt x="500" y="174"/>
                    </a:lnTo>
                    <a:lnTo>
                      <a:pt x="526" y="179"/>
                    </a:lnTo>
                    <a:lnTo>
                      <a:pt x="547" y="179"/>
                    </a:lnTo>
                    <a:lnTo>
                      <a:pt x="568" y="174"/>
                    </a:lnTo>
                    <a:lnTo>
                      <a:pt x="584" y="161"/>
                    </a:lnTo>
                    <a:lnTo>
                      <a:pt x="595" y="140"/>
                    </a:lnTo>
                    <a:lnTo>
                      <a:pt x="596" y="119"/>
                    </a:lnTo>
                    <a:lnTo>
                      <a:pt x="591" y="103"/>
                    </a:lnTo>
                    <a:lnTo>
                      <a:pt x="581" y="91"/>
                    </a:lnTo>
                    <a:lnTo>
                      <a:pt x="570" y="84"/>
                    </a:lnTo>
                    <a:lnTo>
                      <a:pt x="555" y="78"/>
                    </a:lnTo>
                    <a:lnTo>
                      <a:pt x="544" y="75"/>
                    </a:lnTo>
                    <a:lnTo>
                      <a:pt x="536" y="74"/>
                    </a:lnTo>
                    <a:lnTo>
                      <a:pt x="533" y="74"/>
                    </a:lnTo>
                    <a:lnTo>
                      <a:pt x="584" y="51"/>
                    </a:lnTo>
                    <a:lnTo>
                      <a:pt x="603" y="34"/>
                    </a:lnTo>
                    <a:lnTo>
                      <a:pt x="599" y="19"/>
                    </a:lnTo>
                    <a:lnTo>
                      <a:pt x="575" y="7"/>
                    </a:lnTo>
                    <a:lnTo>
                      <a:pt x="537" y="0"/>
                    </a:lnTo>
                    <a:lnTo>
                      <a:pt x="493" y="1"/>
                    </a:lnTo>
                    <a:lnTo>
                      <a:pt x="448" y="8"/>
                    </a:lnTo>
                    <a:lnTo>
                      <a:pt x="410" y="26"/>
                    </a:lnTo>
                    <a:lnTo>
                      <a:pt x="377" y="40"/>
                    </a:lnTo>
                    <a:lnTo>
                      <a:pt x="346" y="50"/>
                    </a:lnTo>
                    <a:lnTo>
                      <a:pt x="317" y="53"/>
                    </a:lnTo>
                    <a:lnTo>
                      <a:pt x="289" y="53"/>
                    </a:lnTo>
                    <a:lnTo>
                      <a:pt x="265" y="48"/>
                    </a:lnTo>
                    <a:lnTo>
                      <a:pt x="246" y="42"/>
                    </a:lnTo>
                    <a:lnTo>
                      <a:pt x="233" y="32"/>
                    </a:lnTo>
                    <a:lnTo>
                      <a:pt x="229" y="23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076000" y="237456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0" y="0"/>
                    </a:moveTo>
                    <a:lnTo>
                      <a:pt x="24" y="2"/>
                    </a:lnTo>
                    <a:lnTo>
                      <a:pt x="31" y="8"/>
                    </a:lnTo>
                    <a:lnTo>
                      <a:pt x="32" y="12"/>
                    </a:lnTo>
                    <a:lnTo>
                      <a:pt x="33" y="17"/>
                    </a:lnTo>
                    <a:lnTo>
                      <a:pt x="34" y="24"/>
                    </a:lnTo>
                    <a:lnTo>
                      <a:pt x="36" y="31"/>
                    </a:lnTo>
                    <a:lnTo>
                      <a:pt x="34" y="36"/>
                    </a:lnTo>
                    <a:lnTo>
                      <a:pt x="33" y="42"/>
                    </a:lnTo>
                    <a:lnTo>
                      <a:pt x="32" y="46"/>
                    </a:lnTo>
                    <a:lnTo>
                      <a:pt x="31" y="51"/>
                    </a:lnTo>
                    <a:lnTo>
                      <a:pt x="24" y="57"/>
                    </a:lnTo>
                    <a:lnTo>
                      <a:pt x="20" y="60"/>
                    </a:lnTo>
                    <a:lnTo>
                      <a:pt x="11" y="57"/>
                    </a:lnTo>
                    <a:lnTo>
                      <a:pt x="5" y="51"/>
                    </a:lnTo>
                    <a:lnTo>
                      <a:pt x="1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075640" y="2390760"/>
                <a:ext cx="8280" cy="1656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16" y="61"/>
                    </a:moveTo>
                    <a:lnTo>
                      <a:pt x="20" y="57"/>
                    </a:lnTo>
                    <a:lnTo>
                      <a:pt x="27" y="51"/>
                    </a:lnTo>
                    <a:lnTo>
                      <a:pt x="28" y="46"/>
                    </a:lnTo>
                    <a:lnTo>
                      <a:pt x="29" y="42"/>
                    </a:lnTo>
                    <a:lnTo>
                      <a:pt x="30" y="36"/>
                    </a:lnTo>
                    <a:lnTo>
                      <a:pt x="32" y="31"/>
                    </a:lnTo>
                    <a:lnTo>
                      <a:pt x="30" y="24"/>
                    </a:lnTo>
                    <a:lnTo>
                      <a:pt x="29" y="18"/>
                    </a:lnTo>
                    <a:lnTo>
                      <a:pt x="28" y="13"/>
                    </a:lnTo>
                    <a:lnTo>
                      <a:pt x="27" y="8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061240" y="238212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70" h="32">
                    <a:moveTo>
                      <a:pt x="0" y="28"/>
                    </a:moveTo>
                    <a:lnTo>
                      <a:pt x="0" y="20"/>
                    </a:lnTo>
                    <a:lnTo>
                      <a:pt x="6" y="13"/>
                    </a:lnTo>
                    <a:lnTo>
                      <a:pt x="16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4" y="1"/>
                    </a:lnTo>
                    <a:lnTo>
                      <a:pt x="70" y="5"/>
                    </a:lnTo>
                    <a:lnTo>
                      <a:pt x="69" y="10"/>
                    </a:lnTo>
                    <a:lnTo>
                      <a:pt x="64" y="18"/>
                    </a:lnTo>
                    <a:lnTo>
                      <a:pt x="59" y="20"/>
                    </a:lnTo>
                    <a:lnTo>
                      <a:pt x="54" y="23"/>
                    </a:lnTo>
                    <a:lnTo>
                      <a:pt x="48" y="25"/>
                    </a:lnTo>
                    <a:lnTo>
                      <a:pt x="42" y="28"/>
                    </a:lnTo>
                    <a:lnTo>
                      <a:pt x="29" y="31"/>
                    </a:lnTo>
                    <a:lnTo>
                      <a:pt x="16" y="32"/>
                    </a:lnTo>
                    <a:lnTo>
                      <a:pt x="6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082120" y="238320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8" h="35">
                    <a:moveTo>
                      <a:pt x="68" y="28"/>
                    </a:moveTo>
                    <a:lnTo>
                      <a:pt x="67" y="22"/>
                    </a:lnTo>
                    <a:lnTo>
                      <a:pt x="63" y="16"/>
                    </a:lnTo>
                    <a:lnTo>
                      <a:pt x="53" y="10"/>
                    </a:lnTo>
                    <a:lnTo>
                      <a:pt x="44" y="5"/>
                    </a:lnTo>
                    <a:lnTo>
                      <a:pt x="36" y="2"/>
                    </a:lnTo>
                    <a:lnTo>
                      <a:pt x="28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7" y="3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7" y="20"/>
                    </a:lnTo>
                    <a:lnTo>
                      <a:pt x="14" y="25"/>
                    </a:lnTo>
                    <a:lnTo>
                      <a:pt x="26" y="31"/>
                    </a:lnTo>
                    <a:lnTo>
                      <a:pt x="34" y="32"/>
                    </a:lnTo>
                    <a:lnTo>
                      <a:pt x="41" y="34"/>
                    </a:lnTo>
                    <a:lnTo>
                      <a:pt x="47" y="34"/>
                    </a:lnTo>
                    <a:lnTo>
                      <a:pt x="53" y="35"/>
                    </a:lnTo>
                    <a:lnTo>
                      <a:pt x="62" y="33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061240" y="23904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70" y="28"/>
                    </a:moveTo>
                    <a:lnTo>
                      <a:pt x="69" y="22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8" y="6"/>
                    </a:lnTo>
                    <a:lnTo>
                      <a:pt x="42" y="4"/>
                    </a:lnTo>
                    <a:lnTo>
                      <a:pt x="29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20"/>
                    </a:lnTo>
                    <a:lnTo>
                      <a:pt x="16" y="26"/>
                    </a:lnTo>
                    <a:lnTo>
                      <a:pt x="30" y="32"/>
                    </a:lnTo>
                    <a:lnTo>
                      <a:pt x="36" y="33"/>
                    </a:lnTo>
                    <a:lnTo>
                      <a:pt x="43" y="34"/>
                    </a:lnTo>
                    <a:lnTo>
                      <a:pt x="50" y="34"/>
                    </a:lnTo>
                    <a:lnTo>
                      <a:pt x="56" y="34"/>
                    </a:lnTo>
                    <a:lnTo>
                      <a:pt x="64" y="32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082120" y="23914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2" y="32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4" y="11"/>
                    </a:lnTo>
                    <a:lnTo>
                      <a:pt x="26" y="5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68" y="9"/>
                    </a:lnTo>
                    <a:lnTo>
                      <a:pt x="67" y="14"/>
                    </a:lnTo>
                    <a:lnTo>
                      <a:pt x="63" y="22"/>
                    </a:lnTo>
                    <a:lnTo>
                      <a:pt x="53" y="27"/>
                    </a:lnTo>
                    <a:lnTo>
                      <a:pt x="44" y="32"/>
                    </a:lnTo>
                    <a:lnTo>
                      <a:pt x="36" y="33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6" y="36"/>
                    </a:lnTo>
                    <a:lnTo>
                      <a:pt x="7" y="35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072040" y="2386440"/>
                <a:ext cx="14040" cy="1008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24" y="0"/>
                    </a:moveTo>
                    <a:lnTo>
                      <a:pt x="33" y="0"/>
                    </a:lnTo>
                    <a:lnTo>
                      <a:pt x="43" y="4"/>
                    </a:lnTo>
                    <a:lnTo>
                      <a:pt x="51" y="9"/>
                    </a:lnTo>
                    <a:lnTo>
                      <a:pt x="53" y="16"/>
                    </a:lnTo>
                    <a:lnTo>
                      <a:pt x="51" y="24"/>
                    </a:lnTo>
                    <a:lnTo>
                      <a:pt x="43" y="31"/>
                    </a:lnTo>
                    <a:lnTo>
                      <a:pt x="33" y="35"/>
                    </a:lnTo>
                    <a:lnTo>
                      <a:pt x="24" y="37"/>
                    </a:lnTo>
                    <a:lnTo>
                      <a:pt x="14" y="35"/>
                    </a:lnTo>
                    <a:lnTo>
                      <a:pt x="6" y="31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033880" y="23716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16" y="0"/>
                    </a:moveTo>
                    <a:lnTo>
                      <a:pt x="20" y="2"/>
                    </a:lnTo>
                    <a:lnTo>
                      <a:pt x="25" y="8"/>
                    </a:lnTo>
                    <a:lnTo>
                      <a:pt x="27" y="11"/>
                    </a:lnTo>
                    <a:lnTo>
                      <a:pt x="29" y="17"/>
                    </a:lnTo>
                    <a:lnTo>
                      <a:pt x="30" y="23"/>
                    </a:lnTo>
                    <a:lnTo>
                      <a:pt x="32" y="30"/>
                    </a:lnTo>
                    <a:lnTo>
                      <a:pt x="30" y="35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5" y="49"/>
                    </a:lnTo>
                    <a:lnTo>
                      <a:pt x="20" y="54"/>
                    </a:lnTo>
                    <a:lnTo>
                      <a:pt x="16" y="56"/>
                    </a:lnTo>
                    <a:lnTo>
                      <a:pt x="8" y="54"/>
                    </a:lnTo>
                    <a:lnTo>
                      <a:pt x="3" y="49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032440" y="2388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19" y="60"/>
                    </a:moveTo>
                    <a:lnTo>
                      <a:pt x="24" y="57"/>
                    </a:lnTo>
                    <a:lnTo>
                      <a:pt x="30" y="51"/>
                    </a:lnTo>
                    <a:lnTo>
                      <a:pt x="32" y="46"/>
                    </a:lnTo>
                    <a:lnTo>
                      <a:pt x="33" y="42"/>
                    </a:lnTo>
                    <a:lnTo>
                      <a:pt x="34" y="36"/>
                    </a:lnTo>
                    <a:lnTo>
                      <a:pt x="35" y="31"/>
                    </a:lnTo>
                    <a:lnTo>
                      <a:pt x="34" y="24"/>
                    </a:lnTo>
                    <a:lnTo>
                      <a:pt x="33" y="17"/>
                    </a:lnTo>
                    <a:lnTo>
                      <a:pt x="32" y="12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51"/>
                    </a:lnTo>
                    <a:lnTo>
                      <a:pt x="11" y="57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018040" y="23788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1"/>
                    </a:moveTo>
                    <a:lnTo>
                      <a:pt x="0" y="23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61" y="3"/>
                    </a:lnTo>
                    <a:lnTo>
                      <a:pt x="67" y="8"/>
                    </a:lnTo>
                    <a:lnTo>
                      <a:pt x="66" y="13"/>
                    </a:lnTo>
                    <a:lnTo>
                      <a:pt x="63" y="19"/>
                    </a:lnTo>
                    <a:lnTo>
                      <a:pt x="53" y="25"/>
                    </a:lnTo>
                    <a:lnTo>
                      <a:pt x="43" y="31"/>
                    </a:lnTo>
                    <a:lnTo>
                      <a:pt x="34" y="32"/>
                    </a:lnTo>
                    <a:lnTo>
                      <a:pt x="27" y="34"/>
                    </a:lnTo>
                    <a:lnTo>
                      <a:pt x="19" y="35"/>
                    </a:lnTo>
                    <a:lnTo>
                      <a:pt x="16" y="36"/>
                    </a:lnTo>
                    <a:lnTo>
                      <a:pt x="6" y="3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038920" y="23806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28"/>
                    </a:moveTo>
                    <a:lnTo>
                      <a:pt x="71" y="22"/>
                    </a:lnTo>
                    <a:lnTo>
                      <a:pt x="66" y="17"/>
                    </a:lnTo>
                    <a:lnTo>
                      <a:pt x="61" y="14"/>
                    </a:lnTo>
                    <a:lnTo>
                      <a:pt x="55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4" y="3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7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3" y="28"/>
                    </a:lnTo>
                    <a:lnTo>
                      <a:pt x="30" y="32"/>
                    </a:lnTo>
                    <a:lnTo>
                      <a:pt x="41" y="34"/>
                    </a:lnTo>
                    <a:lnTo>
                      <a:pt x="53" y="34"/>
                    </a:lnTo>
                    <a:lnTo>
                      <a:pt x="64" y="32"/>
                    </a:lnTo>
                    <a:lnTo>
                      <a:pt x="7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018040" y="238752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30"/>
                    </a:moveTo>
                    <a:lnTo>
                      <a:pt x="66" y="24"/>
                    </a:lnTo>
                    <a:lnTo>
                      <a:pt x="63" y="17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6" y="26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42" y="34"/>
                    </a:lnTo>
                    <a:lnTo>
                      <a:pt x="53" y="34"/>
                    </a:lnTo>
                    <a:lnTo>
                      <a:pt x="61" y="33"/>
                    </a:lnTo>
                    <a:lnTo>
                      <a:pt x="6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038920" y="238860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" y="31"/>
                    </a:moveTo>
                    <a:lnTo>
                      <a:pt x="0" y="23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7"/>
                    </a:lnTo>
                    <a:lnTo>
                      <a:pt x="71" y="12"/>
                    </a:lnTo>
                    <a:lnTo>
                      <a:pt x="66" y="19"/>
                    </a:lnTo>
                    <a:lnTo>
                      <a:pt x="61" y="22"/>
                    </a:lnTo>
                    <a:lnTo>
                      <a:pt x="55" y="25"/>
                    </a:lnTo>
                    <a:lnTo>
                      <a:pt x="48" y="28"/>
                    </a:lnTo>
                    <a:lnTo>
                      <a:pt x="42" y="31"/>
                    </a:lnTo>
                    <a:lnTo>
                      <a:pt x="34" y="32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6"/>
                    </a:lnTo>
                    <a:lnTo>
                      <a:pt x="5" y="34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029920" y="238356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29" y="0"/>
                    </a:moveTo>
                    <a:lnTo>
                      <a:pt x="38" y="0"/>
                    </a:lnTo>
                    <a:lnTo>
                      <a:pt x="45" y="4"/>
                    </a:lnTo>
                    <a:lnTo>
                      <a:pt x="51" y="9"/>
                    </a:lnTo>
                    <a:lnTo>
                      <a:pt x="54" y="16"/>
                    </a:lnTo>
                    <a:lnTo>
                      <a:pt x="51" y="23"/>
                    </a:lnTo>
                    <a:lnTo>
                      <a:pt x="45" y="29"/>
                    </a:lnTo>
                    <a:lnTo>
                      <a:pt x="38" y="34"/>
                    </a:lnTo>
                    <a:lnTo>
                      <a:pt x="29" y="37"/>
                    </a:lnTo>
                    <a:lnTo>
                      <a:pt x="17" y="34"/>
                    </a:lnTo>
                    <a:lnTo>
                      <a:pt x="7" y="29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4997880" y="235224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21" y="0"/>
                    </a:moveTo>
                    <a:lnTo>
                      <a:pt x="26" y="2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5" y="17"/>
                    </a:lnTo>
                    <a:lnTo>
                      <a:pt x="36" y="23"/>
                    </a:lnTo>
                    <a:lnTo>
                      <a:pt x="37" y="29"/>
                    </a:lnTo>
                    <a:lnTo>
                      <a:pt x="36" y="34"/>
                    </a:lnTo>
                    <a:lnTo>
                      <a:pt x="35" y="40"/>
                    </a:lnTo>
                    <a:lnTo>
                      <a:pt x="32" y="46"/>
                    </a:lnTo>
                    <a:lnTo>
                      <a:pt x="31" y="52"/>
                    </a:lnTo>
                    <a:lnTo>
                      <a:pt x="26" y="58"/>
                    </a:lnTo>
                    <a:lnTo>
                      <a:pt x="21" y="61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996800" y="236880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20" y="59"/>
                    </a:moveTo>
                    <a:lnTo>
                      <a:pt x="25" y="56"/>
                    </a:lnTo>
                    <a:lnTo>
                      <a:pt x="30" y="50"/>
                    </a:lnTo>
                    <a:lnTo>
                      <a:pt x="31" y="45"/>
                    </a:lnTo>
                    <a:lnTo>
                      <a:pt x="33" y="41"/>
                    </a:lnTo>
                    <a:lnTo>
                      <a:pt x="34" y="34"/>
                    </a:lnTo>
                    <a:lnTo>
                      <a:pt x="36" y="29"/>
                    </a:lnTo>
                    <a:lnTo>
                      <a:pt x="34" y="23"/>
                    </a:lnTo>
                    <a:lnTo>
                      <a:pt x="33" y="17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5" y="50"/>
                    </a:lnTo>
                    <a:lnTo>
                      <a:pt x="11" y="56"/>
                    </a:lnTo>
                    <a:lnTo>
                      <a:pt x="2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983120" y="2359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4"/>
                    </a:lnTo>
                    <a:lnTo>
                      <a:pt x="6" y="17"/>
                    </a:lnTo>
                    <a:lnTo>
                      <a:pt x="14" y="10"/>
                    </a:lnTo>
                    <a:lnTo>
                      <a:pt x="26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7" y="12"/>
                    </a:lnTo>
                    <a:lnTo>
                      <a:pt x="62" y="20"/>
                    </a:lnTo>
                    <a:lnTo>
                      <a:pt x="53" y="27"/>
                    </a:lnTo>
                    <a:lnTo>
                      <a:pt x="43" y="34"/>
                    </a:lnTo>
                    <a:lnTo>
                      <a:pt x="35" y="35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5" y="36"/>
                    </a:lnTo>
                    <a:lnTo>
                      <a:pt x="5" y="34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003280" y="23608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1"/>
                    </a:moveTo>
                    <a:lnTo>
                      <a:pt x="68" y="23"/>
                    </a:lnTo>
                    <a:lnTo>
                      <a:pt x="63" y="15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7" y="5"/>
                    </a:lnTo>
                    <a:lnTo>
                      <a:pt x="41" y="3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6" y="20"/>
                    </a:lnTo>
                    <a:lnTo>
                      <a:pt x="10" y="23"/>
                    </a:lnTo>
                    <a:lnTo>
                      <a:pt x="15" y="26"/>
                    </a:lnTo>
                    <a:lnTo>
                      <a:pt x="21" y="28"/>
                    </a:lnTo>
                    <a:lnTo>
                      <a:pt x="29" y="31"/>
                    </a:lnTo>
                    <a:lnTo>
                      <a:pt x="41" y="34"/>
                    </a:lnTo>
                    <a:lnTo>
                      <a:pt x="54" y="35"/>
                    </a:lnTo>
                    <a:lnTo>
                      <a:pt x="64" y="34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4983120" y="23680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28"/>
                    </a:moveTo>
                    <a:lnTo>
                      <a:pt x="67" y="22"/>
                    </a:lnTo>
                    <a:lnTo>
                      <a:pt x="62" y="16"/>
                    </a:lnTo>
                    <a:lnTo>
                      <a:pt x="53" y="10"/>
                    </a:lnTo>
                    <a:lnTo>
                      <a:pt x="43" y="5"/>
                    </a:lnTo>
                    <a:lnTo>
                      <a:pt x="35" y="2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4" y="25"/>
                    </a:lnTo>
                    <a:lnTo>
                      <a:pt x="26" y="31"/>
                    </a:lnTo>
                    <a:lnTo>
                      <a:pt x="33" y="32"/>
                    </a:lnTo>
                    <a:lnTo>
                      <a:pt x="41" y="34"/>
                    </a:lnTo>
                    <a:lnTo>
                      <a:pt x="46" y="34"/>
                    </a:lnTo>
                    <a:lnTo>
                      <a:pt x="52" y="35"/>
                    </a:lnTo>
                    <a:lnTo>
                      <a:pt x="60" y="32"/>
                    </a:lnTo>
                    <a:lnTo>
                      <a:pt x="67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003280" y="23698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" y="28"/>
                    </a:moveTo>
                    <a:lnTo>
                      <a:pt x="0" y="22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6"/>
                    </a:lnTo>
                    <a:lnTo>
                      <a:pt x="29" y="5"/>
                    </a:lnTo>
                    <a:lnTo>
                      <a:pt x="41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0" y="5"/>
                    </a:lnTo>
                    <a:lnTo>
                      <a:pt x="68" y="12"/>
                    </a:lnTo>
                    <a:lnTo>
                      <a:pt x="63" y="19"/>
                    </a:lnTo>
                    <a:lnTo>
                      <a:pt x="58" y="22"/>
                    </a:lnTo>
                    <a:lnTo>
                      <a:pt x="54" y="25"/>
                    </a:lnTo>
                    <a:lnTo>
                      <a:pt x="47" y="28"/>
                    </a:lnTo>
                    <a:lnTo>
                      <a:pt x="41" y="31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6" y="32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4995000" y="236376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25" y="0"/>
                    </a:moveTo>
                    <a:lnTo>
                      <a:pt x="32" y="1"/>
                    </a:lnTo>
                    <a:lnTo>
                      <a:pt x="41" y="6"/>
                    </a:lnTo>
                    <a:lnTo>
                      <a:pt x="46" y="13"/>
                    </a:lnTo>
                    <a:lnTo>
                      <a:pt x="48" y="21"/>
                    </a:lnTo>
                    <a:lnTo>
                      <a:pt x="46" y="27"/>
                    </a:lnTo>
                    <a:lnTo>
                      <a:pt x="41" y="34"/>
                    </a:lnTo>
                    <a:lnTo>
                      <a:pt x="32" y="38"/>
                    </a:lnTo>
                    <a:lnTo>
                      <a:pt x="25" y="40"/>
                    </a:lnTo>
                    <a:lnTo>
                      <a:pt x="14" y="38"/>
                    </a:lnTo>
                    <a:lnTo>
                      <a:pt x="6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414320" y="26298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0"/>
                    </a:moveTo>
                    <a:lnTo>
                      <a:pt x="21" y="2"/>
                    </a:lnTo>
                    <a:lnTo>
                      <a:pt x="26" y="8"/>
                    </a:lnTo>
                    <a:lnTo>
                      <a:pt x="28" y="12"/>
                    </a:lnTo>
                    <a:lnTo>
                      <a:pt x="30" y="17"/>
                    </a:lnTo>
                    <a:lnTo>
                      <a:pt x="31" y="23"/>
                    </a:lnTo>
                    <a:lnTo>
                      <a:pt x="32" y="30"/>
                    </a:lnTo>
                    <a:lnTo>
                      <a:pt x="31" y="35"/>
                    </a:lnTo>
                    <a:lnTo>
                      <a:pt x="30" y="41"/>
                    </a:lnTo>
                    <a:lnTo>
                      <a:pt x="28" y="46"/>
                    </a:lnTo>
                    <a:lnTo>
                      <a:pt x="26" y="51"/>
                    </a:lnTo>
                    <a:lnTo>
                      <a:pt x="21" y="57"/>
                    </a:lnTo>
                    <a:lnTo>
                      <a:pt x="16" y="60"/>
                    </a:lnTo>
                    <a:lnTo>
                      <a:pt x="8" y="57"/>
                    </a:lnTo>
                    <a:lnTo>
                      <a:pt x="3" y="51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413600" y="26460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0" y="60"/>
                    </a:moveTo>
                    <a:lnTo>
                      <a:pt x="25" y="57"/>
                    </a:lnTo>
                    <a:lnTo>
                      <a:pt x="30" y="51"/>
                    </a:lnTo>
                    <a:lnTo>
                      <a:pt x="31" y="46"/>
                    </a:lnTo>
                    <a:lnTo>
                      <a:pt x="34" y="41"/>
                    </a:lnTo>
                    <a:lnTo>
                      <a:pt x="35" y="34"/>
                    </a:lnTo>
                    <a:lnTo>
                      <a:pt x="36" y="29"/>
                    </a:lnTo>
                    <a:lnTo>
                      <a:pt x="35" y="23"/>
                    </a:lnTo>
                    <a:lnTo>
                      <a:pt x="34" y="17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5" y="51"/>
                    </a:lnTo>
                    <a:lnTo>
                      <a:pt x="12" y="57"/>
                    </a:lnTo>
                    <a:lnTo>
                      <a:pt x="2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398840" y="26366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3" y="11"/>
                    </a:lnTo>
                    <a:lnTo>
                      <a:pt x="27" y="6"/>
                    </a:lnTo>
                    <a:lnTo>
                      <a:pt x="33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6" y="11"/>
                    </a:lnTo>
                    <a:lnTo>
                      <a:pt x="61" y="20"/>
                    </a:lnTo>
                    <a:lnTo>
                      <a:pt x="53" y="27"/>
                    </a:lnTo>
                    <a:lnTo>
                      <a:pt x="43" y="33"/>
                    </a:lnTo>
                    <a:lnTo>
                      <a:pt x="34" y="34"/>
                    </a:lnTo>
                    <a:lnTo>
                      <a:pt x="27" y="36"/>
                    </a:lnTo>
                    <a:lnTo>
                      <a:pt x="21" y="36"/>
                    </a:lnTo>
                    <a:lnTo>
                      <a:pt x="14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420080" y="2638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71" y="27"/>
                    </a:moveTo>
                    <a:lnTo>
                      <a:pt x="71" y="21"/>
                    </a:lnTo>
                    <a:lnTo>
                      <a:pt x="66" y="15"/>
                    </a:lnTo>
                    <a:lnTo>
                      <a:pt x="61" y="12"/>
                    </a:lnTo>
                    <a:lnTo>
                      <a:pt x="56" y="8"/>
                    </a:lnTo>
                    <a:lnTo>
                      <a:pt x="48" y="5"/>
                    </a:lnTo>
                    <a:lnTo>
                      <a:pt x="42" y="3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0" y="21"/>
                    </a:lnTo>
                    <a:lnTo>
                      <a:pt x="15" y="24"/>
                    </a:lnTo>
                    <a:lnTo>
                      <a:pt x="21" y="27"/>
                    </a:lnTo>
                    <a:lnTo>
                      <a:pt x="30" y="30"/>
                    </a:lnTo>
                    <a:lnTo>
                      <a:pt x="42" y="33"/>
                    </a:lnTo>
                    <a:lnTo>
                      <a:pt x="55" y="34"/>
                    </a:lnTo>
                    <a:lnTo>
                      <a:pt x="64" y="32"/>
                    </a:lnTo>
                    <a:lnTo>
                      <a:pt x="7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398840" y="2645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27"/>
                    </a:moveTo>
                    <a:lnTo>
                      <a:pt x="66" y="21"/>
                    </a:lnTo>
                    <a:lnTo>
                      <a:pt x="61" y="15"/>
                    </a:lnTo>
                    <a:lnTo>
                      <a:pt x="53" y="9"/>
                    </a:lnTo>
                    <a:lnTo>
                      <a:pt x="43" y="4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3" y="24"/>
                    </a:lnTo>
                    <a:lnTo>
                      <a:pt x="27" y="30"/>
                    </a:lnTo>
                    <a:lnTo>
                      <a:pt x="33" y="31"/>
                    </a:lnTo>
                    <a:lnTo>
                      <a:pt x="40" y="33"/>
                    </a:lnTo>
                    <a:lnTo>
                      <a:pt x="45" y="33"/>
                    </a:lnTo>
                    <a:lnTo>
                      <a:pt x="51" y="34"/>
                    </a:lnTo>
                    <a:lnTo>
                      <a:pt x="60" y="32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420080" y="264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2" y="29"/>
                    </a:moveTo>
                    <a:lnTo>
                      <a:pt x="0" y="22"/>
                    </a:lnTo>
                    <a:lnTo>
                      <a:pt x="6" y="15"/>
                    </a:lnTo>
                    <a:lnTo>
                      <a:pt x="10" y="11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66" y="18"/>
                    </a:lnTo>
                    <a:lnTo>
                      <a:pt x="61" y="21"/>
                    </a:lnTo>
                    <a:lnTo>
                      <a:pt x="56" y="25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6" y="33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4411440" y="264096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49" h="37">
                    <a:moveTo>
                      <a:pt x="24" y="0"/>
                    </a:moveTo>
                    <a:lnTo>
                      <a:pt x="32" y="2"/>
                    </a:lnTo>
                    <a:lnTo>
                      <a:pt x="40" y="7"/>
                    </a:lnTo>
                    <a:lnTo>
                      <a:pt x="46" y="12"/>
                    </a:lnTo>
                    <a:lnTo>
                      <a:pt x="49" y="20"/>
                    </a:lnTo>
                    <a:lnTo>
                      <a:pt x="46" y="26"/>
                    </a:lnTo>
                    <a:lnTo>
                      <a:pt x="40" y="32"/>
                    </a:lnTo>
                    <a:lnTo>
                      <a:pt x="32" y="35"/>
                    </a:lnTo>
                    <a:lnTo>
                      <a:pt x="24" y="37"/>
                    </a:lnTo>
                    <a:lnTo>
                      <a:pt x="13" y="35"/>
                    </a:lnTo>
                    <a:lnTo>
                      <a:pt x="6" y="32"/>
                    </a:lnTo>
                    <a:lnTo>
                      <a:pt x="1" y="26"/>
                    </a:lnTo>
                    <a:lnTo>
                      <a:pt x="0" y="20"/>
                    </a:lnTo>
                    <a:lnTo>
                      <a:pt x="1" y="12"/>
                    </a:lnTo>
                    <a:lnTo>
                      <a:pt x="6" y="7"/>
                    </a:lnTo>
                    <a:lnTo>
                      <a:pt x="13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4369680" y="26409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17" y="0"/>
                    </a:moveTo>
                    <a:lnTo>
                      <a:pt x="25" y="3"/>
                    </a:lnTo>
                    <a:lnTo>
                      <a:pt x="32" y="9"/>
                    </a:lnTo>
                    <a:lnTo>
                      <a:pt x="36" y="17"/>
                    </a:lnTo>
                    <a:lnTo>
                      <a:pt x="38" y="27"/>
                    </a:lnTo>
                    <a:lnTo>
                      <a:pt x="37" y="32"/>
                    </a:lnTo>
                    <a:lnTo>
                      <a:pt x="36" y="38"/>
                    </a:lnTo>
                    <a:lnTo>
                      <a:pt x="33" y="42"/>
                    </a:lnTo>
                    <a:lnTo>
                      <a:pt x="32" y="47"/>
                    </a:lnTo>
                    <a:lnTo>
                      <a:pt x="25" y="54"/>
                    </a:lnTo>
                    <a:lnTo>
                      <a:pt x="17" y="57"/>
                    </a:lnTo>
                    <a:lnTo>
                      <a:pt x="11" y="54"/>
                    </a:lnTo>
                    <a:lnTo>
                      <a:pt x="6" y="47"/>
                    </a:lnTo>
                    <a:lnTo>
                      <a:pt x="1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369680" y="26578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6" y="56"/>
                    </a:moveTo>
                    <a:lnTo>
                      <a:pt x="23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4" y="37"/>
                    </a:lnTo>
                    <a:lnTo>
                      <a:pt x="36" y="31"/>
                    </a:lnTo>
                    <a:lnTo>
                      <a:pt x="37" y="26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23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10" y="53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355640" y="264816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29"/>
                    </a:moveTo>
                    <a:lnTo>
                      <a:pt x="1" y="22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9" y="1"/>
                    </a:lnTo>
                    <a:lnTo>
                      <a:pt x="53" y="0"/>
                    </a:lnTo>
                    <a:lnTo>
                      <a:pt x="63" y="2"/>
                    </a:lnTo>
                    <a:lnTo>
                      <a:pt x="69" y="8"/>
                    </a:lnTo>
                    <a:lnTo>
                      <a:pt x="69" y="13"/>
                    </a:lnTo>
                    <a:lnTo>
                      <a:pt x="64" y="19"/>
                    </a:lnTo>
                    <a:lnTo>
                      <a:pt x="59" y="22"/>
                    </a:lnTo>
                    <a:lnTo>
                      <a:pt x="54" y="25"/>
                    </a:lnTo>
                    <a:lnTo>
                      <a:pt x="47" y="29"/>
                    </a:lnTo>
                    <a:lnTo>
                      <a:pt x="39" y="32"/>
                    </a:lnTo>
                    <a:lnTo>
                      <a:pt x="26" y="35"/>
                    </a:lnTo>
                    <a:lnTo>
                      <a:pt x="15" y="35"/>
                    </a:lnTo>
                    <a:lnTo>
                      <a:pt x="5" y="3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376880" y="264924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31"/>
                    </a:moveTo>
                    <a:lnTo>
                      <a:pt x="65" y="24"/>
                    </a:lnTo>
                    <a:lnTo>
                      <a:pt x="62" y="16"/>
                    </a:lnTo>
                    <a:lnTo>
                      <a:pt x="50" y="8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19"/>
                    </a:lnTo>
                    <a:lnTo>
                      <a:pt x="12" y="26"/>
                    </a:lnTo>
                    <a:lnTo>
                      <a:pt x="25" y="31"/>
                    </a:lnTo>
                    <a:lnTo>
                      <a:pt x="31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50" y="35"/>
                    </a:lnTo>
                    <a:lnTo>
                      <a:pt x="60" y="34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355640" y="265752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9" y="29"/>
                    </a:moveTo>
                    <a:lnTo>
                      <a:pt x="69" y="22"/>
                    </a:lnTo>
                    <a:lnTo>
                      <a:pt x="64" y="15"/>
                    </a:lnTo>
                    <a:lnTo>
                      <a:pt x="59" y="11"/>
                    </a:lnTo>
                    <a:lnTo>
                      <a:pt x="54" y="8"/>
                    </a:lnTo>
                    <a:lnTo>
                      <a:pt x="47" y="5"/>
                    </a:lnTo>
                    <a:lnTo>
                      <a:pt x="39" y="3"/>
                    </a:lnTo>
                    <a:lnTo>
                      <a:pt x="26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17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20" y="26"/>
                    </a:lnTo>
                    <a:lnTo>
                      <a:pt x="28" y="29"/>
                    </a:lnTo>
                    <a:lnTo>
                      <a:pt x="39" y="32"/>
                    </a:lnTo>
                    <a:lnTo>
                      <a:pt x="53" y="33"/>
                    </a:lnTo>
                    <a:lnTo>
                      <a:pt x="63" y="32"/>
                    </a:lnTo>
                    <a:lnTo>
                      <a:pt x="69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376880" y="26582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1" y="28"/>
                    </a:moveTo>
                    <a:lnTo>
                      <a:pt x="0" y="22"/>
                    </a:lnTo>
                    <a:lnTo>
                      <a:pt x="5" y="16"/>
                    </a:lnTo>
                    <a:lnTo>
                      <a:pt x="12" y="10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5" y="12"/>
                    </a:lnTo>
                    <a:lnTo>
                      <a:pt x="62" y="19"/>
                    </a:lnTo>
                    <a:lnTo>
                      <a:pt x="50" y="25"/>
                    </a:lnTo>
                    <a:lnTo>
                      <a:pt x="41" y="31"/>
                    </a:lnTo>
                    <a:lnTo>
                      <a:pt x="33" y="32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5" y="34"/>
                    </a:lnTo>
                    <a:lnTo>
                      <a:pt x="5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367520" y="26517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25" y="0"/>
                    </a:moveTo>
                    <a:lnTo>
                      <a:pt x="36" y="1"/>
                    </a:lnTo>
                    <a:lnTo>
                      <a:pt x="45" y="6"/>
                    </a:lnTo>
                    <a:lnTo>
                      <a:pt x="51" y="13"/>
                    </a:lnTo>
                    <a:lnTo>
                      <a:pt x="53" y="21"/>
                    </a:lnTo>
                    <a:lnTo>
                      <a:pt x="51" y="27"/>
                    </a:lnTo>
                    <a:lnTo>
                      <a:pt x="45" y="33"/>
                    </a:lnTo>
                    <a:lnTo>
                      <a:pt x="36" y="38"/>
                    </a:lnTo>
                    <a:lnTo>
                      <a:pt x="25" y="40"/>
                    </a:lnTo>
                    <a:lnTo>
                      <a:pt x="15" y="38"/>
                    </a:lnTo>
                    <a:lnTo>
                      <a:pt x="9" y="33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9" y="6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744800" y="2890440"/>
                <a:ext cx="27360" cy="47520"/>
              </a:xfrm>
              <a:custGeom>
                <a:avLst/>
                <a:gdLst/>
                <a:ahLst/>
                <a:rect l="l" t="t" r="r" b="b"/>
                <a:pathLst>
                  <a:path w="105" h="176">
                    <a:moveTo>
                      <a:pt x="53" y="0"/>
                    </a:moveTo>
                    <a:lnTo>
                      <a:pt x="62" y="1"/>
                    </a:lnTo>
                    <a:lnTo>
                      <a:pt x="72" y="6"/>
                    </a:lnTo>
                    <a:lnTo>
                      <a:pt x="81" y="14"/>
                    </a:lnTo>
                    <a:lnTo>
                      <a:pt x="89" y="25"/>
                    </a:lnTo>
                    <a:lnTo>
                      <a:pt x="96" y="37"/>
                    </a:lnTo>
                    <a:lnTo>
                      <a:pt x="101" y="53"/>
                    </a:lnTo>
                    <a:lnTo>
                      <a:pt x="103" y="68"/>
                    </a:lnTo>
                    <a:lnTo>
                      <a:pt x="105" y="86"/>
                    </a:lnTo>
                    <a:lnTo>
                      <a:pt x="103" y="104"/>
                    </a:lnTo>
                    <a:lnTo>
                      <a:pt x="101" y="121"/>
                    </a:lnTo>
                    <a:lnTo>
                      <a:pt x="96" y="135"/>
                    </a:lnTo>
                    <a:lnTo>
                      <a:pt x="89" y="149"/>
                    </a:lnTo>
                    <a:lnTo>
                      <a:pt x="81" y="160"/>
                    </a:lnTo>
                    <a:lnTo>
                      <a:pt x="72" y="169"/>
                    </a:lnTo>
                    <a:lnTo>
                      <a:pt x="62" y="174"/>
                    </a:lnTo>
                    <a:lnTo>
                      <a:pt x="53" y="176"/>
                    </a:lnTo>
                    <a:lnTo>
                      <a:pt x="40" y="174"/>
                    </a:lnTo>
                    <a:lnTo>
                      <a:pt x="30" y="169"/>
                    </a:lnTo>
                    <a:lnTo>
                      <a:pt x="22" y="160"/>
                    </a:lnTo>
                    <a:lnTo>
                      <a:pt x="14" y="149"/>
                    </a:lnTo>
                    <a:lnTo>
                      <a:pt x="7" y="135"/>
                    </a:lnTo>
                    <a:lnTo>
                      <a:pt x="3" y="121"/>
                    </a:lnTo>
                    <a:lnTo>
                      <a:pt x="0" y="104"/>
                    </a:lnTo>
                    <a:lnTo>
                      <a:pt x="0" y="86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7" y="37"/>
                    </a:lnTo>
                    <a:lnTo>
                      <a:pt x="14" y="25"/>
                    </a:lnTo>
                    <a:lnTo>
                      <a:pt x="22" y="14"/>
                    </a:lnTo>
                    <a:lnTo>
                      <a:pt x="30" y="6"/>
                    </a:lnTo>
                    <a:lnTo>
                      <a:pt x="40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742280" y="293904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8">
                    <a:moveTo>
                      <a:pt x="54" y="178"/>
                    </a:moveTo>
                    <a:lnTo>
                      <a:pt x="64" y="175"/>
                    </a:lnTo>
                    <a:lnTo>
                      <a:pt x="75" y="170"/>
                    </a:lnTo>
                    <a:lnTo>
                      <a:pt x="82" y="161"/>
                    </a:lnTo>
                    <a:lnTo>
                      <a:pt x="91" y="151"/>
                    </a:lnTo>
                    <a:lnTo>
                      <a:pt x="97" y="138"/>
                    </a:lnTo>
                    <a:lnTo>
                      <a:pt x="103" y="123"/>
                    </a:lnTo>
                    <a:lnTo>
                      <a:pt x="106" y="107"/>
                    </a:lnTo>
                    <a:lnTo>
                      <a:pt x="107" y="91"/>
                    </a:lnTo>
                    <a:lnTo>
                      <a:pt x="106" y="71"/>
                    </a:lnTo>
                    <a:lnTo>
                      <a:pt x="103" y="55"/>
                    </a:lnTo>
                    <a:lnTo>
                      <a:pt x="97" y="38"/>
                    </a:lnTo>
                    <a:lnTo>
                      <a:pt x="91" y="26"/>
                    </a:lnTo>
                    <a:lnTo>
                      <a:pt x="82" y="14"/>
                    </a:lnTo>
                    <a:lnTo>
                      <a:pt x="75" y="6"/>
                    </a:lnTo>
                    <a:lnTo>
                      <a:pt x="64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2" y="6"/>
                    </a:lnTo>
                    <a:lnTo>
                      <a:pt x="22" y="14"/>
                    </a:lnTo>
                    <a:lnTo>
                      <a:pt x="15" y="26"/>
                    </a:lnTo>
                    <a:lnTo>
                      <a:pt x="7" y="38"/>
                    </a:lnTo>
                    <a:lnTo>
                      <a:pt x="4" y="55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0" y="107"/>
                    </a:lnTo>
                    <a:lnTo>
                      <a:pt x="4" y="123"/>
                    </a:lnTo>
                    <a:lnTo>
                      <a:pt x="7" y="138"/>
                    </a:lnTo>
                    <a:lnTo>
                      <a:pt x="15" y="151"/>
                    </a:lnTo>
                    <a:lnTo>
                      <a:pt x="22" y="161"/>
                    </a:lnTo>
                    <a:lnTo>
                      <a:pt x="32" y="170"/>
                    </a:lnTo>
                    <a:lnTo>
                      <a:pt x="43" y="175"/>
                    </a:lnTo>
                    <a:lnTo>
                      <a:pt x="54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698720" y="291132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4" y="88"/>
                    </a:moveTo>
                    <a:lnTo>
                      <a:pt x="0" y="78"/>
                    </a:lnTo>
                    <a:lnTo>
                      <a:pt x="3" y="67"/>
                    </a:lnTo>
                    <a:lnTo>
                      <a:pt x="8" y="57"/>
                    </a:lnTo>
                    <a:lnTo>
                      <a:pt x="18" y="48"/>
                    </a:lnTo>
                    <a:lnTo>
                      <a:pt x="29" y="38"/>
                    </a:lnTo>
                    <a:lnTo>
                      <a:pt x="46" y="29"/>
                    </a:lnTo>
                    <a:lnTo>
                      <a:pt x="64" y="20"/>
                    </a:lnTo>
                    <a:lnTo>
                      <a:pt x="85" y="14"/>
                    </a:lnTo>
                    <a:lnTo>
                      <a:pt x="106" y="7"/>
                    </a:lnTo>
                    <a:lnTo>
                      <a:pt x="127" y="3"/>
                    </a:lnTo>
                    <a:lnTo>
                      <a:pt x="145" y="0"/>
                    </a:lnTo>
                    <a:lnTo>
                      <a:pt x="164" y="1"/>
                    </a:lnTo>
                    <a:lnTo>
                      <a:pt x="178" y="3"/>
                    </a:lnTo>
                    <a:lnTo>
                      <a:pt x="190" y="7"/>
                    </a:lnTo>
                    <a:lnTo>
                      <a:pt x="199" y="12"/>
                    </a:lnTo>
                    <a:lnTo>
                      <a:pt x="205" y="21"/>
                    </a:lnTo>
                    <a:lnTo>
                      <a:pt x="206" y="30"/>
                    </a:lnTo>
                    <a:lnTo>
                      <a:pt x="205" y="39"/>
                    </a:lnTo>
                    <a:lnTo>
                      <a:pt x="199" y="49"/>
                    </a:lnTo>
                    <a:lnTo>
                      <a:pt x="190" y="59"/>
                    </a:lnTo>
                    <a:lnTo>
                      <a:pt x="178" y="68"/>
                    </a:lnTo>
                    <a:lnTo>
                      <a:pt x="162" y="78"/>
                    </a:lnTo>
                    <a:lnTo>
                      <a:pt x="145" y="86"/>
                    </a:lnTo>
                    <a:lnTo>
                      <a:pt x="127" y="95"/>
                    </a:lnTo>
                    <a:lnTo>
                      <a:pt x="105" y="100"/>
                    </a:lnTo>
                    <a:lnTo>
                      <a:pt x="84" y="104"/>
                    </a:lnTo>
                    <a:lnTo>
                      <a:pt x="66" y="105"/>
                    </a:lnTo>
                    <a:lnTo>
                      <a:pt x="48" y="106"/>
                    </a:lnTo>
                    <a:lnTo>
                      <a:pt x="31" y="103"/>
                    </a:lnTo>
                    <a:lnTo>
                      <a:pt x="20" y="100"/>
                    </a:lnTo>
                    <a:lnTo>
                      <a:pt x="10" y="94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762080" y="2915640"/>
                <a:ext cx="52920" cy="28080"/>
              </a:xfrm>
              <a:custGeom>
                <a:avLst/>
                <a:gdLst/>
                <a:ahLst/>
                <a:rect l="l" t="t" r="r" b="b"/>
                <a:pathLst>
                  <a:path w="206" h="104">
                    <a:moveTo>
                      <a:pt x="206" y="85"/>
                    </a:moveTo>
                    <a:lnTo>
                      <a:pt x="206" y="76"/>
                    </a:lnTo>
                    <a:lnTo>
                      <a:pt x="204" y="68"/>
                    </a:lnTo>
                    <a:lnTo>
                      <a:pt x="196" y="58"/>
                    </a:lnTo>
                    <a:lnTo>
                      <a:pt x="188" y="48"/>
                    </a:lnTo>
                    <a:lnTo>
                      <a:pt x="175" y="38"/>
                    </a:lnTo>
                    <a:lnTo>
                      <a:pt x="160" y="28"/>
                    </a:lnTo>
                    <a:lnTo>
                      <a:pt x="142" y="19"/>
                    </a:lnTo>
                    <a:lnTo>
                      <a:pt x="125" y="12"/>
                    </a:lnTo>
                    <a:lnTo>
                      <a:pt x="103" y="5"/>
                    </a:lnTo>
                    <a:lnTo>
                      <a:pt x="82" y="2"/>
                    </a:lnTo>
                    <a:lnTo>
                      <a:pt x="63" y="0"/>
                    </a:lnTo>
                    <a:lnTo>
                      <a:pt x="46" y="1"/>
                    </a:lnTo>
                    <a:lnTo>
                      <a:pt x="30" y="3"/>
                    </a:lnTo>
                    <a:lnTo>
                      <a:pt x="18" y="8"/>
                    </a:lnTo>
                    <a:lnTo>
                      <a:pt x="8" y="13"/>
                    </a:lnTo>
                    <a:lnTo>
                      <a:pt x="2" y="22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8" y="47"/>
                    </a:lnTo>
                    <a:lnTo>
                      <a:pt x="18" y="58"/>
                    </a:lnTo>
                    <a:lnTo>
                      <a:pt x="30" y="67"/>
                    </a:lnTo>
                    <a:lnTo>
                      <a:pt x="45" y="76"/>
                    </a:lnTo>
                    <a:lnTo>
                      <a:pt x="62" y="84"/>
                    </a:lnTo>
                    <a:lnTo>
                      <a:pt x="83" y="92"/>
                    </a:lnTo>
                    <a:lnTo>
                      <a:pt x="104" y="97"/>
                    </a:lnTo>
                    <a:lnTo>
                      <a:pt x="125" y="101"/>
                    </a:lnTo>
                    <a:lnTo>
                      <a:pt x="142" y="103"/>
                    </a:lnTo>
                    <a:lnTo>
                      <a:pt x="162" y="104"/>
                    </a:lnTo>
                    <a:lnTo>
                      <a:pt x="176" y="101"/>
                    </a:lnTo>
                    <a:lnTo>
                      <a:pt x="189" y="98"/>
                    </a:lnTo>
                    <a:lnTo>
                      <a:pt x="199" y="92"/>
                    </a:lnTo>
                    <a:lnTo>
                      <a:pt x="206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698720" y="293760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205" y="87"/>
                    </a:moveTo>
                    <a:lnTo>
                      <a:pt x="206" y="77"/>
                    </a:lnTo>
                    <a:lnTo>
                      <a:pt x="205" y="68"/>
                    </a:lnTo>
                    <a:lnTo>
                      <a:pt x="199" y="58"/>
                    </a:lnTo>
                    <a:lnTo>
                      <a:pt x="190" y="49"/>
                    </a:lnTo>
                    <a:lnTo>
                      <a:pt x="178" y="38"/>
                    </a:lnTo>
                    <a:lnTo>
                      <a:pt x="162" y="29"/>
                    </a:lnTo>
                    <a:lnTo>
                      <a:pt x="145" y="19"/>
                    </a:lnTo>
                    <a:lnTo>
                      <a:pt x="127" y="12"/>
                    </a:lnTo>
                    <a:lnTo>
                      <a:pt x="105" y="5"/>
                    </a:lnTo>
                    <a:lnTo>
                      <a:pt x="84" y="2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1" y="2"/>
                    </a:lnTo>
                    <a:lnTo>
                      <a:pt x="20" y="6"/>
                    </a:lnTo>
                    <a:lnTo>
                      <a:pt x="10" y="11"/>
                    </a:lnTo>
                    <a:lnTo>
                      <a:pt x="4" y="18"/>
                    </a:lnTo>
                    <a:lnTo>
                      <a:pt x="0" y="26"/>
                    </a:lnTo>
                    <a:lnTo>
                      <a:pt x="3" y="37"/>
                    </a:lnTo>
                    <a:lnTo>
                      <a:pt x="8" y="47"/>
                    </a:lnTo>
                    <a:lnTo>
                      <a:pt x="18" y="58"/>
                    </a:lnTo>
                    <a:lnTo>
                      <a:pt x="29" y="67"/>
                    </a:lnTo>
                    <a:lnTo>
                      <a:pt x="46" y="76"/>
                    </a:lnTo>
                    <a:lnTo>
                      <a:pt x="64" y="85"/>
                    </a:lnTo>
                    <a:lnTo>
                      <a:pt x="85" y="93"/>
                    </a:lnTo>
                    <a:lnTo>
                      <a:pt x="106" y="99"/>
                    </a:lnTo>
                    <a:lnTo>
                      <a:pt x="127" y="103"/>
                    </a:lnTo>
                    <a:lnTo>
                      <a:pt x="145" y="105"/>
                    </a:lnTo>
                    <a:lnTo>
                      <a:pt x="164" y="105"/>
                    </a:lnTo>
                    <a:lnTo>
                      <a:pt x="178" y="102"/>
                    </a:lnTo>
                    <a:lnTo>
                      <a:pt x="190" y="99"/>
                    </a:lnTo>
                    <a:lnTo>
                      <a:pt x="199" y="93"/>
                    </a:lnTo>
                    <a:lnTo>
                      <a:pt x="20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762080" y="2941200"/>
                <a:ext cx="52920" cy="2772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2" y="89"/>
                    </a:moveTo>
                    <a:lnTo>
                      <a:pt x="0" y="79"/>
                    </a:lnTo>
                    <a:lnTo>
                      <a:pt x="3" y="69"/>
                    </a:lnTo>
                    <a:lnTo>
                      <a:pt x="8" y="58"/>
                    </a:lnTo>
                    <a:lnTo>
                      <a:pt x="18" y="49"/>
                    </a:lnTo>
                    <a:lnTo>
                      <a:pt x="30" y="39"/>
                    </a:lnTo>
                    <a:lnTo>
                      <a:pt x="45" y="29"/>
                    </a:lnTo>
                    <a:lnTo>
                      <a:pt x="62" y="21"/>
                    </a:lnTo>
                    <a:lnTo>
                      <a:pt x="83" y="15"/>
                    </a:lnTo>
                    <a:lnTo>
                      <a:pt x="104" y="7"/>
                    </a:lnTo>
                    <a:lnTo>
                      <a:pt x="125" y="3"/>
                    </a:lnTo>
                    <a:lnTo>
                      <a:pt x="142" y="0"/>
                    </a:lnTo>
                    <a:lnTo>
                      <a:pt x="162" y="1"/>
                    </a:lnTo>
                    <a:lnTo>
                      <a:pt x="176" y="2"/>
                    </a:lnTo>
                    <a:lnTo>
                      <a:pt x="189" y="6"/>
                    </a:lnTo>
                    <a:lnTo>
                      <a:pt x="199" y="12"/>
                    </a:lnTo>
                    <a:lnTo>
                      <a:pt x="206" y="22"/>
                    </a:lnTo>
                    <a:lnTo>
                      <a:pt x="206" y="29"/>
                    </a:lnTo>
                    <a:lnTo>
                      <a:pt x="204" y="39"/>
                    </a:lnTo>
                    <a:lnTo>
                      <a:pt x="196" y="48"/>
                    </a:lnTo>
                    <a:lnTo>
                      <a:pt x="188" y="58"/>
                    </a:lnTo>
                    <a:lnTo>
                      <a:pt x="175" y="68"/>
                    </a:lnTo>
                    <a:lnTo>
                      <a:pt x="160" y="78"/>
                    </a:lnTo>
                    <a:lnTo>
                      <a:pt x="142" y="86"/>
                    </a:lnTo>
                    <a:lnTo>
                      <a:pt x="125" y="95"/>
                    </a:lnTo>
                    <a:lnTo>
                      <a:pt x="103" y="99"/>
                    </a:lnTo>
                    <a:lnTo>
                      <a:pt x="82" y="103"/>
                    </a:lnTo>
                    <a:lnTo>
                      <a:pt x="63" y="104"/>
                    </a:lnTo>
                    <a:lnTo>
                      <a:pt x="46" y="105"/>
                    </a:lnTo>
                    <a:lnTo>
                      <a:pt x="30" y="102"/>
                    </a:lnTo>
                    <a:lnTo>
                      <a:pt x="18" y="100"/>
                    </a:lnTo>
                    <a:lnTo>
                      <a:pt x="8" y="94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734360" y="2924280"/>
                <a:ext cx="41040" cy="31320"/>
              </a:xfrm>
              <a:custGeom>
                <a:avLst/>
                <a:gdLst/>
                <a:ahLst/>
                <a:rect l="l" t="t" r="r" b="b"/>
                <a:pathLst>
                  <a:path w="159" h="117">
                    <a:moveTo>
                      <a:pt x="78" y="0"/>
                    </a:moveTo>
                    <a:lnTo>
                      <a:pt x="93" y="0"/>
                    </a:lnTo>
                    <a:lnTo>
                      <a:pt x="109" y="4"/>
                    </a:lnTo>
                    <a:lnTo>
                      <a:pt x="123" y="9"/>
                    </a:lnTo>
                    <a:lnTo>
                      <a:pt x="136" y="16"/>
                    </a:lnTo>
                    <a:lnTo>
                      <a:pt x="144" y="24"/>
                    </a:lnTo>
                    <a:lnTo>
                      <a:pt x="152" y="34"/>
                    </a:lnTo>
                    <a:lnTo>
                      <a:pt x="157" y="44"/>
                    </a:lnTo>
                    <a:lnTo>
                      <a:pt x="159" y="56"/>
                    </a:lnTo>
                    <a:lnTo>
                      <a:pt x="157" y="67"/>
                    </a:lnTo>
                    <a:lnTo>
                      <a:pt x="152" y="79"/>
                    </a:lnTo>
                    <a:lnTo>
                      <a:pt x="144" y="89"/>
                    </a:lnTo>
                    <a:lnTo>
                      <a:pt x="136" y="99"/>
                    </a:lnTo>
                    <a:lnTo>
                      <a:pt x="123" y="106"/>
                    </a:lnTo>
                    <a:lnTo>
                      <a:pt x="109" y="112"/>
                    </a:lnTo>
                    <a:lnTo>
                      <a:pt x="93" y="115"/>
                    </a:lnTo>
                    <a:lnTo>
                      <a:pt x="78" y="117"/>
                    </a:lnTo>
                    <a:lnTo>
                      <a:pt x="62" y="115"/>
                    </a:lnTo>
                    <a:lnTo>
                      <a:pt x="47" y="112"/>
                    </a:lnTo>
                    <a:lnTo>
                      <a:pt x="34" y="106"/>
                    </a:lnTo>
                    <a:lnTo>
                      <a:pt x="22" y="99"/>
                    </a:lnTo>
                    <a:lnTo>
                      <a:pt x="13" y="89"/>
                    </a:lnTo>
                    <a:lnTo>
                      <a:pt x="5" y="79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5" y="34"/>
                    </a:lnTo>
                    <a:lnTo>
                      <a:pt x="13" y="24"/>
                    </a:lnTo>
                    <a:lnTo>
                      <a:pt x="22" y="16"/>
                    </a:lnTo>
                    <a:lnTo>
                      <a:pt x="34" y="9"/>
                    </a:lnTo>
                    <a:lnTo>
                      <a:pt x="47" y="4"/>
                    </a:lnTo>
                    <a:lnTo>
                      <a:pt x="62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28280" y="262872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0" y="0"/>
                    </a:moveTo>
                    <a:lnTo>
                      <a:pt x="25" y="2"/>
                    </a:lnTo>
                    <a:lnTo>
                      <a:pt x="30" y="8"/>
                    </a:lnTo>
                    <a:lnTo>
                      <a:pt x="35" y="16"/>
                    </a:lnTo>
                    <a:lnTo>
                      <a:pt x="37" y="26"/>
                    </a:lnTo>
                    <a:lnTo>
                      <a:pt x="36" y="31"/>
                    </a:lnTo>
                    <a:lnTo>
                      <a:pt x="35" y="37"/>
                    </a:lnTo>
                    <a:lnTo>
                      <a:pt x="31" y="42"/>
                    </a:lnTo>
                    <a:lnTo>
                      <a:pt x="30" y="48"/>
                    </a:lnTo>
                    <a:lnTo>
                      <a:pt x="25" y="54"/>
                    </a:lnTo>
                    <a:lnTo>
                      <a:pt x="20" y="57"/>
                    </a:lnTo>
                    <a:lnTo>
                      <a:pt x="11" y="54"/>
                    </a:lnTo>
                    <a:lnTo>
                      <a:pt x="5" y="48"/>
                    </a:lnTo>
                    <a:lnTo>
                      <a:pt x="1" y="42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327920" y="264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6" y="56"/>
                    </a:moveTo>
                    <a:lnTo>
                      <a:pt x="23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4" y="37"/>
                    </a:lnTo>
                    <a:lnTo>
                      <a:pt x="36" y="31"/>
                    </a:lnTo>
                    <a:lnTo>
                      <a:pt x="37" y="26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23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4" y="47"/>
                    </a:lnTo>
                    <a:lnTo>
                      <a:pt x="9" y="53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313520" y="263520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68" h="37">
                    <a:moveTo>
                      <a:pt x="1" y="29"/>
                    </a:moveTo>
                    <a:lnTo>
                      <a:pt x="0" y="22"/>
                    </a:lnTo>
                    <a:lnTo>
                      <a:pt x="8" y="16"/>
                    </a:lnTo>
                    <a:lnTo>
                      <a:pt x="15" y="10"/>
                    </a:lnTo>
                    <a:lnTo>
                      <a:pt x="27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68" y="9"/>
                    </a:lnTo>
                    <a:lnTo>
                      <a:pt x="67" y="14"/>
                    </a:lnTo>
                    <a:lnTo>
                      <a:pt x="62" y="20"/>
                    </a:lnTo>
                    <a:lnTo>
                      <a:pt x="57" y="24"/>
                    </a:lnTo>
                    <a:lnTo>
                      <a:pt x="52" y="27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26" y="36"/>
                    </a:lnTo>
                    <a:lnTo>
                      <a:pt x="15" y="37"/>
                    </a:lnTo>
                    <a:lnTo>
                      <a:pt x="4" y="34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334760" y="2636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31"/>
                    </a:moveTo>
                    <a:lnTo>
                      <a:pt x="66" y="24"/>
                    </a:lnTo>
                    <a:lnTo>
                      <a:pt x="61" y="17"/>
                    </a:lnTo>
                    <a:lnTo>
                      <a:pt x="53" y="10"/>
                    </a:lnTo>
                    <a:lnTo>
                      <a:pt x="43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6" y="21"/>
                    </a:lnTo>
                    <a:lnTo>
                      <a:pt x="10" y="24"/>
                    </a:lnTo>
                    <a:lnTo>
                      <a:pt x="16" y="28"/>
                    </a:lnTo>
                    <a:lnTo>
                      <a:pt x="22" y="31"/>
                    </a:lnTo>
                    <a:lnTo>
                      <a:pt x="31" y="34"/>
                    </a:lnTo>
                    <a:lnTo>
                      <a:pt x="42" y="35"/>
                    </a:lnTo>
                    <a:lnTo>
                      <a:pt x="54" y="35"/>
                    </a:lnTo>
                    <a:lnTo>
                      <a:pt x="63" y="34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313520" y="264456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8" y="29"/>
                    </a:moveTo>
                    <a:lnTo>
                      <a:pt x="67" y="21"/>
                    </a:lnTo>
                    <a:lnTo>
                      <a:pt x="62" y="14"/>
                    </a:lnTo>
                    <a:lnTo>
                      <a:pt x="57" y="11"/>
                    </a:lnTo>
                    <a:lnTo>
                      <a:pt x="52" y="8"/>
                    </a:lnTo>
                    <a:lnTo>
                      <a:pt x="46" y="5"/>
                    </a:lnTo>
                    <a:lnTo>
                      <a:pt x="40" y="3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8" y="19"/>
                    </a:lnTo>
                    <a:lnTo>
                      <a:pt x="15" y="24"/>
                    </a:lnTo>
                    <a:lnTo>
                      <a:pt x="27" y="29"/>
                    </a:lnTo>
                    <a:lnTo>
                      <a:pt x="33" y="30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53" y="33"/>
                    </a:lnTo>
                    <a:lnTo>
                      <a:pt x="62" y="32"/>
                    </a:lnTo>
                    <a:lnTo>
                      <a:pt x="6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334760" y="2645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1" y="27"/>
                    </a:moveTo>
                    <a:lnTo>
                      <a:pt x="0" y="21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31" y="4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3" y="2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1" y="19"/>
                    </a:lnTo>
                    <a:lnTo>
                      <a:pt x="53" y="24"/>
                    </a:lnTo>
                    <a:lnTo>
                      <a:pt x="43" y="30"/>
                    </a:lnTo>
                    <a:lnTo>
                      <a:pt x="34" y="31"/>
                    </a:lnTo>
                    <a:lnTo>
                      <a:pt x="27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5" y="32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325040" y="26395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9" y="0"/>
                    </a:moveTo>
                    <a:lnTo>
                      <a:pt x="39" y="1"/>
                    </a:lnTo>
                    <a:lnTo>
                      <a:pt x="46" y="6"/>
                    </a:lnTo>
                    <a:lnTo>
                      <a:pt x="52" y="13"/>
                    </a:lnTo>
                    <a:lnTo>
                      <a:pt x="55" y="21"/>
                    </a:lnTo>
                    <a:lnTo>
                      <a:pt x="52" y="27"/>
                    </a:lnTo>
                    <a:lnTo>
                      <a:pt x="46" y="34"/>
                    </a:lnTo>
                    <a:lnTo>
                      <a:pt x="39" y="38"/>
                    </a:lnTo>
                    <a:lnTo>
                      <a:pt x="29" y="40"/>
                    </a:lnTo>
                    <a:lnTo>
                      <a:pt x="16" y="38"/>
                    </a:lnTo>
                    <a:lnTo>
                      <a:pt x="8" y="34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4573800" y="3392640"/>
                <a:ext cx="8640" cy="154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18" y="0"/>
                    </a:moveTo>
                    <a:lnTo>
                      <a:pt x="23" y="2"/>
                    </a:lnTo>
                    <a:lnTo>
                      <a:pt x="29" y="8"/>
                    </a:lnTo>
                    <a:lnTo>
                      <a:pt x="31" y="16"/>
                    </a:lnTo>
                    <a:lnTo>
                      <a:pt x="34" y="27"/>
                    </a:lnTo>
                    <a:lnTo>
                      <a:pt x="33" y="33"/>
                    </a:lnTo>
                    <a:lnTo>
                      <a:pt x="31" y="39"/>
                    </a:lnTo>
                    <a:lnTo>
                      <a:pt x="30" y="43"/>
                    </a:lnTo>
                    <a:lnTo>
                      <a:pt x="29" y="49"/>
                    </a:lnTo>
                    <a:lnTo>
                      <a:pt x="23" y="55"/>
                    </a:lnTo>
                    <a:lnTo>
                      <a:pt x="18" y="58"/>
                    </a:lnTo>
                    <a:lnTo>
                      <a:pt x="9" y="55"/>
                    </a:lnTo>
                    <a:lnTo>
                      <a:pt x="4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4572360" y="34088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1" y="57"/>
                    </a:moveTo>
                    <a:lnTo>
                      <a:pt x="26" y="54"/>
                    </a:lnTo>
                    <a:lnTo>
                      <a:pt x="33" y="48"/>
                    </a:lnTo>
                    <a:lnTo>
                      <a:pt x="34" y="43"/>
                    </a:lnTo>
                    <a:lnTo>
                      <a:pt x="35" y="38"/>
                    </a:lnTo>
                    <a:lnTo>
                      <a:pt x="36" y="32"/>
                    </a:lnTo>
                    <a:lnTo>
                      <a:pt x="37" y="27"/>
                    </a:lnTo>
                    <a:lnTo>
                      <a:pt x="36" y="21"/>
                    </a:lnTo>
                    <a:lnTo>
                      <a:pt x="35" y="15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26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2" y="54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558320" y="33994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4"/>
                    </a:lnTo>
                    <a:lnTo>
                      <a:pt x="5" y="17"/>
                    </a:lnTo>
                    <a:lnTo>
                      <a:pt x="9" y="14"/>
                    </a:lnTo>
                    <a:lnTo>
                      <a:pt x="15" y="11"/>
                    </a:lnTo>
                    <a:lnTo>
                      <a:pt x="21" y="8"/>
                    </a:lnTo>
                    <a:lnTo>
                      <a:pt x="28" y="6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60" y="2"/>
                    </a:lnTo>
                    <a:lnTo>
                      <a:pt x="67" y="9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1" y="27"/>
                    </a:lnTo>
                    <a:lnTo>
                      <a:pt x="41" y="33"/>
                    </a:lnTo>
                    <a:lnTo>
                      <a:pt x="33" y="34"/>
                    </a:lnTo>
                    <a:lnTo>
                      <a:pt x="26" y="36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579560" y="34012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5">
                    <a:moveTo>
                      <a:pt x="72" y="30"/>
                    </a:moveTo>
                    <a:lnTo>
                      <a:pt x="71" y="22"/>
                    </a:lnTo>
                    <a:lnTo>
                      <a:pt x="66" y="16"/>
                    </a:lnTo>
                    <a:lnTo>
                      <a:pt x="61" y="12"/>
                    </a:lnTo>
                    <a:lnTo>
                      <a:pt x="56" y="9"/>
                    </a:lnTo>
                    <a:lnTo>
                      <a:pt x="50" y="7"/>
                    </a:lnTo>
                    <a:lnTo>
                      <a:pt x="43" y="6"/>
                    </a:lnTo>
                    <a:lnTo>
                      <a:pt x="36" y="2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7" y="1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7" y="20"/>
                    </a:lnTo>
                    <a:lnTo>
                      <a:pt x="10" y="22"/>
                    </a:lnTo>
                    <a:lnTo>
                      <a:pt x="18" y="25"/>
                    </a:lnTo>
                    <a:lnTo>
                      <a:pt x="24" y="27"/>
                    </a:lnTo>
                    <a:lnTo>
                      <a:pt x="31" y="30"/>
                    </a:lnTo>
                    <a:lnTo>
                      <a:pt x="42" y="33"/>
                    </a:lnTo>
                    <a:lnTo>
                      <a:pt x="55" y="35"/>
                    </a:lnTo>
                    <a:lnTo>
                      <a:pt x="64" y="33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4558320" y="34084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27"/>
                    </a:moveTo>
                    <a:lnTo>
                      <a:pt x="65" y="20"/>
                    </a:lnTo>
                    <a:lnTo>
                      <a:pt x="62" y="14"/>
                    </a:lnTo>
                    <a:lnTo>
                      <a:pt x="51" y="8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18"/>
                    </a:lnTo>
                    <a:lnTo>
                      <a:pt x="9" y="20"/>
                    </a:lnTo>
                    <a:lnTo>
                      <a:pt x="15" y="24"/>
                    </a:lnTo>
                    <a:lnTo>
                      <a:pt x="21" y="27"/>
                    </a:lnTo>
                    <a:lnTo>
                      <a:pt x="28" y="30"/>
                    </a:lnTo>
                    <a:lnTo>
                      <a:pt x="40" y="33"/>
                    </a:lnTo>
                    <a:lnTo>
                      <a:pt x="51" y="34"/>
                    </a:lnTo>
                    <a:lnTo>
                      <a:pt x="60" y="32"/>
                    </a:lnTo>
                    <a:lnTo>
                      <a:pt x="6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579560" y="340956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72" h="35">
                    <a:moveTo>
                      <a:pt x="2" y="29"/>
                    </a:moveTo>
                    <a:lnTo>
                      <a:pt x="0" y="23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1" y="5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8"/>
                    </a:lnTo>
                    <a:lnTo>
                      <a:pt x="71" y="13"/>
                    </a:lnTo>
                    <a:lnTo>
                      <a:pt x="66" y="20"/>
                    </a:lnTo>
                    <a:lnTo>
                      <a:pt x="61" y="23"/>
                    </a:lnTo>
                    <a:lnTo>
                      <a:pt x="56" y="26"/>
                    </a:lnTo>
                    <a:lnTo>
                      <a:pt x="50" y="29"/>
                    </a:lnTo>
                    <a:lnTo>
                      <a:pt x="43" y="32"/>
                    </a:lnTo>
                    <a:lnTo>
                      <a:pt x="36" y="33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8" y="35"/>
                    </a:lnTo>
                    <a:lnTo>
                      <a:pt x="7" y="3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569840" y="34038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9" y="0"/>
                    </a:moveTo>
                    <a:lnTo>
                      <a:pt x="38" y="1"/>
                    </a:lnTo>
                    <a:lnTo>
                      <a:pt x="45" y="6"/>
                    </a:lnTo>
                    <a:lnTo>
                      <a:pt x="52" y="12"/>
                    </a:lnTo>
                    <a:lnTo>
                      <a:pt x="54" y="20"/>
                    </a:lnTo>
                    <a:lnTo>
                      <a:pt x="52" y="27"/>
                    </a:lnTo>
                    <a:lnTo>
                      <a:pt x="45" y="33"/>
                    </a:lnTo>
                    <a:lnTo>
                      <a:pt x="38" y="38"/>
                    </a:lnTo>
                    <a:lnTo>
                      <a:pt x="29" y="41"/>
                    </a:lnTo>
                    <a:lnTo>
                      <a:pt x="16" y="38"/>
                    </a:lnTo>
                    <a:lnTo>
                      <a:pt x="7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1" y="12"/>
                    </a:lnTo>
                    <a:lnTo>
                      <a:pt x="7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612320" y="340308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16" y="0"/>
                    </a:moveTo>
                    <a:lnTo>
                      <a:pt x="21" y="2"/>
                    </a:lnTo>
                    <a:lnTo>
                      <a:pt x="27" y="9"/>
                    </a:lnTo>
                    <a:lnTo>
                      <a:pt x="28" y="13"/>
                    </a:lnTo>
                    <a:lnTo>
                      <a:pt x="31" y="18"/>
                    </a:lnTo>
                    <a:lnTo>
                      <a:pt x="32" y="24"/>
                    </a:lnTo>
                    <a:lnTo>
                      <a:pt x="33" y="31"/>
                    </a:lnTo>
                    <a:lnTo>
                      <a:pt x="32" y="36"/>
                    </a:lnTo>
                    <a:lnTo>
                      <a:pt x="31" y="42"/>
                    </a:lnTo>
                    <a:lnTo>
                      <a:pt x="28" y="47"/>
                    </a:lnTo>
                    <a:lnTo>
                      <a:pt x="27" y="52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610880" y="3419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16" y="57"/>
                    </a:moveTo>
                    <a:lnTo>
                      <a:pt x="23" y="54"/>
                    </a:lnTo>
                    <a:lnTo>
                      <a:pt x="31" y="48"/>
                    </a:lnTo>
                    <a:lnTo>
                      <a:pt x="32" y="43"/>
                    </a:lnTo>
                    <a:lnTo>
                      <a:pt x="34" y="39"/>
                    </a:lnTo>
                    <a:lnTo>
                      <a:pt x="37" y="33"/>
                    </a:lnTo>
                    <a:lnTo>
                      <a:pt x="38" y="27"/>
                    </a:lnTo>
                    <a:lnTo>
                      <a:pt x="37" y="20"/>
                    </a:lnTo>
                    <a:lnTo>
                      <a:pt x="34" y="15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5" y="7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6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597560" y="341028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1" y="29"/>
                    </a:moveTo>
                    <a:lnTo>
                      <a:pt x="0" y="23"/>
                    </a:lnTo>
                    <a:lnTo>
                      <a:pt x="6" y="17"/>
                    </a:lnTo>
                    <a:lnTo>
                      <a:pt x="15" y="10"/>
                    </a:lnTo>
                    <a:lnTo>
                      <a:pt x="27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7" y="10"/>
                    </a:lnTo>
                    <a:lnTo>
                      <a:pt x="62" y="19"/>
                    </a:lnTo>
                    <a:lnTo>
                      <a:pt x="53" y="26"/>
                    </a:lnTo>
                    <a:lnTo>
                      <a:pt x="43" y="32"/>
                    </a:lnTo>
                    <a:lnTo>
                      <a:pt x="35" y="32"/>
                    </a:lnTo>
                    <a:lnTo>
                      <a:pt x="27" y="33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5" y="32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617360" y="341136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70" y="31"/>
                    </a:moveTo>
                    <a:lnTo>
                      <a:pt x="69" y="23"/>
                    </a:lnTo>
                    <a:lnTo>
                      <a:pt x="63" y="17"/>
                    </a:lnTo>
                    <a:lnTo>
                      <a:pt x="53" y="9"/>
                    </a:lnTo>
                    <a:lnTo>
                      <a:pt x="42" y="4"/>
                    </a:lnTo>
                    <a:lnTo>
                      <a:pt x="34" y="1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5" y="25"/>
                    </a:lnTo>
                    <a:lnTo>
                      <a:pt x="21" y="28"/>
                    </a:lnTo>
                    <a:lnTo>
                      <a:pt x="29" y="31"/>
                    </a:lnTo>
                    <a:lnTo>
                      <a:pt x="42" y="34"/>
                    </a:lnTo>
                    <a:lnTo>
                      <a:pt x="54" y="36"/>
                    </a:lnTo>
                    <a:lnTo>
                      <a:pt x="64" y="34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97560" y="341856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67" y="27"/>
                    </a:moveTo>
                    <a:lnTo>
                      <a:pt x="67" y="21"/>
                    </a:lnTo>
                    <a:lnTo>
                      <a:pt x="62" y="15"/>
                    </a:lnTo>
                    <a:lnTo>
                      <a:pt x="53" y="9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5" y="25"/>
                    </a:lnTo>
                    <a:lnTo>
                      <a:pt x="27" y="31"/>
                    </a:lnTo>
                    <a:lnTo>
                      <a:pt x="33" y="32"/>
                    </a:lnTo>
                    <a:lnTo>
                      <a:pt x="41" y="34"/>
                    </a:lnTo>
                    <a:lnTo>
                      <a:pt x="46" y="34"/>
                    </a:lnTo>
                    <a:lnTo>
                      <a:pt x="52" y="36"/>
                    </a:lnTo>
                    <a:lnTo>
                      <a:pt x="60" y="32"/>
                    </a:lnTo>
                    <a:lnTo>
                      <a:pt x="6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4617360" y="3420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" y="29"/>
                    </a:moveTo>
                    <a:lnTo>
                      <a:pt x="0" y="23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5" y="11"/>
                    </a:lnTo>
                    <a:lnTo>
                      <a:pt x="21" y="8"/>
                    </a:lnTo>
                    <a:lnTo>
                      <a:pt x="29" y="6"/>
                    </a:lnTo>
                    <a:lnTo>
                      <a:pt x="42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0" y="6"/>
                    </a:lnTo>
                    <a:lnTo>
                      <a:pt x="69" y="11"/>
                    </a:lnTo>
                    <a:lnTo>
                      <a:pt x="63" y="19"/>
                    </a:lnTo>
                    <a:lnTo>
                      <a:pt x="53" y="26"/>
                    </a:lnTo>
                    <a:lnTo>
                      <a:pt x="42" y="33"/>
                    </a:lnTo>
                    <a:lnTo>
                      <a:pt x="34" y="33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5" y="34"/>
                    </a:lnTo>
                    <a:lnTo>
                      <a:pt x="5" y="33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608720" y="341496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29" y="0"/>
                    </a:moveTo>
                    <a:lnTo>
                      <a:pt x="36" y="1"/>
                    </a:lnTo>
                    <a:lnTo>
                      <a:pt x="46" y="6"/>
                    </a:lnTo>
                    <a:lnTo>
                      <a:pt x="51" y="11"/>
                    </a:lnTo>
                    <a:lnTo>
                      <a:pt x="53" y="19"/>
                    </a:lnTo>
                    <a:lnTo>
                      <a:pt x="51" y="26"/>
                    </a:lnTo>
                    <a:lnTo>
                      <a:pt x="46" y="32"/>
                    </a:lnTo>
                    <a:lnTo>
                      <a:pt x="36" y="37"/>
                    </a:lnTo>
                    <a:lnTo>
                      <a:pt x="29" y="39"/>
                    </a:lnTo>
                    <a:lnTo>
                      <a:pt x="16" y="37"/>
                    </a:lnTo>
                    <a:lnTo>
                      <a:pt x="8" y="32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56960" y="33955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34" h="61">
                    <a:moveTo>
                      <a:pt x="16" y="0"/>
                    </a:moveTo>
                    <a:lnTo>
                      <a:pt x="23" y="2"/>
                    </a:lnTo>
                    <a:lnTo>
                      <a:pt x="29" y="8"/>
                    </a:lnTo>
                    <a:lnTo>
                      <a:pt x="30" y="12"/>
                    </a:lnTo>
                    <a:lnTo>
                      <a:pt x="31" y="17"/>
                    </a:lnTo>
                    <a:lnTo>
                      <a:pt x="32" y="24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3"/>
                    </a:lnTo>
                    <a:lnTo>
                      <a:pt x="30" y="47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2" y="47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5" y="8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656240" y="341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34" h="60">
                    <a:moveTo>
                      <a:pt x="18" y="60"/>
                    </a:moveTo>
                    <a:lnTo>
                      <a:pt x="22" y="57"/>
                    </a:lnTo>
                    <a:lnTo>
                      <a:pt x="27" y="51"/>
                    </a:lnTo>
                    <a:lnTo>
                      <a:pt x="29" y="46"/>
                    </a:lnTo>
                    <a:lnTo>
                      <a:pt x="31" y="41"/>
                    </a:lnTo>
                    <a:lnTo>
                      <a:pt x="32" y="35"/>
                    </a:lnTo>
                    <a:lnTo>
                      <a:pt x="34" y="30"/>
                    </a:lnTo>
                    <a:lnTo>
                      <a:pt x="32" y="24"/>
                    </a:lnTo>
                    <a:lnTo>
                      <a:pt x="31" y="18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641480" y="3403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" y="30"/>
                    </a:moveTo>
                    <a:lnTo>
                      <a:pt x="0" y="24"/>
                    </a:lnTo>
                    <a:lnTo>
                      <a:pt x="5" y="18"/>
                    </a:lnTo>
                    <a:lnTo>
                      <a:pt x="12" y="12"/>
                    </a:lnTo>
                    <a:lnTo>
                      <a:pt x="25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2" y="27"/>
                    </a:lnTo>
                    <a:lnTo>
                      <a:pt x="41" y="33"/>
                    </a:lnTo>
                    <a:lnTo>
                      <a:pt x="33" y="34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5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662720" y="340452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30"/>
                    </a:moveTo>
                    <a:lnTo>
                      <a:pt x="65" y="22"/>
                    </a:lnTo>
                    <a:lnTo>
                      <a:pt x="62" y="16"/>
                    </a:lnTo>
                    <a:lnTo>
                      <a:pt x="57" y="12"/>
                    </a:lnTo>
                    <a:lnTo>
                      <a:pt x="52" y="9"/>
                    </a:lnTo>
                    <a:lnTo>
                      <a:pt x="45" y="6"/>
                    </a:lnTo>
                    <a:lnTo>
                      <a:pt x="38" y="4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20"/>
                    </a:lnTo>
                    <a:lnTo>
                      <a:pt x="14" y="25"/>
                    </a:lnTo>
                    <a:lnTo>
                      <a:pt x="26" y="30"/>
                    </a:lnTo>
                    <a:lnTo>
                      <a:pt x="32" y="31"/>
                    </a:lnTo>
                    <a:lnTo>
                      <a:pt x="40" y="33"/>
                    </a:lnTo>
                    <a:lnTo>
                      <a:pt x="46" y="34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641480" y="34113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1"/>
                    </a:moveTo>
                    <a:lnTo>
                      <a:pt x="65" y="23"/>
                    </a:lnTo>
                    <a:lnTo>
                      <a:pt x="62" y="17"/>
                    </a:lnTo>
                    <a:lnTo>
                      <a:pt x="52" y="9"/>
                    </a:lnTo>
                    <a:lnTo>
                      <a:pt x="41" y="4"/>
                    </a:lnTo>
                    <a:lnTo>
                      <a:pt x="33" y="1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5" y="20"/>
                    </a:lnTo>
                    <a:lnTo>
                      <a:pt x="12" y="25"/>
                    </a:lnTo>
                    <a:lnTo>
                      <a:pt x="25" y="31"/>
                    </a:lnTo>
                    <a:lnTo>
                      <a:pt x="31" y="32"/>
                    </a:lnTo>
                    <a:lnTo>
                      <a:pt x="38" y="34"/>
                    </a:lnTo>
                    <a:lnTo>
                      <a:pt x="44" y="35"/>
                    </a:lnTo>
                    <a:lnTo>
                      <a:pt x="50" y="36"/>
                    </a:lnTo>
                    <a:lnTo>
                      <a:pt x="60" y="34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4662720" y="34128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3"/>
                    </a:lnTo>
                    <a:lnTo>
                      <a:pt x="5" y="17"/>
                    </a:lnTo>
                    <a:lnTo>
                      <a:pt x="14" y="10"/>
                    </a:lnTo>
                    <a:lnTo>
                      <a:pt x="26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1" y="1"/>
                    </a:lnTo>
                    <a:lnTo>
                      <a:pt x="67" y="7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7" y="24"/>
                    </a:lnTo>
                    <a:lnTo>
                      <a:pt x="52" y="27"/>
                    </a:lnTo>
                    <a:lnTo>
                      <a:pt x="45" y="30"/>
                    </a:lnTo>
                    <a:lnTo>
                      <a:pt x="38" y="33"/>
                    </a:lnTo>
                    <a:lnTo>
                      <a:pt x="25" y="36"/>
                    </a:lnTo>
                    <a:lnTo>
                      <a:pt x="14" y="36"/>
                    </a:lnTo>
                    <a:lnTo>
                      <a:pt x="4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653720" y="34074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26" y="0"/>
                    </a:moveTo>
                    <a:lnTo>
                      <a:pt x="35" y="1"/>
                    </a:lnTo>
                    <a:lnTo>
                      <a:pt x="43" y="6"/>
                    </a:lnTo>
                    <a:lnTo>
                      <a:pt x="46" y="11"/>
                    </a:lnTo>
                    <a:lnTo>
                      <a:pt x="49" y="19"/>
                    </a:lnTo>
                    <a:lnTo>
                      <a:pt x="46" y="27"/>
                    </a:lnTo>
                    <a:lnTo>
                      <a:pt x="43" y="33"/>
                    </a:lnTo>
                    <a:lnTo>
                      <a:pt x="35" y="38"/>
                    </a:lnTo>
                    <a:lnTo>
                      <a:pt x="26" y="40"/>
                    </a:lnTo>
                    <a:lnTo>
                      <a:pt x="14" y="38"/>
                    </a:lnTo>
                    <a:lnTo>
                      <a:pt x="7" y="33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1" y="11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731840" y="3459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16" y="0"/>
                    </a:moveTo>
                    <a:lnTo>
                      <a:pt x="23" y="2"/>
                    </a:lnTo>
                    <a:lnTo>
                      <a:pt x="31" y="8"/>
                    </a:lnTo>
                    <a:lnTo>
                      <a:pt x="32" y="12"/>
                    </a:lnTo>
                    <a:lnTo>
                      <a:pt x="34" y="17"/>
                    </a:lnTo>
                    <a:lnTo>
                      <a:pt x="35" y="23"/>
                    </a:lnTo>
                    <a:lnTo>
                      <a:pt x="37" y="30"/>
                    </a:lnTo>
                    <a:lnTo>
                      <a:pt x="35" y="35"/>
                    </a:lnTo>
                    <a:lnTo>
                      <a:pt x="34" y="43"/>
                    </a:lnTo>
                    <a:lnTo>
                      <a:pt x="32" y="47"/>
                    </a:lnTo>
                    <a:lnTo>
                      <a:pt x="31" y="52"/>
                    </a:lnTo>
                    <a:lnTo>
                      <a:pt x="23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5" y="8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4732200" y="3475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60"/>
                    </a:moveTo>
                    <a:lnTo>
                      <a:pt x="21" y="57"/>
                    </a:lnTo>
                    <a:lnTo>
                      <a:pt x="26" y="51"/>
                    </a:lnTo>
                    <a:lnTo>
                      <a:pt x="27" y="46"/>
                    </a:lnTo>
                    <a:lnTo>
                      <a:pt x="29" y="41"/>
                    </a:lnTo>
                    <a:lnTo>
                      <a:pt x="30" y="35"/>
                    </a:lnTo>
                    <a:lnTo>
                      <a:pt x="32" y="30"/>
                    </a:lnTo>
                    <a:lnTo>
                      <a:pt x="30" y="23"/>
                    </a:lnTo>
                    <a:lnTo>
                      <a:pt x="29" y="17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1" y="46"/>
                    </a:lnTo>
                    <a:lnTo>
                      <a:pt x="3" y="51"/>
                    </a:lnTo>
                    <a:lnTo>
                      <a:pt x="8" y="57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717080" y="3467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1" y="31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0" y="14"/>
                    </a:lnTo>
                    <a:lnTo>
                      <a:pt x="16" y="11"/>
                    </a:lnTo>
                    <a:lnTo>
                      <a:pt x="22" y="6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4" y="1"/>
                    </a:lnTo>
                    <a:lnTo>
                      <a:pt x="70" y="6"/>
                    </a:lnTo>
                    <a:lnTo>
                      <a:pt x="70" y="15"/>
                    </a:lnTo>
                    <a:lnTo>
                      <a:pt x="65" y="22"/>
                    </a:lnTo>
                    <a:lnTo>
                      <a:pt x="61" y="25"/>
                    </a:lnTo>
                    <a:lnTo>
                      <a:pt x="56" y="28"/>
                    </a:lnTo>
                    <a:lnTo>
                      <a:pt x="49" y="31"/>
                    </a:lnTo>
                    <a:lnTo>
                      <a:pt x="43" y="34"/>
                    </a:lnTo>
                    <a:lnTo>
                      <a:pt x="28" y="35"/>
                    </a:lnTo>
                    <a:lnTo>
                      <a:pt x="16" y="35"/>
                    </a:lnTo>
                    <a:lnTo>
                      <a:pt x="6" y="3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737960" y="346896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28"/>
                    </a:moveTo>
                    <a:lnTo>
                      <a:pt x="65" y="22"/>
                    </a:lnTo>
                    <a:lnTo>
                      <a:pt x="61" y="16"/>
                    </a:lnTo>
                    <a:lnTo>
                      <a:pt x="56" y="13"/>
                    </a:lnTo>
                    <a:lnTo>
                      <a:pt x="51" y="10"/>
                    </a:lnTo>
                    <a:lnTo>
                      <a:pt x="43" y="7"/>
                    </a:lnTo>
                    <a:lnTo>
                      <a:pt x="37" y="5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5" y="19"/>
                    </a:lnTo>
                    <a:lnTo>
                      <a:pt x="13" y="25"/>
                    </a:lnTo>
                    <a:lnTo>
                      <a:pt x="25" y="31"/>
                    </a:lnTo>
                    <a:lnTo>
                      <a:pt x="32" y="32"/>
                    </a:lnTo>
                    <a:lnTo>
                      <a:pt x="39" y="34"/>
                    </a:lnTo>
                    <a:lnTo>
                      <a:pt x="44" y="34"/>
                    </a:lnTo>
                    <a:lnTo>
                      <a:pt x="51" y="35"/>
                    </a:lnTo>
                    <a:lnTo>
                      <a:pt x="60" y="33"/>
                    </a:lnTo>
                    <a:lnTo>
                      <a:pt x="6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717080" y="3475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70" y="28"/>
                    </a:moveTo>
                    <a:lnTo>
                      <a:pt x="70" y="22"/>
                    </a:lnTo>
                    <a:lnTo>
                      <a:pt x="65" y="16"/>
                    </a:lnTo>
                    <a:lnTo>
                      <a:pt x="61" y="13"/>
                    </a:lnTo>
                    <a:lnTo>
                      <a:pt x="56" y="10"/>
                    </a:lnTo>
                    <a:lnTo>
                      <a:pt x="49" y="7"/>
                    </a:lnTo>
                    <a:lnTo>
                      <a:pt x="43" y="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2" y="28"/>
                    </a:lnTo>
                    <a:lnTo>
                      <a:pt x="30" y="32"/>
                    </a:lnTo>
                    <a:lnTo>
                      <a:pt x="37" y="33"/>
                    </a:lnTo>
                    <a:lnTo>
                      <a:pt x="45" y="35"/>
                    </a:lnTo>
                    <a:lnTo>
                      <a:pt x="49" y="35"/>
                    </a:lnTo>
                    <a:lnTo>
                      <a:pt x="56" y="36"/>
                    </a:lnTo>
                    <a:lnTo>
                      <a:pt x="64" y="34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4737960" y="34768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1" y="30"/>
                    </a:moveTo>
                    <a:lnTo>
                      <a:pt x="0" y="21"/>
                    </a:lnTo>
                    <a:lnTo>
                      <a:pt x="5" y="14"/>
                    </a:lnTo>
                    <a:lnTo>
                      <a:pt x="13" y="8"/>
                    </a:lnTo>
                    <a:lnTo>
                      <a:pt x="25" y="6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5" y="11"/>
                    </a:lnTo>
                    <a:lnTo>
                      <a:pt x="61" y="18"/>
                    </a:lnTo>
                    <a:lnTo>
                      <a:pt x="56" y="21"/>
                    </a:lnTo>
                    <a:lnTo>
                      <a:pt x="51" y="25"/>
                    </a:lnTo>
                    <a:lnTo>
                      <a:pt x="43" y="27"/>
                    </a:lnTo>
                    <a:lnTo>
                      <a:pt x="37" y="30"/>
                    </a:lnTo>
                    <a:lnTo>
                      <a:pt x="24" y="33"/>
                    </a:lnTo>
                    <a:lnTo>
                      <a:pt x="13" y="34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727880" y="34714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25" y="0"/>
                    </a:moveTo>
                    <a:lnTo>
                      <a:pt x="35" y="1"/>
                    </a:lnTo>
                    <a:lnTo>
                      <a:pt x="44" y="5"/>
                    </a:lnTo>
                    <a:lnTo>
                      <a:pt x="51" y="11"/>
                    </a:lnTo>
                    <a:lnTo>
                      <a:pt x="53" y="19"/>
                    </a:lnTo>
                    <a:lnTo>
                      <a:pt x="51" y="25"/>
                    </a:lnTo>
                    <a:lnTo>
                      <a:pt x="44" y="31"/>
                    </a:lnTo>
                    <a:lnTo>
                      <a:pt x="35" y="34"/>
                    </a:lnTo>
                    <a:lnTo>
                      <a:pt x="25" y="3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1" y="25"/>
                    </a:lnTo>
                    <a:lnTo>
                      <a:pt x="0" y="19"/>
                    </a:lnTo>
                    <a:lnTo>
                      <a:pt x="1" y="11"/>
                    </a:lnTo>
                    <a:lnTo>
                      <a:pt x="7" y="5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4770360" y="3468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17" y="0"/>
                    </a:moveTo>
                    <a:lnTo>
                      <a:pt x="25" y="2"/>
                    </a:lnTo>
                    <a:lnTo>
                      <a:pt x="31" y="10"/>
                    </a:lnTo>
                    <a:lnTo>
                      <a:pt x="32" y="13"/>
                    </a:lnTo>
                    <a:lnTo>
                      <a:pt x="35" y="19"/>
                    </a:lnTo>
                    <a:lnTo>
                      <a:pt x="36" y="25"/>
                    </a:lnTo>
                    <a:lnTo>
                      <a:pt x="37" y="31"/>
                    </a:lnTo>
                    <a:lnTo>
                      <a:pt x="36" y="36"/>
                    </a:lnTo>
                    <a:lnTo>
                      <a:pt x="35" y="42"/>
                    </a:lnTo>
                    <a:lnTo>
                      <a:pt x="32" y="47"/>
                    </a:lnTo>
                    <a:lnTo>
                      <a:pt x="31" y="52"/>
                    </a:lnTo>
                    <a:lnTo>
                      <a:pt x="25" y="59"/>
                    </a:lnTo>
                    <a:lnTo>
                      <a:pt x="17" y="62"/>
                    </a:lnTo>
                    <a:lnTo>
                      <a:pt x="9" y="59"/>
                    </a:lnTo>
                    <a:lnTo>
                      <a:pt x="4" y="52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9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4770360" y="348516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7" y="59"/>
                    </a:moveTo>
                    <a:lnTo>
                      <a:pt x="22" y="56"/>
                    </a:lnTo>
                    <a:lnTo>
                      <a:pt x="28" y="50"/>
                    </a:lnTo>
                    <a:lnTo>
                      <a:pt x="29" y="45"/>
                    </a:lnTo>
                    <a:lnTo>
                      <a:pt x="31" y="40"/>
                    </a:lnTo>
                    <a:lnTo>
                      <a:pt x="32" y="34"/>
                    </a:lnTo>
                    <a:lnTo>
                      <a:pt x="33" y="29"/>
                    </a:lnTo>
                    <a:lnTo>
                      <a:pt x="32" y="23"/>
                    </a:lnTo>
                    <a:lnTo>
                      <a:pt x="31" y="17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1" y="45"/>
                    </a:lnTo>
                    <a:lnTo>
                      <a:pt x="5" y="50"/>
                    </a:lnTo>
                    <a:lnTo>
                      <a:pt x="11" y="56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755600" y="347580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" y="31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0" y="13"/>
                    </a:lnTo>
                    <a:lnTo>
                      <a:pt x="16" y="9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0"/>
                    </a:lnTo>
                    <a:lnTo>
                      <a:pt x="57" y="1"/>
                    </a:lnTo>
                    <a:lnTo>
                      <a:pt x="66" y="2"/>
                    </a:lnTo>
                    <a:lnTo>
                      <a:pt x="72" y="7"/>
                    </a:lnTo>
                    <a:lnTo>
                      <a:pt x="71" y="12"/>
                    </a:lnTo>
                    <a:lnTo>
                      <a:pt x="66" y="19"/>
                    </a:lnTo>
                    <a:lnTo>
                      <a:pt x="61" y="22"/>
                    </a:lnTo>
                    <a:lnTo>
                      <a:pt x="56" y="26"/>
                    </a:lnTo>
                    <a:lnTo>
                      <a:pt x="48" y="31"/>
                    </a:lnTo>
                    <a:lnTo>
                      <a:pt x="42" y="35"/>
                    </a:lnTo>
                    <a:lnTo>
                      <a:pt x="29" y="36"/>
                    </a:lnTo>
                    <a:lnTo>
                      <a:pt x="18" y="36"/>
                    </a:lnTo>
                    <a:lnTo>
                      <a:pt x="8" y="34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4776480" y="347688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69" h="36">
                    <a:moveTo>
                      <a:pt x="69" y="30"/>
                    </a:moveTo>
                    <a:lnTo>
                      <a:pt x="67" y="24"/>
                    </a:lnTo>
                    <a:lnTo>
                      <a:pt x="61" y="17"/>
                    </a:lnTo>
                    <a:lnTo>
                      <a:pt x="56" y="14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9" y="6"/>
                    </a:lnTo>
                    <a:lnTo>
                      <a:pt x="27" y="1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7" y="20"/>
                    </a:lnTo>
                    <a:lnTo>
                      <a:pt x="14" y="27"/>
                    </a:lnTo>
                    <a:lnTo>
                      <a:pt x="27" y="33"/>
                    </a:lnTo>
                    <a:lnTo>
                      <a:pt x="33" y="34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53" y="36"/>
                    </a:lnTo>
                    <a:lnTo>
                      <a:pt x="61" y="33"/>
                    </a:lnTo>
                    <a:lnTo>
                      <a:pt x="69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4755600" y="3484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28"/>
                    </a:moveTo>
                    <a:lnTo>
                      <a:pt x="71" y="22"/>
                    </a:lnTo>
                    <a:lnTo>
                      <a:pt x="66" y="16"/>
                    </a:lnTo>
                    <a:lnTo>
                      <a:pt x="61" y="13"/>
                    </a:lnTo>
                    <a:lnTo>
                      <a:pt x="56" y="10"/>
                    </a:lnTo>
                    <a:lnTo>
                      <a:pt x="48" y="7"/>
                    </a:lnTo>
                    <a:lnTo>
                      <a:pt x="42" y="5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7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3" y="28"/>
                    </a:lnTo>
                    <a:lnTo>
                      <a:pt x="30" y="31"/>
                    </a:lnTo>
                    <a:lnTo>
                      <a:pt x="36" y="32"/>
                    </a:lnTo>
                    <a:lnTo>
                      <a:pt x="44" y="34"/>
                    </a:lnTo>
                    <a:lnTo>
                      <a:pt x="50" y="34"/>
                    </a:lnTo>
                    <a:lnTo>
                      <a:pt x="57" y="34"/>
                    </a:lnTo>
                    <a:lnTo>
                      <a:pt x="66" y="31"/>
                    </a:lnTo>
                    <a:lnTo>
                      <a:pt x="7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776480" y="348552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" y="30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7" y="4"/>
                    </a:lnTo>
                    <a:lnTo>
                      <a:pt x="33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3" y="1"/>
                    </a:lnTo>
                    <a:lnTo>
                      <a:pt x="61" y="2"/>
                    </a:lnTo>
                    <a:lnTo>
                      <a:pt x="69" y="7"/>
                    </a:lnTo>
                    <a:lnTo>
                      <a:pt x="67" y="12"/>
                    </a:lnTo>
                    <a:lnTo>
                      <a:pt x="61" y="18"/>
                    </a:lnTo>
                    <a:lnTo>
                      <a:pt x="56" y="21"/>
                    </a:lnTo>
                    <a:lnTo>
                      <a:pt x="51" y="24"/>
                    </a:lnTo>
                    <a:lnTo>
                      <a:pt x="45" y="27"/>
                    </a:lnTo>
                    <a:lnTo>
                      <a:pt x="39" y="30"/>
                    </a:lnTo>
                    <a:lnTo>
                      <a:pt x="27" y="33"/>
                    </a:lnTo>
                    <a:lnTo>
                      <a:pt x="16" y="35"/>
                    </a:lnTo>
                    <a:lnTo>
                      <a:pt x="7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4766400" y="3480120"/>
                <a:ext cx="14040" cy="1008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25" y="0"/>
                    </a:moveTo>
                    <a:lnTo>
                      <a:pt x="35" y="1"/>
                    </a:lnTo>
                    <a:lnTo>
                      <a:pt x="45" y="5"/>
                    </a:lnTo>
                    <a:lnTo>
                      <a:pt x="51" y="12"/>
                    </a:lnTo>
                    <a:lnTo>
                      <a:pt x="53" y="21"/>
                    </a:lnTo>
                    <a:lnTo>
                      <a:pt x="51" y="27"/>
                    </a:lnTo>
                    <a:lnTo>
                      <a:pt x="45" y="32"/>
                    </a:lnTo>
                    <a:lnTo>
                      <a:pt x="35" y="35"/>
                    </a:lnTo>
                    <a:lnTo>
                      <a:pt x="25" y="37"/>
                    </a:lnTo>
                    <a:lnTo>
                      <a:pt x="14" y="35"/>
                    </a:lnTo>
                    <a:lnTo>
                      <a:pt x="6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2"/>
                    </a:lnTo>
                    <a:lnTo>
                      <a:pt x="6" y="5"/>
                    </a:lnTo>
                    <a:lnTo>
                      <a:pt x="14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812840" y="346068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17" y="0"/>
                    </a:moveTo>
                    <a:lnTo>
                      <a:pt x="22" y="2"/>
                    </a:lnTo>
                    <a:lnTo>
                      <a:pt x="27" y="8"/>
                    </a:lnTo>
                    <a:lnTo>
                      <a:pt x="28" y="12"/>
                    </a:lnTo>
                    <a:lnTo>
                      <a:pt x="31" y="17"/>
                    </a:lnTo>
                    <a:lnTo>
                      <a:pt x="32" y="23"/>
                    </a:lnTo>
                    <a:lnTo>
                      <a:pt x="33" y="30"/>
                    </a:lnTo>
                    <a:lnTo>
                      <a:pt x="32" y="37"/>
                    </a:lnTo>
                    <a:lnTo>
                      <a:pt x="31" y="43"/>
                    </a:lnTo>
                    <a:lnTo>
                      <a:pt x="28" y="47"/>
                    </a:lnTo>
                    <a:lnTo>
                      <a:pt x="27" y="52"/>
                    </a:lnTo>
                    <a:lnTo>
                      <a:pt x="22" y="58"/>
                    </a:lnTo>
                    <a:lnTo>
                      <a:pt x="17" y="61"/>
                    </a:lnTo>
                    <a:lnTo>
                      <a:pt x="9" y="58"/>
                    </a:lnTo>
                    <a:lnTo>
                      <a:pt x="4" y="52"/>
                    </a:lnTo>
                    <a:lnTo>
                      <a:pt x="1" y="47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812120" y="34768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0">
                    <a:moveTo>
                      <a:pt x="21" y="60"/>
                    </a:moveTo>
                    <a:lnTo>
                      <a:pt x="26" y="57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36" y="36"/>
                    </a:lnTo>
                    <a:lnTo>
                      <a:pt x="37" y="31"/>
                    </a:lnTo>
                    <a:lnTo>
                      <a:pt x="36" y="23"/>
                    </a:lnTo>
                    <a:lnTo>
                      <a:pt x="34" y="17"/>
                    </a:lnTo>
                    <a:lnTo>
                      <a:pt x="32" y="12"/>
                    </a:lnTo>
                    <a:lnTo>
                      <a:pt x="31" y="8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2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798080" y="34678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2" y="28"/>
                    </a:moveTo>
                    <a:lnTo>
                      <a:pt x="0" y="22"/>
                    </a:lnTo>
                    <a:lnTo>
                      <a:pt x="7" y="16"/>
                    </a:lnTo>
                    <a:lnTo>
                      <a:pt x="14" y="10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1"/>
                    </a:lnTo>
                    <a:lnTo>
                      <a:pt x="61" y="2"/>
                    </a:lnTo>
                    <a:lnTo>
                      <a:pt x="67" y="8"/>
                    </a:lnTo>
                    <a:lnTo>
                      <a:pt x="67" y="13"/>
                    </a:lnTo>
                    <a:lnTo>
                      <a:pt x="62" y="19"/>
                    </a:lnTo>
                    <a:lnTo>
                      <a:pt x="53" y="25"/>
                    </a:lnTo>
                    <a:lnTo>
                      <a:pt x="43" y="31"/>
                    </a:lnTo>
                    <a:lnTo>
                      <a:pt x="35" y="32"/>
                    </a:lnTo>
                    <a:lnTo>
                      <a:pt x="27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5" y="32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4818240" y="3469320"/>
                <a:ext cx="17640" cy="864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29"/>
                    </a:moveTo>
                    <a:lnTo>
                      <a:pt x="67" y="23"/>
                    </a:lnTo>
                    <a:lnTo>
                      <a:pt x="62" y="17"/>
                    </a:lnTo>
                    <a:lnTo>
                      <a:pt x="57" y="14"/>
                    </a:lnTo>
                    <a:lnTo>
                      <a:pt x="53" y="11"/>
                    </a:lnTo>
                    <a:lnTo>
                      <a:pt x="45" y="8"/>
                    </a:lnTo>
                    <a:lnTo>
                      <a:pt x="39" y="6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21"/>
                    </a:lnTo>
                    <a:lnTo>
                      <a:pt x="13" y="26"/>
                    </a:lnTo>
                    <a:lnTo>
                      <a:pt x="27" y="32"/>
                    </a:lnTo>
                    <a:lnTo>
                      <a:pt x="39" y="34"/>
                    </a:lnTo>
                    <a:lnTo>
                      <a:pt x="51" y="34"/>
                    </a:lnTo>
                    <a:lnTo>
                      <a:pt x="61" y="32"/>
                    </a:lnTo>
                    <a:lnTo>
                      <a:pt x="6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798080" y="347652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29"/>
                    </a:moveTo>
                    <a:lnTo>
                      <a:pt x="67" y="22"/>
                    </a:lnTo>
                    <a:lnTo>
                      <a:pt x="62" y="15"/>
                    </a:lnTo>
                    <a:lnTo>
                      <a:pt x="53" y="9"/>
                    </a:lnTo>
                    <a:lnTo>
                      <a:pt x="43" y="5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7" y="19"/>
                    </a:lnTo>
                    <a:lnTo>
                      <a:pt x="14" y="25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818240" y="34776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2" y="28"/>
                    </a:moveTo>
                    <a:lnTo>
                      <a:pt x="0" y="22"/>
                    </a:lnTo>
                    <a:lnTo>
                      <a:pt x="4" y="15"/>
                    </a:lnTo>
                    <a:lnTo>
                      <a:pt x="13" y="9"/>
                    </a:lnTo>
                    <a:lnTo>
                      <a:pt x="27" y="4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61" y="2"/>
                    </a:lnTo>
                    <a:lnTo>
                      <a:pt x="67" y="7"/>
                    </a:lnTo>
                    <a:lnTo>
                      <a:pt x="67" y="12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45" y="28"/>
                    </a:lnTo>
                    <a:lnTo>
                      <a:pt x="39" y="31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4" y="32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4809600" y="34725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50" h="36">
                    <a:moveTo>
                      <a:pt x="25" y="0"/>
                    </a:moveTo>
                    <a:lnTo>
                      <a:pt x="32" y="0"/>
                    </a:lnTo>
                    <a:lnTo>
                      <a:pt x="41" y="4"/>
                    </a:lnTo>
                    <a:lnTo>
                      <a:pt x="46" y="9"/>
                    </a:lnTo>
                    <a:lnTo>
                      <a:pt x="50" y="16"/>
                    </a:lnTo>
                    <a:lnTo>
                      <a:pt x="46" y="24"/>
                    </a:lnTo>
                    <a:lnTo>
                      <a:pt x="41" y="30"/>
                    </a:lnTo>
                    <a:lnTo>
                      <a:pt x="32" y="34"/>
                    </a:lnTo>
                    <a:lnTo>
                      <a:pt x="25" y="36"/>
                    </a:lnTo>
                    <a:lnTo>
                      <a:pt x="14" y="34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995640" y="1989000"/>
              <a:ext cx="351000" cy="423000"/>
              <a:chOff x="3995640" y="1989000"/>
              <a:chExt cx="351000" cy="423000"/>
            </a:xfrm>
          </p:grpSpPr>
          <p:sp>
            <p:nvSpPr>
              <p:cNvPr id="399" name=""/>
              <p:cNvSpPr/>
              <p:nvPr/>
            </p:nvSpPr>
            <p:spPr>
              <a:xfrm>
                <a:off x="3995640" y="1989000"/>
                <a:ext cx="351000" cy="4078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100600">
                <a:off x="4070880" y="2018880"/>
                <a:ext cx="177120" cy="37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"/>
          <p:cNvSpPr txBox="1"/>
          <p:nvPr/>
        </p:nvSpPr>
        <p:spPr>
          <a:xfrm>
            <a:off x="2700360" y="486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ля   гл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hecke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348000" y="3500280"/>
            <a:ext cx="2303640" cy="3124440"/>
            <a:chOff x="3348000" y="3500280"/>
            <a:chExt cx="2303640" cy="3124440"/>
          </a:xfrm>
        </p:grpSpPr>
        <p:sp>
          <p:nvSpPr>
            <p:cNvPr id="405" name=""/>
            <p:cNvSpPr/>
            <p:nvPr/>
          </p:nvSpPr>
          <p:spPr>
            <a:xfrm>
              <a:off x="3348000" y="3500280"/>
              <a:ext cx="2303640" cy="312444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7440" y="3507840"/>
              <a:ext cx="329760" cy="27864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66960" y="3828240"/>
              <a:ext cx="1682280" cy="24832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75080" y="4386240"/>
              <a:ext cx="6588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80840" y="4488120"/>
              <a:ext cx="64800" cy="1008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20080" y="4432320"/>
              <a:ext cx="126000" cy="5904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8560" y="4440960"/>
              <a:ext cx="80640" cy="579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0080" y="4484880"/>
              <a:ext cx="126000" cy="5940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35840" y="4493520"/>
              <a:ext cx="63360" cy="514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65360" y="4458960"/>
              <a:ext cx="98640" cy="6444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03680" y="4664160"/>
              <a:ext cx="6588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08360" y="4767120"/>
              <a:ext cx="47520" cy="939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49040" y="4719960"/>
              <a:ext cx="42480" cy="4464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00720" y="4716720"/>
              <a:ext cx="127080" cy="6120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49040" y="4767120"/>
              <a:ext cx="9360" cy="144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00720" y="4771440"/>
              <a:ext cx="127080" cy="579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96120" y="4736880"/>
              <a:ext cx="78120" cy="6372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4080" y="5126760"/>
              <a:ext cx="45000" cy="500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51640" y="5179320"/>
              <a:ext cx="6624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2920" y="5131080"/>
              <a:ext cx="125640" cy="5940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89440" y="5182560"/>
              <a:ext cx="50040" cy="446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2920" y="518400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36880" y="5151240"/>
              <a:ext cx="83160" cy="637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94040" y="5608440"/>
              <a:ext cx="47520" cy="8280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84320" y="5694480"/>
              <a:ext cx="64800" cy="986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23560" y="5637600"/>
              <a:ext cx="125640" cy="5904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9000" y="568008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3560" y="5690160"/>
              <a:ext cx="125640" cy="5940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76760" y="5702400"/>
              <a:ext cx="25560" cy="37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84320" y="5664240"/>
              <a:ext cx="83160" cy="6372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6400" y="5516640"/>
              <a:ext cx="61920" cy="997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3600" y="5617440"/>
              <a:ext cx="60840" cy="1008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60320" y="5562360"/>
              <a:ext cx="125640" cy="579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18560" y="5589360"/>
              <a:ext cx="19440" cy="3672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0320" y="5614920"/>
              <a:ext cx="125640" cy="583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1080" y="5625360"/>
              <a:ext cx="16920" cy="3348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18560" y="5588280"/>
              <a:ext cx="84240" cy="6444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87360" y="4304520"/>
              <a:ext cx="43920" cy="9720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11400" y="4287600"/>
              <a:ext cx="92880" cy="2448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8280" y="4306680"/>
              <a:ext cx="124560" cy="5940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72600" y="4286520"/>
              <a:ext cx="48600" cy="514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9560" y="4226040"/>
              <a:ext cx="65880" cy="982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4560" y="4271760"/>
              <a:ext cx="125640" cy="579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8040" y="4278600"/>
              <a:ext cx="125640" cy="5904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4560" y="4323600"/>
              <a:ext cx="119520" cy="3096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42000" y="4298760"/>
              <a:ext cx="93960" cy="500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30360" y="4654080"/>
              <a:ext cx="64800" cy="993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76080" y="4700880"/>
              <a:ext cx="84240" cy="5688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60880" y="4708800"/>
              <a:ext cx="92880" cy="5472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76080" y="4752720"/>
              <a:ext cx="45000" cy="255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22080" y="4727880"/>
              <a:ext cx="96480" cy="500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40960" y="3816000"/>
              <a:ext cx="388440" cy="17028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92920" y="4397400"/>
              <a:ext cx="388440" cy="1342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14400" y="5985000"/>
              <a:ext cx="387360" cy="1353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0080" y="6116040"/>
              <a:ext cx="388440" cy="1353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75080" y="3845160"/>
              <a:ext cx="444960" cy="1983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42480" y="3908880"/>
              <a:ext cx="208800" cy="35640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35400" y="3816000"/>
              <a:ext cx="747000" cy="16020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5560" y="3942720"/>
              <a:ext cx="53640" cy="378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08360" y="397728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05200" y="396828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4320" y="3989520"/>
              <a:ext cx="31680" cy="8604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8440" y="3996360"/>
              <a:ext cx="4248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02680" y="3989520"/>
              <a:ext cx="40320" cy="1548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5960" y="3995280"/>
              <a:ext cx="24120" cy="309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3680" y="3998520"/>
              <a:ext cx="310320" cy="2923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74600" y="4088160"/>
              <a:ext cx="39960" cy="1548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1800" y="410616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55800" y="6141600"/>
              <a:ext cx="326160" cy="35172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4800" y="6345720"/>
              <a:ext cx="240840" cy="26964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39480" y="644616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6280" y="653724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2960" y="6569640"/>
              <a:ext cx="1080" cy="324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8520" y="658656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62760" y="3823920"/>
              <a:ext cx="693000" cy="1389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1840" y="3758760"/>
              <a:ext cx="279720" cy="1479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67960" y="3766680"/>
              <a:ext cx="261720" cy="1411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2400" y="3813840"/>
              <a:ext cx="26640" cy="399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14840" y="3861000"/>
              <a:ext cx="19080" cy="3420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4920" y="3856320"/>
              <a:ext cx="26640" cy="4140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14840" y="3895560"/>
              <a:ext cx="2160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32200" y="383256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28160" y="387648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0640" y="3836160"/>
              <a:ext cx="51480" cy="24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8480" y="3861000"/>
              <a:ext cx="109800" cy="3780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33840" y="3905640"/>
              <a:ext cx="78120" cy="446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67480" y="3832560"/>
              <a:ext cx="81720" cy="3780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7760" y="3878640"/>
              <a:ext cx="42840" cy="212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32200" y="3855240"/>
              <a:ext cx="52200" cy="2304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28160" y="3894480"/>
              <a:ext cx="43920" cy="198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70640" y="3858480"/>
              <a:ext cx="51480" cy="24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7760" y="3897720"/>
              <a:ext cx="4284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09880" y="3842640"/>
              <a:ext cx="39240" cy="277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08360" y="3885480"/>
              <a:ext cx="33120" cy="230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40960" y="3816000"/>
              <a:ext cx="367920" cy="16020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02640" y="4392720"/>
              <a:ext cx="369000" cy="1274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16920" y="5977080"/>
              <a:ext cx="365400" cy="1263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58720" y="6111360"/>
              <a:ext cx="367920" cy="1274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26640" y="3878640"/>
              <a:ext cx="21960" cy="3348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29160" y="3912480"/>
              <a:ext cx="19440" cy="3420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41040" y="389448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92440" y="3896640"/>
              <a:ext cx="41400" cy="1872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41040" y="3911040"/>
              <a:ext cx="42840" cy="2016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92440" y="3913560"/>
              <a:ext cx="41400" cy="1980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24120" y="3903120"/>
              <a:ext cx="32760" cy="21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29240" y="3872880"/>
              <a:ext cx="19080" cy="313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9240" y="3906720"/>
              <a:ext cx="21600" cy="334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2560" y="3887640"/>
              <a:ext cx="4140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93960" y="3891240"/>
              <a:ext cx="42480" cy="187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2560" y="3905640"/>
              <a:ext cx="4140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93960" y="3907800"/>
              <a:ext cx="42480" cy="21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23120" y="3897720"/>
              <a:ext cx="32760" cy="2016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0240" y="383256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12400" y="3866400"/>
              <a:ext cx="21600" cy="324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25720" y="3847320"/>
              <a:ext cx="4032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75680" y="3850560"/>
              <a:ext cx="43920" cy="18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25720" y="386532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5680" y="3868560"/>
              <a:ext cx="43920" cy="187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10240" y="385632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80760" y="4407480"/>
              <a:ext cx="19440" cy="334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0760" y="4440960"/>
              <a:ext cx="21960" cy="3348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94440" y="4421880"/>
              <a:ext cx="41400" cy="1980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45120" y="4425480"/>
              <a:ext cx="42840" cy="1872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94440" y="444024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4443480"/>
              <a:ext cx="42840" cy="1872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78240" y="4430880"/>
              <a:ext cx="29160" cy="2124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79760" y="4430880"/>
              <a:ext cx="244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83720" y="4465800"/>
              <a:ext cx="21600" cy="30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95960" y="4445640"/>
              <a:ext cx="42480" cy="19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48080" y="4447800"/>
              <a:ext cx="39960" cy="201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95960" y="4464720"/>
              <a:ext cx="42480" cy="1764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48080" y="446688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78680" y="4453200"/>
              <a:ext cx="31680" cy="2340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61760" y="4947480"/>
              <a:ext cx="64440" cy="982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65360" y="504828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06760" y="4991040"/>
              <a:ext cx="125640" cy="5940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0240" y="5000040"/>
              <a:ext cx="124200" cy="5832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06760" y="5045040"/>
              <a:ext cx="125640" cy="579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240" y="5052960"/>
              <a:ext cx="124200" cy="579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54200" y="5018040"/>
              <a:ext cx="96480" cy="648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9120" y="4405320"/>
              <a:ext cx="22680" cy="3240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1280" y="4438800"/>
              <a:ext cx="2196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94600" y="4418640"/>
              <a:ext cx="41400" cy="2124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44560" y="442188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4600" y="4437720"/>
              <a:ext cx="41400" cy="1764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4560" y="444024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6600" y="442764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06720" y="5988240"/>
              <a:ext cx="20520" cy="3240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06720" y="6021720"/>
              <a:ext cx="23040" cy="3240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2560" y="600264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71080" y="6005880"/>
              <a:ext cx="42480" cy="187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2560" y="602064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71080" y="6023160"/>
              <a:ext cx="42480" cy="1980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01680" y="6011640"/>
              <a:ext cx="32760" cy="2232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16360" y="6009480"/>
              <a:ext cx="20160" cy="3348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16360" y="604404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30760" y="602496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80720" y="6027480"/>
              <a:ext cx="4356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30760" y="604188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0720" y="6045480"/>
              <a:ext cx="43560" cy="187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12400" y="6034320"/>
              <a:ext cx="31680" cy="2088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0880" y="5994000"/>
              <a:ext cx="20520" cy="3348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14840" y="6027480"/>
              <a:ext cx="19080" cy="3348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25640" y="6009480"/>
              <a:ext cx="41400" cy="1980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7760" y="601272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25640" y="60274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7760" y="6029640"/>
              <a:ext cx="4032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08360" y="601848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33760" y="612720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36280" y="6160680"/>
              <a:ext cx="19080" cy="334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48520" y="6142680"/>
              <a:ext cx="42480" cy="18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00640" y="6146280"/>
              <a:ext cx="39960" cy="1872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48520" y="6159600"/>
              <a:ext cx="4248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00640" y="6163200"/>
              <a:ext cx="3996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31240" y="6152040"/>
              <a:ext cx="32760" cy="1980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614628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5560" y="6179760"/>
              <a:ext cx="19440" cy="334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57800" y="6160680"/>
              <a:ext cx="42840" cy="19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08840" y="6163200"/>
              <a:ext cx="42480" cy="1980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57800" y="6178680"/>
              <a:ext cx="42840" cy="187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08840" y="618084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0880" y="6169680"/>
              <a:ext cx="32760" cy="21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5480" y="6129360"/>
              <a:ext cx="20520" cy="3348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5480" y="616320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60240" y="614412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10920" y="614736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0240" y="616176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10920" y="616392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42960" y="6153840"/>
              <a:ext cx="30240" cy="2016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203640" y="2708280"/>
            <a:ext cx="720720" cy="758880"/>
            <a:chOff x="3203640" y="2708280"/>
            <a:chExt cx="720720" cy="758880"/>
          </a:xfrm>
        </p:grpSpPr>
        <p:sp>
          <p:nvSpPr>
            <p:cNvPr id="595" name=""/>
            <p:cNvSpPr/>
            <p:nvPr/>
          </p:nvSpPr>
          <p:spPr>
            <a:xfrm>
              <a:off x="3203640" y="2708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100600">
              <a:off x="3359160" y="2761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autoRev="1" nodeType="withEffect" fill="hold" presetClass="path" presetID="1" repeatCount="8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7341E-006 C -0.04653 -0.09711 -0.02952 -0.22474 0.03993 -0.28416 C 0.10902 -0.34404 0.20399 -0.31329 0.25121 -0.21665 C 0.29826 -0.11977 0.28055 0.00763 0.21111 0.06752 C 0.14184 0.1274 0.04704 0.09688 3.88889E-006 -1.7341E-006 Z">
                                      <p:cBhvr>
                                        <p:cTn id="177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468360" y="3357720"/>
            <a:ext cx="2303280" cy="3168360"/>
            <a:chOff x="468360" y="3357720"/>
            <a:chExt cx="2303280" cy="3168360"/>
          </a:xfrm>
        </p:grpSpPr>
        <p:sp>
          <p:nvSpPr>
            <p:cNvPr id="599" name=""/>
            <p:cNvSpPr/>
            <p:nvPr/>
          </p:nvSpPr>
          <p:spPr>
            <a:xfrm>
              <a:off x="468360" y="3357720"/>
              <a:ext cx="2303280" cy="316836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7800" y="3365640"/>
              <a:ext cx="329760" cy="28260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7320" y="3690360"/>
              <a:ext cx="1682280" cy="251820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95080" y="425628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01200" y="4359600"/>
              <a:ext cx="64800" cy="10224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40440" y="4302720"/>
              <a:ext cx="126000" cy="597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8920" y="4311720"/>
              <a:ext cx="80640" cy="5868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40440" y="4356000"/>
              <a:ext cx="12600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55840" y="4365000"/>
              <a:ext cx="63360" cy="522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85360" y="4330080"/>
              <a:ext cx="98640" cy="6552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23680" y="453780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28720" y="4642200"/>
              <a:ext cx="47520" cy="954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9040" y="4594680"/>
              <a:ext cx="42480" cy="45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21080" y="4591440"/>
              <a:ext cx="127080" cy="6228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69040" y="4642200"/>
              <a:ext cx="9360" cy="147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21080" y="4646880"/>
              <a:ext cx="127080" cy="5868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6480" y="4611600"/>
              <a:ext cx="78120" cy="6444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64440" y="5007240"/>
              <a:ext cx="45000" cy="507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71640" y="5060520"/>
              <a:ext cx="6624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62920" y="5011560"/>
              <a:ext cx="12564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9440" y="5063760"/>
              <a:ext cx="50040" cy="45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62920" y="5065200"/>
              <a:ext cx="125640" cy="597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56880" y="5032080"/>
              <a:ext cx="83160" cy="6444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14040" y="5495400"/>
              <a:ext cx="47520" cy="838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04680" y="5582880"/>
              <a:ext cx="64800" cy="10008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43560" y="552528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09360" y="556812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43560" y="5578560"/>
              <a:ext cx="125640" cy="6012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97120" y="5590800"/>
              <a:ext cx="25560" cy="3852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04680" y="5552280"/>
              <a:ext cx="83160" cy="64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36760" y="5402160"/>
              <a:ext cx="61920" cy="10116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3960" y="5504400"/>
              <a:ext cx="60840" cy="1022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80320" y="544896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38920" y="5476320"/>
              <a:ext cx="19440" cy="3708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80320" y="550224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1440" y="5512680"/>
              <a:ext cx="16920" cy="338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8920" y="5475240"/>
              <a:ext cx="84240" cy="6552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7360" y="4173120"/>
              <a:ext cx="43920" cy="9864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31400" y="4156200"/>
              <a:ext cx="92880" cy="24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98640" y="4175640"/>
              <a:ext cx="124560" cy="6012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92600" y="4154760"/>
              <a:ext cx="48600" cy="5220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9920" y="409356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14920" y="414036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68400" y="414720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14920" y="4192560"/>
              <a:ext cx="119520" cy="3168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2360" y="4167360"/>
              <a:ext cx="93960" cy="5076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50720" y="4527720"/>
              <a:ext cx="64800" cy="10080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6080" y="4575240"/>
              <a:ext cx="84240" cy="5796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80880" y="4583160"/>
              <a:ext cx="92520" cy="5544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6080" y="4627440"/>
              <a:ext cx="45000" cy="259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42440" y="4602600"/>
              <a:ext cx="96480" cy="5076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1320" y="3677760"/>
              <a:ext cx="388440" cy="17280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2920" y="4267440"/>
              <a:ext cx="388440" cy="1360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34400" y="5877360"/>
              <a:ext cx="387360" cy="1371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70080" y="6010200"/>
              <a:ext cx="388440" cy="1371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080" y="3707280"/>
              <a:ext cx="444960" cy="20088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62480" y="3772080"/>
              <a:ext cx="208800" cy="36144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5760" y="3677760"/>
              <a:ext cx="747000" cy="1623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15560" y="3806280"/>
              <a:ext cx="53640" cy="3852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28720" y="384120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25200" y="383220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4680" y="3853800"/>
              <a:ext cx="31680" cy="8712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38440" y="386064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2680" y="3853800"/>
              <a:ext cx="40320" cy="1584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5960" y="3859560"/>
              <a:ext cx="24120" cy="316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680" y="3863160"/>
              <a:ext cx="310320" cy="29628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4960" y="3953880"/>
              <a:ext cx="39960" cy="15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02160" y="397188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6160" y="6036120"/>
              <a:ext cx="326160" cy="35676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25160" y="6243120"/>
              <a:ext cx="240840" cy="27324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59840" y="634500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6280" y="643752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62960" y="6469920"/>
              <a:ext cx="108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8880" y="648720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82760" y="3685680"/>
              <a:ext cx="693000" cy="1407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81840" y="3619800"/>
              <a:ext cx="279720" cy="15012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87960" y="3627720"/>
              <a:ext cx="261720" cy="1429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32400" y="3675600"/>
              <a:ext cx="26640" cy="40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34840" y="3723480"/>
              <a:ext cx="19080" cy="349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34920" y="3718800"/>
              <a:ext cx="26640" cy="4176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34840" y="3758400"/>
              <a:ext cx="21600" cy="352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52200" y="3694680"/>
              <a:ext cx="52200" cy="237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48160" y="3738960"/>
              <a:ext cx="439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91000" y="369828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8840" y="3723480"/>
              <a:ext cx="109800" cy="3852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53840" y="3768840"/>
              <a:ext cx="78120" cy="4536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87840" y="3694680"/>
              <a:ext cx="81720" cy="3852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98120" y="3741480"/>
              <a:ext cx="42840" cy="2160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52200" y="371772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48160" y="375732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91000" y="372096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98120" y="376056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9880" y="3705120"/>
              <a:ext cx="39240" cy="2808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28720" y="3748320"/>
              <a:ext cx="33120" cy="234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1320" y="3677760"/>
              <a:ext cx="367560" cy="1623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22640" y="4262760"/>
              <a:ext cx="369000" cy="1292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36920" y="5869440"/>
              <a:ext cx="365400" cy="1281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78720" y="6005520"/>
              <a:ext cx="367560" cy="1292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640" y="3741480"/>
              <a:ext cx="21960" cy="3420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9160" y="3775680"/>
              <a:ext cx="19440" cy="3492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1400" y="375732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2800" y="3759840"/>
              <a:ext cx="41400" cy="1908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1400" y="377424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2800" y="3776760"/>
              <a:ext cx="41400" cy="2016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4480" y="376632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9600" y="3735720"/>
              <a:ext cx="19080" cy="3168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49600" y="3769920"/>
              <a:ext cx="21600" cy="338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62920" y="375084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4320" y="375408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2920" y="3768840"/>
              <a:ext cx="4140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4320" y="3771000"/>
              <a:ext cx="42480" cy="216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3480" y="3760560"/>
              <a:ext cx="32760" cy="2052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30240" y="3694680"/>
              <a:ext cx="21600" cy="3420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32760" y="3728880"/>
              <a:ext cx="2160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46080" y="370980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96040" y="371304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46080" y="372780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6040" y="373140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30240" y="371880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00760" y="4277880"/>
              <a:ext cx="1944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00760" y="4311720"/>
              <a:ext cx="21960" cy="3384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4440" y="42922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65120" y="429588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4440" y="4310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65120" y="431424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8240" y="4301280"/>
              <a:ext cx="29160" cy="2160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99760" y="4301280"/>
              <a:ext cx="244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03720" y="4336920"/>
              <a:ext cx="21600" cy="316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15960" y="431640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8080" y="4318560"/>
              <a:ext cx="3996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15960" y="4335840"/>
              <a:ext cx="42480" cy="1800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8080" y="4337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98680" y="4323960"/>
              <a:ext cx="31680" cy="237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81760" y="4825080"/>
              <a:ext cx="64440" cy="9972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85360" y="4927320"/>
              <a:ext cx="65880" cy="10116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27120" y="4869360"/>
              <a:ext cx="12564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80240" y="4878360"/>
              <a:ext cx="124200" cy="5904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27120" y="4924080"/>
              <a:ext cx="12564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80240" y="4932000"/>
              <a:ext cx="12420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74200" y="4896720"/>
              <a:ext cx="96480" cy="658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99120" y="4275360"/>
              <a:ext cx="2268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01280" y="4309560"/>
              <a:ext cx="21960" cy="327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14960" y="4289040"/>
              <a:ext cx="41400" cy="2160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64560" y="429228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4960" y="4308480"/>
              <a:ext cx="41400" cy="180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64560" y="4310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96600" y="429804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26720" y="5880600"/>
              <a:ext cx="20520" cy="3276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6720" y="5914800"/>
              <a:ext cx="2304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42560" y="589536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91440" y="589860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2560" y="591372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91440" y="5915880"/>
              <a:ext cx="42480" cy="2016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21680" y="5904360"/>
              <a:ext cx="32760" cy="22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36360" y="5902200"/>
              <a:ext cx="20160" cy="33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36360" y="5937480"/>
              <a:ext cx="226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50760" y="591804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01080" y="5920200"/>
              <a:ext cx="4356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50760" y="5934960"/>
              <a:ext cx="4032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01080" y="5938560"/>
              <a:ext cx="4356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32400" y="5927400"/>
              <a:ext cx="31680" cy="212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30880" y="5886360"/>
              <a:ext cx="20520" cy="3384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34840" y="5920200"/>
              <a:ext cx="19080" cy="338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45640" y="590220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98120" y="590580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45640" y="5920200"/>
              <a:ext cx="4140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98120" y="592272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28720" y="591120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53760" y="602172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56280" y="6055560"/>
              <a:ext cx="1908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68520" y="6037200"/>
              <a:ext cx="4248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1000" y="604080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68520" y="605448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21000" y="605808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51240" y="6046560"/>
              <a:ext cx="32760" cy="201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63400" y="604080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65560" y="6075000"/>
              <a:ext cx="19440" cy="338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7800" y="6055560"/>
              <a:ext cx="42840" cy="201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29200" y="605808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77800" y="6073560"/>
              <a:ext cx="4284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29200" y="6076080"/>
              <a:ext cx="4248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60880" y="60645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65480" y="6023520"/>
              <a:ext cx="20520" cy="34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480" y="605808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0240" y="6038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31280" y="604188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0240" y="6056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31280" y="6058800"/>
              <a:ext cx="4140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62960" y="6048720"/>
              <a:ext cx="30240" cy="205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659280" y="3284640"/>
            <a:ext cx="2160360" cy="3240000"/>
            <a:chOff x="6659280" y="3284640"/>
            <a:chExt cx="2160360" cy="3240000"/>
          </a:xfrm>
        </p:grpSpPr>
        <p:sp>
          <p:nvSpPr>
            <p:cNvPr id="789" name=""/>
            <p:cNvSpPr/>
            <p:nvPr/>
          </p:nvSpPr>
          <p:spPr>
            <a:xfrm flipH="1">
              <a:off x="6658920" y="3284640"/>
              <a:ext cx="2160360" cy="324000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8491680" y="329256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42240" y="3624840"/>
              <a:ext cx="1577880" cy="25750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794720" y="420336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789680" y="430884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696080" y="425088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833960" y="426024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696080" y="430560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833600" y="431496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772760" y="427896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80160" y="449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593120" y="459828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559280" y="454968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619040" y="454608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590240" y="459828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619040" y="460296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575480" y="456696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467840" y="497124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441560" y="502596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487280" y="497592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421040" y="502920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487280" y="503064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439400" y="499680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512480" y="547092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505280" y="556020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411680" y="55011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548840" y="554508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11680" y="555552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548840" y="556812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488720" y="552888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853040" y="537552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848000" y="547992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752240" y="542304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890840" y="545112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752240" y="547776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891200" y="548820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830360" y="545004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335000" y="411840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360200" y="410112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360920" y="412092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343640" y="409968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93600" y="403704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094960" y="408492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232480" y="40917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100720" y="413820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174160" y="411264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086960" y="448092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026120" y="452988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126200" y="453780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062840" y="458316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065000" y="455760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274240" y="361188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819120" y="421488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362360" y="586116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703280" y="599724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439040" y="364212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503840" y="370836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286760" y="361188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11680" y="374328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602480" y="377928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510320" y="376992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536240" y="379224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588080" y="37990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511040" y="379224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716520" y="379800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5120" y="380124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538040" y="389448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536240" y="391284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380720" y="602388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790040" y="623520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389720" y="633960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962120" y="643392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979760" y="646740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909560" y="648504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311600" y="362016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512480" y="355248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524000" y="356076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515000" y="360972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13640" y="365868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512480" y="365364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610760" y="369432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472880" y="362916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578000" y="367452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530840" y="36331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647120" y="365868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634160" y="370476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411320" y="362916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25880" y="367704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472880" y="365292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578000" y="369324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530840" y="365616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625880" y="36968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505640" y="363996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606800" y="368424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8293680" y="361188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827760" y="421020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380720" y="585288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714440" y="599256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537760" y="367704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537400" y="371196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504280" y="369324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551440" y="369576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504280" y="37108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551440" y="371304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529480" y="37026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444160" y="367128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441280" y="370620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410680" y="368640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454960" y="369000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410680" y="370476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454960" y="370728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436600" y="369684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365320" y="362916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363160" y="366444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333280" y="364464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8377560" y="364788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8333280" y="366300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377560" y="36666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358840" y="365364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082280" y="422532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080120" y="426024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049160" y="4240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093800" y="424404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704916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093800" y="426276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075800" y="424980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985080" y="424980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983640" y="428580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952680" y="426492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000200" y="426708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952680" y="428472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000200" y="428688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978960" y="427284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808760" y="478512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803720" y="488988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708680" y="483048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847640" y="483984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708680" y="488664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847640" y="489456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785360" y="485856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893280" y="422316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892200" y="425772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861240" y="423720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908400" y="424044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6861240" y="425700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90840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86440" y="424620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432200" y="586476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30040" y="589932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398720" y="58795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444800" y="588312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398720" y="589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444800" y="590076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425360" y="588888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517160" y="588672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515000" y="592272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484760" y="590292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528680" y="590508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484760" y="592020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528680" y="59238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509960" y="591228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615800" y="587052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613640" y="590508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582680" y="588672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628040" y="58903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582680" y="590508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628040" y="59076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608960" y="589608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7780680" y="60087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7781040" y="604368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747200" y="602496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7795080" y="6028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7747200" y="6042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7795080" y="604584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7772760" y="603432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865280" y="6028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65280" y="606312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32520" y="60436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878240" y="60458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832520" y="60620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878240" y="606420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57720" y="605268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7958520" y="601092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957080" y="604584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926840" y="60260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7971480" y="602964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7926840" y="604440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971480" y="604692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951680" y="603648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68360" y="2781360"/>
            <a:ext cx="720720" cy="758880"/>
            <a:chOff x="468360" y="2781360"/>
            <a:chExt cx="720720" cy="758880"/>
          </a:xfrm>
        </p:grpSpPr>
        <p:sp>
          <p:nvSpPr>
            <p:cNvPr id="979" name=""/>
            <p:cNvSpPr/>
            <p:nvPr/>
          </p:nvSpPr>
          <p:spPr>
            <a:xfrm>
              <a:off x="468360" y="278136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20100600">
              <a:off x="623880" y="283500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autoRev="1" nodeType="afterEffect" fill="hold" presetClass="path" presetID="44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4624E-006 L 0.21771 -0.17989 C 0.26389 -0.21989 0.33299 -0.24116 0.40469 -0.24116 C 0.48612 -0.24116 0.55209 -0.22012 0.59827 -0.17989 L 0.81893 4.04624E-006 E">
                                      <p:cBhvr>
                                        <p:cTn id="183" dur="1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6:40Z</dcterms:created>
  <dc:creator>Аллочка</dc:creator>
  <dc:description/>
  <dc:language>en-US</dc:language>
  <cp:lastModifiedBy>Кабинет№5</cp:lastModifiedBy>
  <dcterms:modified xsi:type="dcterms:W3CDTF">2015-11-16T08:10:44Z</dcterms:modified>
  <cp:revision>17</cp:revision>
  <dc:subject/>
  <dc:title>Слайд 1</dc:title>
</cp:coreProperties>
</file>