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ED2F-A9F6-4930-97CB-0270C617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9EA4-A8F1-4DD2-962F-DC72F44B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7552-3DB4-4180-BC74-B472A2682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A07B-ECB4-48E8-82A6-B913BE993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6AF0-41D2-442C-B9FB-A77DE8AD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95E1-B866-448A-988B-7C830F9B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8FB3-60A2-40B0-BADD-B6F5F2D6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8D19-EAD8-4CE4-ACEC-E4802BEC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A671-05EE-4190-ADA8-FF9AEFC8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C6E9-EF20-4851-A9EC-472B3856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D88A-654E-42A7-B218-16585BC3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596D-AABF-4D2E-BC44-0F2F5737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40F2-8B59-47AD-858E-EB578484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5861-7CDF-4059-8E49-9AF3C43A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C7B3-86CC-4432-B4C1-3DC3E291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3193-6E76-4301-88F4-88DC7577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7924-91F7-4D2E-AECF-C890BFE7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B3A7-EF5D-401B-A190-C216D3A0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60DC-19FD-4A0E-BCD4-D7168158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C129-E005-4F79-A2BC-6125706F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C447-07CB-4EE0-BE5B-9E132419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5816-F92D-4453-A8C0-0BF5C268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3793-F539-4010-B69C-9E4B411F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03BF-D92A-4C05-99FE-903A644B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6AF4-93A0-4E2B-ADA6-912ADFBE9B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841D-BCDB-4071-BDC8-FD1F56BC16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Tahoma"/>
              </a:rPr>
              <a:t>Полиэтнический класс:</a:t>
            </a:r>
            <a:br>
              <a:rPr sz="4400"/>
            </a:b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проблемы и поиски реш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4320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м.директора по УВР, учит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утаева С.А.     ОУ №25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5181840" cy="35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Tahoma"/>
              </a:rPr>
              <a:t>Дети - инофон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о группа учащихся, чьи семьи недавно переехали в Россию, их родители сами имеют трудности с русским языком, дома между собой родители и дети общаются только на родном язы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248520" y="396252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Проблемы детей – инофонов в обучени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Один из языков всегда вторичен – приоритет отдаётся родному язы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Все мыслительные операции осуществляются на родном язы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Психологические проблемы при освоении «неродного» язы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Существенная разница в языковом строе родного и «неродного» язы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ahoma"/>
              </a:rPr>
              <a:t>Плюсы совместного обуч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Только при взаимодействии у детей развивается толерантное отношение к другим нациям,  культур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Выстраиваются взаимоотношения с одноклассник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Создаётся комфортная, благоприятная атмосфера в класс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</a:rPr>
              <a:t>Минусы совместного обуч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Для детей – инофонов русский язык не является родным, они не владеют русским языком настолько, чтобы обучаться на нё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Дети – инофоны не способны воспринимать материал на таком же уровне, как дети, для которых русский язык является родны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Русский язык труден для восприятия, понимания, коммуник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ahoma"/>
              </a:rPr>
              <a:t>Как результат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Характерное поведение учащегося – инофона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Стремление обособиться и замкнуться в себ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Ограничить круг общения по национальному призна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Иногда – агрессивность к окружающи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Трудности звукового восприятия порождают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Проблемы с чтени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Проблемы с письм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Проблемы с пониманием задания, что приводит к отставанию по всем предметам, где требуется владение языком и письменной реч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ahoma"/>
              </a:rPr>
              <a:t>Пути решения проблем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Организация дополнительных коррекционно-развивающих груп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Организация кружковой рабо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Использование специальных комплектов учебн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Просвещение родителей детей – инофонов, привлекая их к совместному сотрудничеств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Формы рабо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Загадки с лексическим наполнение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Объяснение значений данного слов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Ориентация на успе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Речевые разминки (для развития артикуляционной базы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 Работа с разными словарям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. Проигрывание коммуникативных ситуаций (инсценировк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. Игры ( «Один-два», «Она-он» и т.д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. Подвижные игры с говорение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9. Групповые формы рабо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0. Алгоритмы (использование правил-инструкций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Рекомендации родителя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1. Внимательно относится к чувствам и поведению своих детей в период адаптации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2. Пытаться выяснить причины агрессивного или депрессивного поведения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3. Интересоваться кругом общения ребёнка (чтение, телепередачи, общение по телефону, общение через Интернет, друзья)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4. Родителям-мигрантам контролировать собственные негативные высказывания о жизни, о работе, о стране, принявшей их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5. Знакомить детей с традициями и культурой России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6. Читать ребёнку книги на русском языке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7. В семье стараться больше общаться на русском языке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8. Водить ребёнка в музеи, театры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9. Помогать ребёнку в выполнении д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з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10. Постоянно контактировать с классным руководителем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Конечная цель для адаптации детей-инофон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ль заключается в том, чтобы каждый из этих учеников - инофонов в будущем стал действительным билингвом, хорошо говорящим не только на родном языке, но и на государственном языке Российской Федер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209680" y="4343400"/>
            <a:ext cx="449604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Основная </a:t>
            </a:r>
            <a:r>
              <a:rPr b="0" lang="ru-RU" sz="4000" spc="-1" strike="noStrike" u="sng">
                <a:solidFill>
                  <a:srgbClr val="ffcc00"/>
                </a:solidFill>
                <a:uFillTx/>
                <a:latin typeface="Tahoma"/>
              </a:rPr>
              <a:t>цель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 для учителя в полиэтническом класс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высить лингвистическую компетентность не русскоязычных учащихся, чтобы способствовать более комфортной адаптации детей- мигрантов как в классе, так и в социум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845820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</a:rPr>
              <a:t>Проблемы, возникающие в процессе обучения у детей-мигрант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Преодоление языкового барь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Психологический стре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Трудности в подготовке домашнего зад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Отсутствие помощи родит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Наличие национального акцен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</a:rPr>
              <a:t>Этнический состав обучающихс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Армения, Азербайджан, Грузия, Узбекистан, Таджикистан, Сирия, Афганиста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Дагестан (РФ) – дети, которые до поступления в 1-ый класс говорили только на родном язы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Этнический состав класса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(для которых русский язык не является родным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 25 человек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детей – из Узбекиста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детей – из Дагестана, Азербайджана, Груз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детей – из Молдов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о – 40% от состава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cc00"/>
                </a:solidFill>
                <a:uFillTx/>
                <a:latin typeface="Tahoma"/>
              </a:rPr>
              <a:t>Задачи в обучении класса с полиэтническим составом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Привить интерес к русскому языку, психологически готовить учащихся к дальнейшему изучению русского язы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Приучать слух детей к звукам, словам русской речи, готовить речевой аппарат к правильному произношению этих звуков и сл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 Создать у детей запас наиболее употребительных русских слов и фраз, выработать умение пользоваться этим минимумом в разговорной реч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. Учить строить элементарные фразы на русском языке, употребляя слова в правильной грамматической форм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. Обучать русскому словесному ударен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. Воспитывать позитивное отношение и интерес к русскому языку как государственному языку РФ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. Приобщать учащихся к культуре и литературе русского народа с учётом опыта учащих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ahoma"/>
              </a:rPr>
              <a:t>Два термин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едагогическом сообществе существуют два термина, характеризующих иноязычных учащих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Дети – билингв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Дети - инофо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8320" y="3581280"/>
            <a:ext cx="449568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ahoma"/>
              </a:rPr>
              <a:t>Дети - билингв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учащиеся, в семьях которых говорят как на своём родном языке, так и на русском язы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билингвов русский язык является «почти» родны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838760" y="4114800"/>
            <a:ext cx="43052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cc00"/>
                </a:solidFill>
                <a:uFillTx/>
                <a:latin typeface="Tahoma"/>
              </a:rPr>
              <a:t>Трудности в обучении у билингв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Смешение двух фонетических систем и лекс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Упрощение сл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Избегание произнесения сложных конструкц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Неправильная постановка удар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Стратегия смешения языков в обще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4T07:07:12Z</dcterms:created>
  <dc:creator>Бутаева</dc:creator>
  <dc:description/>
  <dc:language>en-US</dc:language>
  <cp:lastModifiedBy>Бутаева</cp:lastModifiedBy>
  <dcterms:modified xsi:type="dcterms:W3CDTF">2017-05-26T14:05:25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