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1AC-F7AB-428F-B135-3A943257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BFA4-4585-4E81-8D13-14E7078F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B07E-BD33-40DC-A487-3058146C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7EB8-8396-4860-ADC5-C4D27416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A482-9573-439F-B17E-8C80845B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A173-30BE-4AA6-B56E-71BF3A76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9317-2550-4344-BC9C-EE4E798C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703F-20BF-4843-8C92-A6B14EB2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52A5-AA59-4408-887B-88F43F02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EDDE-C7A1-4620-9ABE-AEB89653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343B-6093-4566-BB22-2ED3B997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7AF-40F2-430A-853A-AC63D071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4ED9-2862-46BD-A3A7-0EA65C1E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52CD-7AAA-44BC-AB4B-2C83BC4A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0A80-252D-4AF2-8D47-88CBE52E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6DD5-833D-48E9-B598-C3D29AD0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B320-DA80-402F-823D-643863D1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04CD-AA13-4835-B332-035E0DEE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2A23-58D7-4B87-ABB1-6512C576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6BE2-39E7-4BE6-BAB6-4987379C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F244-6241-405A-B026-B3418E6B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03F-E35B-463C-8E2D-813095B5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C478-B811-46CB-AB0D-C9ACA58D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9582-28C7-4C26-8235-A891D439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A5F6-6826-4313-9768-949D783ABE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CD3D-1BC2-47B7-912D-5D8FCF68DA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</a:rPr>
              <a:t>Полиэтнический класс: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проблемы и поиски реш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м.директора по УВР, учи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таева С.А.     ОУ №2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5181840" cy="35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</a:rPr>
              <a:t>Дети - инофо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группа учащихся, чьи семьи недавно переехали в Россию, их родители сами имеют трудности с русским языком, дома между собой родители и дети общаются только на родном язы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248520" y="39625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роблемы детей – инофонов в обучен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Один из языков всегда вторичен – приоритет отдаётся родному язы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Все мыслительные операции осуществляются на родном язы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Психологические проблемы при освоении «неродного» язы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Существенная разница в языковом строе родного и «неродного» язы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ahoma"/>
              </a:rPr>
              <a:t>Плюсы совместного обуч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Только при взаимодействии у детей развивается толерантное отношение к другим нациям,  культур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Выстраиваются взаимоотношения с одноклассни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Создаётся комфортная, благоприятная атмосфера в кла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Минусы совместного обуч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Для детей – инофонов русский язык не является родным, они не владеют русским языком настолько, чтобы обучаться на нё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Дети – инофоны не способны воспринимать материал на таком же уровне, как дети, для которых русский язык является родны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Русский язык труден для восприятия, понимания, коммуник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ahoma"/>
              </a:rPr>
              <a:t>Как результат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Характерное поведение учащегося – инофона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Стремление обособиться и замкнуться в себ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Ограничить круг общения по национальному призна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Иногда – агрессивность к окружающи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Трудности звукового восприятия порождают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Проблемы с чт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Проблемы с письм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Проблемы с пониманием задания, что приводит к отставанию по всем предметам, где требуется владение языком и письменной реч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ahoma"/>
              </a:rPr>
              <a:t>Пути решения проблем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Организация дополнительных коррекционно-развивающих груп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Организация кружковой рабо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Использование специальных комплектов учеб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Просвещение родителей детей – инофонов, привлекая их к совместному сотрудничеств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Формы рабо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Загадки с лексическим наполнение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Объяснение значений данного сло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Ориентация на успе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Речевые разминки (для развития артикуляционной баз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Работа с разными словарям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Проигрывание коммуникативных ситуаций (инсцениров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 Игры ( «Один-два», «Она-он» и т.д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. Подвижные игры с говорение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9. Групповые формы рабо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0. Алгоритмы (использование правил-инструкций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Рекомендации родителя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. Внимательно относится к чувствам и поведению своих детей в период адаптаци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. Пытаться выяснить причины агрессивного или депрессивного поведени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3. Интересоваться кругом общения ребёнка (чтение, телепередачи, общение по телефону, общение через Интернет, друзья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4. Родителям-мигрантам контролировать собственные негативные высказывания о жизни, о работе, о стране, принявшей их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5. Знакомить детей с традициями и культурой Росси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6. Читать ребёнку книги на русском язык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7. В семье стараться больше общаться на русском язык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8. Водить ребёнка в музеи, театр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9. Помогать ребёнку в выполнении д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з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0. Постоянно контактировать с классным руководителем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Конечная цель для адаптации детей-инофон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ль заключается в том, чтобы каждый из этих учеников - инофонов в будущем стал действительным билингвом, хорошо говорящим не только на родном языке, но и на государственном языке Российской Федер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209680" y="4343400"/>
            <a:ext cx="44960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сновная </a:t>
            </a:r>
            <a:r>
              <a:rPr b="0" lang="ru-RU" sz="4000" spc="-1" strike="noStrike" u="sng">
                <a:solidFill>
                  <a:srgbClr val="ffcc00"/>
                </a:solidFill>
                <a:uFillTx/>
                <a:latin typeface="Tahoma"/>
              </a:rPr>
              <a:t>цель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 для учителя в полиэтническом класс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высить лингвистическую компетентность не русскоязычных учащихся, чтобы способствовать более комфортной адаптации детей- мигрантов как в классе, так и в социу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84582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Проблемы, возникающие в процессе обучения у детей-мигрант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Преодоление языкового барь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Психологический стре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Трудности в подготовке домашнего зад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Отсутствие помощи р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Наличие национального акц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Этнический состав обучающихс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Армения, Азербайджан, Грузия, Узбекистан, Таджикистан, Сирия, Афганист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Дагестан (РФ) – дети, которые до поступления в 1-ый класс говорили только на родном язы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Этнический состав класса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(для которых русский язык не является родным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 25 человек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детей – из Узбекист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детей – из Дагестана, Азербайджана, Груз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детей – из Молдо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– 40% от состава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00"/>
                </a:solidFill>
                <a:uFillTx/>
                <a:latin typeface="Tahoma"/>
              </a:rPr>
              <a:t>Задачи в обучении класса с полиэтническим состав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Привить интерес к русскому языку, психологически готовить учащихся к дальнейшему изучению русского язы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Приучать слух детей к звукам, словам русской речи, готовить речевой аппарат к правильному произношению этих звуков и сл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Создать у детей запас наиболее употребительных русских слов и фраз, выработать умение пользоваться этим минимумом в разговорной реч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Учить строить элементарные фразы на русском языке, употребляя слова в правильной грамматической фор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Обучать русскому словесному ударен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 Воспитывать позитивное отношение и интерес к русскому языку как государственному языку РФ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 Приобщать учащихся к культуре и литературе русского народа с учётом опыта учащих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ahoma"/>
              </a:rPr>
              <a:t>Два терми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едагогическом сообществе существуют два термина, характеризующих иноязычных учащих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Дети – билинг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Дети - инофо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44956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ahoma"/>
              </a:rPr>
              <a:t>Дети - билингв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учащиеся, в семьях которых говорят как на своём родном языке, так и на русском язы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билингвов русский язык является «почти» род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38760" y="4114800"/>
            <a:ext cx="43052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00"/>
                </a:solidFill>
                <a:uFillTx/>
                <a:latin typeface="Tahoma"/>
              </a:rPr>
              <a:t>Трудности в обучении у билингв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Смешение двух фонетических систем и лекс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Упрощение с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Избегание произнесения сложных конструк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Неправильная постановка удар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Стратегия смешения языков в обще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4T07:07:12Z</dcterms:created>
  <dc:creator>Бутаева</dc:creator>
  <dc:description/>
  <dc:language>en-US</dc:language>
  <cp:lastModifiedBy>Бутаева</cp:lastModifiedBy>
  <dcterms:modified xsi:type="dcterms:W3CDTF">2017-05-26T14:05:2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