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9B0-9E3A-4433-B907-4084AD14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1AB-4483-4F8C-94E8-C7AE8CEF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364-59BE-49CB-8DB9-6D5AF094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D7F-E3A4-4397-BB51-6B582D20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8EC-24B4-4219-BADA-ACAF374A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875-A326-4E20-9B82-7AE43706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C40-848B-4B5C-8C74-C4E8AD34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497-614F-4E03-A04C-A757FCB5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BAC-E703-4A77-BB4E-EF2F5667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0FD-528A-4500-AB70-7D51F2CF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DB2-3719-4FCD-8704-2EE670BE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3E5-8432-49DC-8C80-8E389765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6AC9-211C-4524-B87C-C12592A8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мари или  японская вышивка на ша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90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971640"/>
            <a:ext cx="763272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0040" y="476280"/>
            <a:ext cx="56865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998640"/>
            <a:ext cx="6840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76040"/>
            <a:ext cx="761976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767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641520"/>
            <a:ext cx="71298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9760" y="376200"/>
            <a:ext cx="63244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585720"/>
            <a:ext cx="7200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52640" y="80964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0" y="760320"/>
            <a:ext cx="619272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74760" y="990720"/>
            <a:ext cx="4795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552600"/>
            <a:ext cx="609624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57200" y="595440"/>
            <a:ext cx="64296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19200" y="571680"/>
            <a:ext cx="6105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690480"/>
            <a:ext cx="64087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8:07:00Z</dcterms:created>
  <dc:creator>ольга николаевна</dc:creator>
  <dc:description/>
  <dc:language>en-US</dc:language>
  <cp:lastModifiedBy>ольга николаевна</cp:lastModifiedBy>
  <dcterms:modified xsi:type="dcterms:W3CDTF">2016-03-11T08:08:23Z</dcterms:modified>
  <cp:revision>4</cp:revision>
  <dc:subject/>
  <dc:title>Темари</dc:title>
</cp:coreProperties>
</file>