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CCF-BD04-4C06-820B-3E142F3C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A95-29B2-461C-864B-3CC7DD0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A12-20FB-43F4-B5AC-64C041D7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53-C312-4D2E-A3BB-B1355F9A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642-BCAF-4647-9D91-F51C3B5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0A2-8462-4E19-862E-D9296CAA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7ED-82FD-47C3-9A0D-3EF39720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611-1F9D-4AB2-A46A-7F8CBB6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999-7985-47DD-B48E-2E27D09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4BD-C06E-4CE6-B82F-B2258F0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F72-2F72-45C2-BB3D-A0159B8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64A-D626-4013-B46A-F79692A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3C51-F50F-424A-89B7-C9C6F174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ри или  японская вышивка на ша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63272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0040" y="476280"/>
            <a:ext cx="5686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99864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76040"/>
            <a:ext cx="761976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641520"/>
            <a:ext cx="71298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9760" y="376200"/>
            <a:ext cx="63244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85720"/>
            <a:ext cx="7200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80964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760320"/>
            <a:ext cx="619272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74760" y="990720"/>
            <a:ext cx="479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552600"/>
            <a:ext cx="60962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57200" y="595440"/>
            <a:ext cx="6429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9200" y="571680"/>
            <a:ext cx="6105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0480"/>
            <a:ext cx="6408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8:07:00Z</dcterms:created>
  <dc:creator>ольга николаевна</dc:creator>
  <dc:description/>
  <dc:language>en-US</dc:language>
  <cp:lastModifiedBy>ольга николаевна</cp:lastModifiedBy>
  <dcterms:modified xsi:type="dcterms:W3CDTF">2016-03-11T08:08:23Z</dcterms:modified>
  <cp:revision>4</cp:revision>
  <dc:subject/>
  <dc:title>Темари</dc:title>
</cp:coreProperties>
</file>