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39.png" ContentType="image/pn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34.jpeg" ContentType="image/jpeg"/>
  <Override PartName="/ppt/media/image37.png" ContentType="image/png"/>
  <Override PartName="/ppt/media/image45.jpeg" ContentType="image/jpeg"/>
  <Override PartName="/ppt/media/image46.jpeg" ContentType="image/jpeg"/>
  <Override PartName="/ppt/media/image11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5.png" ContentType="image/png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676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51DD-B605-45AD-9338-536E0241EC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60640" y="944712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4C6A-C78F-45CD-BD8C-A4EB6E83B6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F9D-6C1B-4DA4-B774-FBE2A071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038-DEB9-4586-A39F-44B82BC0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850-8FF3-44A7-91B5-E16C3408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287-3F52-4C80-81D2-110E78CD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4DE-4CF7-486C-8F8D-901E906D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E08-D7BA-4CA0-9E65-6A80EAB6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6C4-66FA-4435-838D-A6616C80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F63-D221-4D97-AA75-90947CCC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AEC-7CE7-4C85-BBB7-67C14266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92F-5BE8-4B81-8375-AFD9B816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438-B054-4107-B02B-F3BB1252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6AE-7A41-4869-97B8-0ADA7E23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35BA-1EBC-400E-856D-3760089C9C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7640" y="-22860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0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дагогический проект учителей математик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Школа №9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 – Савиновского района  г. Казан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33280" y="2276280"/>
            <a:ext cx="885816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«Реализация системно- деятельностного подхода в преподавании математики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для учеников 5-6 классов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Группа 20"/>
          <p:cNvGrpSpPr/>
          <p:nvPr/>
        </p:nvGrpSpPr>
        <p:grpSpPr>
          <a:xfrm>
            <a:off x="-164880" y="-182520"/>
            <a:ext cx="9455760" cy="6769080"/>
            <a:chOff x="-164880" y="-182520"/>
            <a:chExt cx="9455760" cy="6769080"/>
          </a:xfrm>
        </p:grpSpPr>
        <p:grpSp>
          <p:nvGrpSpPr>
            <p:cNvPr id="52" name="Группа 7"/>
            <p:cNvGrpSpPr/>
            <p:nvPr/>
          </p:nvGrpSpPr>
          <p:grpSpPr>
            <a:xfrm>
              <a:off x="7162920" y="5410080"/>
              <a:ext cx="1574640" cy="1176480"/>
              <a:chOff x="7162920" y="5410080"/>
              <a:chExt cx="1574640" cy="1176480"/>
            </a:xfrm>
          </p:grpSpPr>
          <p:grpSp>
            <p:nvGrpSpPr>
              <p:cNvPr id="53" name="Шестиугольник 6"/>
              <p:cNvGrpSpPr/>
              <p:nvPr/>
            </p:nvGrpSpPr>
            <p:grpSpPr>
              <a:xfrm>
                <a:off x="7590600" y="5413680"/>
                <a:ext cx="1146960" cy="909000"/>
                <a:chOff x="7590600" y="5413680"/>
                <a:chExt cx="1146960" cy="909000"/>
              </a:xfrm>
            </p:grpSpPr>
            <p:pic>
              <p:nvPicPr>
                <p:cNvPr id="54" name="Шестиугольник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90600" y="5413680"/>
                  <a:ext cx="1146960" cy="90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7796880" y="5561280"/>
                  <a:ext cx="73656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" name="Равнобедренный треугольник 4"/>
              <p:cNvSpPr/>
              <p:nvPr/>
            </p:nvSpPr>
            <p:spPr>
              <a:xfrm rot="1866600">
                <a:off x="7265160" y="5613120"/>
                <a:ext cx="972720" cy="666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Овал 5"/>
              <p:cNvSpPr/>
              <p:nvPr/>
            </p:nvSpPr>
            <p:spPr>
              <a:xfrm>
                <a:off x="7818120" y="5901480"/>
                <a:ext cx="695520" cy="6850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Равнобедренный треугольник 13"/>
            <p:cNvSpPr/>
            <p:nvPr/>
          </p:nvSpPr>
          <p:spPr>
            <a:xfrm rot="4943400">
              <a:off x="100440" y="-255960"/>
              <a:ext cx="125568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Равнобедренный треугольник 13"/>
            <p:cNvSpPr/>
            <p:nvPr/>
          </p:nvSpPr>
          <p:spPr>
            <a:xfrm flipH="1" flipV="1" rot="21152400">
              <a:off x="7789680" y="-96480"/>
              <a:ext cx="1414440" cy="142704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TextBox 7"/>
          <p:cNvSpPr/>
          <p:nvPr/>
        </p:nvSpPr>
        <p:spPr>
          <a:xfrm>
            <a:off x="1714680" y="648828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0f03"/>
                </a:solidFill>
                <a:latin typeface="Calibri"/>
              </a:rPr>
              <a:t>Казань,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5429160" y="4357800"/>
            <a:ext cx="3556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 проекта учителя математик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гузина Надежда Владимировна 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адуллина Татьяна Анатольена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фтахова Резеда Хабировна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метзянова Алсу Салихзяновн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7837560" y="1052640"/>
            <a:ext cx="100800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254160" y="1020600"/>
            <a:ext cx="947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Группа 11"/>
          <p:cNvGrpSpPr/>
          <p:nvPr/>
        </p:nvGrpSpPr>
        <p:grpSpPr>
          <a:xfrm>
            <a:off x="-301680" y="-236520"/>
            <a:ext cx="9242640" cy="6956280"/>
            <a:chOff x="-301680" y="-236520"/>
            <a:chExt cx="9242640" cy="6956280"/>
          </a:xfrm>
        </p:grpSpPr>
        <p:pic>
          <p:nvPicPr>
            <p:cNvPr id="185" name="Picture 2" descr=""/>
            <p:cNvPicPr/>
            <p:nvPr/>
          </p:nvPicPr>
          <p:blipFill>
            <a:blip r:embed="rId1"/>
            <a:stretch/>
          </p:blipFill>
          <p:spPr>
            <a:xfrm>
              <a:off x="-301680" y="-236520"/>
              <a:ext cx="9242640" cy="695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Группа 5"/>
            <p:cNvGrpSpPr/>
            <p:nvPr/>
          </p:nvGrpSpPr>
          <p:grpSpPr>
            <a:xfrm>
              <a:off x="7320240" y="5154840"/>
              <a:ext cx="1608120" cy="1291680"/>
              <a:chOff x="7320240" y="5154840"/>
              <a:chExt cx="1608120" cy="1291680"/>
            </a:xfrm>
          </p:grpSpPr>
          <p:grpSp>
            <p:nvGrpSpPr>
              <p:cNvPr id="187" name="Шестиугольник 8"/>
              <p:cNvGrpSpPr/>
              <p:nvPr/>
            </p:nvGrpSpPr>
            <p:grpSpPr>
              <a:xfrm>
                <a:off x="7738560" y="5228280"/>
                <a:ext cx="1189800" cy="975600"/>
                <a:chOff x="7738560" y="5228280"/>
                <a:chExt cx="1189800" cy="975600"/>
              </a:xfrm>
            </p:grpSpPr>
            <p:pic>
              <p:nvPicPr>
                <p:cNvPr id="188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738560" y="5228280"/>
                  <a:ext cx="1189800" cy="975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582000">
                  <a:off x="7962120" y="5433840"/>
                  <a:ext cx="743760" cy="53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90" name="Равнобедренный треугольник 9"/>
              <p:cNvSpPr/>
              <p:nvPr/>
            </p:nvSpPr>
            <p:spPr>
              <a:xfrm rot="2449200">
                <a:off x="7409160" y="5395680"/>
                <a:ext cx="973080" cy="634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Овал 10"/>
              <p:cNvSpPr/>
              <p:nvPr/>
            </p:nvSpPr>
            <p:spPr>
              <a:xfrm rot="582600">
                <a:off x="7911360" y="5738760"/>
                <a:ext cx="697320" cy="65340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2" name=""/>
          <p:cNvSpPr txBox="1"/>
          <p:nvPr/>
        </p:nvSpPr>
        <p:spPr>
          <a:xfrm>
            <a:off x="357120" y="157176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3"/>
          <a:stretch/>
        </p:blipFill>
        <p:spPr>
          <a:xfrm>
            <a:off x="108000" y="2168640"/>
            <a:ext cx="2832120" cy="2124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4"/>
          <a:stretch/>
        </p:blipFill>
        <p:spPr>
          <a:xfrm>
            <a:off x="2787480" y="4680"/>
            <a:ext cx="2843280" cy="2131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5"/>
          <a:stretch/>
        </p:blipFill>
        <p:spPr>
          <a:xfrm>
            <a:off x="5880240" y="9360"/>
            <a:ext cx="2662200" cy="3549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"/>
          <p:cNvPicPr/>
          <p:nvPr/>
        </p:nvPicPr>
        <p:blipFill>
          <a:blip r:embed="rId6"/>
          <a:stretch/>
        </p:blipFill>
        <p:spPr>
          <a:xfrm>
            <a:off x="3348000" y="2179800"/>
            <a:ext cx="2163960" cy="2469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"/>
          <p:cNvPicPr/>
          <p:nvPr/>
        </p:nvPicPr>
        <p:blipFill>
          <a:blip r:embed="rId7"/>
          <a:srcRect l="0" t="0" r="0" b="-408"/>
          <a:stretch/>
        </p:blipFill>
        <p:spPr>
          <a:xfrm>
            <a:off x="250920" y="4206960"/>
            <a:ext cx="3495600" cy="239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"/>
          <p:cNvPicPr/>
          <p:nvPr/>
        </p:nvPicPr>
        <p:blipFill>
          <a:blip r:embed="rId8"/>
          <a:stretch/>
        </p:blipFill>
        <p:spPr>
          <a:xfrm>
            <a:off x="5500800" y="3760920"/>
            <a:ext cx="3305160" cy="2833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9"/>
          <a:stretch/>
        </p:blipFill>
        <p:spPr>
          <a:xfrm>
            <a:off x="-108000" y="0"/>
            <a:ext cx="2797200" cy="2098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Users\2755~1\AppData\Local\Temp\Rar$DRa0.596\IMG_20160402_094723.jpg"/>
          <p:cNvPicPr/>
          <p:nvPr/>
        </p:nvPicPr>
        <p:blipFill>
          <a:blip r:embed="rId10"/>
          <a:stretch/>
        </p:blipFill>
        <p:spPr>
          <a:xfrm>
            <a:off x="3851280" y="4514760"/>
            <a:ext cx="157464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Группа 20"/>
          <p:cNvGrpSpPr/>
          <p:nvPr/>
        </p:nvGrpSpPr>
        <p:grpSpPr>
          <a:xfrm>
            <a:off x="-164880" y="-182520"/>
            <a:ext cx="9455760" cy="6769080"/>
            <a:chOff x="-164880" y="-182520"/>
            <a:chExt cx="9455760" cy="6769080"/>
          </a:xfrm>
        </p:grpSpPr>
        <p:grpSp>
          <p:nvGrpSpPr>
            <p:cNvPr id="203" name="Группа 7"/>
            <p:cNvGrpSpPr/>
            <p:nvPr/>
          </p:nvGrpSpPr>
          <p:grpSpPr>
            <a:xfrm>
              <a:off x="7162920" y="5410080"/>
              <a:ext cx="1574640" cy="1176480"/>
              <a:chOff x="7162920" y="5410080"/>
              <a:chExt cx="1574640" cy="1176480"/>
            </a:xfrm>
          </p:grpSpPr>
          <p:grpSp>
            <p:nvGrpSpPr>
              <p:cNvPr id="204" name="Шестиугольник 8"/>
              <p:cNvGrpSpPr/>
              <p:nvPr/>
            </p:nvGrpSpPr>
            <p:grpSpPr>
              <a:xfrm>
                <a:off x="7590600" y="5413680"/>
                <a:ext cx="1146960" cy="909000"/>
                <a:chOff x="7590600" y="5413680"/>
                <a:chExt cx="1146960" cy="909000"/>
              </a:xfrm>
            </p:grpSpPr>
            <p:pic>
              <p:nvPicPr>
                <p:cNvPr id="205" name="Шестиугольник 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90600" y="5413680"/>
                  <a:ext cx="1146960" cy="90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>
                  <a:off x="7796880" y="5561280"/>
                  <a:ext cx="73656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7" name="Равнобедренный треугольник 9"/>
              <p:cNvSpPr/>
              <p:nvPr/>
            </p:nvSpPr>
            <p:spPr>
              <a:xfrm rot="1866600">
                <a:off x="7265160" y="5613120"/>
                <a:ext cx="972720" cy="666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Овал 10"/>
              <p:cNvSpPr/>
              <p:nvPr/>
            </p:nvSpPr>
            <p:spPr>
              <a:xfrm>
                <a:off x="7818120" y="5901480"/>
                <a:ext cx="695520" cy="6850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Равнобедренный треугольник 13"/>
            <p:cNvSpPr/>
            <p:nvPr/>
          </p:nvSpPr>
          <p:spPr>
            <a:xfrm rot="4943400">
              <a:off x="100440" y="-255960"/>
              <a:ext cx="125568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Равнобедренный треугольник 13"/>
            <p:cNvSpPr/>
            <p:nvPr/>
          </p:nvSpPr>
          <p:spPr>
            <a:xfrm flipH="1" flipV="1" rot="21152400">
              <a:off x="7789680" y="-96480"/>
              <a:ext cx="1414440" cy="142704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1440" y="0"/>
            <a:ext cx="4604040" cy="6046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>
            <a:off x="4633920" y="1063800"/>
            <a:ext cx="4527720" cy="57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Группа 11"/>
          <p:cNvGrpSpPr/>
          <p:nvPr/>
        </p:nvGrpSpPr>
        <p:grpSpPr>
          <a:xfrm>
            <a:off x="-23760" y="-69840"/>
            <a:ext cx="9242280" cy="6956640"/>
            <a:chOff x="-23760" y="-69840"/>
            <a:chExt cx="9242280" cy="6956640"/>
          </a:xfrm>
        </p:grpSpPr>
        <p:pic>
          <p:nvPicPr>
            <p:cNvPr id="214" name="Picture 2" descr=""/>
            <p:cNvPicPr/>
            <p:nvPr/>
          </p:nvPicPr>
          <p:blipFill>
            <a:blip r:embed="rId1"/>
            <a:stretch/>
          </p:blipFill>
          <p:spPr>
            <a:xfrm>
              <a:off x="31320" y="-29880"/>
              <a:ext cx="9187200" cy="691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Группа 5"/>
            <p:cNvGrpSpPr/>
            <p:nvPr/>
          </p:nvGrpSpPr>
          <p:grpSpPr>
            <a:xfrm>
              <a:off x="7222320" y="5329800"/>
              <a:ext cx="1598040" cy="1285560"/>
              <a:chOff x="7222320" y="5329800"/>
              <a:chExt cx="1598040" cy="1285560"/>
            </a:xfrm>
          </p:grpSpPr>
          <p:grpSp>
            <p:nvGrpSpPr>
              <p:cNvPr id="216" name="Шестиугольник 8"/>
              <p:cNvGrpSpPr/>
              <p:nvPr/>
            </p:nvGrpSpPr>
            <p:grpSpPr>
              <a:xfrm>
                <a:off x="7643160" y="5403960"/>
                <a:ext cx="1177200" cy="968760"/>
                <a:chOff x="7643160" y="5403960"/>
                <a:chExt cx="1177200" cy="968760"/>
              </a:xfrm>
            </p:grpSpPr>
            <p:pic>
              <p:nvPicPr>
                <p:cNvPr id="217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643160" y="5403960"/>
                  <a:ext cx="1177200" cy="968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582000">
                  <a:off x="7863840" y="5609520"/>
                  <a:ext cx="73584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9" name="Равнобедренный треугольник 9"/>
              <p:cNvSpPr/>
              <p:nvPr/>
            </p:nvSpPr>
            <p:spPr>
              <a:xfrm rot="2449200">
                <a:off x="7309800" y="5570640"/>
                <a:ext cx="971640" cy="6296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Овал 10"/>
              <p:cNvSpPr/>
              <p:nvPr/>
            </p:nvSpPr>
            <p:spPr>
              <a:xfrm rot="582600">
                <a:off x="7812360" y="5911200"/>
                <a:ext cx="695880" cy="65016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1" name="Прямоугольник 3"/>
            <p:cNvGrpSpPr/>
            <p:nvPr/>
          </p:nvGrpSpPr>
          <p:grpSpPr>
            <a:xfrm>
              <a:off x="-23760" y="-69840"/>
              <a:ext cx="8931960" cy="1697040"/>
              <a:chOff x="-23760" y="-69840"/>
              <a:chExt cx="8931960" cy="1697040"/>
            </a:xfrm>
          </p:grpSpPr>
          <p:pic>
            <p:nvPicPr>
              <p:cNvPr id="222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-23760" y="-69840"/>
                <a:ext cx="8931960" cy="16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253080" y="183600"/>
                <a:ext cx="837828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</a:rPr>
                  <a:t>Анализ </a:t>
                </a:r>
                <a:r>
                  <a:rPr b="0" lang="ru-RU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решения учебно-практических задач обучающимися  по математике 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4" name=""/>
          <p:cNvSpPr txBox="1"/>
          <p:nvPr/>
        </p:nvSpPr>
        <p:spPr>
          <a:xfrm>
            <a:off x="78840" y="1196640"/>
            <a:ext cx="8812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процессе решения заданий на уроке создавалась атмосфера творчества. Ребята глубже проникали в теорию предмета, понимали значимость исторических фактов науки. Ученикам предоставлялась  возможность взглянуть на процесс  чтения с другой стороны, ребята приобщались  не только к приятному «общению» с учебником, но и вдумчивому чтению. Таким образом, происходило  формирование компетентного читател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 уроки ребятам были интересными, насыщенными и увлекательны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Обучающиеся получали возможност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ботать с математическим текстом (структурирование, извлечение необ­ходимой информации), точно и грамотно выражать свои мысли в устной речи, применять математическую терминологию и символику, использовать различные языки математики (словесный, символический, графический), обосно­вывать суждения, проводить классификацию; создавать свои авторские тексты, которые отличались разработанностью и оригинальностью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239760" y="5084640"/>
            <a:ext cx="82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11"/>
          <p:cNvSpPr/>
          <p:nvPr/>
        </p:nvSpPr>
        <p:spPr>
          <a:xfrm>
            <a:off x="82440" y="4622760"/>
            <a:ext cx="86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тратегии чт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жет им  раскрыть различные уровни восприятия текста: информационный (суждения, факты), смысловой (тема, микротемы, основная мысль), рефлексивный (понимание текста и обратная связь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4"/>
          <p:cNvSpPr/>
          <p:nvPr/>
        </p:nvSpPr>
        <p:spPr>
          <a:xfrm>
            <a:off x="-1764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6228"/>
                </a:solidFill>
                <a:uFillTx/>
                <a:latin typeface="Calibri"/>
              </a:rPr>
              <a:t>Учебно-практические занятия нашего проекта  дают возможность ученику</a:t>
            </a: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Группа 20"/>
          <p:cNvGrpSpPr/>
          <p:nvPr/>
        </p:nvGrpSpPr>
        <p:grpSpPr>
          <a:xfrm>
            <a:off x="-168120" y="-185760"/>
            <a:ext cx="9455760" cy="6769080"/>
            <a:chOff x="-168120" y="-185760"/>
            <a:chExt cx="9455760" cy="6769080"/>
          </a:xfrm>
        </p:grpSpPr>
        <p:grpSp>
          <p:nvGrpSpPr>
            <p:cNvPr id="230" name="Группа 7"/>
            <p:cNvGrpSpPr/>
            <p:nvPr/>
          </p:nvGrpSpPr>
          <p:grpSpPr>
            <a:xfrm>
              <a:off x="7158960" y="5405040"/>
              <a:ext cx="1575360" cy="1178280"/>
              <a:chOff x="7158960" y="5405040"/>
              <a:chExt cx="1575360" cy="1178280"/>
            </a:xfrm>
          </p:grpSpPr>
          <p:grpSp>
            <p:nvGrpSpPr>
              <p:cNvPr id="231" name="Шестиугольник 17"/>
              <p:cNvGrpSpPr/>
              <p:nvPr/>
            </p:nvGrpSpPr>
            <p:grpSpPr>
              <a:xfrm>
                <a:off x="7589520" y="5410440"/>
                <a:ext cx="1144800" cy="905400"/>
                <a:chOff x="7589520" y="5410440"/>
                <a:chExt cx="1144800" cy="905400"/>
              </a:xfrm>
            </p:grpSpPr>
            <p:pic>
              <p:nvPicPr>
                <p:cNvPr id="232" name="Шестиугольник 1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89520" y="5410440"/>
                  <a:ext cx="1144800" cy="90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" name=""/>
                <p:cNvSpPr/>
                <p:nvPr/>
              </p:nvSpPr>
              <p:spPr>
                <a:xfrm>
                  <a:off x="7792200" y="5555160"/>
                  <a:ext cx="73512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4" name="Равнобедренный треугольник 18"/>
              <p:cNvSpPr/>
              <p:nvPr/>
            </p:nvSpPr>
            <p:spPr>
              <a:xfrm rot="1866600">
                <a:off x="7261560" y="5607360"/>
                <a:ext cx="970560" cy="668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Овал 19"/>
              <p:cNvSpPr/>
              <p:nvPr/>
            </p:nvSpPr>
            <p:spPr>
              <a:xfrm>
                <a:off x="7813800" y="5896440"/>
                <a:ext cx="694080" cy="6868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Равнобедренный треугольник 13"/>
            <p:cNvSpPr/>
            <p:nvPr/>
          </p:nvSpPr>
          <p:spPr>
            <a:xfrm rot="4943400">
              <a:off x="97200" y="-259200"/>
              <a:ext cx="125568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Равнобедренный треугольник 13"/>
            <p:cNvSpPr/>
            <p:nvPr/>
          </p:nvSpPr>
          <p:spPr>
            <a:xfrm flipH="1" flipV="1" rot="21152400">
              <a:off x="7786440" y="-99720"/>
              <a:ext cx="1414440" cy="142704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1714680" y="4008600"/>
            <a:ext cx="5688000" cy="28051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21"/>
          <p:cNvSpPr/>
          <p:nvPr/>
        </p:nvSpPr>
        <p:spPr>
          <a:xfrm>
            <a:off x="324000" y="836640"/>
            <a:ext cx="833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бретение умений работать с информацией, представленной в различных формах, отбирать и систематизировать научный материа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ние  различных  технологий для решения различных зада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е тренировочных  тестирований для решения практических зада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сть повышения различных компетенций, в том числе читательской и математической грамотностей, для дальнейшего их использования в учебном процесс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сть приобрести опыт оперативной аналитической работы в парах, группах; быть докладчиком, оппонентом, «учителем», «учеником» в решении стратегических зада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Группа 11"/>
          <p:cNvGrpSpPr/>
          <p:nvPr/>
        </p:nvGrpSpPr>
        <p:grpSpPr>
          <a:xfrm>
            <a:off x="-98280" y="0"/>
            <a:ext cx="9242280" cy="6956280"/>
            <a:chOff x="-98280" y="0"/>
            <a:chExt cx="9242280" cy="6956280"/>
          </a:xfrm>
        </p:grpSpPr>
        <p:pic>
          <p:nvPicPr>
            <p:cNvPr id="241" name="Picture 2" descr=""/>
            <p:cNvPicPr/>
            <p:nvPr/>
          </p:nvPicPr>
          <p:blipFill>
            <a:blip r:embed="rId1"/>
            <a:stretch/>
          </p:blipFill>
          <p:spPr>
            <a:xfrm>
              <a:off x="-98280" y="42120"/>
              <a:ext cx="9242280" cy="691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Группа 5"/>
            <p:cNvGrpSpPr/>
            <p:nvPr/>
          </p:nvGrpSpPr>
          <p:grpSpPr>
            <a:xfrm>
              <a:off x="7136280" y="5396400"/>
              <a:ext cx="1606680" cy="1289160"/>
              <a:chOff x="7136280" y="5396400"/>
              <a:chExt cx="1606680" cy="1289160"/>
            </a:xfrm>
          </p:grpSpPr>
          <p:grpSp>
            <p:nvGrpSpPr>
              <p:cNvPr id="243" name="Шестиугольник 8"/>
              <p:cNvGrpSpPr/>
              <p:nvPr/>
            </p:nvGrpSpPr>
            <p:grpSpPr>
              <a:xfrm>
                <a:off x="7560360" y="5474520"/>
                <a:ext cx="1182600" cy="970560"/>
                <a:chOff x="7560360" y="5474520"/>
                <a:chExt cx="1182600" cy="970560"/>
              </a:xfrm>
            </p:grpSpPr>
            <p:pic>
              <p:nvPicPr>
                <p:cNvPr id="244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560360" y="5474520"/>
                  <a:ext cx="11826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5" name=""/>
                <p:cNvSpPr/>
                <p:nvPr/>
              </p:nvSpPr>
              <p:spPr>
                <a:xfrm rot="582000">
                  <a:off x="7780320" y="5677920"/>
                  <a:ext cx="739440" cy="5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46" name="Равнобедренный треугольник 9"/>
              <p:cNvSpPr/>
              <p:nvPr/>
            </p:nvSpPr>
            <p:spPr>
              <a:xfrm rot="2449200">
                <a:off x="7223760" y="5638320"/>
                <a:ext cx="975960" cy="631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Овал 10"/>
              <p:cNvSpPr/>
              <p:nvPr/>
            </p:nvSpPr>
            <p:spPr>
              <a:xfrm rot="582600">
                <a:off x="7729200" y="5979600"/>
                <a:ext cx="699120" cy="65124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8" name="Прямоугольник 3"/>
            <p:cNvGrpSpPr/>
            <p:nvPr/>
          </p:nvGrpSpPr>
          <p:grpSpPr>
            <a:xfrm>
              <a:off x="402480" y="0"/>
              <a:ext cx="7461360" cy="1696320"/>
              <a:chOff x="402480" y="0"/>
              <a:chExt cx="7461360" cy="1696320"/>
            </a:xfrm>
          </p:grpSpPr>
          <p:pic>
            <p:nvPicPr>
              <p:cNvPr id="249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02480" y="0"/>
                <a:ext cx="7461360" cy="169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684720" y="255960"/>
                <a:ext cx="6899400" cy="11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1" name="Прямоугольник 11"/>
          <p:cNvSpPr/>
          <p:nvPr/>
        </p:nvSpPr>
        <p:spPr>
          <a:xfrm>
            <a:off x="206280" y="1844640"/>
            <a:ext cx="743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шли свое подтвержд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повышении мотивации обучающих к изучению математик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повышении качества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результативности участия школьников в творческих конкурсах, олимпиадах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839880" y="395280"/>
            <a:ext cx="603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ипотеза 1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ипотеза 2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G:\Фото\Любимая школа\2013-2014 уч г\5 А\Защита проекта осень\20131001_125619.jpg"/>
          <p:cNvPicPr/>
          <p:nvPr/>
        </p:nvPicPr>
        <p:blipFill>
          <a:blip r:embed="rId4"/>
          <a:stretch/>
        </p:blipFill>
        <p:spPr>
          <a:xfrm>
            <a:off x="4857840" y="46432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G:\Фото\Любимая школа\2013-2014 уч г\5 А\Защита проекта осень\20131001_125611.jpg"/>
          <p:cNvPicPr/>
          <p:nvPr/>
        </p:nvPicPr>
        <p:blipFill>
          <a:blip r:embed="rId5"/>
          <a:stretch/>
        </p:blipFill>
        <p:spPr>
          <a:xfrm>
            <a:off x="428760" y="45720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3"/>
          <p:cNvSpPr/>
          <p:nvPr/>
        </p:nvSpPr>
        <p:spPr>
          <a:xfrm>
            <a:off x="34920" y="4365720"/>
            <a:ext cx="9144000" cy="1458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ю работу по формированию читательской компетентности считаем комфортной, так как она эффективна и создаёт ситуацию успех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я математики школы №9 г.Казан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агузина Н. В.,  Гибадуллина Т. А., Мифтахова Р. Х., Ахметзянова А.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Группа 20"/>
          <p:cNvGrpSpPr/>
          <p:nvPr/>
        </p:nvGrpSpPr>
        <p:grpSpPr>
          <a:xfrm>
            <a:off x="-164880" y="-182520"/>
            <a:ext cx="9455760" cy="6769080"/>
            <a:chOff x="-164880" y="-182520"/>
            <a:chExt cx="9455760" cy="6769080"/>
          </a:xfrm>
        </p:grpSpPr>
        <p:grpSp>
          <p:nvGrpSpPr>
            <p:cNvPr id="257" name="Группа 7"/>
            <p:cNvGrpSpPr/>
            <p:nvPr/>
          </p:nvGrpSpPr>
          <p:grpSpPr>
            <a:xfrm>
              <a:off x="7162920" y="5410080"/>
              <a:ext cx="1574640" cy="1176480"/>
              <a:chOff x="7162920" y="5410080"/>
              <a:chExt cx="1574640" cy="1176480"/>
            </a:xfrm>
          </p:grpSpPr>
          <p:grpSp>
            <p:nvGrpSpPr>
              <p:cNvPr id="258" name="Шестиугольник 6"/>
              <p:cNvGrpSpPr/>
              <p:nvPr/>
            </p:nvGrpSpPr>
            <p:grpSpPr>
              <a:xfrm>
                <a:off x="7590600" y="5413680"/>
                <a:ext cx="1146960" cy="909000"/>
                <a:chOff x="7590600" y="5413680"/>
                <a:chExt cx="1146960" cy="909000"/>
              </a:xfrm>
            </p:grpSpPr>
            <p:pic>
              <p:nvPicPr>
                <p:cNvPr id="259" name="Шестиугольник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90600" y="5413680"/>
                  <a:ext cx="1146960" cy="90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0" name=""/>
                <p:cNvSpPr/>
                <p:nvPr/>
              </p:nvSpPr>
              <p:spPr>
                <a:xfrm>
                  <a:off x="7796880" y="5561280"/>
                  <a:ext cx="73656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1" name="Равнобедренный треугольник 4"/>
              <p:cNvSpPr/>
              <p:nvPr/>
            </p:nvSpPr>
            <p:spPr>
              <a:xfrm rot="1866600">
                <a:off x="7265160" y="5613120"/>
                <a:ext cx="972720" cy="666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Овал 5"/>
              <p:cNvSpPr/>
              <p:nvPr/>
            </p:nvSpPr>
            <p:spPr>
              <a:xfrm>
                <a:off x="7818120" y="5901480"/>
                <a:ext cx="695520" cy="6850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Равнобедренный треугольник 13"/>
            <p:cNvSpPr/>
            <p:nvPr/>
          </p:nvSpPr>
          <p:spPr>
            <a:xfrm rot="4943400">
              <a:off x="100440" y="-255960"/>
              <a:ext cx="125568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Равнобедренный треугольник 13"/>
            <p:cNvSpPr/>
            <p:nvPr/>
          </p:nvSpPr>
          <p:spPr>
            <a:xfrm flipH="1" flipV="1" rot="21152400">
              <a:off x="7789680" y="-96480"/>
              <a:ext cx="1414440" cy="142704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Прямоугольник 16"/>
          <p:cNvSpPr/>
          <p:nvPr/>
        </p:nvSpPr>
        <p:spPr>
          <a:xfrm>
            <a:off x="158760" y="115920"/>
            <a:ext cx="8578800" cy="3960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Не существует единственно верного или самого лучшего способа обучения, делающего человека компетентны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редставленные  сценарии занятий – это  стратегии развития чтения лишь некая часть того, что разработано и нами  применяется сегодн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Для кого-то, возможно, они все станут практическим пособием, кто-то воспользуется рекомендациями других  авторов, кому-то они покажутся спорными или просто неприемлемыми и подтолкнут к раздумьям, к собственным поиск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Как отмечал К.Д. Ушинский «Опыт перенять нельзя, перенять можно лишь идею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rcRect l="0" t="22619" r="4466" b="0"/>
          <a:stretch/>
        </p:blipFill>
        <p:spPr>
          <a:xfrm>
            <a:off x="0" y="163440"/>
            <a:ext cx="4691160" cy="2138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rcRect l="8029" t="22308" r="3341" b="0"/>
          <a:stretch/>
        </p:blipFill>
        <p:spPr>
          <a:xfrm>
            <a:off x="4691160" y="163440"/>
            <a:ext cx="4452840" cy="2197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3"/>
          <a:srcRect l="0" t="21555" r="0" b="11996"/>
          <a:stretch/>
        </p:blipFill>
        <p:spPr>
          <a:xfrm>
            <a:off x="4352760" y="2355840"/>
            <a:ext cx="3713400" cy="4386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4"/>
          <a:srcRect l="0" t="20013" r="0" b="9687"/>
          <a:stretch/>
        </p:blipFill>
        <p:spPr>
          <a:xfrm>
            <a:off x="728640" y="2344680"/>
            <a:ext cx="3597120" cy="4495680"/>
          </a:xfrm>
          <a:prstGeom prst="rect">
            <a:avLst/>
          </a:prstGeom>
          <a:ln w="0">
            <a:noFill/>
          </a:ln>
        </p:spPr>
      </p:pic>
      <p:grpSp>
        <p:nvGrpSpPr>
          <p:cNvPr id="271" name="Группа 20"/>
          <p:cNvGrpSpPr/>
          <p:nvPr/>
        </p:nvGrpSpPr>
        <p:grpSpPr>
          <a:xfrm>
            <a:off x="-164880" y="-182520"/>
            <a:ext cx="9455760" cy="6769080"/>
            <a:chOff x="-164880" y="-182520"/>
            <a:chExt cx="9455760" cy="6769080"/>
          </a:xfrm>
        </p:grpSpPr>
        <p:grpSp>
          <p:nvGrpSpPr>
            <p:cNvPr id="272" name="Группа 7"/>
            <p:cNvGrpSpPr/>
            <p:nvPr/>
          </p:nvGrpSpPr>
          <p:grpSpPr>
            <a:xfrm>
              <a:off x="7162920" y="5410080"/>
              <a:ext cx="1574640" cy="1176480"/>
              <a:chOff x="7162920" y="5410080"/>
              <a:chExt cx="1574640" cy="1176480"/>
            </a:xfrm>
          </p:grpSpPr>
          <p:grpSp>
            <p:nvGrpSpPr>
              <p:cNvPr id="273" name="Шестиугольник 8"/>
              <p:cNvGrpSpPr/>
              <p:nvPr/>
            </p:nvGrpSpPr>
            <p:grpSpPr>
              <a:xfrm>
                <a:off x="7590600" y="5413680"/>
                <a:ext cx="1146960" cy="909000"/>
                <a:chOff x="7590600" y="5413680"/>
                <a:chExt cx="1146960" cy="909000"/>
              </a:xfrm>
            </p:grpSpPr>
            <p:pic>
              <p:nvPicPr>
                <p:cNvPr id="274" name="Шестиугольник 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90600" y="5413680"/>
                  <a:ext cx="1146960" cy="90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5" name=""/>
                <p:cNvSpPr/>
                <p:nvPr/>
              </p:nvSpPr>
              <p:spPr>
                <a:xfrm>
                  <a:off x="7796880" y="5561280"/>
                  <a:ext cx="73656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6" name="Равнобедренный треугольник 9"/>
              <p:cNvSpPr/>
              <p:nvPr/>
            </p:nvSpPr>
            <p:spPr>
              <a:xfrm rot="1866600">
                <a:off x="7265160" y="5613120"/>
                <a:ext cx="972720" cy="666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Овал 10"/>
              <p:cNvSpPr/>
              <p:nvPr/>
            </p:nvSpPr>
            <p:spPr>
              <a:xfrm>
                <a:off x="7818120" y="5901480"/>
                <a:ext cx="695520" cy="6850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8" name="Равнобедренный треугольник 13"/>
            <p:cNvSpPr/>
            <p:nvPr/>
          </p:nvSpPr>
          <p:spPr>
            <a:xfrm rot="4943400">
              <a:off x="100440" y="-255960"/>
              <a:ext cx="125568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Равнобедренный треугольник 13"/>
            <p:cNvSpPr/>
            <p:nvPr/>
          </p:nvSpPr>
          <p:spPr>
            <a:xfrm flipH="1" flipV="1" rot="21152400">
              <a:off x="7789680" y="-96480"/>
              <a:ext cx="1414440" cy="142704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13276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проекта: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едоставить педагогический продукт,  способствующий формированию и развитию метапредметных результатов освоения ООП ООО, в частности основ читательской компетенции школьников (математика 5-6 класс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Группа 20"/>
          <p:cNvGrpSpPr/>
          <p:nvPr/>
        </p:nvGrpSpPr>
        <p:grpSpPr>
          <a:xfrm>
            <a:off x="-164880" y="-182520"/>
            <a:ext cx="9455760" cy="6769080"/>
            <a:chOff x="-164880" y="-182520"/>
            <a:chExt cx="9455760" cy="6769080"/>
          </a:xfrm>
        </p:grpSpPr>
        <p:grpSp>
          <p:nvGrpSpPr>
            <p:cNvPr id="67" name="Группа 7"/>
            <p:cNvGrpSpPr/>
            <p:nvPr/>
          </p:nvGrpSpPr>
          <p:grpSpPr>
            <a:xfrm>
              <a:off x="7162920" y="5410080"/>
              <a:ext cx="1574640" cy="1176480"/>
              <a:chOff x="7162920" y="5410080"/>
              <a:chExt cx="1574640" cy="1176480"/>
            </a:xfrm>
          </p:grpSpPr>
          <p:grpSp>
            <p:nvGrpSpPr>
              <p:cNvPr id="68" name="Шестиугольник 6"/>
              <p:cNvGrpSpPr/>
              <p:nvPr/>
            </p:nvGrpSpPr>
            <p:grpSpPr>
              <a:xfrm>
                <a:off x="7590600" y="5413680"/>
                <a:ext cx="1146960" cy="909000"/>
                <a:chOff x="7590600" y="5413680"/>
                <a:chExt cx="1146960" cy="909000"/>
              </a:xfrm>
            </p:grpSpPr>
            <p:pic>
              <p:nvPicPr>
                <p:cNvPr id="69" name="Шестиугольник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90600" y="5413680"/>
                  <a:ext cx="1146960" cy="90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>
                  <a:off x="7796880" y="5561280"/>
                  <a:ext cx="73656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1" name="Равнобедренный треугольник 4"/>
              <p:cNvSpPr/>
              <p:nvPr/>
            </p:nvSpPr>
            <p:spPr>
              <a:xfrm rot="1866600">
                <a:off x="7265160" y="5613120"/>
                <a:ext cx="972720" cy="666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Овал 5"/>
              <p:cNvSpPr/>
              <p:nvPr/>
            </p:nvSpPr>
            <p:spPr>
              <a:xfrm>
                <a:off x="7818120" y="5901480"/>
                <a:ext cx="695520" cy="6850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" name="Равнобедренный треугольник 13"/>
            <p:cNvSpPr/>
            <p:nvPr/>
          </p:nvSpPr>
          <p:spPr>
            <a:xfrm rot="4943400">
              <a:off x="100440" y="-255960"/>
              <a:ext cx="125568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Равнобедренный треугольник 13"/>
            <p:cNvSpPr/>
            <p:nvPr/>
          </p:nvSpPr>
          <p:spPr>
            <a:xfrm flipH="1" flipV="1" rot="21152400">
              <a:off x="7789680" y="-96480"/>
              <a:ext cx="1414440" cy="142704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Заголовок 1"/>
          <p:cNvSpPr/>
          <p:nvPr/>
        </p:nvSpPr>
        <p:spPr>
          <a:xfrm>
            <a:off x="914400" y="1500120"/>
            <a:ext cx="5729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Задача про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ставить и апробировать учебно-практические занятия в системе работы шко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0" y="2000160"/>
            <a:ext cx="70009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1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Если создать условия для решения учебно-практических задач обучающимися  в  урочной  и внеурочной деятельности по математике, то это приведет к повышению  мотивации изучения математики и как  следствие – к повышению качества обучения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6858000" y="1214280"/>
            <a:ext cx="2016000" cy="1546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G:\Фото\Любимая школа\2013-2014 уч г\5 А\Защита проекта осень\20131001_125629.jpg"/>
          <p:cNvPicPr/>
          <p:nvPr/>
        </p:nvPicPr>
        <p:blipFill>
          <a:blip r:embed="rId3"/>
          <a:stretch/>
        </p:blipFill>
        <p:spPr>
          <a:xfrm>
            <a:off x="6858000" y="4357800"/>
            <a:ext cx="2151000" cy="1455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Изображение 110"/>
          <p:cNvPicPr/>
          <p:nvPr/>
        </p:nvPicPr>
        <p:blipFill>
          <a:blip r:embed="rId4"/>
          <a:stretch/>
        </p:blipFill>
        <p:spPr>
          <a:xfrm>
            <a:off x="6858000" y="2786040"/>
            <a:ext cx="2057400" cy="1546200"/>
          </a:xfrm>
          <a:prstGeom prst="rect">
            <a:avLst/>
          </a:prstGeom>
          <a:ln w="0">
            <a:noFill/>
          </a:ln>
        </p:spPr>
      </p:pic>
      <p:sp>
        <p:nvSpPr>
          <p:cNvPr id="80" name="Заголовок 1"/>
          <p:cNvSpPr/>
          <p:nvPr/>
        </p:nvSpPr>
        <p:spPr>
          <a:xfrm>
            <a:off x="0" y="4143240"/>
            <a:ext cx="657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2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сли использовать  готовый педагогический продукт и апробировать его  в рамках собственной школы, то это приведет как минимум учителя к  созданию   метапредметной среды математической грамотности школьников, как максимум кафедру математиков к системной работе в этом направлении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Группа 20"/>
          <p:cNvGrpSpPr/>
          <p:nvPr/>
        </p:nvGrpSpPr>
        <p:grpSpPr>
          <a:xfrm>
            <a:off x="-164880" y="-182520"/>
            <a:ext cx="9455760" cy="6769080"/>
            <a:chOff x="-164880" y="-182520"/>
            <a:chExt cx="9455760" cy="6769080"/>
          </a:xfrm>
        </p:grpSpPr>
        <p:grpSp>
          <p:nvGrpSpPr>
            <p:cNvPr id="83" name="Группа 7"/>
            <p:cNvGrpSpPr/>
            <p:nvPr/>
          </p:nvGrpSpPr>
          <p:grpSpPr>
            <a:xfrm>
              <a:off x="7162920" y="5410080"/>
              <a:ext cx="1574640" cy="1176480"/>
              <a:chOff x="7162920" y="5410080"/>
              <a:chExt cx="1574640" cy="1176480"/>
            </a:xfrm>
          </p:grpSpPr>
          <p:grpSp>
            <p:nvGrpSpPr>
              <p:cNvPr id="84" name="Шестиугольник 6"/>
              <p:cNvGrpSpPr/>
              <p:nvPr/>
            </p:nvGrpSpPr>
            <p:grpSpPr>
              <a:xfrm>
                <a:off x="7590600" y="5413680"/>
                <a:ext cx="1146960" cy="909000"/>
                <a:chOff x="7590600" y="5413680"/>
                <a:chExt cx="1146960" cy="909000"/>
              </a:xfrm>
            </p:grpSpPr>
            <p:pic>
              <p:nvPicPr>
                <p:cNvPr id="85" name="Шестиугольник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90600" y="5413680"/>
                  <a:ext cx="1146960" cy="90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7796880" y="5561280"/>
                  <a:ext cx="73656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7" name="Равнобедренный треугольник 4"/>
              <p:cNvSpPr/>
              <p:nvPr/>
            </p:nvSpPr>
            <p:spPr>
              <a:xfrm rot="1866600">
                <a:off x="7265160" y="5613120"/>
                <a:ext cx="972720" cy="666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Овал 5"/>
              <p:cNvSpPr/>
              <p:nvPr/>
            </p:nvSpPr>
            <p:spPr>
              <a:xfrm>
                <a:off x="7818120" y="5901480"/>
                <a:ext cx="695520" cy="68508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Равнобедренный треугольник 13"/>
            <p:cNvSpPr/>
            <p:nvPr/>
          </p:nvSpPr>
          <p:spPr>
            <a:xfrm rot="4943400">
              <a:off x="100440" y="-255960"/>
              <a:ext cx="125568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Равнобедренный треугольник 13"/>
            <p:cNvSpPr/>
            <p:nvPr/>
          </p:nvSpPr>
          <p:spPr>
            <a:xfrm flipH="1" flipV="1" rot="21152400">
              <a:off x="7789680" y="-96480"/>
              <a:ext cx="1414440" cy="142704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Прямоугольник 2"/>
          <p:cNvSpPr/>
          <p:nvPr/>
        </p:nvSpPr>
        <p:spPr>
          <a:xfrm>
            <a:off x="179280" y="26028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ое назначение метапредметного подхода в образов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назначение метапредметного подхода в образовании состоит в достижении нового качества образования, характеризующееся предметными, метапредметными и личностными результатам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апредметные способности учащихся это то, что не сводится к знаниям, умениям и навыкам, а способность создавать, формулировать и разрабатывать необычные, оригинальные идеи, а также использовать нестандартные способы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2"/>
          <p:cNvSpPr/>
          <p:nvPr/>
        </p:nvSpPr>
        <p:spPr>
          <a:xfrm>
            <a:off x="74520" y="3068640"/>
            <a:ext cx="88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ктуальность выбранной 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облем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сохранить интерес обучающихся к  математике на всем протяжении её изучения? Теоретическое осмысление педагогических средств, которые обеспечат высокий уровень развития креативных способностей школьников на уроках математики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Группа 11"/>
          <p:cNvGrpSpPr/>
          <p:nvPr/>
        </p:nvGrpSpPr>
        <p:grpSpPr>
          <a:xfrm>
            <a:off x="0" y="142920"/>
            <a:ext cx="9242280" cy="6956280"/>
            <a:chOff x="0" y="142920"/>
            <a:chExt cx="9242280" cy="6956280"/>
          </a:xfrm>
        </p:grpSpPr>
        <p:pic>
          <p:nvPicPr>
            <p:cNvPr id="94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181800"/>
              <a:ext cx="9242280" cy="691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Группа 5"/>
            <p:cNvGrpSpPr/>
            <p:nvPr/>
          </p:nvGrpSpPr>
          <p:grpSpPr>
            <a:xfrm>
              <a:off x="7234920" y="5539680"/>
              <a:ext cx="1606680" cy="1288800"/>
              <a:chOff x="7234920" y="5539680"/>
              <a:chExt cx="1606680" cy="1288800"/>
            </a:xfrm>
          </p:grpSpPr>
          <p:grpSp>
            <p:nvGrpSpPr>
              <p:cNvPr id="96" name="Шестиугольник 8"/>
              <p:cNvGrpSpPr/>
              <p:nvPr/>
            </p:nvGrpSpPr>
            <p:grpSpPr>
              <a:xfrm>
                <a:off x="7657920" y="5616720"/>
                <a:ext cx="1183680" cy="969480"/>
                <a:chOff x="7657920" y="5616720"/>
                <a:chExt cx="1183680" cy="969480"/>
              </a:xfrm>
            </p:grpSpPr>
            <p:pic>
              <p:nvPicPr>
                <p:cNvPr id="97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657920" y="5616720"/>
                  <a:ext cx="1183680" cy="9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582000">
                  <a:off x="7879320" y="5822280"/>
                  <a:ext cx="739800" cy="53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9" name="Равнобедренный треугольник 9"/>
              <p:cNvSpPr/>
              <p:nvPr/>
            </p:nvSpPr>
            <p:spPr>
              <a:xfrm rot="2449200">
                <a:off x="7321680" y="5782320"/>
                <a:ext cx="977040" cy="6300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Овал 10"/>
              <p:cNvSpPr/>
              <p:nvPr/>
            </p:nvSpPr>
            <p:spPr>
              <a:xfrm rot="582600">
                <a:off x="7827840" y="6123240"/>
                <a:ext cx="699840" cy="65052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Прямоугольник 3"/>
            <p:cNvGrpSpPr/>
            <p:nvPr/>
          </p:nvGrpSpPr>
          <p:grpSpPr>
            <a:xfrm>
              <a:off x="499680" y="142920"/>
              <a:ext cx="7461360" cy="1697040"/>
              <a:chOff x="499680" y="142920"/>
              <a:chExt cx="7461360" cy="1697040"/>
            </a:xfrm>
          </p:grpSpPr>
          <p:pic>
            <p:nvPicPr>
              <p:cNvPr id="102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99680" y="142920"/>
                <a:ext cx="7461360" cy="16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83000" y="395640"/>
                <a:ext cx="689940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4" name="Прямоугольник 1"/>
          <p:cNvSpPr/>
          <p:nvPr/>
        </p:nvSpPr>
        <p:spPr>
          <a:xfrm>
            <a:off x="108000" y="355680"/>
            <a:ext cx="89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ь уроков по математике по новым образовательным стандартам -  воспитание компетентного читателя, который имеет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формированную духовную потребность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книге как средстве познания мира и самого себ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 Умения и навыки чтения - сложный комплекс, используемый учащимися при изучении всех учебных предметов, во всех случаях внеурочной и внешкольной жизни. Главная цель, которая стоит перед учителем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ФГОС ООО) - научить учащихся воспринимать информацию, содержащуюся в текстах различного характера, перерабатывать ее, умело применять на практике в личных и общественных цел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160200" y="5008680"/>
            <a:ext cx="882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ижение данной цели предполагает решение следующих задач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потребности в чтении (самостоятельном, инициативном) посредством использования разнообразных форм урочной  деятельности на развитие читательской компетентност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3" descr="IMG_5049"/>
          <p:cNvPicPr/>
          <p:nvPr/>
        </p:nvPicPr>
        <p:blipFill>
          <a:blip r:embed="rId4"/>
          <a:stretch/>
        </p:blipFill>
        <p:spPr>
          <a:xfrm>
            <a:off x="142920" y="2643120"/>
            <a:ext cx="1752480" cy="24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5"/>
          <a:stretch/>
        </p:blipFill>
        <p:spPr>
          <a:xfrm>
            <a:off x="5072040" y="2428920"/>
            <a:ext cx="1951200" cy="261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Карагузина\Desktop\форум\на печать форум\фото с урока\SDC15396.JPG"/>
          <p:cNvPicPr/>
          <p:nvPr/>
        </p:nvPicPr>
        <p:blipFill>
          <a:blip r:embed="rId6"/>
          <a:stretch/>
        </p:blipFill>
        <p:spPr>
          <a:xfrm>
            <a:off x="7429680" y="2571840"/>
            <a:ext cx="1533240" cy="2023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E:\DCIM\100SSCAM\SDC15461.JPG"/>
          <p:cNvPicPr/>
          <p:nvPr/>
        </p:nvPicPr>
        <p:blipFill>
          <a:blip r:embed="rId7"/>
          <a:stretch/>
        </p:blipFill>
        <p:spPr>
          <a:xfrm>
            <a:off x="2071800" y="292896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Группа 11"/>
          <p:cNvGrpSpPr/>
          <p:nvPr/>
        </p:nvGrpSpPr>
        <p:grpSpPr>
          <a:xfrm>
            <a:off x="0" y="142920"/>
            <a:ext cx="9242280" cy="6956280"/>
            <a:chOff x="0" y="142920"/>
            <a:chExt cx="9242280" cy="6956280"/>
          </a:xfrm>
        </p:grpSpPr>
        <p:pic>
          <p:nvPicPr>
            <p:cNvPr id="11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181800"/>
              <a:ext cx="9242280" cy="691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Группа 5"/>
            <p:cNvGrpSpPr/>
            <p:nvPr/>
          </p:nvGrpSpPr>
          <p:grpSpPr>
            <a:xfrm>
              <a:off x="7234920" y="5539680"/>
              <a:ext cx="1606680" cy="1288800"/>
              <a:chOff x="7234920" y="5539680"/>
              <a:chExt cx="1606680" cy="1288800"/>
            </a:xfrm>
          </p:grpSpPr>
          <p:grpSp>
            <p:nvGrpSpPr>
              <p:cNvPr id="113" name="Шестиугольник 8"/>
              <p:cNvGrpSpPr/>
              <p:nvPr/>
            </p:nvGrpSpPr>
            <p:grpSpPr>
              <a:xfrm>
                <a:off x="7657920" y="5616720"/>
                <a:ext cx="1183680" cy="969480"/>
                <a:chOff x="7657920" y="5616720"/>
                <a:chExt cx="1183680" cy="969480"/>
              </a:xfrm>
            </p:grpSpPr>
            <p:pic>
              <p:nvPicPr>
                <p:cNvPr id="114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657920" y="5616720"/>
                  <a:ext cx="1183680" cy="9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"/>
                <p:cNvSpPr/>
                <p:nvPr/>
              </p:nvSpPr>
              <p:spPr>
                <a:xfrm rot="582000">
                  <a:off x="7879320" y="5822280"/>
                  <a:ext cx="739800" cy="53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6" name="Равнобедренный треугольник 9"/>
              <p:cNvSpPr/>
              <p:nvPr/>
            </p:nvSpPr>
            <p:spPr>
              <a:xfrm rot="2449200">
                <a:off x="7321680" y="5782320"/>
                <a:ext cx="977040" cy="6300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Овал 10"/>
              <p:cNvSpPr/>
              <p:nvPr/>
            </p:nvSpPr>
            <p:spPr>
              <a:xfrm rot="582600">
                <a:off x="7827840" y="6123240"/>
                <a:ext cx="699840" cy="65052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" name="Прямоугольник 3"/>
            <p:cNvGrpSpPr/>
            <p:nvPr/>
          </p:nvGrpSpPr>
          <p:grpSpPr>
            <a:xfrm>
              <a:off x="499680" y="142920"/>
              <a:ext cx="7461360" cy="1697040"/>
              <a:chOff x="499680" y="142920"/>
              <a:chExt cx="7461360" cy="1697040"/>
            </a:xfrm>
          </p:grpSpPr>
          <p:pic>
            <p:nvPicPr>
              <p:cNvPr id="119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99680" y="142920"/>
                <a:ext cx="7461360" cy="16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783000" y="395640"/>
                <a:ext cx="689940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1" name="Прямоугольник 1"/>
          <p:cNvSpPr/>
          <p:nvPr/>
        </p:nvSpPr>
        <p:spPr>
          <a:xfrm>
            <a:off x="179280" y="4888080"/>
            <a:ext cx="873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годня важно не столько заучивание определенных норм и положений, сколько получение обобщенных знаний, позволяющих наиболее эффективно решать конкретные жизненные профессиональные проблемы. Следовательно, образовательный процесс нужно выстраивать таким образом, чтобы снабдить школьника, будущего студента необходимыми знаниями, умениями и навыками для его дальнейшей профессиональной ориент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782640" y="360360"/>
            <a:ext cx="72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ременное  образование  диктует свои  правила учебной и профессиональной самореализ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F:\на печать форум\фото с урока\SDC15393.JPG"/>
          <p:cNvPicPr/>
          <p:nvPr/>
        </p:nvPicPr>
        <p:blipFill>
          <a:blip r:embed="rId4"/>
          <a:stretch/>
        </p:blipFill>
        <p:spPr>
          <a:xfrm>
            <a:off x="4000680" y="1428840"/>
            <a:ext cx="4557600" cy="3419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E:\DCIM\100SSCAM\SDC15392.JPG"/>
          <p:cNvPicPr/>
          <p:nvPr/>
        </p:nvPicPr>
        <p:blipFill>
          <a:blip r:embed="rId5"/>
          <a:stretch/>
        </p:blipFill>
        <p:spPr>
          <a:xfrm>
            <a:off x="357120" y="1785960"/>
            <a:ext cx="321480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Группа 11"/>
          <p:cNvGrpSpPr/>
          <p:nvPr/>
        </p:nvGrpSpPr>
        <p:grpSpPr>
          <a:xfrm>
            <a:off x="0" y="-314280"/>
            <a:ext cx="9242280" cy="6956640"/>
            <a:chOff x="0" y="-314280"/>
            <a:chExt cx="9242280" cy="6956640"/>
          </a:xfrm>
        </p:grpSpPr>
        <p:pic>
          <p:nvPicPr>
            <p:cNvPr id="12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-275040"/>
              <a:ext cx="9242280" cy="691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Группа 5"/>
            <p:cNvGrpSpPr/>
            <p:nvPr/>
          </p:nvGrpSpPr>
          <p:grpSpPr>
            <a:xfrm>
              <a:off x="7234920" y="5082480"/>
              <a:ext cx="1606680" cy="1288800"/>
              <a:chOff x="7234920" y="5082480"/>
              <a:chExt cx="1606680" cy="1288800"/>
            </a:xfrm>
          </p:grpSpPr>
          <p:grpSp>
            <p:nvGrpSpPr>
              <p:cNvPr id="128" name="Шестиугольник 8"/>
              <p:cNvGrpSpPr/>
              <p:nvPr/>
            </p:nvGrpSpPr>
            <p:grpSpPr>
              <a:xfrm>
                <a:off x="7657920" y="5159520"/>
                <a:ext cx="1183680" cy="969480"/>
                <a:chOff x="7657920" y="5159520"/>
                <a:chExt cx="1183680" cy="969480"/>
              </a:xfrm>
            </p:grpSpPr>
            <p:pic>
              <p:nvPicPr>
                <p:cNvPr id="129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657920" y="5159520"/>
                  <a:ext cx="1183680" cy="9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582000">
                  <a:off x="7879320" y="5365080"/>
                  <a:ext cx="739800" cy="53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1" name="Равнобедренный треугольник 9"/>
              <p:cNvSpPr/>
              <p:nvPr/>
            </p:nvSpPr>
            <p:spPr>
              <a:xfrm rot="2449200">
                <a:off x="7321680" y="5325120"/>
                <a:ext cx="977040" cy="6300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Овал 10"/>
              <p:cNvSpPr/>
              <p:nvPr/>
            </p:nvSpPr>
            <p:spPr>
              <a:xfrm rot="582600">
                <a:off x="7827840" y="5666040"/>
                <a:ext cx="699840" cy="65052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" name="Прямоугольник 3"/>
            <p:cNvGrpSpPr/>
            <p:nvPr/>
          </p:nvGrpSpPr>
          <p:grpSpPr>
            <a:xfrm>
              <a:off x="499680" y="-314280"/>
              <a:ext cx="7461360" cy="1697040"/>
              <a:chOff x="499680" y="-314280"/>
              <a:chExt cx="7461360" cy="1697040"/>
            </a:xfrm>
          </p:grpSpPr>
          <p:pic>
            <p:nvPicPr>
              <p:cNvPr id="134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99680" y="-314280"/>
                <a:ext cx="7461360" cy="16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783000" y="-61200"/>
                <a:ext cx="689940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6" name="Прямоугольник 1"/>
          <p:cNvSpPr/>
          <p:nvPr/>
        </p:nvSpPr>
        <p:spPr>
          <a:xfrm>
            <a:off x="2357280" y="2143080"/>
            <a:ext cx="67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считаем, что чтение является базовым компонентом, характеризующим жизнедеятельность человека, и лежит в основе формирования инновационных компетенций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годня необходимо разрабатывать и проводить уроки, где  читательская компетентность – стает личностном  качеством,  характеризующееся степенью обладания читательской компетенцией и способностью самостоятельно выносить суждения и принимать решения в результате работы с математическими текст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читательского интереса – большая педагогическая проблема.  Возможность повышения и формирования этого компонента на наших уроках математики легла в основу нашей методической работы  и мы на базе нашей школы разработали и апробировали  технологические  карты уроков – практикумов, основная идея  которых проводить  «учение с увлечением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1042920" y="241200"/>
            <a:ext cx="65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Формирование и развитие читательской компетентности»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142920" y="714240"/>
            <a:ext cx="866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новым образовательным стандартам, выпускники средней  ступени должны быть деятельными, любознательными, доброжелательными и отзывчивыми. У них должно быть чувство собственного достоинства, исследовательский интерес, уважительное отношение к окружающей среде, навыки самоорганизации и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C:\Users\Леонид\Desktop\с ноутбука 3 01 2017\6в портфолио\6d\SDC14964.JPG"/>
          <p:cNvPicPr/>
          <p:nvPr/>
        </p:nvPicPr>
        <p:blipFill>
          <a:blip r:embed="rId4"/>
          <a:stretch/>
        </p:blipFill>
        <p:spPr>
          <a:xfrm>
            <a:off x="214200" y="2428920"/>
            <a:ext cx="1965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Группа 20"/>
          <p:cNvGrpSpPr/>
          <p:nvPr/>
        </p:nvGrpSpPr>
        <p:grpSpPr>
          <a:xfrm>
            <a:off x="-119880" y="-171000"/>
            <a:ext cx="9387000" cy="4201200"/>
            <a:chOff x="-119880" y="-171000"/>
            <a:chExt cx="9387000" cy="4201200"/>
          </a:xfrm>
        </p:grpSpPr>
        <p:grpSp>
          <p:nvGrpSpPr>
            <p:cNvPr id="142" name="Группа 7"/>
            <p:cNvGrpSpPr/>
            <p:nvPr/>
          </p:nvGrpSpPr>
          <p:grpSpPr>
            <a:xfrm>
              <a:off x="7244280" y="3184920"/>
              <a:ext cx="1505880" cy="845280"/>
              <a:chOff x="7244280" y="3184920"/>
              <a:chExt cx="1505880" cy="845280"/>
            </a:xfrm>
          </p:grpSpPr>
          <p:grpSp>
            <p:nvGrpSpPr>
              <p:cNvPr id="143" name="Шестиугольник 8"/>
              <p:cNvGrpSpPr/>
              <p:nvPr/>
            </p:nvGrpSpPr>
            <p:grpSpPr>
              <a:xfrm>
                <a:off x="7602840" y="3277440"/>
                <a:ext cx="1147320" cy="586440"/>
                <a:chOff x="7602840" y="3277440"/>
                <a:chExt cx="1147320" cy="586440"/>
              </a:xfrm>
            </p:grpSpPr>
            <p:pic>
              <p:nvPicPr>
                <p:cNvPr id="144" name="Шестиугольник 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602840" y="3277440"/>
                  <a:ext cx="1147320" cy="58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>
                  <a:off x="7783920" y="3363120"/>
                  <a:ext cx="788400" cy="36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6" name="Равнобедренный треугольник 9"/>
              <p:cNvSpPr/>
              <p:nvPr/>
            </p:nvSpPr>
            <p:spPr>
              <a:xfrm rot="1866600">
                <a:off x="7277400" y="3407400"/>
                <a:ext cx="973080" cy="399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Овал 10"/>
              <p:cNvSpPr/>
              <p:nvPr/>
            </p:nvSpPr>
            <p:spPr>
              <a:xfrm>
                <a:off x="7830720" y="3580200"/>
                <a:ext cx="695520" cy="41220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8" name="Равнобедренный треугольник 13"/>
            <p:cNvSpPr/>
            <p:nvPr/>
          </p:nvSpPr>
          <p:spPr>
            <a:xfrm rot="4943400">
              <a:off x="358560" y="-498240"/>
              <a:ext cx="765000" cy="1635120"/>
            </a:xfrm>
            <a:custGeom>
              <a:avLst/>
              <a:gdLst/>
              <a:ahLst/>
              <a:rect l="l" t="t" r="r" b="b"/>
              <a:pathLst>
                <a:path w="1254793" h="1635786">
                  <a:moveTo>
                    <a:pt x="40" y="1452700"/>
                  </a:moveTo>
                  <a:cubicBezTo>
                    <a:pt x="-1083" y="1434192"/>
                    <a:pt x="21288" y="1239824"/>
                    <a:pt x="20165" y="1221316"/>
                  </a:cubicBezTo>
                  <a:lnTo>
                    <a:pt x="193736" y="0"/>
                  </a:lnTo>
                  <a:cubicBezTo>
                    <a:pt x="381218" y="288422"/>
                    <a:pt x="336871" y="766177"/>
                    <a:pt x="524353" y="1054599"/>
                  </a:cubicBezTo>
                  <a:lnTo>
                    <a:pt x="1254793" y="1635786"/>
                  </a:lnTo>
                  <a:lnTo>
                    <a:pt x="40" y="1452700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256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Равнобедренный треугольник 13"/>
            <p:cNvSpPr/>
            <p:nvPr/>
          </p:nvSpPr>
          <p:spPr>
            <a:xfrm flipH="1" flipV="1" rot="21152400">
              <a:off x="7801920" y="-82440"/>
              <a:ext cx="1414440" cy="869400"/>
            </a:xfrm>
            <a:custGeom>
              <a:avLst/>
              <a:gdLst/>
              <a:ahLst/>
              <a:rect l="l" t="t" r="r" b="b"/>
              <a:pathLst>
                <a:path w="1274392" h="1713532">
                  <a:moveTo>
                    <a:pt x="40" y="1477451"/>
                  </a:moveTo>
                  <a:cubicBezTo>
                    <a:pt x="-1083" y="1458943"/>
                    <a:pt x="21288" y="1264575"/>
                    <a:pt x="20165" y="1246067"/>
                  </a:cubicBezTo>
                  <a:lnTo>
                    <a:pt x="146560" y="0"/>
                  </a:lnTo>
                  <a:cubicBezTo>
                    <a:pt x="334042" y="288422"/>
                    <a:pt x="336871" y="790928"/>
                    <a:pt x="524353" y="1079350"/>
                  </a:cubicBezTo>
                  <a:lnTo>
                    <a:pt x="1274392" y="1713532"/>
                  </a:lnTo>
                  <a:lnTo>
                    <a:pt x="40" y="1477451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65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Прямоугольник 1"/>
          <p:cNvSpPr/>
          <p:nvPr/>
        </p:nvSpPr>
        <p:spPr>
          <a:xfrm>
            <a:off x="15840" y="203040"/>
            <a:ext cx="895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7933c"/>
                </a:solidFill>
                <a:uFillTx/>
                <a:latin typeface="Calibri"/>
              </a:rPr>
              <a:t>Практическая часть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бно-практические задачи, направленные на формирование и оценку навыка сотрудничества, требующие совместной работы в парах или группах с распределением ролей (функций) и разделением ответственности за конечный результат.    При работе с книгой, нужно добиваться, того, чтобы учащийся судил о знании материала не потому, сколько   раз прочитал текст учебника, а по умению сознательно и подробно излагать содержание прочитанн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108000" y="4005360"/>
            <a:ext cx="2203560" cy="2755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3"/>
          <a:stretch/>
        </p:blipFill>
        <p:spPr>
          <a:xfrm>
            <a:off x="6340320" y="3645000"/>
            <a:ext cx="2775240" cy="3278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Изображение 110"/>
          <p:cNvPicPr/>
          <p:nvPr/>
        </p:nvPicPr>
        <p:blipFill>
          <a:blip r:embed="rId4"/>
          <a:stretch/>
        </p:blipFill>
        <p:spPr>
          <a:xfrm>
            <a:off x="2843280" y="4172040"/>
            <a:ext cx="34574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Группа 11"/>
          <p:cNvGrpSpPr/>
          <p:nvPr/>
        </p:nvGrpSpPr>
        <p:grpSpPr>
          <a:xfrm>
            <a:off x="-61920" y="0"/>
            <a:ext cx="9242280" cy="6956280"/>
            <a:chOff x="-61920" y="0"/>
            <a:chExt cx="9242280" cy="6956280"/>
          </a:xfrm>
        </p:grpSpPr>
        <p:pic>
          <p:nvPicPr>
            <p:cNvPr id="155" name="Picture 2" descr=""/>
            <p:cNvPicPr/>
            <p:nvPr/>
          </p:nvPicPr>
          <p:blipFill>
            <a:blip r:embed="rId1"/>
            <a:stretch/>
          </p:blipFill>
          <p:spPr>
            <a:xfrm>
              <a:off x="-61920" y="0"/>
              <a:ext cx="9242280" cy="695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Группа 5"/>
            <p:cNvGrpSpPr/>
            <p:nvPr/>
          </p:nvGrpSpPr>
          <p:grpSpPr>
            <a:xfrm>
              <a:off x="7173360" y="5432040"/>
              <a:ext cx="1605960" cy="1278720"/>
              <a:chOff x="7173360" y="5432040"/>
              <a:chExt cx="1605960" cy="1278720"/>
            </a:xfrm>
          </p:grpSpPr>
          <p:grpSp>
            <p:nvGrpSpPr>
              <p:cNvPr id="157" name="Шестиугольник 8"/>
              <p:cNvGrpSpPr/>
              <p:nvPr/>
            </p:nvGrpSpPr>
            <p:grpSpPr>
              <a:xfrm>
                <a:off x="7590240" y="5492160"/>
                <a:ext cx="1189080" cy="979920"/>
                <a:chOff x="7590240" y="5492160"/>
                <a:chExt cx="1189080" cy="979920"/>
              </a:xfrm>
            </p:grpSpPr>
            <p:pic>
              <p:nvPicPr>
                <p:cNvPr id="158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590240" y="5492160"/>
                  <a:ext cx="1189080" cy="97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" name=""/>
                <p:cNvSpPr/>
                <p:nvPr/>
              </p:nvSpPr>
              <p:spPr>
                <a:xfrm rot="582000">
                  <a:off x="7811280" y="5700600"/>
                  <a:ext cx="74340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0" name="Равнобедренный треугольник 9"/>
              <p:cNvSpPr/>
              <p:nvPr/>
            </p:nvSpPr>
            <p:spPr>
              <a:xfrm rot="2449200">
                <a:off x="7258320" y="5676480"/>
                <a:ext cx="981360" cy="624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Овал 10"/>
              <p:cNvSpPr/>
              <p:nvPr/>
            </p:nvSpPr>
            <p:spPr>
              <a:xfrm rot="582600">
                <a:off x="7762680" y="6016680"/>
                <a:ext cx="699840" cy="63972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2" name="Прямоугольник 3"/>
            <p:cNvGrpSpPr/>
            <p:nvPr/>
          </p:nvGrpSpPr>
          <p:grpSpPr>
            <a:xfrm>
              <a:off x="42480" y="48600"/>
              <a:ext cx="3596400" cy="1133640"/>
              <a:chOff x="42480" y="48600"/>
              <a:chExt cx="3596400" cy="1133640"/>
            </a:xfrm>
          </p:grpSpPr>
          <p:pic>
            <p:nvPicPr>
              <p:cNvPr id="163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2480" y="48600"/>
                <a:ext cx="3596400" cy="113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323640" y="306360"/>
                <a:ext cx="3033720" cy="57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Calibri"/>
                  </a:rPr>
                  <a:t>Учебно-практическое занятие  №1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65" name=""/>
          <p:cNvSpPr txBox="1"/>
          <p:nvPr/>
        </p:nvSpPr>
        <p:spPr>
          <a:xfrm>
            <a:off x="108000" y="88272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Цель практикум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максимально точно и полно понять содержание текста, разбитого на части, уловить детал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осмыслить извлеченную информацию и рассказать е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жидаемый результ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Работа с текстом: оценка информации услышанного текста  и его запомин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Все ученики класса могут воспроизвести текст и возможность понять его структу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C:\Users\2755~1\AppData\Local\Temp\Rar$DRa0.536\IMG_20160402_094221.jpg"/>
          <p:cNvPicPr/>
          <p:nvPr/>
        </p:nvPicPr>
        <p:blipFill>
          <a:blip r:embed="rId4"/>
          <a:stretch/>
        </p:blipFill>
        <p:spPr>
          <a:xfrm>
            <a:off x="1428840" y="2286000"/>
            <a:ext cx="3390840" cy="2543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Users\2755~1\AppData\Local\Temp\Rar$DRa0.534\IMG_20160402_094232 (1).jpg"/>
          <p:cNvPicPr/>
          <p:nvPr/>
        </p:nvPicPr>
        <p:blipFill>
          <a:blip r:embed="rId5"/>
          <a:stretch/>
        </p:blipFill>
        <p:spPr>
          <a:xfrm>
            <a:off x="5357880" y="2214720"/>
            <a:ext cx="3643200" cy="273348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"/>
          <p:cNvSpPr/>
          <p:nvPr/>
        </p:nvSpPr>
        <p:spPr>
          <a:xfrm>
            <a:off x="3668760" y="4096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99"/>
                </a:solidFill>
                <a:uFillTx/>
                <a:latin typeface="Calibri"/>
              </a:rPr>
              <a:t>Аналитическая групповая  работа с текс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Группа 11"/>
          <p:cNvGrpSpPr/>
          <p:nvPr/>
        </p:nvGrpSpPr>
        <p:grpSpPr>
          <a:xfrm>
            <a:off x="-98280" y="0"/>
            <a:ext cx="9242280" cy="6956280"/>
            <a:chOff x="-98280" y="0"/>
            <a:chExt cx="9242280" cy="6956280"/>
          </a:xfrm>
        </p:grpSpPr>
        <p:pic>
          <p:nvPicPr>
            <p:cNvPr id="170" name="Picture 2" descr=""/>
            <p:cNvPicPr/>
            <p:nvPr/>
          </p:nvPicPr>
          <p:blipFill>
            <a:blip r:embed="rId1"/>
            <a:stretch/>
          </p:blipFill>
          <p:spPr>
            <a:xfrm>
              <a:off x="-98280" y="0"/>
              <a:ext cx="9242280" cy="695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Группа 5"/>
            <p:cNvGrpSpPr/>
            <p:nvPr/>
          </p:nvGrpSpPr>
          <p:grpSpPr>
            <a:xfrm>
              <a:off x="7137000" y="5432040"/>
              <a:ext cx="1605960" cy="1278720"/>
              <a:chOff x="7137000" y="5432040"/>
              <a:chExt cx="1605960" cy="1278720"/>
            </a:xfrm>
          </p:grpSpPr>
          <p:grpSp>
            <p:nvGrpSpPr>
              <p:cNvPr id="172" name="Шестиугольник 8"/>
              <p:cNvGrpSpPr/>
              <p:nvPr/>
            </p:nvGrpSpPr>
            <p:grpSpPr>
              <a:xfrm>
                <a:off x="7553880" y="5492160"/>
                <a:ext cx="1189080" cy="979920"/>
                <a:chOff x="7553880" y="5492160"/>
                <a:chExt cx="1189080" cy="979920"/>
              </a:xfrm>
            </p:grpSpPr>
            <p:pic>
              <p:nvPicPr>
                <p:cNvPr id="173" name="Шестиугольник 8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7553880" y="5492160"/>
                  <a:ext cx="1189080" cy="97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582000">
                  <a:off x="7774920" y="5700600"/>
                  <a:ext cx="74340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5" name="Равнобедренный треугольник 9"/>
              <p:cNvSpPr/>
              <p:nvPr/>
            </p:nvSpPr>
            <p:spPr>
              <a:xfrm rot="2449200">
                <a:off x="7221960" y="5676480"/>
                <a:ext cx="981360" cy="624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4334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Овал 10"/>
              <p:cNvSpPr/>
              <p:nvPr/>
            </p:nvSpPr>
            <p:spPr>
              <a:xfrm rot="582600">
                <a:off x="7726320" y="6016680"/>
                <a:ext cx="699840" cy="639720"/>
              </a:xfrm>
              <a:prstGeom prst="ellipse">
                <a:avLst/>
              </a:prstGeom>
              <a:gradFill rotWithShape="0">
                <a:gsLst>
                  <a:gs pos="0">
                    <a:srgbClr val="769535"/>
                  </a:gs>
                  <a:gs pos="100000">
                    <a:srgbClr val="9cc74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Прямоугольник 3"/>
            <p:cNvGrpSpPr/>
            <p:nvPr/>
          </p:nvGrpSpPr>
          <p:grpSpPr>
            <a:xfrm>
              <a:off x="6120" y="48600"/>
              <a:ext cx="3693960" cy="1133640"/>
              <a:chOff x="6120" y="48600"/>
              <a:chExt cx="3693960" cy="1133640"/>
            </a:xfrm>
          </p:grpSpPr>
          <p:pic>
            <p:nvPicPr>
              <p:cNvPr id="178" name="Прямоугольни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6120" y="48600"/>
                <a:ext cx="3693960" cy="113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287280" y="306360"/>
                <a:ext cx="3132360" cy="57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Учебно-практическое занятие №2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0" name=""/>
          <p:cNvSpPr txBox="1"/>
          <p:nvPr/>
        </p:nvSpPr>
        <p:spPr>
          <a:xfrm>
            <a:off x="287280" y="98100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Цель практикум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составить собственный текст ,  сравнить его с изучаемы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осмыслить извлеченн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жидаемый результа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Работа с текстом: преобразование и интерпретация текс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1"/>
          <p:cNvSpPr/>
          <p:nvPr/>
        </p:nvSpPr>
        <p:spPr>
          <a:xfrm>
            <a:off x="3754440" y="271440"/>
            <a:ext cx="52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99"/>
                </a:solidFill>
                <a:uFillTx/>
                <a:latin typeface="Calibri"/>
              </a:rPr>
              <a:t>Авторская парная  работа со словами из тек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4"/>
          <a:stretch/>
        </p:blipFill>
        <p:spPr>
          <a:xfrm>
            <a:off x="66600" y="2173320"/>
            <a:ext cx="3787920" cy="2840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5"/>
          <a:stretch/>
        </p:blipFill>
        <p:spPr>
          <a:xfrm>
            <a:off x="3494160" y="2173320"/>
            <a:ext cx="55879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7:06:19Z</dcterms:created>
  <dc:creator>User</dc:creator>
  <dc:description/>
  <dc:language>en-US</dc:language>
  <cp:lastModifiedBy>Леонид</cp:lastModifiedBy>
  <dcterms:modified xsi:type="dcterms:W3CDTF">2017-06-02T05:59:27Z</dcterms:modified>
  <cp:revision>63</cp:revision>
  <dc:subject/>
  <dc:title>Презентация PowerPoint</dc:title>
</cp:coreProperties>
</file>