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9.png" ContentType="image/pn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676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B6E-4484-4C99-ABB7-9BEA6E0ED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60640" y="944712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621-F121-4F65-A21C-3B8A079D2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C38-D692-4550-85D2-1CDA0CDE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47A-0CA9-4119-8B03-83B1B20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D74-3E3E-4BBD-9884-92DCA6EC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648-44E2-436B-92BB-ABB13B1E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C2D-8437-433F-8713-EFE6F3B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1C9-9FEE-4206-80CC-B5E5BD4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E4A-A609-463B-A053-4806B37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8D2-D62F-407D-A35E-DEDA8FF7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052-438E-479E-86AD-F8CD5DA2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D15-0353-4DD7-9149-913BF20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AD9-756C-415B-AED1-92943D6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609-9B1B-4786-9382-3FB7972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55BF-16D5-4A66-9699-E040343FF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7640" y="-22860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ческий проект учителей математик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9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 – Савиновского района  г. Казан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3280" y="2276280"/>
            <a:ext cx="88581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«Реализация системно- деятельностного подхода в преподавании математик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ля учеников 5-6 классов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52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53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54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TextBox 7"/>
          <p:cNvSpPr/>
          <p:nvPr/>
        </p:nvSpPr>
        <p:spPr>
          <a:xfrm>
            <a:off x="1714680" y="648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0f03"/>
                </a:solidFill>
                <a:latin typeface="Calibri"/>
              </a:rPr>
              <a:t>Казань,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429160" y="4357800"/>
            <a:ext cx="355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роекта учителя математи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гузина Надежда Владимировна 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адуллина Татьяна Анатолье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фтахова Резеда Хабиро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метзянова Алсу Салихзяно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7837560" y="1052640"/>
            <a:ext cx="1008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254160" y="1020600"/>
            <a:ext cx="947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Группа 11"/>
          <p:cNvGrpSpPr/>
          <p:nvPr/>
        </p:nvGrpSpPr>
        <p:grpSpPr>
          <a:xfrm>
            <a:off x="-301680" y="-236520"/>
            <a:ext cx="9242640" cy="6956280"/>
            <a:chOff x="-301680" y="-236520"/>
            <a:chExt cx="9242640" cy="6956280"/>
          </a:xfrm>
        </p:grpSpPr>
        <p:pic>
          <p:nvPicPr>
            <p:cNvPr id="185" name="Picture 2" descr=""/>
            <p:cNvPicPr/>
            <p:nvPr/>
          </p:nvPicPr>
          <p:blipFill>
            <a:blip r:embed="rId1"/>
            <a:stretch/>
          </p:blipFill>
          <p:spPr>
            <a:xfrm>
              <a:off x="-301680" y="-236520"/>
              <a:ext cx="924264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Группа 5"/>
            <p:cNvGrpSpPr/>
            <p:nvPr/>
          </p:nvGrpSpPr>
          <p:grpSpPr>
            <a:xfrm>
              <a:off x="7320240" y="5154840"/>
              <a:ext cx="1608120" cy="1291680"/>
              <a:chOff x="7320240" y="5154840"/>
              <a:chExt cx="1608120" cy="1291680"/>
            </a:xfrm>
          </p:grpSpPr>
          <p:grpSp>
            <p:nvGrpSpPr>
              <p:cNvPr id="187" name="Шестиугольник 8"/>
              <p:cNvGrpSpPr/>
              <p:nvPr/>
            </p:nvGrpSpPr>
            <p:grpSpPr>
              <a:xfrm>
                <a:off x="7738560" y="5228280"/>
                <a:ext cx="1189800" cy="975600"/>
                <a:chOff x="7738560" y="5228280"/>
                <a:chExt cx="1189800" cy="975600"/>
              </a:xfrm>
            </p:grpSpPr>
            <p:pic>
              <p:nvPicPr>
                <p:cNvPr id="188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738560" y="5228280"/>
                  <a:ext cx="1189800" cy="97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582000">
                  <a:off x="7962120" y="5433840"/>
                  <a:ext cx="74376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0" name="Равнобедренный треугольник 9"/>
              <p:cNvSpPr/>
              <p:nvPr/>
            </p:nvSpPr>
            <p:spPr>
              <a:xfrm rot="2449200">
                <a:off x="7409160" y="5395680"/>
                <a:ext cx="973080" cy="634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Овал 10"/>
              <p:cNvSpPr/>
              <p:nvPr/>
            </p:nvSpPr>
            <p:spPr>
              <a:xfrm rot="582600">
                <a:off x="7911360" y="5738760"/>
                <a:ext cx="697320" cy="65340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2" name=""/>
          <p:cNvSpPr txBox="1"/>
          <p:nvPr/>
        </p:nvSpPr>
        <p:spPr>
          <a:xfrm>
            <a:off x="357120" y="15717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108000" y="216864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2787480" y="468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>
            <a:off x="5880240" y="9360"/>
            <a:ext cx="2662200" cy="3549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6"/>
          <a:stretch/>
        </p:blipFill>
        <p:spPr>
          <a:xfrm>
            <a:off x="3348000" y="2179800"/>
            <a:ext cx="2163960" cy="246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7"/>
          <a:srcRect l="0" t="0" r="0" b="-408"/>
          <a:stretch/>
        </p:blipFill>
        <p:spPr>
          <a:xfrm>
            <a:off x="250920" y="4206960"/>
            <a:ext cx="3495600" cy="239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8"/>
          <a:stretch/>
        </p:blipFill>
        <p:spPr>
          <a:xfrm>
            <a:off x="5500800" y="3760920"/>
            <a:ext cx="3305160" cy="283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9"/>
          <a:stretch/>
        </p:blipFill>
        <p:spPr>
          <a:xfrm>
            <a:off x="-108000" y="0"/>
            <a:ext cx="2797200" cy="209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2755~1\AppData\Local\Temp\Rar$DRa0.596\IMG_20160402_094723.jpg"/>
          <p:cNvPicPr/>
          <p:nvPr/>
        </p:nvPicPr>
        <p:blipFill>
          <a:blip r:embed="rId10"/>
          <a:stretch/>
        </p:blipFill>
        <p:spPr>
          <a:xfrm>
            <a:off x="3851280" y="4514760"/>
            <a:ext cx="15746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03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04" name="Шестиугольник 8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05" name="Шестиугольник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7" name="Равнобедренный треугольник 9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Овал 10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440" y="0"/>
            <a:ext cx="4604040" cy="6046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4633920" y="1063800"/>
            <a:ext cx="45277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Группа 11"/>
          <p:cNvGrpSpPr/>
          <p:nvPr/>
        </p:nvGrpSpPr>
        <p:grpSpPr>
          <a:xfrm>
            <a:off x="-23760" y="-69840"/>
            <a:ext cx="9242280" cy="6956640"/>
            <a:chOff x="-23760" y="-69840"/>
            <a:chExt cx="9242280" cy="6956640"/>
          </a:xfrm>
        </p:grpSpPr>
        <p:pic>
          <p:nvPicPr>
            <p:cNvPr id="214" name="Picture 2" descr=""/>
            <p:cNvPicPr/>
            <p:nvPr/>
          </p:nvPicPr>
          <p:blipFill>
            <a:blip r:embed="rId1"/>
            <a:stretch/>
          </p:blipFill>
          <p:spPr>
            <a:xfrm>
              <a:off x="31320" y="-29880"/>
              <a:ext cx="9187200" cy="691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Группа 5"/>
            <p:cNvGrpSpPr/>
            <p:nvPr/>
          </p:nvGrpSpPr>
          <p:grpSpPr>
            <a:xfrm>
              <a:off x="7222320" y="5329800"/>
              <a:ext cx="1598040" cy="1285560"/>
              <a:chOff x="7222320" y="5329800"/>
              <a:chExt cx="1598040" cy="1285560"/>
            </a:xfrm>
          </p:grpSpPr>
          <p:grpSp>
            <p:nvGrpSpPr>
              <p:cNvPr id="216" name="Шестиугольник 8"/>
              <p:cNvGrpSpPr/>
              <p:nvPr/>
            </p:nvGrpSpPr>
            <p:grpSpPr>
              <a:xfrm>
                <a:off x="7643160" y="5403960"/>
                <a:ext cx="1177200" cy="968760"/>
                <a:chOff x="7643160" y="5403960"/>
                <a:chExt cx="1177200" cy="968760"/>
              </a:xfrm>
            </p:grpSpPr>
            <p:pic>
              <p:nvPicPr>
                <p:cNvPr id="217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43160" y="5403960"/>
                  <a:ext cx="1177200" cy="96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582000">
                  <a:off x="7863840" y="5609520"/>
                  <a:ext cx="73584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Равнобедренный треугольник 9"/>
              <p:cNvSpPr/>
              <p:nvPr/>
            </p:nvSpPr>
            <p:spPr>
              <a:xfrm rot="2449200">
                <a:off x="7309800" y="5570640"/>
                <a:ext cx="971640" cy="629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Овал 10"/>
              <p:cNvSpPr/>
              <p:nvPr/>
            </p:nvSpPr>
            <p:spPr>
              <a:xfrm rot="582600">
                <a:off x="7812360" y="5911200"/>
                <a:ext cx="695880" cy="65016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1" name="Прямоугольник 3"/>
            <p:cNvGrpSpPr/>
            <p:nvPr/>
          </p:nvGrpSpPr>
          <p:grpSpPr>
            <a:xfrm>
              <a:off x="-23760" y="-69840"/>
              <a:ext cx="8931960" cy="1697040"/>
              <a:chOff x="-23760" y="-69840"/>
              <a:chExt cx="8931960" cy="1697040"/>
            </a:xfrm>
          </p:grpSpPr>
          <p:pic>
            <p:nvPicPr>
              <p:cNvPr id="222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-23760" y="-69840"/>
                <a:ext cx="89319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53080" y="183600"/>
                <a:ext cx="83782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Анализ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решения учебно-практических задач обучающимися  по математике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"/>
          <p:cNvSpPr txBox="1"/>
          <p:nvPr/>
        </p:nvSpPr>
        <p:spPr>
          <a:xfrm>
            <a:off x="78840" y="1196640"/>
            <a:ext cx="8812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цессе решения заданий на уроке создавалась атмосфера творчества. Ребята глубже проникали в теорию предмета, понимали значимость исторических фактов науки. Ученикам предоставлялась  возможность взглянуть на процесс  чтения с другой стороны, ребята приобщались  не только к приятному «общению» с учебником, но и вдумчивому чтению. Таким образом, происходило  формирование компетентного чита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уроки ребятам были интересными, насыщенными и увлекательны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получали возможнос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с математическим текстом (структурирование, извлечение необ­ходимой информации), точно и грамотно выражать свои мысли в устной речи, применять математическую терминологию и символику, использовать различные языки математики (словесный, символический, графический), обосно­вывать суждения, проводить классификацию; создавать свои авторские тексты, которые отличались разработанностью и оригинальнос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239760" y="508464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82440" y="4622760"/>
            <a:ext cx="86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атегии чт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жет им  раскрыть различные уровни восприятия текста: информационный (суждения, факты), смысловой (тема, микротемы, основная мысль), рефлексивный (понимание текста и обратная связ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-176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6228"/>
                </a:solidFill>
                <a:uFillTx/>
                <a:latin typeface="Calibri"/>
              </a:rPr>
              <a:t>Учебно-практические занятия нашего проекта  дают возможность ученику</a:t>
            </a: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Группа 20"/>
          <p:cNvGrpSpPr/>
          <p:nvPr/>
        </p:nvGrpSpPr>
        <p:grpSpPr>
          <a:xfrm>
            <a:off x="-168120" y="-185760"/>
            <a:ext cx="9455760" cy="6769080"/>
            <a:chOff x="-168120" y="-185760"/>
            <a:chExt cx="9455760" cy="6769080"/>
          </a:xfrm>
        </p:grpSpPr>
        <p:grpSp>
          <p:nvGrpSpPr>
            <p:cNvPr id="230" name="Группа 7"/>
            <p:cNvGrpSpPr/>
            <p:nvPr/>
          </p:nvGrpSpPr>
          <p:grpSpPr>
            <a:xfrm>
              <a:off x="7158960" y="5405040"/>
              <a:ext cx="1575360" cy="1178280"/>
              <a:chOff x="7158960" y="5405040"/>
              <a:chExt cx="1575360" cy="1178280"/>
            </a:xfrm>
          </p:grpSpPr>
          <p:grpSp>
            <p:nvGrpSpPr>
              <p:cNvPr id="231" name="Шестиугольник 17"/>
              <p:cNvGrpSpPr/>
              <p:nvPr/>
            </p:nvGrpSpPr>
            <p:grpSpPr>
              <a:xfrm>
                <a:off x="7589520" y="5410440"/>
                <a:ext cx="1144800" cy="905400"/>
                <a:chOff x="7589520" y="5410440"/>
                <a:chExt cx="1144800" cy="905400"/>
              </a:xfrm>
            </p:grpSpPr>
            <p:pic>
              <p:nvPicPr>
                <p:cNvPr id="232" name="Шестиугольник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89520" y="5410440"/>
                  <a:ext cx="1144800" cy="90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>
                  <a:off x="7792200" y="5555160"/>
                  <a:ext cx="735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" name="Равнобедренный треугольник 18"/>
              <p:cNvSpPr/>
              <p:nvPr/>
            </p:nvSpPr>
            <p:spPr>
              <a:xfrm rot="1866600">
                <a:off x="7261560" y="5607360"/>
                <a:ext cx="97056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Овал 19"/>
              <p:cNvSpPr/>
              <p:nvPr/>
            </p:nvSpPr>
            <p:spPr>
              <a:xfrm>
                <a:off x="7813800" y="5896440"/>
                <a:ext cx="694080" cy="6868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Равнобедренный треугольник 13"/>
            <p:cNvSpPr/>
            <p:nvPr/>
          </p:nvSpPr>
          <p:spPr>
            <a:xfrm rot="4943400">
              <a:off x="97200" y="-25920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Равнобедренный треугольник 13"/>
            <p:cNvSpPr/>
            <p:nvPr/>
          </p:nvSpPr>
          <p:spPr>
            <a:xfrm flipH="1" flipV="1" rot="21152400">
              <a:off x="7786440" y="-9972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714680" y="4008600"/>
            <a:ext cx="5688000" cy="2805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1"/>
          <p:cNvSpPr/>
          <p:nvPr/>
        </p:nvSpPr>
        <p:spPr>
          <a:xfrm>
            <a:off x="324000" y="836640"/>
            <a:ext cx="833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е умений работать с информацией, представленной в различных формах, отбирать и систематизировать научный материа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 различных  технологий для решения различны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тренировочных  тестирований для решения практически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повышения различных компетенций, в том числе читательской и математической грамотностей, для дальнейшего их использования в учебном процесс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приобрести опыт оперативной аналитической работы в парах, группах; быть докладчиком, оппонентом, «учителем», «учеником» в решении стратегически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11"/>
          <p:cNvGrpSpPr/>
          <p:nvPr/>
        </p:nvGrpSpPr>
        <p:grpSpPr>
          <a:xfrm>
            <a:off x="-98280" y="0"/>
            <a:ext cx="9242280" cy="6956280"/>
            <a:chOff x="-98280" y="0"/>
            <a:chExt cx="9242280" cy="6956280"/>
          </a:xfrm>
        </p:grpSpPr>
        <p:pic>
          <p:nvPicPr>
            <p:cNvPr id="241" name="Picture 2" descr=""/>
            <p:cNvPicPr/>
            <p:nvPr/>
          </p:nvPicPr>
          <p:blipFill>
            <a:blip r:embed="rId1"/>
            <a:stretch/>
          </p:blipFill>
          <p:spPr>
            <a:xfrm>
              <a:off x="-98280" y="42120"/>
              <a:ext cx="9242280" cy="691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Группа 5"/>
            <p:cNvGrpSpPr/>
            <p:nvPr/>
          </p:nvGrpSpPr>
          <p:grpSpPr>
            <a:xfrm>
              <a:off x="7136280" y="5396400"/>
              <a:ext cx="1606680" cy="1289160"/>
              <a:chOff x="7136280" y="5396400"/>
              <a:chExt cx="1606680" cy="1289160"/>
            </a:xfrm>
          </p:grpSpPr>
          <p:grpSp>
            <p:nvGrpSpPr>
              <p:cNvPr id="243" name="Шестиугольник 8"/>
              <p:cNvGrpSpPr/>
              <p:nvPr/>
            </p:nvGrpSpPr>
            <p:grpSpPr>
              <a:xfrm>
                <a:off x="7560360" y="5474520"/>
                <a:ext cx="1182600" cy="970560"/>
                <a:chOff x="7560360" y="5474520"/>
                <a:chExt cx="1182600" cy="970560"/>
              </a:xfrm>
            </p:grpSpPr>
            <p:pic>
              <p:nvPicPr>
                <p:cNvPr id="24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60360" y="5474520"/>
                  <a:ext cx="11826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 rot="582000">
                  <a:off x="7780320" y="5677920"/>
                  <a:ext cx="7394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6" name="Равнобедренный треугольник 9"/>
              <p:cNvSpPr/>
              <p:nvPr/>
            </p:nvSpPr>
            <p:spPr>
              <a:xfrm rot="2449200">
                <a:off x="7223760" y="5638320"/>
                <a:ext cx="975960" cy="631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Овал 10"/>
              <p:cNvSpPr/>
              <p:nvPr/>
            </p:nvSpPr>
            <p:spPr>
              <a:xfrm rot="582600">
                <a:off x="7729200" y="5979600"/>
                <a:ext cx="699120" cy="65124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8" name="Прямоугольник 3"/>
            <p:cNvGrpSpPr/>
            <p:nvPr/>
          </p:nvGrpSpPr>
          <p:grpSpPr>
            <a:xfrm>
              <a:off x="402480" y="0"/>
              <a:ext cx="7461360" cy="1696320"/>
              <a:chOff x="402480" y="0"/>
              <a:chExt cx="7461360" cy="1696320"/>
            </a:xfrm>
          </p:grpSpPr>
          <p:pic>
            <p:nvPicPr>
              <p:cNvPr id="24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2480" y="0"/>
                <a:ext cx="7461360" cy="169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684720" y="255960"/>
                <a:ext cx="6899400" cy="11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1" name="Прямоугольник 11"/>
          <p:cNvSpPr/>
          <p:nvPr/>
        </p:nvSpPr>
        <p:spPr>
          <a:xfrm>
            <a:off x="206280" y="1844640"/>
            <a:ext cx="743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ли свое подтвержд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овышении мотивации обучающих к изучению математи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овышении качества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результативности участия школьников в творческих конкурсах, олимпиадах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839880" y="39528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отеза 1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отеза 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G:\Фото\Любимая школа\2013-2014 уч г\5 А\Защита проекта осень\20131001_125619.jpg"/>
          <p:cNvPicPr/>
          <p:nvPr/>
        </p:nvPicPr>
        <p:blipFill>
          <a:blip r:embed="rId4"/>
          <a:stretch/>
        </p:blipFill>
        <p:spPr>
          <a:xfrm>
            <a:off x="4857840" y="4643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G:\Фото\Любимая школа\2013-2014 уч г\5 А\Защита проекта осень\20131001_125611.jpg"/>
          <p:cNvPicPr/>
          <p:nvPr/>
        </p:nvPicPr>
        <p:blipFill>
          <a:blip r:embed="rId5"/>
          <a:stretch/>
        </p:blipFill>
        <p:spPr>
          <a:xfrm>
            <a:off x="428760" y="4572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34920" y="4365720"/>
            <a:ext cx="9144000" cy="145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ю работу по формированию читательской компетентности считаем комфортной, так как она эффективна и создаёт ситуацию усп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я математики школы №9 г.Каза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гузина Н. В.,  Гибадуллина Т. А., Мифтахова Р. Х., Ахметзянова А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57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58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59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1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Прямоугольник 16"/>
          <p:cNvSpPr/>
          <p:nvPr/>
        </p:nvSpPr>
        <p:spPr>
          <a:xfrm>
            <a:off x="158760" y="115920"/>
            <a:ext cx="8578800" cy="396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е существует единственно верного или самого лучшего способа обучения, делающего человека компетент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едставленные  сценарии занятий – это  стратегии развития чтения лишь некая часть того, что разработано и нами  применяется сегод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Для кого-то, возможно, они все станут практическим пособием, кто-то воспользуется рекомендациями других  авторов, кому-то они покажутся спорными или просто неприемлемыми и подтолкнут к раздумьям, к собственным поис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ак отмечал К.Д. Ушинский «Опыт перенять нельзя, перенять можно лишь идею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22619" r="4466" b="0"/>
          <a:stretch/>
        </p:blipFill>
        <p:spPr>
          <a:xfrm>
            <a:off x="0" y="163440"/>
            <a:ext cx="4691160" cy="2138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rcRect l="8029" t="22308" r="3341" b="0"/>
          <a:stretch/>
        </p:blipFill>
        <p:spPr>
          <a:xfrm>
            <a:off x="4691160" y="163440"/>
            <a:ext cx="4452840" cy="219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3"/>
          <a:srcRect l="0" t="21555" r="0" b="11996"/>
          <a:stretch/>
        </p:blipFill>
        <p:spPr>
          <a:xfrm>
            <a:off x="4352760" y="2355840"/>
            <a:ext cx="3713400" cy="4386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4"/>
          <a:srcRect l="0" t="20013" r="0" b="9687"/>
          <a:stretch/>
        </p:blipFill>
        <p:spPr>
          <a:xfrm>
            <a:off x="728640" y="2344680"/>
            <a:ext cx="359712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1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72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73" name="Шестиугольник 8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74" name="Шестиугольник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6" name="Равнобедренный треугольник 9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Овал 10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1327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оставить педагогический продукт,  способствующий формированию и развитию метапредметных результатов освоения ООП ООО, в частности основ читательской компетенции школьников (математика 5-6 класс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67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68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69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Заголовок 1"/>
          <p:cNvSpPr/>
          <p:nvPr/>
        </p:nvSpPr>
        <p:spPr>
          <a:xfrm>
            <a:off x="914400" y="1500120"/>
            <a:ext cx="5729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Задача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ить и апробировать учебно-практические занятия в системе работы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0" y="2000160"/>
            <a:ext cx="7000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1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Если создать условия для решения учебно-практических задач обучающимися  в  урочной  и внеурочной деятельности по математике, то это приведет к повышению  мотивации изучения математики и как  следствие – к повышению качества обучени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6858000" y="1214280"/>
            <a:ext cx="2016000" cy="154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Фото\Любимая школа\2013-2014 уч г\5 А\Защита проекта осень\20131001_125629.jpg"/>
          <p:cNvPicPr/>
          <p:nvPr/>
        </p:nvPicPr>
        <p:blipFill>
          <a:blip r:embed="rId3"/>
          <a:stretch/>
        </p:blipFill>
        <p:spPr>
          <a:xfrm>
            <a:off x="6858000" y="4357800"/>
            <a:ext cx="2151000" cy="145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Изображение 110"/>
          <p:cNvPicPr/>
          <p:nvPr/>
        </p:nvPicPr>
        <p:blipFill>
          <a:blip r:embed="rId4"/>
          <a:stretch/>
        </p:blipFill>
        <p:spPr>
          <a:xfrm>
            <a:off x="6858000" y="278604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0" y="414324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2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использовать  готовый педагогический продукт и апробировать его  в рамках собственной школы, то это приведет как минимум учителя к  созданию   метапредметной среды математической грамотности школьников, как максимум кафедру математиков к системной работе в этом направлени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83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84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85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2"/>
          <p:cNvSpPr/>
          <p:nvPr/>
        </p:nvSpPr>
        <p:spPr>
          <a:xfrm>
            <a:off x="179280" y="26028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е назначение метапредметного подхода в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назначение метапредметного подхода в образовании состоит в достижении нового качества образования, характеризующееся предметными, метапредметными и личностными результатам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предметные способности учащихся это то, что не сводится к знаниям, умениям и навыкам, а способность создавать, формулировать и разрабатывать необычные, оригинальные идеи, а также использовать нестандартные способы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74520" y="306864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туальность выбранной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охранить интерес обучающихся к  математике на всем протяжении её изучения? Теоретическое осмысление педагогических средств, которые обеспечат высокий уровень развития креативных способностей школьников на уроках математики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1"/>
          <p:cNvGrpSpPr/>
          <p:nvPr/>
        </p:nvGrpSpPr>
        <p:grpSpPr>
          <a:xfrm>
            <a:off x="0" y="142920"/>
            <a:ext cx="9242280" cy="6956280"/>
            <a:chOff x="0" y="142920"/>
            <a:chExt cx="9242280" cy="695628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8180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Группа 5"/>
            <p:cNvGrpSpPr/>
            <p:nvPr/>
          </p:nvGrpSpPr>
          <p:grpSpPr>
            <a:xfrm>
              <a:off x="7234920" y="5539680"/>
              <a:ext cx="1606680" cy="1288800"/>
              <a:chOff x="7234920" y="5539680"/>
              <a:chExt cx="1606680" cy="1288800"/>
            </a:xfrm>
          </p:grpSpPr>
          <p:grpSp>
            <p:nvGrpSpPr>
              <p:cNvPr id="96" name="Шестиугольник 8"/>
              <p:cNvGrpSpPr/>
              <p:nvPr/>
            </p:nvGrpSpPr>
            <p:grpSpPr>
              <a:xfrm>
                <a:off x="7657920" y="5616720"/>
                <a:ext cx="1183680" cy="969480"/>
                <a:chOff x="7657920" y="5616720"/>
                <a:chExt cx="1183680" cy="969480"/>
              </a:xfrm>
            </p:grpSpPr>
            <p:pic>
              <p:nvPicPr>
                <p:cNvPr id="97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6167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582000">
                  <a:off x="7879320" y="58222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Равнобедренный треугольник 9"/>
              <p:cNvSpPr/>
              <p:nvPr/>
            </p:nvSpPr>
            <p:spPr>
              <a:xfrm rot="2449200">
                <a:off x="7321680" y="57823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Овал 10"/>
              <p:cNvSpPr/>
              <p:nvPr/>
            </p:nvSpPr>
            <p:spPr>
              <a:xfrm rot="582600">
                <a:off x="7827840" y="61232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Прямоугольник 3"/>
            <p:cNvGrpSpPr/>
            <p:nvPr/>
          </p:nvGrpSpPr>
          <p:grpSpPr>
            <a:xfrm>
              <a:off x="499680" y="142920"/>
              <a:ext cx="7461360" cy="1697040"/>
              <a:chOff x="499680" y="142920"/>
              <a:chExt cx="7461360" cy="1697040"/>
            </a:xfrm>
          </p:grpSpPr>
          <p:pic>
            <p:nvPicPr>
              <p:cNvPr id="102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14292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83000" y="39564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" name="Прямоугольник 1"/>
          <p:cNvSpPr/>
          <p:nvPr/>
        </p:nvSpPr>
        <p:spPr>
          <a:xfrm>
            <a:off x="108000" y="35568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уроков по математике по новым образовательным стандартам -  воспитание компетентного читателя, который имее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формированную духовную потребность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книге как средстве познания мира и самого себ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Умения и навыки чтения - сложный комплекс, используемый учащимися при изучении всех учебных предметов, во всех случаях внеурочной и внешкольной жизни. Главная цель, которая стоит перед учителем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ФГОС ООО) - научить учащихся воспринимать информацию, содержащуюся в текстах различного характера, перерабатывать ее, умело применять на практике в личных и обществен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160200" y="5008680"/>
            <a:ext cx="882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жение данной цели предполагает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потребности в чтении (самостоятельном, инициативном) посредством использования разнообразных форм урочной  деятельности на развитие читательской компетент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IMG_5049"/>
          <p:cNvPicPr/>
          <p:nvPr/>
        </p:nvPicPr>
        <p:blipFill>
          <a:blip r:embed="rId4"/>
          <a:stretch/>
        </p:blipFill>
        <p:spPr>
          <a:xfrm>
            <a:off x="142920" y="2643120"/>
            <a:ext cx="1752480" cy="24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072040" y="2428920"/>
            <a:ext cx="1951200" cy="261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Карагузина\Desktop\форум\на печать форум\фото с урока\SDC15396.JPG"/>
          <p:cNvPicPr/>
          <p:nvPr/>
        </p:nvPicPr>
        <p:blipFill>
          <a:blip r:embed="rId6"/>
          <a:stretch/>
        </p:blipFill>
        <p:spPr>
          <a:xfrm>
            <a:off x="7429680" y="2571840"/>
            <a:ext cx="1533240" cy="202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E:\DCIM\100SSCAM\SDC15461.JPG"/>
          <p:cNvPicPr/>
          <p:nvPr/>
        </p:nvPicPr>
        <p:blipFill>
          <a:blip r:embed="rId7"/>
          <a:stretch/>
        </p:blipFill>
        <p:spPr>
          <a:xfrm>
            <a:off x="2071800" y="292896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Группа 11"/>
          <p:cNvGrpSpPr/>
          <p:nvPr/>
        </p:nvGrpSpPr>
        <p:grpSpPr>
          <a:xfrm>
            <a:off x="0" y="142920"/>
            <a:ext cx="9242280" cy="6956280"/>
            <a:chOff x="0" y="142920"/>
            <a:chExt cx="9242280" cy="6956280"/>
          </a:xfrm>
        </p:grpSpPr>
        <p:pic>
          <p:nvPicPr>
            <p:cNvPr id="1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8180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Группа 5"/>
            <p:cNvGrpSpPr/>
            <p:nvPr/>
          </p:nvGrpSpPr>
          <p:grpSpPr>
            <a:xfrm>
              <a:off x="7234920" y="5539680"/>
              <a:ext cx="1606680" cy="1288800"/>
              <a:chOff x="7234920" y="5539680"/>
              <a:chExt cx="1606680" cy="1288800"/>
            </a:xfrm>
          </p:grpSpPr>
          <p:grpSp>
            <p:nvGrpSpPr>
              <p:cNvPr id="113" name="Шестиугольник 8"/>
              <p:cNvGrpSpPr/>
              <p:nvPr/>
            </p:nvGrpSpPr>
            <p:grpSpPr>
              <a:xfrm>
                <a:off x="7657920" y="5616720"/>
                <a:ext cx="1183680" cy="969480"/>
                <a:chOff x="7657920" y="5616720"/>
                <a:chExt cx="1183680" cy="969480"/>
              </a:xfrm>
            </p:grpSpPr>
            <p:pic>
              <p:nvPicPr>
                <p:cNvPr id="11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6167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582000">
                  <a:off x="7879320" y="58222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6" name="Равнобедренный треугольник 9"/>
              <p:cNvSpPr/>
              <p:nvPr/>
            </p:nvSpPr>
            <p:spPr>
              <a:xfrm rot="2449200">
                <a:off x="7321680" y="57823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Овал 10"/>
              <p:cNvSpPr/>
              <p:nvPr/>
            </p:nvSpPr>
            <p:spPr>
              <a:xfrm rot="582600">
                <a:off x="7827840" y="61232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Прямоугольник 3"/>
            <p:cNvGrpSpPr/>
            <p:nvPr/>
          </p:nvGrpSpPr>
          <p:grpSpPr>
            <a:xfrm>
              <a:off x="499680" y="142920"/>
              <a:ext cx="7461360" cy="1697040"/>
              <a:chOff x="499680" y="142920"/>
              <a:chExt cx="7461360" cy="1697040"/>
            </a:xfrm>
          </p:grpSpPr>
          <p:pic>
            <p:nvPicPr>
              <p:cNvPr id="11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14292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783000" y="39564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Прямоугольник 1"/>
          <p:cNvSpPr/>
          <p:nvPr/>
        </p:nvSpPr>
        <p:spPr>
          <a:xfrm>
            <a:off x="179280" y="4888080"/>
            <a:ext cx="87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ажно не столько заучивание определенных норм и положений, сколько получение обобщенных знаний, позволяющих наиболее эффективно решать конкретные жизненные профессиональные проблемы. Следовательно, образовательный процесс нужно выстраивать таким образом, чтобы снабдить школьника, будущего студента необходимыми знаниями, умениями и навыками для его дальнейшей профессиональной ориен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782640" y="36036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ое  образование  диктует свои  правила учебной и профессиональной самореализ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F:\на печать форум\фото с урока\SDC15393.JPG"/>
          <p:cNvPicPr/>
          <p:nvPr/>
        </p:nvPicPr>
        <p:blipFill>
          <a:blip r:embed="rId4"/>
          <a:stretch/>
        </p:blipFill>
        <p:spPr>
          <a:xfrm>
            <a:off x="4000680" y="1428840"/>
            <a:ext cx="4557600" cy="34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E:\DCIM\100SSCAM\SDC15392.JPG"/>
          <p:cNvPicPr/>
          <p:nvPr/>
        </p:nvPicPr>
        <p:blipFill>
          <a:blip r:embed="rId5"/>
          <a:stretch/>
        </p:blipFill>
        <p:spPr>
          <a:xfrm>
            <a:off x="357120" y="178596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11"/>
          <p:cNvGrpSpPr/>
          <p:nvPr/>
        </p:nvGrpSpPr>
        <p:grpSpPr>
          <a:xfrm>
            <a:off x="0" y="-314280"/>
            <a:ext cx="9242280" cy="6956640"/>
            <a:chOff x="0" y="-314280"/>
            <a:chExt cx="9242280" cy="6956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-27504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Группа 5"/>
            <p:cNvGrpSpPr/>
            <p:nvPr/>
          </p:nvGrpSpPr>
          <p:grpSpPr>
            <a:xfrm>
              <a:off x="7234920" y="5082480"/>
              <a:ext cx="1606680" cy="1288800"/>
              <a:chOff x="7234920" y="5082480"/>
              <a:chExt cx="1606680" cy="1288800"/>
            </a:xfrm>
          </p:grpSpPr>
          <p:grpSp>
            <p:nvGrpSpPr>
              <p:cNvPr id="128" name="Шестиугольник 8"/>
              <p:cNvGrpSpPr/>
              <p:nvPr/>
            </p:nvGrpSpPr>
            <p:grpSpPr>
              <a:xfrm>
                <a:off x="7657920" y="5159520"/>
                <a:ext cx="1183680" cy="969480"/>
                <a:chOff x="7657920" y="5159520"/>
                <a:chExt cx="1183680" cy="969480"/>
              </a:xfrm>
            </p:grpSpPr>
            <p:pic>
              <p:nvPicPr>
                <p:cNvPr id="129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1595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582000">
                  <a:off x="7879320" y="53650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1" name="Равнобедренный треугольник 9"/>
              <p:cNvSpPr/>
              <p:nvPr/>
            </p:nvSpPr>
            <p:spPr>
              <a:xfrm rot="2449200">
                <a:off x="7321680" y="53251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Овал 10"/>
              <p:cNvSpPr/>
              <p:nvPr/>
            </p:nvSpPr>
            <p:spPr>
              <a:xfrm rot="582600">
                <a:off x="7827840" y="56660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Прямоугольник 3"/>
            <p:cNvGrpSpPr/>
            <p:nvPr/>
          </p:nvGrpSpPr>
          <p:grpSpPr>
            <a:xfrm>
              <a:off x="499680" y="-314280"/>
              <a:ext cx="7461360" cy="1697040"/>
              <a:chOff x="499680" y="-314280"/>
              <a:chExt cx="7461360" cy="1697040"/>
            </a:xfrm>
          </p:grpSpPr>
          <p:pic>
            <p:nvPicPr>
              <p:cNvPr id="134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-31428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83000" y="-6120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" name="Прямоугольник 1"/>
          <p:cNvSpPr/>
          <p:nvPr/>
        </p:nvSpPr>
        <p:spPr>
          <a:xfrm>
            <a:off x="2357280" y="214308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считаем, что чтение является базовым компонентом, характеризующим жизнедеятельность человека, и лежит в основе формирования инновационных компетенци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еобходимо разрабатывать и проводить уроки, где  читательская компетентность – стает личностном  качеством,  характеризующееся степенью обладания читательской компетенцией и способностью самостоятельно выносить суждения и принимать решения в результате работы с математическими текс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– большая педагогическая проблема.  Возможность повышения и формирования этого компонента на наших уроках математики легла в основу нашей методической работы  и мы на базе нашей школы разработали и апробировали  технологические  карты уроков – практикумов, основная идея  которых проводить  «учение с увлечение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042920" y="241200"/>
            <a:ext cx="65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Формирование и развитие читательской компетентности»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142920" y="714240"/>
            <a:ext cx="866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новым образовательным стандартам, выпускники средней  ступени должны быть деятельными, любознательными, доброжелательными и отзывчивыми. У них должно быть чувство собственного достоинства, исследовательский интерес, уважительное отношение к окружающей среде, навыки самоорганизации 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Леонид\Desktop\с ноутбука 3 01 2017\6в портфолио\6d\SDC14964.JPG"/>
          <p:cNvPicPr/>
          <p:nvPr/>
        </p:nvPicPr>
        <p:blipFill>
          <a:blip r:embed="rId4"/>
          <a:stretch/>
        </p:blipFill>
        <p:spPr>
          <a:xfrm>
            <a:off x="214200" y="2428920"/>
            <a:ext cx="1965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20"/>
          <p:cNvGrpSpPr/>
          <p:nvPr/>
        </p:nvGrpSpPr>
        <p:grpSpPr>
          <a:xfrm>
            <a:off x="-119880" y="-171000"/>
            <a:ext cx="9387000" cy="4201200"/>
            <a:chOff x="-119880" y="-171000"/>
            <a:chExt cx="9387000" cy="4201200"/>
          </a:xfrm>
        </p:grpSpPr>
        <p:grpSp>
          <p:nvGrpSpPr>
            <p:cNvPr id="142" name="Группа 7"/>
            <p:cNvGrpSpPr/>
            <p:nvPr/>
          </p:nvGrpSpPr>
          <p:grpSpPr>
            <a:xfrm>
              <a:off x="7244280" y="3184920"/>
              <a:ext cx="1505880" cy="845280"/>
              <a:chOff x="7244280" y="3184920"/>
              <a:chExt cx="1505880" cy="845280"/>
            </a:xfrm>
          </p:grpSpPr>
          <p:grpSp>
            <p:nvGrpSpPr>
              <p:cNvPr id="143" name="Шестиугольник 8"/>
              <p:cNvGrpSpPr/>
              <p:nvPr/>
            </p:nvGrpSpPr>
            <p:grpSpPr>
              <a:xfrm>
                <a:off x="7602840" y="3277440"/>
                <a:ext cx="1147320" cy="586440"/>
                <a:chOff x="7602840" y="3277440"/>
                <a:chExt cx="1147320" cy="586440"/>
              </a:xfrm>
            </p:grpSpPr>
            <p:pic>
              <p:nvPicPr>
                <p:cNvPr id="144" name="Шестиугольник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02840" y="3277440"/>
                  <a:ext cx="114732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7783920" y="3363120"/>
                  <a:ext cx="7884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6" name="Равнобедренный треугольник 9"/>
              <p:cNvSpPr/>
              <p:nvPr/>
            </p:nvSpPr>
            <p:spPr>
              <a:xfrm rot="1866600">
                <a:off x="7277400" y="3407400"/>
                <a:ext cx="973080" cy="39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Овал 10"/>
              <p:cNvSpPr/>
              <p:nvPr/>
            </p:nvSpPr>
            <p:spPr>
              <a:xfrm>
                <a:off x="7830720" y="3580200"/>
                <a:ext cx="695520" cy="41220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" name="Равнобедренный треугольник 13"/>
            <p:cNvSpPr/>
            <p:nvPr/>
          </p:nvSpPr>
          <p:spPr>
            <a:xfrm rot="4943400">
              <a:off x="358560" y="-498240"/>
              <a:ext cx="76500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Равнобедренный треугольник 13"/>
            <p:cNvSpPr/>
            <p:nvPr/>
          </p:nvSpPr>
          <p:spPr>
            <a:xfrm flipH="1" flipV="1" rot="21152400">
              <a:off x="7801920" y="-82440"/>
              <a:ext cx="1414440" cy="86940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Прямоугольник 1"/>
          <p:cNvSpPr/>
          <p:nvPr/>
        </p:nvSpPr>
        <p:spPr>
          <a:xfrm>
            <a:off x="15840" y="203040"/>
            <a:ext cx="895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7933c"/>
                </a:solidFill>
                <a:uFillTx/>
                <a:latin typeface="Calibri"/>
              </a:rPr>
              <a:t>Практическая част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актические задачи, направленные на формирование и оценку навыка сотрудничества, требующие совместной работы в парах или группах с распределением ролей (функций) и разделением ответственности за конечный результат.    При работе с книгой, нужно добиваться, того, чтобы учащийся судил о знании материала не потому, сколько   раз прочитал текст учебника, а по умению сознательно и подробно излагать содержание прочитан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08000" y="4005360"/>
            <a:ext cx="2203560" cy="275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6340320" y="3645000"/>
            <a:ext cx="277524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Изображение 110"/>
          <p:cNvPicPr/>
          <p:nvPr/>
        </p:nvPicPr>
        <p:blipFill>
          <a:blip r:embed="rId4"/>
          <a:stretch/>
        </p:blipFill>
        <p:spPr>
          <a:xfrm>
            <a:off x="2843280" y="4172040"/>
            <a:ext cx="3457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Группа 11"/>
          <p:cNvGrpSpPr/>
          <p:nvPr/>
        </p:nvGrpSpPr>
        <p:grpSpPr>
          <a:xfrm>
            <a:off x="-61920" y="0"/>
            <a:ext cx="9242280" cy="6956280"/>
            <a:chOff x="-61920" y="0"/>
            <a:chExt cx="9242280" cy="6956280"/>
          </a:xfrm>
        </p:grpSpPr>
        <p:pic>
          <p:nvPicPr>
            <p:cNvPr id="155" name="Picture 2" descr=""/>
            <p:cNvPicPr/>
            <p:nvPr/>
          </p:nvPicPr>
          <p:blipFill>
            <a:blip r:embed="rId1"/>
            <a:stretch/>
          </p:blipFill>
          <p:spPr>
            <a:xfrm>
              <a:off x="-61920" y="0"/>
              <a:ext cx="924228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Группа 5"/>
            <p:cNvGrpSpPr/>
            <p:nvPr/>
          </p:nvGrpSpPr>
          <p:grpSpPr>
            <a:xfrm>
              <a:off x="7173360" y="5432040"/>
              <a:ext cx="1605960" cy="1278720"/>
              <a:chOff x="7173360" y="5432040"/>
              <a:chExt cx="1605960" cy="1278720"/>
            </a:xfrm>
          </p:grpSpPr>
          <p:grpSp>
            <p:nvGrpSpPr>
              <p:cNvPr id="157" name="Шестиугольник 8"/>
              <p:cNvGrpSpPr/>
              <p:nvPr/>
            </p:nvGrpSpPr>
            <p:grpSpPr>
              <a:xfrm>
                <a:off x="7590240" y="5492160"/>
                <a:ext cx="1189080" cy="979920"/>
                <a:chOff x="7590240" y="5492160"/>
                <a:chExt cx="1189080" cy="979920"/>
              </a:xfrm>
            </p:grpSpPr>
            <p:pic>
              <p:nvPicPr>
                <p:cNvPr id="158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0240" y="5492160"/>
                  <a:ext cx="1189080" cy="97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582000">
                  <a:off x="7811280" y="5700600"/>
                  <a:ext cx="74340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0" name="Равнобедренный треугольник 9"/>
              <p:cNvSpPr/>
              <p:nvPr/>
            </p:nvSpPr>
            <p:spPr>
              <a:xfrm rot="2449200">
                <a:off x="7258320" y="5676480"/>
                <a:ext cx="981360" cy="624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Овал 10"/>
              <p:cNvSpPr/>
              <p:nvPr/>
            </p:nvSpPr>
            <p:spPr>
              <a:xfrm rot="582600">
                <a:off x="7762680" y="6016680"/>
                <a:ext cx="699840" cy="6397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2" name="Прямоугольник 3"/>
            <p:cNvGrpSpPr/>
            <p:nvPr/>
          </p:nvGrpSpPr>
          <p:grpSpPr>
            <a:xfrm>
              <a:off x="42480" y="48600"/>
              <a:ext cx="3596400" cy="1133640"/>
              <a:chOff x="42480" y="48600"/>
              <a:chExt cx="3596400" cy="1133640"/>
            </a:xfrm>
          </p:grpSpPr>
          <p:pic>
            <p:nvPicPr>
              <p:cNvPr id="163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0" y="48600"/>
                <a:ext cx="3596400" cy="11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323640" y="306360"/>
                <a:ext cx="303372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Calibri"/>
                  </a:rPr>
                  <a:t>Учебно-практическое занятие  №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5" name=""/>
          <p:cNvSpPr txBox="1"/>
          <p:nvPr/>
        </p:nvSpPr>
        <p:spPr>
          <a:xfrm>
            <a:off x="108000" y="8827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ель практикум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максимально точно и полно понять содержание текста, разбитого на части, уловить детал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осмыслить извлеченную информацию и рассказать е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жидаемый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абота с текстом: оценка информации услышанного текста  и его запомин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Все ученики класса могут воспроизвести текст и возможность понять его структу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C:\Users\2755~1\AppData\Local\Temp\Rar$DRa0.536\IMG_20160402_094221.jpg"/>
          <p:cNvPicPr/>
          <p:nvPr/>
        </p:nvPicPr>
        <p:blipFill>
          <a:blip r:embed="rId4"/>
          <a:stretch/>
        </p:blipFill>
        <p:spPr>
          <a:xfrm>
            <a:off x="1428840" y="2286000"/>
            <a:ext cx="339084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2755~1\AppData\Local\Temp\Rar$DRa0.534\IMG_20160402_094232 (1).jpg"/>
          <p:cNvPicPr/>
          <p:nvPr/>
        </p:nvPicPr>
        <p:blipFill>
          <a:blip r:embed="rId5"/>
          <a:stretch/>
        </p:blipFill>
        <p:spPr>
          <a:xfrm>
            <a:off x="5357880" y="2214720"/>
            <a:ext cx="3643200" cy="27334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3668760" y="4096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99"/>
                </a:solidFill>
                <a:uFillTx/>
                <a:latin typeface="Calibri"/>
              </a:rPr>
              <a:t>Аналитическая групповая  работа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Группа 11"/>
          <p:cNvGrpSpPr/>
          <p:nvPr/>
        </p:nvGrpSpPr>
        <p:grpSpPr>
          <a:xfrm>
            <a:off x="-98280" y="0"/>
            <a:ext cx="9242280" cy="6956280"/>
            <a:chOff x="-98280" y="0"/>
            <a:chExt cx="9242280" cy="6956280"/>
          </a:xfrm>
        </p:grpSpPr>
        <p:pic>
          <p:nvPicPr>
            <p:cNvPr id="170" name="Picture 2" descr=""/>
            <p:cNvPicPr/>
            <p:nvPr/>
          </p:nvPicPr>
          <p:blipFill>
            <a:blip r:embed="rId1"/>
            <a:stretch/>
          </p:blipFill>
          <p:spPr>
            <a:xfrm>
              <a:off x="-98280" y="0"/>
              <a:ext cx="924228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Группа 5"/>
            <p:cNvGrpSpPr/>
            <p:nvPr/>
          </p:nvGrpSpPr>
          <p:grpSpPr>
            <a:xfrm>
              <a:off x="7137000" y="5432040"/>
              <a:ext cx="1605960" cy="1278720"/>
              <a:chOff x="7137000" y="5432040"/>
              <a:chExt cx="1605960" cy="1278720"/>
            </a:xfrm>
          </p:grpSpPr>
          <p:grpSp>
            <p:nvGrpSpPr>
              <p:cNvPr id="172" name="Шестиугольник 8"/>
              <p:cNvGrpSpPr/>
              <p:nvPr/>
            </p:nvGrpSpPr>
            <p:grpSpPr>
              <a:xfrm>
                <a:off x="7553880" y="5492160"/>
                <a:ext cx="1189080" cy="979920"/>
                <a:chOff x="7553880" y="5492160"/>
                <a:chExt cx="1189080" cy="979920"/>
              </a:xfrm>
            </p:grpSpPr>
            <p:pic>
              <p:nvPicPr>
                <p:cNvPr id="173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53880" y="5492160"/>
                  <a:ext cx="1189080" cy="97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582000">
                  <a:off x="7774920" y="5700600"/>
                  <a:ext cx="74340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5" name="Равнобедренный треугольник 9"/>
              <p:cNvSpPr/>
              <p:nvPr/>
            </p:nvSpPr>
            <p:spPr>
              <a:xfrm rot="2449200">
                <a:off x="7221960" y="5676480"/>
                <a:ext cx="981360" cy="624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Овал 10"/>
              <p:cNvSpPr/>
              <p:nvPr/>
            </p:nvSpPr>
            <p:spPr>
              <a:xfrm rot="582600">
                <a:off x="7726320" y="6016680"/>
                <a:ext cx="699840" cy="6397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Прямоугольник 3"/>
            <p:cNvGrpSpPr/>
            <p:nvPr/>
          </p:nvGrpSpPr>
          <p:grpSpPr>
            <a:xfrm>
              <a:off x="6120" y="48600"/>
              <a:ext cx="3693960" cy="1133640"/>
              <a:chOff x="6120" y="48600"/>
              <a:chExt cx="3693960" cy="1133640"/>
            </a:xfrm>
          </p:grpSpPr>
          <p:pic>
            <p:nvPicPr>
              <p:cNvPr id="178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0" y="48600"/>
                <a:ext cx="3693960" cy="11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287280" y="306360"/>
                <a:ext cx="313236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Учебно-практическое занятие №2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0" name=""/>
          <p:cNvSpPr txBox="1"/>
          <p:nvPr/>
        </p:nvSpPr>
        <p:spPr>
          <a:xfrm>
            <a:off x="287280" y="98100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 практикум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составить собственный текст ,  сравнить его с изучаем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смыслить извлече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жидаемый результ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Работа с текстом: преобразование и интерпретация текс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3754440" y="27144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99"/>
                </a:solidFill>
                <a:uFillTx/>
                <a:latin typeface="Calibri"/>
              </a:rPr>
              <a:t>Авторская парная  работа со словами из тек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66600" y="2173320"/>
            <a:ext cx="3787920" cy="284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3494160" y="2173320"/>
            <a:ext cx="55879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7:06:19Z</dcterms:created>
  <dc:creator>User</dc:creator>
  <dc:description/>
  <dc:language>en-US</dc:language>
  <cp:lastModifiedBy>Леонид</cp:lastModifiedBy>
  <dcterms:modified xsi:type="dcterms:W3CDTF">2017-06-02T05:59:27Z</dcterms:modified>
  <cp:revision>63</cp:revision>
  <dc:subject/>
  <dc:title>Презентация PowerPoint</dc:title>
</cp:coreProperties>
</file>