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5.jpeg" ContentType="image/jpeg"/>
  <Override PartName="/ppt/media/image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FF3F-89BE-4754-B152-E50D816F3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5458-C7B4-46F7-B411-DEE3D789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8D30-16F4-4284-92B3-5A0F72C66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7543-A109-4345-9DB0-FABCDBF4E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C802-5714-4338-9158-47761BA4A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521E-7944-407F-B8EF-C68CB6CA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D120-C7F9-4C88-87D3-2C78F06D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9C24-C13A-4FFA-93CB-C1BE9347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AC1D-E549-463B-B892-C9A84A85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5350-989A-4A3C-876F-18A6B0F0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06E1-5DA3-4ED7-81F5-13252E18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F838-0805-4722-A0CA-A8E1C20C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BBE2-A539-4196-9BBF-E0BFB388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D236-5CE4-4761-835C-A9CC7FE7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D381-D4F7-4470-8D25-80FBF250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ECDA-D664-4F98-BE61-B1674FAB4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117D-ADE8-4921-BAA4-E9487C343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5821-EEB6-4293-A177-A7E6840C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F767-734C-4991-84E5-B1C0FB27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1CBE-1AD4-4EB2-AFFB-E42501FF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D2F1-61E4-470B-88D1-14B74162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8912-C121-487A-9BC4-096B138B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E0F8-5736-4151-80F8-870936F9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80EE-C517-4840-A599-82A12140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C0CB-8374-4850-A49C-55CC0086719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88DE-DB88-4E85-8274-4E024D04922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ostrovok.ru/blog/wp-content/uploads/2011/05/&#1055;&#1091;&#1090;&#1090;&#1072;-&#1052;&#1086;&#1085;&#1090;&#1086;&#1085;-&#1089;&#1090;&#1072;&#1090;&#1091;&#1103;-&#1080;&#1076;&#1091;&#1097;&#1077;&#1075;&#1086;-&#1041;&#1091;&#1076;&#1076;&#1099;-11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ia.ru/photolents/20080520/107827415_6.html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img-fotki.yandex.ru/get/3114/mkrivosheeva010660.21/0_29e04_c632557c_XL" TargetMode="External"/><Relationship Id="rId3" Type="http://schemas.openxmlformats.org/officeDocument/2006/relationships/image" Target="../media/image21.jpeg"/><Relationship Id="rId4" Type="http://schemas.openxmlformats.org/officeDocument/2006/relationships/hyperlink" Target="http://tevent.ru/blini.jpg" TargetMode="External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naviny.by/media/2007.02/zima1.jpg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4005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Внеклассное мероприятие  «Диалог религиозно -культурных традиций. Весенние праздники многонационального народа России.»</a:t>
            </a:r>
            <a:br>
              <a:rPr sz="4000"/>
            </a:br>
            <a:br>
              <a:rPr sz="48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556000" y="4149360"/>
            <a:ext cx="640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Выполнила :Григорьева Е.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Учитель начальных класс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08000" y="4149720"/>
            <a:ext cx="32036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784872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5530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В этот день принято совершать обход ступ, храмов и других буддийских сооружений по часовой стрелке: сначала совершающий этот обход отмеривает расстояние своим телом, распростершись на земле, а затем поднимается и встает на то место, которого коснулось его лицо и продвигается вперед подобным образом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3213000"/>
            <a:ext cx="64090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В день праздника каждый буддийский храм устанавливает особый алтарь, обрамленный цветами. Посреди него помещают чашу-бассейн, в которой расположена статуя новорожденного Будды. Буддисты, используя специальный длинный ковшик, льют на голову святыни сладкий чай, заваренный из листьев гортензии.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116000" y="2492280"/>
            <a:ext cx="6408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В сам праздник буддисты посещают местные храмы, приносят туда обильное угощение, совершают подношения в виде цветов, свечей и ароматных палочек, символизирующих непостоянство и краткость жизненного пути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9" name="" descr="Вайсак Индонези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2327400"/>
            <a:ext cx="3457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2803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Масленица –один из древнейших обрядовых праздников. Вся магия обряда – изгнания зимы, была направлена то, чтобы помочь солнцу набрать силу для удлинения дня. Люди призывали в свой дом хороший урожай и богатый приплод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403280" y="2763720"/>
            <a:ext cx="633744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4386240" cy="44654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219640" y="2060640"/>
            <a:ext cx="360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блины –главное угощение на празднике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9" name="Picture 5" descr="un3titled"/>
          <p:cNvPicPr/>
          <p:nvPr/>
        </p:nvPicPr>
        <p:blipFill>
          <a:blip r:embed="rId1"/>
          <a:stretch/>
        </p:blipFill>
        <p:spPr>
          <a:xfrm>
            <a:off x="5940360" y="2421000"/>
            <a:ext cx="2952720" cy="2663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Картинка 13 из 40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3933720"/>
            <a:ext cx="2687400" cy="2737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Картинка 14 из 40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87640" y="4121280"/>
            <a:ext cx="26892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Справляется Масленица длится семь дней, каждый из которых имеет своё название и определяет, что делают в этот день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3" name="Picture 6" descr="untit33led"/>
          <p:cNvPicPr/>
          <p:nvPr/>
        </p:nvPicPr>
        <p:blipFill>
          <a:blip r:embed="rId1"/>
          <a:stretch/>
        </p:blipFill>
        <p:spPr>
          <a:xfrm>
            <a:off x="684360" y="1700280"/>
            <a:ext cx="2879640" cy="4753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Картинка 30 из 150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2708280"/>
            <a:ext cx="338292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ff00"/>
                </a:solidFill>
                <a:latin typeface="Arial"/>
              </a:rPr>
              <a:t>В России множество народов:   Другой язык, другие песни.</a:t>
            </a:r>
            <a:br>
              <a:rPr sz="4000"/>
            </a:br>
            <a:r>
              <a:rPr b="1" i="1" lang="en-US" sz="4000" spc="-1" strike="noStrike">
                <a:solidFill>
                  <a:srgbClr val="00ff00"/>
                </a:solidFill>
                <a:latin typeface="Arial"/>
              </a:rPr>
              <a:t>Но так уж суждено судьбою,  Всегда они повсюду вместе.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0" name="Picture 7" descr="untitled2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908000" y="2421000"/>
            <a:ext cx="5040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6985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619280" y="476280"/>
            <a:ext cx="6337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Накануне праздника, до восхода утренней звезды, необходимо завершить все домашние хлопоты: приготовление еды, тщательную уборку жилья и украшение комнат цветущими ветками деревьев, абрикосовых, персиковых, миндальных или гранатовых. Обязательно в эти дни надо получить благословение старших, родителей, учителей, наставнико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6" descr="Women_making_a_carpet_for_Navruz"/>
          <p:cNvPicPr/>
          <p:nvPr/>
        </p:nvPicPr>
        <p:blipFill>
          <a:blip r:embed="rId1"/>
          <a:stretch/>
        </p:blipFill>
        <p:spPr>
          <a:xfrm>
            <a:off x="395280" y="4724280"/>
            <a:ext cx="3071880" cy="19861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foto1219914372"/>
          <p:cNvPicPr/>
          <p:nvPr/>
        </p:nvPicPr>
        <p:blipFill>
          <a:blip r:embed="rId2"/>
          <a:stretch/>
        </p:blipFill>
        <p:spPr>
          <a:xfrm>
            <a:off x="5219640" y="4653000"/>
            <a:ext cx="31687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Verdana"/>
              </a:rPr>
              <a:t>Навруз символизирует обновление природы и человека, очищение душ и начало новой жизни, «Нового Дня». Незадолго до праздника принято разводить костры и очищаться огнем, прыгая через костер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284720" y="4221000"/>
            <a:ext cx="33116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Одним из традиционных ритуалов </a:t>
            </a:r>
            <a:br>
              <a:rPr sz="2400"/>
            </a:b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во время Навруза является </a:t>
            </a:r>
            <a:br>
              <a:rPr sz="2400"/>
            </a:b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компонование хафт сина, </a:t>
            </a:r>
            <a:br>
              <a:rPr sz="2400"/>
            </a:b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своеобразного набора блюд к </a:t>
            </a:r>
            <a:br>
              <a:rPr sz="2400"/>
            </a:b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праздничному столу.</a:t>
            </a:r>
            <a:br>
              <a:rPr sz="40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632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5676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Весак – праздник рождения и смерти Будды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979640" y="1484280"/>
            <a:ext cx="4680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3T12:22:46Z</dcterms:created>
  <dc:creator>Mandarin</dc:creator>
  <dc:description/>
  <dc:language>en-US</dc:language>
  <cp:lastModifiedBy>Mandarin</cp:lastModifiedBy>
  <dcterms:modified xsi:type="dcterms:W3CDTF">2012-05-13T16:39:26Z</dcterms:modified>
  <cp:revision>3</cp:revision>
  <dc:subject/>
  <dc:title>Внеклассное мероприятие  «Диалог религиозно -культурных традиций. Весенние праздники многонационального народа России.»  </dc:title>
</cp:coreProperties>
</file>