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jpeg" ContentType="image/jpeg"/>
  <Override PartName="/ppt/media/image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AADD-A923-4947-83DB-4D780C32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E6B-A656-4285-97FE-E50883C0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6B0-3285-4E35-B327-BD24F889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65F-99C7-45E8-BD7F-F58F047F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3855-F979-4A29-BD02-D7551A84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B321-6590-4F8C-B7C1-96965E37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B356-FEE9-47DF-BFBA-39CF37C2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6E32-4102-4AF4-B5CB-5D9C87E0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D009-9A82-4CF1-BF09-0BD7535E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9E8D-A0C0-4999-80D0-7275AE82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8D6F-7CB2-4771-8726-4DCF9825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BE4-6F2B-466B-87D8-A149FCA2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8C61-DEAA-4E57-A6E5-956E0563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6DF6-B26C-4108-9CF0-B1C8F81D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09B4-BAD0-49E8-A1DD-699A0D2B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5D04-A461-4B28-AAE9-F78A35B7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312C-21E7-450D-9AFC-8EFF02B3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E26-B4B2-4A14-A59B-B2EC3582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DDA-9C5A-4136-AA54-D0817828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6C4-3387-48CB-B50D-280715AC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2D1-8043-4415-B646-3F3CF7FC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257-7D50-40C1-A478-359F0C5F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323-FDE7-4E55-AAA0-29DAEB33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D292-E557-4067-8372-DFCF6B19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3A29-21C4-4CDC-A05F-22CFF125450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F298-0CC7-4F7F-B17A-C5E7B8E114C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strovok.ru/blog/wp-content/uploads/2011/05/&#1055;&#1091;&#1090;&#1090;&#1072;-&#1052;&#1086;&#1085;&#1090;&#1086;&#1085;-&#1089;&#1090;&#1072;&#1090;&#1091;&#1103;-&#1080;&#1076;&#1091;&#1097;&#1077;&#1075;&#1086;-&#1041;&#1091;&#1076;&#1076;&#1099;-11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ia.ru/photolents/20080520/107827415_6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img-fotki.yandex.ru/get/3114/mkrivosheeva010660.21/0_29e04_c632557c_XL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tevent.ru/blini.jpg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naviny.by/media/2007.02/zima1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005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Внеклассное мероприятие  «Диалог религиозно -культурных традиций. Весенние праздники многонационального народа России.»</a:t>
            </a:r>
            <a:br>
              <a:rPr sz="4000"/>
            </a:br>
            <a:br>
              <a:rPr sz="48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Выполнила :Григорьева Е.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8000" y="4149720"/>
            <a:ext cx="32036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78487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553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В этот день принято совершать обход ступ, храмов и других буддийских сооружений по часовой стрелке: сначала совершающий этот обход отмеривает расстояние своим телом, распростершись на земле, а затем поднимается и встает на то место, которого коснулось его лицо и продвигается вперед подобным образом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3213000"/>
            <a:ext cx="640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В день праздника каждый буддийский храм устанавливает особый алтарь, обрамленный цветами. Посреди него помещают чашу-бассейн, в которой расположена статуя новорожденного Будды. Буддисты, используя специальный длинный ковшик, льют на голову святыни сладкий чай, заваренный из листьев гортензии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640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В сам праздник буддисты посещают местные храмы, приносят туда обильное угощение, совершают подношения в виде цветов, свечей и ароматных палочек, символизирующих непостоянство и краткость жизненного пути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" descr="Вайсак Индонез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327400"/>
            <a:ext cx="3457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Масленица –один из древнейших обрядовых праздников. Вся магия обряда – изгнания зимы, была направлена то, чтобы помочь солнцу набрать силу для удлинения дня. Люди призывали в свой дом хороший урожай и богатый приплод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03280" y="2763720"/>
            <a:ext cx="63374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386240" cy="4465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60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блины –главное угощение на празднике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Picture 5" descr="un3titled"/>
          <p:cNvPicPr/>
          <p:nvPr/>
        </p:nvPicPr>
        <p:blipFill>
          <a:blip r:embed="rId1"/>
          <a:stretch/>
        </p:blipFill>
        <p:spPr>
          <a:xfrm>
            <a:off x="5940360" y="2421000"/>
            <a:ext cx="2952720" cy="2663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Картинка 13 из 4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3933720"/>
            <a:ext cx="2687400" cy="2737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Картинка 14 из 40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87640" y="4121280"/>
            <a:ext cx="26892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Справляется Масленица длится семь дней, каждый из которых имеет своё название и определяет, что делают в этот день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3" name="Picture 6" descr="untit33led"/>
          <p:cNvPicPr/>
          <p:nvPr/>
        </p:nvPicPr>
        <p:blipFill>
          <a:blip r:embed="rId1"/>
          <a:stretch/>
        </p:blipFill>
        <p:spPr>
          <a:xfrm>
            <a:off x="684360" y="1700280"/>
            <a:ext cx="2879640" cy="4753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Картинка 30 из 15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2708280"/>
            <a:ext cx="33829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В России множество народов:   Другой язык, другие песни.</a:t>
            </a:r>
            <a:br>
              <a:rPr sz="4000"/>
            </a:b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Но так уж суждено судьбою,  Всегда они повсюду вместе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Picture 7" descr="untitled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908000" y="2421000"/>
            <a:ext cx="504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6985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337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Накануне праздника, до восхода утренней звезды, необходимо завершить все домашние хлопоты: приготовление еды, тщательную уборку жилья и украшение комнат цветущими ветками деревьев, абрикосовых, персиковых, миндальных или гранатовых. Обязательно в эти дни надо получить благословение старших, родителей, учителей, наставник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6" descr="Women_making_a_carpet_for_Navruz"/>
          <p:cNvPicPr/>
          <p:nvPr/>
        </p:nvPicPr>
        <p:blipFill>
          <a:blip r:embed="rId1"/>
          <a:stretch/>
        </p:blipFill>
        <p:spPr>
          <a:xfrm>
            <a:off x="395280" y="4724280"/>
            <a:ext cx="3071880" cy="1986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foto1219914372"/>
          <p:cNvPicPr/>
          <p:nvPr/>
        </p:nvPicPr>
        <p:blipFill>
          <a:blip r:embed="rId2"/>
          <a:stretch/>
        </p:blipFill>
        <p:spPr>
          <a:xfrm>
            <a:off x="5219640" y="4653000"/>
            <a:ext cx="31687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Verdana"/>
              </a:rPr>
              <a:t>Навруз символизирует обновление природы и человека, очищение душ и начало новой жизни, «Нового Дня». Незадолго до праздника принято разводить костры и очищаться огнем, прыгая через костер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284720" y="4221000"/>
            <a:ext cx="3311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Одним из традиционных ритуалов </a:t>
            </a:r>
            <a:br>
              <a:rPr sz="2400"/>
            </a:b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во время Навруза является </a:t>
            </a:r>
            <a:br>
              <a:rPr sz="2400"/>
            </a:b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компонование хафт сина, </a:t>
            </a:r>
            <a:br>
              <a:rPr sz="2400"/>
            </a:b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своеобразного набора блюд к </a:t>
            </a:r>
            <a:br>
              <a:rPr sz="2400"/>
            </a:b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праздничному столу.</a:t>
            </a:r>
            <a:br>
              <a:rPr sz="40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632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5676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Весак – праздник рождения и смерти Будды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468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2:22:46Z</dcterms:created>
  <dc:creator>Mandarin</dc:creator>
  <dc:description/>
  <dc:language>en-US</dc:language>
  <cp:lastModifiedBy>Mandarin</cp:lastModifiedBy>
  <dcterms:modified xsi:type="dcterms:W3CDTF">2012-05-13T16:39:26Z</dcterms:modified>
  <cp:revision>3</cp:revision>
  <dc:subject/>
  <dc:title>Внеклассное мероприятие  «Диалог религиозно -культурных традиций. Весенние праздники многонационального народа России.»  </dc:title>
</cp:coreProperties>
</file>