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31.jpeg" ContentType="image/jpeg"/>
  <Override PartName="/ppt/media/image36.jpeg" ContentType="image/jpeg"/>
  <Override PartName="/ppt/media/image9.jpeg" ContentType="image/jpeg"/>
  <Override PartName="/ppt/media/image42.gif" ContentType="image/gif"/>
  <Override PartName="/ppt/media/image44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9.png" ContentType="image/png"/>
  <Override PartName="/ppt/media/image35.gif" ContentType="image/gif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C82F-F385-450F-83D4-C30911C5B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1CEF-37CC-4518-A10B-6190E1631F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CEC3-C247-4593-87E6-76BDED2504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B30-BB3B-4D77-80AC-1AD0A22F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1FB-3B50-43C4-BCB4-55223A6D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13908-4862-4A95-A082-DC46E2BB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5A483-C6D3-4121-9CE2-7F8C6E06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ECEBF-CF69-4DE4-AD7E-C83B98F7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54D9-4025-446E-BE54-1A1F1EE1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15CF7-E6B8-4E9A-A601-BE2B488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97448-DEAB-486D-8C19-C29E8952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7EDFB-6E7E-4392-8E79-2B4C91A8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59DB0-CC43-4134-827A-1153D9B3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13803-3C24-4624-A9EE-47E89F2E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272BC-148D-4E17-B2F4-33D4E265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1AE-A5C5-4DA3-AC3E-3EE6769A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80AE-FA8B-4894-A1E8-4E1549C6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760C-276D-43F7-8EA1-1A3171D0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E4C71-839B-4759-9C77-7542B55F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11554-7CA8-4B1D-A987-DE87E1BA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617C6-0D5F-4553-A89B-9471D238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E6ED4-BE35-406A-9D26-C029E62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DA8A4-DEFB-48DF-8153-3CA2C748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8E762-C6D8-433E-AF64-1C7531BF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FFD77-EBB8-4A98-9517-526C8C21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179A4-35BA-4E9B-934C-B6239CF7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91A-A592-4B81-9462-7A1D2CAC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FE649-A423-4F57-92F9-31D21700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14B75-F3AB-4FE1-96E6-08B66C06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ED5A-AAF0-450D-B1B8-3068E14C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6F2F2-DBAA-4BC4-AA13-FE594D18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CEF58-45F0-428E-BF41-59C08068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95AC3-2146-4DEF-9131-1F56CE7D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5760E-C23B-4EE2-BFFF-D9323680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0CF58-70D5-42B3-831D-E24AF853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F5CD8-8285-4987-9136-92FF227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B44BE-9BED-4A45-8487-9A035E3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3A06-3308-48CA-B177-B37A66C0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96043-CA39-4EAA-83DE-1524A524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52024-C701-4560-B632-DDA1C2B9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A5E2D-EA44-43F4-BD51-34005B08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BE361-523E-4A4C-95CF-EB254FE6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86C5E-540A-400C-80C2-CD30300D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50972-0AE7-4398-A50F-552D044B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D13EB-0279-404F-859D-4B03DC97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FC6C2-EA29-45DA-84E7-0FE4B7EB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7BB1D-777E-43DE-94B4-CB474E40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46207-7839-45D2-8F14-9F27209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3455-74A0-47A7-99A6-84A9D190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6A0CE-9130-4D2E-B7F9-AEBE168D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795B5-6FD3-47DD-B90F-3819D1CF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29DE2-B85C-499C-A358-BD855327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1AE6A-0244-442E-A1A5-C61CD200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26652-37BA-42A8-9AB3-FAEADABC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7BDA7-6316-4C55-B8F1-592EBB3D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2F4CF-B0BE-4E5D-AF01-FABC00F8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F5744-8308-4791-BF7F-CA5DD956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B8B13-692C-4BC6-BBDD-F1ADE6F8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F5E90-C1AA-4AAB-9B6B-52A12727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550A-F1E1-407A-819D-492B2328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F8D09-8EEC-4000-8C3C-17A2172B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AC706-3F66-4881-A62F-90CC6ED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9C181-5DAE-4C62-9ED5-B3C048C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AD854-87DB-4453-8AFF-A6665AA1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E1508-20F4-4518-8EB8-A1851A0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3F172-B951-4D32-8D8D-13CEA092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5E9E7-A973-449B-9AD2-AF291C81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7893-8CFA-4D51-ABD6-54F5E0A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D551-B741-46D1-B219-B5C75F54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0725-5C6C-4DE7-B2FE-02FF4B42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CF64-37B4-40DA-890D-DAAA11C8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7EF-0BDA-4947-8D8C-F2B0C880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8E86-A1E8-435D-9B85-4274254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C2A9-28F9-4D71-B635-3254E60D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6C8A-4C86-458C-BD22-2648D038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44C6-AF45-452C-9A92-9CED78D2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324F-6423-4467-99E4-AB848370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7FB-E33E-4048-B64A-906FEDFE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5A09-8068-4EF1-A0CC-DCF4B745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1AD7-16AE-4490-A800-65C83144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36C4-720A-4BAB-A1DA-C2BC791D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91B-FA30-4B12-A4EF-61A7D17C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92C3-FE6C-4176-A67A-AE22A93D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992C-8D61-4E3F-9D63-D44D81EE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1B48-C55C-4927-AD3A-EE558D91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5F92-EA48-4E9A-99FA-7C5B645C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059B3-CF0C-4B84-8C9E-12437F43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A1E9A-5AAE-4B0A-BE0C-002DC925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61D5-87B0-4BAD-87B6-AEBCD2D3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755C6-F1CE-4770-AA10-61C12E0C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F8B8-E062-46CD-A799-FC71A7F7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E9E-E3A3-450E-A6D0-69F37567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9AB-FE40-480C-9774-2B74E365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C26-0206-4C4E-8345-64479F5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EF29F-76FF-4C7D-A275-BB2F1F3C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95B50-F716-493B-9DE1-C750B8C0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EA22E-79A2-491A-8B2F-2C1555DC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A6F1E-5E07-44FB-9D3D-5526973F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2FE67-97CC-4EA1-8F90-45B201FC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995FC-2E69-4914-B2DB-4E7E526B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DCA81-E166-4CD2-95B8-A09B2D40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735-E924-4021-B3CF-77DF6002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71A972-462B-4D16-BC9B-740284DF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22D5C-75FC-4601-91D1-C6E3E908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C845E-1AEF-4716-88A4-01E90CB0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85159-54B4-46D8-AC9E-66407B46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1D308-273C-4C9B-BFB5-F0766B74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B8D7B-9B55-453C-981A-B5C82A62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C9FA7-7D82-4BE7-AC1B-E4DFB4AD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60361-7BE8-4125-A77A-9241D107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EE5E8-CEEA-4ED0-933C-CBF9DE96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34F6-4BF3-48FC-9A4C-4ADF6CF7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8C3-B4FA-4FE3-A7C7-480E3C0A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63392-31D8-4B37-B223-249FA3CE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5DDD7-7880-4445-BD6D-BB510CD9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FF3A-4EBE-4C1E-9301-D95D9A96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AA06E-E633-45F4-8129-A38F3B2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DA1EE-BCAA-449B-98D3-73BE9180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A1869-683D-4FF5-BC07-D3E783EA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4EAD-DE20-45E3-AEC9-82237B84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70361-0888-419D-B5D9-6048DC6E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8C8D6-FE32-4010-A527-5234B7C8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978DC-C0A7-4865-9AD2-71403AD1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749D-C4D8-42A0-88EB-7B01A57B8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6C9E-8CD8-4CC1-ABE8-F3A315B45A6F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20AE-DDF4-441A-80C3-DF88B9F131F3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3EA9-A7F8-4DCF-BAD6-A53C475AAE85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C4E8-2663-4A11-982B-F629E8D33C5F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C8C4-435F-4579-9030-201FF4E9F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94A7-B64F-4680-A81A-272520122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5ADF-CBB0-44A5-B007-A973E79C3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EC5-5E5B-4172-BF7F-7DD7259B6099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E822-9989-45B9-BF73-73262B4647D7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5.jpe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321222-0710bf9817acbf47"/>
          <p:cNvPicPr/>
          <p:nvPr/>
        </p:nvPicPr>
        <p:blipFill>
          <a:blip r:embed="rId2"/>
          <a:stretch/>
        </p:blipFill>
        <p:spPr>
          <a:xfrm>
            <a:off x="4751280" y="4336920"/>
            <a:ext cx="4392720" cy="2521080"/>
          </a:xfrm>
          <a:prstGeom prst="rect">
            <a:avLst/>
          </a:prstGeom>
          <a:ln w="0">
            <a:noFill/>
          </a:ln>
        </p:spPr>
      </p:pic>
      <p:sp>
        <p:nvSpPr>
          <p:cNvPr id="545" name="WordArt 6"/>
          <p:cNvSpPr txBox="1"/>
          <p:nvPr/>
        </p:nvSpPr>
        <p:spPr>
          <a:xfrm>
            <a:off x="395280" y="404640"/>
            <a:ext cx="8640720" cy="31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Our  Environment.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Lets decide some ecological problem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240000" y="4687920"/>
            <a:ext cx="51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If you don’t think about the future, you will not have it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J. Galsworth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7" name="Picture 8" descr="B_Fly01"/>
          <p:cNvPicPr/>
          <p:nvPr/>
        </p:nvPicPr>
        <p:blipFill>
          <a:blip r:embed="rId3"/>
          <a:stretch/>
        </p:blipFill>
        <p:spPr>
          <a:xfrm>
            <a:off x="7812000" y="0"/>
            <a:ext cx="10508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484000" y="291960"/>
            <a:ext cx="6202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The most serious eс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ological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problems are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484360" y="1267920"/>
            <a:ext cx="6191280" cy="547380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d78745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WATER POL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AIR POL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LAND POL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Picture 4" descr="picturesmall"/>
          <p:cNvPicPr/>
          <p:nvPr/>
        </p:nvPicPr>
        <p:blipFill>
          <a:blip r:embed="rId1"/>
          <a:stretch/>
        </p:blipFill>
        <p:spPr>
          <a:xfrm>
            <a:off x="0" y="189000"/>
            <a:ext cx="2089080" cy="2205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89" name="Picture 5" descr="0901i01"/>
          <p:cNvPicPr/>
          <p:nvPr/>
        </p:nvPicPr>
        <p:blipFill>
          <a:blip r:embed="rId2"/>
          <a:stretch/>
        </p:blipFill>
        <p:spPr>
          <a:xfrm>
            <a:off x="0" y="2708280"/>
            <a:ext cx="2338560" cy="1835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90" name="Picture 6" descr="img2"/>
          <p:cNvPicPr/>
          <p:nvPr/>
        </p:nvPicPr>
        <p:blipFill>
          <a:blip r:embed="rId3"/>
          <a:stretch/>
        </p:blipFill>
        <p:spPr>
          <a:xfrm>
            <a:off x="0" y="4869000"/>
            <a:ext cx="2268360" cy="1989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050560" y="307800"/>
            <a:ext cx="6494760" cy="110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e7ea6"/>
                </a:solidFill>
                <a:latin typeface="Tahoma"/>
              </a:rPr>
              <a:t>Water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346800" cy="478476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d78745"/>
              </a:gs>
            </a:gsLst>
            <a:lin ang="5400000"/>
          </a:gradFill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Nowadays pollution of water is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a </a:t>
            </a: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very important probl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c600"/>
                </a:solidFill>
                <a:latin typeface="Comic Sans MS"/>
              </a:rPr>
              <a:t>Many rivers, seas, oceans are </a:t>
            </a:r>
            <a:r>
              <a:rPr b="0" lang="en-US" sz="3200" spc="-1" strike="noStrike">
                <a:solidFill>
                  <a:srgbClr val="00c600"/>
                </a:solidFill>
                <a:latin typeface="Comic Sans MS"/>
              </a:rPr>
              <a:t>polluted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Many fish and sea animals ar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already d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3" name="Picture 4" descr="images432"/>
          <p:cNvPicPr/>
          <p:nvPr/>
        </p:nvPicPr>
        <p:blipFill>
          <a:blip r:embed="rId1"/>
          <a:stretch/>
        </p:blipFill>
        <p:spPr>
          <a:xfrm>
            <a:off x="7020000" y="5589720"/>
            <a:ext cx="1655640" cy="1171440"/>
          </a:xfrm>
          <a:prstGeom prst="rect">
            <a:avLst/>
          </a:prstGeom>
          <a:ln w="38160">
            <a:solidFill>
              <a:srgbClr val="36beee"/>
            </a:solidFill>
            <a:miter/>
          </a:ln>
        </p:spPr>
      </p:pic>
      <p:pic>
        <p:nvPicPr>
          <p:cNvPr id="594" name="Picture 5" descr="tur"/>
          <p:cNvPicPr/>
          <p:nvPr/>
        </p:nvPicPr>
        <p:blipFill>
          <a:blip r:embed="rId2"/>
          <a:stretch/>
        </p:blipFill>
        <p:spPr>
          <a:xfrm>
            <a:off x="7020000" y="115920"/>
            <a:ext cx="1871640" cy="1197000"/>
          </a:xfrm>
          <a:prstGeom prst="rect">
            <a:avLst/>
          </a:prstGeom>
          <a:ln w="38160">
            <a:solidFill>
              <a:srgbClr val="36beee"/>
            </a:solidFill>
            <a:miter/>
          </a:ln>
        </p:spPr>
      </p:pic>
      <p:pic>
        <p:nvPicPr>
          <p:cNvPr id="595" name="Picture 7" descr="img2"/>
          <p:cNvPicPr/>
          <p:nvPr/>
        </p:nvPicPr>
        <p:blipFill>
          <a:blip r:embed="rId3"/>
          <a:stretch/>
        </p:blipFill>
        <p:spPr>
          <a:xfrm>
            <a:off x="108000" y="333360"/>
            <a:ext cx="1728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96" name="Picture 8" descr="images"/>
          <p:cNvPicPr/>
          <p:nvPr/>
        </p:nvPicPr>
        <p:blipFill>
          <a:blip r:embed="rId4"/>
          <a:stretch/>
        </p:blipFill>
        <p:spPr>
          <a:xfrm>
            <a:off x="250920" y="5229360"/>
            <a:ext cx="1584360" cy="1412640"/>
          </a:xfrm>
          <a:prstGeom prst="rect">
            <a:avLst/>
          </a:prstGeom>
          <a:ln w="38160">
            <a:solidFill>
              <a:srgbClr val="36beee"/>
            </a:solidFill>
            <a:miter/>
          </a:ln>
        </p:spPr>
      </p:pic>
      <p:pic>
        <p:nvPicPr>
          <p:cNvPr id="597" name="Picture 9" descr="c_img115"/>
          <p:cNvPicPr/>
          <p:nvPr/>
        </p:nvPicPr>
        <p:blipFill>
          <a:blip r:embed="rId5"/>
          <a:stretch/>
        </p:blipFill>
        <p:spPr>
          <a:xfrm>
            <a:off x="108000" y="333360"/>
            <a:ext cx="1746360" cy="23749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Air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68000" y="1915920"/>
            <a:ext cx="6201000" cy="460836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d78745"/>
              </a:gs>
            </a:gsLst>
            <a:lin ang="5400000"/>
          </a:gradFill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ome factories pollute the atmosphere with toxins and dangerous chemica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Most of the pollution comes from cars and buses. That’s why it is difficult to breathe in big c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7" descr="005600a"/>
          <p:cNvPicPr/>
          <p:nvPr/>
        </p:nvPicPr>
        <p:blipFill>
          <a:blip r:embed="rId1"/>
          <a:stretch/>
        </p:blipFill>
        <p:spPr>
          <a:xfrm>
            <a:off x="0" y="0"/>
            <a:ext cx="2268360" cy="1873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0003_03_03"/>
          <p:cNvPicPr/>
          <p:nvPr/>
        </p:nvPicPr>
        <p:blipFill>
          <a:blip r:embed="rId2"/>
          <a:stretch/>
        </p:blipFill>
        <p:spPr>
          <a:xfrm>
            <a:off x="0" y="3500280"/>
            <a:ext cx="2141640" cy="30686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602" name="Picture 10" descr="Выхлопные газы"/>
          <p:cNvPicPr/>
          <p:nvPr/>
        </p:nvPicPr>
        <p:blipFill>
          <a:blip r:embed="rId3"/>
          <a:stretch/>
        </p:blipFill>
        <p:spPr>
          <a:xfrm>
            <a:off x="6877080" y="115920"/>
            <a:ext cx="2160720" cy="17492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r13"/>
          <p:cNvPicPr/>
          <p:nvPr/>
        </p:nvPicPr>
        <p:blipFill>
          <a:blip r:embed="rId4"/>
          <a:stretch/>
        </p:blipFill>
        <p:spPr>
          <a:xfrm>
            <a:off x="250920" y="1916280"/>
            <a:ext cx="19447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9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Land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50560" y="1267920"/>
            <a:ext cx="6913800" cy="558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d78745"/>
              </a:gs>
            </a:gsLst>
            <a:lin ang="5400000"/>
          </a:gradFill>
          <a:ln w="381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Our land is also pollu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with toxins and chemic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There are plastic bottles, tins, glass and paper everyw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6" name="Picture 9" descr="kerbside"/>
          <p:cNvPicPr/>
          <p:nvPr/>
        </p:nvPicPr>
        <p:blipFill>
          <a:blip r:embed="rId1"/>
          <a:stretch/>
        </p:blipFill>
        <p:spPr>
          <a:xfrm>
            <a:off x="108000" y="3860640"/>
            <a:ext cx="1778040" cy="2527560"/>
          </a:xfrm>
          <a:prstGeom prst="rect">
            <a:avLst/>
          </a:prstGeom>
          <a:ln w="38160">
            <a:solidFill>
              <a:srgbClr val="ffdbb7"/>
            </a:solidFill>
            <a:miter/>
          </a:ln>
        </p:spPr>
      </p:pic>
      <p:pic>
        <p:nvPicPr>
          <p:cNvPr id="607" name="Picture 10" descr="Свалка мусора 2"/>
          <p:cNvPicPr/>
          <p:nvPr/>
        </p:nvPicPr>
        <p:blipFill>
          <a:blip r:embed="rId2"/>
          <a:stretch/>
        </p:blipFill>
        <p:spPr>
          <a:xfrm>
            <a:off x="5076720" y="3860640"/>
            <a:ext cx="3794400" cy="28465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1" descr="raing"/>
          <p:cNvPicPr/>
          <p:nvPr/>
        </p:nvPicPr>
        <p:blipFill>
          <a:blip r:embed="rId3"/>
          <a:stretch/>
        </p:blipFill>
        <p:spPr>
          <a:xfrm>
            <a:off x="179280" y="0"/>
            <a:ext cx="2544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Рисунок 2" descr="2010-01-22_12-51-26_5562056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>
            <a:off x="1293480" y="5162400"/>
            <a:ext cx="704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Garamond"/>
              </a:rPr>
              <a:t>Green Rules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179280" y="223920"/>
            <a:ext cx="38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Garamond"/>
              </a:rPr>
              <a:t>If you want the life be cool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Garamond"/>
              </a:rPr>
              <a:t>Like a full of colour pictur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Garamond"/>
              </a:rPr>
              <a:t>Don't forget to wr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Garamond"/>
              </a:rPr>
              <a:t>GREEN R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179280" y="4221000"/>
            <a:ext cx="90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's make Green Rules for saving our nature in our region, our country 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ur plane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Object 1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808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How to Help the Earth.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17" name="Picture 6" descr="ecology1"/>
          <p:cNvPicPr/>
          <p:nvPr/>
        </p:nvPicPr>
        <p:blipFill>
          <a:blip r:embed="rId3"/>
          <a:stretch/>
        </p:blipFill>
        <p:spPr>
          <a:xfrm rot="20927400">
            <a:off x="220680" y="2798640"/>
            <a:ext cx="1843200" cy="244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8" name="Picture 8" descr="ecology2"/>
          <p:cNvPicPr/>
          <p:nvPr/>
        </p:nvPicPr>
        <p:blipFill>
          <a:blip r:embed="rId4"/>
          <a:stretch/>
        </p:blipFill>
        <p:spPr>
          <a:xfrm rot="703200">
            <a:off x="6562440" y="4913280"/>
            <a:ext cx="2431800" cy="1716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9" name="Rectangle 9"/>
          <p:cNvSpPr/>
          <p:nvPr/>
        </p:nvSpPr>
        <p:spPr>
          <a:xfrm>
            <a:off x="357120" y="78552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We will be the enemies of the Earth in futur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if we are not following these rules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428480" y="1785960"/>
            <a:ext cx="771516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HELP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POLLUTE THE AIR, THE WATER, AND THE GROU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BREAK BABY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DISTURB WILD ANIMAL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DRAW OR PAINT ON WAALS OR TREES, PAVE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LEAVE LITTER IN THE STREE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E COUNTRY TI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T RUBBISH IN A RUBBISH B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YOU HIKE, LEAVE THE PLACE CLE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W AND WATER FLOWERS AND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A FRIEND TO THE EART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6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9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WordArt 2"/>
          <p:cNvSpPr txBox="1"/>
          <p:nvPr/>
        </p:nvSpPr>
        <p:spPr>
          <a:xfrm>
            <a:off x="971640" y="476280"/>
            <a:ext cx="7704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What can we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do to protect the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environment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0" y="2565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 can recycle newspapers, bottles and metal c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 mustn’t cut down tre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ed birds in win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tect wildlife, plants and trees. Keep all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e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n’t use chemicals in the gar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urn off the light when you leave the ro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n’t cut wild flow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y to avoid buying plastic. It’s hard to recyc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tree21"/>
          <p:cNvPicPr/>
          <p:nvPr/>
        </p:nvPicPr>
        <p:blipFill>
          <a:blip r:embed="rId1"/>
          <a:stretch/>
        </p:blipFill>
        <p:spPr>
          <a:xfrm>
            <a:off x="220968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24" name="WordArt 3"/>
          <p:cNvSpPr txBox="1"/>
          <p:nvPr/>
        </p:nvSpPr>
        <p:spPr>
          <a:xfrm>
            <a:off x="2057400" y="457200"/>
            <a:ext cx="4343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Green Tre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HING IS FOREV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11" descr="raing"/>
          <p:cNvPicPr/>
          <p:nvPr/>
        </p:nvPicPr>
        <p:blipFill>
          <a:blip r:embed="rId1"/>
          <a:stretch/>
        </p:blipFill>
        <p:spPr>
          <a:xfrm>
            <a:off x="539640" y="1557360"/>
            <a:ext cx="1676520" cy="18097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WordArt 5"/>
          <p:cNvSpPr txBox="1"/>
          <p:nvPr/>
        </p:nvSpPr>
        <p:spPr>
          <a:xfrm>
            <a:off x="3348000" y="1341360"/>
            <a:ext cx="51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8000">
                    <a:alpha val="51000"/>
                  </a:srgbClr>
                </a:solidFill>
                <a:latin typeface="Impact"/>
              </a:rPr>
              <a:t>NOTHING IS FOREVER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8000">
                  <a:alpha val="51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5752440" y="193212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038840" y="47628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3" name="i-main-pic" descr="Картинка 14 из 64000"/>
          <p:cNvPicPr/>
          <p:nvPr/>
        </p:nvPicPr>
        <p:blipFill>
          <a:blip r:embed="rId2"/>
          <a:stretch/>
        </p:blipFill>
        <p:spPr>
          <a:xfrm>
            <a:off x="0" y="3860640"/>
            <a:ext cx="26719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Рисунок 3" descr="Earth Day.jpg"/>
          <p:cNvPicPr/>
          <p:nvPr/>
        </p:nvPicPr>
        <p:blipFill>
          <a:blip r:embed="rId1"/>
          <a:stretch/>
        </p:blipFill>
        <p:spPr>
          <a:xfrm rot="903600">
            <a:off x="6340320" y="4521240"/>
            <a:ext cx="2041560" cy="178596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know this holiday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pecial about it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think this holiday 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people all over the world?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1714680"/>
            <a:ext cx="6772320" cy="39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22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Eart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Join us and clean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Make the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a better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Taking care of the Ea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is everybody’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Рисунок 4" descr="Earthday 1.gif"/>
          <p:cNvPicPr/>
          <p:nvPr/>
        </p:nvPicPr>
        <p:blipFill>
          <a:blip r:embed="rId2"/>
          <a:stretch/>
        </p:blipFill>
        <p:spPr>
          <a:xfrm>
            <a:off x="426960" y="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eople began to realize their mistakes.They started to save our world from pollution.I hope that we can do it together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WordArt 4"/>
          <p:cNvSpPr txBox="1"/>
          <p:nvPr/>
        </p:nvSpPr>
        <p:spPr>
          <a:xfrm>
            <a:off x="685800" y="609480"/>
            <a:ext cx="781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eople became cleverer!!!)))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6" name="Picture 7" descr="6341"/>
          <p:cNvPicPr/>
          <p:nvPr/>
        </p:nvPicPr>
        <p:blipFill>
          <a:blip r:embed="rId1"/>
          <a:stretch/>
        </p:blipFill>
        <p:spPr>
          <a:xfrm>
            <a:off x="0" y="4143240"/>
            <a:ext cx="2895480" cy="27147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ANd9GcRzROc0fCY1AYBR7cUFFmaHBb8zkqZnz_T_uj2BCwhrmFcnGky6"/>
          <p:cNvPicPr/>
          <p:nvPr/>
        </p:nvPicPr>
        <p:blipFill>
          <a:blip r:embed="rId2"/>
          <a:stretch/>
        </p:blipFill>
        <p:spPr>
          <a:xfrm>
            <a:off x="6172200" y="411480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9"/>
          <p:cNvSpPr txBox="1"/>
          <p:nvPr/>
        </p:nvSpPr>
        <p:spPr>
          <a:xfrm>
            <a:off x="1752480" y="228600"/>
            <a:ext cx="56959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end)))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9" name="WordArt 10"/>
          <p:cNvSpPr txBox="1"/>
          <p:nvPr/>
        </p:nvSpPr>
        <p:spPr>
          <a:xfrm>
            <a:off x="262080" y="2144880"/>
            <a:ext cx="8619840" cy="25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et`s save the world !!!)))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1"/>
          <p:cNvPicPr/>
          <p:nvPr/>
        </p:nvPicPr>
        <p:blipFill>
          <a:blip r:embed="rId1"/>
          <a:stretch/>
        </p:blipFill>
        <p:spPr>
          <a:xfrm>
            <a:off x="684360" y="836640"/>
            <a:ext cx="7056360" cy="408924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t's go camping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663480" y="5229360"/>
            <a:ext cx="67881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like camping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 my opinion camping is fun ,becaus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o my mind camping is bor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hate camp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3" descr="C:\Users\Евгения\Pictures\MP Navigator EX\2010_10_28\IMG_0003_NEW_0001.jpg"/>
          <p:cNvPicPr/>
          <p:nvPr/>
        </p:nvPicPr>
        <p:blipFill>
          <a:blip r:embed="rId2"/>
          <a:stretch/>
        </p:blipFill>
        <p:spPr>
          <a:xfrm>
            <a:off x="7523280" y="4940280"/>
            <a:ext cx="162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8" descr="компас"/>
          <p:cNvPicPr/>
          <p:nvPr/>
        </p:nvPicPr>
        <p:blipFill>
          <a:blip r:embed="rId1"/>
          <a:stretch/>
        </p:blipFill>
        <p:spPr>
          <a:xfrm>
            <a:off x="6659640" y="1700280"/>
            <a:ext cx="2124000" cy="1746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котелок1"/>
          <p:cNvPicPr/>
          <p:nvPr/>
        </p:nvPicPr>
        <p:blipFill>
          <a:blip r:embed="rId2"/>
          <a:stretch/>
        </p:blipFill>
        <p:spPr>
          <a:xfrm>
            <a:off x="3635280" y="1700280"/>
            <a:ext cx="2881440" cy="1795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палатка"/>
          <p:cNvPicPr/>
          <p:nvPr/>
        </p:nvPicPr>
        <p:blipFill>
          <a:blip r:embed="rId3"/>
          <a:srcRect l="2140" t="11614" r="4269" b="27679"/>
          <a:stretch/>
        </p:blipFill>
        <p:spPr>
          <a:xfrm>
            <a:off x="0" y="1341360"/>
            <a:ext cx="3311640" cy="2000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поход1"/>
          <p:cNvPicPr/>
          <p:nvPr/>
        </p:nvPicPr>
        <p:blipFill>
          <a:blip r:embed="rId4"/>
          <a:stretch/>
        </p:blipFill>
        <p:spPr>
          <a:xfrm>
            <a:off x="0" y="3193920"/>
            <a:ext cx="9144000" cy="3664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26920" y="541800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t is important to have a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755640" y="18900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are going camping. So, what things are important to have for camp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4" name="Picture 4" descr="098b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611280" y="1052640"/>
            <a:ext cx="85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rop                     air                    ecological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tect                 animals              poison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reathe                water                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leave                    li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make                   camp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cut down              fl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ick up                 tr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ury                    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kill                      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ollute                  a f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cycle                 chemic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ay                      atmosp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WordArt 6"/>
          <p:cNvSpPr txBox="1"/>
          <p:nvPr/>
        </p:nvSpPr>
        <p:spPr>
          <a:xfrm>
            <a:off x="1763640" y="26028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tch the Verbs and the Noun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67" name="Picture 7" descr="321222-0710bf9817acbf47"/>
          <p:cNvPicPr/>
          <p:nvPr/>
        </p:nvPicPr>
        <p:blipFill>
          <a:blip r:embed="rId2"/>
          <a:stretch/>
        </p:blipFill>
        <p:spPr>
          <a:xfrm>
            <a:off x="5940360" y="4336920"/>
            <a:ext cx="4392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10" descr="Свалка мусора 2"/>
          <p:cNvPicPr/>
          <p:nvPr/>
        </p:nvPicPr>
        <p:blipFill>
          <a:blip r:embed="rId1"/>
          <a:stretch/>
        </p:blipFill>
        <p:spPr>
          <a:xfrm>
            <a:off x="611280" y="765000"/>
            <a:ext cx="8028000" cy="49420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ahoma"/>
              </a:rPr>
              <a:t>After a long day you are getting to your favourite campsite. You want to stop for the night, but you can't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042920" y="5589720"/>
            <a:ext cx="7731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ahoma"/>
              </a:rPr>
              <a:t>There are plastic bottles, tins, glass and paper everyw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8606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"/>
          <p:cNvPicPr/>
          <p:nvPr/>
        </p:nvPicPr>
        <p:blipFill>
          <a:blip r:embed="rId2"/>
          <a:stretch/>
        </p:blipFill>
        <p:spPr>
          <a:xfrm>
            <a:off x="0" y="3273480"/>
            <a:ext cx="4465800" cy="35845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WordArt 7"/>
          <p:cNvSpPr txBox="1"/>
          <p:nvPr/>
        </p:nvSpPr>
        <p:spPr>
          <a:xfrm>
            <a:off x="1116000" y="2637000"/>
            <a:ext cx="61927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>
                    <a:alpha val="72000"/>
                  </a:srgbClr>
                </a:solidFill>
                <a:latin typeface="Times New Roman"/>
              </a:rPr>
              <a:t>What happened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>
                  <a:alpha val="72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Many people all over the world are worried about the nature and discuss it in different countri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people protect the environment in Engla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you ever heard about Greenpea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Greenpeace d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2" descr="C:\Users\Евгения\Pictures\MP Navigator EX\2010_10_28\IMG_0003_NEW_0002.jpg"/>
          <p:cNvPicPr/>
          <p:nvPr/>
        </p:nvPicPr>
        <p:blipFill>
          <a:blip r:embed="rId1"/>
          <a:stretch/>
        </p:blipFill>
        <p:spPr>
          <a:xfrm>
            <a:off x="0" y="4149720"/>
            <a:ext cx="2441520" cy="19382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C:\Users\Евгения\Pictures\MP Navigator EX\2010_10_28\IMG_0003_NEW_0001.jpg"/>
          <p:cNvPicPr/>
          <p:nvPr/>
        </p:nvPicPr>
        <p:blipFill>
          <a:blip r:embed="rId2"/>
          <a:stretch/>
        </p:blipFill>
        <p:spPr>
          <a:xfrm>
            <a:off x="2843280" y="4149720"/>
            <a:ext cx="1620720" cy="1917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C:\Users\Евгения\Pictures\MP Navigator EX\2010_10_28\IMG_0002.jpg"/>
          <p:cNvPicPr/>
          <p:nvPr/>
        </p:nvPicPr>
        <p:blipFill>
          <a:blip r:embed="rId3"/>
          <a:stretch/>
        </p:blipFill>
        <p:spPr>
          <a:xfrm>
            <a:off x="6588000" y="4292640"/>
            <a:ext cx="2313000" cy="1703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" descr="C:\Users\Евгения\Pictures\MP Navigator EX\2010_10_28\IMG_0003_NEW_0003.jpg"/>
          <p:cNvPicPr/>
          <p:nvPr/>
        </p:nvPicPr>
        <p:blipFill>
          <a:blip r:embed="rId4"/>
          <a:stretch/>
        </p:blipFill>
        <p:spPr>
          <a:xfrm>
            <a:off x="4716360" y="4221000"/>
            <a:ext cx="1576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478620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Are you in charge of the Planet?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42600" y="1071360"/>
            <a:ext cx="79297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Ornithologist Club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уб Юных Орнито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Wildlife Fund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ирный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к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PB – the Roya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Protection of Bird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левское Общество Защиты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Рисунок 3" descr="rspb-11.jpg"/>
          <p:cNvPicPr/>
          <p:nvPr/>
        </p:nvPicPr>
        <p:blipFill>
          <a:blip r:embed="rId1"/>
          <a:stretch/>
        </p:blipFill>
        <p:spPr>
          <a:xfrm>
            <a:off x="642960" y="1428840"/>
            <a:ext cx="2071800" cy="175716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wwf.jpg"/>
          <p:cNvPicPr/>
          <p:nvPr/>
        </p:nvPicPr>
        <p:blipFill>
          <a:blip r:embed="rId2"/>
          <a:stretch/>
        </p:blipFill>
        <p:spPr>
          <a:xfrm>
            <a:off x="6286680" y="135720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585" name="Рисунок 5" descr="rspb.gif"/>
          <p:cNvPicPr/>
          <p:nvPr/>
        </p:nvPicPr>
        <p:blipFill>
          <a:blip r:embed="rId3"/>
          <a:stretch/>
        </p:blipFill>
        <p:spPr>
          <a:xfrm>
            <a:off x="6786720" y="4071960"/>
            <a:ext cx="1874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9:27:31Z</dcterms:created>
  <dc:creator>Super</dc:creator>
  <dc:description/>
  <dc:language>en-US</dc:language>
  <cp:lastModifiedBy>Ксюха</cp:lastModifiedBy>
  <dcterms:modified xsi:type="dcterms:W3CDTF">2016-12-01T18:24:45Z</dcterms:modified>
  <cp:revision>31</cp:revision>
  <dc:subject/>
  <dc:title>Слайд 1</dc:title>
</cp:coreProperties>
</file>