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31.jpeg" ContentType="image/jpeg"/>
  <Override PartName="/ppt/media/image36.jpeg" ContentType="image/jpeg"/>
  <Override PartName="/ppt/media/image9.jpeg" ContentType="image/jpeg"/>
  <Override PartName="/ppt/media/image42.gif" ContentType="image/gif"/>
  <Override PartName="/ppt/media/image44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9.png" ContentType="image/png"/>
  <Override PartName="/ppt/media/image35.gif" ContentType="image/gif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2B07-B7D2-406A-8903-0405D2E52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186B-6F8A-40C1-B1DE-29E031C2FC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A55D-9026-466D-B88D-5720783EBD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731-D8CB-4F64-84B6-B6E33FA3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286-8C1C-486B-8227-DDF398F6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6BA87-97FB-42AF-BB9C-C58128D5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E13A1-BF1C-441F-AFBD-A20519C9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834B1-83CD-4FCC-AAEB-83FA2F83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3A062-3AD3-46CF-A2F1-071FE32D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FDC30-5384-44EB-8295-2FB6D07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923A7-5074-43FD-A120-3C7B9D8B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1F58F-FCE4-4B08-8175-D54F7584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3B13-201B-4F5E-B4F7-0B38271B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43F3C-7101-4FE6-B197-EC8F8584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29632-892E-43C0-8F3A-6C8A98E8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AF5-B075-4B45-8582-CBDD5167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31DB-BFFA-439B-9D09-40FC188C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44DC-C72F-4C96-A995-513FCF0E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41DB-8DBC-4E91-9477-5320C8B6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F6696-5F27-4A8D-96D6-70178288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A8871-BBE3-432D-97DF-2DAD2A76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127A8-AC9A-49D7-B979-92B26F8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A8576-5023-480F-A489-6751D2C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AAF1-A5E4-4176-922F-41944700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8B55-12DF-40A8-81E9-79365CC6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313CE-8ED5-4B17-96E3-595BEB56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E69-91CE-44DA-A33B-18F5AE43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0F98-F3FD-4680-B80B-F8C9B279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4C28-3A9D-4F83-AAA2-4A845F15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33599-0691-4451-A3BF-4DC5E840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FBDA8-BD8D-42FF-B1FF-B8739DEF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FAE2C-5EA0-45D3-901B-0EC665D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A8AC3-6CD1-4EDC-9FEA-3514EAD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E9804-6B12-4A4B-B79F-D7E0A4CF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F23DA-D6F7-461E-B872-47A80970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D23A2-E64D-44A7-893A-B15DB2D2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605A7-0558-4863-8759-0B8BFDCE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808D-5D2A-44A5-AE6C-B5AE07ED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6A218-4654-4BA3-9EA2-AA660533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92552-C202-4F2A-84D3-03A0F054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066D6-D801-4DD4-9816-9CA0B4B9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B8F76-84DF-458E-98CE-7ED1BED5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148A6-EA90-4CD0-BE37-2CAEEDCD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F29A0-6B39-4899-899F-4B37A9AA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41BFE-9184-4F1B-A2E4-5981D22A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29660-F281-4F81-85A4-B6C2CADC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582D5-5BC1-48A6-BE1C-5F12F63A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90B05-B393-47EA-BFF8-64679DFA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ED81-3B33-4E79-B751-DADF98F9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8D203-BDC5-44DF-BB48-4333A098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87A47-6D08-413A-B268-2B3054F6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3CFD1-9936-4BAF-8201-A8D17D71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F1C00-AADA-481B-9D53-4ECC2D7E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A5A9C-F4CC-4F17-838E-C098531B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48707-FCD1-4C64-8FBE-A42D669A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B07DA-3840-48CD-8856-BB106830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EC0A0-0C7E-4245-A49A-C0F6DE28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A184D-FE9F-4B7F-AD02-9054A1FB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D9726-BFB9-4A93-918D-514CD9B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3C71-6DAA-474E-A254-8BA6412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4D40A-5F89-4CEB-A070-DD9214E4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7F426-0848-442C-A233-93272729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D2622-A536-4E83-9BC4-2F53381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B1B1D-3213-4332-B321-3ACC5302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AB662-354E-4331-AC37-3F2888B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592E9-919D-4903-9A42-43783D55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E9D92-8FF2-4D22-B864-2F372F4E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2BDC-35CC-4E83-A4D3-D70382B9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A81B-DF7A-4C30-8B45-DB15749E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9DC0-5110-4CBC-A6EC-7167DAE9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2D20-DE0F-4A65-8EE5-0CC0A7C5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4CA-5806-4DEF-987C-FE9B5ACD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E201-C2E5-4811-BF56-1E7A2E95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9278-6E51-40C1-9843-73F5367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2B6A-C209-459E-BF08-E302D47E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30B-AFBC-4C11-8279-198F48C4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0AC7-EB65-46E8-BF5C-0F155DC3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243-8063-4ABB-A90B-2EC6FA5E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7702-A0DE-4DE9-B5D2-EBFE33C9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32B1-01DD-4D0F-ADB8-A9D94758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96B0-957C-4483-872A-0C9286FC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35F-3050-46A5-93A5-222FA1EA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CEA8-423C-4EA2-9E93-A11DEDE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C007C-3205-4875-A0BA-4C7E362C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85ED-6B4F-48B2-A61E-1B1E10F2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8207-E3F7-4C71-BDBB-92C433A0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911C-CD82-4785-BE74-B94A014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C6F0-DE6A-4A98-AC15-EAFB6D8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2BE2-0098-4019-879B-2606A6A5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1B76D-5D07-4423-8B0F-E85D7A2F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A1BD-EA4A-4943-9F28-093FB394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AF6-4913-476A-BA9A-68A3B8C6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982-B6C0-44E3-AC7E-6332954C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B4C-5592-42D6-BFDC-EE3C6D6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795AF-9E14-4958-A17A-B9800642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54CD5-D732-4509-87BC-8B9BF679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2BEFF-D50D-4D2B-A7B5-2C9D167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0106F-302F-479C-BBF6-37126927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F1C5C-8BC0-419C-8BD8-1226A0D9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593E1-1132-4725-A958-E42EF77A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7D015-DE37-45E8-9DF2-9A98122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24F-D49A-462C-8A4B-FC6629DE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A8A96-6DE5-4E2A-9F9D-02A8FC6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B3B51-44DB-400A-A212-1C91C98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855491-81D8-4304-9AAC-DA4E53C6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B7F3D-B5C3-45FA-869E-DE7655F1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149E4-8208-42D8-9817-BD54EAD8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47B46-2A80-4255-A9FB-C800577F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05CAD-6E5B-42C8-9786-B796771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FCE18-3CD4-41F4-9286-9CE1FE0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9758-7C1F-40DA-A110-E5D7293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DBB9-1EFD-4310-A8E1-2928AA80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095-A9FB-47EA-84BA-2C58153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9609E-9E7F-4960-92B0-278BB985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23B20-C261-4BD0-BBC8-586E925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3ACCA-0615-4BEA-8440-4AD7F06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741E0-E6CE-4DF3-AC71-972A537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C933F-B33D-4568-9AE9-DF86612F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FB72B-3F25-4210-9E37-EE823CCF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BAB0E-4AF1-4C5D-B26A-BC1EA5BB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6EA71-828D-4CFF-826C-58DC6238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2C9E-0F53-4C21-ABD1-D8909DC3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F4592-3132-4AD8-BFF8-2062E2B7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141-841A-48AA-A27F-C9CCA2048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3F9D-778F-41BE-BF9A-79B9B3987A12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E4B6-A386-4952-8D70-F870A1A16812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617F-D402-4EDF-9BAD-9EEE08B6A5D9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92C-CD1B-49A4-AD1B-C9B7E29FF255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1C8E-16DF-42AC-B9FF-3CA597269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C05A-8FFF-44EB-86A2-DCFECE66A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7AB7-9E48-4590-B6A0-63E2D0977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1C1B-1308-48AC-9C6D-7591C821EF7F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422280" y="0"/>
            <a:ext cx="8721720" cy="6858000"/>
          </a:xfrm>
          <a:prstGeom prst="rect">
            <a:avLst/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118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CDE-7EDC-4ABC-9D7C-F20E4EA27960}" type="slidenum"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5.jpe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321222-0710bf9817acbf47"/>
          <p:cNvPicPr/>
          <p:nvPr/>
        </p:nvPicPr>
        <p:blipFill>
          <a:blip r:embed="rId2"/>
          <a:stretch/>
        </p:blipFill>
        <p:spPr>
          <a:xfrm>
            <a:off x="4751280" y="4336920"/>
            <a:ext cx="4392720" cy="2521080"/>
          </a:xfrm>
          <a:prstGeom prst="rect">
            <a:avLst/>
          </a:prstGeom>
          <a:ln w="0">
            <a:noFill/>
          </a:ln>
        </p:spPr>
      </p:pic>
      <p:sp>
        <p:nvSpPr>
          <p:cNvPr id="545" name="WordArt 6"/>
          <p:cNvSpPr txBox="1"/>
          <p:nvPr/>
        </p:nvSpPr>
        <p:spPr>
          <a:xfrm>
            <a:off x="395280" y="404640"/>
            <a:ext cx="8640720" cy="31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Our  Environment.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Lets decide some ecological problem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240000" y="4687920"/>
            <a:ext cx="51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If you don’t think about the future, you will not have it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J. Galsworth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7" name="Picture 8" descr="B_Fly01"/>
          <p:cNvPicPr/>
          <p:nvPr/>
        </p:nvPicPr>
        <p:blipFill>
          <a:blip r:embed="rId3"/>
          <a:stretch/>
        </p:blipFill>
        <p:spPr>
          <a:xfrm>
            <a:off x="7812000" y="0"/>
            <a:ext cx="1050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484000" y="291960"/>
            <a:ext cx="6202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The most serious eс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logical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problems are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484360" y="1267920"/>
            <a:ext cx="6191280" cy="54738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d78745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WATER POL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AIR POL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LAND POL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Picture 4" descr="picturesmall"/>
          <p:cNvPicPr/>
          <p:nvPr/>
        </p:nvPicPr>
        <p:blipFill>
          <a:blip r:embed="rId1"/>
          <a:stretch/>
        </p:blipFill>
        <p:spPr>
          <a:xfrm>
            <a:off x="0" y="189000"/>
            <a:ext cx="2089080" cy="2205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89" name="Picture 5" descr="0901i01"/>
          <p:cNvPicPr/>
          <p:nvPr/>
        </p:nvPicPr>
        <p:blipFill>
          <a:blip r:embed="rId2"/>
          <a:stretch/>
        </p:blipFill>
        <p:spPr>
          <a:xfrm>
            <a:off x="0" y="2708280"/>
            <a:ext cx="2338560" cy="1835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90" name="Picture 6" descr="img2"/>
          <p:cNvPicPr/>
          <p:nvPr/>
        </p:nvPicPr>
        <p:blipFill>
          <a:blip r:embed="rId3"/>
          <a:stretch/>
        </p:blipFill>
        <p:spPr>
          <a:xfrm>
            <a:off x="0" y="4869000"/>
            <a:ext cx="2268360" cy="1989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050560" y="307800"/>
            <a:ext cx="6494760" cy="11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e7ea6"/>
                </a:solidFill>
                <a:latin typeface="Tahoma"/>
              </a:rPr>
              <a:t>Wate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346800" cy="478476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d78745"/>
              </a:gs>
            </a:gsLst>
            <a:lin ang="5400000"/>
          </a:gradFill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Nowadays pollution of water is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a </a:t>
            </a: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very important probl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c600"/>
                </a:solidFill>
                <a:latin typeface="Comic Sans MS"/>
              </a:rPr>
              <a:t>Many rivers, seas, oceans are </a:t>
            </a:r>
            <a:r>
              <a:rPr b="0" lang="en-US" sz="3200" spc="-1" strike="noStrike">
                <a:solidFill>
                  <a:srgbClr val="00c600"/>
                </a:solidFill>
                <a:latin typeface="Comic Sans MS"/>
              </a:rPr>
              <a:t>polluted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Many fish and sea animals ar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lready d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3" name="Picture 4" descr="images432"/>
          <p:cNvPicPr/>
          <p:nvPr/>
        </p:nvPicPr>
        <p:blipFill>
          <a:blip r:embed="rId1"/>
          <a:stretch/>
        </p:blipFill>
        <p:spPr>
          <a:xfrm>
            <a:off x="7020000" y="5589720"/>
            <a:ext cx="1655640" cy="1171440"/>
          </a:xfrm>
          <a:prstGeom prst="rect">
            <a:avLst/>
          </a:prstGeom>
          <a:ln w="38160">
            <a:solidFill>
              <a:srgbClr val="36beee"/>
            </a:solidFill>
            <a:miter/>
          </a:ln>
        </p:spPr>
      </p:pic>
      <p:pic>
        <p:nvPicPr>
          <p:cNvPr id="594" name="Picture 5" descr="tur"/>
          <p:cNvPicPr/>
          <p:nvPr/>
        </p:nvPicPr>
        <p:blipFill>
          <a:blip r:embed="rId2"/>
          <a:stretch/>
        </p:blipFill>
        <p:spPr>
          <a:xfrm>
            <a:off x="7020000" y="115920"/>
            <a:ext cx="1871640" cy="1197000"/>
          </a:xfrm>
          <a:prstGeom prst="rect">
            <a:avLst/>
          </a:prstGeom>
          <a:ln w="38160">
            <a:solidFill>
              <a:srgbClr val="36beee"/>
            </a:solidFill>
            <a:miter/>
          </a:ln>
        </p:spPr>
      </p:pic>
      <p:pic>
        <p:nvPicPr>
          <p:cNvPr id="595" name="Picture 7" descr="img2"/>
          <p:cNvPicPr/>
          <p:nvPr/>
        </p:nvPicPr>
        <p:blipFill>
          <a:blip r:embed="rId3"/>
          <a:stretch/>
        </p:blipFill>
        <p:spPr>
          <a:xfrm>
            <a:off x="108000" y="333360"/>
            <a:ext cx="1728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96" name="Picture 8" descr="images"/>
          <p:cNvPicPr/>
          <p:nvPr/>
        </p:nvPicPr>
        <p:blipFill>
          <a:blip r:embed="rId4"/>
          <a:stretch/>
        </p:blipFill>
        <p:spPr>
          <a:xfrm>
            <a:off x="250920" y="5229360"/>
            <a:ext cx="1584360" cy="1412640"/>
          </a:xfrm>
          <a:prstGeom prst="rect">
            <a:avLst/>
          </a:prstGeom>
          <a:ln w="38160">
            <a:solidFill>
              <a:srgbClr val="36beee"/>
            </a:solidFill>
            <a:miter/>
          </a:ln>
        </p:spPr>
      </p:pic>
      <p:pic>
        <p:nvPicPr>
          <p:cNvPr id="597" name="Picture 9" descr="c_img115"/>
          <p:cNvPicPr/>
          <p:nvPr/>
        </p:nvPicPr>
        <p:blipFill>
          <a:blip r:embed="rId5"/>
          <a:stretch/>
        </p:blipFill>
        <p:spPr>
          <a:xfrm>
            <a:off x="108000" y="333360"/>
            <a:ext cx="1746360" cy="23749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Ai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68000" y="1915920"/>
            <a:ext cx="6201000" cy="460836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d78745"/>
              </a:gs>
            </a:gsLst>
            <a:lin ang="5400000"/>
          </a:gradFill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ome factories pollute the atmosphere with toxins and dangerous chemica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Most of the pollution comes from cars and buses. That’s why it is difficult to breathe in big c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7" descr="005600a"/>
          <p:cNvPicPr/>
          <p:nvPr/>
        </p:nvPicPr>
        <p:blipFill>
          <a:blip r:embed="rId1"/>
          <a:stretch/>
        </p:blipFill>
        <p:spPr>
          <a:xfrm>
            <a:off x="0" y="0"/>
            <a:ext cx="2268360" cy="1873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0003_03_03"/>
          <p:cNvPicPr/>
          <p:nvPr/>
        </p:nvPicPr>
        <p:blipFill>
          <a:blip r:embed="rId2"/>
          <a:stretch/>
        </p:blipFill>
        <p:spPr>
          <a:xfrm>
            <a:off x="0" y="3500280"/>
            <a:ext cx="2141640" cy="30686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602" name="Picture 10" descr="Выхлопные газы"/>
          <p:cNvPicPr/>
          <p:nvPr/>
        </p:nvPicPr>
        <p:blipFill>
          <a:blip r:embed="rId3"/>
          <a:stretch/>
        </p:blipFill>
        <p:spPr>
          <a:xfrm>
            <a:off x="6877080" y="115920"/>
            <a:ext cx="2160720" cy="1749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r13"/>
          <p:cNvPicPr/>
          <p:nvPr/>
        </p:nvPicPr>
        <p:blipFill>
          <a:blip r:embed="rId4"/>
          <a:stretch/>
        </p:blipFill>
        <p:spPr>
          <a:xfrm>
            <a:off x="250920" y="1916280"/>
            <a:ext cx="19447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771640" y="188640"/>
            <a:ext cx="59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Land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050560" y="1267920"/>
            <a:ext cx="6913800" cy="558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d78745"/>
              </a:gs>
            </a:gsLst>
            <a:lin ang="5400000"/>
          </a:gradFill>
          <a:ln w="381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Our land is also pollu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with toxins and chemic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996600"/>
                </a:solidFill>
                <a:latin typeface="Comic Sans MS"/>
              </a:rPr>
              <a:t>There are plastic bottles, tins, glass and paper everyw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6" name="Picture 9" descr="kerbside"/>
          <p:cNvPicPr/>
          <p:nvPr/>
        </p:nvPicPr>
        <p:blipFill>
          <a:blip r:embed="rId1"/>
          <a:stretch/>
        </p:blipFill>
        <p:spPr>
          <a:xfrm>
            <a:off x="108000" y="3860640"/>
            <a:ext cx="1778040" cy="2527560"/>
          </a:xfrm>
          <a:prstGeom prst="rect">
            <a:avLst/>
          </a:prstGeom>
          <a:ln w="38160">
            <a:solidFill>
              <a:srgbClr val="ffdbb7"/>
            </a:solidFill>
            <a:miter/>
          </a:ln>
        </p:spPr>
      </p:pic>
      <p:pic>
        <p:nvPicPr>
          <p:cNvPr id="607" name="Picture 10" descr="Свалка мусора 2"/>
          <p:cNvPicPr/>
          <p:nvPr/>
        </p:nvPicPr>
        <p:blipFill>
          <a:blip r:embed="rId2"/>
          <a:stretch/>
        </p:blipFill>
        <p:spPr>
          <a:xfrm>
            <a:off x="5076720" y="3860640"/>
            <a:ext cx="3794400" cy="28465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1" descr="raing"/>
          <p:cNvPicPr/>
          <p:nvPr/>
        </p:nvPicPr>
        <p:blipFill>
          <a:blip r:embed="rId3"/>
          <a:stretch/>
        </p:blipFill>
        <p:spPr>
          <a:xfrm>
            <a:off x="179280" y="0"/>
            <a:ext cx="2544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Рисунок 2" descr="2010-01-22_12-51-26_5562056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>
            <a:off x="1293480" y="5162400"/>
            <a:ext cx="704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Garamond"/>
              </a:rPr>
              <a:t>Green Rules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179280" y="223920"/>
            <a:ext cx="38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Garamond"/>
              </a:rPr>
              <a:t>If you want the life be cool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Garamond"/>
              </a:rPr>
              <a:t>Like a full of colour pictur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Garamond"/>
              </a:rPr>
              <a:t>Don't forget to wr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Garamond"/>
              </a:rPr>
              <a:t>GREEN R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179280" y="4221000"/>
            <a:ext cx="90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's make Green Rules for saving our nature in our region, our country 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ur plane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Object 1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808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How to Help the Earth.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17" name="Picture 6" descr="ecology1"/>
          <p:cNvPicPr/>
          <p:nvPr/>
        </p:nvPicPr>
        <p:blipFill>
          <a:blip r:embed="rId3"/>
          <a:stretch/>
        </p:blipFill>
        <p:spPr>
          <a:xfrm rot="20927400">
            <a:off x="220680" y="2798640"/>
            <a:ext cx="1843200" cy="244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8" name="Picture 8" descr="ecology2"/>
          <p:cNvPicPr/>
          <p:nvPr/>
        </p:nvPicPr>
        <p:blipFill>
          <a:blip r:embed="rId4"/>
          <a:stretch/>
        </p:blipFill>
        <p:spPr>
          <a:xfrm rot="703200">
            <a:off x="6562440" y="4913280"/>
            <a:ext cx="2431800" cy="1716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9" name="Rectangle 9"/>
          <p:cNvSpPr/>
          <p:nvPr/>
        </p:nvSpPr>
        <p:spPr>
          <a:xfrm>
            <a:off x="357120" y="78552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We will be the enemies of the Earth in futur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if we are not following these rules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428480" y="1785960"/>
            <a:ext cx="771516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HELP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POLLUTE THE AIR, THE WATER, AND THE GROU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BREAK BABY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DISTURB WILD ANIMAL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DRAW OR PAINT ON WAALS OR TREES, PAVE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LEAVE LITTER IN THE STREE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E COUNTRY TI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T RUBBISH IN A RUBBISH B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YOU HIKE, LEAVE THE PLACE CLE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W AND WATER FLOWERS AND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A FRIEND TO THE EART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9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WordArt 2"/>
          <p:cNvSpPr txBox="1"/>
          <p:nvPr/>
        </p:nvSpPr>
        <p:spPr>
          <a:xfrm>
            <a:off x="971640" y="476280"/>
            <a:ext cx="7704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What can we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do to protect the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environment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0" y="2565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 can recycle newspapers, bottles and metal 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 mustn’t cut down tre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ed birds in win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tect wildlife, plants and trees. Keep all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e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n’t use chemicals in the gar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urn off the light when you leave the ro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n’t cut wild flow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y to avoid buying plastic. It’s hard to recyc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tree21"/>
          <p:cNvPicPr/>
          <p:nvPr/>
        </p:nvPicPr>
        <p:blipFill>
          <a:blip r:embed="rId1"/>
          <a:stretch/>
        </p:blipFill>
        <p:spPr>
          <a:xfrm>
            <a:off x="220968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24" name="WordArt 3"/>
          <p:cNvSpPr txBox="1"/>
          <p:nvPr/>
        </p:nvSpPr>
        <p:spPr>
          <a:xfrm>
            <a:off x="2057400" y="45720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Green Tre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HING IS FOREV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1" descr="raing"/>
          <p:cNvPicPr/>
          <p:nvPr/>
        </p:nvPicPr>
        <p:blipFill>
          <a:blip r:embed="rId1"/>
          <a:stretch/>
        </p:blipFill>
        <p:spPr>
          <a:xfrm>
            <a:off x="539640" y="1557360"/>
            <a:ext cx="1676520" cy="18097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WordArt 5"/>
          <p:cNvSpPr txBox="1"/>
          <p:nvPr/>
        </p:nvSpPr>
        <p:spPr>
          <a:xfrm>
            <a:off x="3348000" y="1341360"/>
            <a:ext cx="51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8000">
                    <a:alpha val="51000"/>
                  </a:srgbClr>
                </a:solidFill>
                <a:latin typeface="Impact"/>
              </a:rPr>
              <a:t>NOTHING IS FOREVER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8000">
                  <a:alpha val="51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5752440" y="19321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038840" y="47628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3" name="i-main-pic" descr="Картинка 14 из 64000"/>
          <p:cNvPicPr/>
          <p:nvPr/>
        </p:nvPicPr>
        <p:blipFill>
          <a:blip r:embed="rId2"/>
          <a:stretch/>
        </p:blipFill>
        <p:spPr>
          <a:xfrm>
            <a:off x="0" y="3860640"/>
            <a:ext cx="26719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Рисунок 3" descr="Earth Day.jpg"/>
          <p:cNvPicPr/>
          <p:nvPr/>
        </p:nvPicPr>
        <p:blipFill>
          <a:blip r:embed="rId1"/>
          <a:stretch/>
        </p:blipFill>
        <p:spPr>
          <a:xfrm rot="903600">
            <a:off x="6340320" y="4521240"/>
            <a:ext cx="2041560" cy="178596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know this holiday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pecial about it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think this holiday 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people all over the world?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772320" cy="39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22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Eart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Join us and clean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Make the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a better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Taking care of the Ea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stellar"/>
              </a:rPr>
              <a:t>is everybody’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Рисунок 4" descr="Earthday 1.gif"/>
          <p:cNvPicPr/>
          <p:nvPr/>
        </p:nvPicPr>
        <p:blipFill>
          <a:blip r:embed="rId2"/>
          <a:stretch/>
        </p:blipFill>
        <p:spPr>
          <a:xfrm>
            <a:off x="426960" y="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eople began to realize their mistakes.They started to save our world from pollution.I hope that we can do it together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WordArt 4"/>
          <p:cNvSpPr txBox="1"/>
          <p:nvPr/>
        </p:nvSpPr>
        <p:spPr>
          <a:xfrm>
            <a:off x="685800" y="609480"/>
            <a:ext cx="781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eople became cleverer!!!)))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6" name="Picture 7" descr="6341"/>
          <p:cNvPicPr/>
          <p:nvPr/>
        </p:nvPicPr>
        <p:blipFill>
          <a:blip r:embed="rId1"/>
          <a:stretch/>
        </p:blipFill>
        <p:spPr>
          <a:xfrm>
            <a:off x="0" y="4143240"/>
            <a:ext cx="2895480" cy="27147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ANd9GcRzROc0fCY1AYBR7cUFFmaHBb8zkqZnz_T_uj2BCwhrmFcnGky6"/>
          <p:cNvPicPr/>
          <p:nvPr/>
        </p:nvPicPr>
        <p:blipFill>
          <a:blip r:embed="rId2"/>
          <a:stretch/>
        </p:blipFill>
        <p:spPr>
          <a:xfrm>
            <a:off x="6172200" y="411480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9"/>
          <p:cNvSpPr txBox="1"/>
          <p:nvPr/>
        </p:nvSpPr>
        <p:spPr>
          <a:xfrm>
            <a:off x="1752480" y="228600"/>
            <a:ext cx="56959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end)))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9" name="WordArt 10"/>
          <p:cNvSpPr txBox="1"/>
          <p:nvPr/>
        </p:nvSpPr>
        <p:spPr>
          <a:xfrm>
            <a:off x="262080" y="2144880"/>
            <a:ext cx="8619840" cy="25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et`s save the world !!!)))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1"/>
          <p:cNvPicPr/>
          <p:nvPr/>
        </p:nvPicPr>
        <p:blipFill>
          <a:blip r:embed="rId1"/>
          <a:stretch/>
        </p:blipFill>
        <p:spPr>
          <a:xfrm>
            <a:off x="684360" y="836640"/>
            <a:ext cx="7056360" cy="408924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t's go camping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663480" y="5229360"/>
            <a:ext cx="67881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like camping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 my opinion camping is fun ,becaus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o my mind camping is bo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 hate camp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3" descr="C:\Users\Евгения\Pictures\MP Navigator EX\2010_10_28\IMG_0003_NEW_0001.jpg"/>
          <p:cNvPicPr/>
          <p:nvPr/>
        </p:nvPicPr>
        <p:blipFill>
          <a:blip r:embed="rId2"/>
          <a:stretch/>
        </p:blipFill>
        <p:spPr>
          <a:xfrm>
            <a:off x="7523280" y="4940280"/>
            <a:ext cx="162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8" descr="компас"/>
          <p:cNvPicPr/>
          <p:nvPr/>
        </p:nvPicPr>
        <p:blipFill>
          <a:blip r:embed="rId1"/>
          <a:stretch/>
        </p:blipFill>
        <p:spPr>
          <a:xfrm>
            <a:off x="6659640" y="1700280"/>
            <a:ext cx="2124000" cy="174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котелок1"/>
          <p:cNvPicPr/>
          <p:nvPr/>
        </p:nvPicPr>
        <p:blipFill>
          <a:blip r:embed="rId2"/>
          <a:stretch/>
        </p:blipFill>
        <p:spPr>
          <a:xfrm>
            <a:off x="3635280" y="1700280"/>
            <a:ext cx="2881440" cy="1795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палатка"/>
          <p:cNvPicPr/>
          <p:nvPr/>
        </p:nvPicPr>
        <p:blipFill>
          <a:blip r:embed="rId3"/>
          <a:srcRect l="2140" t="11614" r="4269" b="27679"/>
          <a:stretch/>
        </p:blipFill>
        <p:spPr>
          <a:xfrm>
            <a:off x="0" y="1341360"/>
            <a:ext cx="3311640" cy="2000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поход1"/>
          <p:cNvPicPr/>
          <p:nvPr/>
        </p:nvPicPr>
        <p:blipFill>
          <a:blip r:embed="rId4"/>
          <a:stretch/>
        </p:blipFill>
        <p:spPr>
          <a:xfrm>
            <a:off x="0" y="3193920"/>
            <a:ext cx="9144000" cy="3664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26920" y="5418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t is important to have a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755640" y="18900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are going camping. So, what things are important to have for camp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4" name="Picture 4" descr="098b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611280" y="1052640"/>
            <a:ext cx="85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rop                     air                    ecologica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tect                 animals              poison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reathe                water                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eave                    l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make                   camp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cut down              f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ick up                 t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ury                    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kill                      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ollute                  a f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cycle                 chemic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ay                      atmosp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WordArt 6"/>
          <p:cNvSpPr txBox="1"/>
          <p:nvPr/>
        </p:nvSpPr>
        <p:spPr>
          <a:xfrm>
            <a:off x="1763640" y="26028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tch the Verbs and the Noun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67" name="Picture 7" descr="321222-0710bf9817acbf47"/>
          <p:cNvPicPr/>
          <p:nvPr/>
        </p:nvPicPr>
        <p:blipFill>
          <a:blip r:embed="rId2"/>
          <a:stretch/>
        </p:blipFill>
        <p:spPr>
          <a:xfrm>
            <a:off x="5940360" y="4336920"/>
            <a:ext cx="4392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10" descr="Свалка мусора 2"/>
          <p:cNvPicPr/>
          <p:nvPr/>
        </p:nvPicPr>
        <p:blipFill>
          <a:blip r:embed="rId1"/>
          <a:stretch/>
        </p:blipFill>
        <p:spPr>
          <a:xfrm>
            <a:off x="611280" y="765000"/>
            <a:ext cx="8028000" cy="49420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ahoma"/>
              </a:rPr>
              <a:t>After a long day you are getting to your favourite campsite. You want to stop for the night, but you can'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042920" y="5589720"/>
            <a:ext cx="7731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ahoma"/>
              </a:rPr>
              <a:t>There are plastic bottles, tins, glass and paper everyw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860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"/>
          <p:cNvPicPr/>
          <p:nvPr/>
        </p:nvPicPr>
        <p:blipFill>
          <a:blip r:embed="rId2"/>
          <a:stretch/>
        </p:blipFill>
        <p:spPr>
          <a:xfrm>
            <a:off x="0" y="3273480"/>
            <a:ext cx="4465800" cy="35845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WordArt 7"/>
          <p:cNvSpPr txBox="1"/>
          <p:nvPr/>
        </p:nvSpPr>
        <p:spPr>
          <a:xfrm>
            <a:off x="1116000" y="2637000"/>
            <a:ext cx="61927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>
                    <a:alpha val="72000"/>
                  </a:srgbClr>
                </a:solidFill>
                <a:latin typeface="Times New Roman"/>
              </a:rPr>
              <a:t>What happened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>
                  <a:alpha val="72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Many people all over the world are worried about the nature and discuss it in different countri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people protect the environment in Engl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you ever heard about Greenpea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Greenpeace 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2" descr="C:\Users\Евгения\Pictures\MP Navigator EX\2010_10_28\IMG_0003_NEW_0002.jpg"/>
          <p:cNvPicPr/>
          <p:nvPr/>
        </p:nvPicPr>
        <p:blipFill>
          <a:blip r:embed="rId1"/>
          <a:stretch/>
        </p:blipFill>
        <p:spPr>
          <a:xfrm>
            <a:off x="0" y="4149720"/>
            <a:ext cx="2441520" cy="19382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C:\Users\Евгения\Pictures\MP Navigator EX\2010_10_28\IMG_0003_NEW_0001.jpg"/>
          <p:cNvPicPr/>
          <p:nvPr/>
        </p:nvPicPr>
        <p:blipFill>
          <a:blip r:embed="rId2"/>
          <a:stretch/>
        </p:blipFill>
        <p:spPr>
          <a:xfrm>
            <a:off x="2843280" y="4149720"/>
            <a:ext cx="1620720" cy="1917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C:\Users\Евгения\Pictures\MP Navigator EX\2010_10_28\IMG_0002.jpg"/>
          <p:cNvPicPr/>
          <p:nvPr/>
        </p:nvPicPr>
        <p:blipFill>
          <a:blip r:embed="rId3"/>
          <a:stretch/>
        </p:blipFill>
        <p:spPr>
          <a:xfrm>
            <a:off x="6588000" y="4292640"/>
            <a:ext cx="2313000" cy="1703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C:\Users\Евгения\Pictures\MP Navigator EX\2010_10_28\IMG_0003_NEW_0003.jpg"/>
          <p:cNvPicPr/>
          <p:nvPr/>
        </p:nvPicPr>
        <p:blipFill>
          <a:blip r:embed="rId4"/>
          <a:stretch/>
        </p:blipFill>
        <p:spPr>
          <a:xfrm>
            <a:off x="4716360" y="4221000"/>
            <a:ext cx="1576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478620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Are you in charge of the Planet?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42600" y="1071360"/>
            <a:ext cx="79297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Ornithologist Club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уб Юных Орнито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Wildlife Fun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ирный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к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PB – the Roya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Protection of Bird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левское Общество Защиты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Рисунок 3" descr="rspb-11.jpg"/>
          <p:cNvPicPr/>
          <p:nvPr/>
        </p:nvPicPr>
        <p:blipFill>
          <a:blip r:embed="rId1"/>
          <a:stretch/>
        </p:blipFill>
        <p:spPr>
          <a:xfrm>
            <a:off x="642960" y="1428840"/>
            <a:ext cx="2071800" cy="175716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wwf.jpg"/>
          <p:cNvPicPr/>
          <p:nvPr/>
        </p:nvPicPr>
        <p:blipFill>
          <a:blip r:embed="rId2"/>
          <a:stretch/>
        </p:blipFill>
        <p:spPr>
          <a:xfrm>
            <a:off x="6286680" y="135720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5" descr="rspb.gif"/>
          <p:cNvPicPr/>
          <p:nvPr/>
        </p:nvPicPr>
        <p:blipFill>
          <a:blip r:embed="rId3"/>
          <a:stretch/>
        </p:blipFill>
        <p:spPr>
          <a:xfrm>
            <a:off x="6786720" y="4071960"/>
            <a:ext cx="1874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9:27:31Z</dcterms:created>
  <dc:creator>Super</dc:creator>
  <dc:description/>
  <dc:language>en-US</dc:language>
  <cp:lastModifiedBy>Ксюха</cp:lastModifiedBy>
  <dcterms:modified xsi:type="dcterms:W3CDTF">2016-12-01T18:24:45Z</dcterms:modified>
  <cp:revision>31</cp:revision>
  <dc:subject/>
  <dc:title>Слайд 1</dc:title>
</cp:coreProperties>
</file>