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2BA-BEA0-4152-88CE-154628EC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670-6E63-44CD-AB86-18CBA844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F03-9957-4E60-BD9F-3AAED1BE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783-E409-4EE2-ACA3-E8318986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396F-73D1-498C-8468-1F6EDAE1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5400-A9D1-463B-AC7C-B4AC8B8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5CE5-B51F-4B9A-8317-8ACC65E6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E072-7033-4A59-A668-F63B192E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D85E-BA68-4B02-BF4E-EEFD817F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885A-EA5C-42D9-BC13-E2324CB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B4AC-4500-48A9-8FD3-3B7C7FB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956-4B36-4FF6-952E-014DFD41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7526-68D6-4D23-8782-BCB1781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1ED3-0592-4F91-BA11-DE81C8D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8025-667C-4391-A3FE-646B8297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B48B-2B5C-4903-9BB7-127055DF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251D-AF57-444E-89D4-3C419679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D67-4885-443F-9717-14C14D3B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4FA-23B3-4FD7-AC20-9721508E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0AF-A02E-4B54-854B-689720B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35A-9F7A-452A-AC03-F007EA5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91B-7E16-4F7A-A8E1-EB7BA1F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575-EF65-4C98-9559-571DB3D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562-9802-4B5C-8251-EA905C9C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09BD-89F6-4BD6-AEEA-52E31EA993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3E70-D1F5-4E41-BF2E-B9D6BD4CC3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зентация выполне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ем начальных клас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БОУ Школы №209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рчевой О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ШАЕМ   ЗАДАЧИ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ите задачу в стихах №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адил я пять хорош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лых бусинок-горошин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сточков из зем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лось только т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горошинки взошл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их не проросло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http://illustrators.ru/uploads/illustration/image/322121/main_322121_original.jpg"/>
          <p:cNvPicPr/>
          <p:nvPr/>
        </p:nvPicPr>
        <p:blipFill>
          <a:blip r:embed="rId1"/>
          <a:stretch/>
        </p:blipFill>
        <p:spPr>
          <a:xfrm>
            <a:off x="6012000" y="3357720"/>
            <a:ext cx="29239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ДЕЛИ в ЗАДАЧ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1079640" y="4896000"/>
            <a:ext cx="2869920" cy="11030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2"/>
          <a:stretch/>
        </p:blipFill>
        <p:spPr>
          <a:xfrm>
            <a:off x="1225440" y="3780000"/>
            <a:ext cx="2578320" cy="1096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195560" y="2627280"/>
            <a:ext cx="2633400" cy="1036800"/>
          </a:xfrm>
          <a:prstGeom prst="rect">
            <a:avLst/>
          </a:prstGeom>
          <a:ln w="0">
            <a:noFill/>
          </a:ln>
        </p:spPr>
      </p:pic>
      <p:pic>
        <p:nvPicPr>
          <p:cNvPr id="98" name="Равнобедренный треугольник 6" descr=""/>
          <p:cNvPicPr/>
          <p:nvPr/>
        </p:nvPicPr>
        <p:blipFill>
          <a:blip r:embed="rId4"/>
          <a:stretch/>
        </p:blipFill>
        <p:spPr>
          <a:xfrm>
            <a:off x="1030320" y="1689120"/>
            <a:ext cx="2908440" cy="1066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4427640" y="4960800"/>
            <a:ext cx="3240000" cy="13687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адил я пять хорош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ых бусинок-гороши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росточков из зем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залось только 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горошинки взошл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4427640" y="3789360"/>
            <a:ext cx="324000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лько их не проросло?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4379760" y="2637000"/>
            <a:ext cx="324036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 – 3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4379760" y="1700280"/>
            <a:ext cx="3240360" cy="792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ите задачу в стихах №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ходили на баз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ирали там това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орковки, две петруш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ыква, свёкла, сельдер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будет овощ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https://img-fotki.yandex.ru/get/9354/39663434.903/0_ad459_b27468e1_XL.png"/>
          <p:cNvPicPr/>
          <p:nvPr/>
        </p:nvPicPr>
        <p:blipFill>
          <a:blip r:embed="rId1"/>
          <a:stretch/>
        </p:blipFill>
        <p:spPr>
          <a:xfrm>
            <a:off x="5724360" y="3645000"/>
            <a:ext cx="32324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ДЕЛИ в ЗАДАЧ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444600" y="5145120"/>
            <a:ext cx="363384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3992400"/>
            <a:ext cx="2841480" cy="11034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3"/>
          <a:stretch/>
        </p:blipFill>
        <p:spPr>
          <a:xfrm>
            <a:off x="901800" y="2840040"/>
            <a:ext cx="2841480" cy="1036800"/>
          </a:xfrm>
          <a:prstGeom prst="rect">
            <a:avLst/>
          </a:prstGeom>
          <a:ln w="0">
            <a:noFill/>
          </a:ln>
        </p:spPr>
      </p:pic>
      <p:pic>
        <p:nvPicPr>
          <p:cNvPr id="110" name="Равнобедренный треугольник 6" descr=""/>
          <p:cNvPicPr/>
          <p:nvPr/>
        </p:nvPicPr>
        <p:blipFill>
          <a:blip r:embed="rId4"/>
          <a:stretch/>
        </p:blipFill>
        <p:spPr>
          <a:xfrm>
            <a:off x="596880" y="1689120"/>
            <a:ext cx="3341880" cy="12254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4572000" y="5157720"/>
            <a:ext cx="3456000" cy="1440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ы ходили на база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бирали там това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морковки, две петрушк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ыква, свёкла, сельдер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4572000" y="4005360"/>
            <a:ext cx="345600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будет овоще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4568760" y="2852640"/>
            <a:ext cx="345924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+ 2 + 1 + 1 +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4568760" y="1916280"/>
            <a:ext cx="3459240" cy="792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гадайте закономерность и вставьте в «окошки» числа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>
            <a:off x="4572000" y="1600200"/>
            <a:ext cx="0" cy="4495680"/>
          </a:xfrm>
          <a:prstGeom prst="line">
            <a:avLst/>
          </a:prstGeom>
          <a:ln w="9360">
            <a:solidFill>
              <a:srgbClr val="ff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457200" y="3848040"/>
            <a:ext cx="8229600" cy="0"/>
          </a:xfrm>
          <a:prstGeom prst="line">
            <a:avLst/>
          </a:prstGeom>
          <a:ln w="9360">
            <a:solidFill>
              <a:srgbClr val="ff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http://img-fotki.yandex.ru/get/58191/47407354.4a9/0_b6e94_62d7c7e_orig.png"/>
          <p:cNvPicPr/>
          <p:nvPr/>
        </p:nvPicPr>
        <p:blipFill>
          <a:blip r:embed="rId1"/>
          <a:stretch/>
        </p:blipFill>
        <p:spPr>
          <a:xfrm>
            <a:off x="5651640" y="4016520"/>
            <a:ext cx="2233440" cy="1562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8172360" y="3933720"/>
            <a:ext cx="432000" cy="647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5292720" y="5578560"/>
            <a:ext cx="35892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5796000" y="5578560"/>
            <a:ext cx="36036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6892920" y="5578560"/>
            <a:ext cx="32400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12"/>
          <p:cNvSpPr/>
          <p:nvPr/>
        </p:nvSpPr>
        <p:spPr>
          <a:xfrm>
            <a:off x="7343640" y="5578560"/>
            <a:ext cx="36036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http://img-fotki.yandex.ru/get/4510/47407354.4a6/0_b6e08_d7d53b27_orig.png"/>
          <p:cNvPicPr/>
          <p:nvPr/>
        </p:nvPicPr>
        <p:blipFill>
          <a:blip r:embed="rId2"/>
          <a:stretch/>
        </p:blipFill>
        <p:spPr>
          <a:xfrm>
            <a:off x="1568520" y="1600200"/>
            <a:ext cx="1800000" cy="16495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3"/>
          <p:cNvSpPr/>
          <p:nvPr/>
        </p:nvSpPr>
        <p:spPr>
          <a:xfrm>
            <a:off x="3564000" y="1700280"/>
            <a:ext cx="503280" cy="725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1224000" y="3249720"/>
            <a:ext cx="36036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1658880" y="3249720"/>
            <a:ext cx="36036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16"/>
          <p:cNvSpPr/>
          <p:nvPr/>
        </p:nvSpPr>
        <p:spPr>
          <a:xfrm>
            <a:off x="2468520" y="3249720"/>
            <a:ext cx="37476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2987640" y="3249720"/>
            <a:ext cx="38088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http://img-fotki.yandex.ru/get/4513/47407354.4a9/0_b6ea2_a1dfd96c_orig.png"/>
          <p:cNvPicPr/>
          <p:nvPr/>
        </p:nvPicPr>
        <p:blipFill>
          <a:blip r:embed="rId3"/>
          <a:stretch/>
        </p:blipFill>
        <p:spPr>
          <a:xfrm>
            <a:off x="1362240" y="3925800"/>
            <a:ext cx="2381040" cy="1568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8"/>
          <p:cNvSpPr/>
          <p:nvPr/>
        </p:nvSpPr>
        <p:spPr>
          <a:xfrm>
            <a:off x="3906720" y="4070520"/>
            <a:ext cx="432000" cy="647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19"/>
          <p:cNvSpPr/>
          <p:nvPr/>
        </p:nvSpPr>
        <p:spPr>
          <a:xfrm>
            <a:off x="1155600" y="5578560"/>
            <a:ext cx="41292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20"/>
          <p:cNvSpPr/>
          <p:nvPr/>
        </p:nvSpPr>
        <p:spPr>
          <a:xfrm>
            <a:off x="1658880" y="5578560"/>
            <a:ext cx="36036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21"/>
          <p:cNvSpPr/>
          <p:nvPr/>
        </p:nvSpPr>
        <p:spPr>
          <a:xfrm>
            <a:off x="2655720" y="5445000"/>
            <a:ext cx="331920" cy="505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оугольник 22"/>
          <p:cNvSpPr/>
          <p:nvPr/>
        </p:nvSpPr>
        <p:spPr>
          <a:xfrm>
            <a:off x="3178080" y="5445000"/>
            <a:ext cx="314280" cy="505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9" descr="http://pixelbrush.ru/uploads/posts/2011-10/1317910794_koski_03.jpg"/>
          <p:cNvPicPr/>
          <p:nvPr/>
        </p:nvPicPr>
        <p:blipFill>
          <a:blip r:embed="rId4"/>
          <a:stretch/>
        </p:blipFill>
        <p:spPr>
          <a:xfrm>
            <a:off x="5651640" y="1447920"/>
            <a:ext cx="1855800" cy="2225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3"/>
          <p:cNvSpPr/>
          <p:nvPr/>
        </p:nvSpPr>
        <p:spPr>
          <a:xfrm>
            <a:off x="5472000" y="1700280"/>
            <a:ext cx="505080" cy="57636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Прямоугольник 24"/>
          <p:cNvSpPr/>
          <p:nvPr/>
        </p:nvSpPr>
        <p:spPr>
          <a:xfrm>
            <a:off x="5292720" y="3249720"/>
            <a:ext cx="43164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Прямоугольник 25"/>
          <p:cNvSpPr/>
          <p:nvPr/>
        </p:nvSpPr>
        <p:spPr>
          <a:xfrm>
            <a:off x="5796000" y="3249720"/>
            <a:ext cx="50472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Прямоугольник 26"/>
          <p:cNvSpPr/>
          <p:nvPr/>
        </p:nvSpPr>
        <p:spPr>
          <a:xfrm>
            <a:off x="6892920" y="3249720"/>
            <a:ext cx="44928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Прямоугольник 27"/>
          <p:cNvSpPr/>
          <p:nvPr/>
        </p:nvSpPr>
        <p:spPr>
          <a:xfrm>
            <a:off x="7507440" y="3249720"/>
            <a:ext cx="37764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СЧИТАЙ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     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        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        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        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Стрелка вправо 5"/>
          <p:cNvSpPr/>
          <p:nvPr/>
        </p:nvSpPr>
        <p:spPr>
          <a:xfrm>
            <a:off x="1258920" y="1916280"/>
            <a:ext cx="1009440" cy="45720"/>
          </a:xfrm>
          <a:prstGeom prst="rightArrow">
            <a:avLst>
              <a:gd name="adj1" fmla="val 50000"/>
              <a:gd name="adj2" fmla="val 50086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Стрелка вправо 6"/>
          <p:cNvSpPr/>
          <p:nvPr/>
        </p:nvSpPr>
        <p:spPr>
          <a:xfrm>
            <a:off x="1258920" y="3068640"/>
            <a:ext cx="1009440" cy="46080"/>
          </a:xfrm>
          <a:prstGeom prst="rightArrow">
            <a:avLst>
              <a:gd name="adj1" fmla="val 50000"/>
              <a:gd name="adj2" fmla="val 4969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Стрелка вправо 7"/>
          <p:cNvSpPr/>
          <p:nvPr/>
        </p:nvSpPr>
        <p:spPr>
          <a:xfrm>
            <a:off x="1258920" y="4221000"/>
            <a:ext cx="1009440" cy="46080"/>
          </a:xfrm>
          <a:prstGeom prst="rightArrow">
            <a:avLst>
              <a:gd name="adj1" fmla="val 50000"/>
              <a:gd name="adj2" fmla="val 4969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Стрелка вправо 8"/>
          <p:cNvSpPr/>
          <p:nvPr/>
        </p:nvSpPr>
        <p:spPr>
          <a:xfrm>
            <a:off x="1258920" y="5373720"/>
            <a:ext cx="1009440" cy="46080"/>
          </a:xfrm>
          <a:prstGeom prst="rightArrow">
            <a:avLst>
              <a:gd name="adj1" fmla="val 50000"/>
              <a:gd name="adj2" fmla="val 4969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3780000" y="1700280"/>
            <a:ext cx="647640" cy="1081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5241960" y="2851200"/>
            <a:ext cx="936720" cy="10792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6264360" y="534672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838680" y="3681360"/>
            <a:ext cx="64908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7684920" y="2933640"/>
            <a:ext cx="64800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5351400" y="426708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5529240" y="153504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Прямоугольник 17"/>
          <p:cNvSpPr/>
          <p:nvPr/>
        </p:nvSpPr>
        <p:spPr>
          <a:xfrm>
            <a:off x="7740720" y="515772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18"/>
          <p:cNvSpPr/>
          <p:nvPr/>
        </p:nvSpPr>
        <p:spPr>
          <a:xfrm>
            <a:off x="6588000" y="3390840"/>
            <a:ext cx="64800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Прямоугольник 19"/>
          <p:cNvSpPr/>
          <p:nvPr/>
        </p:nvSpPr>
        <p:spPr>
          <a:xfrm>
            <a:off x="4073400" y="5405400"/>
            <a:ext cx="648000" cy="1081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Прямоугольник 20"/>
          <p:cNvSpPr/>
          <p:nvPr/>
        </p:nvSpPr>
        <p:spPr>
          <a:xfrm>
            <a:off x="7524720" y="1230480"/>
            <a:ext cx="647640" cy="10792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8:40:14Z</dcterms:created>
  <dc:creator>Ольга</dc:creator>
  <dc:description/>
  <dc:language>en-US</dc:language>
  <cp:lastModifiedBy>admin</cp:lastModifiedBy>
  <dcterms:modified xsi:type="dcterms:W3CDTF">2016-10-30T12:24:25Z</dcterms:modified>
  <cp:revision>15</cp:revision>
  <dc:subject/>
  <dc:title>Слайд 1</dc:title>
</cp:coreProperties>
</file>