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341-58F6-489B-9C57-C69F085E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D24-B3D9-4347-BE80-F8AA6E11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7F8-2DD3-431D-9A82-0DD80275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C20-2270-44B7-BFD4-926C82EB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77EA-B9FD-4099-8C09-7B7F433A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40FE-A631-4EFF-AE43-AAA1BE75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1E63-C40A-4606-93E6-0D3DEB83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6B0F-D9FC-44F6-89E8-38E1E2EA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231B-37EC-4B54-BB58-505A6E01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B170-07DF-4683-A76D-F2D6022F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29C2-C098-4C72-9151-FE47949C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E96-570A-44F5-83EA-B254CF8B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BE60-C6F0-49B0-B493-5850E1DC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CC77-53B2-4ACD-9A66-8FD2795B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CCFE-BCBC-4034-AF18-816F296F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26C4-4593-4906-B720-36DA48DF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9FA0-A648-4B83-9AF0-BC91BD0F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3EC-D558-46B6-BEFA-715C7E22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63D-0D5E-43DD-844B-27B7D2E4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9D8-1B8B-4EC0-81E2-1DF9B652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F9C-2D89-4B1B-A39F-8C6A3A48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C4FC-9F23-4820-BC70-81C4FD52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C48E-C8C3-4713-A69D-11439A89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FBD-3440-409B-B0DF-1629200A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7D61-B6CF-4D25-98DA-21DDEE95B7B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5FF9-F95B-4399-90CE-292E8D52C34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зентация выполне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ем начальных класс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БОУ Школы №2098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рчевой О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РЕШАЕМ   ЗАДАЧИ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шите задачу в стихах №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адил я пять хорош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лых бусинок-горошин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росточков из зем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лось только т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и горошинки взошл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их не проросло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" descr="http://illustrators.ru/uploads/illustration/image/322121/main_322121_original.jpg"/>
          <p:cNvPicPr/>
          <p:nvPr/>
        </p:nvPicPr>
        <p:blipFill>
          <a:blip r:embed="rId1"/>
          <a:stretch/>
        </p:blipFill>
        <p:spPr>
          <a:xfrm>
            <a:off x="6012000" y="3357720"/>
            <a:ext cx="292392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ДЕЛИ в ЗАДАЧ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Прямоугольник 3" descr=""/>
          <p:cNvPicPr/>
          <p:nvPr/>
        </p:nvPicPr>
        <p:blipFill>
          <a:blip r:embed="rId1"/>
          <a:stretch/>
        </p:blipFill>
        <p:spPr>
          <a:xfrm>
            <a:off x="1079640" y="4896000"/>
            <a:ext cx="2869920" cy="110304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4" descr=""/>
          <p:cNvPicPr/>
          <p:nvPr/>
        </p:nvPicPr>
        <p:blipFill>
          <a:blip r:embed="rId2"/>
          <a:stretch/>
        </p:blipFill>
        <p:spPr>
          <a:xfrm>
            <a:off x="1225440" y="3780000"/>
            <a:ext cx="2578320" cy="10969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5" descr=""/>
          <p:cNvPicPr/>
          <p:nvPr/>
        </p:nvPicPr>
        <p:blipFill>
          <a:blip r:embed="rId3"/>
          <a:stretch/>
        </p:blipFill>
        <p:spPr>
          <a:xfrm>
            <a:off x="1195560" y="2627280"/>
            <a:ext cx="2633400" cy="1036800"/>
          </a:xfrm>
          <a:prstGeom prst="rect">
            <a:avLst/>
          </a:prstGeom>
          <a:ln w="0">
            <a:noFill/>
          </a:ln>
        </p:spPr>
      </p:pic>
      <p:pic>
        <p:nvPicPr>
          <p:cNvPr id="98" name="Равнобедренный треугольник 6" descr=""/>
          <p:cNvPicPr/>
          <p:nvPr/>
        </p:nvPicPr>
        <p:blipFill>
          <a:blip r:embed="rId4"/>
          <a:stretch/>
        </p:blipFill>
        <p:spPr>
          <a:xfrm>
            <a:off x="1030320" y="1689120"/>
            <a:ext cx="2908440" cy="10666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4427640" y="4960800"/>
            <a:ext cx="3240000" cy="13687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адил я пять хорош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лых бусинок-горошин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росточков из зем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казалось только тр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и горошинки взошл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4427640" y="3789360"/>
            <a:ext cx="3240000" cy="10080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олько их не проросло?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4379760" y="2637000"/>
            <a:ext cx="3240360" cy="10080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5 – 3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10"/>
          <p:cNvSpPr/>
          <p:nvPr/>
        </p:nvSpPr>
        <p:spPr>
          <a:xfrm>
            <a:off x="4379760" y="1700280"/>
            <a:ext cx="3240360" cy="7920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шите задачу в стихах №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 ходили на базар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бирали там това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и морковки, две петрушк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ыква, свёкла, сельдер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будет овощ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https://img-fotki.yandex.ru/get/9354/39663434.903/0_ad459_b27468e1_XL.png"/>
          <p:cNvPicPr/>
          <p:nvPr/>
        </p:nvPicPr>
        <p:blipFill>
          <a:blip r:embed="rId1"/>
          <a:stretch/>
        </p:blipFill>
        <p:spPr>
          <a:xfrm>
            <a:off x="5724360" y="3645000"/>
            <a:ext cx="323244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ДЕЛИ в ЗАДАЧ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Объект 3" descr=""/>
          <p:cNvPicPr/>
          <p:nvPr/>
        </p:nvPicPr>
        <p:blipFill>
          <a:blip r:embed="rId1"/>
          <a:stretch/>
        </p:blipFill>
        <p:spPr>
          <a:xfrm>
            <a:off x="444600" y="5145120"/>
            <a:ext cx="363384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4" descr=""/>
          <p:cNvPicPr/>
          <p:nvPr/>
        </p:nvPicPr>
        <p:blipFill>
          <a:blip r:embed="rId2"/>
          <a:stretch/>
        </p:blipFill>
        <p:spPr>
          <a:xfrm>
            <a:off x="901800" y="3992400"/>
            <a:ext cx="2841480" cy="11034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5" descr=""/>
          <p:cNvPicPr/>
          <p:nvPr/>
        </p:nvPicPr>
        <p:blipFill>
          <a:blip r:embed="rId3"/>
          <a:stretch/>
        </p:blipFill>
        <p:spPr>
          <a:xfrm>
            <a:off x="901800" y="2840040"/>
            <a:ext cx="2841480" cy="1036800"/>
          </a:xfrm>
          <a:prstGeom prst="rect">
            <a:avLst/>
          </a:prstGeom>
          <a:ln w="0">
            <a:noFill/>
          </a:ln>
        </p:spPr>
      </p:pic>
      <p:pic>
        <p:nvPicPr>
          <p:cNvPr id="110" name="Равнобедренный треугольник 6" descr=""/>
          <p:cNvPicPr/>
          <p:nvPr/>
        </p:nvPicPr>
        <p:blipFill>
          <a:blip r:embed="rId4"/>
          <a:stretch/>
        </p:blipFill>
        <p:spPr>
          <a:xfrm>
            <a:off x="596880" y="1689120"/>
            <a:ext cx="3341880" cy="12254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7"/>
          <p:cNvSpPr/>
          <p:nvPr/>
        </p:nvSpPr>
        <p:spPr>
          <a:xfrm>
            <a:off x="4572000" y="5157720"/>
            <a:ext cx="3456000" cy="14400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ы ходили на базар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бирали там товар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и морковки, две петрушк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ыква, свёкла, сельдер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4572000" y="4005360"/>
            <a:ext cx="3456000" cy="10080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олько будет овощей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4568760" y="2852640"/>
            <a:ext cx="3459240" cy="10080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+ 2 + 1 + 1 +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рямоугольник 10"/>
          <p:cNvSpPr/>
          <p:nvPr/>
        </p:nvSpPr>
        <p:spPr>
          <a:xfrm>
            <a:off x="4568760" y="1916280"/>
            <a:ext cx="3459240" cy="7920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згадайте закономерность и вставьте в «окошки» числа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Прямая соединительная линия 4"/>
          <p:cNvSpPr/>
          <p:nvPr/>
        </p:nvSpPr>
        <p:spPr>
          <a:xfrm>
            <a:off x="4572000" y="1600200"/>
            <a:ext cx="0" cy="4495680"/>
          </a:xfrm>
          <a:prstGeom prst="line">
            <a:avLst/>
          </a:prstGeom>
          <a:ln w="9360">
            <a:solidFill>
              <a:srgbClr val="ff2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>
            <a:off x="457200" y="3848040"/>
            <a:ext cx="8229600" cy="0"/>
          </a:xfrm>
          <a:prstGeom prst="line">
            <a:avLst/>
          </a:prstGeom>
          <a:ln w="9360">
            <a:solidFill>
              <a:srgbClr val="ff2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http://img-fotki.yandex.ru/get/58191/47407354.4a9/0_b6e94_62d7c7e_orig.png"/>
          <p:cNvPicPr/>
          <p:nvPr/>
        </p:nvPicPr>
        <p:blipFill>
          <a:blip r:embed="rId1"/>
          <a:stretch/>
        </p:blipFill>
        <p:spPr>
          <a:xfrm>
            <a:off x="5651640" y="4016520"/>
            <a:ext cx="2233440" cy="15620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8172360" y="3933720"/>
            <a:ext cx="432000" cy="647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5292720" y="5578560"/>
            <a:ext cx="358920" cy="5173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5796000" y="5578560"/>
            <a:ext cx="360360" cy="5173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6892920" y="5578560"/>
            <a:ext cx="324000" cy="5173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Прямоугольник 12"/>
          <p:cNvSpPr/>
          <p:nvPr/>
        </p:nvSpPr>
        <p:spPr>
          <a:xfrm>
            <a:off x="7343640" y="5578560"/>
            <a:ext cx="360360" cy="5173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http://img-fotki.yandex.ru/get/4510/47407354.4a6/0_b6e08_d7d53b27_orig.png"/>
          <p:cNvPicPr/>
          <p:nvPr/>
        </p:nvPicPr>
        <p:blipFill>
          <a:blip r:embed="rId2"/>
          <a:stretch/>
        </p:blipFill>
        <p:spPr>
          <a:xfrm>
            <a:off x="1568520" y="1600200"/>
            <a:ext cx="1800000" cy="16495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13"/>
          <p:cNvSpPr/>
          <p:nvPr/>
        </p:nvSpPr>
        <p:spPr>
          <a:xfrm>
            <a:off x="3564000" y="1700280"/>
            <a:ext cx="503280" cy="72540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Прямоугольник 14"/>
          <p:cNvSpPr/>
          <p:nvPr/>
        </p:nvSpPr>
        <p:spPr>
          <a:xfrm>
            <a:off x="1224000" y="3249720"/>
            <a:ext cx="360360" cy="53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оугольник 15"/>
          <p:cNvSpPr/>
          <p:nvPr/>
        </p:nvSpPr>
        <p:spPr>
          <a:xfrm>
            <a:off x="1658880" y="3249720"/>
            <a:ext cx="360360" cy="53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16"/>
          <p:cNvSpPr/>
          <p:nvPr/>
        </p:nvSpPr>
        <p:spPr>
          <a:xfrm>
            <a:off x="2468520" y="3249720"/>
            <a:ext cx="374760" cy="53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Прямоугольник 17"/>
          <p:cNvSpPr/>
          <p:nvPr/>
        </p:nvSpPr>
        <p:spPr>
          <a:xfrm>
            <a:off x="2987640" y="3249720"/>
            <a:ext cx="380880" cy="53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9" descr="http://img-fotki.yandex.ru/get/4513/47407354.4a9/0_b6ea2_a1dfd96c_orig.png"/>
          <p:cNvPicPr/>
          <p:nvPr/>
        </p:nvPicPr>
        <p:blipFill>
          <a:blip r:embed="rId3"/>
          <a:stretch/>
        </p:blipFill>
        <p:spPr>
          <a:xfrm>
            <a:off x="1362240" y="3925800"/>
            <a:ext cx="2381040" cy="15685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8"/>
          <p:cNvSpPr/>
          <p:nvPr/>
        </p:nvSpPr>
        <p:spPr>
          <a:xfrm>
            <a:off x="3906720" y="4070520"/>
            <a:ext cx="432000" cy="647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Прямоугольник 19"/>
          <p:cNvSpPr/>
          <p:nvPr/>
        </p:nvSpPr>
        <p:spPr>
          <a:xfrm>
            <a:off x="1155600" y="5578560"/>
            <a:ext cx="412920" cy="5173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Прямоугольник 20"/>
          <p:cNvSpPr/>
          <p:nvPr/>
        </p:nvSpPr>
        <p:spPr>
          <a:xfrm>
            <a:off x="1658880" y="5578560"/>
            <a:ext cx="360360" cy="5173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оугольник 21"/>
          <p:cNvSpPr/>
          <p:nvPr/>
        </p:nvSpPr>
        <p:spPr>
          <a:xfrm>
            <a:off x="2655720" y="5445000"/>
            <a:ext cx="331920" cy="50508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оугольник 22"/>
          <p:cNvSpPr/>
          <p:nvPr/>
        </p:nvSpPr>
        <p:spPr>
          <a:xfrm>
            <a:off x="3178080" y="5445000"/>
            <a:ext cx="314280" cy="50508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9" descr="http://pixelbrush.ru/uploads/posts/2011-10/1317910794_koski_03.jpg"/>
          <p:cNvPicPr/>
          <p:nvPr/>
        </p:nvPicPr>
        <p:blipFill>
          <a:blip r:embed="rId4"/>
          <a:stretch/>
        </p:blipFill>
        <p:spPr>
          <a:xfrm>
            <a:off x="5651640" y="1447920"/>
            <a:ext cx="1855800" cy="222552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23"/>
          <p:cNvSpPr/>
          <p:nvPr/>
        </p:nvSpPr>
        <p:spPr>
          <a:xfrm>
            <a:off x="5472000" y="1700280"/>
            <a:ext cx="505080" cy="57636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Прямоугольник 24"/>
          <p:cNvSpPr/>
          <p:nvPr/>
        </p:nvSpPr>
        <p:spPr>
          <a:xfrm>
            <a:off x="5292720" y="3249720"/>
            <a:ext cx="431640" cy="53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Прямоугольник 25"/>
          <p:cNvSpPr/>
          <p:nvPr/>
        </p:nvSpPr>
        <p:spPr>
          <a:xfrm>
            <a:off x="5796000" y="3249720"/>
            <a:ext cx="504720" cy="53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Прямоугольник 26"/>
          <p:cNvSpPr/>
          <p:nvPr/>
        </p:nvSpPr>
        <p:spPr>
          <a:xfrm>
            <a:off x="6892920" y="3249720"/>
            <a:ext cx="449280" cy="53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Прямоугольник 27"/>
          <p:cNvSpPr/>
          <p:nvPr/>
        </p:nvSpPr>
        <p:spPr>
          <a:xfrm>
            <a:off x="7507440" y="3249720"/>
            <a:ext cx="377640" cy="53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СЧИТАЙ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        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        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         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         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Стрелка вправо 5"/>
          <p:cNvSpPr/>
          <p:nvPr/>
        </p:nvSpPr>
        <p:spPr>
          <a:xfrm>
            <a:off x="1258920" y="1916280"/>
            <a:ext cx="1009440" cy="45720"/>
          </a:xfrm>
          <a:prstGeom prst="rightArrow">
            <a:avLst>
              <a:gd name="adj1" fmla="val 50000"/>
              <a:gd name="adj2" fmla="val 50086"/>
            </a:avLst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Стрелка вправо 6"/>
          <p:cNvSpPr/>
          <p:nvPr/>
        </p:nvSpPr>
        <p:spPr>
          <a:xfrm>
            <a:off x="1258920" y="3068640"/>
            <a:ext cx="1009440" cy="46080"/>
          </a:xfrm>
          <a:prstGeom prst="rightArrow">
            <a:avLst>
              <a:gd name="adj1" fmla="val 50000"/>
              <a:gd name="adj2" fmla="val 49695"/>
            </a:avLst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Стрелка вправо 7"/>
          <p:cNvSpPr/>
          <p:nvPr/>
        </p:nvSpPr>
        <p:spPr>
          <a:xfrm>
            <a:off x="1258920" y="4221000"/>
            <a:ext cx="1009440" cy="46080"/>
          </a:xfrm>
          <a:prstGeom prst="rightArrow">
            <a:avLst>
              <a:gd name="adj1" fmla="val 50000"/>
              <a:gd name="adj2" fmla="val 49695"/>
            </a:avLst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Стрелка вправо 8"/>
          <p:cNvSpPr/>
          <p:nvPr/>
        </p:nvSpPr>
        <p:spPr>
          <a:xfrm>
            <a:off x="1258920" y="5373720"/>
            <a:ext cx="1009440" cy="46080"/>
          </a:xfrm>
          <a:prstGeom prst="rightArrow">
            <a:avLst>
              <a:gd name="adj1" fmla="val 50000"/>
              <a:gd name="adj2" fmla="val 49695"/>
            </a:avLst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Прямоугольник 9"/>
          <p:cNvSpPr/>
          <p:nvPr/>
        </p:nvSpPr>
        <p:spPr>
          <a:xfrm>
            <a:off x="3780000" y="1700280"/>
            <a:ext cx="647640" cy="108108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Прямоугольник 10"/>
          <p:cNvSpPr/>
          <p:nvPr/>
        </p:nvSpPr>
        <p:spPr>
          <a:xfrm>
            <a:off x="5241960" y="2851200"/>
            <a:ext cx="936720" cy="107928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Прямоугольник 12"/>
          <p:cNvSpPr/>
          <p:nvPr/>
        </p:nvSpPr>
        <p:spPr>
          <a:xfrm>
            <a:off x="6264360" y="5346720"/>
            <a:ext cx="647640" cy="107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3838680" y="3681360"/>
            <a:ext cx="649080" cy="107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Прямоугольник 14"/>
          <p:cNvSpPr/>
          <p:nvPr/>
        </p:nvSpPr>
        <p:spPr>
          <a:xfrm>
            <a:off x="7684920" y="2933640"/>
            <a:ext cx="648000" cy="107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Прямоугольник 15"/>
          <p:cNvSpPr/>
          <p:nvPr/>
        </p:nvSpPr>
        <p:spPr>
          <a:xfrm>
            <a:off x="5351400" y="4267080"/>
            <a:ext cx="647640" cy="107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Прямоугольник 16"/>
          <p:cNvSpPr/>
          <p:nvPr/>
        </p:nvSpPr>
        <p:spPr>
          <a:xfrm>
            <a:off x="5529240" y="1535040"/>
            <a:ext cx="647640" cy="107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Прямоугольник 17"/>
          <p:cNvSpPr/>
          <p:nvPr/>
        </p:nvSpPr>
        <p:spPr>
          <a:xfrm>
            <a:off x="7740720" y="5157720"/>
            <a:ext cx="647640" cy="107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Прямоугольник 18"/>
          <p:cNvSpPr/>
          <p:nvPr/>
        </p:nvSpPr>
        <p:spPr>
          <a:xfrm>
            <a:off x="6588000" y="3390840"/>
            <a:ext cx="648000" cy="107964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Прямоугольник 19"/>
          <p:cNvSpPr/>
          <p:nvPr/>
        </p:nvSpPr>
        <p:spPr>
          <a:xfrm>
            <a:off x="4073400" y="5405400"/>
            <a:ext cx="648000" cy="108108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Прямоугольник 20"/>
          <p:cNvSpPr/>
          <p:nvPr/>
        </p:nvSpPr>
        <p:spPr>
          <a:xfrm>
            <a:off x="7524720" y="1230480"/>
            <a:ext cx="647640" cy="107928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8T08:40:14Z</dcterms:created>
  <dc:creator>Ольга</dc:creator>
  <dc:description/>
  <dc:language>en-US</dc:language>
  <cp:lastModifiedBy>admin</cp:lastModifiedBy>
  <dcterms:modified xsi:type="dcterms:W3CDTF">2016-10-30T12:24:25Z</dcterms:modified>
  <cp:revision>15</cp:revision>
  <dc:subject/>
  <dc:title>Слайд 1</dc:title>
</cp:coreProperties>
</file>