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AC2-2875-4947-AF33-28A6CE76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D3B-E12C-4563-8ACF-B3CF7780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0DE-F273-4660-AB05-AF38358E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608-1838-4B13-B67B-2F942144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C7B-31C2-4295-8A65-96CBDE07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CD6-C8D0-42CB-B883-4DED37BE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476-C5F0-4694-A947-976CF127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345-ACBB-401A-BA88-3F29E605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019-6634-4E09-B69E-0F86B8F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0EA-44E2-4121-8E5B-3649C348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1F1-C93E-4BFD-8B5D-D5929F5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EC8-1046-4E8F-92C9-994E14E3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D6F4-B06C-4DC8-AFF3-D2AEDFBDED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0253f"/>
                </a:solidFill>
                <a:latin typeface="Calibri"/>
              </a:rPr>
              <a:t>Управление образования администрации г. Лесосибирска</a:t>
            </a:r>
            <a:br>
              <a:rPr sz="2000"/>
            </a:b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Школа резерва управленческих кадров в системе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ариативный модуль по тем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«Внедрение изменений. Виды изменений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Барловская Юлия Валер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МАДОУ «Детский сад №4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«Журавуш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Должность: 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Лесосибирск -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259920"/>
            <a:ext cx="8291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Изменение - поправка, перемена, изменяющая что-нибудь прежне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(толк. словар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Изменение – это основа жизни, способ существования материи и ду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0253f"/>
                </a:solidFill>
                <a:latin typeface="Calibri"/>
              </a:rPr>
              <a:t>Бурные изменения на рынке требуют, чтобы мы видоизменяли жизнь каждого человека. Мы должны научиться – каждый по отдельности и организации в целом – приветствовать изменения и инновации так же активно, как сопротивлялись им в прошлом. (Том Петер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1128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Изменения в российской образовательной системе задаются встречными поток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1. Сверху – вниз: изменения, инициированные государств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Провозглашение образования приоритетной обла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Установление ФГО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Изменения в Федеральном законе «О высшем и послевузовском профессиональном образован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Введение уровневого высшего профессиональ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2. Снизу – вверх: изменения, инициированные или стихийно возникающие в среде «исполнителей», т.е. среди субъектов образовательных систем и процессов разных уровней и направл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Педагогические, воспитательные, образовательные иннов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Оптимизация структур образовательных учрежд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Изменения норм и ценностей обучающихся и обучаем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рганизационные изме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328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Организационные изменения – это формирование нового организационного устройства, адекватного характеру изменений внешней среды. Они сопровождаются сломом привычных и разделяемых сотрудниками ценностей, норм и шаблонов действия, а также традиционных способов принятия решений, которые становятся препятствием в адаптации организации к темпу и направлениям изменений внутри образовательной системы страны и изменениям в социальном поведении субъектов систем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Основные виды организационных изме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765000"/>
          <a:ext cx="8229600" cy="6174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именование 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Содержание организационных изме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1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Текущие (Обычные измен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ущественные изменения, касающиеся отдельных аспектов функционирования организации. Найм, перемещение и увольнение персонала. Перераспределение полномочий в связи с отпусками, командировками, учебой и болезнью сотрудников. Создание рабочих групп (команд) для совершенствования профильной деятельности и выполнения специальных прое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930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Умеренные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организация отдельных направлений деятельности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494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Радикальные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ход в социум. Пересмотр (коррекция) принципов организационной культуры. Платные образовательные услу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Стадии организационных измен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«Разморозка» ( подготовка организации к переменам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«Изменение» (осуществление конкретных действий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«Заморозка» (закрепление и стабилизация нововведений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Выво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Чтобы изменения в организации произошли необходимо, чтоб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отрудники организации понимали, зачем проводятся изменения в организации, какие выгоды они и организация получат от этих измен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зменения должны разработать сами сотрудники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уководитель организации должен иметь активное желание провести изменения в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уководитель организации должен участвовать в мероприятиях, снижающих сопротивление персонала изменениям</a:t>
            </a: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уководитель должен участвовать в разработке и реализации изме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User</cp:lastModifiedBy>
  <dcterms:modified xsi:type="dcterms:W3CDTF">2017-06-03T14:09:59Z</dcterms:modified>
  <cp:revision>18</cp:revision>
  <dc:subject/>
  <dc:title>Презентация PowerPoint</dc:title>
</cp:coreProperties>
</file>