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621-9C0D-45CF-9708-46B75144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57F-23FF-4822-988E-A1DDE712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410-3E68-4910-977B-81FDC8E6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7DA-D53B-4F8E-BEE0-071F0EDB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20B-B3B5-4F15-B162-B6F5191E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E35-5533-4B60-A2FF-555B258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0F7-7125-4D69-8D0F-75A23279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856-9F07-4B4A-BF92-D1BD0C5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11D-B43F-48FF-9151-A28E4C0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76C-72B5-404C-9D16-4E1BDA7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CD2-9063-427E-8B13-23B5E010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62D-1690-407B-98DD-0253D55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C14-E995-44F5-8CB5-FC00663C6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0253f"/>
                </a:solidFill>
                <a:latin typeface="Calibri"/>
              </a:rPr>
              <a:t>Управление образования администрации г. Лесосибирска</a:t>
            </a:r>
            <a:br>
              <a:rPr sz="2000"/>
            </a:b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Школа резерва управленческих кадров в системе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ариативный модуль по тем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«Внедрение изменений. Виды изменений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Барловская Юлия Валер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МАДОУ «Детский сад №4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«Журавуш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Должность: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Лесосибирск -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259920"/>
            <a:ext cx="8291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зменение - поправка, перемена, изменяющая что-нибудь прежне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(толк. словар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зменение – это основа жизни, способ существования материи и 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0253f"/>
                </a:solidFill>
                <a:latin typeface="Calibri"/>
              </a:rPr>
              <a:t>Бурные изменения на рынке требуют, чтобы мы видоизменяли жизнь каждого человека. Мы должны научиться – каждый по отдельности и организации в целом – приветствовать изменения и инновации так же активно, как сопротивлялись им в прошлом. (Том Петер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1128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зменения в российской образовательной системе задаются встречными поток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1. Сверху – вниз: изменения, инициированные государств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ровозглашение образования приоритетной обла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Установление ФГО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Изменения в Федеральном законе «О высшем и послевузовском профессиональном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Введение уровневого высшего профессиональ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2. Снизу – вверх: изменения, инициированные или стихийно возникающие в среде «исполнителей», т.е. среди субъектов образовательных систем и процессов разных уровней и направ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едагогические, воспитательные, образовательные иннов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птимизация структур образовательных учрежд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Изменения норм и ценностей обучающихся и обучаем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рганизационные изме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328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Организационные изменения – это формирование нового организационного устройства, адекватного характеру изменений внешней среды. Они сопровождаются сломом привычных и разделяемых сотрудниками ценностей, норм и шаблонов действия, а также традиционных способов принятия решений, которые становятся препятствием в адаптации организации к темпу и направлениям изменений внутри образовательной системы страны и изменениям в социальном поведении субъектов систе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Основные виды организационных изме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765000"/>
          <a:ext cx="8229600" cy="617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именование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одержание организационных изме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1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Текущие (Обычные измен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ущественные изменения, касающиеся отдельных аспектов функционирования организации. Найм, перемещение и увольнение персонала. Перераспределение полномочий в связи с отпусками, командировками, учебой и болезнью сотрудников. Создание рабочих групп (команд) для совершенствования профильной деятельности и выполнения специальных прое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930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Умеренные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организация отдельных направлений деятельности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494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Радикальные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в социум. Пересмотр (коррекция) принципов организационной культуры. Платные образовательные услу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Стадии организационных измен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«Разморозка» ( подготовка организации к переменам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«Изменение» (осуществление конкретных действий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«Заморозка» (закрепление и стабилизация нововведени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Выво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Чтобы изменения в организации произошли необходимо, чтоб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отрудники организации понимали, зачем проводятся изменения в организации, какие выгоды они и организация получат от этих изме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зменения должны разработать сами сотрудники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ководитель организации должен иметь активное желание провести изменения в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ководитель организации должен участвовать в мероприятиях, снижающих сопротивление персонала изменениям</a:t>
            </a: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ководитель должен участвовать в разработке и реализации изме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User</cp:lastModifiedBy>
  <dcterms:modified xsi:type="dcterms:W3CDTF">2017-06-03T14:09:59Z</dcterms:modified>
  <cp:revision>18</cp:revision>
  <dc:subject/>
  <dc:title>Презентация PowerPoint</dc:title>
</cp:coreProperties>
</file>