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5.png" ContentType="image/png"/>
  <Override PartName="/ppt/media/image29.jpeg" ContentType="image/jpeg"/>
  <Override PartName="/ppt/media/image30.png" ContentType="image/png"/>
  <Override PartName="/ppt/media/image10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6.png" ContentType="image/png"/>
  <Override PartName="/ppt/media/image11.png" ContentType="image/png"/>
  <Override PartName="/ppt/media/image23.png" ContentType="image/png"/>
  <Override PartName="/ppt/media/image13.jpeg" ContentType="image/jpeg"/>
  <Override PartName="/ppt/media/image4.jpeg" ContentType="image/jpeg"/>
  <Override PartName="/ppt/media/image25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8.png" ContentType="image/png"/>
  <Override PartName="/ppt/media/image28.jpeg" ContentType="image/jpeg"/>
  <Override PartName="/ppt/media/image20.png" ContentType="image/png"/>
  <Override PartName="/ppt/media/image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12CD-4AFA-4FA9-ABA0-059FA7BB2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735E-2155-4130-9950-81C7E726B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5B5E-007F-4E20-A873-C5ABB189E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EA3A-8B39-4438-AE6A-B4394A829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9C966-7EC3-49D7-85E9-4462AC3D6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13F00-800B-4A3F-8710-7D376E4B1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F9C43-96AE-4BD1-9EC9-DA970D072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10CE1-B8C8-4E7F-AAFE-1FE1DB5F6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8E118-546C-45E6-B4C1-66CA96137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E4C4D-28C7-43FB-A49E-572BE4C91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5E43F-3E14-414B-8A7A-8B55C891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B276-5A59-4528-8D67-D91633E68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57005-3AC8-4606-B2F9-CD3CB8D3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83325-A4A1-4E03-96A3-8198A79DE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D2594-5256-4315-9B06-26934B230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1549F-8258-48FC-B684-8A5267464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97CEC-1B72-4A07-80E9-6972154F1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8F53F-3ED0-4F78-BC01-F821D7720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C802F-AE0E-46F9-A158-1437A32E3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0F46E-E4EA-49AD-888D-5996B1B86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90338-95DF-4886-9A2C-93B23AA98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225FA-76EC-477F-A1D9-1E787FFF0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286C-7EC5-4C93-B326-A17C88C78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46AD2-AC76-4556-9333-EF88C8CA4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251B7-3997-463F-8695-6E527A6D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C784B-2152-4468-A79B-65D6959BD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FBE3D-E638-492B-B0D9-ECD5367AF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FEF1B-B580-47D9-ABA3-075E42B86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7F8CC-5E1E-4AEA-93CE-4F2133D31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22B1D-38A1-4ACB-980A-E957CCC04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59F15-3316-4284-83A5-D0ECAD4AC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18CD6-3994-4C55-972C-333666C6E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C5299-C39E-4E16-8210-8E4A6058D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4F92-BE7F-4470-85D0-6642FC0D8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E8A3C-8E89-4BDE-B4E0-1274ABA73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09B8B-F795-4A25-8E4E-E8EE5042E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D1EF5-2A5F-4D08-AA38-DC36AD3BF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93187-C38D-47FB-8DAD-6CCE46E6C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A6D94-8F1E-4A92-9D61-9DB3A4BF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682EC-48A2-431B-BD12-702EE567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5F4D5-5931-4D15-8767-03E6B8C79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02807-70DE-415E-A1F7-7F087097A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7B481-5281-4127-8388-70EC910F1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6548D0-A8EE-4F73-A3EF-9641295D5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9544-C640-4D30-A68F-5A375B5C3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339221-36F0-45C0-B3F2-723216D69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DD759-4EA0-496B-A964-03151B835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8A3E8B-27AE-4CC8-A26C-E94626D7B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F9C718-5288-44D4-9A03-5B2AA08BF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EA5CB4-2BA7-47C4-A750-9778AD953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4BA89-A5EB-4426-BD12-D28BE203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565060-A6F4-4F5F-B12E-ABB3DA25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AFEA56-AD60-4AF3-BCA0-4840F580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D705A-9656-40E3-A6F5-30F62E2A0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6323D2-E43A-4DFB-9E5D-FC14A2D68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8E3D-D884-49C2-9F21-9593D3373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3C149A-B736-4DCD-80C7-09C6651F3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385E-4A92-45B4-B9FB-46A2A22D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DAE4-72B9-48CD-9AF6-F8BBBCB1D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D159-D329-42B4-BBC4-4FF17BDC4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05FD5-5CBA-4DB4-A088-6A8C4622B815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EE905-BB39-4953-9407-C13C5C3E2BF5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DA5F8-A34D-4E32-A54F-9826E1418B3E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15070-712C-4C9B-A109-C922154EBD08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3D2F0-52AC-4EC0-AF40-91A6A064088A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hyperlink" Target="https://ru.wikipedia.org/wiki/&#1058;&#1077;&#1086;&#1088;&#1080;&#1103;_&#1084;&#1091;&#1079;&#1099;&#1082;&#1080;" TargetMode="External"/><Relationship Id="rId3" Type="http://schemas.openxmlformats.org/officeDocument/2006/relationships/hyperlink" Target="https://ru.wikipedia.org/wiki/&#1058;&#1077;&#1086;&#1088;&#1080;&#1103;_&#1084;&#1091;&#1079;&#1099;&#1082;&#1080;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414360" y="334800"/>
            <a:ext cx="8480520" cy="22496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2050560" y="4508640"/>
            <a:ext cx="6905880" cy="234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2060"/>
                </a:solidFill>
                <a:latin typeface="Trebuchet MS"/>
              </a:rPr>
              <a:t>ВЫПОЛНИЛА</a:t>
            </a:r>
            <a:r>
              <a:rPr b="0" lang="ru-RU" sz="2300" spc="-1" strike="noStrike">
                <a:solidFill>
                  <a:srgbClr val="002060"/>
                </a:solidFill>
                <a:latin typeface="Trebuchet MS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rebuchet MS"/>
              </a:rPr>
              <a:t>ДУХНОВА КРИСТИНА АНДРЕЕВН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rebuchet MS"/>
              </a:rPr>
              <a:t>10 КЛАСС, ЧОУ СОШ №1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rebuchet MS"/>
              </a:rPr>
              <a:t>ДИНСКОГО РАЙОНА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2060"/>
                </a:solidFill>
                <a:latin typeface="Trebuchet MS"/>
              </a:rPr>
              <a:t>НАУЧНЫЙ РУКОВОДИТЕЛЬ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33e"/>
                </a:solidFill>
                <a:latin typeface="Trebuchet MS"/>
              </a:rPr>
              <a:t>ГРАНКОВА ЕВГЕНИЯ АЛЕКСАНДРОВН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2"/>
          <a:stretch/>
        </p:blipFill>
        <p:spPr>
          <a:xfrm>
            <a:off x="1714680" y="2328840"/>
            <a:ext cx="571500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Rectangle 2" descr=""/>
          <p:cNvPicPr/>
          <p:nvPr/>
        </p:nvPicPr>
        <p:blipFill>
          <a:blip r:embed="rId1"/>
          <a:stretch/>
        </p:blipFill>
        <p:spPr>
          <a:xfrm>
            <a:off x="-171360" y="-49320"/>
            <a:ext cx="9315360" cy="117648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ифагор заметил, что отношение частот двух соседних нот всегда отличается, а отношение частот двух нот, отстоящих друг от дружки на четыре позиции, наоборот, всегда постоянно и составляет 3/2. Такое созвучие теперь называют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квинтой.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Взяв квинту за основу, Пифагор вывел музыкальную формулу, которая позволяет на основе частоты базовой ноты, от которой ведется отсчет, и порядкового номера заданной ноты получить искомое значение частоты следующей ноты. В результате последовательного применения формулы получаются звуки, отстоящие друг от друга на квинту. В этом ряду есть все ноты звукоряда. И хотя они относятся к разным октавам, но, поделив или умножив частоту нужного звука на два, можно перенести его в соседнюю октаву. Повторяя операцию деления (или умножения) несколько раз, можно заполнить весь диапазон инструмента. Роль математики в этой музыкальной истории очевидна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390600" y="324000"/>
            <a:ext cx="7308720" cy="113976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468360" y="1125360"/>
            <a:ext cx="82296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4e7ed"/>
                </a:solidFill>
                <a:latin typeface="Arial"/>
                <a:ea typeface="Arial"/>
              </a:rPr>
              <a:t>	</a:t>
            </a:r>
            <a:r>
              <a:rPr b="0" lang="ru-RU" sz="1900" spc="-1" strike="noStrike">
                <a:solidFill>
                  <a:srgbClr val="002060"/>
                </a:solidFill>
                <a:latin typeface="Arial"/>
                <a:ea typeface="Arial"/>
              </a:rPr>
              <a:t>В основе этой музыкальной системы были два закона, которые носят имена двух великих ученых - Пифагора и Архита.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ru-RU" sz="1900" spc="-1" strike="noStrike">
                <a:solidFill>
                  <a:srgbClr val="002060"/>
                </a:solidFill>
                <a:latin typeface="Arial"/>
                <a:ea typeface="Arial"/>
              </a:rPr>
              <a:t>Вот эти законы: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ru-RU" sz="1900" spc="-1" strike="noStrike">
                <a:solidFill>
                  <a:srgbClr val="002060"/>
                </a:solidFill>
                <a:latin typeface="Arial"/>
                <a:ea typeface="Arial"/>
              </a:rPr>
              <a:t>1. </a:t>
            </a:r>
            <a:r>
              <a:rPr b="1" lang="ru-RU" sz="2200" spc="-1" strike="noStrike">
                <a:solidFill>
                  <a:srgbClr val="002060"/>
                </a:solidFill>
                <a:latin typeface="Arial"/>
                <a:ea typeface="Arial"/>
              </a:rPr>
              <a:t>Две звучащие струны определяют консонанс, если их длины относятся как целые числа, образующие треугольное число 10=1+2+3+4, т.е. как 1:2, 2:3, 3:4. Причем, чем меньше число n в отношении n:(n+1) (n=1,2,3), тем созвучнее получающийся интервал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2200" spc="-1" strike="noStrike">
                <a:solidFill>
                  <a:srgbClr val="002060"/>
                </a:solidFill>
                <a:latin typeface="Arial"/>
                <a:ea typeface="Arial"/>
              </a:rPr>
              <a:t>2. Частота колебания w звучащей струны обратно пропорциональна ее длине l 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Arial"/>
                <a:ea typeface="Arial"/>
              </a:rPr>
              <a:t>      </a:t>
            </a:r>
            <a:r>
              <a:rPr b="1" lang="ru-RU" sz="2200" spc="-1" strike="noStrike">
                <a:solidFill>
                  <a:srgbClr val="002060"/>
                </a:solidFill>
                <a:latin typeface="Arial"/>
                <a:ea typeface="Arial"/>
              </a:rPr>
              <a:t>w = a : l ,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Arial"/>
                <a:ea typeface="Arial"/>
              </a:rPr>
              <a:t>     </a:t>
            </a:r>
            <a:r>
              <a:rPr b="1" lang="ru-RU" sz="2200" spc="-1" strike="noStrike">
                <a:solidFill>
                  <a:srgbClr val="002060"/>
                </a:solidFill>
                <a:latin typeface="Arial"/>
                <a:ea typeface="Arial"/>
              </a:rPr>
              <a:t>где а - коэффициент, характеризующий физические свойства струны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Заголовок 1" descr=""/>
          <p:cNvPicPr/>
          <p:nvPr/>
        </p:nvPicPr>
        <p:blipFill>
          <a:blip r:embed="rId1"/>
          <a:stretch/>
        </p:blipFill>
        <p:spPr>
          <a:xfrm>
            <a:off x="1468440" y="12600"/>
            <a:ext cx="6175440" cy="121284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324000" y="1052280"/>
            <a:ext cx="82296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"/>
              </a:rPr>
              <a:t>1. Гаммой, или звукорядом, называется последовательность звуков, расположенных от основного тона (звука) в восходящем или нисходящем порядке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"/>
              </a:rPr>
              <a:t>2. Интервальным коэффициентом двух тонов считают отношение частоты колебаний верхнего тона к частоте колебаний нижнего: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lang="ru-RU" sz="3000" spc="-1" strike="noStrike">
                <a:solidFill>
                  <a:srgbClr val="002060"/>
                </a:solidFill>
                <a:latin typeface="Arial"/>
              </a:rPr>
              <a:t>w</a:t>
            </a:r>
            <a:r>
              <a:rPr b="0" lang="ru-RU" sz="3000" spc="-1" strike="noStrike" baseline="-25000">
                <a:solidFill>
                  <a:srgbClr val="002060"/>
                </a:solidFill>
                <a:latin typeface="Arial"/>
              </a:rPr>
              <a:t>1 </a:t>
            </a:r>
            <a:r>
              <a:rPr b="0" lang="ru-RU" sz="3000" spc="-1" strike="noStrike">
                <a:solidFill>
                  <a:srgbClr val="002060"/>
                </a:solidFill>
                <a:latin typeface="Arial"/>
              </a:rPr>
              <a:t>: w</a:t>
            </a:r>
            <a:r>
              <a:rPr b="0" lang="ru-RU" sz="3000" spc="-1" strike="noStrike" baseline="-25000">
                <a:solidFill>
                  <a:srgbClr val="002060"/>
                </a:solidFill>
                <a:latin typeface="Arial"/>
              </a:rPr>
              <a:t>2</a:t>
            </a:r>
            <a:r>
              <a:rPr b="0" lang="ru-RU" sz="30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Заголовок 3" descr=""/>
          <p:cNvPicPr/>
          <p:nvPr/>
        </p:nvPicPr>
        <p:blipFill>
          <a:blip r:embed="rId1"/>
          <a:stretch/>
        </p:blipFill>
        <p:spPr>
          <a:xfrm>
            <a:off x="36360" y="115920"/>
            <a:ext cx="8369280" cy="61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Заголовок 2" descr=""/>
          <p:cNvPicPr/>
          <p:nvPr/>
        </p:nvPicPr>
        <p:blipFill>
          <a:blip r:embed="rId1"/>
          <a:stretch/>
        </p:blipFill>
        <p:spPr>
          <a:xfrm>
            <a:off x="281160" y="324000"/>
            <a:ext cx="7418160" cy="135864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31680" y="1412640"/>
            <a:ext cx="8715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1. Основой музыкальной шкалы–гаммы пифагорейцев был интервал – октава. Она является консонансом, повторяющим верхний звук. Для построения музыкальной гаммы пифагорейцам требовалось разделить октаву на красиво звучащие части. Так как они верили в совершенные пропорции, то связали устройство гаммы со средними величинами: арифметическим, гармоническим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Среднее арифметическое частот колебаний тоники (w</a:t>
            </a:r>
            <a:r>
              <a:rPr b="1" lang="ru-RU" sz="2400" spc="-1" strike="noStrike" baseline="-25000">
                <a:solidFill>
                  <a:srgbClr val="002060"/>
                </a:solidFill>
                <a:latin typeface="Arial"/>
                <a:ea typeface="Arial"/>
              </a:rPr>
              <a:t>1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) и ее октавного повторения (w</a:t>
            </a:r>
            <a:r>
              <a:rPr b="1" lang="ru-RU" sz="2400" spc="-1" strike="noStrike" baseline="-25000">
                <a:solidFill>
                  <a:srgbClr val="002060"/>
                </a:solidFill>
                <a:latin typeface="Arial"/>
                <a:ea typeface="Arial"/>
              </a:rPr>
              <a:t>2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) помогает найти совершенный консонанс квинту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Т.к. w</a:t>
            </a:r>
            <a:r>
              <a:rPr b="1" lang="ru-RU" sz="2400" spc="-1" strike="noStrike" baseline="-25000">
                <a:solidFill>
                  <a:srgbClr val="002060"/>
                </a:solidFill>
                <a:latin typeface="Arial"/>
                <a:ea typeface="Arial"/>
              </a:rPr>
              <a:t>2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= 2w</a:t>
            </a:r>
            <a:r>
              <a:rPr b="1" lang="ru-RU" sz="2400" spc="-1" strike="noStrike" baseline="-25000">
                <a:solidFill>
                  <a:srgbClr val="002060"/>
                </a:solidFill>
                <a:latin typeface="Arial"/>
                <a:ea typeface="Arial"/>
              </a:rPr>
              <a:t>1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, то w</a:t>
            </a:r>
            <a:r>
              <a:rPr b="1" lang="ru-RU" sz="2400" spc="-1" strike="noStrike" baseline="-25000">
                <a:solidFill>
                  <a:srgbClr val="002060"/>
                </a:solidFill>
                <a:latin typeface="Arial"/>
                <a:ea typeface="Arial"/>
              </a:rPr>
              <a:t>3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= (w</a:t>
            </a:r>
            <a:r>
              <a:rPr b="1" lang="ru-RU" sz="2400" spc="-1" strike="noStrike" baseline="-25000">
                <a:solidFill>
                  <a:srgbClr val="002060"/>
                </a:solidFill>
                <a:latin typeface="Arial"/>
                <a:ea typeface="Arial"/>
              </a:rPr>
              <a:t>1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+ w</a:t>
            </a:r>
            <a:r>
              <a:rPr b="1" lang="ru-RU" sz="2400" spc="-1" strike="noStrike" baseline="-25000">
                <a:solidFill>
                  <a:srgbClr val="002060"/>
                </a:solidFill>
                <a:latin typeface="Arial"/>
                <a:ea typeface="Arial"/>
              </a:rPr>
              <a:t>2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) : 2 = 3w</a:t>
            </a:r>
            <a:r>
              <a:rPr b="1" lang="ru-RU" sz="2400" spc="-1" strike="noStrike" baseline="-25000">
                <a:solidFill>
                  <a:srgbClr val="002060"/>
                </a:solidFill>
                <a:latin typeface="Arial"/>
                <a:ea typeface="Arial"/>
              </a:rPr>
              <a:t>1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: 2 или w</a:t>
            </a:r>
            <a:r>
              <a:rPr b="1" lang="ru-RU" sz="2400" spc="-1" strike="noStrike" baseline="-25000">
                <a:solidFill>
                  <a:srgbClr val="002060"/>
                </a:solidFill>
                <a:latin typeface="Arial"/>
                <a:ea typeface="Arial"/>
              </a:rPr>
              <a:t>3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: w</a:t>
            </a:r>
            <a:r>
              <a:rPr b="1" lang="ru-RU" sz="2400" spc="-1" strike="noStrike" baseline="-25000">
                <a:solidFill>
                  <a:srgbClr val="002060"/>
                </a:solidFill>
                <a:latin typeface="Arial"/>
                <a:ea typeface="Arial"/>
              </a:rPr>
              <a:t>1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= 3 : 2 (w</a:t>
            </a:r>
            <a:r>
              <a:rPr b="1" lang="ru-RU" sz="2400" spc="-1" strike="noStrike" baseline="-25000">
                <a:solidFill>
                  <a:srgbClr val="002060"/>
                </a:solidFill>
                <a:latin typeface="Arial"/>
                <a:ea typeface="Arial"/>
              </a:rPr>
              <a:t>3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– частота колебаний квинты)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Заголовок 1" descr=""/>
          <p:cNvPicPr/>
          <p:nvPr/>
        </p:nvPicPr>
        <p:blipFill>
          <a:blip r:embed="rId1"/>
          <a:stretch/>
        </p:blipFill>
        <p:spPr>
          <a:xfrm>
            <a:off x="36360" y="334800"/>
            <a:ext cx="8266320" cy="606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3" descr=""/>
          <p:cNvPicPr/>
          <p:nvPr/>
        </p:nvPicPr>
        <p:blipFill>
          <a:blip r:embed="rId1"/>
          <a:stretch/>
        </p:blipFill>
        <p:spPr>
          <a:xfrm>
            <a:off x="255600" y="274680"/>
            <a:ext cx="8467560" cy="65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Заголовок 1" descr=""/>
          <p:cNvPicPr/>
          <p:nvPr/>
        </p:nvPicPr>
        <p:blipFill>
          <a:blip r:embed="rId1"/>
          <a:stretch/>
        </p:blipFill>
        <p:spPr>
          <a:xfrm>
            <a:off x="-30240" y="762120"/>
            <a:ext cx="8388360" cy="44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2" descr=""/>
          <p:cNvPicPr/>
          <p:nvPr/>
        </p:nvPicPr>
        <p:blipFill>
          <a:blip r:embed="rId1"/>
          <a:stretch/>
        </p:blipFill>
        <p:spPr>
          <a:xfrm>
            <a:off x="2371680" y="212760"/>
            <a:ext cx="4278240" cy="89064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 txBox="1"/>
          <p:nvPr/>
        </p:nvSpPr>
        <p:spPr>
          <a:xfrm>
            <a:off x="250920" y="980640"/>
            <a:ext cx="7300800" cy="541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Избавил музыкантов от головной боли! Однако одновременно создал  проблему: в звукоряде, построенном по его формуле, целое число квинт не укладывается в целое число октав. Такое несоответствие получило название "пифагорова комма". Пифагорова комма - не только кажущийся математический парадокс. Главное, что при пифагоровой системе невозможно играть в произвольной тональности, не фальшивя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Интервал между октавой, полученной шагами по 12-равномерным полутонам V9/8, и чистой октавой равен и называется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пифагоровой коммой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(коммой в музыкальной акустике называется интервал, не превышающий 1/9 целого тона. Пифагорова комма приблизительно равна 1/9 тона)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Rectangle 2" descr=""/>
          <p:cNvPicPr/>
          <p:nvPr/>
        </p:nvPicPr>
        <p:blipFill>
          <a:blip r:embed="rId1"/>
          <a:stretch/>
        </p:blipFill>
        <p:spPr>
          <a:xfrm>
            <a:off x="4754520" y="-6480"/>
            <a:ext cx="3346560" cy="121284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 txBox="1"/>
          <p:nvPr/>
        </p:nvSpPr>
        <p:spPr>
          <a:xfrm>
            <a:off x="0" y="3428640"/>
            <a:ext cx="91440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Пифагору принадлежит и открытие терапевтического эффекта музыки. Он не колебался относительно влияния музыки на ум и тело, называя это “</a:t>
            </a: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музыкальной медициной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”. Он полагал</a:t>
            </a: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, ”что музыка во многом содействует здоровью, если пользоваться ею соответственно подобающим ладам, так как человеческая душа, и весь мир в целом имеют музыкально-числовую основу”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Вечерами проводилось хоровое пение, сопровождавшееся струнными инструментами. </a:t>
            </a: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”Отходя ко сну, они (пифагорейцы) освобождали разум от смятения и шума, царящего в нем после проведенного дня, некоторыми напевами и специальными мелодиями и таким путем обеспечивали себе спокойный, с немногочисленными, но приятными сновидениями, сон, а, встав ото сна, снимали сонную вялость и оцепенение с помощью другого рода мелодий”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8" name="Picture 4" descr="Пифагор и Пифагорейцы"/>
          <p:cNvPicPr/>
          <p:nvPr/>
        </p:nvPicPr>
        <p:blipFill>
          <a:blip r:embed="rId2"/>
          <a:stretch/>
        </p:blipFill>
        <p:spPr>
          <a:xfrm>
            <a:off x="324000" y="333360"/>
            <a:ext cx="3966840" cy="29354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Греки3"/>
          <p:cNvPicPr/>
          <p:nvPr/>
        </p:nvPicPr>
        <p:blipFill>
          <a:blip r:embed="rId3"/>
          <a:srcRect l="0" t="0" r="0" b="10944"/>
          <a:stretch/>
        </p:blipFill>
        <p:spPr>
          <a:xfrm>
            <a:off x="4932360" y="1197000"/>
            <a:ext cx="3527280" cy="21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3132000" y="1052640"/>
            <a:ext cx="5438880" cy="4643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4e7ed"/>
                </a:solidFill>
                <a:latin typeface="Arial"/>
                <a:ea typeface="Arial"/>
              </a:rPr>
              <a:t>"Раздумывая об искусстве и науке, об их взаимных связях и противоречиях, я пришел к выводу, что математика и музыка находятся на крайних полюсах человеческого духа, что этими двумя антиподами ограничивается и определяется вся творческая духовная деятельность человека и, что между ними размещается все, что человечество создало в области науки и искусства."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4e7ed"/>
                </a:solidFill>
                <a:latin typeface="Arial"/>
                <a:ea typeface="Arial"/>
              </a:rPr>
              <a:t>Генрих Нейгауз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4" name="Picture 4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24480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Заголовок 1" descr=""/>
          <p:cNvPicPr/>
          <p:nvPr/>
        </p:nvPicPr>
        <p:blipFill>
          <a:blip r:embed="rId1"/>
          <a:stretch/>
        </p:blipFill>
        <p:spPr>
          <a:xfrm>
            <a:off x="298440" y="0"/>
            <a:ext cx="7480440" cy="14382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 txBox="1"/>
          <p:nvPr/>
        </p:nvSpPr>
        <p:spPr>
          <a:xfrm>
            <a:off x="3240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Trebuchet MS"/>
              </a:rPr>
              <a:t>Для своего эксперимента я решила воспользоваться личным опытом и наблюдениями. Для проведения исследования я выбрала две группы песен абсолютно разных жанров.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rebuchet MS"/>
              </a:rPr>
              <a:t>В первую группу входили произведения великих композиторов («К Элизе» и «Лунная соната» Людвига Ван Бетховена, сцена «Танец снежинок» из балета «Щелкунчик» Петра Ильича Чайковского и «Этюд» Сергея Васильевича Рахманинова). 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Trebuchet MS"/>
              </a:rPr>
              <a:t>Ко второй группе были отнесены песни поп исполнителей и рок музыкантов (песни Майкла Джексона, Бритни Спирс, Мадонны, Кэти Перри). 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rebuchet MS"/>
              </a:rPr>
              <a:t>При подготовке к основному государственному экзамену по математике (ОГЭ) каждый вечер в течение недели мной были прослушаны песни первой группы. Это помогло лучше усвоить необходимую информацию, в особенности формулы, теоремы и признаки геометрических фигур, а решение задач казалось проще, чем обычно. 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Trebuchet MS"/>
              </a:rPr>
              <a:t>Во время прослушивания песен второй группы, я заметила, что сконцентрироваться на работе было гораздо сложнее.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284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Например, при решении тренировочных вариантов ОГЭ по математике после прослушивания классической музыки на выполнение заданий тестовой части тратилось намного меньше времени, и качество работы было выше. Если в среднем на решение работы тестовой части отводилось около 1.5 часов, при прослушивании песен первой группы на выполнение заданий уходило около 45-50 минут. Однако при прослушивании произведений, относящихся ко второй группе, эффективность выполнения работы ухудшалась (совершались ошибки в решении уравнений и задач повышенной сложности), а на решение тратилось большее количество времени (около 2 часов)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Заголовок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632720" cy="14317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Если объяснять данное явление с научной точки зрения, то мы получаем, что прослушивание классической музыки позволяет человеку качественнее и большей мере выполнять работу и поставленные задачи, воздействуя на нервные клетки. Нервная система приходила в состояние покоя, поэтому усваивание теорем и формул по математике было намного эффективней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25092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Рассмотрев математическую теорию музыки, я глубже поняла и разобралась в том, что приятные для слуха различные музыкальные звуки подчиняются простым математическим законам. Так же меня порадовало, что и современные ученые изучают геометрический строй музыки. Данная тема актуальна в наши дни, и в ней есть место для новых открытий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С помощью эксперимента мне удалось доказать влияние музыки на математику, а именно на продуктивность усвоения учащимися материала на уроках алгебры или геометрии с помощью оптимизации умственных процессов, путем прослушивания на уроках музыкальных произведений. Что доказывает, что эти вроде бы не совместимые «материи» идут бок о бок и гармонично дополняют друг друга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Я убедилась, что математическая точность музыки всегда была и остаётся её неотъемлемым свойством, а музыкальная поэтика свойственна всем математическим процессам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Заголовок 1" descr=""/>
          <p:cNvPicPr/>
          <p:nvPr/>
        </p:nvPicPr>
        <p:blipFill>
          <a:blip r:embed="rId1"/>
          <a:stretch/>
        </p:blipFill>
        <p:spPr>
          <a:xfrm>
            <a:off x="152280" y="0"/>
            <a:ext cx="7480440" cy="14382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 txBox="1"/>
          <p:nvPr/>
        </p:nvSpPr>
        <p:spPr>
          <a:xfrm>
            <a:off x="25092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rebuchet MS"/>
              </a:rPr>
              <a:t>Я считаю, что цель моей работы достигнута, задачи выполнены. Изучение данной темы, на мой взгляд, может быть продолжено, так как литературы о связи музыки и математики очень мало. Сравнивая музыку и математику, я сделал вывод, что математика, как наука может развиваться без музыки, а музыкальное искусство подчиняется многим законам математики и не может существовать без неё. </a:t>
            </a:r>
            <a:r>
              <a:rPr b="1" i="1" lang="ru-RU" sz="2900" spc="-1" strike="noStrike">
                <a:solidFill>
                  <a:srgbClr val="ff0000"/>
                </a:solidFill>
                <a:latin typeface="Trebuchet MS"/>
              </a:rPr>
              <a:t>«Музыка есть таинственная арифметика души; она вычисляет, сама того не сознавая».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Заголовок 4" descr=""/>
          <p:cNvPicPr/>
          <p:nvPr/>
        </p:nvPicPr>
        <p:blipFill>
          <a:blip r:embed="rId1"/>
          <a:stretch/>
        </p:blipFill>
        <p:spPr>
          <a:xfrm>
            <a:off x="255600" y="324000"/>
            <a:ext cx="7443720" cy="13824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ww.erudition.ru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ww.rus-lib.ru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exsolver.narod.ru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revolution.allbest.ru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estival.1september.ru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ортреты математиков и картинки взяты и сети Интернет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2"/>
              </a:rPr>
              <a:t>https://ru.wikipedia.org/wiki/</a:t>
            </a:r>
            <a:r>
              <a:rPr b="0" lang="ru-RU" sz="2600" spc="-1" strike="noStrike" u="sng">
                <a:solidFill>
                  <a:srgbClr val="ffde66"/>
                </a:solidFill>
                <a:uFillTx/>
                <a:latin typeface="Trebuchet MS"/>
                <a:hlinkClick r:id="rId3"/>
              </a:rPr>
              <a:t>Теория_музык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1" descr=""/>
          <p:cNvPicPr/>
          <p:nvPr/>
        </p:nvPicPr>
        <p:blipFill>
          <a:blip r:embed="rId1"/>
          <a:stretch/>
        </p:blipFill>
        <p:spPr>
          <a:xfrm>
            <a:off x="212760" y="189000"/>
            <a:ext cx="8474040" cy="101124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468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ровести параллель между музыкой и математикой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Trebuchet MS"/>
              </a:rPr>
              <a:t>Для достижения цели надо решить задачи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1)познакомиться с учением о связи между музыкой и математикой;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2)разобрать основные правила консонанса и доказать их математическую природу; 3)доказать благотворное влияние изучения музыки на математические способност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Rectangle 2" descr=""/>
          <p:cNvPicPr/>
          <p:nvPr/>
        </p:nvPicPr>
        <p:blipFill>
          <a:blip r:embed="rId1"/>
          <a:stretch/>
        </p:blipFill>
        <p:spPr>
          <a:xfrm>
            <a:off x="396720" y="-19080"/>
            <a:ext cx="8448840" cy="1420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539280" y="1628280"/>
            <a:ext cx="731052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Arial"/>
              </a:rPr>
              <a:t>Существует распространенное мнение, что </a:t>
            </a:r>
            <a:r>
              <a:rPr b="1" lang="ru-RU" sz="2700" spc="-1" strike="noStrike">
                <a:solidFill>
                  <a:srgbClr val="ff0000"/>
                </a:solidFill>
                <a:latin typeface="Arial"/>
              </a:rPr>
              <a:t>Математика и Музыка</a:t>
            </a:r>
            <a:r>
              <a:rPr b="0" lang="ru-RU" sz="27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700" spc="-1" strike="noStrike">
                <a:solidFill>
                  <a:srgbClr val="002060"/>
                </a:solidFill>
                <a:latin typeface="Arial"/>
              </a:rPr>
              <a:t>– два полюса человеческого восприятия и две противоположные системы мышления… Как в музыке важна </a:t>
            </a:r>
            <a:r>
              <a:rPr b="1" lang="ru-RU" sz="2700" spc="-1" strike="noStrike">
                <a:solidFill>
                  <a:srgbClr val="002060"/>
                </a:solidFill>
                <a:latin typeface="Arial"/>
              </a:rPr>
              <a:t>Логика</a:t>
            </a:r>
            <a:r>
              <a:rPr b="0" lang="ru-RU" sz="2700" spc="-1" strike="noStrike">
                <a:solidFill>
                  <a:srgbClr val="002060"/>
                </a:solidFill>
                <a:latin typeface="Arial"/>
              </a:rPr>
              <a:t>, так и в математике важно </a:t>
            </a:r>
            <a:r>
              <a:rPr b="1" lang="ru-RU" sz="2700" spc="-1" strike="noStrike">
                <a:solidFill>
                  <a:srgbClr val="002060"/>
                </a:solidFill>
                <a:latin typeface="Arial"/>
              </a:rPr>
              <a:t>образное мышление и воображение</a:t>
            </a:r>
            <a:r>
              <a:rPr b="0" lang="ru-RU" sz="2700" spc="-1" strike="noStrike">
                <a:solidFill>
                  <a:srgbClr val="002060"/>
                </a:solidFill>
                <a:latin typeface="Arial"/>
              </a:rPr>
              <a:t>…</a:t>
            </a: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Arial"/>
              </a:rPr>
              <a:t>Мы  живем во времена экономической, политической, культурной и информационной интеграции.  Математика и Музыка являются воплощением таких понятий, как </a:t>
            </a:r>
            <a:r>
              <a:rPr b="1" lang="ru-RU" sz="2700" spc="-1" strike="noStrike">
                <a:solidFill>
                  <a:srgbClr val="ff0000"/>
                </a:solidFill>
                <a:latin typeface="Arial"/>
              </a:rPr>
              <a:t>Интеграция и Гармония.</a:t>
            </a: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1" descr=""/>
          <p:cNvPicPr/>
          <p:nvPr/>
        </p:nvPicPr>
        <p:blipFill>
          <a:blip r:embed="rId1"/>
          <a:stretch/>
        </p:blipFill>
        <p:spPr>
          <a:xfrm>
            <a:off x="212760" y="262080"/>
            <a:ext cx="8474040" cy="10126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68360" y="10965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На сегодняшний день значимость музыкального образования значительно снижается. Люди забывают о том, что </a:t>
            </a:r>
            <a:r>
              <a:rPr b="0" i="1" lang="ru-RU" sz="2400" spc="-1" strike="noStrike">
                <a:solidFill>
                  <a:srgbClr val="ff0000"/>
                </a:solidFill>
                <a:latin typeface="Trebuchet MS"/>
              </a:rPr>
              <a:t>музыка и математика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– родные сёстры, что они просто созданы помогать друг другу. Родители, задумываясь, почему их ребёнок плохо успевает по математике, не принимают во внимание тот факт, что музыкальное образование значительно повышает способность к математике. Учитывая, что математика становится всё более популярным, но остаётся при этом не менее сложным предметом, ценность музыки и музыкального образования как вспомогательного должна повышаться, но это придёт только с пониманием способности музыки помогать в изучении математики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Rectangle 2" descr=""/>
          <p:cNvPicPr/>
          <p:nvPr/>
        </p:nvPicPr>
        <p:blipFill>
          <a:blip r:embed="rId1"/>
          <a:stretch/>
        </p:blipFill>
        <p:spPr>
          <a:xfrm>
            <a:off x="311040" y="231840"/>
            <a:ext cx="7388280" cy="14256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атематика</a:t>
            </a:r>
            <a:r>
              <a:rPr b="1" lang="ru-RU" sz="2400" spc="-1" strike="noStrike">
                <a:solidFill>
                  <a:srgbClr val="f4e7ed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– это не только стройная система законов, теорем, задач, но и уникальное средство познания красоты. А красота многогранна и многолика. Она выражает высшую целесообразность устройства мира, подтверждает универсальность математических закономерностей, которые действуют одинаково эффективно в кристаллах и в живых организмах, в атомах и во Вселенной, в произведениях искусства и научных открытиях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расота</a:t>
            </a:r>
            <a:r>
              <a:rPr b="0" lang="ru-RU" sz="2400" spc="-1" strike="noStrike">
                <a:solidFill>
                  <a:srgbClr val="f4e7ed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омогает с радостью воспринимать окружающий мир, математика даёт возможность осознать явления и упрочить знания о гармонии всего мира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Rectangle 2" descr=""/>
          <p:cNvPicPr/>
          <p:nvPr/>
        </p:nvPicPr>
        <p:blipFill>
          <a:blip r:embed="rId1"/>
          <a:stretch/>
        </p:blipFill>
        <p:spPr>
          <a:xfrm>
            <a:off x="2743200" y="189000"/>
            <a:ext cx="4133880" cy="106668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1116000" y="1027080"/>
            <a:ext cx="7920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1279440" indent="-22860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Narrow"/>
              </a:rPr>
              <a:t>Еще древнегреческий философ и математик Пифагор утверждал, что мир это </a:t>
            </a:r>
            <a:r>
              <a:rPr b="1" lang="ru-RU" sz="2400" spc="-1" strike="noStrike">
                <a:solidFill>
                  <a:srgbClr val="002060"/>
                </a:solidFill>
                <a:latin typeface="Arial Narrow"/>
              </a:rPr>
              <a:t>Гармония</a:t>
            </a:r>
            <a:r>
              <a:rPr b="0" lang="ru-RU" sz="2400" spc="-1" strike="noStrike">
                <a:solidFill>
                  <a:srgbClr val="002060"/>
                </a:solidFill>
                <a:latin typeface="Arial Narrow"/>
              </a:rPr>
              <a:t>, а гармония – это </a:t>
            </a:r>
            <a:r>
              <a:rPr b="1" lang="ru-RU" sz="2400" spc="-1" strike="noStrike">
                <a:solidFill>
                  <a:srgbClr val="002060"/>
                </a:solidFill>
                <a:latin typeface="Arial Narrow"/>
              </a:rPr>
              <a:t>число.</a:t>
            </a:r>
            <a:r>
              <a:rPr b="0" lang="ru-RU" sz="2400" spc="-1" strike="noStrike">
                <a:solidFill>
                  <a:srgbClr val="002060"/>
                </a:solidFill>
                <a:latin typeface="Arial Narrow"/>
              </a:rPr>
              <a:t> Ученики и последователи пифагорейской школы отмечали то, что: </a:t>
            </a:r>
            <a:r>
              <a:rPr b="1" i="1" lang="ru-RU" sz="2400" spc="-1" strike="noStrike">
                <a:solidFill>
                  <a:srgbClr val="002060"/>
                </a:solidFill>
                <a:latin typeface="Arial Narrow"/>
              </a:rPr>
              <a:t>«Можно заметить, что природа и сила числа действует не только в демонических и божественных вещах, но также повсюду во всех человеческих делах и отношениях, во всех технических искусствах и в музыке». </a:t>
            </a:r>
            <a:r>
              <a:rPr b="0" i="1" lang="ru-RU" sz="2400" spc="-1" strike="noStrike">
                <a:solidFill>
                  <a:srgbClr val="002060"/>
                </a:solidFill>
                <a:latin typeface="Arial Narrow"/>
              </a:rPr>
              <a:t>Филолай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 Narrow"/>
              </a:rPr>
              <a:t>«Все то, что природа систематически сложила во вселенной, кажется в своих частях, как и в целом, определенным и слаженным в стройный аккорд при помощи числа…»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Picture 4" descr="пифагор5"/>
          <p:cNvPicPr/>
          <p:nvPr/>
        </p:nvPicPr>
        <p:blipFill>
          <a:blip r:embed="rId2"/>
          <a:stretch/>
        </p:blipFill>
        <p:spPr>
          <a:xfrm>
            <a:off x="6480" y="287280"/>
            <a:ext cx="2627280" cy="30909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"/>
          <p:cNvPicPr/>
          <p:nvPr/>
        </p:nvPicPr>
        <p:blipFill>
          <a:blip r:embed="rId3"/>
          <a:stretch/>
        </p:blipFill>
        <p:spPr>
          <a:xfrm>
            <a:off x="436680" y="3378240"/>
            <a:ext cx="222552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Rectangle 2" descr=""/>
          <p:cNvPicPr/>
          <p:nvPr/>
        </p:nvPicPr>
        <p:blipFill>
          <a:blip r:embed="rId1"/>
          <a:stretch/>
        </p:blipFill>
        <p:spPr>
          <a:xfrm>
            <a:off x="1944720" y="0"/>
            <a:ext cx="5851440" cy="1023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17928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Arial"/>
              </a:rPr>
              <a:t>Приятная для слуха слаженность звуков (музыкально-эстетическое понятие: то же, что </a:t>
            </a:r>
            <a:r>
              <a:rPr b="1" lang="ru-RU" sz="2600" spc="-1" strike="noStrike">
                <a:solidFill>
                  <a:srgbClr val="002060"/>
                </a:solidFill>
                <a:latin typeface="Arial"/>
              </a:rPr>
              <a:t>«благозвучие»; нем. Harmonie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Arial"/>
              </a:rPr>
              <a:t>Гармония</a:t>
            </a:r>
            <a:r>
              <a:rPr b="0" lang="ru-RU" sz="2600" spc="-1" strike="noStrike">
                <a:solidFill>
                  <a:srgbClr val="f4e7ed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2060"/>
                </a:solidFill>
                <a:latin typeface="Arial"/>
              </a:rPr>
              <a:t>это: </a:t>
            </a:r>
            <a:br>
              <a:rPr sz="2600"/>
            </a:br>
            <a:r>
              <a:rPr b="0" lang="ru-RU" sz="2600" spc="-1" strike="noStrike">
                <a:solidFill>
                  <a:srgbClr val="002060"/>
                </a:solidFill>
                <a:latin typeface="Arial"/>
              </a:rPr>
              <a:t>• объединение звуков в созвучия и их         закономерное последование (композиционно-техническое понятие);</a:t>
            </a:r>
            <a:br>
              <a:rPr sz="2600"/>
            </a:br>
            <a:r>
              <a:rPr b="0" lang="ru-RU" sz="2600" spc="-1" strike="noStrike">
                <a:solidFill>
                  <a:srgbClr val="002060"/>
                </a:solidFill>
                <a:latin typeface="Arial"/>
              </a:rPr>
              <a:t>• гармония как музыкально-художественное средство, соответствующее немецкому </a:t>
            </a:r>
            <a:r>
              <a:rPr b="1" lang="ru-RU" sz="2600" spc="-1" strike="noStrike">
                <a:solidFill>
                  <a:srgbClr val="002060"/>
                </a:solidFill>
                <a:latin typeface="Arial"/>
              </a:rPr>
              <a:t>Harmonik;</a:t>
            </a:r>
            <a:br>
              <a:rPr sz="2600"/>
            </a:br>
            <a:r>
              <a:rPr b="0" lang="ru-RU" sz="2600" spc="-1" strike="noStrike">
                <a:solidFill>
                  <a:srgbClr val="002060"/>
                </a:solidFill>
                <a:latin typeface="Arial"/>
              </a:rPr>
              <a:t>• гармонией также называется научная и учебно-практическая дисциплина, изучающая звуковысотную организацию музыки, созвучия и их связи 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Rectangle 2" descr=""/>
          <p:cNvPicPr/>
          <p:nvPr/>
        </p:nvPicPr>
        <p:blipFill>
          <a:blip r:embed="rId1"/>
          <a:stretch/>
        </p:blipFill>
        <p:spPr>
          <a:xfrm>
            <a:off x="268200" y="-23760"/>
            <a:ext cx="7437600" cy="13888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539640" y="4292640"/>
            <a:ext cx="822960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Пифагор создал свою школу мудрости, положив в ее основу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два искусства – музыку и математику</a:t>
            </a:r>
            <a:r>
              <a:rPr b="0" lang="ru-RU" sz="2800" spc="-1" strike="noStrike">
                <a:solidFill>
                  <a:srgbClr val="f4e7ed"/>
                </a:solidFill>
                <a:latin typeface="Arial"/>
              </a:rPr>
              <a:t>.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Он считал, что гармония чисел сродни гармонии звуков и что оба этих занятия упорядочивают хаотичность мышления и дополняют друг друга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1" name="Picture 5" descr="пифагор4"/>
          <p:cNvPicPr/>
          <p:nvPr/>
        </p:nvPicPr>
        <p:blipFill>
          <a:blip r:embed="rId2"/>
          <a:stretch/>
        </p:blipFill>
        <p:spPr>
          <a:xfrm>
            <a:off x="2195640" y="1413000"/>
            <a:ext cx="4608360" cy="29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5T11:09:28Z</dcterms:created>
  <dc:creator>МОУ СОШ №3</dc:creator>
  <dc:description/>
  <dc:language>en-US</dc:language>
  <cp:lastModifiedBy>computer</cp:lastModifiedBy>
  <dcterms:modified xsi:type="dcterms:W3CDTF">2016-01-14T08:15:20Z</dcterms:modified>
  <cp:revision>44</cp:revision>
  <dc:subject/>
  <dc:title>Связь музыки и математики</dc:title>
</cp:coreProperties>
</file>