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6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1E0F-61F4-49C6-8821-968B093B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066C-C7DD-4C7E-9283-1B397639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47A-AFD9-4EB7-8E56-95DB282D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223C-FAF3-4AA6-A491-A534895B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DFD8-1E95-42F5-9D91-7E4DDD3B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2F7E-45EE-44A3-97DE-73672A04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A06D-553C-47F1-A733-DBF96BDC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180F-C732-40EE-BC8F-967411ED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DDCE-9373-4090-BEE3-878A012A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7E94-7512-4257-8EC6-358A4C70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720F-E4A3-485E-8EBC-2284AF18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B93A-AF7C-4211-AF5E-716DD325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BADF-66F6-48D3-AD3D-30177C02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3B0B-B4B2-4B4C-A626-60562F7D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4608-529A-4022-8FFC-F55070A4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5E1D-7F43-4775-B54A-B9ECD532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414B-D98F-4A09-A6A1-A38A4FE3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37649-8002-4E4A-B776-EA6FCB1B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DDAF6-0918-4C07-9BEB-4C118E58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ADF21-D9DE-4E31-83D6-2AA48394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8C4A0-B6B8-4E43-94B2-AB9E8882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BE522-D2D5-43BB-9D94-59E87880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6B4E-B66C-4084-9432-6E8895E4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CF7A9-7CF6-4DED-8F99-EE3F9926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370EA-85C9-4740-9F81-53EC2F9F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083DF-44BD-4437-90A0-6B66A2FB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EE069-C891-4958-96B4-77D22004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2157E-B5BE-4553-BA3E-8FA78450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BD08B-F2D4-4119-BF53-AAFD9061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2B1A1-2AF4-45F0-83C0-88E3122D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FE572-6E89-4DA1-B34D-0111DF40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EDB07-41CB-4198-892D-1D3CDDBC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F1DFB-9965-4224-9518-48059401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617-FB50-46F9-AEF3-D1E90292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36AF1-1035-4DCC-90E6-F55693C8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DABB4-8307-450E-9802-41AFD7AD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4449A-9E59-40EC-859A-F64EBC8B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77C2E-EBCE-45A0-AE1C-84E6D5E4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64175-D321-4680-AA71-D41B7A5F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2FC1D-88F4-4052-A710-85D8DEA5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7238F-AEB6-4B09-BE91-F9AA94CE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A7037-D3B7-4247-8710-3C094B7A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61EEE-65CF-4B1D-B236-2B24C6BB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A1AD0-0BEE-4635-8598-E5929532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D78D-5C52-4A77-93D9-8803D074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15DD1-42BB-4F1F-AECF-D87E6267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13282-806C-402D-B0F8-8C2D5484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27B9B-6A90-4C25-8099-621C456D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419E7-4725-4C0F-BA10-B3AEE706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B6AC6-C597-4798-AC0C-8112ED62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3ADDE-DC7F-439F-8865-9477C976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0F099-E731-4517-A699-674756F9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F4E2D-619E-4CBE-8031-D0AE5912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2D3BD-DDF4-434B-A80A-412B977E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A722A-CFF9-4CF6-A498-FCBBD8DA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5C7F-B671-4820-803E-886F0E7A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9F569-A30C-431C-A84B-BBFF6B0C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70E8-0DFA-4E9F-8CBB-82651F8D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457C-379E-4B0B-BBAB-DC1CB5D0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AB1F-197F-4F8D-9DBE-136D3560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654D-B6C5-4689-9A1E-A585ECA8B00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EB96-E466-4D6C-89CF-DD6685555EDA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908B-F975-46AA-9EEE-90441C474B0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84C2-2F05-4186-94DD-DB26B60F08FB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E190-9DCC-4140-9FFD-807CCF88E2B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https://ru.wikipedia.org/wiki/&#1058;&#1077;&#1086;&#1088;&#1080;&#1103;_&#1084;&#1091;&#1079;&#1099;&#1082;&#1080;" TargetMode="External"/><Relationship Id="rId3" Type="http://schemas.openxmlformats.org/officeDocument/2006/relationships/hyperlink" Target="https://ru.wikipedia.org/wiki/&#1058;&#1077;&#1086;&#1088;&#1080;&#1103;_&#1084;&#1091;&#1079;&#1099;&#1082;&#1080;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414360" y="334800"/>
            <a:ext cx="8480520" cy="22496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050560" y="4508640"/>
            <a:ext cx="6905880" cy="234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Trebuchet MS"/>
              </a:rPr>
              <a:t>ВЫПОЛНИЛА</a:t>
            </a:r>
            <a:r>
              <a:rPr b="0" lang="ru-RU" sz="2300" spc="-1" strike="noStrike">
                <a:solidFill>
                  <a:srgbClr val="002060"/>
                </a:solidFill>
                <a:latin typeface="Trebuchet MS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rebuchet MS"/>
              </a:rPr>
              <a:t>ДУХНОВА КРИСТИНА АНДРЕЕВН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rebuchet MS"/>
              </a:rPr>
              <a:t>10 КЛАСС, ЧОУ СОШ №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rebuchet MS"/>
              </a:rPr>
              <a:t>ДИНСКОГО РАЙОН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Trebuchet MS"/>
              </a:rPr>
              <a:t>НАУЧНЫЙ РУКОВОДИТЕЛЬ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33e"/>
                </a:solidFill>
                <a:latin typeface="Trebuchet MS"/>
              </a:rPr>
              <a:t>ГРАНКОВА ЕВГЕНИЯ АЛЕКСАНДРОВН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1714680" y="2328840"/>
            <a:ext cx="57150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-171360" y="-49320"/>
            <a:ext cx="9315360" cy="11764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ифагор заметил, что отношение частот двух соседних нот всегда отличается, а отношение частот двух нот, отстоящих друг от дружки на четыре позиции, наоборот, всегда постоянно и составляет 3/2. Такое созвучие теперь называют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винтой.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Взяв квинту за основу, Пифагор вывел музыкальную формулу, которая позволяет на основе частоты базовой ноты, от которой ведется отсчет, и порядкового номера заданной ноты получить искомое значение частоты следующей ноты. В результате последовательного применения формулы получаются звуки, отстоящие друг от друга на квинту. В этом ряду есть все ноты звукоряда. И хотя они относятся к разным октавам, но, поделив или умножив частоту нужного звука на два, можно перенести его в соседнюю октаву. Повторяя операцию деления (или умножения) несколько раз, можно заполнить весь диапазон инструмента. Роль математики в этой музыкальной истории очевидн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390600" y="324000"/>
            <a:ext cx="7308720" cy="11397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68360" y="112536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4e7ed"/>
                </a:solidFill>
                <a:latin typeface="Arial"/>
                <a:ea typeface="Arial"/>
              </a:rPr>
              <a:t>	</a:t>
            </a:r>
            <a:r>
              <a:rPr b="0" lang="ru-RU" sz="1900" spc="-1" strike="noStrike">
                <a:solidFill>
                  <a:srgbClr val="002060"/>
                </a:solidFill>
                <a:latin typeface="Arial"/>
                <a:ea typeface="Arial"/>
              </a:rPr>
              <a:t>В основе этой музыкальной системы были два закона, которые носят имена двух великих ученых - Пифагора и Архита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1900" spc="-1" strike="noStrike">
                <a:solidFill>
                  <a:srgbClr val="002060"/>
                </a:solidFill>
                <a:latin typeface="Arial"/>
                <a:ea typeface="Arial"/>
              </a:rPr>
              <a:t>Вот эти законы: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1900" spc="-1" strike="noStrike">
                <a:solidFill>
                  <a:srgbClr val="002060"/>
                </a:solidFill>
                <a:latin typeface="Arial"/>
                <a:ea typeface="Arial"/>
              </a:rPr>
              <a:t>1. 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Две звучащие струны определяют консонанс, если их длины относятся как целые числа, образующие треугольное число 10=1+2+3+4, т.е. как 1:2, 2:3, 3:4. Причем, чем меньше число n в отношении n:(n+1) (n=1,2,3), тем созвучнее получающийся интервал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2. Частота колебания w звучащей струны обратно пропорциональна ее длине l 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      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w = a : l ,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где а - коэффициент, характеризующий физические свойства струны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1468440" y="12600"/>
            <a:ext cx="6175440" cy="12128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324000" y="105228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1. Гаммой, или звукорядом, называется последовательность звуков, расположенных от основного тона (звука) в восходящем или нисходящем порядке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2. Интервальным коэффициентом двух тонов считают отношение частоты колебаний верхнего тона к частоте колебаний нижнего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w</a:t>
            </a:r>
            <a:r>
              <a:rPr b="0" lang="ru-RU" sz="3000" spc="-1" strike="noStrike" baseline="-25000">
                <a:solidFill>
                  <a:srgbClr val="002060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: w</a:t>
            </a:r>
            <a:r>
              <a:rPr b="0" lang="ru-RU" sz="30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3" descr=""/>
          <p:cNvPicPr/>
          <p:nvPr/>
        </p:nvPicPr>
        <p:blipFill>
          <a:blip r:embed="rId1"/>
          <a:stretch/>
        </p:blipFill>
        <p:spPr>
          <a:xfrm>
            <a:off x="36360" y="115920"/>
            <a:ext cx="836928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2" descr=""/>
          <p:cNvPicPr/>
          <p:nvPr/>
        </p:nvPicPr>
        <p:blipFill>
          <a:blip r:embed="rId1"/>
          <a:stretch/>
        </p:blipFill>
        <p:spPr>
          <a:xfrm>
            <a:off x="281160" y="324000"/>
            <a:ext cx="7418160" cy="13586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31680" y="1412640"/>
            <a:ext cx="8715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 Основой музыкальной шкалы–гаммы пифагорейцев был интервал – октава. Она является консонансом, повторяющим верхний звук. Для построения музыкальной гаммы пифагорейцам требовалось разделить октаву на красиво звучащие части. Так как они верили в совершенные пропорции, то связали устройство гаммы со средними величинами: арифметическим, гармонически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реднее арифметическое частот колебаний тоники (w</a:t>
            </a:r>
            <a:r>
              <a:rPr b="1" lang="ru-RU" sz="2400" spc="-1" strike="noStrike" baseline="-25000">
                <a:solidFill>
                  <a:srgbClr val="002060"/>
                </a:solidFill>
                <a:latin typeface="Arial"/>
                <a:ea typeface="Arial"/>
              </a:rPr>
              <a:t>1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) и ее октавного повторения (w</a:t>
            </a:r>
            <a:r>
              <a:rPr b="1" lang="ru-RU" sz="2400" spc="-1" strike="noStrike" baseline="-25000">
                <a:solidFill>
                  <a:srgbClr val="002060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) помогает найти совершенный консонанс квинт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Т.к. w</a:t>
            </a:r>
            <a:r>
              <a:rPr b="1" lang="ru-RU" sz="2400" spc="-1" strike="noStrike" baseline="-25000">
                <a:solidFill>
                  <a:srgbClr val="002060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= 2w</a:t>
            </a:r>
            <a:r>
              <a:rPr b="1" lang="ru-RU" sz="2400" spc="-1" strike="noStrike" baseline="-25000">
                <a:solidFill>
                  <a:srgbClr val="002060"/>
                </a:solidFill>
                <a:latin typeface="Arial"/>
                <a:ea typeface="Arial"/>
              </a:rPr>
              <a:t>1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, то w</a:t>
            </a:r>
            <a:r>
              <a:rPr b="1" lang="ru-RU" sz="2400" spc="-1" strike="noStrike" baseline="-25000">
                <a:solidFill>
                  <a:srgbClr val="002060"/>
                </a:solidFill>
                <a:latin typeface="Arial"/>
                <a:ea typeface="Arial"/>
              </a:rPr>
              <a:t>3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= (w</a:t>
            </a:r>
            <a:r>
              <a:rPr b="1" lang="ru-RU" sz="2400" spc="-1" strike="noStrike" baseline="-25000">
                <a:solidFill>
                  <a:srgbClr val="002060"/>
                </a:solidFill>
                <a:latin typeface="Arial"/>
                <a:ea typeface="Arial"/>
              </a:rPr>
              <a:t>1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+ w</a:t>
            </a:r>
            <a:r>
              <a:rPr b="1" lang="ru-RU" sz="2400" spc="-1" strike="noStrike" baseline="-25000">
                <a:solidFill>
                  <a:srgbClr val="002060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) : 2 = 3w</a:t>
            </a:r>
            <a:r>
              <a:rPr b="1" lang="ru-RU" sz="2400" spc="-1" strike="noStrike" baseline="-25000">
                <a:solidFill>
                  <a:srgbClr val="002060"/>
                </a:solidFill>
                <a:latin typeface="Arial"/>
                <a:ea typeface="Arial"/>
              </a:rPr>
              <a:t>1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: 2 или w</a:t>
            </a:r>
            <a:r>
              <a:rPr b="1" lang="ru-RU" sz="2400" spc="-1" strike="noStrike" baseline="-25000">
                <a:solidFill>
                  <a:srgbClr val="002060"/>
                </a:solidFill>
                <a:latin typeface="Arial"/>
                <a:ea typeface="Arial"/>
              </a:rPr>
              <a:t>3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: w</a:t>
            </a:r>
            <a:r>
              <a:rPr b="1" lang="ru-RU" sz="2400" spc="-1" strike="noStrike" baseline="-25000">
                <a:solidFill>
                  <a:srgbClr val="002060"/>
                </a:solidFill>
                <a:latin typeface="Arial"/>
                <a:ea typeface="Arial"/>
              </a:rPr>
              <a:t>1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= 3 : 2 (w</a:t>
            </a:r>
            <a:r>
              <a:rPr b="1" lang="ru-RU" sz="2400" spc="-1" strike="noStrike" baseline="-25000">
                <a:solidFill>
                  <a:srgbClr val="002060"/>
                </a:solidFill>
                <a:latin typeface="Arial"/>
                <a:ea typeface="Arial"/>
              </a:rPr>
              <a:t>3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– частота колебаний квинты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36360" y="334800"/>
            <a:ext cx="826632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3" descr=""/>
          <p:cNvPicPr/>
          <p:nvPr/>
        </p:nvPicPr>
        <p:blipFill>
          <a:blip r:embed="rId1"/>
          <a:stretch/>
        </p:blipFill>
        <p:spPr>
          <a:xfrm>
            <a:off x="255600" y="274680"/>
            <a:ext cx="846756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-30240" y="762120"/>
            <a:ext cx="83883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2371680" y="212760"/>
            <a:ext cx="4278240" cy="8906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250920" y="980640"/>
            <a:ext cx="7300800" cy="541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збавил музыкантов от головной боли! Однако одновременно создал  проблему: в звукоряде, построенном по его формуле, целое число квинт не укладывается в целое число октав. Такое несоответствие получило название "пифагорова комма". Пифагорова комма - не только кажущийся математический парадокс. Главное, что при пифагоровой системе невозможно играть в произвольной тональности, не фальшив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тервал между октавой, полученной шагами по 12-равномерным полутонам V9/8, и чистой октавой равен и называется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ифагоровой коммо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(коммой в музыкальной акустике называется интервал, не превышающий 1/9 целого тона. Пифагорова комма приблизительно равна 1/9 тона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4754520" y="-6480"/>
            <a:ext cx="3346560" cy="1212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0" y="3428640"/>
            <a:ext cx="9144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ифагору принадлежит и открытие терапевтического эффекта музыки. Он не колебался относительно влияния музыки на ум и тело, называя это “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музыкальной медицино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”. Он полагал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, ”что музыка во многом содействует здоровью, если пользоваться ею соответственно подобающим ладам, так как человеческая душа, и весь мир в целом имеют музыкально-числовую основу”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ечерами проводилось хоровое пение, сопровождавшееся струнными инструментами.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”Отходя ко сну, они (пифагорейцы) освобождали разум от смятения и шума, царящего в нем после проведенного дня, некоторыми напевами и специальными мелодиями и таким путем обеспечивали себе спокойный, с немногочисленными, но приятными сновидениями, сон, а, встав ото сна, снимали сонную вялость и оцепенение с помощью другого рода мелодий”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Picture 4" descr="Пифагор и Пифагорейцы"/>
          <p:cNvPicPr/>
          <p:nvPr/>
        </p:nvPicPr>
        <p:blipFill>
          <a:blip r:embed="rId2"/>
          <a:stretch/>
        </p:blipFill>
        <p:spPr>
          <a:xfrm>
            <a:off x="324000" y="333360"/>
            <a:ext cx="3966840" cy="2935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Греки3"/>
          <p:cNvPicPr/>
          <p:nvPr/>
        </p:nvPicPr>
        <p:blipFill>
          <a:blip r:embed="rId3"/>
          <a:srcRect l="0" t="0" r="0" b="10944"/>
          <a:stretch/>
        </p:blipFill>
        <p:spPr>
          <a:xfrm>
            <a:off x="4932360" y="1197000"/>
            <a:ext cx="352728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132000" y="1052640"/>
            <a:ext cx="5438880" cy="4643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4e7ed"/>
                </a:solidFill>
                <a:latin typeface="Arial"/>
                <a:ea typeface="Arial"/>
              </a:rPr>
              <a:t>"Раздумывая об искусстве и науке, об их взаимных связях и противоречиях, я пришел к выводу, что математика и музыка находятся на крайних полюсах человеческого духа, что этими двумя антиподами ограничивается и определяется вся творческая духовная деятельность человека и, что между ними размещается все, что человечество создало в области науки и искусства."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4e7ed"/>
                </a:solidFill>
                <a:latin typeface="Arial"/>
                <a:ea typeface="Arial"/>
              </a:rPr>
              <a:t>Генрих Нейгауз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2448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298440" y="0"/>
            <a:ext cx="7480440" cy="14382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Для своего эксперимента я решила воспользоваться личным опытом и наблюдениями. Для проведения исследования я выбрала две группы песен абсолютно разных жанров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В первую группу входили произведения великих композиторов («К Элизе» и «Лунная соната» Людвига Ван Бетховена, сцена «Танец снежинок» из балета «Щелкунчик» Петра Ильича Чайковского и «Этюд» Сергея Васильевича Рахманинова)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Ко второй группе были отнесены песни поп исполнителей и рок музыкантов (песни Майкла Джексона, Бритни Спирс, Мадонны, Кэти Перри)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При подготовке к основному государственному экзамену по математике (ОГЭ) каждый вечер в течение недели мной были прослушаны песни первой группы. Это помогло лучше усвоить необходимую информацию, в особенности формулы, теоремы и признаки геометрических фигур, а решение задач казалось проще, чем обычно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Во время прослушивания песен второй группы, я заметила, что сконцентрироваться на работе было гораздо сложнее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84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пример, при решении тренировочных вариантов ОГЭ по математике после прослушивания классической музыки на выполнение заданий тестовой части тратилось намного меньше времени, и качество работы было выше. Если в среднем на решение работы тестовой части отводилось около 1.5 часов, при прослушивании песен первой группы на выполнение заданий уходило около 45-50 минут. Однако при прослушивании произведений, относящихся ко второй группе, эффективность выполнения работы ухудшалась (совершались ошибки в решении уравнений и задач повышенной сложности), а на решение тратилось большее количество времени (около 2 часов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632720" cy="1431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Если объяснять данное явление с научной точки зрения, то мы получаем, что прослушивание классической музыки позволяет человеку качественнее и большей мере выполнять работу и поставленные задачи, воздействуя на нервные клетки. Нервная система приходила в состояние покоя, поэтому усваивание теорем и формул по математике было намного эффективней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ассмотрев математическую теорию музыки, я глубже поняла и разобралась в том, что приятные для слуха различные музыкальные звуки подчиняются простым математическим законам. Так же меня порадовало, что и современные ученые изучают геометрический строй музыки. Данная тема актуальна в наши дни, и в ней есть место для новых открытий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 помощью эксперимента мне удалось доказать влияние музыки на математику, а именно на продуктивность усвоения учащимися материала на уроках алгебры или геометрии с помощью оптимизации умственных процессов, путем прослушивания на уроках музыкальных произведений. Что доказывает, что эти вроде бы не совместимые «материи» идут бок о бок и гармонично дополняют друг друг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Я убедилась, что математическая точность музыки всегда была и остаётся её неотъемлемым свойством, а музыкальная поэтика свойственна всем математическим процессам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152280" y="0"/>
            <a:ext cx="7480440" cy="1438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2509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Я считаю, что цель моей работы достигнута, задачи выполнены. Изучение данной темы, на мой взгляд, может быть продолжено, так как литературы о связи музыки и математики очень мало. Сравнивая музыку и математику, я сделал вывод, что математика, как наука может развиваться без музыки, а музыкальное искусство подчиняется многим законам математики и не может существовать без неё. </a:t>
            </a:r>
            <a:r>
              <a:rPr b="1" i="1" lang="ru-RU" sz="2900" spc="-1" strike="noStrike">
                <a:solidFill>
                  <a:srgbClr val="ff0000"/>
                </a:solidFill>
                <a:latin typeface="Trebuchet MS"/>
              </a:rPr>
              <a:t>«Музыка есть таинственная арифметика души; она вычисляет, сама того не сознавая».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4" descr=""/>
          <p:cNvPicPr/>
          <p:nvPr/>
        </p:nvPicPr>
        <p:blipFill>
          <a:blip r:embed="rId1"/>
          <a:stretch/>
        </p:blipFill>
        <p:spPr>
          <a:xfrm>
            <a:off x="255600" y="324000"/>
            <a:ext cx="7443720" cy="13824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erudition.r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rus-lib.r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xsolver.narod.r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volution.allbest.r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estival.1september.r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ртреты математиков и картинки взяты и сети Интерне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s://ru.wikipedia.org/wiki/</a:t>
            </a:r>
            <a:r>
              <a:rPr b="0" lang="ru-RU" sz="26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Теория_музык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212760" y="189000"/>
            <a:ext cx="8474040" cy="10112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вести параллель между музыкой и математико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Для достижения цели надо решить задачи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)познакомиться с учением о связи между музыкой и математикой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)разобрать основные правила консонанса и доказать их математическую природу; 3)доказать благотворное влияние изучения музыки на математические способност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396720" y="-19080"/>
            <a:ext cx="8448840" cy="142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539280" y="1628280"/>
            <a:ext cx="73105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Arial"/>
              </a:rPr>
              <a:t>Существует распространенное мнение, что 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Математика и Музыка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2060"/>
                </a:solidFill>
                <a:latin typeface="Arial"/>
              </a:rPr>
              <a:t>– два полюса человеческого восприятия и две противоположные системы мышления… Как в музыке важна </a:t>
            </a:r>
            <a:r>
              <a:rPr b="1" lang="ru-RU" sz="2700" spc="-1" strike="noStrike">
                <a:solidFill>
                  <a:srgbClr val="002060"/>
                </a:solidFill>
                <a:latin typeface="Arial"/>
              </a:rPr>
              <a:t>Логика</a:t>
            </a:r>
            <a:r>
              <a:rPr b="0" lang="ru-RU" sz="2700" spc="-1" strike="noStrike">
                <a:solidFill>
                  <a:srgbClr val="002060"/>
                </a:solidFill>
                <a:latin typeface="Arial"/>
              </a:rPr>
              <a:t>, так и в математике важно </a:t>
            </a:r>
            <a:r>
              <a:rPr b="1" lang="ru-RU" sz="2700" spc="-1" strike="noStrike">
                <a:solidFill>
                  <a:srgbClr val="002060"/>
                </a:solidFill>
                <a:latin typeface="Arial"/>
              </a:rPr>
              <a:t>образное мышление и воображение</a:t>
            </a:r>
            <a:r>
              <a:rPr b="0" lang="ru-RU" sz="2700" spc="-1" strike="noStrike">
                <a:solidFill>
                  <a:srgbClr val="002060"/>
                </a:solidFill>
                <a:latin typeface="Arial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Arial"/>
              </a:rPr>
              <a:t>Мы  живем во времена экономической, политической, культурной и информационной интеграции.  Математика и Музыка являются воплощением таких понятий, как 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Интеграция и Гармония.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212760" y="262080"/>
            <a:ext cx="8474040" cy="10126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 сегодняшний день значимость музыкального образования значительно снижается. Люди забывают о том, что </a:t>
            </a:r>
            <a:r>
              <a:rPr b="0" i="1" lang="ru-RU" sz="2400" spc="-1" strike="noStrike">
                <a:solidFill>
                  <a:srgbClr val="ff0000"/>
                </a:solidFill>
                <a:latin typeface="Trebuchet MS"/>
              </a:rPr>
              <a:t>музыка и математика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– родные сёстры, что они просто созданы помогать друг другу. Родители, задумываясь, почему их ребёнок плохо успевает по математике, не принимают во внимание тот факт, что музыкальное образование значительно повышает способность к математике. Учитывая, что математика становится всё более популярным, но остаётся при этом не менее сложным предметом, ценность музыки и музыкального образования как вспомогательного должна повышаться, но это придёт только с пониманием способности музыки помогать в изучении математик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88280" cy="14256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тематика</a:t>
            </a:r>
            <a:r>
              <a:rPr b="1" lang="ru-RU" sz="2400" spc="-1" strike="noStrike">
                <a:solidFill>
                  <a:srgbClr val="f4e7e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– это не только стройная система законов, теорем, задач, но и уникальное средство познания красоты. А красота многогранна и многолика. Она выражает высшую целесообразность устройства мира, подтверждает универсальность математических закономерностей, которые действуют одинаково эффективно в кристаллах и в живых организмах, в атомах и во Вселенной, в произведениях искусства и научных открытиях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асота</a:t>
            </a:r>
            <a:r>
              <a:rPr b="0" lang="ru-RU" sz="2400" spc="-1" strike="noStrike">
                <a:solidFill>
                  <a:srgbClr val="f4e7e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могает с радостью воспринимать окружающий мир, математика даёт возможность осознать явления и упрочить знания о гармонии всего мир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2743200" y="189000"/>
            <a:ext cx="4133880" cy="10666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1116000" y="1027080"/>
            <a:ext cx="7920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279440" indent="-228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Еще древнегреческий философ и математик Пифагор утверждал, что мир это </a:t>
            </a: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Гармония</a:t>
            </a: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, а гармония – это </a:t>
            </a: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число.</a:t>
            </a: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 Ученики и последователи пифагорейской школы отмечали то, что: </a:t>
            </a:r>
            <a:r>
              <a:rPr b="1" i="1" lang="ru-RU" sz="2400" spc="-1" strike="noStrike">
                <a:solidFill>
                  <a:srgbClr val="002060"/>
                </a:solidFill>
                <a:latin typeface="Arial Narrow"/>
              </a:rPr>
              <a:t>«Можно заметить, что природа и сила числа действует не только в демонических и божественных вещах, но также повсюду во всех человеческих делах и отношениях, во всех технических искусствах и в музыке». </a:t>
            </a:r>
            <a:r>
              <a:rPr b="0" i="1" lang="ru-RU" sz="2400" spc="-1" strike="noStrike">
                <a:solidFill>
                  <a:srgbClr val="002060"/>
                </a:solidFill>
                <a:latin typeface="Arial Narrow"/>
              </a:rPr>
              <a:t>Филола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 Narrow"/>
              </a:rPr>
              <a:t>«Все то, что природа систематически сложила во вселенной, кажется в своих частях, как и в целом, определенным и слаженным в стройный аккорд при помощи числа…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4" descr="пифагор5"/>
          <p:cNvPicPr/>
          <p:nvPr/>
        </p:nvPicPr>
        <p:blipFill>
          <a:blip r:embed="rId2"/>
          <a:stretch/>
        </p:blipFill>
        <p:spPr>
          <a:xfrm>
            <a:off x="6480" y="287280"/>
            <a:ext cx="2627280" cy="3090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>
            <a:off x="436680" y="3378240"/>
            <a:ext cx="22255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1944720" y="0"/>
            <a:ext cx="5851440" cy="1023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7928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Приятная для слуха слаженность звуков (музыкально-эстетическое понятие: то же, что </a:t>
            </a: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«благозвучие»; нем. Harmoni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Гармония</a:t>
            </a:r>
            <a:r>
              <a:rPr b="0" lang="ru-RU" sz="2600" spc="-1" strike="noStrike">
                <a:solidFill>
                  <a:srgbClr val="f4e7ed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это: </a:t>
            </a:r>
            <a:br>
              <a:rPr sz="2600"/>
            </a:b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• объединение звуков в созвучия и их         закономерное последование (композиционно-техническое понятие);</a:t>
            </a:r>
            <a:br>
              <a:rPr sz="2600"/>
            </a:b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• гармония как музыкально-художественное средство, соответствующее немецкому </a:t>
            </a: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Harmonik;</a:t>
            </a:r>
            <a:br>
              <a:rPr sz="2600"/>
            </a:b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• гармонией также называется научная и учебно-практическая дисциплина, изучающая звуковысотную организацию музыки, созвучия и их связи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Rectangle 2" descr=""/>
          <p:cNvPicPr/>
          <p:nvPr/>
        </p:nvPicPr>
        <p:blipFill>
          <a:blip r:embed="rId1"/>
          <a:stretch/>
        </p:blipFill>
        <p:spPr>
          <a:xfrm>
            <a:off x="268200" y="-23760"/>
            <a:ext cx="7437600" cy="13888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539640" y="4292640"/>
            <a:ext cx="822960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ифагор создал свою школу мудрости, положив в ее основу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два искусства – музыку и математику</a:t>
            </a:r>
            <a:r>
              <a:rPr b="0" lang="ru-RU" sz="2800" spc="-1" strike="noStrike">
                <a:solidFill>
                  <a:srgbClr val="f4e7ed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н считал, что гармония чисел сродни гармонии звуков и что оба этих занятия упорядочивают хаотичность мышления и дополняют друг друга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Picture 5" descr="пифагор4"/>
          <p:cNvPicPr/>
          <p:nvPr/>
        </p:nvPicPr>
        <p:blipFill>
          <a:blip r:embed="rId2"/>
          <a:stretch/>
        </p:blipFill>
        <p:spPr>
          <a:xfrm>
            <a:off x="2195640" y="1413000"/>
            <a:ext cx="460836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5T11:09:28Z</dcterms:created>
  <dc:creator>МОУ СОШ №3</dc:creator>
  <dc:description/>
  <dc:language>en-US</dc:language>
  <cp:lastModifiedBy>computer</cp:lastModifiedBy>
  <dcterms:modified xsi:type="dcterms:W3CDTF">2016-01-14T08:15:20Z</dcterms:modified>
  <cp:revision>44</cp:revision>
  <dc:subject/>
  <dc:title>Связь музыки и математики</dc:title>
</cp:coreProperties>
</file>