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17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5.wmf" ContentType="image/x-wmf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6A1D-12B4-4186-A9C1-4877CA7F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93F9-E1E7-4A9B-AB12-5519294F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E2268-BBBE-45B6-9A8A-69668B99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101E1-98D4-4A6C-8BF7-C6C91B9E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1AB360-67A4-4EDB-BD7F-82D1691B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E5560F-74DE-484E-9245-AE6AFF41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BD395-21DB-42F0-A024-66D46D71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AF8353-CECB-4BEE-9AF1-DDC3A1A0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536824-8586-40A8-9D8F-44C05F47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59E66-A99A-41F5-B908-675C0E79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3E6BA-92BF-48D3-88FD-D211507A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42737-146C-485C-BDB9-C25FCEFC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EC1-801D-4FAA-BF3B-17F114A3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3ACBF-34D5-42DE-A75E-21879A03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C48B3-7BC6-433F-9398-836FC5AC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74F335-A94C-48A5-A36C-D3EC3232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82491A-0464-4B95-91CB-657CE6F3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C0640F-53AD-4C91-8028-6C3C62AB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0E535-B822-4019-A45D-8A6F82F7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1234BC-D18D-437B-969A-77665948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2056F2-5559-4BE7-9058-2EC38F96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95FF03-58DD-4F1F-AE66-5546FE3A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E339FD-567F-47A5-96D3-EE99942B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0F2A-F2CF-43C6-86DC-D99655FE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5CAD9E-3E74-4C76-A99E-C13D7111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EBC67-9669-4775-8441-BFE3549F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E8FB2-AC9B-45D8-87E5-9491AC77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43BD9-0F00-46A2-A88B-B904E259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A7185-41F7-4C84-A963-08797A37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2A686-01D3-4A41-92AD-95936810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2054B-A6D8-4A24-AE9E-1167C755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E676E-439F-4CBD-A276-E7060045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F97E4-73B7-43E8-A263-63299427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084C3-293C-4419-BDE4-29D5B9FB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D65F-8AD8-4110-9A4F-4103BB75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CE404-67FE-4DF9-8748-2367110B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4C967-4A9E-454E-83DB-FD2F4200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B22DA-CB89-4DE8-BFED-A461D7CF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86F8D4-4DF9-4D9F-A4C2-A6CF61B5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6F902-4ECF-4C40-80B1-1A85F6C3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425146-C187-429F-8A1C-DEED4247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849B71-CF56-4344-813F-11B3503C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1D7CA-7ABE-4C37-9A1E-D8E9BF51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9E0AF6-3925-464C-84B5-FD3933A0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BE24CC-FCC4-4B15-99EC-2D256D41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9413-B868-48F8-BB48-A62B6C3C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800EA8-DF25-42FC-ACE1-61015168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B54D8F-8496-4DF8-AF8D-FD66DB7A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36933-E2B7-4803-BAFE-59236408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AD6BC6-B016-48C3-B96D-634622D8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DDB047-2BA4-4BB5-B64D-0FAAD8B0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5A52-9B12-48A1-B3CE-839B79C5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CEEF-5F93-43E0-ABC7-BCCD76BA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D6B3-1DF9-4F08-B7BA-40B9FE80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FC65-ABA2-42BA-9BD5-BDC7F506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D72D-E6AA-4BA4-8588-0B9760E2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F11-AD64-49A2-9468-4C80CC24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9741-326B-488F-97A6-97198B24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5EB9-2FCF-48CB-B8FA-4D9F0DA5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3B41-A35B-4CD9-80FC-1E4A5951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7B39-99E5-48B8-B914-46738C3F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FEBF-0E4C-4DAD-9385-C109B20A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FE465-3830-433D-B0C3-33E797D7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60405-E60A-43F7-97B7-86F4F2A9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B16CC-EDA8-4945-937F-CB31A1A5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EBA00-3DB4-4AF7-BE84-BAF82D4A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477D0-88B0-4EFB-9E29-8CC7DE2E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EE0E-B527-42D0-A295-E2284E00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19AC0-2EEB-4E5D-9FCA-0FC4A259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24C91-30E6-4310-AB5B-7AD361BC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2A096-33F1-4BEF-99AC-94C9C2C9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5B63D-7820-48BF-81AE-9524782A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9933B-378A-410F-8FA6-3CC08AC6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AE3B4-CFA2-4171-8E59-2C3728C8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B06B5-1E5C-427F-8593-58624C79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1A908-AA9D-482F-A258-CE34A9A4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DE545-B868-4B1C-AE34-EC1C5C97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70D52-0A64-4737-BB7C-57A5F44B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0FC-CB4B-4F0C-91F7-48157114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8C337-B845-47D2-8CC6-E64B55FF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22F5E-C615-42BE-BA5F-D3F9FAB6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A83D0-44D7-47F1-85E5-C4B03DF0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7F6C9-54EB-4EF2-80BD-1AA98ACF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2F331-2A47-42DF-8749-60BF884B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9F5C9-A87F-4A45-8923-590FCF3B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DC2CE-07BE-4257-9471-49BB193C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26E10-077E-4CDF-A262-30F990FC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B8AD0-F9BF-4D0A-A185-7A0204BC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58847-4FA7-4FAF-9CDC-FC7E49D1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014A-0F1B-42EA-82E1-B9A55045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C26B4-DA43-4D63-BCA5-2F8C7B4F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B2027-C882-4348-A4F7-E7E66C2C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D08C0-3F33-4EA0-9805-0C375722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E60B8-9A34-46D0-8F9B-A7C84C86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286B6-2332-4344-8504-B402EBDA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98977-3864-484B-AD6C-19BBD38B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A09D5-A33E-488A-862B-1FDD0115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84175-2782-4440-BB65-43C8B74D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BD2F2-F746-4A29-9215-84CB5321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3F1F6-C1AE-43DC-AF45-EB1C0E12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41B-CF6F-479C-870B-FE869F64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EAE3E-A1B5-45E5-95C1-2440BA58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48AE0-C028-442A-83F0-514CED67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B16C3-A2AB-4935-BDA6-4073568A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6D525-60D9-4E08-A3EB-84363900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66BB2-FDBB-404A-A0FF-18AFFB37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2343F-FC0A-4A11-A534-FCC82D8D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B22D8-1750-4ED2-9824-168F4EA9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1AB22-F728-45FB-8471-B49B72D7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052D9-AD33-48A4-975E-DCC517A4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1B096-5552-4BA2-8D98-52782F81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E7D9-4DE4-4461-8D40-3629A675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63512-C59D-4222-9B84-D29841F6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9A28A-A7CC-4AA3-9738-699D0E03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64A60-C362-4282-BDC4-2BBF8E0C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DD899-48CE-426B-A6A8-AB7DD57F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BC95B-DE79-4C6E-A1C4-7308141C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3E92F-2750-42DB-9D7E-461DFD7B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8F610-7992-477E-A8CE-6E30D509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31C96-FEEA-4443-9485-D23B01CA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BB8AD-5236-4BFB-98E1-8EA03887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6AF91-37BC-4B05-9401-76B71D1D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D60B-2DA3-4680-BAFD-1C2D979C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B561F-B2C6-4945-BE90-C46D7993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77ACE-D1C4-49D4-B613-7A61994C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FDC00-5181-40D2-8703-DFA998FB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459E7-2A2C-40E0-9B1A-F5F4D658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69CAB-FE06-4CD7-98C9-2DC18FAD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F7643-7056-4FB8-8937-35F8C823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6FEB8-55B5-4A1D-B437-0A54D9D7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30991-A95A-4DDF-B1B8-0DA6AD70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45841-4BC0-4FDB-B52E-6BBCEB2B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2C650-C54C-4582-9163-7644C55D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C92A-E4FD-4B24-BC5A-6DD28447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E429F-3DFA-42A4-8BE5-31106305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6242D-F92A-4F96-B0B6-6E9CFE84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83634-C87D-43AB-A81C-42ABA65C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0404A-0833-4B74-B2D2-16A067EC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CCE32-6ED0-4789-8789-EEF55DBD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16EAB-3629-4D1A-A18D-0D6D371B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06201-D165-4B73-A1F8-75A63FBF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390ABA-C87C-469F-A2F9-D94C389E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AD2F9-F311-488C-AA24-4D1EE289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636AFD-758D-48BA-BB6D-4D0E0095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F7A4-05E1-472D-8609-D7515D16536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9402-48FD-464A-836C-2438F999055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1C4C-9F9F-4D3F-AB1D-D30ABD8BA49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DF99-6DFD-4DC3-BC7B-7B20B8C4C20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1979-81B0-4EAF-9DFD-4752B854413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F317-089E-48CF-A5AC-7DD8FC07B70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A0C7-973D-4C97-A697-074C08BC0F2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AD48-CAB5-4C1C-94E2-CCD00A03D28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DCC0-5CBF-40E1-A3A8-8D061DBBDA8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1457-74B2-4ACD-861E-743067C897A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1667-7438-427A-AA31-27BA9A8CD8B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2CAC-D7D3-4154-9C6C-57E361C3238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1368000" y="2742840"/>
            <a:ext cx="73947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ОБЩЕНИЕ 6 КЛАСС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УЧИТЕЛЬ            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ОЗНАНИЯ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ЗЕВАНОВА Н.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ВАРГАШИНСКАЯ СОШ №1»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Каким образом происходит общение?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рассмотрим средства общен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умаете, какие существуют средства общения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учебником с. 68-69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00000"/>
                </a:solidFill>
                <a:latin typeface="Georgia"/>
              </a:rPr>
              <a:t>Средства обще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0" name="Picture 7" descr=""/>
          <p:cNvPicPr/>
          <p:nvPr/>
        </p:nvPicPr>
        <p:blipFill>
          <a:blip r:embed="rId1"/>
          <a:stretch/>
        </p:blipFill>
        <p:spPr>
          <a:xfrm>
            <a:off x="-6480" y="1407960"/>
            <a:ext cx="2084400" cy="14511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5" descr=""/>
          <p:cNvPicPr/>
          <p:nvPr/>
        </p:nvPicPr>
        <p:blipFill>
          <a:blip r:embed="rId2"/>
          <a:stretch/>
        </p:blipFill>
        <p:spPr>
          <a:xfrm>
            <a:off x="4133880" y="1407960"/>
            <a:ext cx="1803240" cy="14511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6" descr=""/>
          <p:cNvPicPr/>
          <p:nvPr/>
        </p:nvPicPr>
        <p:blipFill>
          <a:blip r:embed="rId3"/>
          <a:stretch/>
        </p:blipFill>
        <p:spPr>
          <a:xfrm>
            <a:off x="2048040" y="1407960"/>
            <a:ext cx="2133360" cy="145116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8"/>
          <p:cNvSpPr/>
          <p:nvPr/>
        </p:nvSpPr>
        <p:spPr>
          <a:xfrm>
            <a:off x="468360" y="414972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4f07"/>
                </a:solidFill>
                <a:latin typeface="Georgia"/>
              </a:rPr>
              <a:t>верб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9"/>
          <p:cNvSpPr/>
          <p:nvPr/>
        </p:nvSpPr>
        <p:spPr>
          <a:xfrm>
            <a:off x="6012000" y="42210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4f07"/>
                </a:solidFill>
                <a:latin typeface="Georgia"/>
              </a:rPr>
              <a:t>неверб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10"/>
          <p:cNvSpPr/>
          <p:nvPr/>
        </p:nvSpPr>
        <p:spPr>
          <a:xfrm flipH="1">
            <a:off x="2700360" y="3284640"/>
            <a:ext cx="719280" cy="7938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1"/>
          <p:cNvSpPr/>
          <p:nvPr/>
        </p:nvSpPr>
        <p:spPr>
          <a:xfrm>
            <a:off x="5724360" y="3357720"/>
            <a:ext cx="649440" cy="7207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2"/>
          <p:cNvSpPr/>
          <p:nvPr/>
        </p:nvSpPr>
        <p:spPr>
          <a:xfrm>
            <a:off x="179280" y="5013360"/>
            <a:ext cx="403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Georgia"/>
              </a:rPr>
              <a:t>письменная и устная речь, слушание и ч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5003640" y="494172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Georgia"/>
              </a:rPr>
              <a:t>взгляд, мимика, жесты, походка, поз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14" descr=""/>
          <p:cNvPicPr/>
          <p:nvPr/>
        </p:nvPicPr>
        <p:blipFill>
          <a:blip r:embed="rId4"/>
          <a:stretch/>
        </p:blipFill>
        <p:spPr>
          <a:xfrm>
            <a:off x="5931000" y="1407960"/>
            <a:ext cx="1469880" cy="14511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5" descr=""/>
          <p:cNvPicPr/>
          <p:nvPr/>
        </p:nvPicPr>
        <p:blipFill>
          <a:blip r:embed="rId5"/>
          <a:stretch/>
        </p:blipFill>
        <p:spPr>
          <a:xfrm>
            <a:off x="7375680" y="1407960"/>
            <a:ext cx="177480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Средства и виды общения.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263520" y="1066680"/>
            <a:ext cx="7386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щение с помощью речи называют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вербальны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щение без помощи речи называют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невербальны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3" name="Picture 15" descr="depositphotos_6315559-Communication"/>
          <p:cNvPicPr/>
          <p:nvPr/>
        </p:nvPicPr>
        <p:blipFill>
          <a:blip r:embed="rId1"/>
          <a:stretch/>
        </p:blipFill>
        <p:spPr>
          <a:xfrm>
            <a:off x="5181480" y="1600200"/>
            <a:ext cx="2819520" cy="19954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6" descr="dispute"/>
          <p:cNvPicPr/>
          <p:nvPr/>
        </p:nvPicPr>
        <p:blipFill>
          <a:blip r:embed="rId2"/>
          <a:stretch/>
        </p:blipFill>
        <p:spPr>
          <a:xfrm>
            <a:off x="5257800" y="4343400"/>
            <a:ext cx="2971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1</a:t>
            </a:r>
            <a:r>
              <a:rPr b="0" lang="ru-RU" sz="3200" spc="-1" strike="noStrike">
                <a:solidFill>
                  <a:srgbClr val="7b9899"/>
                </a:solidFill>
                <a:latin typeface="Georgia"/>
              </a:rPr>
              <a:t>вид.</a:t>
            </a:r>
            <a:br>
              <a:rPr sz="3200"/>
            </a:br>
            <a:r>
              <a:rPr b="0" lang="ru-RU" sz="3200" spc="-1" strike="noStrike">
                <a:solidFill>
                  <a:srgbClr val="7b9899"/>
                </a:solidFill>
                <a:latin typeface="Georgia"/>
              </a:rPr>
              <a:t> Речевое (вербальное) общение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редства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 слова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 письменная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еч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 устная реч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7" name="Picture 4" descr="article3825"/>
          <p:cNvPicPr/>
          <p:nvPr/>
        </p:nvPicPr>
        <p:blipFill>
          <a:blip r:embed="rId1"/>
          <a:stretch/>
        </p:blipFill>
        <p:spPr>
          <a:xfrm>
            <a:off x="4495680" y="3048120"/>
            <a:ext cx="35528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9899"/>
                </a:solidFill>
                <a:latin typeface="Georgia"/>
              </a:rPr>
              <a:t>2 вид . Неречевое (невербальное) общение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380880" y="1371600"/>
            <a:ext cx="6477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ед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мими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жест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интонаци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голос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взгляд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поз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дви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5" descr="Mimika-1"/>
          <p:cNvPicPr/>
          <p:nvPr/>
        </p:nvPicPr>
        <p:blipFill>
          <a:blip r:embed="rId1"/>
          <a:stretch/>
        </p:blipFill>
        <p:spPr>
          <a:xfrm>
            <a:off x="4114800" y="2819520"/>
            <a:ext cx="31338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.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263520" y="-360"/>
            <a:ext cx="849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опробуйте, используя голос, интонацию, мимику, жесты три раза произнести одно и то же слово, но с разным смыслом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привет</a:t>
            </a: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спасибо,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молодец,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здравствуйте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01320" y="304560"/>
            <a:ext cx="850428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смотрите на диаграмму  здесь показано какой объем информации мы получаем благодаря различным средствам общения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какому выводу можно прийти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76" name="Object 10"/>
          <p:cNvGraphicFramePr/>
          <p:nvPr/>
        </p:nvGraphicFramePr>
        <p:xfrm>
          <a:off x="533520" y="2514600"/>
          <a:ext cx="7869240" cy="35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7869240" cy="35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2" descr="C:\Users\Администратор\Desktop\15201.jpg"/>
          <p:cNvPicPr/>
          <p:nvPr/>
        </p:nvPicPr>
        <p:blipFill>
          <a:blip r:embed="rId1"/>
          <a:stretch/>
        </p:blipFill>
        <p:spPr>
          <a:xfrm>
            <a:off x="304920" y="228600"/>
            <a:ext cx="4800600" cy="38336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3" descr="C:\Users\Администратор\Desktop\barboskiny-49-seriya-opyt-obscheniya1.jpg"/>
          <p:cNvPicPr/>
          <p:nvPr/>
        </p:nvPicPr>
        <p:blipFill>
          <a:blip r:embed="rId2"/>
          <a:stretch/>
        </p:blipFill>
        <p:spPr>
          <a:xfrm>
            <a:off x="4114800" y="2743200"/>
            <a:ext cx="4743360" cy="379404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     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частую в общении возникают сложности. Они называются барьеры общ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чему герои мультфильма так общаются, почему они не понимают друг друг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могите им как нужно правильно общаться, чтобы понять друг друга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обще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457200" y="121932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  общении необходим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 общении недопустим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15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нцентрироваться на человеке, который обращается к теб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лекаться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5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ать внимание не только на слово, но и на звук голоса, мимику, жест, позу и т.д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бивать собеседника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давать оценок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ь только о себе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давать советов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ать оценки и советы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«Единственная роскошь в мире- это роскошь человеческого общения»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. Сент-Экзюпер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4" descr="1819"/>
          <p:cNvPicPr/>
          <p:nvPr/>
        </p:nvPicPr>
        <p:blipFill>
          <a:blip r:embed="rId1"/>
          <a:stretch/>
        </p:blipFill>
        <p:spPr>
          <a:xfrm>
            <a:off x="762120" y="3733920"/>
            <a:ext cx="19414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1"/>
          <p:cNvSpPr/>
          <p:nvPr/>
        </p:nvSpPr>
        <p:spPr>
          <a:xfrm>
            <a:off x="380880" y="712080"/>
            <a:ext cx="6934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Отве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–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ошибок –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ошибка –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ошибки –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3 ошибок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01320" y="228600"/>
            <a:ext cx="8504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без общения нет человека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ерез общение человек получает знания об окружающем мире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 помощью общения происходит передача опыта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своение тех культурных, нравственных ценностей, которые  выработаны человечеством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лагодаря общению люди учатся оценивать поступки и отношения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сваивают правила поведения и применяют их на практике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акие важнейшие качества человека, как принципиальность, отзывчивость, честность, доброта не только проявляются, но и формируются в общении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щение способствует развитию интересов человека или может тормозить его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юбой человек оценивает себя как бы глазами других людей. Чем разностороннее круг общения, тем разнообразнее сведения, которые получает человек о самом себе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 мысль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на уроке было интересно потому, что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на уроке мне понравилось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еня новым было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лучил удовольствие от того, что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я себя чувствовала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меня заинтересовала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еня было неожиданным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знал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о было то, что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ьше я не знал (а)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маю, это мероприятие…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лан Пиз. Язык жестов. Что могут рассказать о характере и мыслях человека его жесты. Воронеж, 1998г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лешина М. О вежливости, а также, о деликатности. Лениздат, 1986г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мычек Л.. Вежливость на каждый день. М., 1988г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олесов, В.В, Культура речи – культура поведения/ В.В.  Колесов. -  М., 2005.-163с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отова, О.А., Лискова,  Т.Е., Обществоведение: рабочая тетрадь/О.А. Котова, Т.Е. Лискова, - М.: Просвещение, 2008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овые педагогические и информационные технологии в системе образования/ Под ред. Е. С. Полат.- М.: Академия, 2001.- 270с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бществознание: Человек, природа, общение: учебник для 6 класса под ред. Л.Н.Боголюбова.- М.: Просвещение, 2007.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етровский, А.В., Ярошевский, М.Г., Психология/А.В. Петровский, М.Г.Ярошевский. - М: издательский центр «Академия», 2002г. – 346с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Шамова, Т.И. Активизация учения школьников/ Т.И. Шамова.- Минск, 1992.- 209 с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Щукина, Г.И. Проблема познавательного процесса в педагогике/ Г.И. Щукина.- М., 1991.- 232с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Якиманская, И.С. Личностно-ориентированное обучение в современной школе/ И.С. Якиманская.– М., 1998.- 321с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4" descr="mastermind-heads(1)"/>
          <p:cNvPicPr/>
          <p:nvPr/>
        </p:nvPicPr>
        <p:blipFill>
          <a:blip r:embed="rId1"/>
          <a:stretch/>
        </p:blipFill>
        <p:spPr>
          <a:xfrm>
            <a:off x="2438280" y="3048120"/>
            <a:ext cx="3591000" cy="244152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3580920" y="4752720"/>
            <a:ext cx="40784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9660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Тема: Общение 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Цель урока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нять, что такое общение и какова его роль в жизни людей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4" descr="Refer a friend"/>
          <p:cNvPicPr/>
          <p:nvPr/>
        </p:nvPicPr>
        <p:blipFill>
          <a:blip r:embed="rId1"/>
          <a:stretch/>
        </p:blipFill>
        <p:spPr>
          <a:xfrm>
            <a:off x="1600200" y="3124080"/>
            <a:ext cx="441972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лан урока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нятие общени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редства и виды общ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авила общ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Picture 4" descr="i (8)"/>
          <p:cNvPicPr/>
          <p:nvPr/>
        </p:nvPicPr>
        <p:blipFill>
          <a:blip r:embed="rId1"/>
          <a:stretch/>
        </p:blipFill>
        <p:spPr>
          <a:xfrm>
            <a:off x="2362320" y="3657600"/>
            <a:ext cx="44956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Общение. Что это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pSp>
        <p:nvGrpSpPr>
          <p:cNvPr id="621" name="Diagram 6"/>
          <p:cNvGrpSpPr/>
          <p:nvPr/>
        </p:nvGrpSpPr>
        <p:grpSpPr>
          <a:xfrm>
            <a:off x="2083320" y="1598760"/>
            <a:ext cx="4401000" cy="4083840"/>
            <a:chOff x="2083320" y="1598760"/>
            <a:chExt cx="4401000" cy="4083840"/>
          </a:xfrm>
        </p:grpSpPr>
        <p:sp>
          <p:nvSpPr>
            <p:cNvPr id="622" name="_s1028"/>
            <p:cNvSpPr/>
            <p:nvPr/>
          </p:nvSpPr>
          <p:spPr>
            <a:xfrm flipH="1">
              <a:off x="3222360" y="4425480"/>
              <a:ext cx="530640" cy="31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1029"/>
            <p:cNvSpPr/>
            <p:nvPr/>
          </p:nvSpPr>
          <p:spPr>
            <a:xfrm>
              <a:off x="2083320" y="4425480"/>
              <a:ext cx="1224000" cy="1257120"/>
            </a:xfrm>
            <a:prstGeom prst="ellipse">
              <a:avLst/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взаимодейств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1030"/>
            <p:cNvSpPr/>
            <p:nvPr/>
          </p:nvSpPr>
          <p:spPr>
            <a:xfrm>
              <a:off x="4812480" y="4427280"/>
              <a:ext cx="53064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1031"/>
            <p:cNvSpPr/>
            <p:nvPr/>
          </p:nvSpPr>
          <p:spPr>
            <a:xfrm>
              <a:off x="5260680" y="4425480"/>
              <a:ext cx="1223640" cy="1257120"/>
            </a:xfrm>
            <a:prstGeom prst="ellipse">
              <a:avLst/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взаимопонима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1032"/>
            <p:cNvSpPr/>
            <p:nvPr/>
          </p:nvSpPr>
          <p:spPr>
            <a:xfrm flipV="1">
              <a:off x="4283640" y="2855880"/>
              <a:ext cx="0" cy="62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1033"/>
            <p:cNvSpPr/>
            <p:nvPr/>
          </p:nvSpPr>
          <p:spPr>
            <a:xfrm>
              <a:off x="3672000" y="1598760"/>
              <a:ext cx="1223640" cy="1257120"/>
            </a:xfrm>
            <a:prstGeom prst="ellipse">
              <a:avLst/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бмен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информацие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1034"/>
            <p:cNvSpPr/>
            <p:nvPr/>
          </p:nvSpPr>
          <p:spPr>
            <a:xfrm>
              <a:off x="3672000" y="3484440"/>
              <a:ext cx="1223640" cy="1257120"/>
            </a:xfrm>
            <a:prstGeom prst="ellipse">
              <a:avLst/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бщ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Что такое общение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Это деятельность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Picture 6" descr=""/>
          <p:cNvPicPr/>
          <p:nvPr/>
        </p:nvPicPr>
        <p:blipFill>
          <a:blip r:embed="rId1"/>
          <a:stretch/>
        </p:blipFill>
        <p:spPr>
          <a:xfrm>
            <a:off x="5632560" y="1633680"/>
            <a:ext cx="3060720" cy="4578120"/>
          </a:xfrm>
          <a:prstGeom prst="rect">
            <a:avLst/>
          </a:prstGeom>
          <a:ln w="0">
            <a:noFill/>
          </a:ln>
        </p:spPr>
      </p:pic>
      <p:grpSp>
        <p:nvGrpSpPr>
          <p:cNvPr id="632" name="Diagram 18"/>
          <p:cNvGrpSpPr/>
          <p:nvPr/>
        </p:nvGrpSpPr>
        <p:grpSpPr>
          <a:xfrm>
            <a:off x="1089360" y="2512080"/>
            <a:ext cx="3688200" cy="3672000"/>
            <a:chOff x="1089360" y="2512080"/>
            <a:chExt cx="3688200" cy="3672000"/>
          </a:xfrm>
        </p:grpSpPr>
        <p:sp>
          <p:nvSpPr>
            <p:cNvPr id="633" name="_s2052"/>
            <p:cNvSpPr/>
            <p:nvPr/>
          </p:nvSpPr>
          <p:spPr>
            <a:xfrm>
              <a:off x="1971360" y="2512080"/>
              <a:ext cx="1924560" cy="2061000"/>
            </a:xfrm>
            <a:custGeom>
              <a:avLst/>
              <a:gdLst>
                <a:gd name="textAreaLeft" fmla="*/ 0 w 1924560"/>
                <a:gd name="textAreaRight" fmla="*/ 1924920 w 1924560"/>
                <a:gd name="textAreaTop" fmla="*/ 0 h 2061000"/>
                <a:gd name="textAreaBottom" fmla="*/ 2061360 h 206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_s2053"/>
            <p:cNvSpPr/>
            <p:nvPr/>
          </p:nvSpPr>
          <p:spPr>
            <a:xfrm rot="4320000">
              <a:off x="2513160" y="3054600"/>
              <a:ext cx="2061000" cy="1924560"/>
            </a:xfrm>
            <a:custGeom>
              <a:avLst/>
              <a:gdLst>
                <a:gd name="textAreaLeft" fmla="*/ 0 w 2061000"/>
                <a:gd name="textAreaRight" fmla="*/ 2061360 w 2061000"/>
                <a:gd name="textAreaTop" fmla="*/ 0 h 1924560"/>
                <a:gd name="textAreaBottom" fmla="*/ 1924920 h 192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_s2054"/>
            <p:cNvSpPr/>
            <p:nvPr/>
          </p:nvSpPr>
          <p:spPr>
            <a:xfrm rot="8640000">
              <a:off x="2347560" y="3754080"/>
              <a:ext cx="1924560" cy="2061000"/>
            </a:xfrm>
            <a:custGeom>
              <a:avLst/>
              <a:gdLst>
                <a:gd name="textAreaLeft" fmla="*/ 0 w 1924560"/>
                <a:gd name="textAreaRight" fmla="*/ 1924920 w 1924560"/>
                <a:gd name="textAreaTop" fmla="*/ 0 h 2061000"/>
                <a:gd name="textAreaBottom" fmla="*/ 2061360 h 206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2055"/>
            <p:cNvSpPr/>
            <p:nvPr/>
          </p:nvSpPr>
          <p:spPr>
            <a:xfrm rot="12960000">
              <a:off x="1593360" y="3753720"/>
              <a:ext cx="1924560" cy="2060640"/>
            </a:xfrm>
            <a:custGeom>
              <a:avLst/>
              <a:gdLst>
                <a:gd name="textAreaLeft" fmla="*/ 0 w 1924560"/>
                <a:gd name="textAreaRight" fmla="*/ 1924920 w 1924560"/>
                <a:gd name="textAreaTop" fmla="*/ 0 h 2060640"/>
                <a:gd name="textAreaBottom" fmla="*/ 2061000 h 206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2056"/>
            <p:cNvSpPr/>
            <p:nvPr/>
          </p:nvSpPr>
          <p:spPr>
            <a:xfrm rot="17280000">
              <a:off x="1292400" y="3052800"/>
              <a:ext cx="2061000" cy="1924560"/>
            </a:xfrm>
            <a:custGeom>
              <a:avLst/>
              <a:gdLst>
                <a:gd name="textAreaLeft" fmla="*/ 0 w 2061000"/>
                <a:gd name="textAreaRight" fmla="*/ 2061360 w 2061000"/>
                <a:gd name="textAreaTop" fmla="*/ 0 h 1924560"/>
                <a:gd name="textAreaBottom" fmla="*/ 1924920 h 192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2057"/>
            <p:cNvSpPr/>
            <p:nvPr/>
          </p:nvSpPr>
          <p:spPr>
            <a:xfrm>
              <a:off x="3428640" y="2600640"/>
              <a:ext cx="7070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 Ставится цел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2058"/>
            <p:cNvSpPr/>
            <p:nvPr/>
          </p:nvSpPr>
          <p:spPr>
            <a:xfrm>
              <a:off x="1209960" y="4327200"/>
              <a:ext cx="7070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. Получаетс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езульт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2059"/>
            <p:cNvSpPr/>
            <p:nvPr/>
          </p:nvSpPr>
          <p:spPr>
            <a:xfrm>
              <a:off x="1733760" y="2601720"/>
              <a:ext cx="7070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ормируетс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требность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2060"/>
            <p:cNvSpPr/>
            <p:nvPr/>
          </p:nvSpPr>
          <p:spPr>
            <a:xfrm>
              <a:off x="3952080" y="4327200"/>
              <a:ext cx="7070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. Подбираютс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ред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2061"/>
            <p:cNvSpPr/>
            <p:nvPr/>
          </p:nvSpPr>
          <p:spPr>
            <a:xfrm>
              <a:off x="2580480" y="5393880"/>
              <a:ext cx="7070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 Производятс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ейств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КОГДА НЕ ПОДХОДИТЕ К ЧЕЛОВЕКУ, ДУМАЯ, ЧТО В НЁМ БОЛЬШЕ ПЛОХОГО, ЧЕМ ХОРОШЕГО»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. М. ГОРЬКИЙ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Й ТАК, КАК ХОЧЕШЬ, ЧТОБЫ ПОСТУПАЛИ С ТОБО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ПО СВОЕЙ ПРИРОДЕ ЕСТЬ СУЩЕСТВО ОБЩЕСТВЕННОЕ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                     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СТОТЕЛЬ.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СОЗДАН ДЛЯ ОБЩЕСТВА. ОН НЕ СПОСОБЕН И НЕ ИМЕЕТ МУЖЕСТВА ЖИТЬ ОДИН.   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. БЛЭКСТОУН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ОБЛАГОРАЖИВАЕТ И ВОЗВЫШАЕТ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ЮДВИГ ФЕЙЕРБАХ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СЯ МОЖНО ТОЛЬКО В ЖИЗНИ  И В ОБЩЕНИИ С ЛЮДЬМ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Н. ТОЛСТОЙ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eorgia"/>
              </a:rPr>
              <a:t>Общение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</a:t>
            </a: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бщение – взаимодействие между людьми, в процессе которого происходит обмен информацией, деятельностью и результатами деятельно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Администратор</cp:lastModifiedBy>
  <dcterms:modified xsi:type="dcterms:W3CDTF">2017-06-04T03:17:40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