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8B1-F2C9-48D0-8CDB-D8EFC48F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ECB-5999-4097-9F16-EB69298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04801-BA39-44C5-9378-AEC95D59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B98E4-9DF0-4AB6-AA8C-8207635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84D21-67E2-4444-AB24-1646A221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B162F-C93D-4C09-8CA7-1CC5BA1E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6197F-3CFC-4D2A-85E2-91519042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009C5-8E9C-4240-BFA8-0791079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837D1-CF2E-4A37-B3DB-B1EA2DFC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DEFF7-2514-4618-917A-3F8BD80E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67409-12E6-46F8-8FCD-DFBD3028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054E5-A8D4-48A9-85ED-CA38FE6D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2D1-B3A8-4C6D-875D-8467782A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B72DD-948C-49C5-81BF-05C22724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9CB87-4C0F-4EF0-9A75-46E13F73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90EFC-ECC7-42AF-B84C-E0708394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1D03C-6059-43C1-903D-6B4FC77E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2B445-0272-4B12-9486-1E066207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39FA5-7B77-4EB2-A40E-3F24D38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93AF0-2BC9-4333-87D3-A5BB5FE0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3B53E-E89C-4B51-9BF3-DACBE45D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8892F-618B-43ED-BF8E-37E4BF3C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694FA-DB08-4885-AA96-C0DC031E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EBF-5D08-4B4F-B9B5-3CA0CF0B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00B69-EB4B-4E38-BD0A-DC58CC73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4425A-C8BA-41FB-845E-B355E687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A92D2-DA87-4184-91A1-0C6D2441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6BFC5-2802-4830-8A40-4715FA46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73084-147D-46CE-B457-31C380A7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76283-2ECB-4083-8FE6-F57459E4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0AADC-2D85-47E2-AF7C-8CA868CD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28653-5469-457F-85FF-093482C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FB8A-A43C-44B5-9B4C-D26FDC0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CB30E-395E-4BB6-B4EC-1214F0C8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0E07-A280-4EBB-BBBA-81A3C7B7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DB171-9B03-4149-88F2-95D5D22C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E557-DC3F-4324-A98C-6A2CFC7D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49938-3B08-4936-A33D-02F7B662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C3877-B620-48AE-8922-B3F6ACF2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CA91C-166D-4343-85C0-81825CB8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A7D4C-F73A-4307-A098-8D891243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C8506-6A46-4374-99AE-04F4DA2C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36119-5B3A-454E-902B-DF4E7789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05E69-AC10-4DFA-A421-61933250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72D01-5C76-46EC-BEB5-A29BAB9F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49E3-F584-4C39-8B7C-B953FEFA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7089B-574F-4ABA-B697-07571D44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D0707-C9D9-4A3F-B965-B9E69855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61678-C8A0-4A21-B9E0-6C2ECBC9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B6800-30D6-4EAA-8A70-EE0A53DC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9B1E5-8017-48FB-8475-A6AC0FF2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47E1-EF66-4EDC-A874-BCAC7A63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06C9-A0B1-47C5-BC19-EADD78DE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74D6-956E-4F11-B3D6-2F3897CB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C900-1269-4618-A5D4-908E371B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83C2-5915-4BF6-A635-6167F50D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E09-B02D-4AB9-A86E-8475493C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ACEA-EFF3-4BC3-A78D-26592E3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FA10-239A-4F5C-9D7F-E194A16E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AA6B-CACC-45F9-8352-14C24D1D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75DC-9764-4ECA-84EC-2FB93FF5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FC87-5540-4CC4-991A-E427C26E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E263-B662-450C-858C-8EFD5980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1A21-173A-4CC6-9279-95514C61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8E90-966C-4EFE-8642-C0FF140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E6BA-B01A-4E26-B105-28E9F627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396B-69F4-44F6-8654-436CE72B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D62-FE9F-4D75-AD99-B6CA120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502F-ABC3-45AE-BACF-6BA68A76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0ACA-F960-4DA6-9F59-DF6E86B8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53C4-F21E-436D-9C6E-0002F94A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8BDB3-2D61-4159-AB15-E3882F4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7BEA-A079-47B5-BEFE-A1ACDCD5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E6BF-1B81-4C5D-AC64-5A45FF4A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F33E-B8D9-4363-8958-B09F6236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88A5-86EC-4EA6-B55A-8366996A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7C32-6433-454B-AB69-B6D022D4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0A2C-DB0B-4E35-9807-AAE50FAA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E39-0A6E-4ED5-88FA-1765B9A8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376F-0218-483F-B0E2-C13DDD11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3EBD-7B89-494E-8974-6B4D2561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FB91-E19B-4192-988D-9D83A15A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881B-28D9-4381-A64F-DE295D5F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2A12-3A4E-45C0-A27C-597EE994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0474-0529-4BCA-9B59-EB99BB53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7C77-42C3-4293-BCB5-60923CE2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748A-BACF-4F53-B784-987EEF66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950C-4FC5-40A7-88DC-86C6D1CE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AA02C-2974-4684-BAC7-E69D9EFE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7E6-DDF5-4B1D-86C6-874C71F7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76A8B-F193-43E8-92FA-937E96DC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0ECAC-1F90-4CE8-9BE4-1A1867D3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444FA-388F-4821-B413-67D1BDC4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0B1DD-8206-4BCF-AB12-B709B32D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2710-E833-4DCC-A53A-2E0378E7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3B81-44B4-4EC6-954A-B1246ACA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9BBAC-84CD-4C06-A7CF-0FB217CB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FC0AF-CA9A-47C9-9574-50A1A4E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A051D-DB34-4730-AEA4-786E395C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9327-74FB-4C32-8A5C-CA3885CF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2A0-0F8A-498C-AD24-314AE995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57C9-79FA-4E02-B19F-1DB48544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534AE-E927-4CF2-82EB-458903B8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449CE-5B54-4CF6-B11F-C7B0051B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4D41B-CC8A-4537-9579-50C52B93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77F2-5690-46D1-A5FE-1B7A7959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7E09A-951F-4BFD-953A-82B0610F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529B6-0D2D-4362-8CF0-B1206B53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655A4-3BF3-4F22-A2C1-3BFF003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C9789-7ACA-4F26-858C-A97D9FE3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12837-1C75-4E08-AAA0-64F7793B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3EC-FC73-4E01-8C8E-25805DAD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AC91-B6CE-4E24-BB7E-8A28CCB2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3CFE7-ED41-48E2-AB5A-61A13031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4CD6-F093-480D-AD0E-523EE537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7FB1-D212-4F2D-B623-F0484B5C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019F4-7E53-4112-8A4B-B1DC0AA0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BE9DF-9583-4460-9F3D-0692259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4D0BC-7172-4A2C-96ED-96BB6445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85B81-43F5-45BF-8EF7-5F647DB4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829E2-AD51-459C-8864-9ABF1BF8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473F4-1F41-4D9B-B59E-71C2994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CEF-6F03-4F28-86BF-975F95C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6A03D-B781-46BB-BCF1-FF6A2287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88EB-7D64-4158-B317-0623AD50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79711-501A-44E6-96A2-C854F9A5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2E52C-51D0-43FE-9892-21901EBC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9FF61-3D66-4F30-8D40-E39E305B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75D31-8BAF-461F-82FD-158D97FE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BE2FD-5EE6-4206-B52F-252F9D24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BA173-5EBA-4520-B737-A33DD498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D6580-043E-4EEE-B713-86A9420B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4D47B-4CD9-41DD-8B07-38E0BE34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38B-CB7A-4440-AAFB-61BBDA27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7FA9E-82E7-455E-B469-EB3AC38A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F8FCD-EEB7-45ED-9F29-9ADD630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D9C7C-A1BC-4F0F-BA0D-45756FD5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B4328-E310-4A86-BA82-D9D5C1F9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87314-8C0F-40A7-9653-6B6F9804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39F42-1411-463C-AC9C-79A061BE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8BE0-501C-4CFF-83C7-764A543F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7F44F-2EC1-4990-B0FD-85A38834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727E9-D8BB-4F3E-BED2-EC8B0244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8FB67-4B22-448F-B6BE-92E13A4F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FA07-440A-4DAF-B7CF-98068E114CD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0EC0-9153-4AF2-BA56-F8C1A462AD1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1371-FB32-4F62-94F9-241EF882926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7BA0-072A-4CF1-B592-40EF641BFFF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37BC-51EA-48BA-AD0B-9558FE80C92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1E4-5A59-496D-94A3-80ED66EBCB1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8FE1-A647-4368-9536-3B271ABB7D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766E-BED6-4FBA-B530-37BFE0C8FCC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9E31-22B6-49E2-8016-6D0BB9C4C0E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0BCC-F122-4E6B-97D2-5564711E74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278F-3D76-4A63-AE6F-EC0337E12A1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2A40-5D08-4492-BB95-A0C58FDDF1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7394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ОБЩЕНИЕ 6 КЛА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УЧИТЕЛЬ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ЕВАНОВА Н.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ВАРГАШИНСКАЯ СОШ №1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аким образом происходит общение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рассмотрим средства общ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какие существуют средства общения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учебником с. 68-6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Georgia"/>
              </a:rPr>
              <a:t>Средства общ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7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2084400" cy="1451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"/>
          <p:cNvPicPr/>
          <p:nvPr/>
        </p:nvPicPr>
        <p:blipFill>
          <a:blip r:embed="rId2"/>
          <a:stretch/>
        </p:blipFill>
        <p:spPr>
          <a:xfrm>
            <a:off x="4133880" y="1407960"/>
            <a:ext cx="1803240" cy="14511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" descr=""/>
          <p:cNvPicPr/>
          <p:nvPr/>
        </p:nvPicPr>
        <p:blipFill>
          <a:blip r:embed="rId3"/>
          <a:stretch/>
        </p:blipFill>
        <p:spPr>
          <a:xfrm>
            <a:off x="2048040" y="1407960"/>
            <a:ext cx="2133360" cy="145116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8"/>
          <p:cNvSpPr/>
          <p:nvPr/>
        </p:nvSpPr>
        <p:spPr>
          <a:xfrm>
            <a:off x="468360" y="41497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4f07"/>
                </a:solidFill>
                <a:latin typeface="Georgia"/>
              </a:rPr>
              <a:t>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6012000" y="4221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4f07"/>
                </a:solidFill>
                <a:latin typeface="Georgia"/>
              </a:rPr>
              <a:t>не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 flipH="1">
            <a:off x="2700360" y="3284640"/>
            <a:ext cx="719280" cy="7938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1"/>
          <p:cNvSpPr/>
          <p:nvPr/>
        </p:nvSpPr>
        <p:spPr>
          <a:xfrm>
            <a:off x="5724360" y="3357720"/>
            <a:ext cx="649440" cy="720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179280" y="5013360"/>
            <a:ext cx="403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письменная и устная речь, слушание и 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5003640" y="494172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взгляд, мимика, жесты, походка, поз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4" descr=""/>
          <p:cNvPicPr/>
          <p:nvPr/>
        </p:nvPicPr>
        <p:blipFill>
          <a:blip r:embed="rId4"/>
          <a:stretch/>
        </p:blipFill>
        <p:spPr>
          <a:xfrm>
            <a:off x="5931000" y="1407960"/>
            <a:ext cx="1469880" cy="14511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5" descr=""/>
          <p:cNvPicPr/>
          <p:nvPr/>
        </p:nvPicPr>
        <p:blipFill>
          <a:blip r:embed="rId5"/>
          <a:stretch/>
        </p:blipFill>
        <p:spPr>
          <a:xfrm>
            <a:off x="7375680" y="1407960"/>
            <a:ext cx="17748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редства и виды общения.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щение с помощью речи называют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ерб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щение без помощи речи называют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неверб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5" descr="depositphotos_6315559-Communication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9954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dispute"/>
          <p:cNvPicPr/>
          <p:nvPr/>
        </p:nvPicPr>
        <p:blipFill>
          <a:blip r:embed="rId2"/>
          <a:stretch/>
        </p:blipFill>
        <p:spPr>
          <a:xfrm>
            <a:off x="5257800" y="4343400"/>
            <a:ext cx="297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1</a:t>
            </a: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вид.</a:t>
            </a:r>
            <a:br>
              <a:rPr sz="3200"/>
            </a:b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 Речевое (вербальное) общени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редств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слов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письменная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устная 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Picture 4" descr="article3825"/>
          <p:cNvPicPr/>
          <p:nvPr/>
        </p:nvPicPr>
        <p:blipFill>
          <a:blip r:embed="rId1"/>
          <a:stretch/>
        </p:blipFill>
        <p:spPr>
          <a:xfrm>
            <a:off x="4495680" y="3048120"/>
            <a:ext cx="35528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2 вид . Неречевое (невербальное) общени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380880" y="1371600"/>
            <a:ext cx="647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ими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жес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нтонац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голос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взгля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поз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5" descr="Mimika-1"/>
          <p:cNvPicPr/>
          <p:nvPr/>
        </p:nvPicPr>
        <p:blipFill>
          <a:blip r:embed="rId1"/>
          <a:stretch/>
        </p:blipFill>
        <p:spPr>
          <a:xfrm>
            <a:off x="4114800" y="2819520"/>
            <a:ext cx="31338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.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263520" y="-360"/>
            <a:ext cx="849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пробуйте, используя голос, интонацию, мимику, жесты три раза произнести одно и то же слово, но с разным смыслом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привет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спасибо,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молодец,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здравствуйте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304560"/>
            <a:ext cx="850428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мотрите на диаграмму  здесь показано какой объем информации мы получаем благодаря различным средствам общения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какому выводу можно прийти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76" name="Object 10"/>
          <p:cNvGraphicFramePr/>
          <p:nvPr/>
        </p:nvGraphicFramePr>
        <p:xfrm>
          <a:off x="533520" y="2514600"/>
          <a:ext cx="7869240" cy="35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786924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C:\Users\Администратор\Desktop\15201.jpg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38336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" descr="C:\Users\Администратор\Desktop\barboskiny-49-seriya-opyt-obscheniya1.jpg"/>
          <p:cNvPicPr/>
          <p:nvPr/>
        </p:nvPicPr>
        <p:blipFill>
          <a:blip r:embed="rId2"/>
          <a:stretch/>
        </p:blipFill>
        <p:spPr>
          <a:xfrm>
            <a:off x="4114800" y="2743200"/>
            <a:ext cx="4743360" cy="37940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    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частую в общении возникают сложности. Они называются барьеры общ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чему герои мультфильма так общаются, почему они не понимают друг друг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могите им как нужно правильно общаться, чтобы понять друг друг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бщ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457200" y="121932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 общении необходим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общении недопустим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нцентрироваться на человеке, который обращается к теб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лекатьс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ать внимание не только на слово, но и на звук голоса, мимику, жест, позу и т.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бивать собеседник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авать оценок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 только о себе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авать советов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ать оценки и совет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Единственная роскошь в мире- это роскошь человеческого общения»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. Сент-Экзюпер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4" descr="1819"/>
          <p:cNvPicPr/>
          <p:nvPr/>
        </p:nvPicPr>
        <p:blipFill>
          <a:blip r:embed="rId1"/>
          <a:stretch/>
        </p:blipFill>
        <p:spPr>
          <a:xfrm>
            <a:off x="762120" y="3733920"/>
            <a:ext cx="1941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"/>
          <p:cNvSpPr/>
          <p:nvPr/>
        </p:nvSpPr>
        <p:spPr>
          <a:xfrm>
            <a:off x="380880" y="71208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Отв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ошибок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шибка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шибки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3 ошибок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01320" y="228600"/>
            <a:ext cx="8504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без общения нет человека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ерез общение человек получает знания об окружающем мире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помощью общения происходит передача опыта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воение тех культурных, нравственных ценностей, которые  выработаны человечеством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лагодаря общению люди учатся оценивать поступки и отношения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ваивают правила поведения и применяют их на практике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акие важнейшие качества человека, как принципиальность, отзывчивость, честность, доброта не только проявляются, но и формируются в общении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щение способствует развитию интересов человека или может тормозить его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юбой человек оценивает себя как бы глазами других людей. Чем разностороннее круг общения, тем разнообразнее сведения, которые получает человек о самом себе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мысль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а уроке было интересно потому, что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на уроке мне понравилось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новым было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лучил удовольствие от того, что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я себя чувствовала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меня заинтересовала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было неожиданным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о было то, что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я не знал (а)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маю, это мероприятие…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ан Пиз. Язык жестов. Что могут рассказать о характере и мыслях человека его жесты. Воронеж, 1998г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лешина М. О вежливости, а также, о деликатности. Лениздат, 1986г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мычек Л.. Вежливость на каждый день. М., 1988г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лесов, В.В, Культура речи – культура поведения/ В.В.  Колесов. -  М., 2005.-163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това, О.А., Лискова,  Т.Е., Обществоведение: рабочая тетрадь/О.А. Котова, Т.Е. Лискова, - М.: Просвещение, 2008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овые педагогические и информационные технологии в системе образования/ Под ред. Е. С. Полат.- М.: Академия, 2001.- 270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бществознание: Человек, природа, общение: учебник для 6 класса под ред. Л.Н.Боголюбова.- М.: Просвещение, 2007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етровский, А.В., Ярошевский, М.Г., Психология/А.В. Петровский, М.Г.Ярошевский. - М: издательский центр «Академия», 2002г. – 346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Шамова, Т.И. Активизация учения школьников/ Т.И. Шамова.- Минск, 1992.- 209 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Щукина, Г.И. Проблема познавательного процесса в педагогике/ Г.И. Щукина.- М., 1991.- 232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Якиманская, И.С. Личностно-ориентированное обучение в современной школе/ И.С. Якиманская.– М., 1998.- 321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mastermind-heads(1)"/>
          <p:cNvPicPr/>
          <p:nvPr/>
        </p:nvPicPr>
        <p:blipFill>
          <a:blip r:embed="rId1"/>
          <a:stretch/>
        </p:blipFill>
        <p:spPr>
          <a:xfrm>
            <a:off x="2438280" y="3048120"/>
            <a:ext cx="3591000" cy="24415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3580920" y="4752720"/>
            <a:ext cx="40784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9660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Тема: Общение 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Цель урок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нять, что такое общение и какова его роль в жизни людей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Refer a friend"/>
          <p:cNvPicPr/>
          <p:nvPr/>
        </p:nvPicPr>
        <p:blipFill>
          <a:blip r:embed="rId1"/>
          <a:stretch/>
        </p:blipFill>
        <p:spPr>
          <a:xfrm>
            <a:off x="1600200" y="3124080"/>
            <a:ext cx="44197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лан урок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нятие обще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редства и виды об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авила об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4" descr="i (8)"/>
          <p:cNvPicPr/>
          <p:nvPr/>
        </p:nvPicPr>
        <p:blipFill>
          <a:blip r:embed="rId1"/>
          <a:stretch/>
        </p:blipFill>
        <p:spPr>
          <a:xfrm>
            <a:off x="2362320" y="3657600"/>
            <a:ext cx="44956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щение. Что это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21" name="Diagram 6"/>
          <p:cNvGrpSpPr/>
          <p:nvPr/>
        </p:nvGrpSpPr>
        <p:grpSpPr>
          <a:xfrm>
            <a:off x="2083320" y="1598760"/>
            <a:ext cx="4401000" cy="4083840"/>
            <a:chOff x="2083320" y="1598760"/>
            <a:chExt cx="4401000" cy="4083840"/>
          </a:xfrm>
        </p:grpSpPr>
        <p:sp>
          <p:nvSpPr>
            <p:cNvPr id="622" name="_s1028"/>
            <p:cNvSpPr/>
            <p:nvPr/>
          </p:nvSpPr>
          <p:spPr>
            <a:xfrm flipH="1">
              <a:off x="3222360" y="4425480"/>
              <a:ext cx="530640" cy="31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1029"/>
            <p:cNvSpPr/>
            <p:nvPr/>
          </p:nvSpPr>
          <p:spPr>
            <a:xfrm>
              <a:off x="2083320" y="4425480"/>
              <a:ext cx="1224000" cy="125712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заимодейств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1030"/>
            <p:cNvSpPr/>
            <p:nvPr/>
          </p:nvSpPr>
          <p:spPr>
            <a:xfrm>
              <a:off x="4812480" y="4427280"/>
              <a:ext cx="53064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1031"/>
            <p:cNvSpPr/>
            <p:nvPr/>
          </p:nvSpPr>
          <p:spPr>
            <a:xfrm>
              <a:off x="5260680" y="4425480"/>
              <a:ext cx="1223640" cy="125712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заимопоним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1032"/>
            <p:cNvSpPr/>
            <p:nvPr/>
          </p:nvSpPr>
          <p:spPr>
            <a:xfrm flipV="1">
              <a:off x="4283640" y="2855880"/>
              <a:ext cx="0" cy="62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1033"/>
            <p:cNvSpPr/>
            <p:nvPr/>
          </p:nvSpPr>
          <p:spPr>
            <a:xfrm>
              <a:off x="3672000" y="1598760"/>
              <a:ext cx="1223640" cy="125712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ме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формацие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1034"/>
            <p:cNvSpPr/>
            <p:nvPr/>
          </p:nvSpPr>
          <p:spPr>
            <a:xfrm>
              <a:off x="3672000" y="3484440"/>
              <a:ext cx="1223640" cy="125712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щ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Что такое общ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то деятельность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6" descr=""/>
          <p:cNvPicPr/>
          <p:nvPr/>
        </p:nvPicPr>
        <p:blipFill>
          <a:blip r:embed="rId1"/>
          <a:stretch/>
        </p:blipFill>
        <p:spPr>
          <a:xfrm>
            <a:off x="5632560" y="1633680"/>
            <a:ext cx="3060720" cy="4578120"/>
          </a:xfrm>
          <a:prstGeom prst="rect">
            <a:avLst/>
          </a:prstGeom>
          <a:ln w="0">
            <a:noFill/>
          </a:ln>
        </p:spPr>
      </p:pic>
      <p:grpSp>
        <p:nvGrpSpPr>
          <p:cNvPr id="632" name="Diagram 18"/>
          <p:cNvGrpSpPr/>
          <p:nvPr/>
        </p:nvGrpSpPr>
        <p:grpSpPr>
          <a:xfrm>
            <a:off x="1089360" y="2512080"/>
            <a:ext cx="3688200" cy="3672000"/>
            <a:chOff x="1089360" y="2512080"/>
            <a:chExt cx="3688200" cy="3672000"/>
          </a:xfrm>
        </p:grpSpPr>
        <p:sp>
          <p:nvSpPr>
            <p:cNvPr id="633" name="_s2052"/>
            <p:cNvSpPr/>
            <p:nvPr/>
          </p:nvSpPr>
          <p:spPr>
            <a:xfrm>
              <a:off x="1971360" y="2512080"/>
              <a:ext cx="1924560" cy="2061000"/>
            </a:xfrm>
            <a:custGeom>
              <a:avLst/>
              <a:gdLst>
                <a:gd name="textAreaLeft" fmla="*/ 0 w 1924560"/>
                <a:gd name="textAreaRight" fmla="*/ 1924920 w 1924560"/>
                <a:gd name="textAreaTop" fmla="*/ 0 h 2061000"/>
                <a:gd name="textAreaBottom" fmla="*/ 2061360 h 206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2053"/>
            <p:cNvSpPr/>
            <p:nvPr/>
          </p:nvSpPr>
          <p:spPr>
            <a:xfrm rot="4320000">
              <a:off x="2513160" y="3054600"/>
              <a:ext cx="2061000" cy="1924560"/>
            </a:xfrm>
            <a:custGeom>
              <a:avLst/>
              <a:gdLst>
                <a:gd name="textAreaLeft" fmla="*/ 0 w 2061000"/>
                <a:gd name="textAreaRight" fmla="*/ 2061360 w 2061000"/>
                <a:gd name="textAreaTop" fmla="*/ 0 h 1924560"/>
                <a:gd name="textAreaBottom" fmla="*/ 1924920 h 192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_s2054"/>
            <p:cNvSpPr/>
            <p:nvPr/>
          </p:nvSpPr>
          <p:spPr>
            <a:xfrm rot="8640000">
              <a:off x="2347560" y="3754080"/>
              <a:ext cx="1924560" cy="2061000"/>
            </a:xfrm>
            <a:custGeom>
              <a:avLst/>
              <a:gdLst>
                <a:gd name="textAreaLeft" fmla="*/ 0 w 1924560"/>
                <a:gd name="textAreaRight" fmla="*/ 1924920 w 1924560"/>
                <a:gd name="textAreaTop" fmla="*/ 0 h 2061000"/>
                <a:gd name="textAreaBottom" fmla="*/ 2061360 h 206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2055"/>
            <p:cNvSpPr/>
            <p:nvPr/>
          </p:nvSpPr>
          <p:spPr>
            <a:xfrm rot="12960000">
              <a:off x="1593360" y="3753720"/>
              <a:ext cx="1924560" cy="2060640"/>
            </a:xfrm>
            <a:custGeom>
              <a:avLst/>
              <a:gdLst>
                <a:gd name="textAreaLeft" fmla="*/ 0 w 1924560"/>
                <a:gd name="textAreaRight" fmla="*/ 1924920 w 1924560"/>
                <a:gd name="textAreaTop" fmla="*/ 0 h 2060640"/>
                <a:gd name="textAreaBottom" fmla="*/ 2061000 h 20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2056"/>
            <p:cNvSpPr/>
            <p:nvPr/>
          </p:nvSpPr>
          <p:spPr>
            <a:xfrm rot="17280000">
              <a:off x="1292400" y="3052800"/>
              <a:ext cx="2061000" cy="1924560"/>
            </a:xfrm>
            <a:custGeom>
              <a:avLst/>
              <a:gdLst>
                <a:gd name="textAreaLeft" fmla="*/ 0 w 2061000"/>
                <a:gd name="textAreaRight" fmla="*/ 2061360 w 2061000"/>
                <a:gd name="textAreaTop" fmla="*/ 0 h 1924560"/>
                <a:gd name="textAreaBottom" fmla="*/ 1924920 h 192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2057"/>
            <p:cNvSpPr/>
            <p:nvPr/>
          </p:nvSpPr>
          <p:spPr>
            <a:xfrm>
              <a:off x="3428640" y="260064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 Ставится це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2058"/>
            <p:cNvSpPr/>
            <p:nvPr/>
          </p:nvSpPr>
          <p:spPr>
            <a:xfrm>
              <a:off x="1209960" y="432720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 Получае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2059"/>
            <p:cNvSpPr/>
            <p:nvPr/>
          </p:nvSpPr>
          <p:spPr>
            <a:xfrm>
              <a:off x="1733760" y="260172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требность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2060"/>
            <p:cNvSpPr/>
            <p:nvPr/>
          </p:nvSpPr>
          <p:spPr>
            <a:xfrm>
              <a:off x="3952080" y="432720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 Подбираю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ред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2061"/>
            <p:cNvSpPr/>
            <p:nvPr/>
          </p:nvSpPr>
          <p:spPr>
            <a:xfrm>
              <a:off x="2580480" y="539388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 Производя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ОГДА НЕ ПОДХОДИТЕ К ЧЕЛОВЕКУ, ДУМАЯ, ЧТО В НЁМ БОЛЬШЕ ПЛОХОГО, ЧЕМ ХОРОШЕГО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 М. ГОРЬКИЙ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Й ТАК, КАК ХОЧЕШЬ, ЧТОБЫ ПОСТУПАЛИ С ТОБО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ПО СВОЕЙ ПРИРОДЕ ЕСТЬ СУЩЕСТВО ОБЩЕСТВЕННО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СТОТЕЛЬ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ОЗДАН ДЛЯ ОБЩЕСТВА. ОН НЕ СПОСОБЕН И НЕ ИМЕЕТ МУЖЕСТВА ЖИТЬ ОДИН.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. БЛЭКСТОУН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ОБЛАГОРАЖИВАЕТ И ВОЗВЫШАЕТ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ЮДВИГ ФЕЙЕРБАХ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СЯ МОЖНО ТОЛЬКО В ЖИЗНИ  И В ОБЩЕНИИ С ЛЮДЬ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Н. ТОЛСТО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eorgia"/>
              </a:rPr>
              <a:t>Общение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бщение – взаимодействие между людьми, в процессе которого происходит обмен информацией, деятельностью и результатами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17-06-04T03:17:4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