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037-CA03-48EE-9CF8-5C27A239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B25-9205-40C4-95C6-068AC5C2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F27-1FE3-49F4-B2BF-E406D848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666-614B-4D86-BC66-5A4C08FE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91A-9514-41AA-8384-CAA444D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39D-3669-4A65-ACFF-BCCBF6F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366-C220-49B5-8108-BBA0A55C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D34-FE52-4350-83F1-EE9D03C5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9D8-B270-4013-98A5-35A9B6B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C41-9A66-490A-B851-9981C3C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920-0AC2-4005-B8D4-DADBE90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65C-9A5D-4113-81C6-147E998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1C99-3125-4593-ABFF-50806148C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28760" y="357120"/>
            <a:ext cx="8286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Ребята, о чем мы говорили на прошлом урок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А куда же сажали дорогих гостей в русской изб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Что находилось в красном углу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Древо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760" y="4714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мвол растительных сил земли, вечно живой, процветающей природы. Его изображение символизировало счастливое продолжение 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54"/>
          <p:cNvPicPr/>
          <p:nvPr/>
        </p:nvPicPr>
        <p:blipFill>
          <a:blip r:embed="rId1"/>
          <a:stretch/>
        </p:blipFill>
        <p:spPr>
          <a:xfrm>
            <a:off x="642960" y="1000080"/>
            <a:ext cx="3352680" cy="377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Admin\Рабочий стол\изо 2013\no17_10.jpg"/>
          <p:cNvPicPr/>
          <p:nvPr/>
        </p:nvPicPr>
        <p:blipFill>
          <a:blip r:embed="rId2"/>
          <a:stretch/>
        </p:blipFill>
        <p:spPr>
          <a:xfrm>
            <a:off x="4572000" y="1000080"/>
            <a:ext cx="30862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57120" y="35712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зык орнамента является самым древним языком, возникшим задолго до появления письменности. Орнамент старше всех произведений искусст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943520" y="500040"/>
            <a:ext cx="42004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tIns="205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Орнамент в своём первородном виде – это некое магическое заклинани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429120" y="1499760"/>
            <a:ext cx="4286520" cy="4646520"/>
          </a:xfrm>
          <a:prstGeom prst="rect">
            <a:avLst/>
          </a:prstGeom>
          <a:noFill/>
          <a:ln w="0">
            <a:noFill/>
          </a:ln>
        </p:spPr>
        <p:txBody>
          <a:bodyPr tIns="22320" anchor="t">
            <a:normAutofit/>
          </a:bodyPr>
          <a:p>
            <a:pPr marL="78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мотрите, как решены фигуры женщины и всадниц на конях – у них угловатые тела, странной формы голо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26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дь это не только изображение, а знаки орнамент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083120" y="1306440"/>
            <a:ext cx="478944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143920" cy="1633680"/>
          </a:xfrm>
          <a:prstGeom prst="rect">
            <a:avLst/>
          </a:prstGeom>
          <a:noFill/>
          <a:ln w="0">
            <a:noFill/>
          </a:ln>
        </p:spPr>
        <p:txBody>
          <a:bodyPr tIns="252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т как по-разному решается в узорах вышивки образ древа жиз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2840" y="1825200"/>
            <a:ext cx="380988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006880" y="2098800"/>
            <a:ext cx="3810240" cy="4433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39272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2840" y="2612880"/>
            <a:ext cx="380988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тречаются в народной вышивке и образы фантастических существ – барсов, львов, единор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88880" y="163440"/>
            <a:ext cx="4083120" cy="212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735440" y="488880"/>
            <a:ext cx="4245120" cy="277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35440" y="3530520"/>
            <a:ext cx="424512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3760" y="193680"/>
            <a:ext cx="8163000" cy="2610000"/>
          </a:xfrm>
          <a:prstGeom prst="rect">
            <a:avLst/>
          </a:prstGeom>
          <a:noFill/>
          <a:ln w="0">
            <a:noFill/>
          </a:ln>
        </p:spPr>
        <p:txBody>
          <a:bodyPr tIns="205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2c"/>
                </a:solidFill>
                <a:latin typeface="Times New Roman"/>
              </a:rPr>
              <a:t>Полотенца с «кругами» висели прежде вместо календарей. Их берегли, передавали из поколения в поколение.</a:t>
            </a:r>
            <a:br>
              <a:rPr sz="4000"/>
            </a:b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3000" y="3755880"/>
            <a:ext cx="7493040" cy="2784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0010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8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руг” состоит из цветка - “солнышка” и описанного вокруг незамкнутого кольца - “месяца”,  от которого, надо полагать, узор и получил своё наз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9200" y="101520"/>
            <a:ext cx="7807320" cy="1532160"/>
          </a:xfrm>
          <a:prstGeom prst="rect">
            <a:avLst/>
          </a:prstGeom>
          <a:noFill/>
          <a:ln w="0">
            <a:noFill/>
          </a:ln>
        </p:spPr>
        <p:txBody>
          <a:bodyPr tIns="22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оме самих знаков в русской  вышивке большое значение имел ц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4160" y="2001600"/>
            <a:ext cx="4806720" cy="4854600"/>
          </a:xfrm>
          <a:prstGeom prst="rect">
            <a:avLst/>
          </a:prstGeom>
          <a:noFill/>
          <a:ln w="0">
            <a:noFill/>
          </a:ln>
        </p:spPr>
        <p:txBody>
          <a:bodyPr tIns="19080" anchor="t">
            <a:normAutofit/>
          </a:bodyPr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елый цвет связывался в народных представлениях со светом, чистотой, с понятием о бла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асный был цветом солнца, огня, жизн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зоры воспринимаются как земля, получившая энергию солнца и способная дать жизнь всему жив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060880" y="1795320"/>
            <a:ext cx="3919680" cy="49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326520"/>
            <a:ext cx="7807320" cy="1387800"/>
          </a:xfrm>
          <a:prstGeom prst="rect">
            <a:avLst/>
          </a:prstGeom>
          <a:noFill/>
          <a:ln w="0">
            <a:noFill/>
          </a:ln>
        </p:spPr>
        <p:txBody>
          <a:bodyPr tIns="27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дани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6760" y="1827360"/>
            <a:ext cx="8309160" cy="5030640"/>
          </a:xfrm>
          <a:prstGeom prst="rect">
            <a:avLst/>
          </a:prstGeom>
          <a:noFill/>
          <a:ln w="0">
            <a:noFill/>
          </a:ln>
        </p:spPr>
        <p:txBody>
          <a:bodyPr tIns="22320" anchor="t">
            <a:normAutofit/>
          </a:bodyPr>
          <a:p>
            <a:pPr marL="782640" indent="0" algn="ctr">
              <a:spcBef>
                <a:spcPts val="10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ыполните эскиз вышитого полотенца по мотивам народной вышивки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14200" y="35712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Для чего нужны вам полотенца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Какие полотенца называютс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ытовыми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Чем  праздничные полотенца отличаются от бытовых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Что такое вышивка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ачем украшают изделия вышив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Documents and Settings\Admin\Рабочий стол\5кл\79884151_vish8.jpg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Admin\Рабочий стол\5кл\5c0287f21e655f5925e179da9ba8717d_XL.jpg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500040" y="57168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годня мы будем говорить о том, как украшали в старину полотенце и какие символы использовали в вышив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1600" y="4214880"/>
            <a:ext cx="934164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Тема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усская народная выши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714600" y="-360"/>
            <a:ext cx="5715000" cy="4529160"/>
          </a:xfrm>
          <a:prstGeom prst="rect">
            <a:avLst/>
          </a:prstGeom>
          <a:noFill/>
          <a:ln w="0">
            <a:noFill/>
          </a:ln>
        </p:spPr>
        <p:txBody>
          <a:bodyPr tIns="19080" anchor="t">
            <a:normAutofit fontScale="89000"/>
          </a:bodyPr>
          <a:p>
            <a:pPr marL="696240"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евние славяне считали,что жизнь человека имеет начало и конец. Полотенце играло в народной жизни важную роль, оно сопровождало человека от рождения до глубокой старости, как бы отмечая главные моменты его жизни. Украшенная вещь становилась участницей общения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000760" y="357120"/>
            <a:ext cx="380988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072040" y="4143240"/>
            <a:ext cx="3809880" cy="14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714240" y="357120"/>
            <a:ext cx="77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намент – от лат. – украшение – узор, построенный на ритмическом чередовании и организованном расположении эле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Documents and Settings\Admin\Рабочий стол\изо 2013\1273685308_189dfd45-29-kopiya.jpg"/>
          <p:cNvPicPr/>
          <p:nvPr/>
        </p:nvPicPr>
        <p:blipFill>
          <a:blip r:embed="rId1"/>
          <a:stretch/>
        </p:blipFill>
        <p:spPr>
          <a:xfrm>
            <a:off x="838080" y="295200"/>
            <a:ext cx="749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7120" y="428616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давние времена люди верили, что птицы прогоняли своим звонким пением зимний мрак, стужу и приносят на крыльях весну красную, тепло летушк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latynin.ru/books/folkartpics/3/image017.jpg"/>
          <p:cNvPicPr/>
          <p:nvPr/>
        </p:nvPicPr>
        <p:blipFill>
          <a:blip r:embed="rId1"/>
          <a:stretch/>
        </p:blipFill>
        <p:spPr>
          <a:xfrm>
            <a:off x="500040" y="1357200"/>
            <a:ext cx="812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Admin\Рабочий стол\5кл\243.jpg"/>
          <p:cNvPicPr/>
          <p:nvPr/>
        </p:nvPicPr>
        <p:blipFill>
          <a:blip r:embed="rId1"/>
          <a:stretch/>
        </p:blipFill>
        <p:spPr>
          <a:xfrm>
            <a:off x="1157400" y="-685800"/>
            <a:ext cx="67672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09:22:38Z</dcterms:created>
  <dc:creator>uzer</dc:creator>
  <dc:description/>
  <dc:language>en-US</dc:language>
  <cp:lastModifiedBy>uzere</cp:lastModifiedBy>
  <dcterms:modified xsi:type="dcterms:W3CDTF">2017-06-03T23:08:48Z</dcterms:modified>
  <cp:revision>7</cp:revision>
  <dc:subject/>
  <dc:title>Слайд 1</dc:title>
</cp:coreProperties>
</file>