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539E-2851-4186-ACC6-0CE838A12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5840-FEF8-4D35-8490-7108E5E7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9B32-57E6-44EE-9B6C-3449A593A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C381-1606-4532-BF30-E395253F1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ED90-11DC-4D0B-9B17-E0138442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2BFB-EAC7-46EA-9034-98CCB270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1598-4705-4014-A705-3038A3F4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4A25-FA67-43A2-85B8-5BDAB233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32C0-EF94-4AEE-8E02-DEAD2FCF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965F-56DA-4070-9147-60081D01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793D-083F-423C-A0A4-E52F5A6B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162E-EB7D-4E34-9D89-71532C20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14BB-88BC-4B0F-A18B-C947735414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428760" y="357120"/>
            <a:ext cx="8286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- Ребята, о чем мы говорили на прошлом уроке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- А куда же сажали дорогих гостей в русской избе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- Что находилось в красном углу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alibri"/>
              </a:rPr>
              <a:t>Древо жиз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28760" y="47145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мвол растительных сил земли, вечно живой, процветающей природы. Его изображение символизировало счастливое продолжение р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4" descr="54"/>
          <p:cNvPicPr/>
          <p:nvPr/>
        </p:nvPicPr>
        <p:blipFill>
          <a:blip r:embed="rId1"/>
          <a:stretch/>
        </p:blipFill>
        <p:spPr>
          <a:xfrm>
            <a:off x="642960" y="1000080"/>
            <a:ext cx="3352680" cy="3774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C:\Documents and Settings\Admin\Рабочий стол\изо 2013\no17_10.jpg"/>
          <p:cNvPicPr/>
          <p:nvPr/>
        </p:nvPicPr>
        <p:blipFill>
          <a:blip r:embed="rId2"/>
          <a:stretch/>
        </p:blipFill>
        <p:spPr>
          <a:xfrm>
            <a:off x="4572000" y="1000080"/>
            <a:ext cx="308628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"/>
          <p:cNvSpPr/>
          <p:nvPr/>
        </p:nvSpPr>
        <p:spPr>
          <a:xfrm>
            <a:off x="357120" y="357120"/>
            <a:ext cx="4572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Язык орнамента является самым древним языком, возникшим задолго до появления письменности. Орнамент старше всех произведений искусст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4943520" y="500040"/>
            <a:ext cx="420048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2600" y="-36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tIns="2052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Орнамент в своём первородном виде – это некое магическое заклинание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429120" y="1499760"/>
            <a:ext cx="4286520" cy="4646520"/>
          </a:xfrm>
          <a:prstGeom prst="rect">
            <a:avLst/>
          </a:prstGeom>
          <a:noFill/>
          <a:ln w="0">
            <a:noFill/>
          </a:ln>
        </p:spPr>
        <p:txBody>
          <a:bodyPr tIns="22320" anchor="t">
            <a:normAutofit/>
          </a:bodyPr>
          <a:p>
            <a:pPr marL="78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смотрите, как решены фигуры женщины и всадниц на конях – у них угловатые тела, странной формы голов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8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8264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едь это не только изображение, а знаки орнамент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4083120" y="1306440"/>
            <a:ext cx="4789440" cy="534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3200" y="0"/>
            <a:ext cx="8143920" cy="1633680"/>
          </a:xfrm>
          <a:prstGeom prst="rect">
            <a:avLst/>
          </a:prstGeom>
          <a:noFill/>
          <a:ln w="0">
            <a:noFill/>
          </a:ln>
        </p:spPr>
        <p:txBody>
          <a:bodyPr tIns="252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от как по-разному решается в узорах вышивки образ древа жизн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2840" y="1825200"/>
            <a:ext cx="3809880" cy="50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5006880" y="2098800"/>
            <a:ext cx="3810240" cy="4433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2"/>
          <a:stretch/>
        </p:blipFill>
        <p:spPr>
          <a:xfrm>
            <a:off x="571680" y="1714680"/>
            <a:ext cx="3927240" cy="51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72840" y="56844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72840" y="2612880"/>
            <a:ext cx="3809880" cy="39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стречаются в народной вышивке и образы фантастических существ – барсов, львов, единорог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488880" y="163440"/>
            <a:ext cx="4083120" cy="2122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2"/>
          <a:stretch/>
        </p:blipFill>
        <p:spPr>
          <a:xfrm>
            <a:off x="4735440" y="488880"/>
            <a:ext cx="4245120" cy="2776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3"/>
          <a:stretch/>
        </p:blipFill>
        <p:spPr>
          <a:xfrm>
            <a:off x="4735440" y="3530520"/>
            <a:ext cx="4245120" cy="28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3760" y="193680"/>
            <a:ext cx="8163000" cy="2610000"/>
          </a:xfrm>
          <a:prstGeom prst="rect">
            <a:avLst/>
          </a:prstGeom>
          <a:noFill/>
          <a:ln w="0">
            <a:noFill/>
          </a:ln>
        </p:spPr>
        <p:txBody>
          <a:bodyPr tIns="2052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c2c2c"/>
                </a:solidFill>
                <a:latin typeface="Times New Roman"/>
              </a:rPr>
              <a:t>Полотенца с «кругами» висели прежде вместо календарей. Их берегли, передавали из поколения в поколение.</a:t>
            </a:r>
            <a:br>
              <a:rPr sz="4000"/>
            </a:br>
            <a:br>
              <a:rPr sz="4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143000" y="3755880"/>
            <a:ext cx="7493040" cy="27846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28400" y="1857240"/>
            <a:ext cx="8001000" cy="17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826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Круг” состоит из цветка - “солнышка” и описанного вокруг незамкнутого кольца - “месяца”,  от которого, надо полагать, узор и получил своё названи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79200" y="101520"/>
            <a:ext cx="7807320" cy="1532160"/>
          </a:xfrm>
          <a:prstGeom prst="rect">
            <a:avLst/>
          </a:prstGeom>
          <a:noFill/>
          <a:ln w="0">
            <a:noFill/>
          </a:ln>
        </p:spPr>
        <p:txBody>
          <a:bodyPr tIns="226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роме самих знаков в русской  вышивке большое значение имел цве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4160" y="2001600"/>
            <a:ext cx="4806720" cy="4854600"/>
          </a:xfrm>
          <a:prstGeom prst="rect">
            <a:avLst/>
          </a:prstGeom>
          <a:noFill/>
          <a:ln w="0">
            <a:noFill/>
          </a:ln>
        </p:spPr>
        <p:txBody>
          <a:bodyPr tIns="19080" anchor="t">
            <a:normAutofit/>
          </a:bodyPr>
          <a:p>
            <a:pPr marL="782640" indent="0">
              <a:spcBef>
                <a:spcPts val="601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Белый цвет связывался в народных представлениях со светом, чистотой, с понятием о благ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82640" indent="0">
              <a:spcBef>
                <a:spcPts val="601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82640" indent="0">
              <a:spcBef>
                <a:spcPts val="601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Красный был цветом солнца, огня, жизн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узоры воспринимаются как земля, получившая энергию солнца и способная дать жизнь всему живом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5060880" y="1795320"/>
            <a:ext cx="3919680" cy="499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72840" y="326520"/>
            <a:ext cx="7807320" cy="1387800"/>
          </a:xfrm>
          <a:prstGeom prst="rect">
            <a:avLst/>
          </a:prstGeom>
          <a:noFill/>
          <a:ln w="0">
            <a:noFill/>
          </a:ln>
        </p:spPr>
        <p:txBody>
          <a:bodyPr tIns="273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Задани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56760" y="1827360"/>
            <a:ext cx="8309160" cy="5030640"/>
          </a:xfrm>
          <a:prstGeom prst="rect">
            <a:avLst/>
          </a:prstGeom>
          <a:noFill/>
          <a:ln w="0">
            <a:noFill/>
          </a:ln>
        </p:spPr>
        <p:txBody>
          <a:bodyPr tIns="22320" anchor="t">
            <a:normAutofit/>
          </a:bodyPr>
          <a:p>
            <a:pPr marL="782640" indent="0" algn="ctr">
              <a:spcBef>
                <a:spcPts val="1001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Выполните эскиз вышитого полотенца по мотивам народной вышивки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214200" y="357120"/>
            <a:ext cx="892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Для чего нужны вам полотенца?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Какие полотенца называются 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бытовыми?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Чем  праздничные полотенца отличаются от бытовых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?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Что такое вышивка?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Зачем украшают изделия вышивк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C:\Documents and Settings\Admin\Рабочий стол\5кл\79884151_vish8.jpg"/>
          <p:cNvPicPr/>
          <p:nvPr/>
        </p:nvPicPr>
        <p:blipFill>
          <a:blip r:embed="rId1"/>
          <a:stretch/>
        </p:blipFill>
        <p:spPr>
          <a:xfrm>
            <a:off x="0" y="3962520"/>
            <a:ext cx="914400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C:\Documents and Settings\Admin\Рабочий стол\5кл\5c0287f21e655f5925e179da9ba8717d_XL.jpg"/>
          <p:cNvPicPr/>
          <p:nvPr/>
        </p:nvPicPr>
        <p:blipFill>
          <a:blip r:embed="rId1"/>
          <a:stretch/>
        </p:blipFill>
        <p:spPr>
          <a:xfrm>
            <a:off x="0" y="-325440"/>
            <a:ext cx="9144000" cy="71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500040" y="571680"/>
            <a:ext cx="807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Сегодня мы будем говорить о том, как украшали в старину полотенце и какие символы использовали в вышивк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2"/>
          <p:cNvSpPr/>
          <p:nvPr/>
        </p:nvSpPr>
        <p:spPr>
          <a:xfrm>
            <a:off x="21600" y="4214880"/>
            <a:ext cx="934164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ff0000"/>
                </a:solidFill>
                <a:uFillTx/>
                <a:latin typeface="Calibri"/>
              </a:rPr>
              <a:t>Тема урока: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Русская народная вышив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-714600" y="-360"/>
            <a:ext cx="5715000" cy="4529160"/>
          </a:xfrm>
          <a:prstGeom prst="rect">
            <a:avLst/>
          </a:prstGeom>
          <a:noFill/>
          <a:ln w="0">
            <a:noFill/>
          </a:ln>
        </p:spPr>
        <p:txBody>
          <a:bodyPr tIns="19080" anchor="t">
            <a:normAutofit fontScale="89000"/>
          </a:bodyPr>
          <a:p>
            <a:pPr marL="696240" indent="0" algn="ctr">
              <a:spcBef>
                <a:spcPts val="799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ревние славяне считали,что жизнь человека имеет начало и конец. Полотенце играло в народной жизни важную роль, оно сопровождало человека от рождения до глубокой старости, как бы отмечая главные моменты его жизни. Украшенная вещь становилась участницей общения люд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5000760" y="357120"/>
            <a:ext cx="3809880" cy="2879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5072040" y="4143240"/>
            <a:ext cx="3809880" cy="147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714240" y="357120"/>
            <a:ext cx="77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рнамент – от лат. – украшение – узор, построенный на ритмическом чередовании и организованном расположении элемен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C:\Documents and Settings\Admin\Рабочий стол\изо 2013\1273685308_189dfd45-29-kopiya.jpg"/>
          <p:cNvPicPr/>
          <p:nvPr/>
        </p:nvPicPr>
        <p:blipFill>
          <a:blip r:embed="rId1"/>
          <a:stretch/>
        </p:blipFill>
        <p:spPr>
          <a:xfrm>
            <a:off x="838080" y="295200"/>
            <a:ext cx="749628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alibri"/>
              </a:rPr>
              <a:t>Птиц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57120" y="428616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давние времена люди верили, что птицы прогоняли своим звонким пением зимний мрак, стужу и приносят на крыльях весну красную, тепло летушко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http://www.latynin.ru/books/folkartpics/3/image017.jpg"/>
          <p:cNvPicPr/>
          <p:nvPr/>
        </p:nvPicPr>
        <p:blipFill>
          <a:blip r:embed="rId1"/>
          <a:stretch/>
        </p:blipFill>
        <p:spPr>
          <a:xfrm>
            <a:off x="500040" y="1357200"/>
            <a:ext cx="812340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C:\Documents and Settings\Admin\Рабочий стол\5кл\243.jpg"/>
          <p:cNvPicPr/>
          <p:nvPr/>
        </p:nvPicPr>
        <p:blipFill>
          <a:blip r:embed="rId1"/>
          <a:stretch/>
        </p:blipFill>
        <p:spPr>
          <a:xfrm>
            <a:off x="1157400" y="-685800"/>
            <a:ext cx="6767280" cy="75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06T09:22:38Z</dcterms:created>
  <dc:creator>uzer</dc:creator>
  <dc:description/>
  <dc:language>en-US</dc:language>
  <cp:lastModifiedBy>uzere</cp:lastModifiedBy>
  <dcterms:modified xsi:type="dcterms:W3CDTF">2017-06-03T23:08:48Z</dcterms:modified>
  <cp:revision>7</cp:revision>
  <dc:subject/>
  <dc:title>Слайд 1</dc:title>
</cp:coreProperties>
</file>