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F84-E73E-4D1A-968F-F0A76EF4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AC9-77D7-472A-8593-1F0EE2AD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AC8-F1ED-431F-A683-90CD4810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447-3685-4592-9C69-F63A74F9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E2C-7201-4910-B0DD-51172364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0F45-ED52-43B9-A0D2-2F776B7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78B4-345D-4402-9855-D9967D5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D161-EAA5-44FA-804D-004A575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D61-E859-4527-B765-4480DA1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171C-A9E6-441B-822D-E6A6C3E0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CD7-699B-47A3-BDA5-02A7BE4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569-52A6-4EFD-90F6-2E79F9EB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23E8-E310-4496-B0F5-E70B17F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2025-22AB-4902-B983-DD0201D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B31F-CB12-4E14-8867-F3C9AAB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15C-E886-48C8-846B-A7E02A2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27B-DC1A-41EF-B080-90777C53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454-861C-4D73-B5E4-789BDF1E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093-DB6C-41B7-AD38-61D7F7EA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58D-788F-49EB-93A9-DA0FF6A9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0E4-8B92-4758-BA26-ECD126D9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386-F870-490F-8FB9-4ECED17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E6B-0654-4E73-8BCF-CF0F5E2B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EBB-0D5A-4A0F-947A-D28DAFB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BAD2-1399-4AE1-8DD8-E9F7EA5A14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944-4A65-43E9-A16F-25EAD1A379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1143000"/>
            <a:ext cx="5627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Витамины в жизни челове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нейчук И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Витамины"/>
          <p:cNvPicPr/>
          <p:nvPr/>
        </p:nvPicPr>
        <p:blipFill>
          <a:blip r:embed="rId1"/>
          <a:stretch/>
        </p:blipFill>
        <p:spPr>
          <a:xfrm>
            <a:off x="324000" y="1413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витамины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витамин» происходит от латинского слова «vita» - «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– это пищевые вещества, необходимые для поддержания жизненны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человека и животных не синтезирует витамины или синтезирует в недостаточном количестве и поэтому должен получать их в готов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ы требуются организму от нескольких микрограммов до нескольких миллиграм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Витамины"/>
          <p:cNvPicPr/>
          <p:nvPr/>
        </p:nvPicPr>
        <p:blipFill>
          <a:blip r:embed="rId1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0656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А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яет иммунитет, при заболевании вырабатывает анти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B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за рост, переваривание пищи, работу нервной системы, мышц и сердца, а так же способствует высвобождению энергии угле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B2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здоровые кожа, ногти и волосы, способствует высвобождению энергии из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С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сохранить устойчивость к инфекциям и токсинам, борется со старением, способствует росту костей и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Витамины"/>
          <p:cNvPicPr/>
          <p:nvPr/>
        </p:nvPicPr>
        <p:blipFill>
          <a:blip r:embed="rId2"/>
          <a:stretch/>
        </p:blipFill>
        <p:spPr>
          <a:xfrm>
            <a:off x="324000" y="1197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организму усваивать кальций и фосфор, он необходим для поддержания здоровых 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за развитие мышц, защиту от свободных радикалов, выработку эритроцитов, необходим для работы иммун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овышает иммунитет, способствует лечению и профилактике кишечных заболеваний, выведению из организма холестерина; укрепляет стенки кровеносных сосудов; повышает устойчивость организма к инфекциям и простуд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Витамины"/>
          <p:cNvPicPr/>
          <p:nvPr/>
        </p:nvPicPr>
        <p:blipFill>
          <a:blip r:embed="rId2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Польза витаминов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557360"/>
            <a:ext cx="7380360" cy="5157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 что отвечают витамин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7280" y="1599840"/>
            <a:ext cx="633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гулирует уровень сахара в крови и очень важен для углеводного обмена. Он содержит серу, которая очень важна для здоровья волос, ногтей и кожи – биотин еще называют «витамином крас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ствует поддержанию в хорошем состоянии коллагена - "цемента" между всеми кл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ет свертываемость крови, синтез костного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Витамины"/>
          <p:cNvPicPr/>
          <p:nvPr/>
        </p:nvPicPr>
        <p:blipFill>
          <a:blip r:embed="rId2"/>
          <a:stretch/>
        </p:blipFill>
        <p:spPr>
          <a:xfrm>
            <a:off x="179280" y="134136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5200" y="277560"/>
            <a:ext cx="77612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0033"/>
                </a:solidFill>
                <a:latin typeface="Times New Roman"/>
              </a:rPr>
              <a:t>Многие витамины содержатся в достаточно больших количествах в продуктах пита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4" descr="Продукты и витамины"/>
          <p:cNvPicPr/>
          <p:nvPr/>
        </p:nvPicPr>
        <p:blipFill>
          <a:blip r:embed="rId1"/>
          <a:stretch/>
        </p:blipFill>
        <p:spPr>
          <a:xfrm>
            <a:off x="2664000" y="765000"/>
            <a:ext cx="6480000" cy="609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Витамины"/>
          <p:cNvPicPr/>
          <p:nvPr/>
        </p:nvPicPr>
        <p:blipFill>
          <a:blip r:embed="rId2"/>
          <a:stretch/>
        </p:blipFill>
        <p:spPr>
          <a:xfrm>
            <a:off x="179280" y="1413000"/>
            <a:ext cx="22478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едостаток витаминов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 организм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7093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итаминов чаще всего встречается у людей в холодное время года, когда свежие полезные продукты не всегда доступ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итаминоз - практически полное отсутствие какого-либо витамина или целой витаминной группы в организме челове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Такое встречается крайне редко, особенно в развитых стра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знаки авитами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яжелое пробуждение утром (встаете с ощущением усталости, не смотря на продолжительный с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нливость (которая сохраняется на протяжении всего д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ая концентрация, рассея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лишняя раздраж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худшение состояния кожи (излишняя сухость, потрескавшаяся и покрасневшая кожа в уголках г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 - недостаточное содержание витами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- распространен гораздо больше. Несмотря на это, привычным остается название "весенний авитаминоз", подразумевают именно дефицит витаминов, а не полное их отсут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Витамины"/>
          <p:cNvPicPr/>
          <p:nvPr/>
        </p:nvPicPr>
        <p:blipFill>
          <a:blip r:embed="rId1"/>
          <a:stretch/>
        </p:blipFill>
        <p:spPr>
          <a:xfrm>
            <a:off x="179280" y="126828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C900428067[1]"/>
          <p:cNvPicPr/>
          <p:nvPr/>
        </p:nvPicPr>
        <p:blipFill>
          <a:blip r:embed="rId2"/>
          <a:stretch/>
        </p:blipFill>
        <p:spPr>
          <a:xfrm>
            <a:off x="0" y="4941720"/>
            <a:ext cx="1940040" cy="1775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900434385[1]"/>
          <p:cNvPicPr/>
          <p:nvPr/>
        </p:nvPicPr>
        <p:blipFill>
          <a:blip r:embed="rId3"/>
          <a:stretch/>
        </p:blipFill>
        <p:spPr>
          <a:xfrm>
            <a:off x="7216920" y="0"/>
            <a:ext cx="1927080" cy="174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материалы и фотографии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взяты 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из интернет -сайт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8:25:59Z</dcterms:created>
  <dc:creator>НаташаР</dc:creator>
  <dc:description/>
  <dc:language>en-US</dc:language>
  <cp:lastModifiedBy>Александр</cp:lastModifiedBy>
  <dcterms:modified xsi:type="dcterms:W3CDTF">2017-06-04T06:14:54Z</dcterms:modified>
  <cp:revision>27</cp:revision>
  <dc:subject/>
  <dc:title>Витамины в жизни человека</dc:title>
</cp:coreProperties>
</file>