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1882-3C47-4AE1-859E-13745073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1BA-22BB-41A0-BD92-5F77DA8B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506-0C25-417A-8281-BE6C5579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304-DA3D-4FB5-A62A-313837D8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64E5-8D24-49D3-A908-73724BDB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994F-E74F-4C9A-8128-5E770CB7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2906-2B01-4C25-81E9-6695C1B2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319E-4102-4271-B8D2-28A06880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B526-6B82-4176-BEE3-08B7B679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E921-7869-421D-A549-D2E65BE4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F5B2-4566-457D-9F53-BF4D280E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673-2A48-42D3-8AEB-068212BE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4DDD-93B7-4B86-94D4-CCA9767A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EEFE-C63A-4757-A666-C468DC2B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8E26-F706-48DD-9176-22FF1C9A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6E77-2769-4614-9767-E4295CD7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BD2A-9B49-4D33-A03C-D8803C16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BA6-2989-46AD-95F3-5D9C1518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638-A6D1-4839-A0F2-2561CDB3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67D-D875-49E2-8974-04EB638A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B8CF-BD0B-4BE0-AA3D-3B207A87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F535-1471-4746-B59F-A967EBA6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2877-6A19-429A-B506-257CA0C3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F89-0C6D-46A6-96C5-C19A2687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ED57-8AAA-4488-882D-3042CBEEA8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24B2-545F-4D13-B23E-3F0278A250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1143000"/>
            <a:ext cx="56275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Витамины в жизни челове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нейчук И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Витамины"/>
          <p:cNvPicPr/>
          <p:nvPr/>
        </p:nvPicPr>
        <p:blipFill>
          <a:blip r:embed="rId1"/>
          <a:stretch/>
        </p:blipFill>
        <p:spPr>
          <a:xfrm>
            <a:off x="324000" y="1413000"/>
            <a:ext cx="224784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то такое витамины 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633744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«витамин» происходит от латинского слова «vita» - «жизн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ы – это пищевые вещества, необходимые для поддержания жизненных 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м человека и животных не синтезирует витамины или синтезирует в недостаточном количестве и поэтому должен получать их в готовом ви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ы требуются организму от нескольких микрограммов до нескольких миллиграм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Витамины"/>
          <p:cNvPicPr/>
          <p:nvPr/>
        </p:nvPicPr>
        <p:blipFill>
          <a:blip r:embed="rId1"/>
          <a:stretch/>
        </p:blipFill>
        <p:spPr>
          <a:xfrm>
            <a:off x="179280" y="1341360"/>
            <a:ext cx="224784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Польза витаминов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1557360"/>
            <a:ext cx="7380360" cy="5157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 что отвечают витамины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06560" y="1599840"/>
            <a:ext cx="633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 А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епляет иммунитет, при заболевании вырабатывает анти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 B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чает за рост, переваривание пищи, работу нервной системы, мышц и сердца, а так же способствует высвобождению энергии углев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 B2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то здоровые кожа, ногти и волосы, способствует высвобождению энергии из пи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 С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сохранить устойчивость к инфекциям и токсинам, борется со старением, способствует росту костей и зу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Витамины"/>
          <p:cNvPicPr/>
          <p:nvPr/>
        </p:nvPicPr>
        <p:blipFill>
          <a:blip r:embed="rId2"/>
          <a:stretch/>
        </p:blipFill>
        <p:spPr>
          <a:xfrm>
            <a:off x="324000" y="1197000"/>
            <a:ext cx="224784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Польза витаминов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1557360"/>
            <a:ext cx="7380360" cy="5157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 что отвечают витамины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633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 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ет организму усваивать кальций и фосфор, он необходим для поддержания здоровых к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 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чает за развитие мышц, защиту от свободных радикалов, выработку эритроцитов, необходим для работы иммун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повышает иммунитет, способствует лечению и профилактике кишечных заболеваний, выведению из организма холестерина; укрепляет стенки кровеносных сосудов; повышает устойчивость организма к инфекциям и простудным заболе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Витамины"/>
          <p:cNvPicPr/>
          <p:nvPr/>
        </p:nvPicPr>
        <p:blipFill>
          <a:blip r:embed="rId2"/>
          <a:stretch/>
        </p:blipFill>
        <p:spPr>
          <a:xfrm>
            <a:off x="179280" y="1341360"/>
            <a:ext cx="224784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Польза витаминов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1557360"/>
            <a:ext cx="7380360" cy="5157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 что отвечают витамины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633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гулирует уровень сахара в крови и очень важен для углеводного обмена. Он содержит серу, которая очень важна для здоровья волос, ногтей и кожи – биотин еще называют «витамином красот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 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пособствует поддержанию в хорошем состоянии коллагена - "цемента" между всеми кле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 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ирует свертываемость крови, синтез костного бе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Витамины"/>
          <p:cNvPicPr/>
          <p:nvPr/>
        </p:nvPicPr>
        <p:blipFill>
          <a:blip r:embed="rId2"/>
          <a:stretch/>
        </p:blipFill>
        <p:spPr>
          <a:xfrm>
            <a:off x="179280" y="1341360"/>
            <a:ext cx="224784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25200" y="277560"/>
            <a:ext cx="77612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0033"/>
                </a:solidFill>
                <a:latin typeface="Times New Roman"/>
              </a:rPr>
              <a:t>Многие витамины содержатся в достаточно больших количествах в продуктах питания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Picture 4" descr="Продукты и витамины"/>
          <p:cNvPicPr/>
          <p:nvPr/>
        </p:nvPicPr>
        <p:blipFill>
          <a:blip r:embed="rId1"/>
          <a:stretch/>
        </p:blipFill>
        <p:spPr>
          <a:xfrm>
            <a:off x="2664000" y="765000"/>
            <a:ext cx="6480000" cy="609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Витамины"/>
          <p:cNvPicPr/>
          <p:nvPr/>
        </p:nvPicPr>
        <p:blipFill>
          <a:blip r:embed="rId2"/>
          <a:stretch/>
        </p:blipFill>
        <p:spPr>
          <a:xfrm>
            <a:off x="179280" y="1413000"/>
            <a:ext cx="224784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Недостаток витаминов </a:t>
            </a: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в организме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50560" y="1773360"/>
            <a:ext cx="70930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фицит витаминов чаще всего встречается у людей в холодное время года, когда свежие полезные продукты не всегда доступ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итаминоз - практически полное отсутствие какого-либо витамина или целой витаминной группы в организме человек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Такое встречается крайне редко, особенно в развитых стран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знаки авитаминоз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яжелое пробуждение утром (встаете с ощущением усталости, не смотря на продолжительный со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нливость (которая сохраняется на протяжении всего дн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ял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хая концентрация, рассея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лишняя раздражи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пре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худшение состояния кожи (излишняя сухость, потрескавшаяся и покрасневшая кожа в уголках г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ее снижение иммунит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повитаминоз - недостаточное содержание витамин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- распространен гораздо больше. Несмотря на это, привычным остается название "весенний авитаминоз", подразумевают именно дефицит витаминов, а не полное их отсутств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Витамины"/>
          <p:cNvPicPr/>
          <p:nvPr/>
        </p:nvPicPr>
        <p:blipFill>
          <a:blip r:embed="rId1"/>
          <a:stretch/>
        </p:blipFill>
        <p:spPr>
          <a:xfrm>
            <a:off x="179280" y="1268280"/>
            <a:ext cx="2247840" cy="1685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C900428067[1]"/>
          <p:cNvPicPr/>
          <p:nvPr/>
        </p:nvPicPr>
        <p:blipFill>
          <a:blip r:embed="rId2"/>
          <a:stretch/>
        </p:blipFill>
        <p:spPr>
          <a:xfrm>
            <a:off x="0" y="4941720"/>
            <a:ext cx="1940040" cy="1775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C900434385[1]"/>
          <p:cNvPicPr/>
          <p:nvPr/>
        </p:nvPicPr>
        <p:blipFill>
          <a:blip r:embed="rId3"/>
          <a:stretch/>
        </p:blipFill>
        <p:spPr>
          <a:xfrm>
            <a:off x="7216920" y="0"/>
            <a:ext cx="1927080" cy="174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807552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материалы и фотографии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взяты </a:t>
            </a:r>
            <a:br>
              <a:rPr sz="4400"/>
            </a:br>
            <a:r>
              <a:rPr b="0" lang="ru-RU" sz="4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из интернет -сайтов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5T18:25:59Z</dcterms:created>
  <dc:creator>НаташаР</dc:creator>
  <dc:description/>
  <dc:language>en-US</dc:language>
  <cp:lastModifiedBy>Александр</cp:lastModifiedBy>
  <dcterms:modified xsi:type="dcterms:W3CDTF">2017-06-04T06:14:54Z</dcterms:modified>
  <cp:revision>27</cp:revision>
  <dc:subject/>
  <dc:title>Витамины в жизни человека</dc:title>
</cp:coreProperties>
</file>