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D94-2E8E-40DE-8D10-223AE830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0E4-48DD-4C71-A7F1-479E9EE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171-3CC5-4D09-843A-BF77E18B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FF5-9AA4-481C-98F2-2982EFD0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0C3-B3B1-422B-9A90-634F6778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B7F-D005-4A0A-9060-D05BF5E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982-2425-41CE-B9DC-02E72088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487-2DD5-4343-ACBE-0C9EFF3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21-7672-4B47-9586-CEC3BC1E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B97-9A35-4EB5-835F-4099050F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E3A-22A4-4115-BBC9-1BBBB99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43B-65C6-490A-8CE1-5B8CF591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46E-E3B1-4CA7-B585-A0705533E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зентация проекта на компьютере</a:t>
            </a: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ки 11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85716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3"/>
          <p:cNvCxnSpPr/>
          <p:nvPr/>
        </p:nvCxnSpPr>
        <p:spPr>
          <a:xfrm flipH="1" flipV="1">
            <a:off x="928440" y="1142280"/>
            <a:ext cx="1357920" cy="171540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тер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5760" cy="657216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2"/>
          <p:cNvCxnSpPr/>
          <p:nvPr/>
        </p:nvCxnSpPr>
        <p:spPr>
          <a:xfrm flipH="1" flipV="1">
            <a:off x="999720" y="1785600"/>
            <a:ext cx="1357920" cy="171504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6" name="Прямая со стрелкой 2"/>
          <p:cNvCxnSpPr/>
          <p:nvPr/>
        </p:nvCxnSpPr>
        <p:spPr>
          <a:xfrm flipH="1" flipV="1">
            <a:off x="3642480" y="4214520"/>
            <a:ext cx="1358280" cy="1715040"/>
          </a:xfrm>
          <a:prstGeom prst="straightConnector1">
            <a:avLst/>
          </a:prstGeom>
          <a:ln w="85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80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Создание презентаци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Презентация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– это демонстрационные материалы для выступления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Компьютерная (электронная) презентация 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– это файл, в котором такие материалы собраны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тапы разработки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35720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начение презентации, тема, примерное количество слай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бор информации для презентации, определение последовательности перехода между слай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и заполнение слайдов различными объектами: текст, таблица, схема, диаграмма, фотографии, рисунки и п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формление слайдов: фон, звук, анимация, граф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хранение презент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Desert.jpg"/>
          <p:cNvPicPr/>
          <p:nvPr/>
        </p:nvPicPr>
        <p:blipFill>
          <a:blip r:embed="rId1"/>
          <a:stretch/>
        </p:blipFill>
        <p:spPr>
          <a:xfrm>
            <a:off x="142884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Wildlife.wmv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393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img-fotki.yandex.ru/get/4524/104967700.65/0_7686b_690e2994_L.jpg"/>
          <p:cNvPicPr/>
          <p:nvPr/>
        </p:nvPicPr>
        <p:blipFill>
          <a:blip r:embed="rId1"/>
          <a:stretch/>
        </p:blipFill>
        <p:spPr>
          <a:xfrm>
            <a:off x="1785960" y="1643040"/>
            <a:ext cx="5500800" cy="4929120"/>
          </a:xfrm>
          <a:prstGeom prst="rect">
            <a:avLst/>
          </a:prstGeom>
          <a:ln w="0">
            <a:noFill/>
          </a:ln>
        </p:spPr>
      </p:pic>
      <p:pic>
        <p:nvPicPr>
          <p:cNvPr id="53" name="j0214098.wav" descr=""/>
          <p:cNvPicPr/>
          <p:nvPr/>
        </p:nvPicPr>
        <p:blipFill>
          <a:blip r:embed="rId2"/>
          <a:stretch/>
        </p:blipFill>
        <p:spPr>
          <a:xfrm>
            <a:off x="128592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лайд презентации – это не просто изображени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Улыбающееся лицо 4"/>
          <p:cNvSpPr/>
          <p:nvPr/>
        </p:nvSpPr>
        <p:spPr>
          <a:xfrm>
            <a:off x="3357720" y="2000160"/>
            <a:ext cx="2928960" cy="2928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65 0.03514 C 0.18941 0.02034 0.05416 0.00578 -5.55556E-007 5.20231E-007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здание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 Office Power Point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14:59Z</dcterms:created>
  <dc:creator>uzer</dc:creator>
  <dc:description/>
  <dc:language>en-US</dc:language>
  <cp:lastModifiedBy>uzer</cp:lastModifiedBy>
  <dcterms:modified xsi:type="dcterms:W3CDTF">2015-10-08T06:27:03Z</dcterms:modified>
  <cp:revision>6</cp:revision>
  <dc:subject/>
  <dc:title>Презентация проекта на компьютере  Уроки 11-12</dc:title>
</cp:coreProperties>
</file>