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694-4CD0-4E0A-B901-E275A465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F3E-7795-421E-9932-091455A4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F62-6FF7-4DAD-919B-166CA7C7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6D3-6B10-4D86-89A4-715B2CF0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DB3-9A84-4DAF-BEB5-6EFF66F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150-0BD1-454C-996E-8E2AA88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085-AA30-4500-BF76-AF98C6A8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534-7BC6-4260-8104-9DE8D19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E77-7C97-422F-84B7-037868F2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EED-9CB0-439E-8149-0983B87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AF9-E574-4EAC-BCA4-8AEF88D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8E5-92A1-41BE-B9AC-7B5DB016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17E8-D746-46B6-A312-4DD29B0D9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зентация проекта на компьютере</a:t>
            </a:r>
            <a:br>
              <a:rPr sz="4000"/>
            </a:b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ки 11-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85716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86680"/>
          </a:xfrm>
          <a:prstGeom prst="rect">
            <a:avLst/>
          </a:prstGeom>
          <a:ln w="0">
            <a:noFill/>
          </a:ln>
        </p:spPr>
      </p:pic>
      <p:cxnSp>
        <p:nvCxnSpPr>
          <p:cNvPr id="59" name="Прямая со стрелкой 3"/>
          <p:cNvCxnSpPr/>
          <p:nvPr/>
        </p:nvCxnSpPr>
        <p:spPr>
          <a:xfrm flipH="1" flipV="1">
            <a:off x="928440" y="1142280"/>
            <a:ext cx="1357920" cy="1715400"/>
          </a:xfrm>
          <a:prstGeom prst="straightConnector1">
            <a:avLst/>
          </a:prstGeom>
          <a:ln w="85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тер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5760" cy="657216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2"/>
          <p:cNvCxnSpPr/>
          <p:nvPr/>
        </p:nvCxnSpPr>
        <p:spPr>
          <a:xfrm flipH="1" flipV="1">
            <a:off x="999720" y="1785600"/>
            <a:ext cx="1357920" cy="1715040"/>
          </a:xfrm>
          <a:prstGeom prst="straightConnector1">
            <a:avLst/>
          </a:prstGeom>
          <a:ln w="85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66" name="Прямая со стрелкой 2"/>
          <p:cNvCxnSpPr/>
          <p:nvPr/>
        </p:nvCxnSpPr>
        <p:spPr>
          <a:xfrm flipH="1" flipV="1">
            <a:off x="3642480" y="4214520"/>
            <a:ext cx="1358280" cy="1715040"/>
          </a:xfrm>
          <a:prstGeom prst="straightConnector1">
            <a:avLst/>
          </a:prstGeom>
          <a:ln w="85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br>
              <a:rPr sz="80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Создание презентаци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68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Презентация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– это демонстрационные материалы для выступления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Компьютерная (электронная) презентация 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– это файл, в котором такие материалы собраны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тапы разработки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35720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начение презентации, тема, примерное количество слайд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бор информации для презентации, определение последовательности перехода между слай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и заполнение слайдов различными объектами: текст, таблица, схема, диаграмма, фотографии, рисунки и п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формление слайдов: фон, звук, анимация, граф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хранение презент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Desert.jpg"/>
          <p:cNvPicPr/>
          <p:nvPr/>
        </p:nvPicPr>
        <p:blipFill>
          <a:blip r:embed="rId1"/>
          <a:stretch/>
        </p:blipFill>
        <p:spPr>
          <a:xfrm>
            <a:off x="142884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Wildlife.wmv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393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img-fotki.yandex.ru/get/4524/104967700.65/0_7686b_690e2994_L.jpg"/>
          <p:cNvPicPr/>
          <p:nvPr/>
        </p:nvPicPr>
        <p:blipFill>
          <a:blip r:embed="rId1"/>
          <a:stretch/>
        </p:blipFill>
        <p:spPr>
          <a:xfrm>
            <a:off x="1785960" y="1643040"/>
            <a:ext cx="5500800" cy="4929120"/>
          </a:xfrm>
          <a:prstGeom prst="rect">
            <a:avLst/>
          </a:prstGeom>
          <a:ln w="0">
            <a:noFill/>
          </a:ln>
        </p:spPr>
      </p:pic>
      <p:pic>
        <p:nvPicPr>
          <p:cNvPr id="53" name="j0214098.wav" descr=""/>
          <p:cNvPicPr/>
          <p:nvPr/>
        </p:nvPicPr>
        <p:blipFill>
          <a:blip r:embed="rId2"/>
          <a:stretch/>
        </p:blipFill>
        <p:spPr>
          <a:xfrm>
            <a:off x="1285920" y="207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Улыбающееся лицо 4"/>
          <p:cNvSpPr/>
          <p:nvPr/>
        </p:nvSpPr>
        <p:spPr>
          <a:xfrm>
            <a:off x="3357720" y="2000160"/>
            <a:ext cx="2928960" cy="29289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465 0.03514 C 0.18941 0.02034 0.05416 0.00578 -5.55556E-007 5.20231E-007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здание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 Office Power Point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05:14:59Z</dcterms:created>
  <dc:creator>uzer</dc:creator>
  <dc:description/>
  <dc:language>en-US</dc:language>
  <cp:lastModifiedBy>uzer</cp:lastModifiedBy>
  <dcterms:modified xsi:type="dcterms:W3CDTF">2015-10-08T06:27:03Z</dcterms:modified>
  <cp:revision>6</cp:revision>
  <dc:subject/>
  <dc:title>Презентация проекта на компьютере  Уроки 11-12</dc:title>
</cp:coreProperties>
</file>