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КДОУ детский сад №2 г.Россош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шая груп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74B6-7FF6-4499-A61A-8C121DDBE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521A-82C4-4BE7-A7E5-5A1FB0EA2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CB85-3A0B-4D02-9A86-461B6685D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C00D-907A-4E3B-B127-23216A5AD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83FD-0F1D-4642-B477-A9CA9BFEE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387B-9481-46DC-BF6D-3D8BD08AA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B7C4-D1F9-4B69-AEA6-380183F90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AFCE-C6B2-4CEB-AAC4-149741BC9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5738-6FE9-4B03-9A19-72BFA45BE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89EA-621D-4FB6-B2C2-A2A5C6EAF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5851-988D-41F0-9F3B-04BC95B69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941A-E316-4C70-A2A7-307A687A0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E0B414-0081-4FF3-9D5F-2D101D1B664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2050920" y="0"/>
            <a:ext cx="7772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2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-8892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D:\Света\документы\5386b97b3e331621c90abfbff0c4c6e5.jpg"/>
          <p:cNvPicPr/>
          <p:nvPr/>
        </p:nvPicPr>
        <p:blipFill>
          <a:blip r:embed="rId3"/>
          <a:stretch/>
        </p:blipFill>
        <p:spPr>
          <a:xfrm>
            <a:off x="2124000" y="333360"/>
            <a:ext cx="3816360" cy="5024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-222120" y="0"/>
            <a:ext cx="9835920" cy="6951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Картинки по запросу картинки к частушкам"/>
          <p:cNvPicPr/>
          <p:nvPr/>
        </p:nvPicPr>
        <p:blipFill>
          <a:blip r:embed="rId3"/>
          <a:stretch/>
        </p:blipFill>
        <p:spPr>
          <a:xfrm>
            <a:off x="1403280" y="1052640"/>
            <a:ext cx="633744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905120" y="1752480"/>
            <a:ext cx="678168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D:\9 мая 2017, фото Дс участки\конкурсы 2016 0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6151320" cy="410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979640" y="1484280"/>
            <a:ext cx="67057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1692360" y="1268280"/>
            <a:ext cx="6262560" cy="4699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4003200" y="333360"/>
            <a:ext cx="12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Яс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D:\Света\документы\Копия 5386b97b3e331621c90abfbff0c4c6e5.jpg"/>
          <p:cNvPicPr/>
          <p:nvPr/>
        </p:nvPicPr>
        <p:blipFill>
          <a:blip r:embed="rId3"/>
          <a:stretch/>
        </p:blipFill>
        <p:spPr>
          <a:xfrm>
            <a:off x="1908000" y="907920"/>
            <a:ext cx="5940720" cy="4524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1763640" y="1160640"/>
            <a:ext cx="5688000" cy="4267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861280" y="404640"/>
            <a:ext cx="38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Младшая гру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143000" y="304920"/>
            <a:ext cx="75438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828800" y="1447920"/>
            <a:ext cx="70102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20 zvuki_zhivoj_prirodi_-_vechernij_les_(zf.f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Картинки по запросу картинки кадрили"/>
          <p:cNvPicPr/>
          <p:nvPr/>
        </p:nvPicPr>
        <p:blipFill>
          <a:blip r:embed="rId3"/>
          <a:stretch/>
        </p:blipFill>
        <p:spPr>
          <a:xfrm>
            <a:off x="1763640" y="1197000"/>
            <a:ext cx="6129360" cy="5256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-108000" y="0"/>
            <a:ext cx="10614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858400" y="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аршая груп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1 zvuki_prirodi_-_djatel_(zf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3"/>
          <a:stretch/>
        </p:blipFill>
        <p:spPr>
          <a:xfrm>
            <a:off x="0" y="0"/>
            <a:ext cx="9742320" cy="6885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Картинки по запросу картинки скоро в школу для детского сада"/>
          <p:cNvPicPr/>
          <p:nvPr/>
        </p:nvPicPr>
        <p:blipFill>
          <a:blip r:embed="rId4"/>
          <a:stretch/>
        </p:blipFill>
        <p:spPr>
          <a:xfrm>
            <a:off x="2195640" y="404640"/>
            <a:ext cx="5095800" cy="5276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85880" y="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6" descr="Картинки по запросу шаблоны для презентации   выпускного в доу скачать бесплатно"/>
          <p:cNvPicPr/>
          <p:nvPr/>
        </p:nvPicPr>
        <p:blipFill>
          <a:blip r:embed="rId2"/>
          <a:stretch/>
        </p:blipFill>
        <p:spPr>
          <a:xfrm>
            <a:off x="0" y="0"/>
            <a:ext cx="9742320" cy="6885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Картинки по запросу"/>
          <p:cNvPicPr/>
          <p:nvPr/>
        </p:nvPicPr>
        <p:blipFill>
          <a:blip r:embed="rId3"/>
          <a:stretch/>
        </p:blipFill>
        <p:spPr>
          <a:xfrm>
            <a:off x="2050920" y="260280"/>
            <a:ext cx="5761080" cy="6166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6-04T04:04:01Z</dcterms:modified>
  <cp:revision>2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