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КДОУ детский сад №2 г.Россош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шая груп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5151-4CDF-4D29-B917-2AD764D4E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E398-1376-41E2-9403-7799FCE86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C28F-92E6-4ADF-8EFA-D8F304F7E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294C-E352-48C6-9467-FBEB69705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1C1F-C0CC-498F-AA06-45D2829F6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BFE8-1DE8-47B1-B649-7C800E63E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769D-E367-48F7-8ECA-CE33ECD49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F8AC-945F-4894-8D71-3399DCAF2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B6AC-1AE8-47C1-9980-6E30D43A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FADE-7F9D-459E-A0AD-9F47B0713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4590-1AC8-4B07-A8F5-76F4E4DA4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1E9F-AF1A-4413-8135-1D8663CC5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252320-A67C-4F2D-985A-0D953570A3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2050920" y="0"/>
            <a:ext cx="7772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2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-8892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D:\Света\документы\5386b97b3e331621c90abfbff0c4c6e5.jpg"/>
          <p:cNvPicPr/>
          <p:nvPr/>
        </p:nvPicPr>
        <p:blipFill>
          <a:blip r:embed="rId3"/>
          <a:stretch/>
        </p:blipFill>
        <p:spPr>
          <a:xfrm>
            <a:off x="2124000" y="333360"/>
            <a:ext cx="3816360" cy="5024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-222120" y="0"/>
            <a:ext cx="9835920" cy="6951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Картинки по запросу картинки к частушкам"/>
          <p:cNvPicPr/>
          <p:nvPr/>
        </p:nvPicPr>
        <p:blipFill>
          <a:blip r:embed="rId3"/>
          <a:stretch/>
        </p:blipFill>
        <p:spPr>
          <a:xfrm>
            <a:off x="1403280" y="1052640"/>
            <a:ext cx="633744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905120" y="1752480"/>
            <a:ext cx="678168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D:\9 мая 2017, фото Дс участки\конкурсы 2016 0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6151320" cy="410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979640" y="1484280"/>
            <a:ext cx="67057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1692360" y="1268280"/>
            <a:ext cx="6262560" cy="4699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4003200" y="333360"/>
            <a:ext cx="12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Яс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D:\Света\документы\Копия 5386b97b3e331621c90abfbff0c4c6e5.jpg"/>
          <p:cNvPicPr/>
          <p:nvPr/>
        </p:nvPicPr>
        <p:blipFill>
          <a:blip r:embed="rId3"/>
          <a:stretch/>
        </p:blipFill>
        <p:spPr>
          <a:xfrm>
            <a:off x="1908000" y="907920"/>
            <a:ext cx="5940720" cy="4524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1763640" y="1160640"/>
            <a:ext cx="5688000" cy="4267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861280" y="404640"/>
            <a:ext cx="38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Младшая гру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143000" y="304920"/>
            <a:ext cx="75438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828800" y="1447920"/>
            <a:ext cx="70102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20 zvuki_zhivoj_prirodi_-_vechernij_les_(zf.f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Картинки по запросу картинки кадрили"/>
          <p:cNvPicPr/>
          <p:nvPr/>
        </p:nvPicPr>
        <p:blipFill>
          <a:blip r:embed="rId3"/>
          <a:stretch/>
        </p:blipFill>
        <p:spPr>
          <a:xfrm>
            <a:off x="1763640" y="1197000"/>
            <a:ext cx="6129360" cy="5256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-108000" y="0"/>
            <a:ext cx="10614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858400" y="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аршая гру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1 zvuki_prirodi_-_djatel_(zf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3"/>
          <a:stretch/>
        </p:blipFill>
        <p:spPr>
          <a:xfrm>
            <a:off x="0" y="0"/>
            <a:ext cx="9742320" cy="6885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Картинки по запросу картинки скоро в школу для детского сада"/>
          <p:cNvPicPr/>
          <p:nvPr/>
        </p:nvPicPr>
        <p:blipFill>
          <a:blip r:embed="rId4"/>
          <a:stretch/>
        </p:blipFill>
        <p:spPr>
          <a:xfrm>
            <a:off x="2195640" y="404640"/>
            <a:ext cx="5095800" cy="5276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85880" y="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742320" cy="6885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Картинки по запросу"/>
          <p:cNvPicPr/>
          <p:nvPr/>
        </p:nvPicPr>
        <p:blipFill>
          <a:blip r:embed="rId3"/>
          <a:stretch/>
        </p:blipFill>
        <p:spPr>
          <a:xfrm>
            <a:off x="2050920" y="260280"/>
            <a:ext cx="5761080" cy="6166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6-04T04:04:01Z</dcterms:modified>
  <cp:revision>2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