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AC4CB-7F2A-481B-9E61-02AEE6416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9AF3F-C209-4C9D-9EEF-32BA95AE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B7108-06DE-48F7-8707-71190B6E5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1805D-80F2-486F-9460-4C6F94CA9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6C4C-8E2E-4FC7-B0A9-93B930F94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7571-1966-40E2-B09B-18AF57AF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AA2C-8C21-41D6-9973-36DC99CF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AFEB-DC70-4488-8292-7CA4BAB0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D66D-0D1E-4E97-B112-FD531E4D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018D-0A3D-4713-B459-34B5089B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F448-E04B-4BD7-BA2B-DC8A19BD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6B516-EE40-454C-B757-B47D5CAD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CE03-39D0-4D70-AA7C-3079DBF4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8EE6-7BE3-462C-9559-E19FB19A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7170-1164-4AE2-9587-3117B9D5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2564-0F75-4048-A7B5-2274EA43B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308C-ADFD-45D9-A648-E2A76652D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44E03-3D57-4B5C-95C7-68DD223D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ABAB2-5A49-4A24-9DD8-F2790474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4D434-4B66-4788-B295-31065E87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5B2B1-8292-41BC-9C80-8C6DEE7C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61C40-B248-49E2-B99F-B9441281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8450A-BF43-4421-8DF9-48444BB0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25D75-D820-43A5-BF84-418E6D33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47D4-F716-43C8-ABA5-2E4A7B1A2E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552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56D8-DD40-4A99-A88B-42448E5C05E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2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4" descr="serov-auto"/>
          <p:cNvPicPr/>
          <p:nvPr/>
        </p:nvPicPr>
        <p:blipFill>
          <a:blip r:embed="rId1"/>
          <a:stretch/>
        </p:blipFill>
        <p:spPr>
          <a:xfrm>
            <a:off x="3784680" y="0"/>
            <a:ext cx="5359320" cy="6858000"/>
          </a:xfrm>
          <a:prstGeom prst="rect">
            <a:avLst/>
          </a:prstGeom>
          <a:ln w="92160">
            <a:solidFill>
              <a:srgbClr val="993300"/>
            </a:solidFill>
            <a:miter/>
          </a:ln>
        </p:spPr>
      </p:pic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-181440" y="1125360"/>
            <a:ext cx="3816360" cy="3484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ccff"/>
                </a:solidFill>
                <a:latin typeface="Arial"/>
              </a:rPr>
              <a:t>Презентация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ccccff"/>
                </a:solidFill>
                <a:latin typeface="Arial"/>
              </a:rPr>
              <a:t>ВАЛЕНТИН СЕРОВ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4" descr="index2_clip_image016"/>
          <p:cNvPicPr/>
          <p:nvPr/>
        </p:nvPicPr>
        <p:blipFill>
          <a:blip r:embed="rId1">
            <a:lum contrast="-66000"/>
          </a:blip>
          <a:stretch/>
        </p:blipFill>
        <p:spPr>
          <a:xfrm>
            <a:off x="0" y="0"/>
            <a:ext cx="10404360" cy="694224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14400" y="0"/>
            <a:ext cx="8229600" cy="29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5c0000"/>
                </a:solidFill>
                <a:latin typeface="Arial"/>
              </a:rPr>
              <a:t>В мае 1907 года Валентин Серов едет в Грецию, которая произвела на него большое впечатление своими памятниками и скульптурами. В 1910 году им написано поэтическое сказание "Похищение Европы"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Picture 5" descr="index2_clip_image016"/>
          <p:cNvPicPr/>
          <p:nvPr/>
        </p:nvPicPr>
        <p:blipFill>
          <a:blip r:embed="rId2"/>
          <a:stretch/>
        </p:blipFill>
        <p:spPr>
          <a:xfrm>
            <a:off x="1835280" y="2421000"/>
            <a:ext cx="6480000" cy="432432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xit" presetID="50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" dur="28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8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" dur="28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27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4" descr="index2_clip_image018"/>
          <p:cNvPicPr/>
          <p:nvPr/>
        </p:nvPicPr>
        <p:blipFill>
          <a:blip r:embed="rId1">
            <a:lum contrast="-72000"/>
          </a:blip>
          <a:stretch/>
        </p:blipFill>
        <p:spPr>
          <a:xfrm>
            <a:off x="0" y="0"/>
            <a:ext cx="9331200" cy="1444608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50800" y="17280"/>
            <a:ext cx="8229600" cy="15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Arial"/>
              </a:rPr>
              <a:t>Вместе с тем он продолжает и портретный жанр - появляются портреты О.Орловой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Picture 5" descr="index2_clip_image018"/>
          <p:cNvPicPr/>
          <p:nvPr/>
        </p:nvPicPr>
        <p:blipFill>
          <a:blip r:embed="rId2"/>
          <a:stretch/>
        </p:blipFill>
        <p:spPr>
          <a:xfrm>
            <a:off x="3276720" y="1700280"/>
            <a:ext cx="3983040" cy="616572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xit" presetID="50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26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6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" dur="26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25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ccff"/>
                </a:solidFill>
                <a:latin typeface="Arial"/>
              </a:rPr>
              <a:t>Какую из картин написал В.Серов?</a:t>
            </a:r>
            <a:br>
              <a:rPr sz="3600"/>
            </a:b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7" name="Picture 4" descr="index2_clip_image01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003640" y="1125360"/>
            <a:ext cx="3529080" cy="271800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  <p:pic>
        <p:nvPicPr>
          <p:cNvPr id="558" name="Picture 5" descr="003"/>
          <p:cNvPicPr/>
          <p:nvPr/>
        </p:nvPicPr>
        <p:blipFill>
          <a:blip r:embed="rId3"/>
          <a:stretch/>
        </p:blipFill>
        <p:spPr>
          <a:xfrm>
            <a:off x="684360" y="1125360"/>
            <a:ext cx="3848040" cy="5328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59" name="Picture 7" descr="024"/>
          <p:cNvPicPr/>
          <p:nvPr/>
        </p:nvPicPr>
        <p:blipFill>
          <a:blip r:embed="rId4"/>
          <a:srcRect l="15578" t="16063" r="0" b="0"/>
          <a:stretch/>
        </p:blipFill>
        <p:spPr>
          <a:xfrm>
            <a:off x="5003640" y="4076640"/>
            <a:ext cx="3564000" cy="2540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ccff"/>
                </a:solidFill>
                <a:latin typeface="Arial"/>
              </a:rPr>
              <a:t>Какую из картин написал В.Серов?</a:t>
            </a:r>
            <a:br>
              <a:rPr sz="3600"/>
            </a:br>
            <a:r>
              <a:rPr b="0" i="1" lang="ru-RU" sz="2000" spc="-1" strike="noStrike">
                <a:solidFill>
                  <a:srgbClr val="ccccff"/>
                </a:solidFill>
                <a:latin typeface="Arial"/>
              </a:rPr>
              <a:t>(Из представленных фрагментов)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1" name="Рисунок 4" descr="image001CAY47OIL.jpg"/>
          <p:cNvPicPr/>
          <p:nvPr/>
        </p:nvPicPr>
        <p:blipFill>
          <a:blip r:embed="rId1"/>
          <a:srcRect l="31176" t="28473" r="33968" b="10942"/>
          <a:stretch/>
        </p:blipFill>
        <p:spPr>
          <a:xfrm>
            <a:off x="5508720" y="1197000"/>
            <a:ext cx="3384360" cy="28796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7" descr="s199_400"/>
          <p:cNvPicPr/>
          <p:nvPr/>
        </p:nvPicPr>
        <p:blipFill>
          <a:blip r:embed="rId2"/>
          <a:srcRect l="22285" t="24044" r="52027" b="24519"/>
          <a:stretch/>
        </p:blipFill>
        <p:spPr>
          <a:xfrm>
            <a:off x="395280" y="1195560"/>
            <a:ext cx="1816200" cy="2954160"/>
          </a:xfrm>
          <a:prstGeom prst="rect">
            <a:avLst/>
          </a:prstGeom>
          <a:ln w="3240">
            <a:solidFill>
              <a:srgbClr val="6666ff"/>
            </a:solidFill>
            <a:miter/>
          </a:ln>
        </p:spPr>
      </p:pic>
      <p:pic>
        <p:nvPicPr>
          <p:cNvPr id="563" name="Содержимое 3" descr="image00133.jpg"/>
          <p:cNvPicPr/>
          <p:nvPr/>
        </p:nvPicPr>
        <p:blipFill>
          <a:blip r:embed="rId3"/>
          <a:srcRect l="53120" t="45303" r="15324" b="-405"/>
          <a:stretch/>
        </p:blipFill>
        <p:spPr>
          <a:xfrm>
            <a:off x="2556000" y="1197000"/>
            <a:ext cx="2590560" cy="2952720"/>
          </a:xfrm>
          <a:prstGeom prst="rect">
            <a:avLst/>
          </a:prstGeom>
          <a:ln w="0">
            <a:noFill/>
          </a:ln>
        </p:spPr>
      </p:pic>
      <p:pic>
        <p:nvPicPr>
          <p:cNvPr id="564" name="Рисунок 3" descr="image00122.jpg"/>
          <p:cNvPicPr/>
          <p:nvPr/>
        </p:nvPicPr>
        <p:blipFill>
          <a:blip r:embed="rId4"/>
          <a:srcRect l="17776" t="38197" r="20739" b="23639"/>
          <a:stretch/>
        </p:blipFill>
        <p:spPr>
          <a:xfrm>
            <a:off x="3780000" y="4292640"/>
            <a:ext cx="5111640" cy="223344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10" descr="DSC04199"/>
          <p:cNvPicPr/>
          <p:nvPr/>
        </p:nvPicPr>
        <p:blipFill>
          <a:blip r:embed="rId5"/>
          <a:srcRect l="35018" t="33419" r="20242" b="23976"/>
          <a:stretch/>
        </p:blipFill>
        <p:spPr>
          <a:xfrm>
            <a:off x="395280" y="4292640"/>
            <a:ext cx="3024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ccff"/>
                </a:solidFill>
                <a:latin typeface="Arial"/>
              </a:rPr>
              <a:t>Какая из картин не является картиной В.Серов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7" name="Picture 1025" descr="index2_clip_image016"/>
          <p:cNvPicPr/>
          <p:nvPr/>
        </p:nvPicPr>
        <p:blipFill>
          <a:blip r:embed="rId1"/>
          <a:stretch/>
        </p:blipFill>
        <p:spPr>
          <a:xfrm>
            <a:off x="1042920" y="1197000"/>
            <a:ext cx="3097440" cy="206676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pic>
        <p:nvPicPr>
          <p:cNvPr id="568" name="Picture 1026" descr="s141"/>
          <p:cNvPicPr/>
          <p:nvPr/>
        </p:nvPicPr>
        <p:blipFill>
          <a:blip r:embed="rId2"/>
          <a:stretch/>
        </p:blipFill>
        <p:spPr>
          <a:xfrm>
            <a:off x="5148360" y="1268280"/>
            <a:ext cx="3235320" cy="501192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pic>
        <p:nvPicPr>
          <p:cNvPr id="569" name="Picture 1027" descr="vasilev_starec"/>
          <p:cNvPicPr/>
          <p:nvPr/>
        </p:nvPicPr>
        <p:blipFill>
          <a:blip r:embed="rId3"/>
          <a:stretch/>
        </p:blipFill>
        <p:spPr>
          <a:xfrm>
            <a:off x="1835280" y="3573360"/>
            <a:ext cx="2282760" cy="26892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Подсказк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71" name="Picture 4" descr="s199_400"/>
          <p:cNvPicPr/>
          <p:nvPr/>
        </p:nvPicPr>
        <p:blipFill>
          <a:blip r:embed="rId1"/>
          <a:stretch/>
        </p:blipFill>
        <p:spPr>
          <a:xfrm>
            <a:off x="684360" y="1052640"/>
            <a:ext cx="2736720" cy="222552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sp>
        <p:nvSpPr>
          <p:cNvPr id="572" name="Text Box 5"/>
          <p:cNvSpPr/>
          <p:nvPr/>
        </p:nvSpPr>
        <p:spPr>
          <a:xfrm>
            <a:off x="1332000" y="328464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йза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6"/>
          <p:cNvSpPr/>
          <p:nvPr/>
        </p:nvSpPr>
        <p:spPr>
          <a:xfrm>
            <a:off x="1332000" y="587700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йза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Picture 7" descr="index2_clip_image006"/>
          <p:cNvPicPr/>
          <p:nvPr/>
        </p:nvPicPr>
        <p:blipFill>
          <a:blip r:embed="rId2"/>
          <a:stretch/>
        </p:blipFill>
        <p:spPr>
          <a:xfrm>
            <a:off x="684360" y="3789360"/>
            <a:ext cx="2732040" cy="196992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pic>
        <p:nvPicPr>
          <p:cNvPr id="575" name="Picture 8" descr="index2_clip_image014"/>
          <p:cNvPicPr/>
          <p:nvPr/>
        </p:nvPicPr>
        <p:blipFill>
          <a:blip r:embed="rId3"/>
          <a:stretch/>
        </p:blipFill>
        <p:spPr>
          <a:xfrm>
            <a:off x="4211640" y="1268280"/>
            <a:ext cx="4248000" cy="327204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sp>
        <p:nvSpPr>
          <p:cNvPr id="576" name="Text Box 10"/>
          <p:cNvSpPr/>
          <p:nvPr/>
        </p:nvSpPr>
        <p:spPr>
          <a:xfrm>
            <a:off x="4716360" y="472428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рическая карт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5148360" y="587700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рнуться наза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5" descr="s202_400"/>
          <p:cNvPicPr/>
          <p:nvPr/>
        </p:nvPicPr>
        <p:blipFill>
          <a:blip r:embed="rId1">
            <a:lum contrast="-48000"/>
          </a:blip>
          <a:stretch/>
        </p:blipFill>
        <p:spPr>
          <a:xfrm>
            <a:off x="0" y="-747720"/>
            <a:ext cx="9325080" cy="893772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Валентин Александрович Серов</a:t>
            </a:r>
            <a:br>
              <a:rPr sz="2000"/>
            </a:br>
            <a:r>
              <a:rPr b="1" lang="ru-RU" sz="2000" spc="-1" strike="noStrike">
                <a:solidFill>
                  <a:srgbClr val="ccccff"/>
                </a:solidFill>
                <a:latin typeface="Arial"/>
              </a:rPr>
              <a:t>родился 19 января 1865 года в Петербурге.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468360" y="3860640"/>
            <a:ext cx="82296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У Валентина рано проявились художественные способности,</a:t>
            </a:r>
            <a:br>
              <a:rPr sz="1800"/>
            </a:b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сначала его учителем был А.Кемпинг, а затем И.Репин.</a:t>
            </a:r>
            <a:br>
              <a:rPr sz="1800"/>
            </a:b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Сначала занятия с Серовым Репин проводил в Париже,</a:t>
            </a:r>
            <a:br>
              <a:rPr sz="1800"/>
            </a:b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потом в Москве и Абрамцеве.  После поездки в Запорожье, в 1880 году,</a:t>
            </a:r>
            <a:br>
              <a:rPr sz="1800"/>
            </a:b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Репин направляет Серова в петербургскую Академию художеств,</a:t>
            </a:r>
            <a:br>
              <a:rPr sz="1800"/>
            </a:b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где его наставником становится П.Чистяков.</a:t>
            </a:r>
            <a:br>
              <a:rPr sz="1800"/>
            </a:b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Творчество Серова вызывает восхищение и у Чистякова,</a:t>
            </a:r>
            <a:br>
              <a:rPr sz="1800"/>
            </a:b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и у его современников.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Rectangle 4"/>
          <p:cNvSpPr/>
          <p:nvPr/>
        </p:nvSpPr>
        <p:spPr>
          <a:xfrm>
            <a:off x="468360" y="1844640"/>
            <a:ext cx="82296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Его отец, Александр Николаевич Серов, </a:t>
            </a:r>
            <a:br>
              <a:rPr sz="1800"/>
            </a:b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был композитором и музыкальным критиком.</a:t>
            </a:r>
            <a:br>
              <a:rPr sz="1800"/>
            </a:b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В семье Серовых часто</a:t>
            </a:r>
            <a:r>
              <a:rPr b="1" lang="ru-RU" sz="1800" spc="-1" strike="noStrike">
                <a:solidFill>
                  <a:srgbClr val="5c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бывали Репин, Антокольский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9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6" descr="s141"/>
          <p:cNvPicPr/>
          <p:nvPr/>
        </p:nvPicPr>
        <p:blipFill>
          <a:blip r:embed="rId1">
            <a:lum contrast="-66000"/>
          </a:blip>
          <a:stretch/>
        </p:blipFill>
        <p:spPr>
          <a:xfrm>
            <a:off x="0" y="-316080"/>
            <a:ext cx="9204480" cy="1425744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50920" y="404640"/>
            <a:ext cx="822960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Жизнь Серова в Абрамцеве и Домотканове оказала большое влияние на формирование его, как художника. Здесь он создает свои знаменитые портреты - "Девочка с персиками", на котором изображена дочь Мамонтова Вера, и "Девушка, освещенная солнцем", портрет двоюродной сестры. Оба портрета наполнены особой одухотворенностью и поэтичностью, что сразу выделило Серова среди других художников и сделало его популярн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Picture 5" descr="serov5m"/>
          <p:cNvPicPr/>
          <p:nvPr/>
        </p:nvPicPr>
        <p:blipFill>
          <a:blip r:embed="rId2"/>
          <a:stretch/>
        </p:blipFill>
        <p:spPr>
          <a:xfrm>
            <a:off x="250920" y="2603520"/>
            <a:ext cx="4624200" cy="585612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5" descr="s141"/>
          <p:cNvPicPr/>
          <p:nvPr/>
        </p:nvPicPr>
        <p:blipFill>
          <a:blip r:embed="rId1">
            <a:lum contrast="-66000"/>
          </a:blip>
          <a:stretch/>
        </p:blipFill>
        <p:spPr>
          <a:xfrm>
            <a:off x="0" y="-293760"/>
            <a:ext cx="9232920" cy="1430172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1480" y="475920"/>
            <a:ext cx="8229600" cy="10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Arial"/>
              </a:rPr>
              <a:t>Девочка с персиками. Фрагмент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8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88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c0000"/>
                </a:solidFill>
                <a:latin typeface="Arial"/>
              </a:rPr>
              <a:t>1887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Picture 4" descr="s141"/>
          <p:cNvPicPr/>
          <p:nvPr/>
        </p:nvPicPr>
        <p:blipFill>
          <a:blip r:embed="rId2"/>
          <a:stretch/>
        </p:blipFill>
        <p:spPr>
          <a:xfrm>
            <a:off x="1201680" y="2276640"/>
            <a:ext cx="6829560" cy="1044072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xit" presetID="50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20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4" descr="s199_400"/>
          <p:cNvPicPr/>
          <p:nvPr/>
        </p:nvPicPr>
        <p:blipFill>
          <a:blip r:embed="rId1">
            <a:lum contrast="-78000"/>
          </a:blip>
          <a:stretch/>
        </p:blipFill>
        <p:spPr>
          <a:xfrm>
            <a:off x="0" y="0"/>
            <a:ext cx="9325080" cy="757872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47560" y="260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Arial"/>
              </a:rPr>
              <a:t>В Домотканове Серовым были написаны такие полотна, ка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ccff"/>
                </a:solidFill>
                <a:latin typeface="Arial"/>
              </a:rPr>
              <a:t>"</a:t>
            </a:r>
            <a:r>
              <a:rPr b="1" lang="ru-RU" sz="4000" spc="-1" strike="noStrike">
                <a:solidFill>
                  <a:srgbClr val="ccccff"/>
                </a:solidFill>
                <a:latin typeface="Arial"/>
              </a:rPr>
              <a:t>Октябрь</a:t>
            </a:r>
            <a:r>
              <a:rPr b="1" lang="ru-RU" sz="3200" spc="-1" strike="noStrike">
                <a:solidFill>
                  <a:srgbClr val="ccccff"/>
                </a:solidFill>
                <a:latin typeface="Arial"/>
              </a:rPr>
              <a:t>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Picture 5" descr="s199_400"/>
          <p:cNvPicPr/>
          <p:nvPr/>
        </p:nvPicPr>
        <p:blipFill>
          <a:blip r:embed="rId2"/>
          <a:stretch/>
        </p:blipFill>
        <p:spPr>
          <a:xfrm>
            <a:off x="430200" y="2205000"/>
            <a:ext cx="8400960" cy="682776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xit" presetID="50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" dur="24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4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" dur="24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3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4" descr="index2_clip_image006"/>
          <p:cNvPicPr/>
          <p:nvPr/>
        </p:nvPicPr>
        <p:blipFill>
          <a:blip r:embed="rId1">
            <a:lum contrast="-54000"/>
          </a:blip>
          <a:stretch/>
        </p:blipFill>
        <p:spPr>
          <a:xfrm>
            <a:off x="0" y="0"/>
            <a:ext cx="9612360" cy="693252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c0000"/>
                </a:solidFill>
                <a:latin typeface="Arial"/>
              </a:rPr>
              <a:t>"Стригуны".</a:t>
            </a:r>
            <a:r>
              <a:rPr b="1" lang="ru-RU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5" descr="index2_clip_image006"/>
          <p:cNvPicPr/>
          <p:nvPr/>
        </p:nvPicPr>
        <p:blipFill>
          <a:blip r:embed="rId2"/>
          <a:stretch/>
        </p:blipFill>
        <p:spPr>
          <a:xfrm>
            <a:off x="395280" y="752400"/>
            <a:ext cx="8569440" cy="618012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xit" presetID="50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4" descr="index2_clip_image010"/>
          <p:cNvPicPr/>
          <p:nvPr/>
        </p:nvPicPr>
        <p:blipFill>
          <a:blip r:embed="rId1">
            <a:lum contrast="-66000"/>
          </a:blip>
          <a:stretch/>
        </p:blipFill>
        <p:spPr>
          <a:xfrm>
            <a:off x="-166680" y="-1324080"/>
            <a:ext cx="9310680" cy="1257480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55480" y="-1035360"/>
            <a:ext cx="82296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Arial"/>
              </a:rPr>
              <a:t>Серов много и увлеченно работает, создавая произведения, ставшие позже классикой русской живописи. Им написаны портреты Мики Морозова, И. Левитана, Н. Лескова, М.Морозовой, С.Боткиной, М.Ермоловой и много других рабо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Picture 5" descr="index2_clip_image010"/>
          <p:cNvPicPr/>
          <p:nvPr/>
        </p:nvPicPr>
        <p:blipFill>
          <a:blip r:embed="rId2"/>
          <a:stretch/>
        </p:blipFill>
        <p:spPr>
          <a:xfrm>
            <a:off x="2152800" y="2060640"/>
            <a:ext cx="4670280" cy="630864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xit" presetID="50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4" descr="index2_clip_image012"/>
          <p:cNvPicPr/>
          <p:nvPr/>
        </p:nvPicPr>
        <p:blipFill>
          <a:blip r:embed="rId1">
            <a:lum contrast="-66000"/>
          </a:blip>
          <a:stretch/>
        </p:blipFill>
        <p:spPr>
          <a:xfrm>
            <a:off x="0" y="-171360"/>
            <a:ext cx="9283680" cy="1206972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4360" y="280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ccff"/>
                </a:solidFill>
                <a:latin typeface="Arial"/>
              </a:rPr>
              <a:t>Портрет кн. З.Н. Юсупово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ccff"/>
                </a:solidFill>
                <a:latin typeface="Arial"/>
              </a:rPr>
              <a:t>1902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Picture 5" descr="index2_clip_image012"/>
          <p:cNvPicPr/>
          <p:nvPr/>
        </p:nvPicPr>
        <p:blipFill>
          <a:blip r:embed="rId2"/>
          <a:stretch/>
        </p:blipFill>
        <p:spPr>
          <a:xfrm>
            <a:off x="2354400" y="1413000"/>
            <a:ext cx="4574880" cy="594972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xit" presetID="50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12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2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1" dur="12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1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4" descr="index2_clip_image014"/>
          <p:cNvPicPr/>
          <p:nvPr/>
        </p:nvPicPr>
        <p:blipFill>
          <a:blip r:embed="rId1">
            <a:lum contrast="-66000"/>
          </a:blip>
          <a:stretch/>
        </p:blipFill>
        <p:spPr>
          <a:xfrm>
            <a:off x="-181080" y="-322200"/>
            <a:ext cx="9325080" cy="718020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39640" y="-171720"/>
            <a:ext cx="8229600" cy="16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Arial"/>
              </a:rPr>
              <a:t>В 1906году Серова увлекают темы истории и мифологии. Художник создает картину "Петр I"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Picture 5" descr="index2_clip_image014"/>
          <p:cNvPicPr/>
          <p:nvPr/>
        </p:nvPicPr>
        <p:blipFill>
          <a:blip r:embed="rId2"/>
          <a:stretch/>
        </p:blipFill>
        <p:spPr>
          <a:xfrm>
            <a:off x="1276200" y="1628640"/>
            <a:ext cx="6408720" cy="493560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xit" presetID="50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13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3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" dur="13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09:46:40Z</dcterms:created>
  <dc:creator>FUJITSU</dc:creator>
  <dc:description/>
  <dc:language>en-US</dc:language>
  <cp:lastModifiedBy>Кыс-Кыска</cp:lastModifiedBy>
  <dcterms:modified xsi:type="dcterms:W3CDTF">2017-06-04T13:28:57Z</dcterms:modified>
  <cp:revision>33</cp:revision>
  <dc:subject/>
  <dc:title>Презентация   ПОРТРЕТЫ   </dc:title>
</cp:coreProperties>
</file>