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901D-B651-4841-908D-3F69E85C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195E-6FA5-40F9-8C85-82F03C8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521-06BF-4FC4-B8A7-A9BE8CB4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703D-46D2-4966-86CC-AD0BCA77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128-D44A-4A9A-A7C4-484F2C1F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AAC1-FA80-4089-8902-BC50B983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12E-3D1B-4E04-BA5B-F670338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B10E-0341-464B-A862-0F3E425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AF24-BF0E-42FA-9316-CD5846D7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145A-D04D-4448-9F11-75BBF6B1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20BB-33F6-4EA3-8D19-FF3EC88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8805-CDDC-4DA7-B8EF-E383473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309-62B3-40D2-8CB0-D8B35F0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1FAC-3B76-470E-8C48-59C601A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20C-9DC5-4AD0-9DCF-C7D8236C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9D63-5E9F-4344-9DC2-2807EFD6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D9F-2C0F-4E64-AE7C-5FF1ECD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A43D-FC06-4E08-9218-D79FD51E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F290-8340-45F3-A54C-CD71E10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3B17-7438-4F2F-BBF2-7D999DE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B7F9-6491-49B2-914A-FCDD208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DC66-D135-444E-AD5B-6335D4F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BEA4-52D4-4E33-8CB0-BF485C3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CE6B-5A6A-4A4B-93B4-CD76FB3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C66-4202-4156-BE66-2FE6EEA45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94C1-DFC9-45E2-96EE-A17996FA1D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serov-auto"/>
          <p:cNvPicPr/>
          <p:nvPr/>
        </p:nvPicPr>
        <p:blipFill>
          <a:blip r:embed="rId1"/>
          <a:stretch/>
        </p:blipFill>
        <p:spPr>
          <a:xfrm>
            <a:off x="3784680" y="0"/>
            <a:ext cx="5359320" cy="6858000"/>
          </a:xfrm>
          <a:prstGeom prst="rect">
            <a:avLst/>
          </a:prstGeom>
          <a:ln w="92160">
            <a:solidFill>
              <a:srgbClr val="993300"/>
            </a:solidFill>
            <a:miter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181440" y="1125360"/>
            <a:ext cx="3816360" cy="348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Презентаци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ВАЛЕНТИН СЕР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index2_clip_image016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0"/>
            <a:ext cx="10404360" cy="69422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5c0000"/>
                </a:solidFill>
                <a:latin typeface="Arial"/>
              </a:rPr>
              <a:t>В мае 1907 года Валентин Серов едет в Грецию, которая произвела на него большое впечатление своими памятниками и скульптурами. В 1910 году им написано поэтическое сказание "Похищение Европы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index2_clip_image016"/>
          <p:cNvPicPr/>
          <p:nvPr/>
        </p:nvPicPr>
        <p:blipFill>
          <a:blip r:embed="rId2"/>
          <a:stretch/>
        </p:blipFill>
        <p:spPr>
          <a:xfrm>
            <a:off x="1835280" y="2421000"/>
            <a:ext cx="6480000" cy="43243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xit" presetID="5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28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8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2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7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index2_clip_image018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0" y="0"/>
            <a:ext cx="9331200" cy="14446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50800" y="1728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месте с тем он продолжает и портретный жанр - появляются портреты О.Орлов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5" descr="index2_clip_image018"/>
          <p:cNvPicPr/>
          <p:nvPr/>
        </p:nvPicPr>
        <p:blipFill>
          <a:blip r:embed="rId2"/>
          <a:stretch/>
        </p:blipFill>
        <p:spPr>
          <a:xfrm>
            <a:off x="3276720" y="1700280"/>
            <a:ext cx="3983040" cy="6165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6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6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26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ccff"/>
                </a:solidFill>
                <a:latin typeface="Arial"/>
              </a:rPr>
              <a:t>Какую из картин написал В.Серов?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Picture 4" descr="index2_clip_image01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529080" cy="271800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58" name="Picture 5" descr="003"/>
          <p:cNvPicPr/>
          <p:nvPr/>
        </p:nvPicPr>
        <p:blipFill>
          <a:blip r:embed="rId3"/>
          <a:stretch/>
        </p:blipFill>
        <p:spPr>
          <a:xfrm>
            <a:off x="684360" y="1125360"/>
            <a:ext cx="3848040" cy="532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9" name="Picture 7" descr="024"/>
          <p:cNvPicPr/>
          <p:nvPr/>
        </p:nvPicPr>
        <p:blipFill>
          <a:blip r:embed="rId4"/>
          <a:srcRect l="15578" t="16063" r="0" b="0"/>
          <a:stretch/>
        </p:blipFill>
        <p:spPr>
          <a:xfrm>
            <a:off x="5003640" y="4076640"/>
            <a:ext cx="3564000" cy="2540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ccff"/>
                </a:solidFill>
                <a:latin typeface="Arial"/>
              </a:rPr>
              <a:t>Какую из картин написал В.Серов?</a:t>
            </a:r>
            <a:br>
              <a:rPr sz="3600"/>
            </a:br>
            <a:r>
              <a:rPr b="0" i="1" lang="ru-RU" sz="2000" spc="-1" strike="noStrike">
                <a:solidFill>
                  <a:srgbClr val="ccccff"/>
                </a:solidFill>
                <a:latin typeface="Arial"/>
              </a:rPr>
              <a:t>(Из представленных фрагментов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Рисунок 4" descr="image001CAY47OIL.jpg"/>
          <p:cNvPicPr/>
          <p:nvPr/>
        </p:nvPicPr>
        <p:blipFill>
          <a:blip r:embed="rId1"/>
          <a:srcRect l="31176" t="28473" r="33968" b="10942"/>
          <a:stretch/>
        </p:blipFill>
        <p:spPr>
          <a:xfrm>
            <a:off x="5508720" y="1197000"/>
            <a:ext cx="3384360" cy="2879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s199_400"/>
          <p:cNvPicPr/>
          <p:nvPr/>
        </p:nvPicPr>
        <p:blipFill>
          <a:blip r:embed="rId2"/>
          <a:srcRect l="22285" t="24044" r="52027" b="24519"/>
          <a:stretch/>
        </p:blipFill>
        <p:spPr>
          <a:xfrm>
            <a:off x="395280" y="1195560"/>
            <a:ext cx="1816200" cy="2954160"/>
          </a:xfrm>
          <a:prstGeom prst="rect">
            <a:avLst/>
          </a:prstGeom>
          <a:ln w="3240">
            <a:solidFill>
              <a:srgbClr val="6666ff"/>
            </a:solidFill>
            <a:miter/>
          </a:ln>
        </p:spPr>
      </p:pic>
      <p:pic>
        <p:nvPicPr>
          <p:cNvPr id="563" name="Содержимое 3" descr="image00133.jpg"/>
          <p:cNvPicPr/>
          <p:nvPr/>
        </p:nvPicPr>
        <p:blipFill>
          <a:blip r:embed="rId3"/>
          <a:srcRect l="53120" t="45303" r="15324" b="-405"/>
          <a:stretch/>
        </p:blipFill>
        <p:spPr>
          <a:xfrm>
            <a:off x="2556000" y="119700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3" descr="image00122.jpg"/>
          <p:cNvPicPr/>
          <p:nvPr/>
        </p:nvPicPr>
        <p:blipFill>
          <a:blip r:embed="rId4"/>
          <a:srcRect l="17776" t="38197" r="20739" b="23639"/>
          <a:stretch/>
        </p:blipFill>
        <p:spPr>
          <a:xfrm>
            <a:off x="3780000" y="4292640"/>
            <a:ext cx="5111640" cy="2233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DSC04199"/>
          <p:cNvPicPr/>
          <p:nvPr/>
        </p:nvPicPr>
        <p:blipFill>
          <a:blip r:embed="rId5"/>
          <a:srcRect l="35018" t="33419" r="20242" b="23976"/>
          <a:stretch/>
        </p:blipFill>
        <p:spPr>
          <a:xfrm>
            <a:off x="395280" y="4292640"/>
            <a:ext cx="302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ff"/>
                </a:solidFill>
                <a:latin typeface="Arial"/>
              </a:rPr>
              <a:t>Какая из картин не является картиной В.Сер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1025" descr="index2_clip_image016"/>
          <p:cNvPicPr/>
          <p:nvPr/>
        </p:nvPicPr>
        <p:blipFill>
          <a:blip r:embed="rId1"/>
          <a:stretch/>
        </p:blipFill>
        <p:spPr>
          <a:xfrm>
            <a:off x="1042920" y="1197000"/>
            <a:ext cx="3097440" cy="20667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568" name="Picture 1026" descr="s141"/>
          <p:cNvPicPr/>
          <p:nvPr/>
        </p:nvPicPr>
        <p:blipFill>
          <a:blip r:embed="rId2"/>
          <a:stretch/>
        </p:blipFill>
        <p:spPr>
          <a:xfrm>
            <a:off x="5148360" y="1268280"/>
            <a:ext cx="3235320" cy="50119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69" name="Picture 1027" descr="vasilev_starec"/>
          <p:cNvPicPr/>
          <p:nvPr/>
        </p:nvPicPr>
        <p:blipFill>
          <a:blip r:embed="rId3"/>
          <a:stretch/>
        </p:blipFill>
        <p:spPr>
          <a:xfrm>
            <a:off x="1835280" y="3573360"/>
            <a:ext cx="2282760" cy="268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дсказ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1" name="Picture 4" descr="s199_400"/>
          <p:cNvPicPr/>
          <p:nvPr/>
        </p:nvPicPr>
        <p:blipFill>
          <a:blip r:embed="rId1"/>
          <a:stretch/>
        </p:blipFill>
        <p:spPr>
          <a:xfrm>
            <a:off x="684360" y="1052640"/>
            <a:ext cx="2736720" cy="22255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72" name="Text Box 5"/>
          <p:cNvSpPr/>
          <p:nvPr/>
        </p:nvSpPr>
        <p:spPr>
          <a:xfrm>
            <a:off x="1332000" y="3284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йз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332000" y="5877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йз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7" descr="index2_clip_image006"/>
          <p:cNvPicPr/>
          <p:nvPr/>
        </p:nvPicPr>
        <p:blipFill>
          <a:blip r:embed="rId2"/>
          <a:stretch/>
        </p:blipFill>
        <p:spPr>
          <a:xfrm>
            <a:off x="684360" y="3789360"/>
            <a:ext cx="2732040" cy="19699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75" name="Picture 8" descr="index2_clip_image014"/>
          <p:cNvPicPr/>
          <p:nvPr/>
        </p:nvPicPr>
        <p:blipFill>
          <a:blip r:embed="rId3"/>
          <a:stretch/>
        </p:blipFill>
        <p:spPr>
          <a:xfrm>
            <a:off x="4211640" y="1268280"/>
            <a:ext cx="4248000" cy="32720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76" name="Text Box 10"/>
          <p:cNvSpPr/>
          <p:nvPr/>
        </p:nvSpPr>
        <p:spPr>
          <a:xfrm>
            <a:off x="4716360" y="472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148360" y="58770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нуться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s202_400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-747720"/>
            <a:ext cx="9325080" cy="8937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алентин Александрович Серов</a:t>
            </a:r>
            <a:br>
              <a:rPr sz="2000"/>
            </a:b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родился 19 января 1865 года в Петербург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468360" y="386064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 Валентина рано проявились художественные способности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начала его учителем был А.Кемпинг, а затем И.Репин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начала занятия с Серовым Репин проводил в Париже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потом в Москве и Абрамцеве.  После поездки в Запорожье, в 1880 году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Репин направляет Серова в петербургскую Академию художеств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где его наставником становится П.Чистяков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Творчество Серова вызывает восхищение и у Чистякова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у его современников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468360" y="184464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Его отец, Александр Николаевич Серов, 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был композитором и музыкальным критиком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В семье Серовых часто</a:t>
            </a:r>
            <a:r>
              <a:rPr b="1" lang="ru-RU" sz="1800" spc="-1" strike="noStrike">
                <a:solidFill>
                  <a:srgbClr val="5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бывали Репин, Антокольский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s141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316080"/>
            <a:ext cx="9204480" cy="142574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Жизнь Серова в Абрамцеве и Домотканове оказала большое влияние на формирование его, как художника. Здесь он создает свои знаменитые портреты - "Девочка с персиками", на котором изображена дочь Мамонтова Вера, и "Девушка, освещенная солнцем", портрет двоюродной сестры. Оба портрета наполнены особой одухотворенностью и поэтичностью, что сразу выделило Серова среди других художников и сделало его популяр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serov5m"/>
          <p:cNvPicPr/>
          <p:nvPr/>
        </p:nvPicPr>
        <p:blipFill>
          <a:blip r:embed="rId2"/>
          <a:stretch/>
        </p:blipFill>
        <p:spPr>
          <a:xfrm>
            <a:off x="250920" y="2603520"/>
            <a:ext cx="4624200" cy="58561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s141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293760"/>
            <a:ext cx="9232920" cy="143017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47592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Девочка с персиками. Фрагмент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0000"/>
                </a:solidFill>
                <a:latin typeface="Arial"/>
              </a:rPr>
              <a:t>188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s141"/>
          <p:cNvPicPr/>
          <p:nvPr/>
        </p:nvPicPr>
        <p:blipFill>
          <a:blip r:embed="rId2"/>
          <a:stretch/>
        </p:blipFill>
        <p:spPr>
          <a:xfrm>
            <a:off x="1201680" y="2276640"/>
            <a:ext cx="6829560" cy="10440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s199_400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325080" cy="75787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475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 Домотканове Серовым были написаны такие полотна,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"</a:t>
            </a: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Октябрь</a:t>
            </a: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s199_400"/>
          <p:cNvPicPr/>
          <p:nvPr/>
        </p:nvPicPr>
        <p:blipFill>
          <a:blip r:embed="rId2"/>
          <a:stretch/>
        </p:blipFill>
        <p:spPr>
          <a:xfrm>
            <a:off x="430200" y="2205000"/>
            <a:ext cx="8400960" cy="68277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xit" presetID="5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24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4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24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index2_clip_image006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0" y="0"/>
            <a:ext cx="9612360" cy="69325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0000"/>
                </a:solidFill>
                <a:latin typeface="Arial"/>
              </a:rPr>
              <a:t>"Стригуны".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index2_clip_image006"/>
          <p:cNvPicPr/>
          <p:nvPr/>
        </p:nvPicPr>
        <p:blipFill>
          <a:blip r:embed="rId2"/>
          <a:stretch/>
        </p:blipFill>
        <p:spPr>
          <a:xfrm>
            <a:off x="395280" y="752400"/>
            <a:ext cx="8569440" cy="61801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index2_clip_image010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-166680" y="-1324080"/>
            <a:ext cx="9310680" cy="12574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55480" y="-103536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Серов много и увлеченно работает, создавая произведения, ставшие позже классикой русской живописи. Им написаны портреты Мики Морозова, И. Левитана, Н. Лескова, М.Морозовой, С.Боткиной, М.Ермоловой и много других раб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index2_clip_image010"/>
          <p:cNvPicPr/>
          <p:nvPr/>
        </p:nvPicPr>
        <p:blipFill>
          <a:blip r:embed="rId2"/>
          <a:stretch/>
        </p:blipFill>
        <p:spPr>
          <a:xfrm>
            <a:off x="2152800" y="2060640"/>
            <a:ext cx="4670280" cy="63086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index2_clip_image012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171360"/>
            <a:ext cx="9283680" cy="12069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280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Портрет кн. З.Н. Юсупо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190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index2_clip_image012"/>
          <p:cNvPicPr/>
          <p:nvPr/>
        </p:nvPicPr>
        <p:blipFill>
          <a:blip r:embed="rId2"/>
          <a:stretch/>
        </p:blipFill>
        <p:spPr>
          <a:xfrm>
            <a:off x="2354400" y="1413000"/>
            <a:ext cx="4574880" cy="5949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xit" presetID="5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index2_clip_image014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-181080" y="-322200"/>
            <a:ext cx="9325080" cy="71802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-17172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 1906году Серова увлекают темы истории и мифологии. Художник создает картину "Петр I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index2_clip_image014"/>
          <p:cNvPicPr/>
          <p:nvPr/>
        </p:nvPicPr>
        <p:blipFill>
          <a:blip r:embed="rId2"/>
          <a:stretch/>
        </p:blipFill>
        <p:spPr>
          <a:xfrm>
            <a:off x="1276200" y="1628640"/>
            <a:ext cx="6408720" cy="4935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9:46:40Z</dcterms:created>
  <dc:creator>FUJITSU</dc:creator>
  <dc:description/>
  <dc:language>en-US</dc:language>
  <cp:lastModifiedBy>Кыс-Кыска</cp:lastModifiedBy>
  <dcterms:modified xsi:type="dcterms:W3CDTF">2017-06-04T13:28:57Z</dcterms:modified>
  <cp:revision>33</cp:revision>
  <dc:subject/>
  <dc:title>Презентация   ПОРТРЕТЫ   </dc:title>
</cp:coreProperties>
</file>