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5.jpeg" ContentType="image/jpe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53C8-7C32-4A68-8E63-0A4FF77FC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05E1-5998-4D51-87A7-A451EC44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CFBD-51BA-4E44-8B7B-4FA1381DE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26FE-7862-46E6-83F2-26BED7737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D16F-EDF0-48E4-9902-4D31A3E0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073E-B830-4F1B-ACE8-5269CF17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817F-8256-4EF2-9987-B7B4A5EB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F116-BCFA-4C4B-BD85-D5DFC79C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C1A2-286D-4E8D-894C-01822A23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983C-9B38-4634-9552-193883AF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4287-3C15-4D6D-8B16-70DEE251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CE26-E665-4EEC-96D0-B8E996A0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0154-AE1F-491A-BC89-2F42CCFF620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178596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анитарно-гигиенические требования 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авила безопасной работы на кухн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Кухонная посу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://www.vettal.com/users_zmei/news/images/stories/Yurik007/img2.gif"/>
          <p:cNvPicPr/>
          <p:nvPr/>
        </p:nvPicPr>
        <p:blipFill>
          <a:blip r:embed="rId1"/>
          <a:stretch/>
        </p:blipFill>
        <p:spPr>
          <a:xfrm>
            <a:off x="857160" y="1285920"/>
            <a:ext cx="6858000" cy="4813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толовая посу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supplynyc.com/starlinerus/media/k2/items/cache/ccb4e23c8aa216f1e96d31ab209c036b_XL.jpg"/>
          <p:cNvPicPr/>
          <p:nvPr/>
        </p:nvPicPr>
        <p:blipFill>
          <a:blip r:embed="rId1"/>
          <a:stretch/>
        </p:blipFill>
        <p:spPr>
          <a:xfrm>
            <a:off x="785880" y="1508040"/>
            <a:ext cx="7715160" cy="5349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Чайная посу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://s8.marst.ru/preview/r/e10767f2d6d7c06fb7e8ca24f381a402/880x660/thumbs/PdxuNMixPfgcbbm17EhpMq29TcOCbgtL.jpg"/>
          <p:cNvPicPr/>
          <p:nvPr/>
        </p:nvPicPr>
        <p:blipFill>
          <a:blip r:embed="rId1"/>
          <a:stretch/>
        </p:blipFill>
        <p:spPr>
          <a:xfrm>
            <a:off x="857160" y="1357200"/>
            <a:ext cx="7508880" cy="5000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толовые прибо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://www.posuda77.ru/images/product_images/large_images/12934_0.jpg"/>
          <p:cNvPicPr/>
          <p:nvPr/>
        </p:nvPicPr>
        <p:blipFill>
          <a:blip r:embed="rId1"/>
          <a:stretch/>
        </p:blipFill>
        <p:spPr>
          <a:xfrm>
            <a:off x="533520" y="1285920"/>
            <a:ext cx="8610480" cy="5572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Кухонные инструменты и приспособ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gepard.by/images/product/045/045273/253-nabor-kuxonnyx-aksessuarov-champagne-rd-229.jpg"/>
          <p:cNvPicPr/>
          <p:nvPr/>
        </p:nvPicPr>
        <p:blipFill>
          <a:blip r:embed="rId1"/>
          <a:stretch/>
        </p:blipFill>
        <p:spPr>
          <a:xfrm>
            <a:off x="0" y="2143080"/>
            <a:ext cx="2643120" cy="3035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http://posudaonline.com.ua/media/catalog/product/cache/1/image/800x600/9df78eab33525d08d6e5fb8d27136e95/k/r/krauff-nabor-dlja-bara-7-pr-29-44-230.jpeg"/>
          <p:cNvPicPr/>
          <p:nvPr/>
        </p:nvPicPr>
        <p:blipFill>
          <a:blip r:embed="rId2"/>
          <a:stretch/>
        </p:blipFill>
        <p:spPr>
          <a:xfrm>
            <a:off x="5857920" y="23572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http://photoidom.ru/photo/96/969f818be4a1c1affcc510a9fe102466.jpg"/>
          <p:cNvPicPr/>
          <p:nvPr/>
        </p:nvPicPr>
        <p:blipFill>
          <a:blip r:embed="rId3"/>
          <a:stretch/>
        </p:blipFill>
        <p:spPr>
          <a:xfrm>
            <a:off x="2357280" y="2143080"/>
            <a:ext cx="4096080" cy="421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Бытовые прибо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www.retro-market.ru/UserFiles/Image/center.jpg"/>
          <p:cNvPicPr/>
          <p:nvPr/>
        </p:nvPicPr>
        <p:blipFill>
          <a:blip r:embed="rId1"/>
          <a:stretch/>
        </p:blipFill>
        <p:spPr>
          <a:xfrm>
            <a:off x="0" y="1714680"/>
            <a:ext cx="9137520" cy="3286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Уход за посуд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360" y="1557360"/>
            <a:ext cx="8229600" cy="485784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уду надо мыть сразу же после её использования, пока не присохли к ней остатки пищи. Пригоревшую в посуде пищу нужно отмачивать, а не соскаблива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уду сначала сортируют. Отдельно ставят тарелки, стаканы и т.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ыть посуду надо в тёплой воде с добавлением пищевой соды, горчицы или других моющих средств. Они способствуют растворению жира и облегчают мытьё посуды. Посуду, в которой было молоко, сырые яйца, сначала моют холодной, а затем горячей вод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мытую посуду надо ополоснуть горячей водой, а затем поставить сушить или вытереть кухонным полотенцем. Стаканы нельзя ставить один на другой: остыв, они могут тресну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гадайте ребу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://riga-lib.ru/images/bolezni-domashnih-i-selskohozyaystvennyh-ptits-rrukovodstvo-v-3-h-chastyah-10-e-izdanie-b-u-kelnek-32498-large.jpg"/>
          <p:cNvPicPr/>
          <p:nvPr/>
        </p:nvPicPr>
        <p:blipFill>
          <a:blip r:embed="rId1"/>
          <a:stretch/>
        </p:blipFill>
        <p:spPr>
          <a:xfrm>
            <a:off x="0" y="3429000"/>
            <a:ext cx="2276640" cy="217332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1285920" y="1928880"/>
            <a:ext cx="171432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ff0000"/>
                </a:solidFill>
                <a:latin typeface="Calibri"/>
              </a:rPr>
              <a:t>,,,,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http://img0.liveinternet.ru/images/attach/c/4/83/695/83695580_large_24866c8143ae.png"/>
          <p:cNvPicPr/>
          <p:nvPr/>
        </p:nvPicPr>
        <p:blipFill>
          <a:blip r:embed="rId2"/>
          <a:stretch/>
        </p:blipFill>
        <p:spPr>
          <a:xfrm>
            <a:off x="2428920" y="3429000"/>
            <a:ext cx="2044800" cy="242244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6"/>
          <p:cNvSpPr/>
          <p:nvPr/>
        </p:nvSpPr>
        <p:spPr>
          <a:xfrm>
            <a:off x="3357720" y="1928880"/>
            <a:ext cx="171432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ff0000"/>
                </a:solidFill>
                <a:latin typeface="Calibri"/>
              </a:rPr>
              <a:t>,,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7"/>
          <p:cNvSpPr/>
          <p:nvPr/>
        </p:nvSpPr>
        <p:spPr>
          <a:xfrm>
            <a:off x="4429080" y="3857760"/>
            <a:ext cx="150012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НА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http://player.myshared.ru/1183835/data/images/img11.png"/>
          <p:cNvPicPr/>
          <p:nvPr/>
        </p:nvPicPr>
        <p:blipFill>
          <a:blip r:embed="rId3"/>
          <a:stretch/>
        </p:blipFill>
        <p:spPr>
          <a:xfrm>
            <a:off x="5929200" y="2928960"/>
            <a:ext cx="2757600" cy="27576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9"/>
          <p:cNvSpPr/>
          <p:nvPr/>
        </p:nvSpPr>
        <p:spPr>
          <a:xfrm>
            <a:off x="7643880" y="2643120"/>
            <a:ext cx="9288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ff0000"/>
                </a:solidFill>
                <a:latin typeface="Calibri"/>
              </a:rPr>
              <a:t>Т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7358040" y="1214280"/>
            <a:ext cx="150012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13"/>
          <p:cNvSpPr/>
          <p:nvPr/>
        </p:nvSpPr>
        <p:spPr>
          <a:xfrm flipV="1">
            <a:off x="7500960" y="2714400"/>
            <a:ext cx="1143000" cy="857160"/>
          </a:xfrm>
          <a:prstGeom prst="line">
            <a:avLst/>
          </a:prstGeom>
          <a:ln w="349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4"/>
          <p:cNvSpPr/>
          <p:nvPr/>
        </p:nvSpPr>
        <p:spPr>
          <a:xfrm>
            <a:off x="5643720" y="2143080"/>
            <a:ext cx="10713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ff0000"/>
                </a:solidFill>
                <a:latin typeface="Calibri"/>
              </a:rPr>
              <a:t>,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тветьте на вопрос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 Для чего человеку нужна пищ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Должна ли она быть качественной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Почему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Может ли человек отравиться некачественно приготовленной пище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Что используют для ее приготовлен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rushkolnik.ru/tw_files2/urls_1/971/d-970411/970411_html_4f19e8e8.png"/>
          <p:cNvPicPr/>
          <p:nvPr/>
        </p:nvPicPr>
        <p:blipFill>
          <a:blip r:embed="rId1"/>
          <a:stretch/>
        </p:blipFill>
        <p:spPr>
          <a:xfrm>
            <a:off x="-214200" y="1285920"/>
            <a:ext cx="9144000" cy="3711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Технология обработки пищевых продук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сновные вопросы те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нятие «кулинари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хня. Правила работы на кух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уда и оборудование на кухне, уход за ни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бования предъявляемые к современной кух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photodomik.ru/photo/47/47fa9262d1a308a2f4b048726ea61f5e.jpg"/>
          <p:cNvPicPr/>
          <p:nvPr/>
        </p:nvPicPr>
        <p:blipFill>
          <a:blip r:embed="rId1"/>
          <a:srcRect l="0" t="11033" r="0" b="0"/>
          <a:stretch/>
        </p:blipFill>
        <p:spPr>
          <a:xfrm>
            <a:off x="142920" y="500040"/>
            <a:ext cx="8856720" cy="571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Кух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Admin\Мои документы\Мои рисунки\1231341133_6_thumbбббб.jpg"/>
          <p:cNvPicPr/>
          <p:nvPr/>
        </p:nvPicPr>
        <p:blipFill>
          <a:blip r:embed="rId1"/>
          <a:stretch/>
        </p:blipFill>
        <p:spPr>
          <a:xfrm>
            <a:off x="1571760" y="2928960"/>
            <a:ext cx="5572080" cy="379872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4"/>
          <p:cNvSpPr/>
          <p:nvPr/>
        </p:nvSpPr>
        <p:spPr>
          <a:xfrm>
            <a:off x="214200" y="1285920"/>
            <a:ext cx="850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хня – это помещение для приготовления пищи, оснащенное специальным оборудованием и необходимой мебел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Рациональное размещение кухонного оборуд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www.ekpol.eu/__files/parent14/nowo.jpg"/>
          <p:cNvPicPr/>
          <p:nvPr/>
        </p:nvPicPr>
        <p:blipFill>
          <a:blip r:embed="rId1"/>
          <a:stretch/>
        </p:blipFill>
        <p:spPr>
          <a:xfrm>
            <a:off x="0" y="1619280"/>
            <a:ext cx="9144000" cy="523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4T15:12:47Z</dcterms:created>
  <dc:creator>Олег</dc:creator>
  <dc:description/>
  <dc:language>en-US</dc:language>
  <cp:lastModifiedBy>uzere</cp:lastModifiedBy>
  <dcterms:modified xsi:type="dcterms:W3CDTF">2016-10-20T10:48:55Z</dcterms:modified>
  <cp:revision>66</cp:revision>
  <dc:subject/>
  <dc:title>Санитария и гигиена</dc:title>
</cp:coreProperties>
</file>