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878-4A8E-4499-ACB8-4966031D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393-3D6A-4D29-8E8B-DDD89D08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DB9-6731-4B86-8FDB-86DA94B1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B9D-BB14-4EAE-8FCD-A7AE35CD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5C3-026B-4071-AF95-E3C78FB5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EA9-8614-4FEA-AB83-75AE8D5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E3B-9169-4AF3-B40E-FAE165E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B78-1ADC-4F97-AAE5-3C29CF6B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720-C1F5-49E5-AF27-E0262C2C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760-EA2E-43EE-9607-E7DE3162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C98-E61F-44FC-8435-8826F71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2DC-FA85-4335-B1A7-FC23CFC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B42-9330-4DBB-B642-5B11F24455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нитарно-гигиенические требования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безопасной работы на кух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он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vettal.com/users_zmei/news/images/stories/Yurik007/img2.gif"/>
          <p:cNvPicPr/>
          <p:nvPr/>
        </p:nvPicPr>
        <p:blipFill>
          <a:blip r:embed="rId1"/>
          <a:stretch/>
        </p:blipFill>
        <p:spPr>
          <a:xfrm>
            <a:off x="857160" y="1285920"/>
            <a:ext cx="6858000" cy="481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олов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supplynyc.com/starlinerus/media/k2/items/cache/ccb4e23c8aa216f1e96d31ab209c036b_XL.jpg"/>
          <p:cNvPicPr/>
          <p:nvPr/>
        </p:nvPicPr>
        <p:blipFill>
          <a:blip r:embed="rId1"/>
          <a:stretch/>
        </p:blipFill>
        <p:spPr>
          <a:xfrm>
            <a:off x="785880" y="1508040"/>
            <a:ext cx="7715160" cy="534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ай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s8.marst.ru/preview/r/e10767f2d6d7c06fb7e8ca24f381a402/880x660/thumbs/PdxuNMixPfgcbbm17EhpMq29TcOCbgtL.jpg"/>
          <p:cNvPicPr/>
          <p:nvPr/>
        </p:nvPicPr>
        <p:blipFill>
          <a:blip r:embed="rId1"/>
          <a:stretch/>
        </p:blipFill>
        <p:spPr>
          <a:xfrm>
            <a:off x="857160" y="1357200"/>
            <a:ext cx="7508880" cy="50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олов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posuda77.ru/images/product_images/large_images/12934_0.jpg"/>
          <p:cNvPicPr/>
          <p:nvPr/>
        </p:nvPicPr>
        <p:blipFill>
          <a:blip r:embed="rId1"/>
          <a:stretch/>
        </p:blipFill>
        <p:spPr>
          <a:xfrm>
            <a:off x="533520" y="1285920"/>
            <a:ext cx="8610480" cy="55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онные инструменты и приспособ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gepard.by/images/product/045/045273/253-nabor-kuxonnyx-aksessuarov-champagne-rd-229.jpg"/>
          <p:cNvPicPr/>
          <p:nvPr/>
        </p:nvPicPr>
        <p:blipFill>
          <a:blip r:embed="rId1"/>
          <a:stretch/>
        </p:blipFill>
        <p:spPr>
          <a:xfrm>
            <a:off x="0" y="2143080"/>
            <a:ext cx="2643120" cy="30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posudaonline.com.ua/media/catalog/product/cache/1/image/800x600/9df78eab33525d08d6e5fb8d27136e95/k/r/krauff-nabor-dlja-bara-7-pr-29-44-230.jpeg"/>
          <p:cNvPicPr/>
          <p:nvPr/>
        </p:nvPicPr>
        <p:blipFill>
          <a:blip r:embed="rId2"/>
          <a:stretch/>
        </p:blipFill>
        <p:spPr>
          <a:xfrm>
            <a:off x="5857920" y="2357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photoidom.ru/photo/96/969f818be4a1c1affcc510a9fe102466.jpg"/>
          <p:cNvPicPr/>
          <p:nvPr/>
        </p:nvPicPr>
        <p:blipFill>
          <a:blip r:embed="rId3"/>
          <a:stretch/>
        </p:blipFill>
        <p:spPr>
          <a:xfrm>
            <a:off x="2357280" y="2143080"/>
            <a:ext cx="4096080" cy="421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ытов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retro-market.ru/UserFiles/Image/center.jpg"/>
          <p:cNvPicPr/>
          <p:nvPr/>
        </p:nvPicPr>
        <p:blipFill>
          <a:blip r:embed="rId1"/>
          <a:stretch/>
        </p:blipFill>
        <p:spPr>
          <a:xfrm>
            <a:off x="0" y="1714680"/>
            <a:ext cx="913752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ход за посу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у надо мыть сразу же после её использования, пока не присохли к ней остатки пищи. Пригоревшую в посуде пищу нужно отмачивать, а не соскабл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у сначала сортируют. Отдельно ставят тарелки, стаканы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ть посуду надо в тёплой воде с добавлением пищевой соды, горчицы или других моющих средств. Они способствуют растворению жира и облегчают мытьё посуды. Посуду, в которой было молоко, сырые яйца, сначала моют холодной, а затем горячей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мытую посуду надо ополоснуть горячей водой, а затем поставить сушить или вытереть кухонным полотенцем. Стаканы нельзя ставить один на другой: остыв, они могут трес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гадайте реб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riga-lib.ru/images/bolezni-domashnih-i-selskohozyaystvennyh-ptits-rrukovodstvo-v-3-h-chastyah-10-e-izdanie-b-u-kelnek-32498-large.jpg"/>
          <p:cNvPicPr/>
          <p:nvPr/>
        </p:nvPicPr>
        <p:blipFill>
          <a:blip r:embed="rId1"/>
          <a:stretch/>
        </p:blipFill>
        <p:spPr>
          <a:xfrm>
            <a:off x="0" y="3429000"/>
            <a:ext cx="2276640" cy="2173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285920" y="1928880"/>
            <a:ext cx="1714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,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img0.liveinternet.ru/images/attach/c/4/83/695/83695580_large_24866c8143ae.png"/>
          <p:cNvPicPr/>
          <p:nvPr/>
        </p:nvPicPr>
        <p:blipFill>
          <a:blip r:embed="rId2"/>
          <a:stretch/>
        </p:blipFill>
        <p:spPr>
          <a:xfrm>
            <a:off x="2428920" y="3429000"/>
            <a:ext cx="2044800" cy="2422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3357720" y="1928880"/>
            <a:ext cx="1714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429080" y="3857760"/>
            <a:ext cx="1500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Н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player.myshared.ru/1183835/data/images/img11.png"/>
          <p:cNvPicPr/>
          <p:nvPr/>
        </p:nvPicPr>
        <p:blipFill>
          <a:blip r:embed="rId3"/>
          <a:stretch/>
        </p:blipFill>
        <p:spPr>
          <a:xfrm>
            <a:off x="5929200" y="292896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7643880" y="26431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7358040" y="1214280"/>
            <a:ext cx="15001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3"/>
          <p:cNvSpPr/>
          <p:nvPr/>
        </p:nvSpPr>
        <p:spPr>
          <a:xfrm flipV="1">
            <a:off x="7500960" y="2714400"/>
            <a:ext cx="1143000" cy="857160"/>
          </a:xfrm>
          <a:prstGeom prst="line">
            <a:avLst/>
          </a:prstGeom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5643720" y="2143080"/>
            <a:ext cx="1071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Для чего человеку нужна пищ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олжна ли она быть качественн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чем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ожет ли человек отравиться некачественно приготовленной пищ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то используют для ее приготов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rushkolnik.ru/tw_files2/urls_1/971/d-970411/970411_html_4f19e8e8.png"/>
          <p:cNvPicPr/>
          <p:nvPr/>
        </p:nvPicPr>
        <p:blipFill>
          <a:blip r:embed="rId1"/>
          <a:stretch/>
        </p:blipFill>
        <p:spPr>
          <a:xfrm>
            <a:off x="-214200" y="128592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хнология обработки пищевых проду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новные вопросы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ятие «кулинар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хня. Правила работы на кух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и оборудование на кухне, уход за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предъявляемые к современной кух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photodomik.ru/photo/47/47fa9262d1a308a2f4b048726ea61f5e.jpg"/>
          <p:cNvPicPr/>
          <p:nvPr/>
        </p:nvPicPr>
        <p:blipFill>
          <a:blip r:embed="rId1"/>
          <a:srcRect l="0" t="11033" r="0" b="0"/>
          <a:stretch/>
        </p:blipFill>
        <p:spPr>
          <a:xfrm>
            <a:off x="142920" y="500040"/>
            <a:ext cx="88567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Мои рисунки\1231341133_6_thumbбббб.jpg"/>
          <p:cNvPicPr/>
          <p:nvPr/>
        </p:nvPicPr>
        <p:blipFill>
          <a:blip r:embed="rId1"/>
          <a:stretch/>
        </p:blipFill>
        <p:spPr>
          <a:xfrm>
            <a:off x="1571760" y="2928960"/>
            <a:ext cx="5572080" cy="3798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14200" y="12859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хня – это помещение для приготовления пищи, оснащенное специальным оборудованием и необходимой мебе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циональное размещение кухонного обору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ekpol.eu/__files/parent14/nowo.jpg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5:12:47Z</dcterms:created>
  <dc:creator>Олег</dc:creator>
  <dc:description/>
  <dc:language>en-US</dc:language>
  <cp:lastModifiedBy>uzere</cp:lastModifiedBy>
  <dcterms:modified xsi:type="dcterms:W3CDTF">2016-10-20T10:48:55Z</dcterms:modified>
  <cp:revision>66</cp:revision>
  <dc:subject/>
  <dc:title>Санитария и гигиена</dc:title>
</cp:coreProperties>
</file>