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0836-A6B3-4769-8F45-3EE9E44DA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01E1-FB40-4DF1-8432-CC9CB82A96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B17-7857-4366-B13D-EDDD5FBB0F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FD56-62A2-4FCE-A0B0-156BC39E4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41AE-5868-4C64-B776-E93BE099D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4A0-C0E3-440D-B11C-AAD9FD73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136-41DC-4E71-A8AE-C114BA6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C39-6211-4E02-80E3-C8E1FF69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DD8-4418-4064-A06F-A6F7B7A6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87FC8-755D-42BC-A0E8-B9433149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ED36-83BA-461D-80D3-E551E4E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192E8-B389-4440-8610-B1908A8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CC7B6-EC8E-4E7C-ACFD-C5E7A20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ED091-F53A-49BA-9CE2-BFAD6BD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24EF0-7889-4BE5-BD17-734DE284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6F50-8199-46F6-A851-1EE2FD9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B53-1810-4E5C-934C-512B76E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5D13-6D22-4126-A986-17D7C5D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A819-BAA8-4902-81DF-DB1B42C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B138-5A87-4116-8651-78B4665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2CB57-1123-45A5-86D9-2F976702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BA6C8-DA0E-4CCB-8064-F0A08678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324CA-0215-45CF-8894-37B80DFA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F9DB6-00F7-4C0F-AEF9-9D5A663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E4F41-624A-49F0-B130-E3DA36C9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F0DB8-8A22-4FDF-BC7D-82F36882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647AB-9E67-41F5-B48E-DD729C8A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5D9-E962-4A39-948B-B6CA799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EE594-22C8-4BA5-9616-2ED92FB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AA501-00A8-4361-9790-1BCD5FC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E409E-F41B-4EE5-BA77-F470C20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6CE51-79C7-4CEF-ADA4-7B9F93E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8D8EE-719D-486D-9F18-CE2E907F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65AEB-DA61-440F-A77C-1F73F70F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2A7D5-4084-48A5-9A71-E5808BEE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2D35E-DACD-4A3B-B345-A5E8987F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38598-0A4E-435B-8064-56C32DC3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93E9C-3DF7-4D5D-9E46-A9105866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DE1-2F31-474C-BD4B-7B87D3C1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817DF-CB2A-4763-B570-343D486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69377-E161-4EB9-906B-3A4F8B0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FE732-96A4-487C-A841-4B7025E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717D5-7883-4FF7-AF63-31CB005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0FC7E-353C-4314-B3E9-8C60C0A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2A47B-6DBC-478A-AC0C-7A47F3B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C877B-63ED-4AE2-8955-67507E5F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4723F-349C-46AE-8853-FFC7FC77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250A2-857E-417B-B0E4-CD42D0A0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16666-81B1-490B-AFF4-75C8831D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9C0-498E-4248-9480-A539722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8F2DC-6F1F-41E4-8EFE-1313DCE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39615-0BF2-4BF9-9E17-438E76A9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C08F1-D21D-4066-9D28-A8EA1F5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49F12-B532-42ED-BE85-6564DB0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F0A8F-A3E0-4217-9719-3B5D82A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81F05-EEAC-4A65-B12B-738A2438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89044-8037-43CB-875A-62D6689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7C40E-E368-40B5-8044-6BBB44B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270A1-AF1C-4C7B-B8B3-B6335FF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0965A-612E-4C80-A356-0F79B92A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0C6-EF08-41E6-A29A-AF01FCB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D677E-37C2-428E-ABD6-0D635085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8C65D-4835-48B3-B7DF-D5AECC65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87072-80D6-48EE-866D-34CB5FE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12135-7475-4ACB-844C-6F099BB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60F20-185C-4629-A76E-A13EA44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2B08A-4CC3-45D1-A186-710480E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F3D6A-B94A-40DA-A036-B15F1C8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8D7CF-853D-473C-A980-57FEE64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96FF1-299A-4D61-902D-6558C4F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D6BF6-785D-46E0-88B8-EDDA701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9C8-8804-4C92-AACD-0A335C53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1237D-BEA8-48DA-A31D-0FF2351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902FC-AFDE-4A97-9E00-221E2FEC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6EF7D-5000-4B0D-A128-D062CC91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D1E3-DA5F-4241-A036-BE99456A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E909-C894-46FA-BAB5-5DCD054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F80E-439D-468B-809C-B943F40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A069C-1E03-4A58-9BA1-5CCDC986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D56A-7E3E-416E-B9AA-B0D7F48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EBBF-C440-499C-BB2A-15E5A023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58B9-1538-4573-BED5-A560947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C58-B24B-491F-9B90-7312965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A413-1D6A-451B-938A-B18A95C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A517-880B-4456-8DEA-76A8AED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296A-0DE8-43C2-9A03-71022D80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F608-A972-43DB-96C3-1BF164F7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D7436-E06E-4982-BBCF-C5151897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C91-3A9E-4934-B9B6-48F2D79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3D9D-0F97-4CC8-B681-D95152A21A5B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295-0296-414B-88DA-8E8AE9BF09E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795-2CC6-4E24-AC4B-7C60C6806E6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96A-EBB1-4537-BEEA-D0ABA0BE320F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984-2B18-4C86-B746-D6EDF118C036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52C0-0870-4B4C-A422-1985B1FF4EE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AF0-9CE4-4C38-8ABE-100EF166DD8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ac1.ru/pictures/595p213.jpg&amp;imgrefurl=http://www.ac1.ru/price.asp?idcategory=90&amp;h=188&amp;w=245&amp;sz=6&amp;tbnid=zb2Zvr9zwNgJ:&amp;tbnh=80&amp;tbnw=104&amp;start=25&amp;prev=/images?q=&#1087;&#1083;&#1086;&#1089;&#1082;&#1086;&#1089;&#1090;&#1100;&amp;start=20&amp;hl=ru&amp;lr=&amp;sa=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7"/>
          <p:cNvSpPr/>
          <p:nvPr/>
        </p:nvSpPr>
        <p:spPr>
          <a:xfrm>
            <a:off x="611280" y="227664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2987640" y="41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WordArt 17"/>
          <p:cNvSpPr txBox="1"/>
          <p:nvPr/>
        </p:nvSpPr>
        <p:spPr>
          <a:xfrm>
            <a:off x="1476360" y="69228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лоскость. Прямая. Луч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611280" y="69228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468360" y="5950080"/>
            <a:ext cx="57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35"/>
          <p:cNvGrpSpPr/>
          <p:nvPr/>
        </p:nvGrpSpPr>
        <p:grpSpPr>
          <a:xfrm>
            <a:off x="0" y="1484280"/>
            <a:ext cx="5328720" cy="4551120"/>
            <a:chOff x="0" y="1484280"/>
            <a:chExt cx="5328720" cy="4551120"/>
          </a:xfrm>
        </p:grpSpPr>
        <p:grpSp>
          <p:nvGrpSpPr>
            <p:cNvPr id="477" name="Group 31"/>
            <p:cNvGrpSpPr/>
            <p:nvPr/>
          </p:nvGrpSpPr>
          <p:grpSpPr>
            <a:xfrm>
              <a:off x="0" y="1484280"/>
              <a:ext cx="5328720" cy="4551120"/>
              <a:chOff x="0" y="1484280"/>
              <a:chExt cx="5328720" cy="4551120"/>
            </a:xfrm>
          </p:grpSpPr>
          <p:sp>
            <p:nvSpPr>
              <p:cNvPr id="478" name="Oval 11"/>
              <p:cNvSpPr/>
              <p:nvPr/>
            </p:nvSpPr>
            <p:spPr>
              <a:xfrm>
                <a:off x="55440" y="1484280"/>
                <a:ext cx="5273280" cy="423468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2"/>
              <p:cNvSpPr/>
              <p:nvPr/>
            </p:nvSpPr>
            <p:spPr>
              <a:xfrm flipH="1">
                <a:off x="438840" y="2039760"/>
                <a:ext cx="1593720" cy="2359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3"/>
              <p:cNvSpPr/>
              <p:nvPr/>
            </p:nvSpPr>
            <p:spPr>
              <a:xfrm flipV="1">
                <a:off x="2142000" y="3496320"/>
                <a:ext cx="2526840" cy="9025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14"/>
              <p:cNvSpPr/>
              <p:nvPr/>
            </p:nvSpPr>
            <p:spPr>
              <a:xfrm flipH="1">
                <a:off x="2142000" y="4329360"/>
                <a:ext cx="108720" cy="13896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19"/>
              <p:cNvSpPr/>
              <p:nvPr/>
            </p:nvSpPr>
            <p:spPr>
              <a:xfrm flipH="1">
                <a:off x="4613400" y="3427560"/>
                <a:ext cx="108720" cy="13932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20"/>
              <p:cNvSpPr/>
              <p:nvPr/>
            </p:nvSpPr>
            <p:spPr>
              <a:xfrm>
                <a:off x="2142000" y="4537440"/>
                <a:ext cx="4950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21"/>
              <p:cNvSpPr/>
              <p:nvPr/>
            </p:nvSpPr>
            <p:spPr>
              <a:xfrm>
                <a:off x="4779360" y="5579640"/>
                <a:ext cx="2736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Text Box 23"/>
              <p:cNvSpPr/>
              <p:nvPr/>
            </p:nvSpPr>
            <p:spPr>
              <a:xfrm>
                <a:off x="2174760" y="4746960"/>
                <a:ext cx="183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Text Box 24"/>
              <p:cNvSpPr/>
              <p:nvPr/>
            </p:nvSpPr>
            <p:spPr>
              <a:xfrm>
                <a:off x="2087280" y="4537440"/>
                <a:ext cx="54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Text Box 25"/>
              <p:cNvSpPr/>
              <p:nvPr/>
            </p:nvSpPr>
            <p:spPr>
              <a:xfrm>
                <a:off x="4558680" y="356544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Text Box 26"/>
              <p:cNvSpPr/>
              <p:nvPr/>
            </p:nvSpPr>
            <p:spPr>
              <a:xfrm>
                <a:off x="0" y="5371560"/>
                <a:ext cx="4939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Text Box 27"/>
              <p:cNvSpPr/>
              <p:nvPr/>
            </p:nvSpPr>
            <p:spPr>
              <a:xfrm>
                <a:off x="55440" y="5510880"/>
                <a:ext cx="383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Text Box 28"/>
              <p:cNvSpPr/>
              <p:nvPr/>
            </p:nvSpPr>
            <p:spPr>
              <a:xfrm>
                <a:off x="692280" y="4262040"/>
                <a:ext cx="18396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Text Box 32"/>
            <p:cNvSpPr/>
            <p:nvPr/>
          </p:nvSpPr>
          <p:spPr>
            <a:xfrm>
              <a:off x="504720" y="28512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Text Box 33"/>
          <p:cNvSpPr/>
          <p:nvPr/>
        </p:nvSpPr>
        <p:spPr>
          <a:xfrm>
            <a:off x="5830920" y="112536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37"/>
          <p:cNvSpPr/>
          <p:nvPr/>
        </p:nvSpPr>
        <p:spPr>
          <a:xfrm>
            <a:off x="3203640" y="270828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8"/>
          <p:cNvSpPr/>
          <p:nvPr/>
        </p:nvSpPr>
        <p:spPr>
          <a:xfrm>
            <a:off x="3276720" y="2205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9"/>
          <p:cNvSpPr/>
          <p:nvPr/>
        </p:nvSpPr>
        <p:spPr>
          <a:xfrm flipV="1">
            <a:off x="1835280" y="2133720"/>
            <a:ext cx="71280" cy="9360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Oval 40"/>
          <p:cNvSpPr/>
          <p:nvPr/>
        </p:nvSpPr>
        <p:spPr>
          <a:xfrm>
            <a:off x="900000" y="3573360"/>
            <a:ext cx="73080" cy="12240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41"/>
          <p:cNvSpPr/>
          <p:nvPr/>
        </p:nvSpPr>
        <p:spPr>
          <a:xfrm>
            <a:off x="1476360" y="184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104292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5580000" y="692280"/>
            <a:ext cx="29527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Какие фигуры изображены на рисун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Что общего между отрезком и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Чем отличается отрезок от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Какие точки принадлежат прямой и какие не принадл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395280" y="6922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4"/>
          <p:cNvSpPr/>
          <p:nvPr/>
        </p:nvSpPr>
        <p:spPr>
          <a:xfrm>
            <a:off x="969840" y="2779560"/>
            <a:ext cx="6986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33"/>
          <p:cNvSpPr/>
          <p:nvPr/>
        </p:nvSpPr>
        <p:spPr>
          <a:xfrm>
            <a:off x="7524720" y="198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33"/>
          <p:cNvSpPr/>
          <p:nvPr/>
        </p:nvSpPr>
        <p:spPr>
          <a:xfrm>
            <a:off x="3851280" y="198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33"/>
          <p:cNvSpPr/>
          <p:nvPr/>
        </p:nvSpPr>
        <p:spPr>
          <a:xfrm>
            <a:off x="755640" y="2060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 rot="16200000">
            <a:off x="2358360" y="1537200"/>
            <a:ext cx="252360" cy="3025800"/>
          </a:xfrm>
          <a:custGeom>
            <a:avLst/>
            <a:gdLst>
              <a:gd name="textAreaLeft" fmla="*/ 161280 w 252360"/>
              <a:gd name="textAreaRight" fmla="*/ 252720 w 252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0"/>
                </a:lnTo>
                <a:cubicBezTo>
                  <a:pt x="10800" y="9820"/>
                  <a:pt x="5400" y="10720"/>
                  <a:pt x="0" y="10720"/>
                </a:cubicBezTo>
                <a:cubicBezTo>
                  <a:pt x="5400" y="10720"/>
                  <a:pt x="10800" y="11620"/>
                  <a:pt x="10800" y="125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2"/>
          <p:cNvSpPr/>
          <p:nvPr/>
        </p:nvSpPr>
        <p:spPr>
          <a:xfrm rot="16200000">
            <a:off x="5669640" y="1537200"/>
            <a:ext cx="252360" cy="3025800"/>
          </a:xfrm>
          <a:custGeom>
            <a:avLst/>
            <a:gdLst>
              <a:gd name="textAreaLeft" fmla="*/ 161280 w 252360"/>
              <a:gd name="textAreaRight" fmla="*/ 252720 w 252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0"/>
                </a:lnTo>
                <a:cubicBezTo>
                  <a:pt x="10800" y="9820"/>
                  <a:pt x="5400" y="10720"/>
                  <a:pt x="0" y="10720"/>
                </a:cubicBezTo>
                <a:cubicBezTo>
                  <a:pt x="5400" y="10720"/>
                  <a:pt x="10800" y="11620"/>
                  <a:pt x="10800" y="125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2627280" y="4508640"/>
            <a:ext cx="30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начало луче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1692360" y="3213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4932360" y="3213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 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 flipV="1">
            <a:off x="4140360" y="2924280"/>
            <a:ext cx="0" cy="17287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3564000" y="76500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284720" y="1341360"/>
            <a:ext cx="1511280" cy="11509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 flipH="1">
            <a:off x="2484360" y="1341360"/>
            <a:ext cx="1511280" cy="11509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611280" y="476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2050920" y="2708280"/>
            <a:ext cx="4608720" cy="179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1979640" y="443700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33"/>
          <p:cNvSpPr/>
          <p:nvPr/>
        </p:nvSpPr>
        <p:spPr>
          <a:xfrm>
            <a:off x="5219640" y="1574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33"/>
          <p:cNvSpPr/>
          <p:nvPr/>
        </p:nvSpPr>
        <p:spPr>
          <a:xfrm>
            <a:off x="169236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33"/>
          <p:cNvSpPr/>
          <p:nvPr/>
        </p:nvSpPr>
        <p:spPr>
          <a:xfrm>
            <a:off x="4645080" y="2655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132000" y="4508640"/>
            <a:ext cx="55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точка А лежит на луче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4859280" y="328464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5435640" y="220500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6948360" y="1773360"/>
            <a:ext cx="14472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33"/>
          <p:cNvSpPr/>
          <p:nvPr/>
        </p:nvSpPr>
        <p:spPr>
          <a:xfrm>
            <a:off x="6804000" y="112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4572000" y="3499920"/>
            <a:ext cx="360360" cy="100836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1835280" y="442800"/>
            <a:ext cx="68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точки В и Н не лежат на луче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9"/>
          <p:cNvSpPr/>
          <p:nvPr/>
        </p:nvSpPr>
        <p:spPr>
          <a:xfrm>
            <a:off x="4716360" y="1052640"/>
            <a:ext cx="576360" cy="108108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>
            <a:off x="5364000" y="1052640"/>
            <a:ext cx="1440000" cy="79200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2"/>
          <p:cNvSpPr/>
          <p:nvPr/>
        </p:nvSpPr>
        <p:spPr>
          <a:xfrm>
            <a:off x="-7920" y="26028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ccbf9"/>
                </a:solidFill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5"/>
          <p:cNvSpPr/>
          <p:nvPr/>
        </p:nvSpPr>
        <p:spPr>
          <a:xfrm>
            <a:off x="-1440" y="114156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Есть ли края у плоскости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ли прямая концы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колько прямых можно провести через точк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 сколько лучей разбивает прямую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точка А, лежащая между точкам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этой прямой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акой луч дополнителен лучу АМ; лучу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468360" y="69228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две пересекающиеся прямые. На сколько частей эти прямые делят плоск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и отметьте точки А,В и С, лежащие на прямой , а точки К, М, и Р , не лежащие на пря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,отрезок МР , лежащий на данной прямой . Отметьте точки А и В , лежащие на прямой , но не лежащие на отрез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8, 1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476360" y="1773360"/>
            <a:ext cx="7272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050560" y="4005000"/>
            <a:ext cx="663588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Используемая литература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1) Учебник Н.Я Вленкина и др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2) Рабочая тетрадь Т.М. Ериной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3) Интернет-источник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57200" y="274680"/>
          <a:ext cx="8229600" cy="5873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2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цифрами числ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ок миллиардов сто миллионов пя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миллионов 37 тысяч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27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ертите отрезк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 и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 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мм,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см 2м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зит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м 54 м в метра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4 дм в дециметрах и метра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колько всего четырехзначных чисел, оканчивающихся цифрой 3? (обоснование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Запишите цифрам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вести миллиардов семь тысяч тр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20 миллионов 4 тысяч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3108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ертите отрезк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К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,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есл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К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3 см 4 мм,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 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м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разит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4 м 5 см в сантиметра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6085 м в километрах и метр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колько всего четырехзначных чисел, оканчивающихся цифрой 7? (обоснова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311120" y="21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611280" y="522936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плоскости </a:t>
            </a:r>
            <a:r>
              <a:rPr b="1" lang="ru-RU" sz="2400" spc="-1" strike="noStrike">
                <a:solidFill>
                  <a:srgbClr val="85b2f6"/>
                </a:solidFill>
                <a:latin typeface="Arial"/>
              </a:rPr>
              <a:t>нет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предметы дают представление о плос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WordArt 15"/>
          <p:cNvSpPr txBox="1"/>
          <p:nvPr/>
        </p:nvSpPr>
        <p:spPr>
          <a:xfrm>
            <a:off x="2340000" y="26028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лоскост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78" name="Picture 5" descr="595p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chaise"/>
          <p:cNvPicPr/>
          <p:nvPr/>
        </p:nvPicPr>
        <p:blipFill>
          <a:blip r:embed="rId3"/>
          <a:stretch/>
        </p:blipFill>
        <p:spPr>
          <a:xfrm>
            <a:off x="3492360" y="1413000"/>
            <a:ext cx="2664000" cy="20001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2"/>
          <p:cNvSpPr/>
          <p:nvPr/>
        </p:nvSpPr>
        <p:spPr>
          <a:xfrm>
            <a:off x="39528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рхность стола, школьной доски, оконного стекла, дают представление о плос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9" descr="mitsuna-kasumi7b"/>
          <p:cNvPicPr/>
          <p:nvPr/>
        </p:nvPicPr>
        <p:blipFill>
          <a:blip r:embed="rId4"/>
          <a:stretch/>
        </p:blipFill>
        <p:spPr>
          <a:xfrm>
            <a:off x="6372360" y="1557360"/>
            <a:ext cx="24494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9"/>
          <p:cNvSpPr/>
          <p:nvPr/>
        </p:nvSpPr>
        <p:spPr>
          <a:xfrm>
            <a:off x="250920" y="501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ямая неограниченно продолжается в обе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1403280" y="2060640"/>
            <a:ext cx="14436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1547640" y="2133720"/>
            <a:ext cx="187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348000" y="2060640"/>
            <a:ext cx="14436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3419640" y="2133720"/>
            <a:ext cx="37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 flipH="1">
            <a:off x="468360" y="213372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50920" y="2997360"/>
            <a:ext cx="611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любые две точки проходи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динственная прям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50920" y="4076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ямая не имеет кон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187280" y="17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2987640" y="1700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1403280" y="134136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1258920" y="155736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1116000" y="162864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2050920" y="1197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1116000" y="155736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38"/>
          <p:cNvSpPr txBox="1"/>
          <p:nvPr/>
        </p:nvSpPr>
        <p:spPr>
          <a:xfrm>
            <a:off x="2340000" y="333360"/>
            <a:ext cx="3960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яма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234000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900000" y="1268280"/>
            <a:ext cx="705672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1619280" y="1413000"/>
            <a:ext cx="7308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695840" y="294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6659640" y="58770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4284720" y="198900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37"/>
          <p:cNvSpPr/>
          <p:nvPr/>
        </p:nvSpPr>
        <p:spPr>
          <a:xfrm flipH="1">
            <a:off x="2340000" y="1557360"/>
            <a:ext cx="712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6012000" y="2421000"/>
            <a:ext cx="7272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9"/>
          <p:cNvSpPr/>
          <p:nvPr/>
        </p:nvSpPr>
        <p:spPr>
          <a:xfrm flipH="1">
            <a:off x="5002920" y="1052640"/>
            <a:ext cx="7164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40"/>
          <p:cNvSpPr/>
          <p:nvPr/>
        </p:nvSpPr>
        <p:spPr>
          <a:xfrm>
            <a:off x="1258920" y="98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21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2"/>
          <p:cNvSpPr/>
          <p:nvPr/>
        </p:nvSpPr>
        <p:spPr>
          <a:xfrm>
            <a:off x="3995640" y="162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>
            <a:off x="5651640" y="1989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4643280" y="549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46"/>
          <p:cNvSpPr/>
          <p:nvPr/>
        </p:nvSpPr>
        <p:spPr>
          <a:xfrm>
            <a:off x="539640" y="4292640"/>
            <a:ext cx="61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ы скажете о точках А,В,С,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жит ли точка  К на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49"/>
          <p:cNvSpPr/>
          <p:nvPr/>
        </p:nvSpPr>
        <p:spPr>
          <a:xfrm flipH="1">
            <a:off x="8171640" y="2924280"/>
            <a:ext cx="7164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7596360" y="234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826920" y="587700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оверить, лежит ли точка Р на данной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1116000" y="10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755640" y="119700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1547640" y="90792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1"/>
          <p:cNvSpPr/>
          <p:nvPr/>
        </p:nvSpPr>
        <p:spPr>
          <a:xfrm>
            <a:off x="8064360" y="9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62"/>
          <p:cNvSpPr/>
          <p:nvPr/>
        </p:nvSpPr>
        <p:spPr>
          <a:xfrm>
            <a:off x="250920" y="429264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64"/>
          <p:cNvSpPr/>
          <p:nvPr/>
        </p:nvSpPr>
        <p:spPr>
          <a:xfrm>
            <a:off x="611280" y="378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фигуры изображ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5"/>
          <p:cNvSpPr/>
          <p:nvPr/>
        </p:nvSpPr>
        <p:spPr>
          <a:xfrm>
            <a:off x="755640" y="90792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84360" y="76500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116000" y="907920"/>
            <a:ext cx="741672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84360" y="3716280"/>
            <a:ext cx="77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точка является общей для обеих прям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ожно назвать такие прям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 flipH="1">
            <a:off x="3203640" y="2349360"/>
            <a:ext cx="71280" cy="7164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 flipH="1">
            <a:off x="6947640" y="2924280"/>
            <a:ext cx="71640" cy="7128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09308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9"/>
          <p:cNvGrpSpPr/>
          <p:nvPr/>
        </p:nvGrpSpPr>
        <p:grpSpPr>
          <a:xfrm>
            <a:off x="1332000" y="1412640"/>
            <a:ext cx="5976720" cy="1439640"/>
            <a:chOff x="1332000" y="1412640"/>
            <a:chExt cx="5976720" cy="1439640"/>
          </a:xfrm>
        </p:grpSpPr>
        <p:sp>
          <p:nvSpPr>
            <p:cNvPr id="431" name="Line 8"/>
            <p:cNvSpPr/>
            <p:nvPr/>
          </p:nvSpPr>
          <p:spPr>
            <a:xfrm flipV="1">
              <a:off x="1332000" y="1412640"/>
              <a:ext cx="5976720" cy="14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4427640" y="2060640"/>
              <a:ext cx="69840" cy="69840"/>
            </a:xfrm>
            <a:prstGeom prst="ellipse">
              <a:avLst/>
            </a:prstGeom>
            <a:solidFill>
              <a:srgbClr val="629dd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2771640" y="19162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4067280" y="1557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16"/>
          <p:cNvSpPr/>
          <p:nvPr/>
        </p:nvSpPr>
        <p:spPr>
          <a:xfrm>
            <a:off x="971640" y="4869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cbf9"/>
                </a:solidFill>
                <a:latin typeface="Arial"/>
              </a:rPr>
              <a:t>Пересекающиеся  пря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2195640" y="57340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∩ ВМ =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"/>
          <p:cNvSpPr/>
          <p:nvPr/>
        </p:nvSpPr>
        <p:spPr>
          <a:xfrm>
            <a:off x="179280" y="404640"/>
            <a:ext cx="79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cbf9"/>
                </a:solidFill>
                <a:latin typeface="Arial"/>
              </a:rPr>
              <a:t>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 три пересекающиеся прям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способов пересечения этих прямых  может бы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00000" y="2708280"/>
            <a:ext cx="1079640" cy="273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 flipV="1">
            <a:off x="539640" y="3715920"/>
            <a:ext cx="3745080" cy="15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7"/>
          <p:cNvSpPr/>
          <p:nvPr/>
        </p:nvSpPr>
        <p:spPr>
          <a:xfrm flipH="1">
            <a:off x="826560" y="3141720"/>
            <a:ext cx="1729080" cy="331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 flipH="1">
            <a:off x="5003640" y="2637000"/>
            <a:ext cx="1944720" cy="36003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5435640" y="2997360"/>
            <a:ext cx="2736720" cy="309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4643280" y="5445000"/>
            <a:ext cx="3600720" cy="3603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755640" y="393372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755640" y="450864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340000" y="4005360"/>
            <a:ext cx="37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21"/>
          <p:cNvSpPr/>
          <p:nvPr/>
        </p:nvSpPr>
        <p:spPr>
          <a:xfrm>
            <a:off x="1187280" y="1916280"/>
            <a:ext cx="3313440" cy="129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22"/>
          <p:cNvSpPr/>
          <p:nvPr/>
        </p:nvSpPr>
        <p:spPr>
          <a:xfrm flipH="1">
            <a:off x="324000" y="1557360"/>
            <a:ext cx="2952720" cy="23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6"/>
          <p:cNvSpPr/>
          <p:nvPr/>
        </p:nvSpPr>
        <p:spPr>
          <a:xfrm flipV="1">
            <a:off x="395280" y="2852280"/>
            <a:ext cx="3168720" cy="5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900000" y="148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-54144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"/>
          <p:cNvSpPr/>
          <p:nvPr/>
        </p:nvSpPr>
        <p:spPr>
          <a:xfrm>
            <a:off x="1042920" y="184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"/>
          <p:cNvSpPr/>
          <p:nvPr/>
        </p:nvSpPr>
        <p:spPr>
          <a:xfrm>
            <a:off x="-181080" y="3716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277164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2"/>
          <p:cNvSpPr/>
          <p:nvPr/>
        </p:nvSpPr>
        <p:spPr>
          <a:xfrm>
            <a:off x="3492360" y="2781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190800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4"/>
          <p:cNvSpPr/>
          <p:nvPr/>
        </p:nvSpPr>
        <p:spPr>
          <a:xfrm>
            <a:off x="0" y="29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611280" y="4292640"/>
            <a:ext cx="770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те и запишите два отрезка, две прям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точки пересечения прямых АВ и МР, ДВ и РМ, ВЕ и 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539640" y="836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МК и отрезки АВ и СД так, чтобы прямая МК пересекала отрезок АВ, но не пересекала отрезок С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1042920" y="3284640"/>
            <a:ext cx="6624720" cy="21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835280" y="4437000"/>
            <a:ext cx="396072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>
            <a:off x="4859280" y="2924280"/>
            <a:ext cx="2233800" cy="144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8"/>
          <p:cNvSpPr/>
          <p:nvPr/>
        </p:nvSpPr>
        <p:spPr>
          <a:xfrm>
            <a:off x="1835280" y="4365720"/>
            <a:ext cx="7272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9"/>
          <p:cNvSpPr/>
          <p:nvPr/>
        </p:nvSpPr>
        <p:spPr>
          <a:xfrm>
            <a:off x="5724360" y="436572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10"/>
          <p:cNvSpPr/>
          <p:nvPr/>
        </p:nvSpPr>
        <p:spPr>
          <a:xfrm>
            <a:off x="4788000" y="285264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11"/>
          <p:cNvSpPr/>
          <p:nvPr/>
        </p:nvSpPr>
        <p:spPr>
          <a:xfrm>
            <a:off x="7020000" y="429264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61128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6659640" y="49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1187280" y="3860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493236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399564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588000" y="386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9:10:55Z</dcterms:created>
  <dc:creator>Козлова Н.В.</dc:creator>
  <dc:description/>
  <dc:language>en-US</dc:language>
  <cp:lastModifiedBy>123</cp:lastModifiedBy>
  <dcterms:modified xsi:type="dcterms:W3CDTF">2017-06-04T12:01:04Z</dcterms:modified>
  <cp:revision>65</cp:revision>
  <dc:subject/>
  <dc:title>прямая и плоскость 5 класс</dc:title>
</cp:coreProperties>
</file>