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AA18-B025-40EE-BF07-BC0689C25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B277-A323-4A2D-932C-C9C7A6CFC3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57B4-1463-4DA9-86AF-4E91A0E330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5B5C-BB5B-410D-8AFA-6ED50B6F30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DFF9-F32C-4080-9D45-4B56B6D2A0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979-F81D-4629-9D42-8B2335A8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898-0851-46C4-BF2D-1084187D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63E-B236-4E5B-91A5-C4BBDBA3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03A-54A6-4114-9A69-808EF369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105CB-0547-4FD5-9D04-3CCE0989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32574-5933-4D58-88DA-E4482FF3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E1D8B-08C2-4E38-B361-E24301D0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BBCD1-48A3-42E0-BDFD-6EF7DAB4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76D12-64F8-4639-B826-17095FE4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7CCB4-093C-4750-800E-635763BC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3FE54-5DBF-41EC-997F-7C6481A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6A1-FD9E-462A-9080-955C34BC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91DBD-F52B-47A3-B20A-82C9ACCF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72FD4-2D3B-4680-A0D5-F5E4FBD6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11B1C-7B64-44A3-BDF2-E3B1B00A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C4A2C-DBD3-432E-A8F0-396AC5C8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215E1-5BCB-44F4-9D97-CF8C0258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A8169-9606-43DE-9242-DEA0EB1F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9FE0D-7F29-471C-80AB-B4F453F8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A04F6-1F79-4C6C-BC7A-BC1FAA2D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1AE47-C174-4A92-9D5B-0FD8BF93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3745F-5F50-4701-88FF-1A2DCCB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BB0-5776-4A3F-B392-BD9A7287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73FC0-98B6-4A44-86FE-4611ECF1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4697C-E0EF-4429-B4B1-8927A8F5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9DA72-11DA-44D2-95D7-77EBA436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49997-584A-45E8-9100-B14C702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B87FA-D77D-4A44-B5DC-CAC8702E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28AA0-7C87-4951-9FC8-2B4186F9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F8742-1BD6-4E07-88F1-BDA86C23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F538B-D887-4694-B277-372C3F9C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1496C-6DCC-4B23-8DCB-59A53D02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DDF36-A27E-437F-B407-D77E1A8D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FBF-3B18-4E78-9C64-74D5FFEE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52486-F1A1-4325-AC8D-EDBAF4A5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E1692-F73C-4CE6-A057-529DAE64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34C05-604D-42DB-9BC1-CA1E07CC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FC11F-66C1-4251-A287-9FE0BBC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5593A-119D-40B7-B7A0-8D1C3D45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4E7CB-4247-4920-9F36-92B89D7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1F8DC-287F-4B21-A7A4-4FA2E808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0B62F-6399-4DBF-9641-BCEEEE28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22A380-54A8-45BC-A098-D1221430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98600-3903-4AFA-8234-90C2DB34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914-3D94-407D-90D2-B127282A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D972B-031F-48D5-B184-75387F16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7A487-5235-4044-8FA3-DD6BB662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D46DB-6013-4AE7-8AEF-5067F452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43D9F-5FFB-4C8E-B625-8CAAB630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A0589-DAA7-4F0D-8CF7-CAFA7DE1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56962-5879-4E3D-8690-09C6B7F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65108-97D6-4859-B939-DF90AB0E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9514B-C094-4EB3-8491-E477000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5E985-AE37-4362-A883-83DB4428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DB175-F055-40A9-9A62-595363C5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E02-D88A-4599-B0B8-F9CE2483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D9F90-1657-43B1-95A9-3968C774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A4C18-9C40-428B-A284-409C7E4C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8E6F1-0E44-4C49-B230-EE750CC5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1F2D1-BC7D-4CD4-8768-F94032B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53FA0-66A3-4C52-BC7E-B148AD81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F1E22-1813-4DD9-A66C-A64A379F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4E87B-CA77-4F41-A75F-546A9B72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EF2AD-5325-45A3-91CD-B1D6C68D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65EBF-C88E-4DA4-BDB3-607E1130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765FD-6E5D-40A2-877A-D7CC2698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443-9545-4049-B687-58A3EA7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7357D-DEB1-4D56-8292-721A38D0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267B3-7418-4063-9BB0-14057894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BA92A-8936-456E-AAB4-533BFA49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B5B8D-E2DF-4CB8-A682-E4153170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3EEEA-A43C-46E6-9B44-D0AA80BA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EFF2-C56E-4232-AC2D-D314550D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39243-7C87-42B4-B327-5F5E066A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015F-F0F7-4503-A15F-99BE3A8D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13E8-FF1A-4839-97A7-3747D04C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D4049-AABC-4B8F-8583-288663FC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89E-4CF6-4868-9A93-C90687D1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2696B-65B3-44F9-BE66-5FF7B173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71D34-8155-4137-BC9F-63EE4A76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2929-FA9B-4414-9B53-F9F8B9FD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6F5AC-8B45-4F22-A010-485DBF4C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D884B-96B3-4ECE-B150-A6FA144A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73C-5566-4FE0-9C1E-4CAC3C7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22C7-6181-4772-9443-DA4FDFE4BE80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B4BD-3795-4068-B92F-49709E6DE26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BCDF-674B-4312-AB9C-AC565CB85463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DA56-615F-45C0-9C3F-A310202D1C7A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B641-CD51-4F1E-9871-90205B34CB31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2474-874B-43C3-AE76-9B820054DB8B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0B67-FAD5-48E5-A5F6-E761F64F0657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ac1.ru/pictures/595p213.jpg&amp;imgrefurl=http://www.ac1.ru/price.asp?idcategory=90&amp;h=188&amp;w=245&amp;sz=6&amp;tbnid=zb2Zvr9zwNgJ:&amp;tbnh=80&amp;tbnw=104&amp;start=25&amp;prev=/images?q=&#1087;&#1083;&#1086;&#1089;&#1082;&#1086;&#1089;&#1090;&#1100;&amp;start=20&amp;hl=ru&amp;lr=&amp;sa=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7"/>
          <p:cNvSpPr/>
          <p:nvPr/>
        </p:nvSpPr>
        <p:spPr>
          <a:xfrm>
            <a:off x="611280" y="2276640"/>
            <a:ext cx="79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2987640" y="414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WordArt 17"/>
          <p:cNvSpPr txBox="1"/>
          <p:nvPr/>
        </p:nvSpPr>
        <p:spPr>
          <a:xfrm>
            <a:off x="1476360" y="69228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лоскость. Прямая. Луч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5"/>
          <p:cNvSpPr/>
          <p:nvPr/>
        </p:nvSpPr>
        <p:spPr>
          <a:xfrm>
            <a:off x="611280" y="69228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468360" y="5950080"/>
            <a:ext cx="57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35"/>
          <p:cNvGrpSpPr/>
          <p:nvPr/>
        </p:nvGrpSpPr>
        <p:grpSpPr>
          <a:xfrm>
            <a:off x="0" y="1484280"/>
            <a:ext cx="5328720" cy="4551120"/>
            <a:chOff x="0" y="1484280"/>
            <a:chExt cx="5328720" cy="4551120"/>
          </a:xfrm>
        </p:grpSpPr>
        <p:grpSp>
          <p:nvGrpSpPr>
            <p:cNvPr id="477" name="Group 31"/>
            <p:cNvGrpSpPr/>
            <p:nvPr/>
          </p:nvGrpSpPr>
          <p:grpSpPr>
            <a:xfrm>
              <a:off x="0" y="1484280"/>
              <a:ext cx="5328720" cy="4551120"/>
              <a:chOff x="0" y="1484280"/>
              <a:chExt cx="5328720" cy="4551120"/>
            </a:xfrm>
          </p:grpSpPr>
          <p:sp>
            <p:nvSpPr>
              <p:cNvPr id="478" name="Oval 11"/>
              <p:cNvSpPr/>
              <p:nvPr/>
            </p:nvSpPr>
            <p:spPr>
              <a:xfrm>
                <a:off x="55440" y="1484280"/>
                <a:ext cx="5273280" cy="4234680"/>
              </a:xfrm>
              <a:prstGeom prst="ellipse">
                <a:avLst/>
              </a:prstGeom>
              <a:solidFill>
                <a:srgbClr val="629dd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2"/>
              <p:cNvSpPr/>
              <p:nvPr/>
            </p:nvSpPr>
            <p:spPr>
              <a:xfrm flipH="1">
                <a:off x="438840" y="2039760"/>
                <a:ext cx="1593720" cy="2359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3"/>
              <p:cNvSpPr/>
              <p:nvPr/>
            </p:nvSpPr>
            <p:spPr>
              <a:xfrm flipV="1">
                <a:off x="2142000" y="3496320"/>
                <a:ext cx="2526840" cy="9025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14"/>
              <p:cNvSpPr/>
              <p:nvPr/>
            </p:nvSpPr>
            <p:spPr>
              <a:xfrm flipH="1">
                <a:off x="2142000" y="4329360"/>
                <a:ext cx="108720" cy="138960"/>
              </a:xfrm>
              <a:prstGeom prst="ellipse">
                <a:avLst/>
              </a:prstGeom>
              <a:solidFill>
                <a:srgbClr val="629dd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19"/>
              <p:cNvSpPr/>
              <p:nvPr/>
            </p:nvSpPr>
            <p:spPr>
              <a:xfrm flipH="1">
                <a:off x="4613400" y="3427560"/>
                <a:ext cx="108720" cy="139320"/>
              </a:xfrm>
              <a:prstGeom prst="ellipse">
                <a:avLst/>
              </a:prstGeom>
              <a:solidFill>
                <a:srgbClr val="629dd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20"/>
              <p:cNvSpPr/>
              <p:nvPr/>
            </p:nvSpPr>
            <p:spPr>
              <a:xfrm>
                <a:off x="2142000" y="4537440"/>
                <a:ext cx="4950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21"/>
              <p:cNvSpPr/>
              <p:nvPr/>
            </p:nvSpPr>
            <p:spPr>
              <a:xfrm>
                <a:off x="4779360" y="5579640"/>
                <a:ext cx="2736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Text Box 23"/>
              <p:cNvSpPr/>
              <p:nvPr/>
            </p:nvSpPr>
            <p:spPr>
              <a:xfrm>
                <a:off x="2174760" y="4746960"/>
                <a:ext cx="183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Text Box 24"/>
              <p:cNvSpPr/>
              <p:nvPr/>
            </p:nvSpPr>
            <p:spPr>
              <a:xfrm>
                <a:off x="2087280" y="4537440"/>
                <a:ext cx="54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Text Box 25"/>
              <p:cNvSpPr/>
              <p:nvPr/>
            </p:nvSpPr>
            <p:spPr>
              <a:xfrm>
                <a:off x="4558680" y="3565440"/>
                <a:ext cx="43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Text Box 26"/>
              <p:cNvSpPr/>
              <p:nvPr/>
            </p:nvSpPr>
            <p:spPr>
              <a:xfrm>
                <a:off x="0" y="5371560"/>
                <a:ext cx="4939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Text Box 27"/>
              <p:cNvSpPr/>
              <p:nvPr/>
            </p:nvSpPr>
            <p:spPr>
              <a:xfrm>
                <a:off x="55440" y="5510880"/>
                <a:ext cx="383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Text Box 28"/>
              <p:cNvSpPr/>
              <p:nvPr/>
            </p:nvSpPr>
            <p:spPr>
              <a:xfrm>
                <a:off x="692280" y="4262040"/>
                <a:ext cx="18396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Text Box 32"/>
            <p:cNvSpPr/>
            <p:nvPr/>
          </p:nvSpPr>
          <p:spPr>
            <a:xfrm>
              <a:off x="504720" y="28512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Text Box 33"/>
          <p:cNvSpPr/>
          <p:nvPr/>
        </p:nvSpPr>
        <p:spPr>
          <a:xfrm>
            <a:off x="5830920" y="112536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37"/>
          <p:cNvSpPr/>
          <p:nvPr/>
        </p:nvSpPr>
        <p:spPr>
          <a:xfrm>
            <a:off x="3203640" y="2708280"/>
            <a:ext cx="1443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8"/>
          <p:cNvSpPr/>
          <p:nvPr/>
        </p:nvSpPr>
        <p:spPr>
          <a:xfrm>
            <a:off x="3276720" y="2205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Oval 39"/>
          <p:cNvSpPr/>
          <p:nvPr/>
        </p:nvSpPr>
        <p:spPr>
          <a:xfrm flipV="1">
            <a:off x="1835280" y="2133720"/>
            <a:ext cx="71280" cy="9360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Oval 40"/>
          <p:cNvSpPr/>
          <p:nvPr/>
        </p:nvSpPr>
        <p:spPr>
          <a:xfrm>
            <a:off x="900000" y="3573360"/>
            <a:ext cx="73080" cy="12240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41"/>
          <p:cNvSpPr/>
          <p:nvPr/>
        </p:nvSpPr>
        <p:spPr>
          <a:xfrm>
            <a:off x="1476360" y="184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42"/>
          <p:cNvSpPr/>
          <p:nvPr/>
        </p:nvSpPr>
        <p:spPr>
          <a:xfrm>
            <a:off x="104292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5580000" y="692280"/>
            <a:ext cx="29527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Какие фигуры изображены на рисун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Что общего между отрезком и пря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Чем отличается отрезок от пря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Какие точки принадлежат прямой и какие не принадлежа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45"/>
          <p:cNvSpPr/>
          <p:nvPr/>
        </p:nvSpPr>
        <p:spPr>
          <a:xfrm>
            <a:off x="395280" y="69228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4"/>
          <p:cNvSpPr/>
          <p:nvPr/>
        </p:nvSpPr>
        <p:spPr>
          <a:xfrm>
            <a:off x="969840" y="2779560"/>
            <a:ext cx="6986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4067280" y="2708280"/>
            <a:ext cx="14436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33"/>
          <p:cNvSpPr/>
          <p:nvPr/>
        </p:nvSpPr>
        <p:spPr>
          <a:xfrm>
            <a:off x="7524720" y="1989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33"/>
          <p:cNvSpPr/>
          <p:nvPr/>
        </p:nvSpPr>
        <p:spPr>
          <a:xfrm>
            <a:off x="3851280" y="1989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33"/>
          <p:cNvSpPr/>
          <p:nvPr/>
        </p:nvSpPr>
        <p:spPr>
          <a:xfrm>
            <a:off x="755640" y="2060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 rot="16200000">
            <a:off x="2358360" y="1537200"/>
            <a:ext cx="252360" cy="3025800"/>
          </a:xfrm>
          <a:custGeom>
            <a:avLst/>
            <a:gdLst>
              <a:gd name="textAreaLeft" fmla="*/ 161280 w 252360"/>
              <a:gd name="textAreaRight" fmla="*/ 252720 w 252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0"/>
                </a:lnTo>
                <a:cubicBezTo>
                  <a:pt x="10800" y="9820"/>
                  <a:pt x="5400" y="10720"/>
                  <a:pt x="0" y="10720"/>
                </a:cubicBezTo>
                <a:cubicBezTo>
                  <a:pt x="5400" y="10720"/>
                  <a:pt x="10800" y="11620"/>
                  <a:pt x="10800" y="125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2"/>
          <p:cNvSpPr/>
          <p:nvPr/>
        </p:nvSpPr>
        <p:spPr>
          <a:xfrm rot="16200000">
            <a:off x="5669640" y="1537200"/>
            <a:ext cx="252360" cy="3025800"/>
          </a:xfrm>
          <a:custGeom>
            <a:avLst/>
            <a:gdLst>
              <a:gd name="textAreaLeft" fmla="*/ 161280 w 252360"/>
              <a:gd name="textAreaRight" fmla="*/ 252720 w 252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0"/>
                </a:lnTo>
                <a:cubicBezTo>
                  <a:pt x="10800" y="9820"/>
                  <a:pt x="5400" y="10720"/>
                  <a:pt x="0" y="10720"/>
                </a:cubicBezTo>
                <a:cubicBezTo>
                  <a:pt x="5400" y="10720"/>
                  <a:pt x="10800" y="11620"/>
                  <a:pt x="10800" y="125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15"/>
          <p:cNvSpPr/>
          <p:nvPr/>
        </p:nvSpPr>
        <p:spPr>
          <a:xfrm>
            <a:off x="2627280" y="4508640"/>
            <a:ext cx="30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начало луче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1692360" y="3213000"/>
            <a:ext cx="165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луч О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4932360" y="3213000"/>
            <a:ext cx="165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луч 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9"/>
          <p:cNvSpPr/>
          <p:nvPr/>
        </p:nvSpPr>
        <p:spPr>
          <a:xfrm flipV="1">
            <a:off x="4140360" y="2924280"/>
            <a:ext cx="0" cy="172872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3"/>
          <p:cNvSpPr/>
          <p:nvPr/>
        </p:nvSpPr>
        <p:spPr>
          <a:xfrm>
            <a:off x="3564000" y="76500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луч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284720" y="1341360"/>
            <a:ext cx="1511280" cy="115092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 flipH="1">
            <a:off x="2484360" y="1341360"/>
            <a:ext cx="1511280" cy="115092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8"/>
          <p:cNvSpPr/>
          <p:nvPr/>
        </p:nvSpPr>
        <p:spPr>
          <a:xfrm>
            <a:off x="611280" y="476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2"/>
          <p:cNvSpPr/>
          <p:nvPr/>
        </p:nvSpPr>
        <p:spPr>
          <a:xfrm flipV="1">
            <a:off x="2050920" y="2708280"/>
            <a:ext cx="4608720" cy="179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8"/>
          <p:cNvSpPr/>
          <p:nvPr/>
        </p:nvSpPr>
        <p:spPr>
          <a:xfrm>
            <a:off x="1979640" y="4437000"/>
            <a:ext cx="14436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33"/>
          <p:cNvSpPr/>
          <p:nvPr/>
        </p:nvSpPr>
        <p:spPr>
          <a:xfrm>
            <a:off x="5219640" y="1574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33"/>
          <p:cNvSpPr/>
          <p:nvPr/>
        </p:nvSpPr>
        <p:spPr>
          <a:xfrm>
            <a:off x="1692360" y="38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Box 33"/>
          <p:cNvSpPr/>
          <p:nvPr/>
        </p:nvSpPr>
        <p:spPr>
          <a:xfrm>
            <a:off x="4645080" y="2655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3132000" y="4508640"/>
            <a:ext cx="554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точка А лежит на луче О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4859280" y="3284640"/>
            <a:ext cx="14436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8"/>
          <p:cNvSpPr/>
          <p:nvPr/>
        </p:nvSpPr>
        <p:spPr>
          <a:xfrm>
            <a:off x="5435640" y="2205000"/>
            <a:ext cx="14436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8"/>
          <p:cNvSpPr/>
          <p:nvPr/>
        </p:nvSpPr>
        <p:spPr>
          <a:xfrm>
            <a:off x="6948360" y="1773360"/>
            <a:ext cx="144720" cy="144360"/>
          </a:xfrm>
          <a:prstGeom prst="ellipse">
            <a:avLst/>
          </a:prstGeom>
          <a:solidFill>
            <a:srgbClr val="d0260a"/>
          </a:solidFill>
          <a:ln w="936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33"/>
          <p:cNvSpPr/>
          <p:nvPr/>
        </p:nvSpPr>
        <p:spPr>
          <a:xfrm>
            <a:off x="6804000" y="112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19"/>
          <p:cNvSpPr/>
          <p:nvPr/>
        </p:nvSpPr>
        <p:spPr>
          <a:xfrm flipV="1">
            <a:off x="4572000" y="3499920"/>
            <a:ext cx="360360" cy="100836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1835280" y="442800"/>
            <a:ext cx="684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точки В и Н не лежат на луче О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9"/>
          <p:cNvSpPr/>
          <p:nvPr/>
        </p:nvSpPr>
        <p:spPr>
          <a:xfrm>
            <a:off x="4716360" y="1052640"/>
            <a:ext cx="576360" cy="108108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9"/>
          <p:cNvSpPr/>
          <p:nvPr/>
        </p:nvSpPr>
        <p:spPr>
          <a:xfrm>
            <a:off x="5364000" y="1052640"/>
            <a:ext cx="1440000" cy="792000"/>
          </a:xfrm>
          <a:prstGeom prst="line">
            <a:avLst/>
          </a:prstGeom>
          <a:ln cap="rnd" w="22320">
            <a:solidFill>
              <a:srgbClr val="00008e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2"/>
          <p:cNvSpPr/>
          <p:nvPr/>
        </p:nvSpPr>
        <p:spPr>
          <a:xfrm>
            <a:off x="-7920" y="26028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ccbf9"/>
                </a:solidFill>
                <a:latin typeface="Bookman Old Style"/>
              </a:rPr>
              <a:t>ВОПРОСЫ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5"/>
          <p:cNvSpPr/>
          <p:nvPr/>
        </p:nvSpPr>
        <p:spPr>
          <a:xfrm>
            <a:off x="-1440" y="1141560"/>
            <a:ext cx="914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Есть ли края у плоскости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ли прямая концы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колько прямых можно провести через точки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а сколько лучей разбивает прямую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точка А, лежащая между точками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этой прямой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Какой луч дополнителен лучу АМ; лучу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468360" y="692280"/>
            <a:ext cx="8064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две пересекающиеся прямые. На сколько частей эти прямые делят плоск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прямую и отметьте точки А,В и С, лежащие на прямой , а точки К, М, и Р , не лежащие на пря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прямую ,отрезок МР , лежащий на данной прямой . Отметьте точки А и В , лежащие на прямой , но не лежащие на отрез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8, 1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476360" y="1773360"/>
            <a:ext cx="7272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050560" y="4005000"/>
            <a:ext cx="663588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Используемая литература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1) Учебник Н.Я Вленкина и др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2) Рабочая тетрадь Т.М. Ериной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3) Интернет-источники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57200" y="274680"/>
          <a:ext cx="8229600" cy="5873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23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цифрами числ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рок миллиардов сто миллионов пя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миллионов 37 тысяч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27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ертите отрезк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 и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 =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мм,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см 2м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азит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м 54 м в метрах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4 дм в дециметрах и метрах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колько всего четырехзначных чисел, оканчивающихся цифрой 3? (обоснование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Запишите цифрам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двести миллиардов семь тысяч тр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20 миллионов 4 тысяч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3108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ертите отрезк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К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,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если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К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3 см 4 мм,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 =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 м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ыразит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4 м 5 см в сантиметрах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6085 м в километрах и метр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колько всего четырехзначных чисел, оканчивающихся цифрой 7? (обоснован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311120" y="21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611280" y="5229360"/>
            <a:ext cx="79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плоскости </a:t>
            </a:r>
            <a:r>
              <a:rPr b="1" lang="ru-RU" sz="2400" spc="-1" strike="noStrike">
                <a:solidFill>
                  <a:srgbClr val="85b2f6"/>
                </a:solidFill>
                <a:latin typeface="Arial"/>
              </a:rPr>
              <a:t>нет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предметы дают представление о плос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WordArt 15"/>
          <p:cNvSpPr txBox="1"/>
          <p:nvPr/>
        </p:nvSpPr>
        <p:spPr>
          <a:xfrm>
            <a:off x="2340000" y="26028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лоскость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78" name="Picture 5" descr="595p2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chaise"/>
          <p:cNvPicPr/>
          <p:nvPr/>
        </p:nvPicPr>
        <p:blipFill>
          <a:blip r:embed="rId3"/>
          <a:stretch/>
        </p:blipFill>
        <p:spPr>
          <a:xfrm>
            <a:off x="3492360" y="1413000"/>
            <a:ext cx="2664000" cy="20001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2"/>
          <p:cNvSpPr/>
          <p:nvPr/>
        </p:nvSpPr>
        <p:spPr>
          <a:xfrm>
            <a:off x="395280" y="414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ерхность стола, школьной доски, оконного стекла, дают представление о плос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9" descr="mitsuna-kasumi7b"/>
          <p:cNvPicPr/>
          <p:nvPr/>
        </p:nvPicPr>
        <p:blipFill>
          <a:blip r:embed="rId4"/>
          <a:stretch/>
        </p:blipFill>
        <p:spPr>
          <a:xfrm>
            <a:off x="6372360" y="1557360"/>
            <a:ext cx="24494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9"/>
          <p:cNvSpPr/>
          <p:nvPr/>
        </p:nvSpPr>
        <p:spPr>
          <a:xfrm>
            <a:off x="250920" y="501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ямая неограниченно продолжается в обе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1403280" y="2060640"/>
            <a:ext cx="144360" cy="14436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1547640" y="2133720"/>
            <a:ext cx="187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348000" y="2060640"/>
            <a:ext cx="144360" cy="14436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4"/>
          <p:cNvSpPr/>
          <p:nvPr/>
        </p:nvSpPr>
        <p:spPr>
          <a:xfrm>
            <a:off x="3419640" y="2133720"/>
            <a:ext cx="374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 flipH="1">
            <a:off x="468360" y="213372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250920" y="2997360"/>
            <a:ext cx="611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любые две точки проходи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динственная прям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250920" y="40766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ямая не имеет конц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1187280" y="17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2987640" y="1700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1403280" y="1341360"/>
            <a:ext cx="9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1258920" y="155736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1116000" y="162864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2050920" y="119700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30"/>
          <p:cNvSpPr/>
          <p:nvPr/>
        </p:nvSpPr>
        <p:spPr>
          <a:xfrm>
            <a:off x="1116000" y="155736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38"/>
          <p:cNvSpPr txBox="1"/>
          <p:nvPr/>
        </p:nvSpPr>
        <p:spPr>
          <a:xfrm>
            <a:off x="2340000" y="333360"/>
            <a:ext cx="39607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ямая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234000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900000" y="1268280"/>
            <a:ext cx="7056720" cy="165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1619280" y="1413000"/>
            <a:ext cx="73080" cy="14436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4695840" y="294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6659640" y="587700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36"/>
          <p:cNvSpPr/>
          <p:nvPr/>
        </p:nvSpPr>
        <p:spPr>
          <a:xfrm>
            <a:off x="4284720" y="1989000"/>
            <a:ext cx="730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37"/>
          <p:cNvSpPr/>
          <p:nvPr/>
        </p:nvSpPr>
        <p:spPr>
          <a:xfrm flipH="1">
            <a:off x="2340000" y="1557360"/>
            <a:ext cx="712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8"/>
          <p:cNvSpPr/>
          <p:nvPr/>
        </p:nvSpPr>
        <p:spPr>
          <a:xfrm>
            <a:off x="6012000" y="2421000"/>
            <a:ext cx="72720" cy="14436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39"/>
          <p:cNvSpPr/>
          <p:nvPr/>
        </p:nvSpPr>
        <p:spPr>
          <a:xfrm flipH="1">
            <a:off x="5002920" y="1052640"/>
            <a:ext cx="7164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40"/>
          <p:cNvSpPr/>
          <p:nvPr/>
        </p:nvSpPr>
        <p:spPr>
          <a:xfrm>
            <a:off x="1258920" y="98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41"/>
          <p:cNvSpPr/>
          <p:nvPr/>
        </p:nvSpPr>
        <p:spPr>
          <a:xfrm>
            <a:off x="21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2"/>
          <p:cNvSpPr/>
          <p:nvPr/>
        </p:nvSpPr>
        <p:spPr>
          <a:xfrm>
            <a:off x="3995640" y="162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3"/>
          <p:cNvSpPr/>
          <p:nvPr/>
        </p:nvSpPr>
        <p:spPr>
          <a:xfrm>
            <a:off x="5651640" y="1989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44"/>
          <p:cNvSpPr/>
          <p:nvPr/>
        </p:nvSpPr>
        <p:spPr>
          <a:xfrm>
            <a:off x="4643280" y="549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46"/>
          <p:cNvSpPr/>
          <p:nvPr/>
        </p:nvSpPr>
        <p:spPr>
          <a:xfrm>
            <a:off x="539640" y="4292640"/>
            <a:ext cx="61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исун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вы скажете о точках А,В,С,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жит ли точка  К на пря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49"/>
          <p:cNvSpPr/>
          <p:nvPr/>
        </p:nvSpPr>
        <p:spPr>
          <a:xfrm flipH="1">
            <a:off x="8171640" y="2924280"/>
            <a:ext cx="7164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7596360" y="234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826920" y="587700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оверить, лежит ли точка Р на данной пря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1116000" y="10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755640" y="119700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1547640" y="90792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61"/>
          <p:cNvSpPr/>
          <p:nvPr/>
        </p:nvSpPr>
        <p:spPr>
          <a:xfrm>
            <a:off x="8064360" y="9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62"/>
          <p:cNvSpPr/>
          <p:nvPr/>
        </p:nvSpPr>
        <p:spPr>
          <a:xfrm>
            <a:off x="250920" y="429264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64"/>
          <p:cNvSpPr/>
          <p:nvPr/>
        </p:nvSpPr>
        <p:spPr>
          <a:xfrm>
            <a:off x="611280" y="378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фигуры изображе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5"/>
          <p:cNvSpPr/>
          <p:nvPr/>
        </p:nvSpPr>
        <p:spPr>
          <a:xfrm>
            <a:off x="755640" y="90792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684360" y="76500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1116000" y="907920"/>
            <a:ext cx="7416720" cy="25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84360" y="3716280"/>
            <a:ext cx="777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точка является общей для обеих прям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ожно назвать такие прямы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 flipH="1">
            <a:off x="3203640" y="2349360"/>
            <a:ext cx="71280" cy="7164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 flipH="1">
            <a:off x="6947640" y="2924280"/>
            <a:ext cx="71640" cy="7128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09308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9"/>
          <p:cNvGrpSpPr/>
          <p:nvPr/>
        </p:nvGrpSpPr>
        <p:grpSpPr>
          <a:xfrm>
            <a:off x="1332000" y="1412640"/>
            <a:ext cx="5976720" cy="1439640"/>
            <a:chOff x="1332000" y="1412640"/>
            <a:chExt cx="5976720" cy="1439640"/>
          </a:xfrm>
        </p:grpSpPr>
        <p:sp>
          <p:nvSpPr>
            <p:cNvPr id="431" name="Line 8"/>
            <p:cNvSpPr/>
            <p:nvPr/>
          </p:nvSpPr>
          <p:spPr>
            <a:xfrm flipV="1">
              <a:off x="1332000" y="1412640"/>
              <a:ext cx="5976720" cy="14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4427640" y="2060640"/>
              <a:ext cx="69840" cy="69840"/>
            </a:xfrm>
            <a:prstGeom prst="ellipse">
              <a:avLst/>
            </a:prstGeom>
            <a:solidFill>
              <a:srgbClr val="629dd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2771640" y="191628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4067280" y="15573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16"/>
          <p:cNvSpPr/>
          <p:nvPr/>
        </p:nvSpPr>
        <p:spPr>
          <a:xfrm>
            <a:off x="971640" y="4869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cbf9"/>
                </a:solidFill>
                <a:latin typeface="Arial"/>
              </a:rPr>
              <a:t>Пересекающиеся  пря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2195640" y="57340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∩ ВМ =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4"/>
          <p:cNvSpPr/>
          <p:nvPr/>
        </p:nvSpPr>
        <p:spPr>
          <a:xfrm>
            <a:off x="179280" y="404640"/>
            <a:ext cx="79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cbf9"/>
                </a:solidFill>
                <a:latin typeface="Arial"/>
              </a:rPr>
              <a:t>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 три пересекающиеся прям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лько способов пересечения этих прямых  может бы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900000" y="2708280"/>
            <a:ext cx="1079640" cy="273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6"/>
          <p:cNvSpPr/>
          <p:nvPr/>
        </p:nvSpPr>
        <p:spPr>
          <a:xfrm flipV="1">
            <a:off x="539640" y="3715920"/>
            <a:ext cx="3745080" cy="151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7"/>
          <p:cNvSpPr/>
          <p:nvPr/>
        </p:nvSpPr>
        <p:spPr>
          <a:xfrm flipH="1">
            <a:off x="826560" y="3141720"/>
            <a:ext cx="1729080" cy="331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8"/>
          <p:cNvSpPr/>
          <p:nvPr/>
        </p:nvSpPr>
        <p:spPr>
          <a:xfrm flipH="1">
            <a:off x="5003640" y="2637000"/>
            <a:ext cx="1944720" cy="36003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9"/>
          <p:cNvSpPr/>
          <p:nvPr/>
        </p:nvSpPr>
        <p:spPr>
          <a:xfrm>
            <a:off x="5435640" y="2997360"/>
            <a:ext cx="2736720" cy="309564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10"/>
          <p:cNvSpPr/>
          <p:nvPr/>
        </p:nvSpPr>
        <p:spPr>
          <a:xfrm>
            <a:off x="4643280" y="5445000"/>
            <a:ext cx="3600720" cy="3603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4"/>
          <p:cNvSpPr/>
          <p:nvPr/>
        </p:nvSpPr>
        <p:spPr>
          <a:xfrm>
            <a:off x="755640" y="393372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755640" y="450864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340000" y="4005360"/>
            <a:ext cx="37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21"/>
          <p:cNvSpPr/>
          <p:nvPr/>
        </p:nvSpPr>
        <p:spPr>
          <a:xfrm>
            <a:off x="1187280" y="1916280"/>
            <a:ext cx="3313440" cy="1296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22"/>
          <p:cNvSpPr/>
          <p:nvPr/>
        </p:nvSpPr>
        <p:spPr>
          <a:xfrm flipH="1">
            <a:off x="324000" y="1557360"/>
            <a:ext cx="2952720" cy="2376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26"/>
          <p:cNvSpPr/>
          <p:nvPr/>
        </p:nvSpPr>
        <p:spPr>
          <a:xfrm flipV="1">
            <a:off x="395280" y="2852280"/>
            <a:ext cx="3168720" cy="576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7"/>
          <p:cNvSpPr/>
          <p:nvPr/>
        </p:nvSpPr>
        <p:spPr>
          <a:xfrm>
            <a:off x="900000" y="148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8"/>
          <p:cNvSpPr/>
          <p:nvPr/>
        </p:nvSpPr>
        <p:spPr>
          <a:xfrm>
            <a:off x="-54144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"/>
          <p:cNvSpPr/>
          <p:nvPr/>
        </p:nvSpPr>
        <p:spPr>
          <a:xfrm>
            <a:off x="1042920" y="1844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0"/>
          <p:cNvSpPr/>
          <p:nvPr/>
        </p:nvSpPr>
        <p:spPr>
          <a:xfrm>
            <a:off x="-181080" y="3716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1"/>
          <p:cNvSpPr/>
          <p:nvPr/>
        </p:nvSpPr>
        <p:spPr>
          <a:xfrm>
            <a:off x="2771640" y="234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2"/>
          <p:cNvSpPr/>
          <p:nvPr/>
        </p:nvSpPr>
        <p:spPr>
          <a:xfrm>
            <a:off x="3492360" y="2781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3"/>
          <p:cNvSpPr/>
          <p:nvPr/>
        </p:nvSpPr>
        <p:spPr>
          <a:xfrm>
            <a:off x="190800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4"/>
          <p:cNvSpPr/>
          <p:nvPr/>
        </p:nvSpPr>
        <p:spPr>
          <a:xfrm>
            <a:off x="0" y="292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5"/>
          <p:cNvSpPr/>
          <p:nvPr/>
        </p:nvSpPr>
        <p:spPr>
          <a:xfrm>
            <a:off x="611280" y="4292640"/>
            <a:ext cx="7705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ите и запишите два отрезка, две прям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точки пересечения прямых АВ и МР, ДВ и РМ, ВЕ и 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539640" y="8366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ертите прямую МК и отрезки АВ и СД так, чтобы прямая МК пересекала отрезок АВ, но не пересекала отрезок С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5"/>
          <p:cNvSpPr/>
          <p:nvPr/>
        </p:nvSpPr>
        <p:spPr>
          <a:xfrm>
            <a:off x="1042920" y="3284640"/>
            <a:ext cx="6624720" cy="21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1835280" y="4437000"/>
            <a:ext cx="3960720" cy="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7"/>
          <p:cNvSpPr/>
          <p:nvPr/>
        </p:nvSpPr>
        <p:spPr>
          <a:xfrm>
            <a:off x="4859280" y="2924280"/>
            <a:ext cx="2233800" cy="144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8"/>
          <p:cNvSpPr/>
          <p:nvPr/>
        </p:nvSpPr>
        <p:spPr>
          <a:xfrm>
            <a:off x="1835280" y="4365720"/>
            <a:ext cx="7272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9"/>
          <p:cNvSpPr/>
          <p:nvPr/>
        </p:nvSpPr>
        <p:spPr>
          <a:xfrm>
            <a:off x="5724360" y="4365720"/>
            <a:ext cx="730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10"/>
          <p:cNvSpPr/>
          <p:nvPr/>
        </p:nvSpPr>
        <p:spPr>
          <a:xfrm>
            <a:off x="4788000" y="2852640"/>
            <a:ext cx="730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11"/>
          <p:cNvSpPr/>
          <p:nvPr/>
        </p:nvSpPr>
        <p:spPr>
          <a:xfrm>
            <a:off x="7020000" y="4292640"/>
            <a:ext cx="73080" cy="142920"/>
          </a:xfrm>
          <a:prstGeom prst="ellipse">
            <a:avLst/>
          </a:prstGeom>
          <a:solidFill>
            <a:srgbClr val="629d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61128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3"/>
          <p:cNvSpPr/>
          <p:nvPr/>
        </p:nvSpPr>
        <p:spPr>
          <a:xfrm>
            <a:off x="6659640" y="4941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1187280" y="3860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4932360" y="39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3995640" y="24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6588000" y="386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9:10:55Z</dcterms:created>
  <dc:creator>Козлова Н.В.</dc:creator>
  <dc:description/>
  <dc:language>en-US</dc:language>
  <cp:lastModifiedBy>123</cp:lastModifiedBy>
  <dcterms:modified xsi:type="dcterms:W3CDTF">2017-06-04T12:01:04Z</dcterms:modified>
  <cp:revision>65</cp:revision>
  <dc:subject/>
  <dc:title>прямая и плоскость 5 класс</dc:title>
</cp:coreProperties>
</file>