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9C1-4318-45D1-A7CD-47616469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25A-DADE-4DFA-BF89-290D4DFF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C5D-F0C8-4AD0-80D2-F008137C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F25-E869-46A7-943E-32E1ADE0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DEF-EFA3-4621-B290-D0310311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517-07F5-4084-8190-AA22BCB1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E54-E1FA-4A5D-89DD-422D9808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8234-E7CD-42EF-9C8A-6DC2C0C2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4ABD-4D22-48FC-A77D-0EC941FD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1EA-F391-4894-89FE-58203380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0DC9-D9EB-4587-BF84-82CB4E20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8DC-C3C2-4247-8742-22894039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6164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CD06-C4CD-4904-AA0F-2068BA2940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1"/>
          <a:stretch/>
        </p:blipFill>
        <p:spPr>
          <a:xfrm>
            <a:off x="901800" y="1390680"/>
            <a:ext cx="7626240" cy="25527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5643720" y="5715000"/>
            <a:ext cx="324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13840" y="142920"/>
            <a:ext cx="400068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20b6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9620b6"/>
                </a:solidFill>
                <a:latin typeface="Arial"/>
              </a:rPr>
              <a:t>Портрет Доктора Ре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Documents and Settings\Admin\Рабочий стол\497px-Vincent_Willem_van_Gogh_090.jpg"/>
          <p:cNvPicPr/>
          <p:nvPr/>
        </p:nvPicPr>
        <p:blipFill>
          <a:blip r:embed="rId1"/>
          <a:stretch/>
        </p:blipFill>
        <p:spPr>
          <a:xfrm>
            <a:off x="3714840" y="214200"/>
            <a:ext cx="5234040" cy="6309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357120" y="1714680"/>
            <a:ext cx="335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20b6"/>
                </a:solidFill>
                <a:latin typeface="Arial"/>
              </a:rPr>
              <a:t>1889, Муз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20b6"/>
                </a:solidFill>
                <a:latin typeface="Arial"/>
              </a:rPr>
              <a:t>имени Пу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56760" y="142560"/>
            <a:ext cx="332892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20b6"/>
                </a:solidFill>
                <a:latin typeface="Arial"/>
              </a:rPr>
              <a:t>Ночное каф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Admin\Рабочий стол\0_185f2_a6772ac3_XL.jpg"/>
          <p:cNvPicPr/>
          <p:nvPr/>
        </p:nvPicPr>
        <p:blipFill>
          <a:blip r:embed="rId1"/>
          <a:stretch/>
        </p:blipFill>
        <p:spPr>
          <a:xfrm>
            <a:off x="1643040" y="785880"/>
            <a:ext cx="72151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6840" y="274680"/>
            <a:ext cx="56149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одержимое 1"/>
          <p:cNvSpPr/>
          <p:nvPr/>
        </p:nvSpPr>
        <p:spPr>
          <a:xfrm>
            <a:off x="500040" y="214200"/>
            <a:ext cx="560556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20b6"/>
                </a:solidFill>
                <a:latin typeface="Arial"/>
              </a:rPr>
              <a:t>Дорожные рабоч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Documents and Settings\Admin\Рабочий стол\r_pic.jpg"/>
          <p:cNvPicPr/>
          <p:nvPr/>
        </p:nvPicPr>
        <p:blipFill>
          <a:blip r:embed="rId1"/>
          <a:stretch/>
        </p:blipFill>
        <p:spPr>
          <a:xfrm>
            <a:off x="1500120" y="857160"/>
            <a:ext cx="7072560" cy="5567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3107520" y="-18396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ущие ветки кашт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56760" y="142560"/>
            <a:ext cx="58294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20b6"/>
                </a:solidFill>
                <a:latin typeface="Arial"/>
              </a:rPr>
              <a:t>Цветущие ветки кашт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Documents and Settings\Admin\Рабочий стол\stolenpicture_15.jpg"/>
          <p:cNvPicPr/>
          <p:nvPr/>
        </p:nvPicPr>
        <p:blipFill>
          <a:blip r:embed="rId1"/>
          <a:stretch/>
        </p:blipFill>
        <p:spPr>
          <a:xfrm>
            <a:off x="1571760" y="847800"/>
            <a:ext cx="73850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42920" y="285840"/>
            <a:ext cx="440064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20b6"/>
                </a:solidFill>
                <a:latin typeface="Arial"/>
              </a:rPr>
              <a:t>Церковь в Ове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620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3857760" y="190440"/>
            <a:ext cx="5110200" cy="64296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285840" y="1500120"/>
            <a:ext cx="250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20b6"/>
                </a:solidFill>
                <a:latin typeface="Arial"/>
              </a:rPr>
              <a:t>189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20b6"/>
                </a:solidFill>
                <a:latin typeface="Arial"/>
              </a:rPr>
              <a:t>Музей Орс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20b6"/>
                </a:solidFill>
                <a:latin typeface="Arial"/>
              </a:rPr>
              <a:t>Пари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274320"/>
            <a:ext cx="375768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20b6"/>
                </a:solidFill>
                <a:latin typeface="Arial"/>
              </a:rPr>
              <a:t>Поле с ма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620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4010760" y="214200"/>
            <a:ext cx="478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20b6"/>
                </a:solidFill>
                <a:latin typeface="Arial"/>
              </a:rPr>
              <a:t>1889, Художественная галере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20b6"/>
                </a:solidFill>
                <a:latin typeface="Arial"/>
              </a:rPr>
              <a:t>Бре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857160" y="1000080"/>
            <a:ext cx="735804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274320"/>
            <a:ext cx="418608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20b6"/>
                </a:solidFill>
                <a:latin typeface="Arial"/>
              </a:rPr>
              <a:t>Мост через Се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620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4483440" y="357120"/>
            <a:ext cx="465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20b6"/>
                </a:solidFill>
                <a:latin typeface="Arial"/>
              </a:rPr>
              <a:t>1887, Фонд Винсента ван Гог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20b6"/>
                </a:solidFill>
                <a:latin typeface="Arial"/>
              </a:rPr>
              <a:t>Амстер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1143000" y="1214280"/>
            <a:ext cx="716760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7"/>
          <p:cNvSpPr/>
          <p:nvPr/>
        </p:nvSpPr>
        <p:spPr>
          <a:xfrm>
            <a:off x="428760" y="28584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620b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20b6"/>
                </a:solidFill>
                <a:latin typeface="Arial"/>
              </a:rPr>
              <a:t>Всемирно известный нидерландский художник-постимпрессион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428760" y="1714680"/>
            <a:ext cx="3929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620b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20b6"/>
                </a:solidFill>
                <a:latin typeface="Arial"/>
              </a:rPr>
              <a:t>Родился 30 марта 1853 года в городе Грот-Зюндерт, Нидерланды. Прожил 37 лет. Основные жанры его работ – портрет, пейзаж и натюрморт в стиле постимпрессио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C:\Documents and Settings\Admin\Рабочий стол\451px-Van_Gogh_self_portrait_as_an_artist.jpg"/>
          <p:cNvPicPr/>
          <p:nvPr/>
        </p:nvPicPr>
        <p:blipFill>
          <a:blip r:embed="rId1"/>
          <a:stretch/>
        </p:blipFill>
        <p:spPr>
          <a:xfrm>
            <a:off x="4786200" y="1428840"/>
            <a:ext cx="3889440" cy="516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C:\Documents and Settings\Admin\Рабочий стол\477px-VanGogh_1887_Selbstbildnis.jpg"/>
          <p:cNvPicPr/>
          <p:nvPr/>
        </p:nvPicPr>
        <p:blipFill>
          <a:blip r:embed="rId2"/>
          <a:stretch/>
        </p:blipFill>
        <p:spPr>
          <a:xfrm>
            <a:off x="4786200" y="1357200"/>
            <a:ext cx="417672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C:\Documents and Settings\Admin\Рабочий стол\479px-Vincent_Willem_van_Gogh_128.jpg"/>
          <p:cNvPicPr/>
          <p:nvPr/>
        </p:nvPicPr>
        <p:blipFill>
          <a:blip r:embed="rId1"/>
          <a:stretch/>
        </p:blipFill>
        <p:spPr>
          <a:xfrm>
            <a:off x="142920" y="285840"/>
            <a:ext cx="5027400" cy="62863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8"/>
          <p:cNvSpPr/>
          <p:nvPr/>
        </p:nvSpPr>
        <p:spPr>
          <a:xfrm>
            <a:off x="5572080" y="214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20b6"/>
                </a:solidFill>
                <a:latin typeface="Arial"/>
              </a:rPr>
              <a:t>Подсолнух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0"/>
          <p:cNvSpPr/>
          <p:nvPr/>
        </p:nvSpPr>
        <p:spPr>
          <a:xfrm>
            <a:off x="5929200" y="2071800"/>
            <a:ext cx="247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20b6"/>
                </a:solidFill>
                <a:latin typeface="Arial"/>
              </a:rPr>
              <a:t>1888, Новая Пинакотека, Мюнх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C:\Documents and Settings\Admin\Рабочий стол\VanGogh-Irises_2.jpg"/>
          <p:cNvPicPr/>
          <p:nvPr/>
        </p:nvPicPr>
        <p:blipFill>
          <a:blip r:embed="rId1"/>
          <a:stretch/>
        </p:blipFill>
        <p:spPr>
          <a:xfrm>
            <a:off x="1071720" y="928800"/>
            <a:ext cx="732456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3584520" y="0"/>
            <a:ext cx="222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620b6"/>
                </a:solidFill>
                <a:latin typeface="Arial"/>
              </a:rPr>
              <a:t>Ири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1438200" y="430200"/>
            <a:ext cx="27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20b6"/>
                </a:solidFill>
                <a:latin typeface="Arial"/>
              </a:rPr>
              <a:t>Зимород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135760" y="5718240"/>
            <a:ext cx="399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20b6"/>
                </a:solidFill>
                <a:latin typeface="Arial"/>
              </a:rPr>
              <a:t>1886 г., 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20b6"/>
                </a:solidFill>
                <a:latin typeface="Arial"/>
              </a:rPr>
              <a:t>Ван Гога, Амстерд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C:\Documents and Settings\Admin\Рабочий стол\905.jpg"/>
          <p:cNvPicPr/>
          <p:nvPr/>
        </p:nvPicPr>
        <p:blipFill>
          <a:blip r:embed="rId1"/>
          <a:stretch/>
        </p:blipFill>
        <p:spPr>
          <a:xfrm>
            <a:off x="1285920" y="1038240"/>
            <a:ext cx="664200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13840" y="285840"/>
            <a:ext cx="418644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620b6"/>
                </a:solidFill>
                <a:latin typeface="Arial"/>
              </a:rPr>
              <a:t>Звездная ноч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Admin\Рабочий стол\751px-VanGogh-starry_night.jpg"/>
          <p:cNvPicPr/>
          <p:nvPr/>
        </p:nvPicPr>
        <p:blipFill>
          <a:blip r:embed="rId1"/>
          <a:stretch/>
        </p:blipFill>
        <p:spPr>
          <a:xfrm>
            <a:off x="1500120" y="1214280"/>
            <a:ext cx="6858000" cy="54784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4357800" y="285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20b6"/>
                </a:solidFill>
                <a:latin typeface="Arial"/>
              </a:rPr>
              <a:t>Музей современного искусства, Нью-Йорк, 18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85480" y="2500200"/>
            <a:ext cx="325764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20b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620b6"/>
                </a:solidFill>
                <a:latin typeface="Arial"/>
              </a:rPr>
              <a:t>Кроллер-Мюллер музей, Нидерланды, 18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Admin\Рабочий стол\478px-Vincent_Willem_van_Gogh_015.jpg"/>
          <p:cNvPicPr/>
          <p:nvPr/>
        </p:nvPicPr>
        <p:blipFill>
          <a:blip r:embed="rId1"/>
          <a:stretch/>
        </p:blipFill>
        <p:spPr>
          <a:xfrm>
            <a:off x="3786120" y="142920"/>
            <a:ext cx="5124600" cy="64324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300960" y="285840"/>
            <a:ext cx="327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20b6"/>
                </a:solidFill>
                <a:latin typeface="Arial"/>
              </a:rPr>
              <a:t>Ноч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20b6"/>
                </a:solidFill>
                <a:latin typeface="Arial"/>
              </a:rPr>
              <a:t>терраса-каф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2"/>
          <p:cNvSpPr/>
          <p:nvPr/>
        </p:nvSpPr>
        <p:spPr>
          <a:xfrm>
            <a:off x="1934640" y="0"/>
            <a:ext cx="47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20b6"/>
                </a:solidFill>
                <a:latin typeface="Arial"/>
              </a:rPr>
              <a:t>Розовые розы, 18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Documents and Settings\Admin\Рабочий стол\Pink_Roses_van_Gogh.jpg"/>
          <p:cNvPicPr/>
          <p:nvPr/>
        </p:nvPicPr>
        <p:blipFill>
          <a:blip r:embed="rId1"/>
          <a:stretch/>
        </p:blipFill>
        <p:spPr>
          <a:xfrm>
            <a:off x="928800" y="714240"/>
            <a:ext cx="745308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71360" y="142560"/>
            <a:ext cx="58575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20b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620b6"/>
                </a:solidFill>
                <a:latin typeface="Arial"/>
              </a:rPr>
              <a:t>Прогулка заключе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Documents and Settings\Admin\Рабочий стол\477px-Vincent_Willem_van_Gogh_037.jpg"/>
          <p:cNvPicPr/>
          <p:nvPr/>
        </p:nvPicPr>
        <p:blipFill>
          <a:blip r:embed="rId1"/>
          <a:stretch/>
        </p:blipFill>
        <p:spPr>
          <a:xfrm>
            <a:off x="3714840" y="642960"/>
            <a:ext cx="4786200" cy="60102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364320" y="164304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20b6"/>
                </a:solidFill>
                <a:latin typeface="Arial"/>
              </a:rPr>
              <a:t>Музей и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20b6"/>
                </a:solidFill>
                <a:latin typeface="Arial"/>
              </a:rPr>
              <a:t>Пушки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20b6"/>
                </a:solidFill>
                <a:latin typeface="Arial"/>
              </a:rPr>
              <a:t>Москва, 18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7:54:59Z</dcterms:created>
  <dc:creator>1</dc:creator>
  <dc:description/>
  <dc:language>en-US</dc:language>
  <cp:lastModifiedBy>Кыс-Кыска</cp:lastModifiedBy>
  <dcterms:modified xsi:type="dcterms:W3CDTF">2017-06-04T12:53:38Z</dcterms:modified>
  <cp:revision>24</cp:revision>
  <dc:subject/>
  <dc:title>Живопись Ван Гога</dc:title>
</cp:coreProperties>
</file>