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E10-08A0-4505-852A-6327B36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B64-9664-4F4A-996D-03E2ABA8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E5A-98AF-4C9A-BC31-E3CEB5F5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3EC-5BA8-4EEE-B8D0-9D48465D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37E-DB60-4255-9356-0C61289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138-7412-4F0B-9107-F90AF28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9F6-48F3-4A17-A7C4-B799046D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4E8-0E01-4DB8-AD31-786B473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EF0-A566-467F-A30B-72C2A058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7B0-37AC-4623-8E2A-7F603C54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B86-4505-439D-9471-C17FB4D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CEA-0B85-4424-9AC9-9479DEF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164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32A-5382-4B8E-948E-49AF26934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901800" y="1390680"/>
            <a:ext cx="7626240" cy="25527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643720" y="5715000"/>
            <a:ext cx="324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142920"/>
            <a:ext cx="40006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ртрет Доктора 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497px-Vincent_Willem_van_Gogh_090.jpg"/>
          <p:cNvPicPr/>
          <p:nvPr/>
        </p:nvPicPr>
        <p:blipFill>
          <a:blip r:embed="rId1"/>
          <a:stretch/>
        </p:blipFill>
        <p:spPr>
          <a:xfrm>
            <a:off x="3714840" y="214200"/>
            <a:ext cx="5234040" cy="6309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57120" y="171468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1889, Муз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имени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142560"/>
            <a:ext cx="3328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Ночное каф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0_185f2_a6772ac3_XL.jpg"/>
          <p:cNvPicPr/>
          <p:nvPr/>
        </p:nvPicPr>
        <p:blipFill>
          <a:blip r:embed="rId1"/>
          <a:stretch/>
        </p:blipFill>
        <p:spPr>
          <a:xfrm>
            <a:off x="1643040" y="785880"/>
            <a:ext cx="7215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6840" y="274680"/>
            <a:ext cx="5614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1"/>
          <p:cNvSpPr/>
          <p:nvPr/>
        </p:nvSpPr>
        <p:spPr>
          <a:xfrm>
            <a:off x="500040" y="214200"/>
            <a:ext cx="56055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Дорожные рабо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r_pic.jpg"/>
          <p:cNvPicPr/>
          <p:nvPr/>
        </p:nvPicPr>
        <p:blipFill>
          <a:blip r:embed="rId1"/>
          <a:stretch/>
        </p:blipFill>
        <p:spPr>
          <a:xfrm>
            <a:off x="1500120" y="857160"/>
            <a:ext cx="7072560" cy="5567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07520" y="-1839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ущие ветки кашт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6760" y="142560"/>
            <a:ext cx="58294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Цветущие ветки каш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Admin\Рабочий стол\stolenpicture_15.jpg"/>
          <p:cNvPicPr/>
          <p:nvPr/>
        </p:nvPicPr>
        <p:blipFill>
          <a:blip r:embed="rId1"/>
          <a:stretch/>
        </p:blipFill>
        <p:spPr>
          <a:xfrm>
            <a:off x="1571760" y="847800"/>
            <a:ext cx="7385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285840"/>
            <a:ext cx="44006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Церковь в Ове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3857760" y="190440"/>
            <a:ext cx="5110200" cy="6429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85840" y="150012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9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Музей Орс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Пари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320"/>
            <a:ext cx="37576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ле с ма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010760" y="214200"/>
            <a:ext cx="47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1889, Художественная галере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Бре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857160" y="1000080"/>
            <a:ext cx="7358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74320"/>
            <a:ext cx="41860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Мост через С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620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483440" y="35712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1887, Фонд Винсента ван Го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20b6"/>
                </a:solidFill>
                <a:latin typeface="Arial"/>
              </a:rPr>
              <a:t>Амстер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67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7"/>
          <p:cNvSpPr/>
          <p:nvPr/>
        </p:nvSpPr>
        <p:spPr>
          <a:xfrm>
            <a:off x="428760" y="285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20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Всемирно известный нидерландский художник-постимпрессио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428760" y="171468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20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Родился 30 марта 1853 года в городе Грот-Зюндерт, Нидерланды. Прожил 37 лет. Основные жанры его работ – портрет, пейзаж и натюрморт в стиле постимпрессио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C:\Documents and Settings\Admin\Рабочий стол\451px-Van_Gogh_self_portrait_as_an_artist.jpg"/>
          <p:cNvPicPr/>
          <p:nvPr/>
        </p:nvPicPr>
        <p:blipFill>
          <a:blip r:embed="rId1"/>
          <a:stretch/>
        </p:blipFill>
        <p:spPr>
          <a:xfrm>
            <a:off x="4786200" y="1428840"/>
            <a:ext cx="3889440" cy="516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Documents and Settings\Admin\Рабочий стол\477px-VanGogh_1887_Selbstbildnis.jpg"/>
          <p:cNvPicPr/>
          <p:nvPr/>
        </p:nvPicPr>
        <p:blipFill>
          <a:blip r:embed="rId2"/>
          <a:stretch/>
        </p:blipFill>
        <p:spPr>
          <a:xfrm>
            <a:off x="4786200" y="1357200"/>
            <a:ext cx="417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Documents and Settings\Admin\Рабочий стол\479px-Vincent_Willem_van_Gogh_128.jpg"/>
          <p:cNvPicPr/>
          <p:nvPr/>
        </p:nvPicPr>
        <p:blipFill>
          <a:blip r:embed="rId1"/>
          <a:stretch/>
        </p:blipFill>
        <p:spPr>
          <a:xfrm>
            <a:off x="142920" y="285840"/>
            <a:ext cx="5027400" cy="62863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8"/>
          <p:cNvSpPr/>
          <p:nvPr/>
        </p:nvSpPr>
        <p:spPr>
          <a:xfrm>
            <a:off x="5572080" y="214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Подсолну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5929200" y="2071800"/>
            <a:ext cx="247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88, Новая Пинакотека, Мюнх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Documents and Settings\Admin\Рабочий стол\VanGogh-Irises_2.jpg"/>
          <p:cNvPicPr/>
          <p:nvPr/>
        </p:nvPicPr>
        <p:blipFill>
          <a:blip r:embed="rId1"/>
          <a:stretch/>
        </p:blipFill>
        <p:spPr>
          <a:xfrm>
            <a:off x="1071720" y="928800"/>
            <a:ext cx="73245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3584520" y="0"/>
            <a:ext cx="22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620b6"/>
                </a:solidFill>
                <a:latin typeface="Arial"/>
              </a:rPr>
              <a:t>Ири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1438200" y="43020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Зиморо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135760" y="571824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1886 г.,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20b6"/>
                </a:solidFill>
                <a:latin typeface="Arial"/>
              </a:rPr>
              <a:t>Ван Гога, Амстерд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Documents and Settings\Admin\Рабочий стол\905.jpg"/>
          <p:cNvPicPr/>
          <p:nvPr/>
        </p:nvPicPr>
        <p:blipFill>
          <a:blip r:embed="rId1"/>
          <a:stretch/>
        </p:blipFill>
        <p:spPr>
          <a:xfrm>
            <a:off x="1285920" y="1038240"/>
            <a:ext cx="6642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3840" y="285840"/>
            <a:ext cx="418644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620b6"/>
                </a:solidFill>
                <a:latin typeface="Arial"/>
              </a:rPr>
              <a:t>Звездная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751px-VanGogh-starry_night.jpg"/>
          <p:cNvPicPr/>
          <p:nvPr/>
        </p:nvPicPr>
        <p:blipFill>
          <a:blip r:embed="rId1"/>
          <a:stretch/>
        </p:blipFill>
        <p:spPr>
          <a:xfrm>
            <a:off x="1500120" y="1214280"/>
            <a:ext cx="6858000" cy="5478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357800" y="285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узей современного искусства, Нью-Йорк, 1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480" y="2500200"/>
            <a:ext cx="32576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Кроллер-Мюллер музей, Нидерланды, 18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478px-Vincent_Willem_van_Gogh_015.jpg"/>
          <p:cNvPicPr/>
          <p:nvPr/>
        </p:nvPicPr>
        <p:blipFill>
          <a:blip r:embed="rId1"/>
          <a:stretch/>
        </p:blipFill>
        <p:spPr>
          <a:xfrm>
            <a:off x="3786120" y="142920"/>
            <a:ext cx="5124600" cy="6432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300960" y="285840"/>
            <a:ext cx="32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Ноч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терраса-каф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1934640" y="0"/>
            <a:ext cx="47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20b6"/>
                </a:solidFill>
                <a:latin typeface="Arial"/>
              </a:rPr>
              <a:t>Розовые розы, 18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Pink_Roses_van_Gogh.jpg"/>
          <p:cNvPicPr/>
          <p:nvPr/>
        </p:nvPicPr>
        <p:blipFill>
          <a:blip r:embed="rId1"/>
          <a:stretch/>
        </p:blipFill>
        <p:spPr>
          <a:xfrm>
            <a:off x="928800" y="714240"/>
            <a:ext cx="7453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71360" y="142560"/>
            <a:ext cx="58575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620b6"/>
                </a:solidFill>
                <a:latin typeface="Arial"/>
              </a:rPr>
              <a:t>Прогулка заключ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Admin\Рабочий стол\477px-Vincent_Willem_van_Gogh_037.jpg"/>
          <p:cNvPicPr/>
          <p:nvPr/>
        </p:nvPicPr>
        <p:blipFill>
          <a:blip r:embed="rId1"/>
          <a:stretch/>
        </p:blipFill>
        <p:spPr>
          <a:xfrm>
            <a:off x="3714840" y="642960"/>
            <a:ext cx="4786200" cy="6010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64320" y="164304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узей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Пушк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20b6"/>
                </a:solidFill>
                <a:latin typeface="Arial"/>
              </a:rPr>
              <a:t>Москва,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7:54:59Z</dcterms:created>
  <dc:creator>1</dc:creator>
  <dc:description/>
  <dc:language>en-US</dc:language>
  <cp:lastModifiedBy>Кыс-Кыска</cp:lastModifiedBy>
  <dcterms:modified xsi:type="dcterms:W3CDTF">2017-06-04T12:53:38Z</dcterms:modified>
  <cp:revision>24</cp:revision>
  <dc:subject/>
  <dc:title>Живопись Ван Гога</dc:title>
</cp:coreProperties>
</file>