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chimes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FD509-39B8-4B4C-A36F-3516B1599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D63C9-24A3-43E7-A9A3-8B89A7B4D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94D40-2F6A-4A1C-A302-F508AAC88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50DE6-75ED-4ECA-825C-97172CEB9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D1014-E26B-4565-B794-3747291B6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C8FC8-DD90-4B1A-BEE0-4B996BD9C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8D4FB-92C2-4FB0-9197-554921084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2134B-D587-486F-A9F1-E7DD2A5A1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F3791-4992-401B-A472-F2B48610F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685800" y="1767960"/>
            <a:ext cx="7772400" cy="80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93983-9970-463B-A6D6-B63030DAC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25884-A20B-4069-B5FA-9B795F6A2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20D78-C168-4C9E-B057-980319174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8F6CE-7CC5-4F79-97A8-7875596A8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5DCD4-32C5-4EFC-9116-F1D0F499E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0BD13-A0EF-42AC-B39B-ECBFD2E0E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55036-CDD6-4847-8A7D-7CE30F997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8A94A-AD8A-49A6-B492-A473B4CF6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80991-684C-4E86-8E94-F3A0056B3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9A06E-C176-40A1-ACB3-F47CE286E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CCB70-A12C-410D-9C88-EC7693A6D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685800" y="1767960"/>
            <a:ext cx="7772400" cy="80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C55A3-F411-4ED0-BA39-0EC7559DD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076BB-BC65-434F-813C-4AC64063A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AA66A-BFE7-45D1-A89D-0EB544F54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12B98-3402-43C0-ABBB-AE44E6C59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940CD-D6E4-443C-88E2-E833DEAE4C94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A93F5-E439-4249-A7E2-205308E12606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b9efee"/>
              </a:buClr>
              <a:buFont typeface="Garamond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ccff66"/>
              </a:buClr>
              <a:buFont typeface="Garamond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250920" y="476280"/>
            <a:ext cx="8713800" cy="548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ButtonPour">
              <a:avLst>
                <a:gd name="adj1" fmla="val 10800000"/>
                <a:gd name="adj2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000080"/>
                </a:solidFill>
                <a:latin typeface="Impact"/>
              </a:rPr>
              <a:t>Языковой портфель ученика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000080"/>
              </a:solidFill>
              <a:latin typeface="Impact"/>
              <a:ea typeface="Impact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2700360" y="2708280"/>
            <a:ext cx="3240000" cy="280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91520" cy="35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В 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досье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учащийся собирает весь материал, свидетельствующий о его успехах в овладении языками. Это могут быть работы, выполненные им самостоятельно на уроке (контрольные работы, тесты, сочинения и т. п.), дома, на внеклассных занятиях (проекты, рефераты, доклады, дипломы, сертификаты, свидетельства), подтверждающие достижения пользователя портфеля в изучении языка.</a:t>
            </a:r>
            <a:endParaRPr b="1" lang="en-US" sz="2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4132440"/>
            <a:ext cx="8229600" cy="196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Отбор может проводиться в течение одного года или одной четверти на протяжении всех лет обучения.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0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53964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Портфель или отдельные работы предваряются комментарием ученика о том, почему он считает необходимым отобрать именно эти работы (желательно, чтобы все комментарии выполнялись на иностранном языке, начиная с одной - двух коротких фраз, постепенно расширяя и углубляя их). Главное в такой работе – самооценка учащегося в виде рассуждения, аргументации, обоснования.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7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Times New Roman"/>
              </a:rPr>
              <a:t>I </a:t>
            </a:r>
            <a:r>
              <a:rPr b="1" lang="ru-RU" sz="4400" spc="-1" strike="noStrike">
                <a:solidFill>
                  <a:srgbClr val="b9efee"/>
                </a:solidFill>
                <a:latin typeface="Times New Roman"/>
              </a:rPr>
              <a:t>часть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395280" y="1197000"/>
          <a:ext cx="8229600" cy="51148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данные об учащемс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1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инструкция по использованию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1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языки, которые знают в моей семь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где я учусь/училс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языки, которые я изуча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ид школ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ребывание за рубежом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общеевропейский международный проек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языковое обучение (билингвальное обучение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Times New Roman"/>
              </a:rPr>
              <a:t>II </a:t>
            </a:r>
            <a:r>
              <a:rPr b="1" lang="ru-RU" sz="4400" spc="-1" strike="noStrike">
                <a:solidFill>
                  <a:srgbClr val="b9efee"/>
                </a:solidFill>
                <a:latin typeface="Times New Roman"/>
              </a:rPr>
              <a:t>часть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4000" spc="-1" strike="noStrike">
                <a:solidFill>
                  <a:srgbClr val="ffffff"/>
                </a:solidFill>
                <a:latin typeface="Times New Roman"/>
              </a:rPr>
              <a:t>Бортжурнал-путешествие                                                   по годам обучения</a:t>
            </a: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ФИО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Дата рождения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Место рождения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Национальность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500"/>
                            </p:stCondLst>
                            <p:childTnLst>
                              <p:par>
                                <p:cTn id="17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0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1000"/>
                            </p:stCondLst>
                            <p:childTnLst>
                              <p:par>
                                <p:cTn id="182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4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1500"/>
                            </p:stCondLst>
                            <p:childTnLst>
                              <p:par>
                                <p:cTn id="18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8" dur="5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2000"/>
                            </p:stCondLst>
                            <p:childTnLst>
                              <p:par>
                                <p:cTn id="19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2" dur="5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2500"/>
                            </p:stCondLst>
                            <p:childTnLst>
                              <p:par>
                                <p:cTn id="19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6" dur="5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468360" y="981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Что я уже хорошо умею или как я сам оцениваю свои успехи в усвоении языка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Графа умею (сам) / не умею (сам)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Контрольный лист для самооценки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                                   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( по уровням )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Информация о важном языковом опыте и опыте межкультурного общения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Участие в общеевропейских проектах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5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1500"/>
                            </p:stCondLst>
                            <p:childTnLst>
                              <p:par>
                                <p:cTn id="21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2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685800" y="304920"/>
            <a:ext cx="7620120" cy="46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b9efee"/>
                </a:solidFill>
                <a:latin typeface="Times New Roman"/>
              </a:rPr>
              <a:t>III</a:t>
            </a:r>
            <a:r>
              <a:rPr b="1" lang="ru-RU" sz="4400" spc="-1" strike="noStrike">
                <a:solidFill>
                  <a:srgbClr val="b9efee"/>
                </a:solidFill>
                <a:latin typeface="Times New Roman"/>
              </a:rPr>
              <a:t> часть.  </a:t>
            </a:r>
            <a:br>
              <a:rPr sz="4400"/>
            </a:br>
            <a:r>
              <a:rPr b="1" lang="ru-RU" sz="4400" spc="-1" strike="noStrike">
                <a:solidFill>
                  <a:srgbClr val="b9efee"/>
                </a:solidFill>
                <a:latin typeface="Times New Roman"/>
              </a:rPr>
              <a:t> Практические примеры моих  достижений в изучении языков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0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3" name=""/>
          <p:cNvGraphicFramePr/>
          <p:nvPr/>
        </p:nvGraphicFramePr>
        <p:xfrm>
          <a:off x="395280" y="404640"/>
          <a:ext cx="8229600" cy="6156360"/>
        </p:xfrm>
        <a:graphic>
          <a:graphicData uri="http://schemas.openxmlformats.org/drawingml/2006/table">
            <a:tbl>
              <a:tblPr/>
              <a:tblGrid>
                <a:gridCol w="1219320"/>
                <a:gridCol w="2438280"/>
                <a:gridCol w="2514600"/>
                <a:gridCol w="20574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 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уровень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I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уровень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II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уровень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72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А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ри медленной речи понимаю простые предложения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онимаю простые предложения, часто употребляю слова из повседневной жизни. Почти полностью могу понять простое общение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Могу понять основные мысли если со мной говорят медленно. Могу слушать и понимать некоторые радиопередач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72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Ч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Могу различать отдельные имена, понимаю отдельные слова, надписи на плакатах, рекламу, объявления, подписи к рисункам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онимаю очень короткий и простой текст. Могу найти нужную информацию в короткой записке, рекламе…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Могу понять текст, короткий рассказ, описание событий, желаний и чувств в письме.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762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Г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Могу немного общаться с теми, кто говорит медленно и повторяет высказывание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Могу обменяться информацией по известным мне темам: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«Друзья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«Семья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«Школа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«Каникулы», и.т.д.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Могу обменяться репликами при встрече с иностранцем. Могу спросить дорогу, сделать покупки, и.т.д.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59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Умею писать буквы и простые буквосочетания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Умею письменно ответить на вопросы, выполнять простые упражнения на письмо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Могу написать письмо/открытку зарубежному другу. Умею делать тезисы к прочитанному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0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"/>
          <p:cNvGrpSpPr/>
          <p:nvPr/>
        </p:nvGrpSpPr>
        <p:grpSpPr>
          <a:xfrm>
            <a:off x="457200" y="476280"/>
            <a:ext cx="8228520" cy="5617800"/>
            <a:chOff x="457200" y="476280"/>
            <a:chExt cx="8228520" cy="5617800"/>
          </a:xfrm>
        </p:grpSpPr>
        <p:cxnSp>
          <p:nvCxnSpPr>
            <p:cNvPr id="145" name="_s25608"/>
            <p:cNvCxnSpPr>
              <a:stCxn id="146" idx="0"/>
              <a:endCxn id="147" idx="1"/>
            </p:cNvCxnSpPr>
            <p:nvPr/>
          </p:nvCxnSpPr>
          <p:spPr>
            <a:xfrm flipV="1" rot="16200000">
              <a:off x="5117040" y="2176920"/>
              <a:ext cx="1124280" cy="2215440"/>
            </a:xfrm>
            <a:prstGeom prst="bentConnector3">
              <a:avLst>
                <a:gd name="adj1" fmla="val 11915"/>
              </a:avLst>
            </a:prstGeom>
            <a:ln w="9360">
              <a:solidFill>
                <a:srgbClr val="ffffff"/>
              </a:solidFill>
              <a:miter/>
            </a:ln>
          </p:spPr>
        </p:cxnSp>
        <p:cxnSp>
          <p:nvCxnSpPr>
            <p:cNvPr id="148" name="_s25609"/>
            <p:cNvCxnSpPr>
              <a:stCxn id="149" idx="0"/>
              <a:endCxn id="147" idx="0"/>
            </p:cNvCxnSpPr>
            <p:nvPr/>
          </p:nvCxnSpPr>
          <p:spPr>
            <a:xfrm flipH="1" flipV="1" rot="5400000">
              <a:off x="2901240" y="2176920"/>
              <a:ext cx="1124280" cy="2216160"/>
            </a:xfrm>
            <a:prstGeom prst="bentConnector3">
              <a:avLst>
                <a:gd name="adj1" fmla="val 11915"/>
              </a:avLst>
            </a:prstGeom>
            <a:ln w="9360">
              <a:solidFill>
                <a:srgbClr val="ffffff"/>
              </a:solidFill>
              <a:miter/>
            </a:ln>
          </p:spPr>
        </p:cxnSp>
        <p:sp>
          <p:nvSpPr>
            <p:cNvPr id="147" name="_s25610"/>
            <p:cNvSpPr/>
            <p:nvPr/>
          </p:nvSpPr>
          <p:spPr>
            <a:xfrm>
              <a:off x="2673000" y="476280"/>
              <a:ext cx="3797640" cy="224712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33cccc"/>
                </a:gs>
                <a:gs pos="50000">
                  <a:srgbClr val="006666"/>
                </a:gs>
                <a:gs pos="100000">
                  <a:srgbClr val="33cccc"/>
                </a:gs>
              </a:gsLst>
              <a:lin ang="8100000"/>
            </a:gradFill>
            <a:ln w="324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ffffff"/>
                  </a:solidFill>
                  <a:latin typeface="Garamond"/>
                </a:rPr>
                <a:t>Функции</a:t>
              </a:r>
              <a:endParaRPr b="0" lang="en-US" sz="3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ffffff"/>
                  </a:solidFill>
                  <a:latin typeface="Garamond"/>
                </a:rPr>
                <a:t> </a:t>
              </a:r>
              <a:r>
                <a:rPr b="1" lang="en-US" sz="3100" spc="-1" strike="noStrike">
                  <a:solidFill>
                    <a:srgbClr val="ffffff"/>
                  </a:solidFill>
                  <a:latin typeface="Garamond"/>
                </a:rPr>
                <a:t>языкового</a:t>
              </a:r>
              <a:endParaRPr b="0" lang="en-US" sz="3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ffffff"/>
                  </a:solidFill>
                  <a:latin typeface="Garamond"/>
                </a:rPr>
                <a:t> </a:t>
              </a:r>
              <a:r>
                <a:rPr b="1" lang="en-US" sz="3100" spc="-1" strike="noStrike">
                  <a:solidFill>
                    <a:srgbClr val="ffffff"/>
                  </a:solidFill>
                  <a:latin typeface="Garamond"/>
                </a:rPr>
                <a:t>портфеля</a:t>
              </a:r>
              <a:endParaRPr b="0" lang="en-US" sz="3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_s25611"/>
            <p:cNvSpPr/>
            <p:nvPr/>
          </p:nvSpPr>
          <p:spPr>
            <a:xfrm>
              <a:off x="457200" y="3846960"/>
              <a:ext cx="3797640" cy="224712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6ab475"/>
                </a:gs>
                <a:gs pos="50000">
                  <a:srgbClr val="006666"/>
                </a:gs>
                <a:gs pos="100000">
                  <a:srgbClr val="6ab475"/>
                </a:gs>
              </a:gsLst>
              <a:lin ang="8100000"/>
            </a:gradFill>
            <a:ln w="3240">
              <a:solidFill>
                <a:srgbClr val="6ab4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Garamond"/>
                </a:rPr>
                <a:t>Социальная 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_s25612"/>
            <p:cNvSpPr/>
            <p:nvPr/>
          </p:nvSpPr>
          <p:spPr>
            <a:xfrm>
              <a:off x="4888080" y="3846960"/>
              <a:ext cx="3797640" cy="224712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6ab475"/>
                </a:gs>
                <a:gs pos="50000">
                  <a:srgbClr val="006666"/>
                </a:gs>
                <a:gs pos="100000">
                  <a:srgbClr val="6ab475"/>
                </a:gs>
              </a:gsLst>
              <a:lin ang="8100000"/>
            </a:gradFill>
            <a:ln w="3240">
              <a:solidFill>
                <a:srgbClr val="6ab4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Garamond"/>
                </a:rPr>
                <a:t>Педагогическая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0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4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395280" y="40464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Социальная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ЕЯП демонстрирует способности владельца этого портфеля по иностранным языкам. Портфель служит в качестве приложения к аттестатам и дипломам, предоставляет дополнительную информацию и конкретные свидетельства её /его достижений в области иностранного языка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0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3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6" dur="5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Педагогическая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ЕЯП  разработан так же для того, чтобы сделать процесс обучения прозрачным для учащихся. Он помогает учащимся развивать свои мыслительные способности и самооценку. В этом случае учащиеся постепенно всё больше ощущают свою ответственность за учёбу. Эта функция соответствует задаче Совета Европы: способствовать развитию автономности учащегося в изучении языков на протяжении всей жизни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0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3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6" dur="5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39152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9efee"/>
                </a:solidFill>
                <a:latin typeface="Times New Roman"/>
              </a:rPr>
              <a:t>Языковой портфель − это инструмент самооценки и собственного познавательного, творческого труда человека, рефлексии его собственной деятельности. Это комплект документов, самостоятельных работ учащегося. Отбор материалов в «портфель» контролируется учителем.</a:t>
            </a: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 </a:t>
            </a:r>
            <a:br>
              <a:rPr sz="4400"/>
            </a:b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53964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В условиях введения профильного обучения идея языкового портфеля особенно актуальна, так как данный документ оказывается незаменимым помощником для тех, кто решил связать свою профессиональную деятельность с иностранными языками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0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3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Перспектива этого документа совершенно очевидна. Внедрение языкового портфеля в практику преподавания иностранных языков в России существенно повлияет на повышение качества изучения неродных языков. Его использование самым естественным образом ставит ученика, его межкультурный и коммуникативный опыт во главу всего образовательного процесса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0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80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26920" y="40428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Работу выполнила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68360" y="2565000"/>
            <a:ext cx="7920000" cy="30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Georgia"/>
              </a:rPr>
              <a:t>Лысенкова Н.И., учитель</a:t>
            </a:r>
            <a:r>
              <a:rPr b="0" lang="ru-RU" sz="4000" spc="-1" strike="noStrike">
                <a:solidFill>
                  <a:srgbClr val="ffffff"/>
                </a:solidFill>
                <a:latin typeface="Georgia"/>
              </a:rPr>
              <a:t> немецкого языка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Georgia"/>
              </a:rPr>
              <a:t>МОУ «Средняя школа №2»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Georgia"/>
              </a:rPr>
              <a:t>г. Луга Ленинградская область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Times New Roman"/>
              </a:rPr>
              <a:t>Для чего нужен «языковой портфель?»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Для того чтобы описывать проделанную тобой работу.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Для того чтобы описать то, что ты уже знаешь и умеешь делать на иностранном языке, а также то, что тебе хотелось бы узнать и научиться делать.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Для того чтобы показать, как ты хочешь изучать иностранный язык в дальнейшем.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42920" y="170028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Для того чтобы знать, как заполняются подобные документы. Они могут быть очень полезны для тебя при дальнейшем обучении, выборе профессии, в путешествиях и при новых знакомствах.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Для того чтобы показать твоим новым учителям в том случае, если ты перейдёшь в другой класс или в другую школу.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8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1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7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Times New Roman"/>
              </a:rPr>
              <a:t>Языковой портфель для среднего и старшего возраста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953280" y="1917360"/>
            <a:ext cx="6855120" cy="3859920"/>
            <a:chOff x="953280" y="1917360"/>
            <a:chExt cx="6855120" cy="3859920"/>
          </a:xfrm>
        </p:grpSpPr>
        <p:sp>
          <p:nvSpPr>
            <p:cNvPr id="122" name="_s4104"/>
            <p:cNvSpPr/>
            <p:nvPr/>
          </p:nvSpPr>
          <p:spPr>
            <a:xfrm>
              <a:off x="1867320" y="4036320"/>
              <a:ext cx="4680" cy="5313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_s4105"/>
            <p:cNvSpPr/>
            <p:nvPr/>
          </p:nvSpPr>
          <p:spPr>
            <a:xfrm>
              <a:off x="5523480" y="4415040"/>
              <a:ext cx="2284920" cy="136224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Garamond"/>
                </a:rPr>
                <a:t>Досье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_s4106"/>
            <p:cNvSpPr/>
            <p:nvPr/>
          </p:nvSpPr>
          <p:spPr>
            <a:xfrm flipV="1">
              <a:off x="4573080" y="2785320"/>
              <a:ext cx="0" cy="5317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_s4107"/>
            <p:cNvSpPr/>
            <p:nvPr/>
          </p:nvSpPr>
          <p:spPr>
            <a:xfrm>
              <a:off x="953280" y="1917360"/>
              <a:ext cx="2284920" cy="136224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Garamond"/>
                </a:rPr>
                <a:t>Языковой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Garamond"/>
                </a:rPr>
                <a:t>паспорт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_s4108"/>
            <p:cNvSpPr/>
            <p:nvPr/>
          </p:nvSpPr>
          <p:spPr>
            <a:xfrm>
              <a:off x="2771280" y="2924640"/>
              <a:ext cx="3505680" cy="158796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Garamond"/>
                </a:rPr>
                <a:t>Языковая биография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В </a:t>
            </a:r>
            <a:r>
              <a:rPr b="1" i="1" lang="en-US" sz="2800" spc="-1" strike="noStrike">
                <a:solidFill>
                  <a:srgbClr val="ffffff"/>
                </a:solidFill>
                <a:latin typeface="Garamond"/>
              </a:rPr>
              <a:t>паспорте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учащийся в краткой форме отражает свою коммуникативную и некоммуникативную компетенции. Речь идет обо всех неродных изучаемых им языках, экзаменах и результатах, межкультурных контактах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i="1" lang="en-US" sz="2800" spc="-1" strike="noStrike">
                <a:solidFill>
                  <a:srgbClr val="ffffff"/>
                </a:solidFill>
                <a:latin typeface="Garamond"/>
              </a:rPr>
              <a:t>Паспорт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 включает в себя следующие разделы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6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0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18864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-Языки общения в моей семье и языки, на которых говорят мои ближайшие родственники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-Где я учился/училась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-Языки, которые я изучал(-ю) в школе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-Пребывание за границей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-Проекты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-Языки обучения ( билингвальное обучение)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500"/>
                            </p:stCondLst>
                            <p:childTnLst>
                              <p:par>
                                <p:cTn id="7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"/>
                            </p:stCondLst>
                            <p:childTnLst>
                              <p:par>
                                <p:cTn id="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500"/>
                            </p:stCondLst>
                            <p:childTnLst>
                              <p:par>
                                <p:cTn id="8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000"/>
                            </p:stCondLst>
                            <p:childTnLst>
                              <p:par>
                                <p:cTn id="8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48528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b9efee"/>
                </a:solidFill>
                <a:latin typeface="Times New Roman"/>
              </a:rPr>
              <a:t>Таблицы для самооценки </a:t>
            </a:r>
            <a:br>
              <a:rPr sz="3200"/>
            </a:br>
            <a:r>
              <a:rPr b="1" lang="ru-RU" sz="3200" spc="-1" strike="noStrike">
                <a:solidFill>
                  <a:srgbClr val="b9efee"/>
                </a:solidFill>
                <a:latin typeface="Times New Roman"/>
              </a:rPr>
              <a:t>общеевропейская шкала шести уровней владения языками:</a:t>
            </a:r>
            <a:endParaRPr b="1" lang="en-US" sz="32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95280" y="2060280"/>
            <a:ext cx="8229600" cy="41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-А1-Выживани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-А2-Допороговый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-В1-Пороговый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-В2-Пороговый продвинутый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-С1-Высокий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-С2- Владение в совершенств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4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7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0" dur="5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3" dur="5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6" dur="500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9" dur="500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В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языковой биографии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содержатся цели обучения, устанавливаемые учащимся и корректируемые учителем; фиксируется динамика роста языковой компетенции учащегося; отражаются достигнутые успехи и опыт межкультурного общения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В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языковой биографии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учащийся определяет свой уровень владения изучаемым языком по таблице самооценки. Он внимательно осваивает описание коммуникативных умений в листах самооценки, затем отмечает те коммуникативные умения, которыми он, по его мнению, уже овладел, и те, которыми ему предстоит овладеть ( в типах самооценки учащийся заполняет графы 1 и 3 по изучаемому языку).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6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9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2199960"/>
            <a:ext cx="82296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В языковой биографии содержатся дескрипторы, то есть параметры, по которым уточняется и оценивается (учеником и учителем) уровень владения учащимся иностранным языком. Дескрипторы российского языкового портфеля применительно к разным видам речевой деятельности ориентированы по ситуации аутентичного межкультурного общения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9efee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b9efee"/>
                </a:solidFill>
                <a:latin typeface="Times New Roman"/>
              </a:rPr>
              <a:t>Учитель помогает учащемуся увидеть свои достижения и недостатки и наметить путь устранения последних.</a:t>
            </a: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</p:spTree>
  </p:cSld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0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4T09:44:49Z</dcterms:created>
  <dc:creator>klass</dc:creator>
  <dc:description/>
  <dc:language>en-US</dc:language>
  <cp:lastModifiedBy>Н.И</cp:lastModifiedBy>
  <dcterms:modified xsi:type="dcterms:W3CDTF">2017-06-04T10:28:20Z</dcterms:modified>
  <cp:revision>14</cp:revision>
  <dc:subject/>
  <dc:title>Слайд 1</dc:title>
</cp:coreProperties>
</file>