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5B1-E226-4B22-B1E3-7D564ED3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034-07DE-4A1C-8940-13C4631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470-0118-4A33-BF1B-760CC1A2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828-BC53-459F-9EA4-BC1BE50E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C8BF-A306-40C1-9C97-06F71969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FA9-B090-4FA1-8CC3-72D9257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82D-8878-4E75-88B0-9FD68E4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833-0EC4-4241-9FF5-10FAE3B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D32-8807-4F9D-A49C-4BD8C6DF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FE91-A564-4199-B9F7-FD5BF19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40F-9AA7-4DC2-AEEC-008E214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133-B305-4398-B395-B294924D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EA35-3EC3-433B-9B55-6C3FDA9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CB45-ADB6-4889-9765-0957DD8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3CF8-CAB6-472B-A5EE-1F6A299F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90B-9246-4CED-AFDF-04A9EC2F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B9A1-BF13-4B4A-A126-1B22D02D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630-2502-43F4-930A-A8E3EC1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611-3BEC-43EF-AAD7-D1A18C8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6BD-D7BD-4E15-A353-551DC10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5B1-A3D5-4459-B199-2964DF07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F87-0817-42CE-9AB7-A778C8B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CAF-7138-4EE9-B7B3-ED612B5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D98-A023-4CD3-A622-D1D8899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611-4F9C-4DA0-9CF2-D3E6D97630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CA0-13DA-4E22-850E-DAE62E7499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476280"/>
            <a:ext cx="871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Языковой портфель учени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сь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чащийся собирает весь материал, свидетельствующий о его успехах в овладении языками. Это могут быть работы, выполненные им самостоятельно на уроке (контрольные работы, тесты, сочинения и т. п.), дома, на внеклассных занятиях (проекты, рефераты, доклады, дипломы, сертификаты, свидетельства), подтверждающие достижения пользователя портфеля в изучении языка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132440"/>
            <a:ext cx="822960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тбор может проводиться в течение одного года или одной четверти на протяжении всех лет обуч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тфель или отдельные работы предваряются комментарием ученика о том, почему он считает необходимым отобрать именно эти работы (желательно, чтобы все комментарии выполнялись на иностранном языке, начиная с одной - двух коротких фраз, постепенно расширяя и углубляя их). Главное в такой работе – самооценка учащегося в виде рассуждения, аргументации, обоснова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ча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197000"/>
          <a:ext cx="8229600" cy="5114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об учащем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струкция по использов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и, которые знают в моей сем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де я учусь/учил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и, которые я изуч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бывание за рубеж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вропейский международный про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зыковое обучение (билингвальное обучен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ча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Бортжурнал-путешествие                                                   по годам обучения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ата ро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сто ро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циональ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я уже хорошо умею или как я сам оцениваю свои успехи в усвоении язы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фа умею (сам) / не умею (сам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трольный лист для самооценк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 по уровням 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формация о важном языковом опыте и опыте межкультурного общ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астие в общеевропейских проекта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304920"/>
            <a:ext cx="762012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III</a:t>
            </a: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 часть.  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 Практические примеры моих  достижений в изучении язы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5280" y="404640"/>
          <a:ext cx="8229600" cy="6156360"/>
        </p:xfrm>
        <a:graphic>
          <a:graphicData uri="http://schemas.openxmlformats.org/drawingml/2006/table">
            <a:tbl>
              <a:tblPr/>
              <a:tblGrid>
                <a:gridCol w="1219320"/>
                <a:gridCol w="2438280"/>
                <a:gridCol w="25146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медленной речи понимаю простые предлож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ю простые предложения, часто употребляю слова из повседневной жизни. Почти полностью могу понять простое общ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понять основные мысли если со мной говорят медленно. Могу слушать и понимать некоторые радиопереда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различать отдельные имена, понимаю отдельные слова, надписи на плакатах, рекламу, объявления, подписи к рисунк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ю очень короткий и простой текст. Могу найти нужную информацию в короткой записке, рекламе…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понять текст, короткий рассказ, описание событий, желаний и чувств в письм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немного общаться с теми, кто говорит медленно и повторяет высказыва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обменяться информацией по известным мне темам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Сем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Школ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никулы», и.т.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обменяться репликами при встрече с иностранцем. Могу спросить дорогу, сделать покупки, и.т.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ю писать буквы и простые буквосочет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ю письменно ответить на вопросы, выполнять простые упражнения на письм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 написать письмо/открытку зарубежному другу. Умею делать тезисы к прочитанном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7200" y="476280"/>
            <a:ext cx="8228520" cy="5617800"/>
            <a:chOff x="457200" y="476280"/>
            <a:chExt cx="8228520" cy="5617800"/>
          </a:xfrm>
        </p:grpSpPr>
        <p:cxnSp>
          <p:nvCxnSpPr>
            <p:cNvPr id="145" name="_s25608"/>
            <p:cNvCxnSpPr>
              <a:stCxn id="146" idx="0"/>
              <a:endCxn id="147" idx="1"/>
            </p:cNvCxnSpPr>
            <p:nvPr/>
          </p:nvCxnSpPr>
          <p:spPr>
            <a:xfrm flipV="1" rot="16200000">
              <a:off x="5117040" y="2176920"/>
              <a:ext cx="1124280" cy="2215440"/>
            </a:xfrm>
            <a:prstGeom prst="bentConnector3">
              <a:avLst>
                <a:gd name="adj1" fmla="val 1191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8" name="_s25609"/>
            <p:cNvCxnSpPr>
              <a:stCxn id="149" idx="0"/>
              <a:endCxn id="147" idx="0"/>
            </p:cNvCxnSpPr>
            <p:nvPr/>
          </p:nvCxnSpPr>
          <p:spPr>
            <a:xfrm flipH="1" flipV="1" rot="5400000">
              <a:off x="2901240" y="2176920"/>
              <a:ext cx="1124280" cy="2216160"/>
            </a:xfrm>
            <a:prstGeom prst="bentConnector3">
              <a:avLst>
                <a:gd name="adj1" fmla="val 1191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47" name="_s25610"/>
            <p:cNvSpPr/>
            <p:nvPr/>
          </p:nvSpPr>
          <p:spPr>
            <a:xfrm>
              <a:off x="2673000" y="47628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6666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Функции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языковог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портфеля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25611"/>
            <p:cNvSpPr/>
            <p:nvPr/>
          </p:nvSpPr>
          <p:spPr>
            <a:xfrm>
              <a:off x="457200" y="384696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ab475"/>
                </a:gs>
                <a:gs pos="50000">
                  <a:srgbClr val="006666"/>
                </a:gs>
                <a:gs pos="100000">
                  <a:srgbClr val="6ab475"/>
                </a:gs>
              </a:gsLst>
              <a:lin ang="8100000"/>
            </a:gradFill>
            <a:ln w="3240">
              <a:solidFill>
                <a:srgbClr val="6ab4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Социальна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5612"/>
            <p:cNvSpPr/>
            <p:nvPr/>
          </p:nvSpPr>
          <p:spPr>
            <a:xfrm>
              <a:off x="4888080" y="3846960"/>
              <a:ext cx="3797640" cy="2247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ab475"/>
                </a:gs>
                <a:gs pos="50000">
                  <a:srgbClr val="006666"/>
                </a:gs>
                <a:gs pos="100000">
                  <a:srgbClr val="6ab475"/>
                </a:gs>
              </a:gsLst>
              <a:lin ang="8100000"/>
            </a:gradFill>
            <a:ln w="3240">
              <a:solidFill>
                <a:srgbClr val="6ab4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Педагогическ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циальна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ЯП демонстрирует способности владельца этого портфеля по иностранным языкам. Портфель служит в качестве приложения к аттестатам и дипломам, предоставляет дополнительную информацию и конкретные свидетельства её /его достижений в области иностранного язы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дагогическа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ЯП  разработан так же для того, чтобы сделать процесс обучения прозрачным для учащихся. Он помогает учащимся развивать свои мыслительные способности и самооценку. В этом случае учащиеся постепенно всё больше ощущают свою ответственность за учёбу. Эта функция соответствует задаче Совета Европы: способствовать развитию автономности учащегося в изучении языков на протяжении всей жиз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Языковой портфель − это инструмент самооценки и собственного познавательного, творческого труда человека, рефлексии его собственной деятельности. Это комплект документов, самостоятельных работ учащегося. Отбор материалов в «портфель» контролируется учителем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условиях введения профильного обучения идея языкового портфеля особенно актуальна, так как данный документ оказывается незаменимым помощником для тех, кто решил связать свою профессиональную деятельность с иностранными язык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спектива этого документа совершенно очевидна. Внедрение языкового портфеля в практику преподавания иностранных языков в России существенно повлияет на повышение качества изучения неродных языков. Его использование самым естественным образом ставит ученика, его межкультурный и коммуникативный опыт во главу всего 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Работу выполнил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ысенкова Н.И., учитель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 немецкого язы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МОУ «Средняя школа №2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г. Луга Ленинградская обла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Для чего нужен «языковой портфель?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описывать проделанную тобой работ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описать то, что ты уже знаешь и умеешь делать на иностранном языке, а также то, что тебе хотелось бы узнать и научиться делать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показать, как ты хочешь изучать иностранный язык в дальнейшем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знать, как заполняются подобные документы. Они могут быть очень полезны для тебя при дальнейшем обучении, выборе профессии, в путешествиях и при новых знакомствах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ля того чтобы показать твоим новым учителям в том случае, если ты перейдёшь в другой класс или в другую школ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Times New Roman"/>
              </a:rPr>
              <a:t>Языковой портфель для среднего и старшего возрас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53280" y="1917360"/>
            <a:ext cx="6855120" cy="3859920"/>
            <a:chOff x="953280" y="1917360"/>
            <a:chExt cx="6855120" cy="3859920"/>
          </a:xfrm>
        </p:grpSpPr>
        <p:sp>
          <p:nvSpPr>
            <p:cNvPr id="122" name="_s4104"/>
            <p:cNvSpPr/>
            <p:nvPr/>
          </p:nvSpPr>
          <p:spPr>
            <a:xfrm>
              <a:off x="1867320" y="4036320"/>
              <a:ext cx="4680" cy="531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105"/>
            <p:cNvSpPr/>
            <p:nvPr/>
          </p:nvSpPr>
          <p:spPr>
            <a:xfrm>
              <a:off x="5523480" y="4415040"/>
              <a:ext cx="2284920" cy="1362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Дось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106"/>
            <p:cNvSpPr/>
            <p:nvPr/>
          </p:nvSpPr>
          <p:spPr>
            <a:xfrm flipV="1">
              <a:off x="4573080" y="2785320"/>
              <a:ext cx="0" cy="53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107"/>
            <p:cNvSpPr/>
            <p:nvPr/>
          </p:nvSpPr>
          <p:spPr>
            <a:xfrm>
              <a:off x="953280" y="1917360"/>
              <a:ext cx="2284920" cy="1362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Языково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паспор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108"/>
            <p:cNvSpPr/>
            <p:nvPr/>
          </p:nvSpPr>
          <p:spPr>
            <a:xfrm>
              <a:off x="2771280" y="2924640"/>
              <a:ext cx="3505680" cy="1587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Языковая биограф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аспорте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учащийся в краткой форме отражает свою коммуникативную и некоммуникативную компетенции. Речь идет обо всех неродных изучаемых им языках, экзаменах и результатах, межкультурных контакт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аспорт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включает в себя следующие раздел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 общения в моей семье и языки, на которых говорят мои ближайшие родственн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Где я учился/училас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, которые я изучал(-ю)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ребывание за границ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роек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Языки обучения ( билингвальное обучени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Times New Roman"/>
              </a:rPr>
              <a:t>Таблицы для самооценки 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Times New Roman"/>
              </a:rPr>
              <a:t>общеевропейская шкала шести уровней владения языкам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А1-Выжив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А2-Допор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В1-Пор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В2-Пороговый продвинут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С1-Высо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С2- Владение в совершен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зыковой биографи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одержатся цели обучения, устанавливаемые учащимся и корректируемые учителем; фиксируется динамика роста языковой компетенции учащегося; отражаются достигнутые успехи и опыт межкультурного об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зыковой биографи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учащийся определяет свой уровень владения изучаемым языком по таблице самооценки. Он внимательно осваивает описание коммуникативных умений в листах самооценки, затем отмечает те коммуникативные умения, которыми он, по его мнению, уже овладел, и те, которыми ему предстоит овладеть ( в типах самооценки учащийся заполняет графы 1 и 3 по изучаемому языку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19996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языковой биографии содержатся дескрипторы, то есть параметры, по которым уточняется и оценивается (учеником и учителем) уровень владения учащимся иностранным языком. Дескрипторы российского языкового портфеля применительно к разным видам речевой деятельности ориентированы по ситуации аутентичного межкультурного общ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b9efee"/>
                </a:solidFill>
                <a:latin typeface="Times New Roman"/>
              </a:rPr>
              <a:t>Учитель помогает учащемуся увидеть свои достижения и недостатки и наметить путь устранения последних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9:44:49Z</dcterms:created>
  <dc:creator>klass</dc:creator>
  <dc:description/>
  <dc:language>en-US</dc:language>
  <cp:lastModifiedBy>Н.И</cp:lastModifiedBy>
  <dcterms:modified xsi:type="dcterms:W3CDTF">2017-06-04T10:28:20Z</dcterms:modified>
  <cp:revision>14</cp:revision>
  <dc:subject/>
  <dc:title>Слайд 1</dc:title>
</cp:coreProperties>
</file>