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B26-0045-4687-970F-CE3D6604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F85-DEBE-4481-9377-9E4B90A5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D36-45E1-4D8C-8707-33342E8D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DD2-F056-45AA-AB01-EC492BDA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561-B523-4153-9DB9-CFC6A906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1E2-155A-4392-90F7-E72C351B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592-98AC-432F-ACAF-0562F62C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9D0-FD21-49A4-9C67-2B3DB0EF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E09-173D-480A-9A64-CD2254FE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FE0-3881-4BCA-93A6-5F87705B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579-9408-44D8-8341-4F8DD12A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137-9E92-406D-BD39-31EF1DB8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B2DA-FD4C-4DD7-8E79-FA96942E5E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-6905880"/>
            <a:ext cx="8820000" cy="142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02.12.201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зен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ка матема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 5 «В» класс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 урока: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е задач на дви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 применением регионального компонен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математики:  Гнедик А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Славься, Дон, и в наши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память вольной стар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час невзгоды – честь своб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стоят твои сы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1642320"/>
            <a:ext cx="914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урока: Продолжить формировать умения  навыки решать задачи на движения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яя формулу пути. По формуле пути находить скорость,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сообразительность, устойчивый и широкий и интерес к способам решения познавательных задач,  познавательный интерес к предме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 учащихся выполнять различные роли в группе, паре т.е. в совместном решени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щихся учить давать адекватную оценку  результатов св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ивать вним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ХОД УРО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етствие. Здорово ночевали. (Ответ. Слава бог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явление темы, цели и плана хода урока. (Совместно с учащими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Устный сч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ить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1720080"/>
            <a:ext cx="9144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Найти расстояние от п. Коксового до Каменска, если ехат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6 часов  на коне со скоростью 8 км/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V  =   8 км/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  =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6 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 - ?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Расстояние от п. Коксовый до Белой Калитвы – 12 к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п. Шолоховский до Белой Калитвы  - 46 к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колько километров п. Коксовый находится ближе к Бело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литве  чем п. Шолоховск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ояние с севера на юг Ростовской области равно 475 км, а с запада на восток равно 455 к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авить вопрос к данной задаче, что б задача решалась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rectole0000000002"/>
          <p:cNvGraphicFramePr/>
          <p:nvPr/>
        </p:nvGraphicFramePr>
        <p:xfrm>
          <a:off x="4143240" y="2379600"/>
          <a:ext cx="9144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rectole000000000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240" y="237960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170532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.Закрепление материал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айте вспомним формулу пу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ла пути.   S= Vt,    S – расстояние, V – скорос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  -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	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Решение задач на движение, использование формулы пу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74520"/>
            <a:ext cx="9144000" cy="63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ояние от Коксового до Ростова   154 км, мы ехали в Рост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 ч. С какой скоростью мы ехали в г. Ростов - на -Дону?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Москвы и Ростова -на- Дону одновременно вышл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встречу друг другу два поезда. Поезд из Москвы шел с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ю 65 км/ч, а поезд из Ростова -на-Дону –со скоростью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7 км/ч меньшей. На каком расстоянии друг от друга буду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езда через 6 ч после начала движения. Если расстоя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жду Москвой и Ростовом- на- Дону 1230 к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65 км/ч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7 км/ч мен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сква_______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1230 к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 Ростов-на Дон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станции Белая Калитва в противоположных направлениях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шли два поезда в одно и то же время. Скорость одног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езда 50 км/ч, а скорость другого поезда 70 км/ч. Како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ояние будет между ними через 5 часов посл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правления в путь?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Физкультминутка на порядок действ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67392: (3504 – 3406) + 19232 Х  60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4. д/з № 564(в), 583, 58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амостоятельная работа по карточ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(Карточ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6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рка самостоятельной работы на интерактивной дос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 вариан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 вариан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 задач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 задач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)  S= 80 х  6 = 480 (км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S =320 х 4 = 1280 (к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t = 120:5 =24 (км/ч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t = 260 : 65 = 4 (ч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 V = 60 : 15  = 4(ч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V = 210 : 3 =70(км/ч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 задач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 за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е: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 = 400 - Vt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 = 540 - V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 = 100+5 х 3 = 115(км)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 = 400 - 40 х 3 = 280 (к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115 км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280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7. Самооценка своей работы учащимис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Итог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Какую тему рассмотрели на уро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азвать формулу пу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Как найти скорость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Как найти врем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5T06:34:31Z</dcterms:created>
  <dc:creator>User</dc:creator>
  <dc:description/>
  <dc:language>en-US</dc:language>
  <cp:lastModifiedBy>User</cp:lastModifiedBy>
  <dcterms:modified xsi:type="dcterms:W3CDTF">2017-06-05T07:41:19Z</dcterms:modified>
  <cp:revision>8</cp:revision>
  <dc:subject/>
  <dc:title>Слайд 1</dc:title>
</cp:coreProperties>
</file>