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8FDC-EC69-4B1E-8AC7-5D6336D37D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9A42-015D-41C9-ADA8-87714471C70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13BC-FED9-4D4A-8699-C4F4D4E4362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B4A0B-1075-46C1-94C7-37B8DDCE7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3F33-0AD4-4D9E-8DB5-FE864B39F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3E8FC-8B22-48CF-B540-9CA8E5739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20FC7-A4E4-45F3-8B7D-951138956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7BF3-FCE9-4240-8A87-3FD8AB6E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CF35-7D42-494A-BADF-C4EC33DC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13881-F548-4122-A951-EC61EF0DD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37DCF-B60D-4FE9-8959-EB7D7D503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9A45B-38D0-4079-95EA-A91556669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7ADC-A73D-46F4-8730-E6E02955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6F6B-AC14-4E69-8B13-C32D815E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6ABA-429E-4FF7-8063-13ECF9596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156b13"/>
            </a:gs>
          </a:gsLst>
          <a:lin ang="66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CCA1-FF52-45C0-B388-BB2B9A625D2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all-biography.ru/books/ostrovskiy/groza/avtorskoe-opredelenie-zhanra-pesy" TargetMode="External"/><Relationship Id="rId2" Type="http://schemas.openxmlformats.org/officeDocument/2006/relationships/hyperlink" Target="http://all-biography.ru/books/ostrovskiy/groza/istoriya-sozdaniya-pesy-ostrovskogo"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64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ГБПОУ «Смоленский  политехнический  техникум»</a:t>
            </a:r>
            <a:br>
              <a:rPr sz="2400"/>
            </a:br>
            <a:r>
              <a:rPr b="0" lang="ru-RU" sz="2000" spc="-1" strike="noStrike">
                <a:solidFill>
                  <a:srgbClr val="000000"/>
                </a:solidFill>
                <a:latin typeface="Calibri"/>
              </a:rPr>
              <a:t> </a:t>
            </a:r>
            <a:br>
              <a:rPr sz="2000"/>
            </a:br>
            <a:r>
              <a:rPr b="0" lang="ru-RU" sz="2000" spc="-1" strike="noStrike">
                <a:solidFill>
                  <a:srgbClr val="000000"/>
                </a:solidFill>
                <a:latin typeface="Calibri"/>
              </a:rPr>
              <a:t> </a:t>
            </a:r>
            <a:br>
              <a:rPr sz="2000"/>
            </a:br>
            <a:r>
              <a:rPr b="0" lang="ru-RU" sz="2800" spc="-1" strike="noStrike">
                <a:solidFill>
                  <a:srgbClr val="000000"/>
                </a:solidFill>
                <a:latin typeface="Calibri"/>
              </a:rPr>
              <a:t>А. Н. Островский</a:t>
            </a:r>
            <a:br>
              <a:rPr sz="2000"/>
            </a:br>
            <a:br>
              <a:rPr sz="2000"/>
            </a:br>
            <a:r>
              <a:rPr b="0" lang="ru-RU" sz="3200" spc="-1" strike="noStrike">
                <a:solidFill>
                  <a:srgbClr val="000000"/>
                </a:solidFill>
                <a:latin typeface="Times New Roman"/>
                <a:ea typeface="Times New Roman"/>
              </a:rPr>
              <a:t> «</a:t>
            </a:r>
            <a:r>
              <a:rPr b="0" lang="ru-RU" sz="3200" spc="-1" strike="noStrike">
                <a:solidFill>
                  <a:srgbClr val="000000"/>
                </a:solidFill>
                <a:latin typeface="Calibri"/>
              </a:rPr>
              <a:t>Гроза</a:t>
            </a:r>
            <a:r>
              <a:rPr b="0" lang="ru-RU" sz="3200" spc="-1" strike="noStrike">
                <a:solidFill>
                  <a:srgbClr val="000000"/>
                </a:solidFill>
                <a:latin typeface="Times New Roman"/>
                <a:ea typeface="Times New Roman"/>
              </a:rPr>
              <a:t>»</a:t>
            </a:r>
            <a:br>
              <a:rPr sz="2000"/>
            </a:br>
            <a:r>
              <a:rPr b="0" lang="ru-RU" sz="2000" spc="-1" strike="noStrike">
                <a:solidFill>
                  <a:srgbClr val="000000"/>
                </a:solidFill>
                <a:latin typeface="Calibri"/>
              </a:rPr>
              <a:t> </a:t>
            </a:r>
            <a:br>
              <a:rPr sz="2000"/>
            </a:br>
            <a:br>
              <a:rPr sz="2000"/>
            </a:br>
            <a:br>
              <a:rPr sz="2000"/>
            </a:br>
            <a:br>
              <a:rPr sz="2000"/>
            </a:br>
            <a:r>
              <a:rPr b="0" lang="ru-RU" sz="2000" spc="-1" strike="noStrike">
                <a:solidFill>
                  <a:srgbClr val="000000"/>
                </a:solidFill>
                <a:latin typeface="Calibri"/>
              </a:rPr>
              <a:t> </a:t>
            </a:r>
            <a:br>
              <a:rPr sz="2000"/>
            </a:br>
            <a:r>
              <a:rPr b="0" lang="ru-RU" sz="1800" spc="-1" strike="noStrike">
                <a:solidFill>
                  <a:srgbClr val="000000"/>
                </a:solidFill>
                <a:latin typeface="Calibri"/>
              </a:rPr>
              <a:t>Выполнил  студент группы П1-16   </a:t>
            </a:r>
            <a:br>
              <a:rPr sz="1800"/>
            </a:br>
            <a:r>
              <a:rPr b="0" lang="ru-RU" sz="1800" spc="-1" strike="noStrike">
                <a:solidFill>
                  <a:srgbClr val="000000"/>
                </a:solidFill>
                <a:latin typeface="Calibri"/>
              </a:rPr>
              <a:t>Илларионов Сергей  Сергеевич</a:t>
            </a:r>
            <a:br>
              <a:rPr sz="2000"/>
            </a:br>
            <a:br>
              <a:rPr sz="2000"/>
            </a:br>
            <a:br>
              <a:rPr sz="2000"/>
            </a:br>
            <a:br>
              <a:rPr sz="2000"/>
            </a:br>
            <a:br>
              <a:rPr sz="2000"/>
            </a:br>
            <a:br>
              <a:rPr sz="2000"/>
            </a:br>
            <a:r>
              <a:rPr b="0" lang="ru-RU" sz="1800" spc="-1" strike="noStrike">
                <a:solidFill>
                  <a:srgbClr val="000000"/>
                </a:solidFill>
                <a:latin typeface="Calibri"/>
              </a:rPr>
              <a:t>г. Смоленск 2017</a:t>
            </a:r>
            <a:br>
              <a:rPr sz="2000"/>
            </a:br>
            <a:br>
              <a:rPr sz="900"/>
            </a:b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a:t>
            </a:r>
            <a:endParaRPr b="0" lang="en-US" sz="4000" spc="-1" strike="noStrike">
              <a:solidFill>
                <a:srgbClr val="000000"/>
              </a:solidFill>
              <a:latin typeface="Calibri"/>
            </a:endParaRPr>
          </a:p>
        </p:txBody>
      </p:sp>
      <p:sp>
        <p:nvSpPr>
          <p:cNvPr id="71" name=""/>
          <p:cNvSpPr txBox="1"/>
          <p:nvPr/>
        </p:nvSpPr>
        <p:spPr>
          <a:xfrm>
            <a:off x="3634920" y="692280"/>
            <a:ext cx="5257800" cy="5905440"/>
          </a:xfrm>
          <a:prstGeom prst="rect">
            <a:avLst/>
          </a:prstGeom>
          <a:noFill/>
          <a:ln w="0">
            <a:noFill/>
          </a:ln>
        </p:spPr>
        <p:txBody>
          <a:bodyPr anchor="t">
            <a:normAutofit/>
          </a:bodyPr>
          <a:p>
            <a:pPr marL="81000" indent="36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исать «Грозу» Островский начал летом 1859 года и закончил 9 октября того же года. Впервые пьеса была опубликована в журнале «Библиотека для чтения» в январском номере 1860 года. Первое представление «Грозы» на сцене состоялось 16 ноября 1859 года в малом театре в бенефис С.В. Васильева с Л.П. Никулиной - Косицкой в роли Катерины.</a:t>
            </a:r>
            <a:endParaRPr b="0" lang="en-US" sz="2800" spc="-1" strike="noStrike">
              <a:solidFill>
                <a:srgbClr val="000000"/>
              </a:solidFill>
              <a:latin typeface="Calibri"/>
            </a:endParaRPr>
          </a:p>
        </p:txBody>
      </p:sp>
      <p:pic>
        <p:nvPicPr>
          <p:cNvPr id="72" name="Picture 2" descr="56ab53906411a"/>
          <p:cNvPicPr/>
          <p:nvPr/>
        </p:nvPicPr>
        <p:blipFill>
          <a:blip r:embed="rId1"/>
          <a:stretch/>
        </p:blipFill>
        <p:spPr>
          <a:xfrm>
            <a:off x="676440" y="255600"/>
            <a:ext cx="2761920" cy="414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вторское определение жанра «Грозы»</a:t>
            </a:r>
            <a:endParaRPr b="0" lang="en-US" sz="3600" spc="-1" strike="noStrike">
              <a:solidFill>
                <a:srgbClr val="000000"/>
              </a:solidFill>
              <a:latin typeface="Calibri"/>
            </a:endParaRPr>
          </a:p>
        </p:txBody>
      </p:sp>
      <p:sp>
        <p:nvSpPr>
          <p:cNvPr id="74" name=""/>
          <p:cNvSpPr txBox="1"/>
          <p:nvPr/>
        </p:nvSpPr>
        <p:spPr>
          <a:xfrm>
            <a:off x="457200" y="1197000"/>
            <a:ext cx="8229600" cy="5472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стровский в своём творчестве придерживался реалистического метода. Это не могло не отразиться на понимании им жанра драмы. Известно, что авторское определение и определение литературоведов может несколько отличаться. Пьеса заканчивается трагично, хотя изначально Островский не предполагал подобной развязки, задумав написать «комедию». Но постепенно сюжет усложнялся, и от первоначального замысла пришлось отойти. Островский детально прорабатывал бытовой фон, типизировал других персонажей, одновременно с этим наполняя характер Катерины уникальными чертами, делая героиню более поэтичной. События пьесы бесхитростны и понятны каждому зрителю.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263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br>
              <a:rPr sz="4000"/>
            </a:br>
            <a:r>
              <a:rPr b="1" lang="ru-RU" sz="4000" spc="-1" strike="noStrike">
                <a:solidFill>
                  <a:srgbClr val="000000"/>
                </a:solidFill>
                <a:latin typeface="Calibri"/>
              </a:rPr>
              <a:t>Главные герои «Грозы» Островского</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mg6"/>
          <p:cNvPicPr/>
          <p:nvPr/>
        </p:nvPicPr>
        <p:blipFill>
          <a:blip r:embed="rId1"/>
          <a:stretch/>
        </p:blipFill>
        <p:spPr>
          <a:xfrm>
            <a:off x="0" y="0"/>
            <a:ext cx="914400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50560" y="3860640"/>
            <a:ext cx="8893080" cy="2997360"/>
          </a:xfrm>
          <a:prstGeom prst="rect">
            <a:avLst/>
          </a:prstGeom>
          <a:noFill/>
          <a:ln w="0">
            <a:noFill/>
          </a:ln>
        </p:spPr>
        <p:txBody>
          <a:bodyPr anchor="t">
            <a:normAutofit/>
          </a:bodyPr>
          <a:p>
            <a:pPr marL="343080" indent="368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обытия в драме А. Н. Островского «Гроза» разворачиваются на побережье Волги, в вымышленном городе Калинове. В произведении дан перечень действующих лиц и их краткие характеристики, но их всё же недостаточно для того, чтобы лучше понять мир каждого персонажа и раскрыть конфликт пьесы в целом. Главных героев «Грозы» Островского не так много.</a:t>
            </a:r>
            <a:endParaRPr b="0" lang="en-US" sz="2600" spc="-1" strike="noStrike">
              <a:solidFill>
                <a:srgbClr val="000000"/>
              </a:solidFill>
              <a:latin typeface="Calibri"/>
            </a:endParaRPr>
          </a:p>
          <a:p>
            <a:pPr marL="343080" indent="368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Picture 2" descr="1148770"/>
          <p:cNvPicPr/>
          <p:nvPr/>
        </p:nvPicPr>
        <p:blipFill>
          <a:blip r:embed="rId1"/>
          <a:stretch/>
        </p:blipFill>
        <p:spPr>
          <a:xfrm>
            <a:off x="1116000" y="189000"/>
            <a:ext cx="5724360" cy="35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140000" y="259920"/>
            <a:ext cx="4546440" cy="6597720"/>
          </a:xfrm>
          <a:prstGeom prst="rect">
            <a:avLst/>
          </a:prstGeom>
          <a:noFill/>
          <a:ln w="0">
            <a:noFill/>
          </a:ln>
        </p:spPr>
        <p:txBody>
          <a:bodyPr anchor="t">
            <a:normAutofit/>
          </a:bodyPr>
          <a:p>
            <a:pPr marL="84240" indent="54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Катерина, девушка, главная героиня пьесы. Она довольно молода, её рано отдали замуж. Воспитывалась Катя в точности по традициям домостроя: главными качествами жены были уважение и покорность своему супругу. Поначалу Катя старалась полюбить Тихона, но ничего, кроме жалости, не могла к нему испытать. При этом девушка старалась поддерживать своего мужа, помогать ему и не упрекать его. </a:t>
            </a:r>
            <a:endParaRPr b="0" lang="en-US" sz="2600" spc="-1" strike="noStrike">
              <a:solidFill>
                <a:srgbClr val="000000"/>
              </a:solidFill>
              <a:latin typeface="Calibri"/>
            </a:endParaRPr>
          </a:p>
          <a:p>
            <a:pPr marL="84240" indent="542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0" name="Picture 2" descr="1472-14_2"/>
          <p:cNvPicPr/>
          <p:nvPr/>
        </p:nvPicPr>
        <p:blipFill>
          <a:blip r:embed="rId1"/>
          <a:stretch/>
        </p:blipFill>
        <p:spPr>
          <a:xfrm>
            <a:off x="179280" y="476280"/>
            <a:ext cx="3821400" cy="582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82" name=""/>
          <p:cNvSpPr txBox="1"/>
          <p:nvPr/>
        </p:nvSpPr>
        <p:spPr>
          <a:xfrm>
            <a:off x="4067280" y="260280"/>
            <a:ext cx="4897440" cy="64087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Катерину можно назвать самым скромным, но при этом самым сильным персонажем «Грозы». Действительно, внешне сила характера Кати не проявляется. На первый взгляд эта девушка слаба и молчалива, кажется, будто её легко сломить. Но это совсем не так. Катерина единственная в семье, которая противостоит нападкам Кабанихи. Именно противостоит, а не игнорирует их, как Варвара. Конфликт несёт скорее внутренний характер. Ведь Кабаниха побаивается, что Катя может повлиять на её сына, после чего Тихон перестанет подчиняться воли матери.</a:t>
            </a:r>
            <a:endParaRPr b="0" lang="en-US" sz="2600" spc="-1" strike="noStrike">
              <a:solidFill>
                <a:srgbClr val="000000"/>
              </a:solidFill>
              <a:latin typeface="Calibri"/>
            </a:endParaRPr>
          </a:p>
          <a:p>
            <a:pPr indent="541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3" name="Picture 2" descr="1472-14_2"/>
          <p:cNvPicPr/>
          <p:nvPr/>
        </p:nvPicPr>
        <p:blipFill>
          <a:blip r:embed="rId1"/>
          <a:srcRect l="0" t="0" r="2965" b="0"/>
          <a:stretch/>
        </p:blipFill>
        <p:spPr>
          <a:xfrm>
            <a:off x="250920" y="260280"/>
            <a:ext cx="3708360" cy="582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259920"/>
            <a:ext cx="8229600" cy="61930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Характеристика Варвары из пьесы «Гроза»</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арвара Кабанова — сестра Тихона Кабанова и дочь Марфы Игнатьевны. Уже с первых страниц становится понятно как сильно отличаются брат и сестра. Можно сказать, что они практически противоположны: бойкая Варвара и безынициативный Тихон. Но ни того, ни другого не устраивают правила и законы, по которым приходится жить. Тихон находит утешение в выпивке, Варвара приспосабливается иначе. Удивительно, но Варвара в пьесе «Гроза» — это единственный персонаж, который приспособился. Именно приспособился, а не смирился, как Кулигин.</a:t>
            </a:r>
            <a:endParaRPr b="0" lang="en-US" sz="3000" spc="-1" strike="noStrike">
              <a:solidFill>
                <a:srgbClr val="000000"/>
              </a:solidFill>
              <a:latin typeface="Calibri"/>
            </a:endParaRPr>
          </a:p>
          <a:p>
            <a:pPr indent="5414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24000" y="333000"/>
            <a:ext cx="8362800" cy="5792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Дикого в пьесе «Гроз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икой</a:t>
            </a:r>
            <a:r>
              <a:rPr b="0" lang="ru-RU" sz="2800" spc="-1" strike="noStrike">
                <a:solidFill>
                  <a:srgbClr val="000000"/>
                </a:solidFill>
                <a:latin typeface="Calibri"/>
              </a:rPr>
              <a:t> в пьесе Островского «Гроза» полностью принадлежит «тёмному царству». Богатый купец, самый уважаемый и влиятельный человек в городе. Но одновременно с тем ужасно невежественный и жестокий. Характеристика Дикого в пьесе «Гроза» неразрывно связана с описанием нравов и привычек жителей города. Сам Калинов является вымышленным пространством, поэтому пороки распространяются до масштабов всей России. Выявив черты характера Дикого можно с лёгкостью понять ту печальную общественную ситуацию, которая сложилась в России XIX века.</a:t>
            </a:r>
            <a:endParaRPr b="0" lang="en-US" sz="2800" spc="-1" strike="noStrike">
              <a:solidFill>
                <a:srgbClr val="000000"/>
              </a:solidFill>
              <a:latin typeface="Calibri"/>
            </a:endParaRPr>
          </a:p>
          <a:p>
            <a:pPr indent="627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24000" y="333000"/>
            <a:ext cx="8362800" cy="5792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втор </a:t>
            </a:r>
            <a:r>
              <a:rPr b="1" lang="ru-RU" sz="2800" spc="-1" strike="noStrike">
                <a:solidFill>
                  <a:srgbClr val="000000"/>
                </a:solidFill>
                <a:latin typeface="Calibri"/>
              </a:rPr>
              <a:t>Дикому</a:t>
            </a:r>
            <a:r>
              <a:rPr b="0" lang="ru-RU" sz="2800" spc="-1" strike="noStrike">
                <a:solidFill>
                  <a:srgbClr val="000000"/>
                </a:solidFill>
                <a:latin typeface="Calibri"/>
              </a:rPr>
              <a:t> в «Грозе» характеристику даёт скудную: купец, значительное лицо в городе. О внешности не сказано практически ни слова. Тем не менее это колоритный образ. Фамилия персонажа говорит сама за себя. Семантическое поле «дикости» не раз упоминается в тексте произведения. В описании жизни города Калинова постоянно упоминаются пьянство, ругань и рукоприкладство, иначе говоря, дикост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795640" y="4436640"/>
            <a:ext cx="2624040" cy="1752840"/>
          </a:xfrm>
          <a:prstGeom prst="rect">
            <a:avLst/>
          </a:prstGeom>
          <a:noFill/>
          <a:ln w="0">
            <a:noFill/>
          </a:ln>
        </p:spPr>
        <p:txBody>
          <a:bodyPr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Составитель: Илларионов Сергей</a:t>
            </a:r>
            <a:r>
              <a:rPr b="0" lang="en-US" sz="3000" spc="-1" strike="noStrike">
                <a:solidFill>
                  <a:srgbClr val="898989"/>
                </a:solidFill>
                <a:latin typeface="Calibri"/>
              </a:rPr>
              <a:t> </a:t>
            </a:r>
            <a:r>
              <a:rPr b="0" lang="ru-RU" sz="3000" spc="-1" strike="noStrike">
                <a:solidFill>
                  <a:srgbClr val="898989"/>
                </a:solidFill>
                <a:latin typeface="Calibri"/>
              </a:rPr>
              <a:t>Сергеевич</a:t>
            </a:r>
            <a:endParaRPr b="0" lang="en-US" sz="3000" spc="-1" strike="noStrike">
              <a:solidFill>
                <a:srgbClr val="000000"/>
              </a:solidFill>
              <a:latin typeface="Calibri"/>
            </a:endParaRPr>
          </a:p>
        </p:txBody>
      </p:sp>
      <p:pic>
        <p:nvPicPr>
          <p:cNvPr id="50" name="Picture 2" descr="aHR0cDovL2JhYmFkdS5ydS91cGxvYWQvaWJsb2NrLzUzNi8xOS5qcGc"/>
          <p:cNvPicPr/>
          <p:nvPr/>
        </p:nvPicPr>
        <p:blipFill>
          <a:blip r:embed="rId1"/>
          <a:stretch/>
        </p:blipFill>
        <p:spPr>
          <a:xfrm>
            <a:off x="380880" y="115920"/>
            <a:ext cx="5270760" cy="659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88" name=""/>
          <p:cNvSpPr txBox="1"/>
          <p:nvPr/>
        </p:nvSpPr>
        <p:spPr>
          <a:xfrm>
            <a:off x="323640" y="333360"/>
            <a:ext cx="8569080" cy="6191280"/>
          </a:xfrm>
          <a:prstGeom prst="rect">
            <a:avLst/>
          </a:prstGeom>
          <a:noFill/>
          <a:ln w="0">
            <a:noFill/>
          </a:ln>
        </p:spPr>
        <p:txBody>
          <a:bodyPr anchor="t">
            <a:normAutofit/>
          </a:bodyPr>
          <a:p>
            <a:pPr marL="84240" indent="62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улигин</a:t>
            </a:r>
            <a:r>
              <a:rPr b="0" lang="ru-RU" sz="2800" spc="-1" strike="noStrike">
                <a:solidFill>
                  <a:srgbClr val="000000"/>
                </a:solidFill>
                <a:latin typeface="Calibri"/>
              </a:rPr>
              <a:t> вовсе не такой простой персонаж, каким может показаться на первый взгляд. Это мечтательные натуры, для которых конечный результат не будет являться счастьем. Счастье для них — путь к этому результату.</a:t>
            </a:r>
            <a:endParaRPr b="0" lang="en-US" sz="2800" spc="-1" strike="noStrike">
              <a:solidFill>
                <a:srgbClr val="000000"/>
              </a:solidFill>
              <a:latin typeface="Calibri"/>
            </a:endParaRPr>
          </a:p>
          <a:p>
            <a:pPr marL="84240" indent="62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улигин — механик-самоучка. То есть всему выучился сам. Образ и характеристика Кулигина в «Грозе» дополняется фразами из реплик других действующих лиц. Кулигину 50 лет. Кроме его увлечения механикой можно с уверенностью говорить и о высоком уровне общей эрудиции. Он цитирует Державина и Ломоносова, а значит, читал их труды, кроме того, можно говорить и о житейской мудрости: именно Кулигин советует Тихону жить своим умом, избавившись от влияния матер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90" name=""/>
          <p:cNvSpPr txBox="1"/>
          <p:nvPr/>
        </p:nvSpPr>
        <p:spPr>
          <a:xfrm>
            <a:off x="323640" y="333360"/>
            <a:ext cx="8569080" cy="6191280"/>
          </a:xfrm>
          <a:prstGeom prst="rect">
            <a:avLst/>
          </a:prstGeom>
          <a:noFill/>
          <a:ln w="0">
            <a:noFill/>
          </a:ln>
        </p:spPr>
        <p:txBody>
          <a:bodyPr anchor="t">
            <a:normAutofit/>
          </a:bodyPr>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улигин</a:t>
            </a:r>
            <a:r>
              <a:rPr b="0" lang="ru-RU" sz="2800" spc="-1" strike="noStrike">
                <a:solidFill>
                  <a:srgbClr val="000000"/>
                </a:solidFill>
                <a:latin typeface="Calibri"/>
              </a:rPr>
              <a:t> даёт советы, а не приказывает. В нём совсем нет той беспричинной животной жестокости и злости, которые есть у Дикого с Кабанихой. И лицемерия, как у Бориса, в Кулигине тоже нет. От Тихона механика отличает желание что-то делать, а от Катерины — отсутствие активного протеста.</a:t>
            </a:r>
            <a:endParaRPr b="0" lang="en-US" sz="2800" spc="-1" strike="noStrike">
              <a:solidFill>
                <a:srgbClr val="000000"/>
              </a:solidFill>
              <a:latin typeface="Calibri"/>
            </a:endParaRPr>
          </a:p>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уществует мнение, что в образе Кулигина из пьесы «Гроза» Островский хотел показать печальное положение образованных людей XIX века, вынужденных жить и выживать в атмосфере устаревших патриархальных порядков.</a:t>
            </a:r>
            <a:endParaRPr b="0" lang="en-US" sz="2800" spc="-1" strike="noStrike">
              <a:solidFill>
                <a:srgbClr val="000000"/>
              </a:solidFill>
              <a:latin typeface="Calibri"/>
            </a:endParaRPr>
          </a:p>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23640" y="333360"/>
            <a:ext cx="8569080" cy="6191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Тихона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ихон в пьесе «Гроза» Островского является одним из ключевых персонажей. Благодаря этому образу реализуется множество проблем, освещённых в произведении. Тихон — старший сын Марфы Игнатьевны и муж Катерины. Но ни как сын, ни как муж этот персонаж не может себя реализовать. Даже имя Островский выбирает под стать, следуя традиции «говорящих» имён собственных. Тихий Тихон. Тише воды ниже травы — вот каким мог бы быть девиз этого персонажа. В «Грозе» характеристику Тихона можно составить исходя из его поведения и отношения к матери и жен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23640" y="333360"/>
            <a:ext cx="8569080" cy="619128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раз </a:t>
            </a:r>
            <a:r>
              <a:rPr b="1" lang="ru-RU" sz="2800" spc="-1" strike="noStrike">
                <a:solidFill>
                  <a:srgbClr val="000000"/>
                </a:solidFill>
                <a:latin typeface="Calibri"/>
              </a:rPr>
              <a:t>Тихона</a:t>
            </a:r>
            <a:r>
              <a:rPr b="0" lang="ru-RU" sz="2800" spc="-1" strike="noStrike">
                <a:solidFill>
                  <a:srgbClr val="000000"/>
                </a:solidFill>
                <a:latin typeface="Calibri"/>
              </a:rPr>
              <a:t> в «Грозе» вбирает в себя все негативно окрашенные синонимы к слову «инфантильность». Тихон слишком слабохарактерен для того, чтобы иметь собственное мнение и взгляд на вещи. Он признаётся в этом неоднократно: При всей своей бесхребетности Тихон не вызывает жалости. Часто образ Тихона сравнивают с образом ребёнка (из-за сходства в способе мышления и поведении). Его детская инфантильность и неспособность к самостоятельности с каждым днём всё больше превращает Тихона в великовозрастного идиота. Безусловно, характер этого персонажа формировался под сильнейшим влиянием матери, однако у Кабанихи есть и второй ребёнок. Варвара совершенно другая.</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50920" y="333000"/>
            <a:ext cx="8642160" cy="6335640"/>
          </a:xfrm>
          <a:prstGeom prst="rect">
            <a:avLst/>
          </a:prstGeom>
          <a:noFill/>
          <a:ln w="0">
            <a:noFill/>
          </a:ln>
        </p:spPr>
        <p:txBody>
          <a:bodyPr anchor="t">
            <a:normAutofit/>
          </a:bodyPr>
          <a:p>
            <a:pPr marL="34308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Темное царство» Дикой и Кабаниха в драме «Гроза»</a:t>
            </a:r>
            <a:endParaRPr b="0" lang="en-US" sz="2400" spc="-1" strike="noStrike">
              <a:solidFill>
                <a:srgbClr val="000000"/>
              </a:solidFill>
              <a:latin typeface="Calibri"/>
            </a:endParaRPr>
          </a:p>
          <a:p>
            <a:pPr marL="34308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И не от воров они запираются, а чтоб люди не видали,</a:t>
            </a:r>
            <a:br>
              <a:rPr sz="2400"/>
            </a:br>
            <a:r>
              <a:rPr b="0" i="1" lang="ru-RU" sz="2400" spc="-1" strike="noStrike">
                <a:solidFill>
                  <a:srgbClr val="000000"/>
                </a:solidFill>
                <a:latin typeface="Calibri"/>
              </a:rPr>
              <a:t>как они своих домашних поедом едят, да семью тиранят».</a:t>
            </a:r>
            <a:endParaRPr b="0" lang="en-US" sz="2400" spc="-1" strike="noStrike">
              <a:solidFill>
                <a:srgbClr val="000000"/>
              </a:solidFill>
              <a:latin typeface="Calibri"/>
            </a:endParaRPr>
          </a:p>
          <a:p>
            <a:pPr marL="34308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ак верно отметил Добролюбов, Островский в одной из своих пьес изображает поистине «тёмное царство» — мир самодурства, предательства и глупости. Действие драмы разворачивается в городе Калинове, который стоит на берегу Волги. В расположении города есть некий символический параллелизм: бурное течение реки противопоставлено атмосфере застоя, бесправия и угнетения. Создаётся впечатление, будто город изолирован от внешнего мира. Жители узнают новости благодаря рассказам странников. Причём новости эти весьма сомнительного, а иногда и вовсе абсурдного содержания. Калиновцы слепо верят рассказам полоумных стариков о неправедных странах, свалившихся с небес земель и правителях с пёсьими головам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708360" y="333000"/>
            <a:ext cx="5184720" cy="6335640"/>
          </a:xfrm>
          <a:prstGeom prst="rect">
            <a:avLst/>
          </a:prstGeom>
          <a:noFill/>
          <a:ln w="0">
            <a:noFill/>
          </a:ln>
        </p:spPr>
        <p:txBody>
          <a:bodyPr anchor="t">
            <a:normAutofit/>
          </a:bodyPr>
          <a:p>
            <a:pPr marL="343080" indent="284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000000"/>
                </a:solidFill>
                <a:latin typeface="Calibri"/>
              </a:rPr>
              <a:t>«Темное царство» Дикой и Кабаниха в драме «Гроза»</a:t>
            </a:r>
            <a:endParaRPr b="0" lang="en-US" sz="2600" spc="-1" strike="noStrike">
              <a:solidFill>
                <a:srgbClr val="000000"/>
              </a:solidFill>
              <a:latin typeface="Calibri"/>
            </a:endParaRPr>
          </a:p>
          <a:p>
            <a:pPr marL="343080" indent="284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Люди привыкли жить в страхе не только перед миром, но и перед властителями «тёмного царства». Это их зона комфорта, которую никто не намерен покидать. Если с обывателями в принципе всё понятно, то как быть с указанными выше властителями? В «Грозе» Дикой и Кабаниха репрезентируют «тёмное царство». Они и хозяева, и создатели этого мира. Самодурство Дикого и Кабанихи не знает границ.</a:t>
            </a:r>
            <a:endParaRPr b="0" lang="en-US" sz="2600" spc="-1" strike="noStrike">
              <a:solidFill>
                <a:srgbClr val="000000"/>
              </a:solidFill>
              <a:latin typeface="Calibri"/>
            </a:endParaRPr>
          </a:p>
        </p:txBody>
      </p:sp>
      <p:pic>
        <p:nvPicPr>
          <p:cNvPr id="95" name="Picture 2" descr="1472-14_1"/>
          <p:cNvPicPr/>
          <p:nvPr/>
        </p:nvPicPr>
        <p:blipFill>
          <a:blip r:embed="rId1"/>
          <a:stretch/>
        </p:blipFill>
        <p:spPr>
          <a:xfrm>
            <a:off x="250920" y="260280"/>
            <a:ext cx="3473280" cy="514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0920" y="333000"/>
            <a:ext cx="8642160" cy="6335640"/>
          </a:xfrm>
          <a:prstGeom prst="rect">
            <a:avLst/>
          </a:prstGeom>
          <a:noFill/>
          <a:ln w="0">
            <a:noFill/>
          </a:ln>
        </p:spPr>
        <p:txBody>
          <a:bodyPr anchor="t">
            <a:normAutofit fontScale="97000"/>
          </a:bodyPr>
          <a:p>
            <a:pPr marL="332640" indent="2754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000000"/>
                </a:solidFill>
                <a:latin typeface="Calibri"/>
              </a:rPr>
              <a:t>«Темное царство» Дикой и Кабаниха в драме «Гроза»</a:t>
            </a:r>
            <a:endParaRPr b="0" lang="en-US" sz="2600" spc="-1" strike="noStrike">
              <a:solidFill>
                <a:srgbClr val="000000"/>
              </a:solidFill>
              <a:latin typeface="Calibri"/>
            </a:endParaRPr>
          </a:p>
          <a:p>
            <a:pPr marL="332640" indent="2754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 городе власть принадлежит вовсе не городничему, а купцам, которые благодаря своим связям и прибыли смогли получить поддержку вышестоящих органов власти. Они издеваются над мещанами и обманывают простых обывателей. В тексте произведения этот образ воплощён в Савле Прокофьевиче Диком, немолодом купце, который держит всех в страхе, даёт взаймы под огромные проценты и обманывает других купцов. В Калинове о его жестокости ходят легенды. Никто, кроме Кудряща, не может ответить Дикому подобающим образом, и купец активно этим пользуется. Он самоутверждается путём унижения и издёвок, а ощущение безнаказанности только повышает степень жестокости. «Уже такого ругателя, как у нас Савел Прокофьич, поискать ещё! Ни за что человека оборвёт» — так о Диком говорят сами жители.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1009123907"/>
          <p:cNvPicPr/>
          <p:nvPr/>
        </p:nvPicPr>
        <p:blipFill>
          <a:blip r:embed="rId1"/>
          <a:stretch/>
        </p:blipFill>
        <p:spPr>
          <a:xfrm>
            <a:off x="1908000" y="184320"/>
            <a:ext cx="4953240" cy="667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50920" y="333000"/>
            <a:ext cx="8642160" cy="633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и образ Кабанихи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Марфа Игнатьевна Кабанова (Кабаниха) — старая купчиха, вдова. Её муж умер, поэтому женщине пришлось в одиночку растить двух детей, справляться с хозяйством и заниматься делами. Несмотря на то что в скобках указано прозвище купчихи, автор ни разу не называет её так. В тексте есть реплики Кабановой, а не Кабанихи. Подобным приёмом драматург хотел подчеркнуть то, что люди называют женщину так между собой, а вот к ней лично обращаются уважительно. То есть на самом деле жителям Калинова не нравится этот человек, но они его побаиваются.</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066920" y="333000"/>
            <a:ext cx="4825800" cy="633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и образ Кабанихи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баниха не довольна тем, как ведёт себя сын. Она учит его жить, несмотря на то что сын уже взрослый и давно женат. Марфа Игнатьевна показывает себя как сварливую властную женщину. </a:t>
            </a:r>
            <a:endParaRPr b="0" lang="en-US" sz="2800" spc="-1" strike="noStrike">
              <a:solidFill>
                <a:srgbClr val="000000"/>
              </a:solidFill>
              <a:latin typeface="Calibri"/>
            </a:endParaRPr>
          </a:p>
        </p:txBody>
      </p:sp>
      <p:pic>
        <p:nvPicPr>
          <p:cNvPr id="100" name="Picture 2" descr="1472-14_1"/>
          <p:cNvPicPr/>
          <p:nvPr/>
        </p:nvPicPr>
        <p:blipFill>
          <a:blip r:embed="rId1"/>
          <a:stretch/>
        </p:blipFill>
        <p:spPr>
          <a:xfrm>
            <a:off x="250920" y="260280"/>
            <a:ext cx="3473280" cy="514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60280"/>
            <a:ext cx="2413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Ранние годы.</a:t>
            </a:r>
            <a:endParaRPr b="0" lang="en-US" sz="4000" spc="-1" strike="noStrike">
              <a:solidFill>
                <a:srgbClr val="000000"/>
              </a:solidFill>
              <a:latin typeface="Calibri"/>
            </a:endParaRPr>
          </a:p>
        </p:txBody>
      </p:sp>
      <p:sp>
        <p:nvSpPr>
          <p:cNvPr id="52" name=""/>
          <p:cNvSpPr txBox="1"/>
          <p:nvPr/>
        </p:nvSpPr>
        <p:spPr>
          <a:xfrm>
            <a:off x="250560" y="5013000"/>
            <a:ext cx="8713800" cy="1655640"/>
          </a:xfrm>
          <a:prstGeom prst="rect">
            <a:avLst/>
          </a:prstGeom>
          <a:noFill/>
          <a:ln w="0">
            <a:noFill/>
          </a:ln>
        </p:spPr>
        <p:txBody>
          <a:bodyPr anchor="t">
            <a:normAutofit/>
          </a:bodyPr>
          <a:p>
            <a:pPr marL="81000" indent="638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одился 31 марта(12 апреля) 1823 года в Москве, вырос в купеческой среде. Мать умерла, когда ему было 8 лет. И отец женился снова. Детей в семье было четверо.</a:t>
            </a:r>
            <a:endParaRPr b="0" lang="en-US" sz="2800" spc="-1" strike="noStrike">
              <a:solidFill>
                <a:srgbClr val="000000"/>
              </a:solidFill>
              <a:latin typeface="Calibri"/>
            </a:endParaRPr>
          </a:p>
        </p:txBody>
      </p:sp>
      <p:pic>
        <p:nvPicPr>
          <p:cNvPr id="53" name="Picture 2" descr="0001-001-Aleksandr-Nikolaevich-Ostrovskij-1823-1883"/>
          <p:cNvPicPr/>
          <p:nvPr/>
        </p:nvPicPr>
        <p:blipFill>
          <a:blip r:embed="rId1"/>
          <a:stretch/>
        </p:blipFill>
        <p:spPr>
          <a:xfrm>
            <a:off x="2593800" y="260280"/>
            <a:ext cx="6237360" cy="46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066920" y="333000"/>
            <a:ext cx="4825800" cy="63356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Характеристика и образ Кабанихи в пьесе «Гроза»</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2600" spc="-1" strike="noStrike">
                <a:solidFill>
                  <a:srgbClr val="000000"/>
                </a:solidFill>
                <a:latin typeface="Calibri"/>
              </a:rPr>
              <a:t>По идее, и Кабаниха, и Катерина должны любить Тихона. Для одной он сын, для другой — муж. Однако ни Катя, ни Марфа Игнатьевна к Тихону настоящей любви не питают. Катя жалеет своего мужа, но не любит его. А Кабаниха относится к нему как к подопытному кролику, как к существу, на котором можно срывать свою агрессию и испытывать методы манипуляции, прикрываясь при этом материнской любовью.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2" name="Picture 2" descr="1472-14_1"/>
          <p:cNvPicPr/>
          <p:nvPr/>
        </p:nvPicPr>
        <p:blipFill>
          <a:blip r:embed="rId1"/>
          <a:stretch/>
        </p:blipFill>
        <p:spPr>
          <a:xfrm>
            <a:off x="250920" y="260280"/>
            <a:ext cx="3473280" cy="514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24000" y="404280"/>
            <a:ext cx="83628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Кудряша в пьесе «Гроз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ак, о характере Кудряша можно судить зная его имя и фамилию. Имя «Иван» широко распространено в былинах и сказках. Постепенно образ Ивана-дурака отделялся от образа другого Ивана, предприимчивого молодого человека, который найдёт выход из любого положения и сможет обмануть самого чёрта. Так и здесь Ваня оказывается единственным человеком, который может ответить Дикому в его же манере. При этом Дикой побаивается Ваню именно потому, что у Кудряша отсутствует слепое подчинение и раболепие перед купцом.</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24000" y="404280"/>
            <a:ext cx="8362800" cy="572148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Характеристика Кудряша в пьесе «Гроза»</a:t>
            </a:r>
            <a:endParaRPr b="0" lang="en-US" sz="2600" spc="-1" strike="noStrike">
              <a:solidFill>
                <a:srgbClr val="000000"/>
              </a:solidFill>
              <a:latin typeface="Calibri"/>
            </a:endParaRPr>
          </a:p>
          <a:p>
            <a:pPr marL="32220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аня Кудряш — носитель национального характера. Он сильный, добрый, весёлый и удалой. Дело в его руках горит. Иван практичен и здраво смотрит на вещи. Несмотря на то что он тоже принадлежит к купеческой среде, в нём нет алчности и жажды наживы. Кудряшу чужда красота природы. Это видно из первой сцены — разговора Кудряша с Кулигиным. Ваня ценит свободу и боится её потерять. Скорее всего, именно это стало основным поводом для отношений с Варварой. Их чувства искренни. Они долгое время встречаются тайно. И Варвара, и Иван ценят эти отношения, оба этих персонажа остаются внутренне свободными. Во время ночных прогулок Варвара и Иван шутят, поют и веселятся.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24000" y="404280"/>
            <a:ext cx="83628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Кудряша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днако не стоит идеализировать образ Кудряша в пьесе «Гроза». В характере Кудряша много отрицательных черт. Иван сам признаётся, что «уж больно лих на девок». А значит, никто не может гарантировать того, что Варвара будет с ним счастлива. К его положительным качествам характера обязательно нужно добавить отрицательные: стремление к власти, самолюбование, хвастовство. Он тоже является представителем «тёмного царства», но хочет быть хозяином, а не рабо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404280"/>
            <a:ext cx="8362800" cy="572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Кудряша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иболее ярко дополняют этот образ цитаты Кудряш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Мало у нас парней-то на мою стать, а то бы мы его озорничать отучил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Я грубиян считаюсь.»</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Да не спускаю и я: он — слово, я — десять… Нет, уж я перед ним рабствовать не стан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варваре) «ты что ж так долго? Ждать вас ещё! Знаешь, что не люблю.»</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24000" y="-360"/>
            <a:ext cx="8820000" cy="65977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Бориса в пьесе «Гроза»</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Характеристика Бориса в пьесе «Гроза» может уместиться в одном предложении: слабовольный приезжий юноша, готовый поступиться своими моральными принципами ради получения денег. И это действительно так. Но делает ли его это жертвой?</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 внешности Бориса из пьесы «Гроза» сказано немного. Это молодой человек, приехавший из Москвы. Одет он иначе, чем жители Калинова, по-столичному, на заграничный лад. Борис отличается от калиновцев восприятием мира, но сам он будто кичится этим. Безусловно, долю снобизма добавляет то, что Борис получил образование. Но здесь, в Калинове, это никого не интересует. Гораздо важнее и показательнее становятся его мотивы приезда в город, действия в жизненных ситуациях и отношение к другим.</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24000" y="-360"/>
            <a:ext cx="8820000" cy="6597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Феклуши в пьесе «Гроза»</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смотря на то что Феклуше примерно столько же лет, сколько Марфе Игнатьевне, если не больше. Детской формой имени автор хочет подчеркнуть вовсе не детскую непосредственность восприятия, а, опять-таки, как и в случае с Тихоном, инфантилизм, присущий этим действующим лицам. Эта женщина осталась на том уровне развития, на котором находятся маленькие дети. Но только эта черта скорее отрицательна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24000" y="-360"/>
            <a:ext cx="8820000" cy="6597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Феклуши в пьесе «Гроза»</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чевая характеристика Феклуши в «Грозе» также важна. Её реплики переполнена обращениями «милая», «сударь», «милая девушка», «ваша светлость». С одной стороны, это придаёт её речи гипнотическую напевность, с другой — доказывает пресмыкающийся характер Феклуш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еклуша в «Грозе» не влияет на развитие сюжета, но в этом персонаже Островский воплотил ещё одну грань «тёмного царства». Поддакивание и подчинение Кабанихи и ей подобным лишь укрепляет самодурство как явление, являясь поводом к его существованию.</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0014-014-Razvjazka-samoubijstvo"/>
          <p:cNvPicPr/>
          <p:nvPr/>
        </p:nvPicPr>
        <p:blipFill>
          <a:blip r:embed="rId1"/>
          <a:stretch/>
        </p:blipFill>
        <p:spPr>
          <a:xfrm>
            <a:off x="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95280" y="3213000"/>
            <a:ext cx="8569440" cy="291312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Гроза» есть, без сомнения, самое решительное произведение Островского…»</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Н.А.Добролюбов</a:t>
            </a:r>
            <a:endParaRPr b="0" lang="en-US" sz="4800" spc="-1" strike="noStrike">
              <a:solidFill>
                <a:srgbClr val="000000"/>
              </a:solidFill>
              <a:latin typeface="Calibri"/>
            </a:endParaRPr>
          </a:p>
        </p:txBody>
      </p:sp>
      <p:pic>
        <p:nvPicPr>
          <p:cNvPr id="112" name="Picture 3" descr="25921089_1"/>
          <p:cNvPicPr/>
          <p:nvPr/>
        </p:nvPicPr>
        <p:blipFill>
          <a:blip r:embed="rId1"/>
          <a:stretch/>
        </p:blipFill>
        <p:spPr>
          <a:xfrm>
            <a:off x="0" y="0"/>
            <a:ext cx="3708360" cy="32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987280" y="0"/>
            <a:ext cx="6156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 </a:t>
            </a:r>
            <a:r>
              <a:rPr b="0" i="1" lang="ru-RU" sz="4000" spc="-1" strike="noStrike">
                <a:solidFill>
                  <a:srgbClr val="000000"/>
                </a:solidFill>
                <a:latin typeface="Calibri"/>
              </a:rPr>
              <a:t>Образование и карьера.</a:t>
            </a:r>
            <a:endParaRPr b="0" lang="en-US" sz="4000" spc="-1" strike="noStrike">
              <a:solidFill>
                <a:srgbClr val="000000"/>
              </a:solidFill>
              <a:latin typeface="Calibri"/>
            </a:endParaRPr>
          </a:p>
        </p:txBody>
      </p:sp>
      <p:sp>
        <p:nvSpPr>
          <p:cNvPr id="55" name=""/>
          <p:cNvSpPr txBox="1"/>
          <p:nvPr/>
        </p:nvSpPr>
        <p:spPr>
          <a:xfrm>
            <a:off x="1476000" y="765000"/>
            <a:ext cx="7488360" cy="590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тровский получал образование дома. У его отца была большая библиотека, где маленький Александр впервые стал читать русскую литературу. Однако отец хотел дать сыну юридическое образование. В 1835 году Островский начал учебу в гимназии, а затем поступил в Московский университет на юридический факультет. Из-за увлечений театром, литературой, он так и не окончил учебу в университете (1843), после работал писцом в суде по настоянию отца. В судах Островский служил до 1851 года.</a:t>
            </a:r>
            <a:endParaRPr b="0" lang="en-US" sz="2800" spc="-1" strike="noStrike">
              <a:solidFill>
                <a:srgbClr val="000000"/>
              </a:solidFill>
              <a:latin typeface="Calibri"/>
            </a:endParaRPr>
          </a:p>
          <a:p>
            <a:pPr indent="358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Значение названия пьесы «Гроза»</a:t>
            </a:r>
            <a:endParaRPr b="0" lang="en-US" sz="4000" spc="-1" strike="noStrike">
              <a:solidFill>
                <a:srgbClr val="000000"/>
              </a:solidFill>
              <a:latin typeface="Calibri"/>
            </a:endParaRPr>
          </a:p>
        </p:txBody>
      </p:sp>
      <p:sp>
        <p:nvSpPr>
          <p:cNvPr id="114" name=""/>
          <p:cNvSpPr txBox="1"/>
          <p:nvPr/>
        </p:nvSpPr>
        <p:spPr>
          <a:xfrm>
            <a:off x="468360" y="907560"/>
            <a:ext cx="8229600" cy="5761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природе (действие 1) – физическое явление, внешнее, независящее от героев.</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душе Катерины – от постепенного смятения, вызванного любовью к Борису, к мукам совести от измены мужу и к ощущению греха перед людьми, подтолкнувшему к покаянию.</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обществе – ощущение людьми, ратующими за неизменность мира, чего-то непонятного. Пробуждение в мире несвободы свободных чувств. Этот  процесс тоже показан постепенно. В начале только штрихи: нет должного почтения в голосе, не соблюдает приличия, затем- неповиновение.</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природе является внешней причиной, спровоцировавшей и грозу в душе Катерины (именно она и подтолкнула героиню к признанию), и грозу в обществе, которое остолбенело от того, что кто-то пошел наперекор.</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624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296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создания пьесы «Гроза»</a:t>
            </a:r>
            <a:endParaRPr b="0" lang="en-US" sz="4000" spc="-1" strike="noStrike">
              <a:solidFill>
                <a:srgbClr val="000000"/>
              </a:solidFill>
              <a:latin typeface="Calibri"/>
            </a:endParaRPr>
          </a:p>
        </p:txBody>
      </p:sp>
      <p:sp>
        <p:nvSpPr>
          <p:cNvPr id="117" name=""/>
          <p:cNvSpPr txBox="1"/>
          <p:nvPr/>
        </p:nvSpPr>
        <p:spPr>
          <a:xfrm>
            <a:off x="178920" y="764640"/>
            <a:ext cx="8713800" cy="60930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Грозу» не Островский написал… «Грозу» Волга написала.</a:t>
            </a:r>
            <a:br>
              <a:rPr sz="2700"/>
            </a:br>
            <a:r>
              <a:rPr b="0" i="1" lang="ru-RU" sz="2700" spc="-1" strike="noStrike">
                <a:solidFill>
                  <a:srgbClr val="000000"/>
                </a:solidFill>
                <a:latin typeface="Calibri"/>
              </a:rPr>
              <a:t>С. А. Юрьев</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лександр Николаевич Островский был одним из крупнейших культурных деятелей XIX столетия. Его творчество навсегда останется в истории литературы, а вклад в развитие русского театра сложно переоценить. Писатель внёс некоторые изменения в постановки пьес: внимание не должно было больше акцентироваться лишь на одном герое; вводится четвёртая сцена, отделяющая зрителей от актёров, чтобы подчеркнуть условность происходящего; изображаются обычные люди и стандартные житейские ситуации. Последнее положение наиболее точно отражало суть реалистического метода, которого придерживался Островский.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296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создания пьесы «Гроза»</a:t>
            </a:r>
            <a:endParaRPr b="0" lang="en-US" sz="4000" spc="-1" strike="noStrike">
              <a:solidFill>
                <a:srgbClr val="000000"/>
              </a:solidFill>
              <a:latin typeface="Calibri"/>
            </a:endParaRPr>
          </a:p>
        </p:txBody>
      </p:sp>
      <p:sp>
        <p:nvSpPr>
          <p:cNvPr id="119" name=""/>
          <p:cNvSpPr txBox="1"/>
          <p:nvPr/>
        </p:nvSpPr>
        <p:spPr>
          <a:xfrm>
            <a:off x="457200" y="764640"/>
            <a:ext cx="8229600" cy="5759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 драмы «Гроза» история создания не сводится лишь к работе над текстом и прописыванию разговоров между персонажами.</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стория создания пьесы «Гроза» Островского берет своё начало летом 1859 года, а заканчивается через несколько месяцев, уже в начале октября. Известно, что этому предшествовало путешествие по Волге. Под патронатом морского министерства была организована этнографическая экспедиция с целью изучения обычаев и нравов коренного населения России. В ней участвовал и Островский.</a:t>
            </a:r>
            <a:endParaRPr b="0" lang="en-US" sz="3000" spc="-1" strike="noStrike">
              <a:solidFill>
                <a:srgbClr val="000000"/>
              </a:solidFill>
              <a:latin typeface="Calibri"/>
            </a:endParaRPr>
          </a:p>
          <a:p>
            <a:pPr indent="627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пасибо за внимани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чник</a:t>
            </a:r>
            <a:endParaRPr b="0" lang="en-US" sz="4000" spc="-1" strike="noStrike">
              <a:solidFill>
                <a:srgbClr val="000000"/>
              </a:solidFill>
              <a:latin typeface="Calibri"/>
            </a:endParaRPr>
          </a:p>
        </p:txBody>
      </p:sp>
      <p:sp>
        <p:nvSpPr>
          <p:cNvPr id="122" name=""/>
          <p:cNvSpPr txBox="1"/>
          <p:nvPr/>
        </p:nvSpPr>
        <p:spPr>
          <a:xfrm>
            <a:off x="457200" y="980640"/>
            <a:ext cx="8229600" cy="5877000"/>
          </a:xfrm>
          <a:prstGeom prst="rect">
            <a:avLst/>
          </a:prstGeom>
          <a:noFill/>
          <a:ln w="0">
            <a:noFill/>
          </a:ln>
        </p:spPr>
        <p:txBody>
          <a:bodyPr anchor="t">
            <a:norm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ff"/>
                </a:solidFill>
                <a:uFillTx/>
                <a:latin typeface="Calibri"/>
                <a:hlinkClick r:id="rId1"/>
              </a:rPr>
              <a:t>http://all-biography.ru/books/ostrovskiy/groza/avtorskoe-opredelenie-zhanra-pesy</a:t>
            </a:r>
            <a:endParaRPr b="0" lang="en-US" sz="1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http://all-biography.ru/books/ostrovskiy/groza/glavnye-geroi-grozy-ostrovskogo</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u="sng">
                <a:solidFill>
                  <a:srgbClr val="0000ff"/>
                </a:solidFill>
                <a:uFillTx/>
                <a:latin typeface="Calibri"/>
                <a:hlinkClick r:id="rId2"/>
              </a:rPr>
              <a:t>http://all-biography.ru/books/ostrovskiy/groza/istoriya-sozdaniya-pesy-ostrovskogo</a:t>
            </a:r>
            <a:endParaRPr b="0" lang="en-US" sz="17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Подробнее: http://all-biography.ru/books/ostrovskiy/groza/varvara-harakteristika#ixzz4LSqW0uRB</a:t>
            </a:r>
            <a:endParaRPr b="0" lang="en-US" sz="16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ото:</a:t>
            </a:r>
            <a:r>
              <a:rPr b="0" lang="ru-RU"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http://ozon-st.cdn.ngenix.net/multimedia/1009123907.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www.book.magazinplus.ru/tov/11/25921089_1.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www.stihi.ru/pics/2009/08/17/6249.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900igr.net/datas/literatura/Ostrovskij-Groza-urok/0014-014-Razvjazka-samoubijstvo.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fb.ru/misc/i/gallery/39254/1148770.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ostrovskiy.lit-info.ru/images/kritika-1472/1472-14_1.jpg</a:t>
            </a:r>
            <a:endParaRPr b="0" lang="en-US" sz="13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ostrovskiy.lit-info.ru/images/kritika-1472/1472-14_2.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uslide.ru/images/7/13724/960/img6.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gallerix.ru/pic/Perov/image/glrx-741931152.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kartinkinaden.ru/uploads/posts/2016-05/1464609008_pyvpm.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http://www.etoretro.ru/data/media/4761/1355862488eda.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hurtworldrp.com/images/56ab53906411a.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sweetcost.ru/photo/350/aHR0cDovL2JhYmFkdS5ydS91cGxvYWQvaWJsb2NrLzUzNi8xOS5qcGc.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Творчество Островского.</a:t>
            </a:r>
            <a:endParaRPr b="0" lang="en-US" sz="4000" spc="-1" strike="noStrike">
              <a:solidFill>
                <a:srgbClr val="000000"/>
              </a:solidFill>
              <a:latin typeface="Calibri"/>
            </a:endParaRPr>
          </a:p>
        </p:txBody>
      </p:sp>
      <p:sp>
        <p:nvSpPr>
          <p:cNvPr id="57" name=""/>
          <p:cNvSpPr txBox="1"/>
          <p:nvPr/>
        </p:nvSpPr>
        <p:spPr>
          <a:xfrm>
            <a:off x="3850920" y="692280"/>
            <a:ext cx="5041800" cy="5905440"/>
          </a:xfrm>
          <a:prstGeom prst="rect">
            <a:avLst/>
          </a:prstGeom>
          <a:noFill/>
          <a:ln w="0">
            <a:noFill/>
          </a:ln>
        </p:spPr>
        <p:txBody>
          <a:bodyPr anchor="t">
            <a:normAutofit/>
          </a:bodyPr>
          <a:p>
            <a:pPr marL="81000" indent="63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849 году было написано произведение Островского «Свои люди — сочтемся!», которое принесло ему литературную известность, его высоко оценили Николай Гоголь и Иван Гончаров. Затем, невзирая на цензуру, было выпущено множество его пьес, книг. Для Островского сочинения являются способом правдиво изобразить жизнь народа. </a:t>
            </a:r>
            <a:endParaRPr b="0" lang="en-US" sz="2800" spc="-1" strike="noStrike">
              <a:solidFill>
                <a:srgbClr val="000000"/>
              </a:solidFill>
              <a:latin typeface="Calibri"/>
            </a:endParaRPr>
          </a:p>
        </p:txBody>
      </p:sp>
      <p:pic>
        <p:nvPicPr>
          <p:cNvPr id="58" name="Picture 2" descr="1464609008_pyvpm"/>
          <p:cNvPicPr/>
          <p:nvPr/>
        </p:nvPicPr>
        <p:blipFill>
          <a:blip r:embed="rId1"/>
          <a:stretch/>
        </p:blipFill>
        <p:spPr>
          <a:xfrm>
            <a:off x="250920" y="981000"/>
            <a:ext cx="3241440" cy="47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Творчество Островского.</a:t>
            </a:r>
            <a:endParaRPr b="0" lang="en-US" sz="4000" spc="-1" strike="noStrike">
              <a:solidFill>
                <a:srgbClr val="000000"/>
              </a:solidFill>
              <a:latin typeface="Calibri"/>
            </a:endParaRPr>
          </a:p>
        </p:txBody>
      </p:sp>
      <p:sp>
        <p:nvSpPr>
          <p:cNvPr id="60" name=""/>
          <p:cNvSpPr txBox="1"/>
          <p:nvPr/>
        </p:nvSpPr>
        <p:spPr>
          <a:xfrm>
            <a:off x="3708360" y="692280"/>
            <a:ext cx="5184720" cy="5905440"/>
          </a:xfrm>
          <a:prstGeom prst="rect">
            <a:avLst/>
          </a:prstGeom>
          <a:noFill/>
          <a:ln w="0">
            <a:noFill/>
          </a:ln>
        </p:spPr>
        <p:txBody>
          <a:bodyPr anchor="t">
            <a:normAutofit/>
          </a:bodyPr>
          <a:p>
            <a:pPr marL="81000" indent="63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ьесы «Гроза», «Бесприданница», «Лес» являются одними из самых главных его произведений. Пьеса Островского «Бесприданница», как и другие психологические драмы, нестандартно описывает характеры, внутренний мир, терзания героев.</a:t>
            </a:r>
            <a:endParaRPr b="0" lang="en-US" sz="2800" spc="-1" strike="noStrike">
              <a:solidFill>
                <a:srgbClr val="000000"/>
              </a:solidFill>
              <a:latin typeface="Calibri"/>
            </a:endParaRPr>
          </a:p>
          <a:p>
            <a:pPr marL="81000" indent="63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1856 года писатель участвует в выпуске журнала «Современник».</a:t>
            </a:r>
            <a:endParaRPr b="0" lang="en-US" sz="2800" spc="-1" strike="noStrike">
              <a:solidFill>
                <a:srgbClr val="000000"/>
              </a:solidFill>
              <a:latin typeface="Calibri"/>
            </a:endParaRPr>
          </a:p>
        </p:txBody>
      </p:sp>
      <p:pic>
        <p:nvPicPr>
          <p:cNvPr id="61" name="Picture 2" descr="1464609008_pyvpm"/>
          <p:cNvPicPr/>
          <p:nvPr/>
        </p:nvPicPr>
        <p:blipFill>
          <a:blip r:embed="rId1"/>
          <a:stretch/>
        </p:blipFill>
        <p:spPr>
          <a:xfrm>
            <a:off x="98280" y="765000"/>
            <a:ext cx="3267360" cy="479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Театр Островского.</a:t>
            </a:r>
            <a:endParaRPr b="0" lang="en-US" sz="4000" spc="-1" strike="noStrike">
              <a:solidFill>
                <a:srgbClr val="000000"/>
              </a:solidFill>
              <a:latin typeface="Calibri"/>
            </a:endParaRPr>
          </a:p>
        </p:txBody>
      </p:sp>
      <p:sp>
        <p:nvSpPr>
          <p:cNvPr id="63" name=""/>
          <p:cNvSpPr txBox="1"/>
          <p:nvPr/>
        </p:nvSpPr>
        <p:spPr>
          <a:xfrm>
            <a:off x="4716360" y="765000"/>
            <a:ext cx="4176720" cy="5832720"/>
          </a:xfrm>
          <a:prstGeom prst="rect">
            <a:avLst/>
          </a:prstGeom>
          <a:noFill/>
          <a:ln w="0">
            <a:noFill/>
          </a:ln>
        </p:spPr>
        <p:txBody>
          <a:bodyPr anchor="t">
            <a:normAutofit/>
          </a:bodyPr>
          <a:p>
            <a:pPr marL="81000" indent="71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биографии Александра Островского почетное место занимает театральное дело.</a:t>
            </a:r>
            <a:br>
              <a:rPr sz="2800"/>
            </a:br>
            <a:r>
              <a:rPr b="0" lang="ru-RU" sz="2800" spc="-1" strike="noStrike">
                <a:solidFill>
                  <a:srgbClr val="000000"/>
                </a:solidFill>
                <a:latin typeface="Calibri"/>
              </a:rPr>
              <a:t>Островский основал Артистический кружок в 1866 году, благодаря которому появилось много талантливых людей в театральном кругу.</a:t>
            </a:r>
            <a:endParaRPr b="0" lang="en-US" sz="2800" spc="-1" strike="noStrike">
              <a:solidFill>
                <a:srgbClr val="000000"/>
              </a:solidFill>
              <a:latin typeface="Calibri"/>
            </a:endParaRPr>
          </a:p>
          <a:p>
            <a:pPr marL="81000" indent="71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1355862488eda"/>
          <p:cNvPicPr/>
          <p:nvPr/>
        </p:nvPicPr>
        <p:blipFill>
          <a:blip r:embed="rId1"/>
          <a:stretch/>
        </p:blipFill>
        <p:spPr>
          <a:xfrm>
            <a:off x="468360" y="765000"/>
            <a:ext cx="408312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Личная жизнь писателя.</a:t>
            </a:r>
            <a:endParaRPr b="0" lang="en-US" sz="4000" spc="-1" strike="noStrike">
              <a:solidFill>
                <a:srgbClr val="000000"/>
              </a:solidFill>
              <a:latin typeface="Calibri"/>
            </a:endParaRPr>
          </a:p>
        </p:txBody>
      </p:sp>
      <p:sp>
        <p:nvSpPr>
          <p:cNvPr id="66" name=""/>
          <p:cNvSpPr txBox="1"/>
          <p:nvPr/>
        </p:nvSpPr>
        <p:spPr>
          <a:xfrm>
            <a:off x="4140360" y="692280"/>
            <a:ext cx="4752720" cy="5905440"/>
          </a:xfrm>
          <a:prstGeom prst="rect">
            <a:avLst/>
          </a:prstGeom>
          <a:noFill/>
          <a:ln w="0">
            <a:noFill/>
          </a:ln>
        </p:spPr>
        <p:txBody>
          <a:bodyPr anchor="t">
            <a:normAutofit/>
          </a:bodyPr>
          <a:p>
            <a:pPr marL="81000" indent="638280">
              <a:lnSpc>
                <a:spcPct val="90000"/>
              </a:lnSpc>
              <a:spcBef>
                <a:spcPts val="649"/>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льзя сказать, что личная жизнь Островского была удачной. Драматург жил с женщиной из простой семьи — Агафьей, которая не имела образования, но была первой, кто читал его произведения. Она поддерживала его во всем. Все их дети умерли в раннем возрасте. С ней Островский прожил около двадцати лет. А в 1869 году женился на артистке Марии Васильевне Бахметьевой, которая родила ему шестеро детей.</a:t>
            </a:r>
            <a:endParaRPr b="0" lang="en-US" sz="2600" spc="-1" strike="noStrike">
              <a:solidFill>
                <a:srgbClr val="000000"/>
              </a:solidFill>
              <a:latin typeface="Calibri"/>
            </a:endParaRPr>
          </a:p>
        </p:txBody>
      </p:sp>
      <p:pic>
        <p:nvPicPr>
          <p:cNvPr id="67" name="Picture 2" descr="glrx-741931152"/>
          <p:cNvPicPr/>
          <p:nvPr/>
        </p:nvPicPr>
        <p:blipFill>
          <a:blip r:embed="rId1"/>
          <a:stretch/>
        </p:blipFill>
        <p:spPr>
          <a:xfrm>
            <a:off x="263520" y="1125360"/>
            <a:ext cx="3833640" cy="48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Последние годы жизни.</a:t>
            </a:r>
            <a:endParaRPr b="0" lang="en-US" sz="4000" spc="-1" strike="noStrike">
              <a:solidFill>
                <a:srgbClr val="000000"/>
              </a:solidFill>
              <a:latin typeface="Calibri"/>
            </a:endParaRPr>
          </a:p>
        </p:txBody>
      </p:sp>
      <p:sp>
        <p:nvSpPr>
          <p:cNvPr id="69" name=""/>
          <p:cNvSpPr txBox="1"/>
          <p:nvPr/>
        </p:nvSpPr>
        <p:spPr>
          <a:xfrm>
            <a:off x="1332000" y="549360"/>
            <a:ext cx="7488000" cy="5904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 конца своей жизни Островский испытывал материальные трудности. Напряженная работа сильно истощала организм, а здоровье все чаще подводило писателя. Островский мечтал о возрождении театральной школы, в которой можно бы было обучать профессиональному актерскому мастерству, однако смерть писателя помешала осуществить давно задуманные планы.</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тровский умер 2(14) июня 1886 года в своём имении. Писателя похоронили рядом с отцом, в селе Николо - Бережки Костромской губернии.</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23:47:58Z</dcterms:created>
  <dc:creator>Сергей</dc:creator>
  <dc:description/>
  <dc:language>en-US</dc:language>
  <cp:lastModifiedBy>Леонид</cp:lastModifiedBy>
  <dcterms:modified xsi:type="dcterms:W3CDTF">2017-06-05T08:41:49Z</dcterms:modified>
  <cp:revision>32</cp:revision>
  <dc:subject/>
  <dc:title>Слайд 1</dc:title>
</cp:coreProperties>
</file>